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gif" ContentType="image/gif"/>
  <Override PartName="/ppt/media/image12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6B638-738B-4B55-8E8C-7DE11629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A0207-2DAB-4EC0-94D2-30D87CA0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59956-6320-4DEE-9847-6704AC04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0BA9B-71C8-4254-B16B-016BEC8C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5BC8-6BE7-4C65-97F5-4F5049A4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2306-4891-4F2D-A4DC-3802926E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9AD2-1FD5-4F10-8426-42EADCBE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148C-1F8B-4722-8E4A-50505799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38ED-9597-4754-B738-A284B902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C288-9F49-4EA8-8184-C16C41A2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FD2A-48BD-4DEA-AFAE-F2D13F84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3B9BC-B3D8-47F9-9B88-C5F1E87E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B834-5760-47F2-B655-50AD1E1B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858D-8C6D-43DF-BEFB-2FB1FCE0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484B-7821-4357-82CC-17394467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ABC7-F5A0-4047-BCD8-1DE60946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D831-EEFE-4A84-8387-91836F30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04DB2-4276-4321-AA03-8D990C10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12DFD-4004-4A55-A1EA-C2157387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6C7A-5390-4752-A8D5-3E2EF04D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0B97-2E78-4486-AEBE-E5B40307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90780-4C68-4CC4-9FBE-304F16FC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6547E-F27F-42A6-8F1B-796AB1D7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B1C71-987F-4534-933A-811A8D50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6DF0-76BA-4AC9-BEB7-9E952E4C9D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01FF-F366-4BC2-B5A3-A2D7C595CB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7160" y="4357800"/>
            <a:ext cx="7500960" cy="18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uk-UA" sz="2800" spc="-1" strike="noStrike">
                <a:solidFill>
                  <a:srgbClr val="00007d"/>
                </a:solidFill>
                <a:latin typeface="Arial"/>
              </a:rPr>
              <a:t>Органічні речовини в живій природі. Теорія хімічної будови органічних сполук О.М.Бутлерова.</a:t>
            </a:r>
            <a:br>
              <a:rPr sz="2800"/>
            </a:br>
            <a:r>
              <a:rPr b="1" i="1" lang="uk-UA" sz="2800" spc="-1" strike="noStrike">
                <a:solidFill>
                  <a:srgbClr val="00007d"/>
                </a:solidFill>
                <a:latin typeface="Arial"/>
              </a:rPr>
              <a:t> Ізомерія органічних сполук. </a:t>
            </a:r>
            <a:br>
              <a:rPr sz="4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922480" cy="3933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3000240" y="1714680"/>
            <a:ext cx="5643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«Не можна не дивуватись, оглядаючись назад, який гігантський крок зробила органічна хімія за час свого існування. Незрівнянно більше, однак, чекає на неї попереду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О. М. Бутл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7929360" cy="5286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030a0"/>
                </a:solidFill>
                <a:latin typeface="Arial"/>
              </a:rPr>
              <a:t>МОЛЕКУЛА ІНСУЛ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://www.bestreferat.ru/images/paper/93/14/2751493.jpeg"/>
          <p:cNvPicPr/>
          <p:nvPr/>
        </p:nvPicPr>
        <p:blipFill>
          <a:blip r:embed="rId1"/>
          <a:stretch/>
        </p:blipFill>
        <p:spPr>
          <a:xfrm>
            <a:off x="2050920" y="1700280"/>
            <a:ext cx="4705560" cy="34671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1835280" y="836640"/>
            <a:ext cx="49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МОГЛОБ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www.bestreferat.ru/images/paper/93/14/2751493.jpeg"/>
          <p:cNvPicPr/>
          <p:nvPr/>
        </p:nvPicPr>
        <p:blipFill>
          <a:blip r:embed="rId2"/>
          <a:stretch/>
        </p:blipFill>
        <p:spPr>
          <a:xfrm>
            <a:off x="2071800" y="1714680"/>
            <a:ext cx="4705200" cy="3466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http://www.bestreferat.ru/images/paper/93/14/2751493.jpeg"/>
          <p:cNvPicPr/>
          <p:nvPr/>
        </p:nvPicPr>
        <p:blipFill>
          <a:blip r:embed="rId3"/>
          <a:stretch/>
        </p:blipFill>
        <p:spPr>
          <a:xfrm>
            <a:off x="2224080" y="1866960"/>
            <a:ext cx="4705200" cy="3467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http://www.bestreferat.ru/images/paper/93/14/2751493.jpeg"/>
          <p:cNvPicPr/>
          <p:nvPr/>
        </p:nvPicPr>
        <p:blipFill>
          <a:blip r:embed="rId4"/>
          <a:stretch/>
        </p:blipFill>
        <p:spPr>
          <a:xfrm>
            <a:off x="1928880" y="1643040"/>
            <a:ext cx="52862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chemlib.ru/books/item/f00/s00/z0000000/pic/000074.jpg"/>
          <p:cNvPicPr/>
          <p:nvPr/>
        </p:nvPicPr>
        <p:blipFill>
          <a:blip r:embed="rId1"/>
          <a:stretch/>
        </p:blipFill>
        <p:spPr>
          <a:xfrm>
            <a:off x="900000" y="938160"/>
            <a:ext cx="6767640" cy="57531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556000" y="476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ХЛОРОФИ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him.1september.ru/2009/20/4-2.jpg"/>
          <p:cNvPicPr/>
          <p:nvPr/>
        </p:nvPicPr>
        <p:blipFill>
          <a:blip r:embed="rId1"/>
          <a:stretch/>
        </p:blipFill>
        <p:spPr>
          <a:xfrm>
            <a:off x="1979640" y="1109520"/>
            <a:ext cx="5184720" cy="50929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195640" y="40464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Электропроводящие пол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58920" y="836280"/>
            <a:ext cx="5779800" cy="53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ідріх Велер в одному з листів до Йенс Берцеліус так описував органічну хімі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«Органічна хімія може зараз кого завгодно звести з розуму. Вона здається мені дрімучим лісом, повним дивних речей, безмежної хащі, з якої не можна вибратися, куди не насмілюєшся проникнути ... 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2654280" cy="363852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4652640"/>
            <a:ext cx="2819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Фрідріх Ве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Times New Roman"/>
              </a:rPr>
              <a:t>1800-18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1b3"/>
          <p:cNvPicPr/>
          <p:nvPr/>
        </p:nvPicPr>
        <p:blipFill>
          <a:blip r:embed="rId2"/>
          <a:stretch/>
        </p:blipFill>
        <p:spPr>
          <a:xfrm>
            <a:off x="324000" y="5818320"/>
            <a:ext cx="3741480" cy="103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132000" y="549000"/>
            <a:ext cx="563112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Англійський вчений Едуард Франкланд, спираючись на ідеї атомістики, в 1853 р. ввів понятт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алентніс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4437000"/>
            <a:ext cx="2895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Э. Франклан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1825-1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0920" y="333360"/>
            <a:ext cx="2616120" cy="363060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sp>
        <p:nvSpPr>
          <p:cNvPr id="127" name="Rectangle 6"/>
          <p:cNvSpPr/>
          <p:nvPr/>
        </p:nvSpPr>
        <p:spPr>
          <a:xfrm>
            <a:off x="3276720" y="3200400"/>
            <a:ext cx="55623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352680" y="3352680"/>
            <a:ext cx="55627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87280" y="2923920"/>
            <a:ext cx="5770440" cy="3276360"/>
          </a:xfrm>
          <a:prstGeom prst="rect">
            <a:avLst/>
          </a:prstGeom>
          <a:noFill/>
          <a:ln w="57240">
            <a:solidFill>
              <a:srgbClr val="cc3399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алентність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це властивість атомів хімічних елементів утворювати хімічні зв'язки. Вона визначає число хімічних зв'язків, якими даний атом сполучений з іншими атомами в молекулі.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500040"/>
            <a:ext cx="82184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cc"/>
                </a:solidFill>
                <a:latin typeface="Times New Roman"/>
              </a:rPr>
              <a:t>Теорія хімічної будови - результат узагальнення ідей видатних вчених-органіків з трьох європейських країн: німц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Ф. Кекуле</a:t>
            </a:r>
            <a:r>
              <a:rPr b="1" lang="ru-RU" sz="2400" spc="-1" strike="noStrike">
                <a:solidFill>
                  <a:srgbClr val="9999cc"/>
                </a:solidFill>
                <a:latin typeface="Times New Roman"/>
              </a:rPr>
              <a:t>, англійц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. Купера</a:t>
            </a:r>
            <a:r>
              <a:rPr b="1" lang="ru-RU" sz="2400" spc="-1" strike="noStrike">
                <a:solidFill>
                  <a:srgbClr val="9999cc"/>
                </a:solidFill>
                <a:latin typeface="Times New Roman"/>
              </a:rPr>
              <a:t> та росія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. Бутлерова</a:t>
            </a:r>
            <a:r>
              <a:rPr b="1" lang="ru-RU" sz="2400" spc="-1" strike="noStrike">
                <a:solidFill>
                  <a:srgbClr val="9999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68000" y="4357800"/>
            <a:ext cx="44960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86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. А. М. Бутлеров створив наукову теорію будови органічних речов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butlerov"/>
          <p:cNvPicPr/>
          <p:nvPr/>
        </p:nvPicPr>
        <p:blipFill>
          <a:blip r:embed="rId1"/>
          <a:srcRect l="0" t="0" r="353" b="0"/>
          <a:stretch/>
        </p:blipFill>
        <p:spPr>
          <a:xfrm>
            <a:off x="7010280" y="3789360"/>
            <a:ext cx="1570320" cy="223056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pic>
        <p:nvPicPr>
          <p:cNvPr id="133" name="Picture 5" descr="kekule"/>
          <p:cNvPicPr/>
          <p:nvPr/>
        </p:nvPicPr>
        <p:blipFill>
          <a:blip r:embed="rId2"/>
          <a:stretch/>
        </p:blipFill>
        <p:spPr>
          <a:xfrm>
            <a:off x="287280" y="3716280"/>
            <a:ext cx="1594080" cy="230364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sp>
        <p:nvSpPr>
          <p:cNvPr id="134" name="Rectangle 6"/>
          <p:cNvSpPr/>
          <p:nvPr/>
        </p:nvSpPr>
        <p:spPr>
          <a:xfrm>
            <a:off x="2050920" y="2214720"/>
            <a:ext cx="6477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85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. Ф. Кекуле відніс вуглець до чотирьохвалентних елемен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858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. А. Купер зазначив, що атоми вуглецю здатні з'єднатисяся один з одним в різні ланцюг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80880" y="601992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Ф. Кек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1829-1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6477120" y="6019920"/>
            <a:ext cx="2438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А.М.Бутл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1828-18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umnik"/>
          <p:cNvPicPr/>
          <p:nvPr/>
        </p:nvPicPr>
        <p:blipFill>
          <a:blip r:embed="rId3"/>
          <a:stretch/>
        </p:blipFill>
        <p:spPr>
          <a:xfrm>
            <a:off x="3924360" y="5805360"/>
            <a:ext cx="782640" cy="59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Учитель"/>
          <p:cNvPicPr/>
          <p:nvPr/>
        </p:nvPicPr>
        <p:blipFill>
          <a:blip r:embed="rId4"/>
          <a:stretch/>
        </p:blipFill>
        <p:spPr>
          <a:xfrm>
            <a:off x="457200" y="2209680"/>
            <a:ext cx="1600200" cy="13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8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8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8:39:35Z</dcterms:created>
  <dc:creator>Вика</dc:creator>
  <dc:description/>
  <dc:language>en-US</dc:language>
  <cp:lastModifiedBy>Будченко</cp:lastModifiedBy>
  <dcterms:modified xsi:type="dcterms:W3CDTF">2012-02-09T20:57:56Z</dcterms:modified>
  <cp:revision>21</cp:revision>
  <dc:subject/>
  <dc:title>Теорія як вища форма наукових знань. Теорія хімічної будови органічних сполук О.М. Бутлерова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5000000000001024140</vt:lpwstr>
  </property>
</Properties>
</file>