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034-6FA9-418B-B416-D0E9C326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C89-28A3-4982-84EB-E6B81521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AF6A9-74BA-468F-AA18-04555BBD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B0CFF-6875-45CB-BB3E-AB141F29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86017-BE2B-436A-8395-10367B3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95CB1-4664-4C99-973C-D67D166B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689BD-8D0F-430A-94DC-62499703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6091-A362-417B-B4A6-567884A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C2AB7-883A-4115-9A36-5F6FC0A2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AF776-2A8D-4B7E-96C1-AC8C62E7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D30A8-E41E-46B0-A83B-C83B7505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4AB65-98F0-4444-BFB8-BA79F814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B21-84D6-424E-A90F-17264142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BCBC6-B001-4AF9-94C6-DC578864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44466-52BD-4128-B52D-A6B65352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06279-C350-43D3-8A62-D4D3BB81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AAEF3-CD31-43C5-87BB-8FD3B59A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FDB5C-1EDB-4011-8964-AC58AFB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3D06-3ACF-400D-BCCB-64DC504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9C8C9-9F0D-40F9-8488-8563D79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80582-6D40-4ACB-9D3F-D373E9E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1139B-9EE8-43BB-806F-2607B852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4EAD3-3D48-4547-9BB7-578557D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907-8384-4404-8711-8F440C24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2D665-4426-4CC3-B98D-5365D322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013-5CEF-497D-BAF5-269A9A86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71B3-2102-44CB-B3E5-CDD69C23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0D7-B557-4B08-9F31-A0F13C33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FF1-680C-49B1-ADB9-10A101D7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A93B-B25B-49CE-926A-0F8422E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6D01-CB89-42AD-ABA9-9C131F99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D0DB-6D70-423F-A870-972F9BA5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655-899E-43AA-A6A9-172503C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BB23-9914-4B68-B87B-751D399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F45A-C419-48F3-A24E-CEFDDB9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C46C-173A-43CB-9286-724AA581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3127-3EEB-4441-8B90-E3AC2D7D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95B-B9DD-4481-ADFE-134FCDCF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00B3-1650-443A-8DE5-E5AE8465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2303-8B91-4F13-BA7A-8E2F31BE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96BE-E1FF-44B3-9843-887061F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30D7-BD7C-40B0-8822-E3B6893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AD3A-07F9-46A7-97C4-1D20E769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B12-3720-4576-8ED0-3145D44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A140-0277-461F-86C1-E069070C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5D1E-F137-48B4-B80E-1CC8A9AA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78EA-BD14-4F75-A5EB-C683070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E7036-9ED6-472B-BD35-43F3EAA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8E43-792E-420E-A83B-C324D5B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DA2C-6BA4-4846-88AF-077D300F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B400-4767-461B-8FC7-844BE9CC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62B9-5A52-4C04-B02B-BE2C0A87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1AA0-F9D9-4E57-8206-6C6E493F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E48C6-502C-41AF-91A7-F8FEFA9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63F-BFAA-4A47-9267-525C8CA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CFDD-5473-4D57-B3D0-3BFDAE3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5871-9806-4D70-89CD-0CF42ABA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7BDB-EBDA-4CC5-86B7-4514F9D0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5C1D-1234-4228-AE6A-5139618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7425-A7AE-4990-86D8-817405E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D1A1-81DE-4C23-92EF-F2412FEC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3AB0-DE14-4E7C-A7A8-F55C09AC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709B-8EAE-4C18-BA1A-E4D6BD4D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F780-31C8-4AA7-AFFE-AF55BC54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941C-9828-4E5A-B342-14FA855E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C9C-AE81-42F5-AAE9-E523547C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AC4A-3D9A-43CC-A883-EAF92AE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5B53-030B-425C-AB9D-94E77665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5D89-C1E4-41E7-A3C7-B2C36761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57BB-D2FB-47B0-B383-6BFE137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BA217-04AD-4EDD-B369-57AB554D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A3A7-D488-48CE-B2FD-CE9EABD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EC9F-06F6-43AD-835B-973E120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B212-F392-441E-B430-ED6B98BF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9E83-EC89-4552-99B2-086F1E42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1A6A-4E0A-4339-B5FA-E630E4A2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A7D-E7C9-4C54-94C9-3AA3FDCF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B8A0-6ED5-45B6-8B29-488330E1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09B9-9505-4972-B733-6523D109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2568-F963-44A8-ABC7-6C8D409D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5A575-5B0C-45BB-BE81-CD42972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BE71-E238-4865-98E0-CE84FE7E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4222-6C8C-4DF5-A8F8-FBA88A2D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3A8D-51B8-4C87-9E80-6353B0EC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F7C1-F82C-45CA-B076-70F49A5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247F-D8DA-4D6B-93B3-8B92ADC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026D6-737D-4D50-87D7-38D744B3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7AB-5BA2-4B54-9789-63802EC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B3F3-04E3-46A9-8F6C-6D9DB3BA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DF21E-B06A-49D6-8DF8-C89AC955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502A-B19C-4688-9EC0-E01CD115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DE571-3AB9-49D6-A227-560CE569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90CC6-F4B9-45FF-952F-D11280F9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B2353-6C3C-4A72-A790-580A3DE3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5FD6-A164-4F97-B92E-FF4EDAE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3A760-16CC-445E-88F6-891BEF5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434D-D69E-4DFF-BCAA-2823FA44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82514-D481-45C5-8184-87E3506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40E-7C6D-4E29-AD01-A1D073C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89D82-D9DC-46C3-B92E-BA7522A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8460C-AE80-4CD9-AF23-472BA29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8722D-41CA-4377-92A9-3BFD76E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F2ED-FBAA-467C-AB8C-473343D1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E7BA1-523E-40A3-A769-4BBC92D9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8D8F0-ED96-40C1-ADE2-40343317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6F4D9-C293-404E-BEDE-F71DF67B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A759F-67C8-4F27-9501-8A9EA219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A5563-778F-47DC-8503-DD4F057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CDBA3-ACA2-4B6D-85F0-45C98FC2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77A-8FCE-4DAC-B15D-2597AD1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6C6A5-47C3-4823-865B-0E762CA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982F-0BA4-4F66-A44C-6E9B6411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84A9-6173-4488-9297-DBEFA3C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836A1-07A5-47F6-B03A-10E9788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6283C-3926-40C5-B2C3-E0D5C007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E1657-F90B-435F-8AD6-6A721619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57148-1616-456B-8C16-77C7C54D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E6F06-F77B-4B2E-B551-EB1E4157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A3987-E36C-4600-874D-6A774C01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6C7CB-8621-450E-87DF-1A1B0308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80A1-6335-4097-9933-FFAD69C658D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E0E-DF23-43CA-8C37-8FDBF39468D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81E9-864D-42B5-B4EA-7AF44D2507D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2E5-DAAA-4604-B974-6E1728CCAA5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200E-1FA4-4E4D-B307-CECF5F120B9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E09B-EAAE-4153-A067-905D695BDB7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397-7B06-48C3-A771-AD09D184A42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2D92-5728-4A7F-AE68-39A91F8AEF7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2ED6-DF6D-4D50-85EA-F3AD9688D96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C7C8-1460-495B-9D63-3EF070EA9E7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-146160" y="1427040"/>
            <a:ext cx="9290160" cy="33642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28680" y="4581360"/>
            <a:ext cx="490068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Калушка Ірин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студентка гр.К-11-1/9, МЕМ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AutoShape 12">
            <a:hlinkClick r:id="" action="ppaction://hlinkshowjump?jump=nextslide"/>
          </p:cNvPr>
          <p:cNvSpPr/>
          <p:nvPr/>
        </p:nvSpPr>
        <p:spPr>
          <a:xfrm>
            <a:off x="7740720" y="63817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1" name="Содержимое 4" descr="image003.gif"/>
          <p:cNvPicPr/>
          <p:nvPr/>
        </p:nvPicPr>
        <p:blipFill>
          <a:blip r:embed="rId2"/>
          <a:stretch/>
        </p:blipFill>
        <p:spPr>
          <a:xfrm>
            <a:off x="249120" y="2706840"/>
            <a:ext cx="4243680" cy="49863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рафен — одна з алотропних форм вуглецю, моноатомний шар Карбону із гексагональною структуро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5" name="Содержимое 4" descr="61834464.jpg"/>
          <p:cNvPicPr/>
          <p:nvPr/>
        </p:nvPicPr>
        <p:blipFill>
          <a:blip r:embed="rId2"/>
          <a:stretch/>
        </p:blipFill>
        <p:spPr>
          <a:xfrm>
            <a:off x="298440" y="2279520"/>
            <a:ext cx="4206960" cy="33656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Вперше графен було отримано й досліджено в 2004 році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ндрієм Геймом і Костянтином Новосьолови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9" name="Содержимое 4" descr="geim_novoselov_graphene.jpg"/>
          <p:cNvPicPr/>
          <p:nvPr/>
        </p:nvPicPr>
        <p:blipFill>
          <a:blip r:embed="rId2"/>
          <a:stretch/>
        </p:blipFill>
        <p:spPr>
          <a:xfrm>
            <a:off x="189000" y="1206360"/>
            <a:ext cx="3481200" cy="54756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-360" y="4071960"/>
            <a:ext cx="43434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ін не зовсім прозорий, що й дає можливість бачити йо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Прямоугольник 5"/>
          <p:cNvSpPr/>
          <p:nvPr/>
        </p:nvSpPr>
        <p:spPr>
          <a:xfrm>
            <a:off x="4357800" y="535788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ока теплопровідність 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лектропровідні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6"/>
          <p:cNvSpPr/>
          <p:nvPr/>
        </p:nvSpPr>
        <p:spPr>
          <a:xfrm>
            <a:off x="4214880" y="15001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200 раз міцніший за ме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Рисунок 7" descr="1340_3.jpg"/>
          <p:cNvPicPr/>
          <p:nvPr/>
        </p:nvPicPr>
        <p:blipFill>
          <a:blip r:embed="rId3"/>
          <a:stretch/>
        </p:blipFill>
        <p:spPr>
          <a:xfrm>
            <a:off x="4621320" y="2567160"/>
            <a:ext cx="3297240" cy="542448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179280" y="1599840"/>
            <a:ext cx="446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«Методом відлущування»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до графіту прикладали звичайний скотч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його обережно віддирали  з налиплими фрагментами графіту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скотч притискали до підкладки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скотч усували хімічними методами – а вуглець залишався.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7" name="Содержимое 4" descr="image003.gif"/>
          <p:cNvPicPr/>
          <p:nvPr/>
        </p:nvPicPr>
        <p:blipFill>
          <a:blip r:embed="rId2"/>
          <a:stretch/>
        </p:blipFill>
        <p:spPr>
          <a:xfrm>
            <a:off x="4638600" y="2706840"/>
            <a:ext cx="4395960" cy="516888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250560" y="1773000"/>
            <a:ext cx="8196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сонячні батареї, накопичувачі енергії, сотові телефони, супершвидкі комп’ютерні чіп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1" name="Содержимое 4" descr="graphene-panel.jpg"/>
          <p:cNvPicPr/>
          <p:nvPr/>
        </p:nvPicPr>
        <p:blipFill>
          <a:blip r:embed="rId2"/>
          <a:stretch/>
        </p:blipFill>
        <p:spPr>
          <a:xfrm>
            <a:off x="4906800" y="4280040"/>
            <a:ext cx="3749760" cy="435132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5" descr="grafen-nobelevskaya-premiya-2.jpg"/>
          <p:cNvPicPr/>
          <p:nvPr/>
        </p:nvPicPr>
        <p:blipFill>
          <a:blip r:embed="rId3"/>
          <a:stretch/>
        </p:blipFill>
        <p:spPr>
          <a:xfrm>
            <a:off x="615960" y="4280040"/>
            <a:ext cx="3267000" cy="4327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ad1f1f"/>
                </a:solidFill>
                <a:latin typeface="Franklin Gothic Medium"/>
              </a:rPr>
              <a:t>Дякую за увагу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01600" y="2120760"/>
            <a:ext cx="4297320" cy="1659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686800" cy="1973520"/>
          </a:xfrm>
          <a:prstGeom prst="rect">
            <a:avLst/>
          </a:prstGeom>
          <a:ln w="0">
            <a:noFill/>
          </a:ln>
        </p:spPr>
      </p:pic>
      <p:pic>
        <p:nvPicPr>
          <p:cNvPr id="460" name="Rectangle 5" descr=""/>
          <p:cNvPicPr/>
          <p:nvPr/>
        </p:nvPicPr>
        <p:blipFill>
          <a:blip r:embed="rId3"/>
          <a:stretch/>
        </p:blipFill>
        <p:spPr>
          <a:xfrm>
            <a:off x="4456080" y="2157480"/>
            <a:ext cx="4175280" cy="1214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0" y="334800"/>
            <a:ext cx="8894880" cy="1152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7" descr="6"/>
          <p:cNvPicPr/>
          <p:nvPr/>
        </p:nvPicPr>
        <p:blipFill>
          <a:blip r:embed="rId2"/>
          <a:stretch/>
        </p:blipFill>
        <p:spPr>
          <a:xfrm>
            <a:off x="237960" y="1146240"/>
            <a:ext cx="3395880" cy="2468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0" descr="карбин"/>
          <p:cNvPicPr/>
          <p:nvPr/>
        </p:nvPicPr>
        <p:blipFill>
          <a:blip r:embed="rId3"/>
          <a:stretch/>
        </p:blipFill>
        <p:spPr>
          <a:xfrm>
            <a:off x="4876920" y="1146240"/>
            <a:ext cx="3468600" cy="2401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4" descr="5"/>
          <p:cNvPicPr/>
          <p:nvPr/>
        </p:nvPicPr>
        <p:blipFill>
          <a:blip r:embed="rId4"/>
          <a:stretch/>
        </p:blipFill>
        <p:spPr>
          <a:xfrm>
            <a:off x="304920" y="4078440"/>
            <a:ext cx="3328920" cy="2322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1" descr="7"/>
          <p:cNvPicPr/>
          <p:nvPr/>
        </p:nvPicPr>
        <p:blipFill>
          <a:blip r:embed="rId5"/>
          <a:stretch/>
        </p:blipFill>
        <p:spPr>
          <a:xfrm>
            <a:off x="4876920" y="4078440"/>
            <a:ext cx="3541680" cy="23526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642960" y="3500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Графі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714240" y="62866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Фул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5214960" y="35002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Карб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5572080" y="6286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2">
            <a:hlinkClick r:id="" action="ppaction://hlinkshowjump?jump=nextslide"/>
          </p:cNvPr>
          <p:cNvSpPr/>
          <p:nvPr/>
        </p:nvSpPr>
        <p:spPr>
          <a:xfrm>
            <a:off x="7858080" y="635796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577360" cy="1712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7"/>
          <p:cNvPicPr/>
          <p:nvPr/>
        </p:nvPicPr>
        <p:blipFill>
          <a:blip r:embed="rId2"/>
          <a:stretch/>
        </p:blipFill>
        <p:spPr>
          <a:xfrm>
            <a:off x="165240" y="1504800"/>
            <a:ext cx="4394160" cy="36831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9"/>
          <p:cNvSpPr/>
          <p:nvPr/>
        </p:nvSpPr>
        <p:spPr>
          <a:xfrm>
            <a:off x="571680" y="535788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44f44"/>
                </a:solidFill>
                <a:latin typeface="Arial"/>
              </a:rPr>
              <a:t>Кристалічна гр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4786200" y="2143080"/>
            <a:ext cx="410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зора кристалічна речовина, найтвердіша з усіх природних речовин, еталон тверд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109440" y="0"/>
            <a:ext cx="8577360" cy="1712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15"/>
          <p:cNvPicPr/>
          <p:nvPr/>
        </p:nvPicPr>
        <p:blipFill>
          <a:blip r:embed="rId2"/>
          <a:stretch/>
        </p:blipFill>
        <p:spPr>
          <a:xfrm>
            <a:off x="378000" y="4290840"/>
            <a:ext cx="2895480" cy="2372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3" descr="6"/>
          <p:cNvPicPr/>
          <p:nvPr/>
        </p:nvPicPr>
        <p:blipFill>
          <a:blip r:embed="rId3"/>
          <a:stretch/>
        </p:blipFill>
        <p:spPr>
          <a:xfrm>
            <a:off x="237960" y="1073160"/>
            <a:ext cx="3108600" cy="28702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6"/>
          <p:cNvSpPr/>
          <p:nvPr/>
        </p:nvSpPr>
        <p:spPr>
          <a:xfrm>
            <a:off x="142920" y="388152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44f44"/>
                </a:solidFill>
                <a:latin typeface="Arial"/>
              </a:rPr>
              <a:t>Кристалічна гр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3500280" y="4857840"/>
            <a:ext cx="52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плавлення вище  350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11"/>
          <p:cNvPicPr/>
          <p:nvPr/>
        </p:nvPicPr>
        <p:blipFill>
          <a:blip r:embed="rId4"/>
          <a:stretch/>
        </p:blipFill>
        <p:spPr>
          <a:xfrm>
            <a:off x="5121360" y="1206360"/>
            <a:ext cx="2760480" cy="56088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8"/>
          <p:cNvSpPr/>
          <p:nvPr/>
        </p:nvSpPr>
        <p:spPr>
          <a:xfrm>
            <a:off x="4214880" y="4000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ання графіт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мазка, олівец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тулка, е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Вперше одержаний в Росії в 60-х роках XX столітт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В молекулі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човини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 атоми Карбону сполучені в ланцюжки по черзі потрійними і одинарними зв'язками. Застосовується у фотоелемент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Содержимое 7" descr="Рисунок1.jpg"/>
          <p:cNvPicPr/>
          <p:nvPr/>
        </p:nvPicPr>
        <p:blipFill>
          <a:blip r:embed="rId2"/>
          <a:stretch/>
        </p:blipFill>
        <p:spPr>
          <a:xfrm>
            <a:off x="262080" y="2139840"/>
            <a:ext cx="4236840" cy="486432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9"/>
          <p:cNvSpPr/>
          <p:nvPr/>
        </p:nvSpPr>
        <p:spPr>
          <a:xfrm>
            <a:off x="0" y="4929120"/>
            <a:ext cx="5286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С – 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 – С ≡ С – С ≡ С – С ≡ С 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255600" y="208080"/>
            <a:ext cx="8437680" cy="1163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8"/>
          <p:cNvPicPr/>
          <p:nvPr/>
        </p:nvPicPr>
        <p:blipFill>
          <a:blip r:embed="rId2"/>
          <a:stretch/>
        </p:blipFill>
        <p:spPr>
          <a:xfrm>
            <a:off x="92160" y="1073160"/>
            <a:ext cx="5181480" cy="261468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6"/>
          <p:cNvSpPr/>
          <p:nvPr/>
        </p:nvSpPr>
        <p:spPr>
          <a:xfrm>
            <a:off x="0" y="3714840"/>
            <a:ext cx="55008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молекул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і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6220440" y="378612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стина 1,7 г/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6" descr="220px-Buckminsterfullerene_animated.gif"/>
          <p:cNvPicPr/>
          <p:nvPr/>
        </p:nvPicPr>
        <p:blipFill>
          <a:blip r:embed="rId3"/>
          <a:stretch/>
        </p:blipFill>
        <p:spPr>
          <a:xfrm>
            <a:off x="6229440" y="1200240"/>
            <a:ext cx="2146320" cy="421956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7"/>
          <p:cNvSpPr/>
          <p:nvPr/>
        </p:nvSpPr>
        <p:spPr>
          <a:xfrm>
            <a:off x="6009840" y="450072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імічно  не актив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5572080" y="528624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розчиняється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лярних розчинни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pic>
        <p:nvPicPr>
          <p:cNvPr id="499" name="Содержимое 4" descr="Kohlenstoffnanoroehre_Animation.gif"/>
          <p:cNvPicPr/>
          <p:nvPr/>
        </p:nvPicPr>
        <p:blipFill>
          <a:blip r:embed="rId2"/>
          <a:stretch/>
        </p:blipFill>
        <p:spPr>
          <a:xfrm>
            <a:off x="401760" y="1494000"/>
            <a:ext cx="2334960" cy="4608360"/>
          </a:xfrm>
          <a:prstGeom prst="rect">
            <a:avLst/>
          </a:prstGeom>
          <a:ln w="0">
            <a:noFill/>
          </a:ln>
        </p:spPr>
      </p:pic>
      <p:pic>
        <p:nvPicPr>
          <p:cNvPr id="500" name="Содержимое 5" descr="uglerodnye-nanotrubki.jpg"/>
          <p:cNvPicPr/>
          <p:nvPr/>
        </p:nvPicPr>
        <p:blipFill>
          <a:blip r:embed="rId3"/>
          <a:stretch/>
        </p:blipFill>
        <p:spPr>
          <a:xfrm>
            <a:off x="189000" y="4065480"/>
            <a:ext cx="3859200" cy="48038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6"/>
          <p:cNvSpPr/>
          <p:nvPr/>
        </p:nvSpPr>
        <p:spPr>
          <a:xfrm>
            <a:off x="3000240" y="135720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НОТРУБКИ ВУГЛЕЦЮ – трубчасті наноутворення вуглец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увають одно- і багатошаров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вна особливість цих       вуглецевих нанострук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як і фулеренів)–їх каркасна фор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04" name="Содержимое 6" descr="Grafen_02.jpg"/>
          <p:cNvPicPr/>
          <p:nvPr/>
        </p:nvPicPr>
        <p:blipFill>
          <a:blip r:embed="rId2"/>
          <a:stretch/>
        </p:blipFill>
        <p:spPr>
          <a:xfrm>
            <a:off x="5425920" y="1206360"/>
            <a:ext cx="2913120" cy="1517760"/>
          </a:xfrm>
          <a:prstGeom prst="rect">
            <a:avLst/>
          </a:prstGeom>
          <a:ln w="0">
            <a:noFill/>
          </a:ln>
        </p:spPr>
      </p:pic>
      <p:pic>
        <p:nvPicPr>
          <p:cNvPr id="505" name="Содержимое 4" descr=""/>
          <p:cNvPicPr/>
          <p:nvPr/>
        </p:nvPicPr>
        <p:blipFill>
          <a:blip r:embed="rId3"/>
          <a:stretch/>
        </p:blipFill>
        <p:spPr>
          <a:xfrm>
            <a:off x="633240" y="1352520"/>
            <a:ext cx="3256200" cy="28954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5"/>
          <p:cNvSpPr/>
          <p:nvPr/>
        </p:nvSpPr>
        <p:spPr>
          <a:xfrm>
            <a:off x="214200" y="4357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ен – вигляд в електронному мікроскоп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7" descr="1340_3.jpg"/>
          <p:cNvPicPr/>
          <p:nvPr/>
        </p:nvPicPr>
        <p:blipFill>
          <a:blip r:embed="rId4"/>
          <a:stretch/>
        </p:blipFill>
        <p:spPr>
          <a:xfrm>
            <a:off x="4638600" y="2779560"/>
            <a:ext cx="4011840" cy="33292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8"/>
          <p:cNvSpPr/>
          <p:nvPr/>
        </p:nvSpPr>
        <p:spPr>
          <a:xfrm>
            <a:off x="4786200" y="614376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оский шар граф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">
            <a:hlinkClick r:id="" action="ppaction://hlinkshowjump?jump=nextslide"/>
          </p:cNvPr>
          <p:cNvSpPr/>
          <p:nvPr/>
        </p:nvSpPr>
        <p:spPr>
          <a:xfrm>
            <a:off x="285840" y="635796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1:37:23Z</dcterms:created>
  <dc:creator>Наулм</dc:creator>
  <dc:description/>
  <dc:language>en-US</dc:language>
  <cp:lastModifiedBy>Будченко</cp:lastModifiedBy>
  <dcterms:modified xsi:type="dcterms:W3CDTF">2012-02-05T08:40:14Z</dcterms:modified>
  <cp:revision>58</cp:revision>
  <dc:subject/>
  <dc:title>Алотропні відозміни карб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4f000000000001024140</vt:lpwstr>
  </property>
</Properties>
</file>