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A960-240A-42C5-9C47-D9AD6C4E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D67B-E65A-4069-AAC6-CFA8E866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B90F-BFB9-4BFC-8E23-F4ED0EF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9A1F-0C71-4E6E-81DC-CEC3D609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AFF-309D-41F1-8073-AA0F4F8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D706-12A0-4583-A980-C6F2F219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6C9-45A5-4B93-AD3F-24915B7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DC49-95EC-4B89-A21A-A7E03C9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2B7D-2373-451A-B23B-DB31956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D31F-8CCE-40F1-A2D1-5E6E74D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0F01-42A8-4C9A-AEF5-68D26A1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C8D9-3FB6-49DF-8611-CFE232B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EFFE-15D3-4C26-9264-601AB08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41F-2BAA-4ED8-8AE0-B3C7CBF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B836-6E61-46A4-A476-0A2467E9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27CB-AF23-4BC4-B9A2-6DCC6365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B0B-8C03-4BFD-8243-F03CA5FF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F579-B98B-429F-A045-B905D3A2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9F07-1630-44A7-AC5E-D22F91FC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2F1B-665D-4AAA-BF21-C09E737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5FEB-ADD3-401A-BE73-E0ACAA8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D231-C104-43CA-8D2B-2841D94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0E25-B18B-4C09-B68E-563BB6C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298C-EB6F-4251-ABCA-0384F4E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C53-A526-4822-AFC4-9A98BA0EB0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11B-0ACB-47E6-99BF-674205581B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4357800"/>
            <a:ext cx="750096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Органічні речовини в живій природі. Теорія хімічної будови органічних сполук О.М.Бутлерова.</a:t>
            </a: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 Ізомерія органічних сполук. </a:t>
            </a:r>
            <a:br>
              <a:rPr sz="4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22480" cy="393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000240" y="171468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«Не можна не дивуватись, оглядаючись назад, який гігантський крок зробила органічна хімія за час свого існування. Незрівнянно більше, однак, чекає на неї поперед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. М. 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29360" cy="5286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МОЛЕКУЛА ІНСУ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bestreferat.ru/images/paper/93/14/2751493.jpeg"/>
          <p:cNvPicPr/>
          <p:nvPr/>
        </p:nvPicPr>
        <p:blipFill>
          <a:blip r:embed="rId1"/>
          <a:stretch/>
        </p:blipFill>
        <p:spPr>
          <a:xfrm>
            <a:off x="2050920" y="1700280"/>
            <a:ext cx="4705560" cy="3467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35280" y="8366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bestreferat.ru/images/paper/93/14/2751493.jpeg"/>
          <p:cNvPicPr/>
          <p:nvPr/>
        </p:nvPicPr>
        <p:blipFill>
          <a:blip r:embed="rId2"/>
          <a:stretch/>
        </p:blipFill>
        <p:spPr>
          <a:xfrm>
            <a:off x="2071800" y="1714680"/>
            <a:ext cx="4705200" cy="346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bestreferat.ru/images/paper/93/14/2751493.jpeg"/>
          <p:cNvPicPr/>
          <p:nvPr/>
        </p:nvPicPr>
        <p:blipFill>
          <a:blip r:embed="rId3"/>
          <a:stretch/>
        </p:blipFill>
        <p:spPr>
          <a:xfrm>
            <a:off x="2224080" y="1866960"/>
            <a:ext cx="4705200" cy="3467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bestreferat.ru/images/paper/93/14/2751493.jpeg"/>
          <p:cNvPicPr/>
          <p:nvPr/>
        </p:nvPicPr>
        <p:blipFill>
          <a:blip r:embed="rId4"/>
          <a:stretch/>
        </p:blipFill>
        <p:spPr>
          <a:xfrm>
            <a:off x="1928880" y="1643040"/>
            <a:ext cx="5286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chemlib.ru/books/item/f00/s00/z0000000/pic/000074.jpg"/>
          <p:cNvPicPr/>
          <p:nvPr/>
        </p:nvPicPr>
        <p:blipFill>
          <a:blip r:embed="rId1"/>
          <a:stretch/>
        </p:blipFill>
        <p:spPr>
          <a:xfrm>
            <a:off x="900000" y="938160"/>
            <a:ext cx="6767640" cy="5753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556000" y="47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ХЛОРОФИ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him.1september.ru/2009/20/4-2.jpg"/>
          <p:cNvPicPr/>
          <p:nvPr/>
        </p:nvPicPr>
        <p:blipFill>
          <a:blip r:embed="rId1"/>
          <a:stretch/>
        </p:blipFill>
        <p:spPr>
          <a:xfrm>
            <a:off x="1979640" y="1109520"/>
            <a:ext cx="5184720" cy="509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195640" y="404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Электропроводящи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8920" y="836280"/>
            <a:ext cx="57798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ідріх Велер в одному з листів до Йенс Берцеліус так описував органічну хімі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«Органічна хімія може зараз кого завгодно звести з розуму. Вона здається мені дрімучим лісом, повним дивних речей, безмежної хащі, з якої не можна вибратися, куди не насмілюєшся проникнути ... 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654280" cy="36385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Фрідріх Ве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Times New Roman"/>
              </a:rPr>
              <a:t>1800-18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b3"/>
          <p:cNvPicPr/>
          <p:nvPr/>
        </p:nvPicPr>
        <p:blipFill>
          <a:blip r:embed="rId2"/>
          <a:stretch/>
        </p:blipFill>
        <p:spPr>
          <a:xfrm>
            <a:off x="324000" y="5818320"/>
            <a:ext cx="37414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132000" y="549000"/>
            <a:ext cx="56311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Англійський вчений Едуард Франкланд, спираючись на ідеї атомістики, в 1853 р. ввів понятт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. Франкл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825-1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33360"/>
            <a:ext cx="2616120" cy="36306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7" name="Rectangle 6"/>
          <p:cNvSpPr/>
          <p:nvPr/>
        </p:nvSpPr>
        <p:spPr>
          <a:xfrm>
            <a:off x="3276720" y="3200400"/>
            <a:ext cx="5562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352680" y="3352680"/>
            <a:ext cx="5562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280" y="2923920"/>
            <a:ext cx="5770440" cy="3276360"/>
          </a:xfrm>
          <a:prstGeom prst="rect">
            <a:avLst/>
          </a:prstGeom>
          <a:noFill/>
          <a:ln w="57240">
            <a:solidFill>
              <a:srgbClr val="cc3399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це властивість атомів хімічних елементів утворювати хімічні зв'язки. Вона визначає число хімічних зв'язків, якими даний атом сполучений з іншими атомами в молекулі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500040"/>
            <a:ext cx="82184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Теорія хімічної будови - результат узагальнення ідей видатних вчених-органіків з трьох європейських країн: нім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. Кекуле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, англій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Купер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та росія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Бутлеров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4357800"/>
            <a:ext cx="4496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6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М. Бутлеров створив наукову теорію будови органічних реч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utlerov"/>
          <p:cNvPicPr/>
          <p:nvPr/>
        </p:nvPicPr>
        <p:blipFill>
          <a:blip r:embed="rId1"/>
          <a:srcRect l="0" t="0" r="353" b="0"/>
          <a:stretch/>
        </p:blipFill>
        <p:spPr>
          <a:xfrm>
            <a:off x="7010280" y="3789360"/>
            <a:ext cx="1570320" cy="22305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133" name="Picture 5" descr="kekule"/>
          <p:cNvPicPr/>
          <p:nvPr/>
        </p:nvPicPr>
        <p:blipFill>
          <a:blip r:embed="rId2"/>
          <a:stretch/>
        </p:blipFill>
        <p:spPr>
          <a:xfrm>
            <a:off x="287280" y="3716280"/>
            <a:ext cx="1594080" cy="23036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34" name="Rectangle 6"/>
          <p:cNvSpPr/>
          <p:nvPr/>
        </p:nvSpPr>
        <p:spPr>
          <a:xfrm>
            <a:off x="2050920" y="2214720"/>
            <a:ext cx="647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Ф. Кекуле відніс вуглець до чотирьохвалентних еле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Купер зазначив, що атоми вуглецю здатні з'єднатисяся один з одним в різні ланцю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0880" y="60199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. Ке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9-1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77120" y="60199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.М.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8-18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umnik"/>
          <p:cNvPicPr/>
          <p:nvPr/>
        </p:nvPicPr>
        <p:blipFill>
          <a:blip r:embed="rId3"/>
          <a:stretch/>
        </p:blipFill>
        <p:spPr>
          <a:xfrm>
            <a:off x="3924360" y="5805360"/>
            <a:ext cx="78264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Учитель"/>
          <p:cNvPicPr/>
          <p:nvPr/>
        </p:nvPicPr>
        <p:blipFill>
          <a:blip r:embed="rId4"/>
          <a:stretch/>
        </p:blipFill>
        <p:spPr>
          <a:xfrm>
            <a:off x="457200" y="2209680"/>
            <a:ext cx="160020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39:35Z</dcterms:created>
  <dc:creator>Вика</dc:creator>
  <dc:description/>
  <dc:language>en-US</dc:language>
  <cp:lastModifiedBy>Будченко</cp:lastModifiedBy>
  <dcterms:modified xsi:type="dcterms:W3CDTF">2012-02-09T20:57:56Z</dcterms:modified>
  <cp:revision>21</cp:revision>
  <dc:subject/>
  <dc:title>Теорія як вища форма наукових знань. Теорія хімічної будови органічних сполук О.М. Бутлеров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5000000000001024140</vt:lpwstr>
  </property>
</Properties>
</file>