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A99-7EAE-4585-9359-41E79C30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E8F-05BF-46BA-8206-103F02A2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5C9C7-0C7A-4BB9-9E5A-5499E2D8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39667-6BC0-40E0-A901-E920E529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BC0CC-B605-4212-9F6B-887EC999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F7D68-E545-408F-AEFD-464A2DAA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05910-5ADA-4F95-8D1C-EE51FF37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BBAD0-6F96-4852-B427-B4103050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861E7-1768-4A70-A491-C641C6DE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FDB75-38FA-4CBA-B836-4B357B9B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BFA16-BF82-47F1-B844-D1E59B3C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4C23E-B473-4C2B-B4C2-157AB89F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BCE-C4A2-446E-97A6-25F13E86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8AB6E2-D355-4207-97C0-8B68A6B0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2324D-EEA4-45A5-8D5D-B2E5994F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0A9E7-D81C-40D8-BC4B-E078E4E9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E3B1D-A7C4-443B-BDB8-AB68CFEA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4B7FF-2898-466F-8590-D7D438BD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99490-FB63-47B6-8EC1-4C13F360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BBE40-9F48-498E-9256-2BDBEBBC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01E16-C3B3-4DB8-9011-E203516A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BE46A-CF8B-405C-8C87-01A3D038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E896C-C7F5-4712-88EB-7143D5DD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35D-833D-4EC7-A6DB-DD4BA38D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20BF4-A130-4EE2-8BD2-2E16C59C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9987-63F2-4020-BFFA-A68CAA3B0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D102-2EFB-4B1F-89A6-9F625CED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0B34-9FC2-46FC-8683-1ACB697A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D84C-1302-44F7-9287-0DBAF598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6D8A-B652-4AB3-B238-AD2FCB6A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7A2B-026A-4C12-B753-527CBC68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85FB-20EF-4A96-ADFB-49391ABC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7ED-41A9-4D92-B203-3FD77439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E28B-0123-4272-BFE4-2FEDF6A6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821F-D283-48E7-AA35-2E635A6A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2966-A1AD-4638-9EE6-FD8975BD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76FC-E23F-46B1-99F3-23A43C3A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9BBE-9675-45BB-8125-99E68F88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F9FDD-CF1A-47D9-980C-9B8CB8C8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3B653-7483-4AAF-8A89-8D67D240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87B9F-AE58-407A-90DF-9DE41032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D426A-85FA-431E-A926-504F58CB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87086-7B8B-4AD5-B335-507B922A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D11-6E8F-40E0-B8E2-778421E2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E112F-DF96-485C-9039-44DC876B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DD96-E467-4787-9C63-220AC846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F2A2B-5826-4823-8743-B9363208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04DFF-A1DB-46DC-B2F7-99B24A9C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B7DF4-E77B-4478-98FC-15530BC7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FF6B4-7AA8-47FE-9A91-5E744BC8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304C0-C503-4D5F-BFF0-EC883BCE7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62A23-C3A6-475E-9720-183C6A21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982BA-C7B5-4DF2-9D7E-5F4AE13D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0DEA9-0567-488B-9782-1F2F208D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E92-EA9A-4BF6-A84B-335E5829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42547-2BE1-4F1D-A930-A9FFF241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A8C99-5020-4661-A1DC-225BEB0E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D9875-3A52-450C-A3BC-AAAA93A4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E85CD-D38B-4AD3-8C20-D568A52A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CFDB5-527C-4640-95B9-6F422684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E0F65-06D3-4211-AF3F-AC914B70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02410-45C3-475E-A48F-8102A588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7DAB1-9C00-4541-871A-53562213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C0538-4B75-4490-ABF8-8F2E7386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571D2-CD00-465F-BE4E-D50290C0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584E-9BAA-4835-B8D3-4C1E452E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2A5BB-AA32-4720-971E-63E31F9A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18963-A40F-4568-A4F6-DF0CBCB2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15A13-2D5F-4AB3-AF38-8BD297EC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F5BE7-65FC-4D34-90A4-9250690E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31102-FD16-49C4-ADC2-DA430D84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2ECF6-1590-4DA9-B16A-04506880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F9199-6AE3-41CB-AA0E-0143739A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BA018-69B4-47B5-ADAC-29C72F11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9BF09-7DAB-4648-9B2A-013E5AB7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6C9A0-7D08-433B-BDB9-676BD0F8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46F-5D57-430E-B124-370C01EA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C2F04-907D-4A3D-B560-B59D8A2F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7A1CC-2CC2-42CC-AD5E-AEF24D82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999DB-C290-4A30-8873-EA75296D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F8F02-6DE7-4E36-A1B7-F441DB89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51AA5-35E8-412A-BE91-461824D0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D0D60-D628-4E13-80FB-0E07A4D2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5328E-4865-4A72-AA03-50B7E8F3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E17F9-27CA-4955-8562-09129BBE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865DA-2C5D-4DB2-8B39-EFCA8D9F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1FCE8-EB00-4BA9-B30F-9E8AF503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C16-F249-4874-896F-8DD8EAEA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36FDA-B2F4-4C98-809F-4D015DFA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ADDFD-F7A8-434D-9878-B7BFA0B5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C579F-7377-4B0A-984B-D3924771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51DE3-D005-43DA-8DC2-0267F272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2FC0B-8543-4DA2-AB0E-3E07394F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9DFBB-ABAC-42A7-A355-03343A56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6DD38-C3A1-4F35-94D1-0A297853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B87FA-5EB7-4B81-B226-F493327B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02D7B-FB17-4548-9D12-B576805D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973C4-8B25-435B-A38D-740FF404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154-9A22-44A9-9333-28D72A41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32B1A-FB22-40AA-B480-7DCC83D8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ADCA6-0977-441E-A407-A4BCF7CB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14520-1507-49E8-B47E-C0F50F7D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D2EA9-5356-40E0-B9E0-AA8FF162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CE26A-6CFE-4726-BA5F-020FBABD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C4869-5F2F-4416-B595-AE97D93F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59033-33EE-4FFD-9FA7-691C58FE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C69B6-7F8A-4DC5-8AD0-1220709A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DB6DF-FD93-4C70-AA7D-F9CAFBA3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CDEAD-FED3-4E8D-B53E-3C893C26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DC8-C08D-401F-8CF7-FFFA070F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D1305-1364-48FE-9B0E-9B8313D2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E6E35-4135-48B3-AF26-B1C8CAAA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89BB5-794F-482D-91FA-96D1752F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2F08B-F83C-437C-996A-92A06DF0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A5784-1280-4965-85D5-22A7142A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F02A4-D795-42CA-B320-9FA51467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0AFA8-2A54-4ABD-ABAD-EF7D32AD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E9ACB-7AB7-43C5-9587-0ABA7D46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F29B3-E7C1-4BB8-96A7-873DFC43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0A12E-91AA-4CD8-AE7D-A559B98C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4499-9EDA-4F08-8682-C4B599675A0B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D85B-3A85-4590-A9C9-62F6BE56E81E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43BB-A47C-494C-B06E-538A878C6FB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0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4651-A21A-4829-9F3F-4EB00EEA7A6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45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BEE6-8499-4E94-8A01-D6953319EF4A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3F74-B0CE-4A0D-AEF8-67827A81A964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30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BCB7-FB47-4777-BB50-39C36E32D3D2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9CE5-1620-47F0-A313-2AEFBD1D14A7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B3C2-E40C-4B20-899B-53F9DBA5CF3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5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5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6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4431-EC8D-46EA-8157-1FF85BACD1B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-146160" y="1427040"/>
            <a:ext cx="9290160" cy="336420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3928680" y="4581360"/>
            <a:ext cx="490068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Калушка Ірина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студентка гр.К-11-1/9, МЕМ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AutoShape 12">
            <a:hlinkClick r:id="" action="ppaction://hlinkshowjump?jump=nextslide"/>
          </p:cNvPr>
          <p:cNvSpPr/>
          <p:nvPr/>
        </p:nvSpPr>
        <p:spPr>
          <a:xfrm>
            <a:off x="7740720" y="63817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1" descr=""/>
          <p:cNvPicPr/>
          <p:nvPr/>
        </p:nvPicPr>
        <p:blipFill>
          <a:blip r:embed="rId1"/>
          <a:stretch/>
        </p:blipFill>
        <p:spPr>
          <a:xfrm>
            <a:off x="12600" y="324000"/>
            <a:ext cx="8985240" cy="1517400"/>
          </a:xfrm>
          <a:prstGeom prst="rect">
            <a:avLst/>
          </a:prstGeom>
          <a:ln w="0">
            <a:noFill/>
          </a:ln>
        </p:spPr>
      </p:pic>
      <p:pic>
        <p:nvPicPr>
          <p:cNvPr id="511" name="Содержимое 4" descr="image003.gif"/>
          <p:cNvPicPr/>
          <p:nvPr/>
        </p:nvPicPr>
        <p:blipFill>
          <a:blip r:embed="rId2"/>
          <a:stretch/>
        </p:blipFill>
        <p:spPr>
          <a:xfrm>
            <a:off x="249120" y="2706840"/>
            <a:ext cx="4243680" cy="49863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Графен — одна з алотропних форм вуглецю, моноатомний шар Карбону із гексагональною структурою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Заголовок 1" descr=""/>
          <p:cNvPicPr/>
          <p:nvPr/>
        </p:nvPicPr>
        <p:blipFill>
          <a:blip r:embed="rId1"/>
          <a:stretch/>
        </p:blipFill>
        <p:spPr>
          <a:xfrm>
            <a:off x="12600" y="324000"/>
            <a:ext cx="8985240" cy="1517400"/>
          </a:xfrm>
          <a:prstGeom prst="rect">
            <a:avLst/>
          </a:prstGeom>
          <a:ln w="0">
            <a:noFill/>
          </a:ln>
        </p:spPr>
      </p:pic>
      <p:pic>
        <p:nvPicPr>
          <p:cNvPr id="515" name="Содержимое 4" descr="61834464.jpg"/>
          <p:cNvPicPr/>
          <p:nvPr/>
        </p:nvPicPr>
        <p:blipFill>
          <a:blip r:embed="rId2"/>
          <a:stretch/>
        </p:blipFill>
        <p:spPr>
          <a:xfrm>
            <a:off x="298440" y="2279520"/>
            <a:ext cx="4206960" cy="33656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Вперше графен було отримано й досліджено в 2004 році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Андрієм Геймом і Костянтином Новосьоловим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7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1" descr=""/>
          <p:cNvPicPr/>
          <p:nvPr/>
        </p:nvPicPr>
        <p:blipFill>
          <a:blip r:embed="rId1"/>
          <a:stretch/>
        </p:blipFill>
        <p:spPr>
          <a:xfrm>
            <a:off x="12600" y="324000"/>
            <a:ext cx="8985240" cy="1517400"/>
          </a:xfrm>
          <a:prstGeom prst="rect">
            <a:avLst/>
          </a:prstGeom>
          <a:ln w="0">
            <a:noFill/>
          </a:ln>
        </p:spPr>
      </p:pic>
      <p:pic>
        <p:nvPicPr>
          <p:cNvPr id="519" name="Содержимое 4" descr="geim_novoselov_graphene.jpg"/>
          <p:cNvPicPr/>
          <p:nvPr/>
        </p:nvPicPr>
        <p:blipFill>
          <a:blip r:embed="rId2"/>
          <a:stretch/>
        </p:blipFill>
        <p:spPr>
          <a:xfrm>
            <a:off x="189000" y="1206360"/>
            <a:ext cx="3481200" cy="54756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 txBox="1"/>
          <p:nvPr/>
        </p:nvSpPr>
        <p:spPr>
          <a:xfrm>
            <a:off x="-360" y="4071960"/>
            <a:ext cx="43434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він не зовсім прозорий, що й дає можливість бачити його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1" name="Прямоугольник 5"/>
          <p:cNvSpPr/>
          <p:nvPr/>
        </p:nvSpPr>
        <p:spPr>
          <a:xfrm>
            <a:off x="4357800" y="5357880"/>
            <a:ext cx="45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сока теплопровідність 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лектропровідні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6"/>
          <p:cNvSpPr/>
          <p:nvPr/>
        </p:nvSpPr>
        <p:spPr>
          <a:xfrm>
            <a:off x="4214880" y="15001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200 раз міцніший за ме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Рисунок 7" descr="1340_3.jpg"/>
          <p:cNvPicPr/>
          <p:nvPr/>
        </p:nvPicPr>
        <p:blipFill>
          <a:blip r:embed="rId3"/>
          <a:stretch/>
        </p:blipFill>
        <p:spPr>
          <a:xfrm>
            <a:off x="4621320" y="2567160"/>
            <a:ext cx="3297240" cy="5424480"/>
          </a:xfrm>
          <a:prstGeom prst="rect">
            <a:avLst/>
          </a:prstGeom>
          <a:ln w="0">
            <a:noFill/>
          </a:ln>
        </p:spPr>
      </p:pic>
      <p:sp>
        <p:nvSpPr>
          <p:cNvPr id="524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Заголовок 1" descr=""/>
          <p:cNvPicPr/>
          <p:nvPr/>
        </p:nvPicPr>
        <p:blipFill>
          <a:blip r:embed="rId1"/>
          <a:stretch/>
        </p:blipFill>
        <p:spPr>
          <a:xfrm>
            <a:off x="-6480" y="334800"/>
            <a:ext cx="8985240" cy="15130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179280" y="1599840"/>
            <a:ext cx="446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«Методом відлущування»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- до графіту прикладали звичайний скотч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- його обережно віддирали  з налиплими фрагментами графіту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- скотч притискали до підкладки,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- скотч усували хімічними методами – а вуглець залишався.</a:t>
            </a: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27" name="Содержимое 4" descr="image003.gif"/>
          <p:cNvPicPr/>
          <p:nvPr/>
        </p:nvPicPr>
        <p:blipFill>
          <a:blip r:embed="rId2"/>
          <a:stretch/>
        </p:blipFill>
        <p:spPr>
          <a:xfrm>
            <a:off x="4638600" y="2706840"/>
            <a:ext cx="4395960" cy="516888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Заголовок 1" descr=""/>
          <p:cNvPicPr/>
          <p:nvPr/>
        </p:nvPicPr>
        <p:blipFill>
          <a:blip r:embed="rId1"/>
          <a:stretch/>
        </p:blipFill>
        <p:spPr>
          <a:xfrm>
            <a:off x="-6480" y="334800"/>
            <a:ext cx="8985240" cy="15130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 txBox="1"/>
          <p:nvPr/>
        </p:nvSpPr>
        <p:spPr>
          <a:xfrm>
            <a:off x="250560" y="1773000"/>
            <a:ext cx="81961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e3b30"/>
                </a:solidFill>
                <a:latin typeface="Franklin Gothic Book"/>
              </a:rPr>
              <a:t>сонячні батареї, накопичувачі енергії, сотові телефони, супершвидкі комп’ютерні чіпи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31" name="Содержимое 4" descr="graphene-panel.jpg"/>
          <p:cNvPicPr/>
          <p:nvPr/>
        </p:nvPicPr>
        <p:blipFill>
          <a:blip r:embed="rId2"/>
          <a:stretch/>
        </p:blipFill>
        <p:spPr>
          <a:xfrm>
            <a:off x="4906800" y="4280040"/>
            <a:ext cx="3749760" cy="4351320"/>
          </a:xfrm>
          <a:prstGeom prst="rect">
            <a:avLst/>
          </a:prstGeom>
          <a:ln w="0">
            <a:noFill/>
          </a:ln>
        </p:spPr>
      </p:pic>
      <p:pic>
        <p:nvPicPr>
          <p:cNvPr id="532" name="Рисунок 5" descr="grafen-nobelevskaya-premiya-2.jpg"/>
          <p:cNvPicPr/>
          <p:nvPr/>
        </p:nvPicPr>
        <p:blipFill>
          <a:blip r:embed="rId3"/>
          <a:stretch/>
        </p:blipFill>
        <p:spPr>
          <a:xfrm>
            <a:off x="615960" y="4280040"/>
            <a:ext cx="3267000" cy="432756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ad1f1f"/>
                </a:solidFill>
                <a:latin typeface="Franklin Gothic Medium"/>
              </a:rPr>
              <a:t>Дякую за увагу</a:t>
            </a:r>
            <a:endParaRPr b="0" lang="en-US" sz="54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201600" y="2120760"/>
            <a:ext cx="4297320" cy="16592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8686800" cy="1973520"/>
          </a:xfrm>
          <a:prstGeom prst="rect">
            <a:avLst/>
          </a:prstGeom>
          <a:ln w="0">
            <a:noFill/>
          </a:ln>
        </p:spPr>
      </p:pic>
      <p:pic>
        <p:nvPicPr>
          <p:cNvPr id="460" name="Rectangle 5" descr=""/>
          <p:cNvPicPr/>
          <p:nvPr/>
        </p:nvPicPr>
        <p:blipFill>
          <a:blip r:embed="rId3"/>
          <a:stretch/>
        </p:blipFill>
        <p:spPr>
          <a:xfrm>
            <a:off x="4456080" y="2157480"/>
            <a:ext cx="4175280" cy="1214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4" descr=""/>
          <p:cNvPicPr/>
          <p:nvPr/>
        </p:nvPicPr>
        <p:blipFill>
          <a:blip r:embed="rId4"/>
          <a:stretch/>
        </p:blipFill>
        <p:spPr>
          <a:xfrm>
            <a:off x="3200400" y="3581280"/>
            <a:ext cx="2971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0" y="334800"/>
            <a:ext cx="8894880" cy="11527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7" descr="6"/>
          <p:cNvPicPr/>
          <p:nvPr/>
        </p:nvPicPr>
        <p:blipFill>
          <a:blip r:embed="rId2"/>
          <a:stretch/>
        </p:blipFill>
        <p:spPr>
          <a:xfrm>
            <a:off x="237960" y="1146240"/>
            <a:ext cx="3395880" cy="24685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0" descr="карбин"/>
          <p:cNvPicPr/>
          <p:nvPr/>
        </p:nvPicPr>
        <p:blipFill>
          <a:blip r:embed="rId3"/>
          <a:stretch/>
        </p:blipFill>
        <p:spPr>
          <a:xfrm>
            <a:off x="4876920" y="1146240"/>
            <a:ext cx="3468600" cy="24019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4" descr="5"/>
          <p:cNvPicPr/>
          <p:nvPr/>
        </p:nvPicPr>
        <p:blipFill>
          <a:blip r:embed="rId4"/>
          <a:stretch/>
        </p:blipFill>
        <p:spPr>
          <a:xfrm>
            <a:off x="304920" y="4078440"/>
            <a:ext cx="3328920" cy="23223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1" descr="7"/>
          <p:cNvPicPr/>
          <p:nvPr/>
        </p:nvPicPr>
        <p:blipFill>
          <a:blip r:embed="rId5"/>
          <a:stretch/>
        </p:blipFill>
        <p:spPr>
          <a:xfrm>
            <a:off x="4876920" y="4078440"/>
            <a:ext cx="3541680" cy="235260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0"/>
          <p:cNvSpPr/>
          <p:nvPr/>
        </p:nvSpPr>
        <p:spPr>
          <a:xfrm>
            <a:off x="642960" y="35002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944f44"/>
                </a:solidFill>
                <a:uFillTx/>
                <a:latin typeface="Arial"/>
              </a:rPr>
              <a:t>Графі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714240" y="62866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944f44"/>
                </a:solidFill>
                <a:uFillTx/>
                <a:latin typeface="Arial"/>
              </a:rPr>
              <a:t>Фуле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5214960" y="350028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944f44"/>
                </a:solidFill>
                <a:uFillTx/>
                <a:latin typeface="Arial"/>
              </a:rPr>
              <a:t>Карбі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3"/>
          <p:cNvSpPr/>
          <p:nvPr/>
        </p:nvSpPr>
        <p:spPr>
          <a:xfrm>
            <a:off x="5572080" y="62866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944f44"/>
                </a:solidFill>
                <a:uFillTx/>
                <a:latin typeface="Arial"/>
              </a:rPr>
              <a:t>Алм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2">
            <a:hlinkClick r:id="" action="ppaction://hlinkshowjump?jump=nextslide"/>
          </p:cNvPr>
          <p:cNvSpPr/>
          <p:nvPr/>
        </p:nvSpPr>
        <p:spPr>
          <a:xfrm>
            <a:off x="7858080" y="635796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Rectangle 2" descr=""/>
          <p:cNvPicPr/>
          <p:nvPr/>
        </p:nvPicPr>
        <p:blipFill>
          <a:blip r:embed="rId1"/>
          <a:stretch/>
        </p:blipFill>
        <p:spPr>
          <a:xfrm>
            <a:off x="109440" y="115920"/>
            <a:ext cx="8577360" cy="17128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7"/>
          <p:cNvPicPr/>
          <p:nvPr/>
        </p:nvPicPr>
        <p:blipFill>
          <a:blip r:embed="rId2"/>
          <a:stretch/>
        </p:blipFill>
        <p:spPr>
          <a:xfrm>
            <a:off x="165240" y="1504800"/>
            <a:ext cx="4394160" cy="36831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9"/>
          <p:cNvSpPr/>
          <p:nvPr/>
        </p:nvSpPr>
        <p:spPr>
          <a:xfrm>
            <a:off x="571680" y="5357880"/>
            <a:ext cx="34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44f44"/>
                </a:solidFill>
                <a:latin typeface="Arial"/>
              </a:rPr>
              <a:t>Кристалічна гр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4786200" y="2143080"/>
            <a:ext cx="410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зора кристалічна речовина, найтвердіша з усіх природних речовин, еталон тверд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2" descr=""/>
          <p:cNvPicPr/>
          <p:nvPr/>
        </p:nvPicPr>
        <p:blipFill>
          <a:blip r:embed="rId1"/>
          <a:stretch/>
        </p:blipFill>
        <p:spPr>
          <a:xfrm>
            <a:off x="109440" y="0"/>
            <a:ext cx="8577360" cy="1712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15"/>
          <p:cNvPicPr/>
          <p:nvPr/>
        </p:nvPicPr>
        <p:blipFill>
          <a:blip r:embed="rId2"/>
          <a:stretch/>
        </p:blipFill>
        <p:spPr>
          <a:xfrm>
            <a:off x="378000" y="4290840"/>
            <a:ext cx="2895480" cy="23720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3" descr="6"/>
          <p:cNvPicPr/>
          <p:nvPr/>
        </p:nvPicPr>
        <p:blipFill>
          <a:blip r:embed="rId3"/>
          <a:stretch/>
        </p:blipFill>
        <p:spPr>
          <a:xfrm>
            <a:off x="237960" y="1073160"/>
            <a:ext cx="3108600" cy="28702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6"/>
          <p:cNvSpPr/>
          <p:nvPr/>
        </p:nvSpPr>
        <p:spPr>
          <a:xfrm>
            <a:off x="142920" y="3881520"/>
            <a:ext cx="33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44f44"/>
                </a:solidFill>
                <a:latin typeface="Arial"/>
              </a:rPr>
              <a:t>Кристалічна гр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8"/>
          <p:cNvSpPr/>
          <p:nvPr/>
        </p:nvSpPr>
        <p:spPr>
          <a:xfrm>
            <a:off x="3500280" y="4857840"/>
            <a:ext cx="52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пература плавлення вище  3500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7" descr="11"/>
          <p:cNvPicPr/>
          <p:nvPr/>
        </p:nvPicPr>
        <p:blipFill>
          <a:blip r:embed="rId4"/>
          <a:stretch/>
        </p:blipFill>
        <p:spPr>
          <a:xfrm>
            <a:off x="5121360" y="1206360"/>
            <a:ext cx="2760480" cy="5608800"/>
          </a:xfrm>
          <a:prstGeom prst="rect">
            <a:avLst/>
          </a:prstGeom>
          <a:ln w="0">
            <a:noFill/>
          </a:ln>
        </p:spPr>
      </p:pic>
      <p:sp>
        <p:nvSpPr>
          <p:cNvPr id="483" name="Прямоугольник 8"/>
          <p:cNvSpPr/>
          <p:nvPr/>
        </p:nvSpPr>
        <p:spPr>
          <a:xfrm>
            <a:off x="4214880" y="40006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користання графіт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мазка, олівец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тулка, елект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Заголовок 1" descr=""/>
          <p:cNvPicPr/>
          <p:nvPr/>
        </p:nvPicPr>
        <p:blipFill>
          <a:blip r:embed="rId1"/>
          <a:stretch/>
        </p:blipFill>
        <p:spPr>
          <a:xfrm>
            <a:off x="-6480" y="334800"/>
            <a:ext cx="8985240" cy="15130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Вперше одержаний в Росії в 60-х роках XX століття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В молекулі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ечовини</a:t>
            </a: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 атоми Карбону сполучені в ланцюжки по черзі потрійними і одинарними зв'язками. Застосовується у фотоелементах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7" name="Содержимое 7" descr="Рисунок1.jpg"/>
          <p:cNvPicPr/>
          <p:nvPr/>
        </p:nvPicPr>
        <p:blipFill>
          <a:blip r:embed="rId2"/>
          <a:stretch/>
        </p:blipFill>
        <p:spPr>
          <a:xfrm>
            <a:off x="262080" y="2139840"/>
            <a:ext cx="4236840" cy="486432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9"/>
          <p:cNvSpPr/>
          <p:nvPr/>
        </p:nvSpPr>
        <p:spPr>
          <a:xfrm>
            <a:off x="0" y="4929120"/>
            <a:ext cx="5286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С – С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 – С ≡ С – С ≡ С – С ≡ С –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Rectangle 2" descr=""/>
          <p:cNvPicPr/>
          <p:nvPr/>
        </p:nvPicPr>
        <p:blipFill>
          <a:blip r:embed="rId1"/>
          <a:stretch/>
        </p:blipFill>
        <p:spPr>
          <a:xfrm>
            <a:off x="255600" y="208080"/>
            <a:ext cx="8437680" cy="11635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8"/>
          <p:cNvPicPr/>
          <p:nvPr/>
        </p:nvPicPr>
        <p:blipFill>
          <a:blip r:embed="rId2"/>
          <a:stretch/>
        </p:blipFill>
        <p:spPr>
          <a:xfrm>
            <a:off x="92160" y="1073160"/>
            <a:ext cx="5181480" cy="2614680"/>
          </a:xfrm>
          <a:prstGeom prst="rect">
            <a:avLst/>
          </a:prstGeom>
          <a:ln w="0">
            <a:noFill/>
          </a:ln>
        </p:spPr>
      </p:pic>
      <p:sp>
        <p:nvSpPr>
          <p:cNvPr id="492" name="Прямоугольник 6"/>
          <p:cNvSpPr/>
          <p:nvPr/>
        </p:nvSpPr>
        <p:spPr>
          <a:xfrm>
            <a:off x="0" y="3714840"/>
            <a:ext cx="55008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молекул 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60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і С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5"/>
          <p:cNvSpPr/>
          <p:nvPr/>
        </p:nvSpPr>
        <p:spPr>
          <a:xfrm>
            <a:off x="6220440" y="378612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устина 1,7 г/см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Рисунок 6" descr="220px-Buckminsterfullerene_animated.gif"/>
          <p:cNvPicPr/>
          <p:nvPr/>
        </p:nvPicPr>
        <p:blipFill>
          <a:blip r:embed="rId3"/>
          <a:stretch/>
        </p:blipFill>
        <p:spPr>
          <a:xfrm>
            <a:off x="6229440" y="1200240"/>
            <a:ext cx="2146320" cy="4219560"/>
          </a:xfrm>
          <a:prstGeom prst="rect">
            <a:avLst/>
          </a:prstGeom>
          <a:ln w="0">
            <a:noFill/>
          </a:ln>
        </p:spPr>
      </p:pic>
      <p:sp>
        <p:nvSpPr>
          <p:cNvPr id="495" name="Прямоугольник 7"/>
          <p:cNvSpPr/>
          <p:nvPr/>
        </p:nvSpPr>
        <p:spPr>
          <a:xfrm>
            <a:off x="6009840" y="4500720"/>
            <a:ext cx="28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імічно  не актив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8"/>
          <p:cNvSpPr/>
          <p:nvPr/>
        </p:nvSpPr>
        <p:spPr>
          <a:xfrm>
            <a:off x="5572080" y="528624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гко розчиняється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полярних розчинни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Заголовок 1" descr=""/>
          <p:cNvPicPr/>
          <p:nvPr/>
        </p:nvPicPr>
        <p:blipFill>
          <a:blip r:embed="rId1"/>
          <a:stretch/>
        </p:blipFill>
        <p:spPr>
          <a:xfrm>
            <a:off x="-6480" y="334800"/>
            <a:ext cx="8985240" cy="1513080"/>
          </a:xfrm>
          <a:prstGeom prst="rect">
            <a:avLst/>
          </a:prstGeom>
          <a:ln w="0">
            <a:noFill/>
          </a:ln>
        </p:spPr>
      </p:pic>
      <p:pic>
        <p:nvPicPr>
          <p:cNvPr id="499" name="Содержимое 4" descr="Kohlenstoffnanoroehre_Animation.gif"/>
          <p:cNvPicPr/>
          <p:nvPr/>
        </p:nvPicPr>
        <p:blipFill>
          <a:blip r:embed="rId2"/>
          <a:stretch/>
        </p:blipFill>
        <p:spPr>
          <a:xfrm>
            <a:off x="401760" y="1494000"/>
            <a:ext cx="2334960" cy="4608360"/>
          </a:xfrm>
          <a:prstGeom prst="rect">
            <a:avLst/>
          </a:prstGeom>
          <a:ln w="0">
            <a:noFill/>
          </a:ln>
        </p:spPr>
      </p:pic>
      <p:pic>
        <p:nvPicPr>
          <p:cNvPr id="500" name="Содержимое 5" descr="uglerodnye-nanotrubki.jpg"/>
          <p:cNvPicPr/>
          <p:nvPr/>
        </p:nvPicPr>
        <p:blipFill>
          <a:blip r:embed="rId3"/>
          <a:stretch/>
        </p:blipFill>
        <p:spPr>
          <a:xfrm>
            <a:off x="189000" y="4065480"/>
            <a:ext cx="3859200" cy="4803840"/>
          </a:xfrm>
          <a:prstGeom prst="rect">
            <a:avLst/>
          </a:prstGeom>
          <a:ln w="0">
            <a:noFill/>
          </a:ln>
        </p:spPr>
      </p:pic>
      <p:sp>
        <p:nvSpPr>
          <p:cNvPr id="501" name="TextBox 6"/>
          <p:cNvSpPr/>
          <p:nvPr/>
        </p:nvSpPr>
        <p:spPr>
          <a:xfrm>
            <a:off x="3000240" y="1357200"/>
            <a:ext cx="6143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АНОТРУБКИ ВУГЛЕЦЮ – трубчасті наноутворення вуглец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увають одно- і багатошаров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ловна особливість цих       вуглецевих нанострук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як і фулеренів)–їх каркасна форм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2">
            <a:hlinkClick r:id="" action="ppaction://hlinkshowjump?jump=nextslide"/>
          </p:cNvPr>
          <p:cNvSpPr/>
          <p:nvPr/>
        </p:nvSpPr>
        <p:spPr>
          <a:xfrm>
            <a:off x="7748640" y="636912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Заголовок 1" descr=""/>
          <p:cNvPicPr/>
          <p:nvPr/>
        </p:nvPicPr>
        <p:blipFill>
          <a:blip r:embed="rId1"/>
          <a:stretch/>
        </p:blipFill>
        <p:spPr>
          <a:xfrm>
            <a:off x="12600" y="324000"/>
            <a:ext cx="8985240" cy="1517400"/>
          </a:xfrm>
          <a:prstGeom prst="rect">
            <a:avLst/>
          </a:prstGeom>
          <a:ln w="0">
            <a:noFill/>
          </a:ln>
        </p:spPr>
      </p:pic>
      <p:pic>
        <p:nvPicPr>
          <p:cNvPr id="504" name="Содержимое 6" descr="Grafen_02.jpg"/>
          <p:cNvPicPr/>
          <p:nvPr/>
        </p:nvPicPr>
        <p:blipFill>
          <a:blip r:embed="rId2"/>
          <a:stretch/>
        </p:blipFill>
        <p:spPr>
          <a:xfrm>
            <a:off x="5425920" y="1206360"/>
            <a:ext cx="2913120" cy="1517760"/>
          </a:xfrm>
          <a:prstGeom prst="rect">
            <a:avLst/>
          </a:prstGeom>
          <a:ln w="0">
            <a:noFill/>
          </a:ln>
        </p:spPr>
      </p:pic>
      <p:pic>
        <p:nvPicPr>
          <p:cNvPr id="505" name="Содержимое 4" descr=""/>
          <p:cNvPicPr/>
          <p:nvPr/>
        </p:nvPicPr>
        <p:blipFill>
          <a:blip r:embed="rId3"/>
          <a:stretch/>
        </p:blipFill>
        <p:spPr>
          <a:xfrm>
            <a:off x="633240" y="1352520"/>
            <a:ext cx="3256200" cy="289548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5"/>
          <p:cNvSpPr/>
          <p:nvPr/>
        </p:nvSpPr>
        <p:spPr>
          <a:xfrm>
            <a:off x="214200" y="43578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ен – вигляд в електронному мікроскоп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Рисунок 7" descr="1340_3.jpg"/>
          <p:cNvPicPr/>
          <p:nvPr/>
        </p:nvPicPr>
        <p:blipFill>
          <a:blip r:embed="rId4"/>
          <a:stretch/>
        </p:blipFill>
        <p:spPr>
          <a:xfrm>
            <a:off x="4638600" y="2779560"/>
            <a:ext cx="4011840" cy="332928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8"/>
          <p:cNvSpPr/>
          <p:nvPr/>
        </p:nvSpPr>
        <p:spPr>
          <a:xfrm>
            <a:off x="4786200" y="614376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лоский шар графе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2">
            <a:hlinkClick r:id="" action="ppaction://hlinkshowjump?jump=nextslide"/>
          </p:cNvPr>
          <p:cNvSpPr/>
          <p:nvPr/>
        </p:nvSpPr>
        <p:spPr>
          <a:xfrm>
            <a:off x="285840" y="6357960"/>
            <a:ext cx="1008000" cy="317520"/>
          </a:xfrm>
          <a:custGeom>
            <a:avLst/>
            <a:gdLst>
              <a:gd name="textAreaLeft" fmla="*/ 20520 w 1008000"/>
              <a:gd name="textAreaRight" fmla="*/ 987480 w 100800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68518" h="21600">
                <a:moveTo>
                  <a:pt x="0" y="0"/>
                </a:moveTo>
                <a:lnTo>
                  <a:pt x="68518" y="0"/>
                </a:lnTo>
                <a:lnTo>
                  <a:pt x="68518" y="21600"/>
                </a:lnTo>
                <a:lnTo>
                  <a:pt x="0" y="21600"/>
                </a:lnTo>
                <a:close/>
              </a:path>
              <a:path fill="lightenLess" w="68518" h="21600">
                <a:moveTo>
                  <a:pt x="0" y="0"/>
                </a:moveTo>
                <a:lnTo>
                  <a:pt x="68518" y="0"/>
                </a:lnTo>
                <a:lnTo>
                  <a:pt x="67118" y="1400"/>
                </a:lnTo>
                <a:lnTo>
                  <a:pt x="1400" y="1400"/>
                </a:lnTo>
                <a:close/>
              </a:path>
              <a:path fill="darken" w="68518" h="21600">
                <a:moveTo>
                  <a:pt x="68518" y="0"/>
                </a:moveTo>
                <a:lnTo>
                  <a:pt x="68518" y="21600"/>
                </a:lnTo>
                <a:lnTo>
                  <a:pt x="67118" y="20200"/>
                </a:lnTo>
                <a:lnTo>
                  <a:pt x="67118" y="1400"/>
                </a:lnTo>
                <a:close/>
              </a:path>
              <a:path fill="darkenLess" w="68518" h="21600">
                <a:moveTo>
                  <a:pt x="68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18" y="20200"/>
                </a:lnTo>
                <a:close/>
              </a:path>
              <a:path fill="lighten" w="68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8518" h="21600">
                <a:moveTo>
                  <a:pt x="27253" y="3794"/>
                </a:moveTo>
                <a:lnTo>
                  <a:pt x="41266" y="10800"/>
                </a:lnTo>
                <a:lnTo>
                  <a:pt x="27253" y="17806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21:37:23Z</dcterms:created>
  <dc:creator>Наулм</dc:creator>
  <dc:description/>
  <dc:language>en-US</dc:language>
  <cp:lastModifiedBy>Будченко</cp:lastModifiedBy>
  <dcterms:modified xsi:type="dcterms:W3CDTF">2012-02-05T08:40:14Z</dcterms:modified>
  <cp:revision>58</cp:revision>
  <dc:subject/>
  <dc:title>Алотропні відозміни карбо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4f000000000001024140</vt:lpwstr>
  </property>
</Properties>
</file>