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D09-2C28-4DF2-939A-362F94D2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3A9-DD00-406C-BA84-78452475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0F8-838F-4CB3-8458-18A15C37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3448-B105-4DAF-AC92-6E8E3F34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48D-0867-4318-A68F-A5C44A96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845-B360-4CC3-93EA-B359A13B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96B-7D4C-41B0-8CEE-7FE333E0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CEB-CC99-4971-BBFC-73150999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4CA-E98B-4F8A-A00D-469BFD29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498-2313-4A80-92EC-42F89C06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39E-0AC2-406C-928E-36DF2E29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7740-A0E4-429B-BAAF-D9C90026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D1B5-B609-4D95-A16C-02E8AD4D86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360" y="620280"/>
            <a:ext cx="47527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Явище ізомерії. Структурна ізомерія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post019"/>
          <p:cNvPicPr/>
          <p:nvPr/>
        </p:nvPicPr>
        <p:blipFill>
          <a:blip r:embed="rId1"/>
          <a:stretch/>
        </p:blipFill>
        <p:spPr>
          <a:xfrm>
            <a:off x="324000" y="1557360"/>
            <a:ext cx="3517920" cy="504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066920" y="5084280"/>
            <a:ext cx="482436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знюки орга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чного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9"/>
          <p:cNvSpPr/>
          <p:nvPr/>
        </p:nvSpPr>
        <p:spPr>
          <a:xfrm>
            <a:off x="250920" y="836640"/>
            <a:ext cx="8496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мовлена ​​здатністю атома вуглецю утворювати різні типи зв'язкі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3963960" y="4079880"/>
            <a:ext cx="4680000" cy="1152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1155600" y="2422440"/>
            <a:ext cx="4680000" cy="1152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Ізомерія положення кратного зв'яз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1"/>
          <p:cNvPicPr/>
          <p:nvPr/>
        </p:nvPicPr>
        <p:blipFill>
          <a:blip r:embed="rId1"/>
          <a:srcRect l="51909" t="14614" r="9" b="-657"/>
          <a:stretch/>
        </p:blipFill>
        <p:spPr>
          <a:xfrm>
            <a:off x="3700440" y="4452840"/>
            <a:ext cx="4235400" cy="466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1"/>
          <p:cNvPicPr/>
          <p:nvPr/>
        </p:nvPicPr>
        <p:blipFill>
          <a:blip r:embed="rId2"/>
          <a:srcRect l="0" t="0" r="50583" b="-657"/>
          <a:stretch/>
        </p:blipFill>
        <p:spPr>
          <a:xfrm>
            <a:off x="1227240" y="2852640"/>
            <a:ext cx="4290840" cy="505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5477040" y="2133720"/>
            <a:ext cx="107928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100320" y="3863880"/>
            <a:ext cx="1079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468360" y="59500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 будуть ці речовини ізомер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1300320" y="245736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           2         3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4253040" y="415296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          2         3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1258920" y="2349360"/>
            <a:ext cx="576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7"/>
          <p:cNvSpPr/>
          <p:nvPr/>
        </p:nvSpPr>
        <p:spPr>
          <a:xfrm>
            <a:off x="5372280" y="4064040"/>
            <a:ext cx="576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755640" y="587700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им відрізняються ізомер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250920" y="5373720"/>
            <a:ext cx="8496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Ізомери відрізняються положенням кратного звяз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Ізомерія положення функціональної гру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N422"/>
          <p:cNvPicPr/>
          <p:nvPr/>
        </p:nvPicPr>
        <p:blipFill>
          <a:blip r:embed="rId1"/>
          <a:srcRect l="0" t="0" r="0" b="41113"/>
          <a:stretch/>
        </p:blipFill>
        <p:spPr>
          <a:xfrm>
            <a:off x="826920" y="3611520"/>
            <a:ext cx="7848720" cy="11858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468360" y="5715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 будуть ці речовини ізомер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39640" y="507204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м відрізняються формули ізомері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47640" y="1628640"/>
            <a:ext cx="8496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Ізомери відрізняються положенням функціональної груп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58920" y="4365720"/>
            <a:ext cx="1871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272360" y="4365720"/>
            <a:ext cx="1871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719280" y="3141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        3       2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5183280" y="3141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        3       2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5"/>
          <p:cNvSpPr/>
          <p:nvPr/>
        </p:nvSpPr>
        <p:spPr>
          <a:xfrm>
            <a:off x="5975280" y="3068640"/>
            <a:ext cx="576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6"/>
          <p:cNvSpPr/>
          <p:nvPr/>
        </p:nvSpPr>
        <p:spPr>
          <a:xfrm>
            <a:off x="2246400" y="3068640"/>
            <a:ext cx="576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2188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іжкласова ізомер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2"/>
          <p:cNvPicPr/>
          <p:nvPr/>
        </p:nvPicPr>
        <p:blipFill>
          <a:blip r:embed="rId1"/>
          <a:srcRect l="15517" t="41130" r="17237" b="170"/>
          <a:stretch/>
        </p:blipFill>
        <p:spPr>
          <a:xfrm>
            <a:off x="1476360" y="3141720"/>
            <a:ext cx="2808360" cy="14396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0"/>
          <p:cNvSpPr/>
          <p:nvPr/>
        </p:nvSpPr>
        <p:spPr>
          <a:xfrm>
            <a:off x="324000" y="5229360"/>
            <a:ext cx="8496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Ізомери відносяться до різних класів сполу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867280" y="1628640"/>
            <a:ext cx="1079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716360" y="3645000"/>
            <a:ext cx="1079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79640" y="242100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лк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4" descr="2"/>
          <p:cNvPicPr/>
          <p:nvPr/>
        </p:nvPicPr>
        <p:blipFill>
          <a:blip r:embed="rId2"/>
          <a:srcRect l="0" t="0" r="0" b="76575"/>
          <a:stretch/>
        </p:blipFill>
        <p:spPr>
          <a:xfrm>
            <a:off x="1116000" y="1701720"/>
            <a:ext cx="4175280" cy="5749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5"/>
          <p:cNvSpPr/>
          <p:nvPr/>
        </p:nvSpPr>
        <p:spPr>
          <a:xfrm>
            <a:off x="6227640" y="371628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иклоал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торова ізомер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ище, що полягає в існуванні ізомерів сполук, однакових за складом і молекулярною масою, але які розрізняються по розташуванню атомів в просторі та різних за властивос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сторові ізоме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Це речовини, молекули яких відрізняються положенням у просторі атомів або груп атом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ject 4" descr=""/>
          <p:cNvPicPr/>
          <p:nvPr/>
        </p:nvPicPr>
        <p:blipFill>
          <a:blip r:embed="rId1"/>
          <a:stretch/>
        </p:blipFill>
        <p:spPr>
          <a:xfrm>
            <a:off x="1116000" y="3573360"/>
            <a:ext cx="6692760" cy="21733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1403280" y="3213000"/>
            <a:ext cx="5905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осторові ізомери діе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300"/>
                            </p:stCondLst>
                            <p:childTnLst>
                              <p:par>
                                <p:cTn id="3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80640" y="35064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ометрична  ізомер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900000" y="170028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вление существования изомеров, одинаковых по составу и молекулярной массе, но различающихся по расположению атомов в пространстве и по свойств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2"/>
          <p:cNvGrpSpPr/>
          <p:nvPr/>
        </p:nvGrpSpPr>
        <p:grpSpPr>
          <a:xfrm>
            <a:off x="324000" y="1413000"/>
            <a:ext cx="8280000" cy="5040000"/>
            <a:chOff x="324000" y="1413000"/>
            <a:chExt cx="8280000" cy="5040000"/>
          </a:xfrm>
        </p:grpSpPr>
        <p:sp>
          <p:nvSpPr>
            <p:cNvPr id="173" name="AutoShape 13"/>
            <p:cNvSpPr/>
            <p:nvPr/>
          </p:nvSpPr>
          <p:spPr>
            <a:xfrm>
              <a:off x="324000" y="1413000"/>
              <a:ext cx="8280000" cy="504000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14" descr="Без-имени-2"/>
            <p:cNvPicPr/>
            <p:nvPr/>
          </p:nvPicPr>
          <p:blipFill>
            <a:blip r:embed="rId1"/>
            <a:stretch/>
          </p:blipFill>
          <p:spPr>
            <a:xfrm>
              <a:off x="1111320" y="3715920"/>
              <a:ext cx="2523960" cy="219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5" descr="Без-имени-3"/>
            <p:cNvPicPr/>
            <p:nvPr/>
          </p:nvPicPr>
          <p:blipFill>
            <a:blip r:embed="rId2"/>
            <a:srcRect l="0" t="0" r="10037" b="16073"/>
            <a:stretch/>
          </p:blipFill>
          <p:spPr>
            <a:xfrm>
              <a:off x="5055840" y="3714480"/>
              <a:ext cx="2602440" cy="201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6" descr="транс"/>
            <p:cNvPicPr/>
            <p:nvPr/>
          </p:nvPicPr>
          <p:blipFill>
            <a:blip r:embed="rId3"/>
            <a:stretch/>
          </p:blipFill>
          <p:spPr>
            <a:xfrm>
              <a:off x="5055840" y="1561680"/>
              <a:ext cx="3155040" cy="23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7" descr="цис"/>
            <p:cNvPicPr/>
            <p:nvPr/>
          </p:nvPicPr>
          <p:blipFill>
            <a:blip r:embed="rId4"/>
            <a:stretch/>
          </p:blipFill>
          <p:spPr>
            <a:xfrm rot="10800000">
              <a:off x="718200" y="1544040"/>
              <a:ext cx="3153240" cy="23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8"/>
            <p:cNvSpPr/>
            <p:nvPr/>
          </p:nvSpPr>
          <p:spPr>
            <a:xfrm>
              <a:off x="798480" y="5679000"/>
              <a:ext cx="31550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ільш актив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5292360" y="5679000"/>
              <a:ext cx="2602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Менш актив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20"/>
          <p:cNvSpPr/>
          <p:nvPr/>
        </p:nvSpPr>
        <p:spPr>
          <a:xfrm>
            <a:off x="4211640" y="4292640"/>
            <a:ext cx="1079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0640" y="344160"/>
            <a:ext cx="72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с-, транс - ізомер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 Стереоизомеры бутена-2 (22930 байт)"/>
          <p:cNvPicPr/>
          <p:nvPr/>
        </p:nvPicPr>
        <p:blipFill>
          <a:blip r:embed="rId1"/>
          <a:stretch/>
        </p:blipFill>
        <p:spPr>
          <a:xfrm>
            <a:off x="324000" y="3863880"/>
            <a:ext cx="8424720" cy="2660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Без-имени-2"/>
          <p:cNvPicPr/>
          <p:nvPr/>
        </p:nvPicPr>
        <p:blipFill>
          <a:blip r:embed="rId2"/>
          <a:srcRect l="0" t="10506" r="0" b="0"/>
          <a:stretch/>
        </p:blipFill>
        <p:spPr>
          <a:xfrm>
            <a:off x="1762200" y="1557360"/>
            <a:ext cx="2305080" cy="1824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Без-имени-3"/>
          <p:cNvPicPr/>
          <p:nvPr/>
        </p:nvPicPr>
        <p:blipFill>
          <a:blip r:embed="rId3"/>
          <a:srcRect l="0" t="9688" r="10037" b="16073"/>
          <a:stretch/>
        </p:blipFill>
        <p:spPr>
          <a:xfrm>
            <a:off x="5364000" y="1557360"/>
            <a:ext cx="2376720" cy="16574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4"/>
          <p:cNvSpPr/>
          <p:nvPr/>
        </p:nvSpPr>
        <p:spPr>
          <a:xfrm>
            <a:off x="1476360" y="3247920"/>
            <a:ext cx="288144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ис-із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5580000" y="3247920"/>
            <a:ext cx="237672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-із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403280" y="1890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тична ізомер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0" y="1267920"/>
            <a:ext cx="43149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вище при якому молекули сполук відображаються, як дзеркальне відображ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nim2331"/>
          <p:cNvPicPr/>
          <p:nvPr/>
        </p:nvPicPr>
        <p:blipFill>
          <a:blip r:embed="rId1"/>
          <a:stretch/>
        </p:blipFill>
        <p:spPr>
          <a:xfrm>
            <a:off x="0" y="981000"/>
            <a:ext cx="4932360" cy="3524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Оптические изомеры аланина (1888 байт)"/>
          <p:cNvPicPr/>
          <p:nvPr/>
        </p:nvPicPr>
        <p:blipFill>
          <a:blip r:embed="rId2"/>
          <a:stretch/>
        </p:blipFill>
        <p:spPr>
          <a:xfrm>
            <a:off x="2460600" y="4405320"/>
            <a:ext cx="6683400" cy="24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611280" y="77040"/>
            <a:ext cx="81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ке положення ТХБ ілюструє даний приклад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826920" y="1700280"/>
            <a:ext cx="7561440" cy="4680000"/>
            <a:chOff x="826920" y="1700280"/>
            <a:chExt cx="7561440" cy="4680000"/>
          </a:xfrm>
        </p:grpSpPr>
        <p:sp>
          <p:nvSpPr>
            <p:cNvPr id="46" name="AutoShape 6"/>
            <p:cNvSpPr/>
            <p:nvPr/>
          </p:nvSpPr>
          <p:spPr>
            <a:xfrm>
              <a:off x="826920" y="1700280"/>
              <a:ext cx="7561440" cy="468000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7"/>
            <p:cNvSpPr/>
            <p:nvPr/>
          </p:nvSpPr>
          <p:spPr>
            <a:xfrm>
              <a:off x="3562200" y="1916280"/>
              <a:ext cx="1657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36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ru-RU" sz="36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3600" spc="-1" strike="noStrike" baseline="-25000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ru-RU" sz="3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8"/>
            <p:cNvSpPr/>
            <p:nvPr/>
          </p:nvSpPr>
          <p:spPr>
            <a:xfrm>
              <a:off x="971280" y="2643120"/>
              <a:ext cx="360072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l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О –Н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9"/>
            <p:cNvSpPr/>
            <p:nvPr/>
          </p:nvSpPr>
          <p:spPr>
            <a:xfrm>
              <a:off x="4786200" y="2637000"/>
              <a:ext cx="345744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      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С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О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С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      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3"/>
            <p:cNvSpPr/>
            <p:nvPr/>
          </p:nvSpPr>
          <p:spPr>
            <a:xfrm>
              <a:off x="5003640" y="4724280"/>
              <a:ext cx="31687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газ,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Verdana"/>
                </a:rPr>
                <a:t>кип </a:t>
              </a: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= -24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не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озчинна у вод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 реагуе з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4"/>
            <p:cNvSpPr/>
            <p:nvPr/>
          </p:nvSpPr>
          <p:spPr>
            <a:xfrm>
              <a:off x="1116000" y="4724280"/>
              <a:ext cx="316872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рідина,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Verdana"/>
                </a:rPr>
                <a:t>кип </a:t>
              </a: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= 78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Розчинна у вод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реагуе з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2"/>
          <p:cNvGrpSpPr/>
          <p:nvPr/>
        </p:nvGrpSpPr>
        <p:grpSpPr>
          <a:xfrm>
            <a:off x="1042920" y="1700280"/>
            <a:ext cx="7561440" cy="4680000"/>
            <a:chOff x="1042920" y="1700280"/>
            <a:chExt cx="7561440" cy="4680000"/>
          </a:xfrm>
        </p:grpSpPr>
        <p:sp>
          <p:nvSpPr>
            <p:cNvPr id="53" name="AutoShape 5"/>
            <p:cNvSpPr/>
            <p:nvPr/>
          </p:nvSpPr>
          <p:spPr>
            <a:xfrm>
              <a:off x="1042920" y="1700280"/>
              <a:ext cx="7561440" cy="468000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6"/>
            <p:cNvSpPr/>
            <p:nvPr/>
          </p:nvSpPr>
          <p:spPr>
            <a:xfrm>
              <a:off x="3778200" y="1916280"/>
              <a:ext cx="1657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36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ru-RU" sz="36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3600" spc="-1" strike="noStrike" baseline="-25000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1476360" y="3051000"/>
              <a:ext cx="273528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5292720" y="3044880"/>
              <a:ext cx="273528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=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 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9"/>
            <p:cNvSpPr/>
            <p:nvPr/>
          </p:nvSpPr>
          <p:spPr>
            <a:xfrm>
              <a:off x="5651640" y="2852640"/>
              <a:ext cx="2160360" cy="230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0"/>
            <p:cNvSpPr/>
            <p:nvPr/>
          </p:nvSpPr>
          <p:spPr>
            <a:xfrm flipH="1">
              <a:off x="5651280" y="2781360"/>
              <a:ext cx="1873080" cy="23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4284720" y="3284640"/>
              <a:ext cx="574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ff0000"/>
                  </a:solidFill>
                  <a:latin typeface="Verdana"/>
                </a:rPr>
                <a:t>!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4"/>
          <p:cNvSpPr/>
          <p:nvPr/>
        </p:nvSpPr>
        <p:spPr>
          <a:xfrm>
            <a:off x="539640" y="188280"/>
            <a:ext cx="81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ке положення ТХБ ілюструє даний приклад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177336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72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Ізомери - речовини, що мають однаковий якісний і кількісний склад, але різні будову і властивост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ject 4" descr=""/>
          <p:cNvPicPr/>
          <p:nvPr/>
        </p:nvPicPr>
        <p:blipFill>
          <a:blip r:embed="rId1"/>
          <a:srcRect l="0" t="0" r="-13" b="448"/>
          <a:stretch/>
        </p:blipFill>
        <p:spPr>
          <a:xfrm>
            <a:off x="900000" y="4292640"/>
            <a:ext cx="6985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6"/>
          <p:cNvSpPr/>
          <p:nvPr/>
        </p:nvSpPr>
        <p:spPr>
          <a:xfrm>
            <a:off x="1044720" y="3860640"/>
            <a:ext cx="2806560" cy="20876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ядок визначення ізомер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0"/>
          <p:cNvGrpSpPr/>
          <p:nvPr/>
        </p:nvGrpSpPr>
        <p:grpSpPr>
          <a:xfrm>
            <a:off x="468360" y="1773360"/>
            <a:ext cx="4679640" cy="1136160"/>
            <a:chOff x="468360" y="1773360"/>
            <a:chExt cx="4679640" cy="1136160"/>
          </a:xfrm>
        </p:grpSpPr>
        <p:sp>
          <p:nvSpPr>
            <p:cNvPr id="67" name="AutoShape 4"/>
            <p:cNvSpPr/>
            <p:nvPr/>
          </p:nvSpPr>
          <p:spPr>
            <a:xfrm>
              <a:off x="468360" y="1773360"/>
              <a:ext cx="4679640" cy="11361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8" descr=""/>
            <p:cNvPicPr/>
            <p:nvPr/>
          </p:nvPicPr>
          <p:blipFill>
            <a:blip r:embed="rId1">
              <a:lum contrast="6000"/>
            </a:blip>
            <a:srcRect l="533" t="0" r="36" b="84557"/>
            <a:stretch/>
          </p:blipFill>
          <p:spPr>
            <a:xfrm>
              <a:off x="594720" y="1912680"/>
              <a:ext cx="4405320" cy="83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19"/>
          <p:cNvGrpSpPr/>
          <p:nvPr/>
        </p:nvGrpSpPr>
        <p:grpSpPr>
          <a:xfrm>
            <a:off x="4932360" y="3068640"/>
            <a:ext cx="3708360" cy="1091880"/>
            <a:chOff x="4932360" y="3068640"/>
            <a:chExt cx="3708360" cy="1091880"/>
          </a:xfrm>
        </p:grpSpPr>
        <p:sp>
          <p:nvSpPr>
            <p:cNvPr id="70" name="AutoShape 7"/>
            <p:cNvSpPr/>
            <p:nvPr/>
          </p:nvSpPr>
          <p:spPr>
            <a:xfrm>
              <a:off x="4932360" y="3068640"/>
              <a:ext cx="3708360" cy="10918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5" descr=""/>
            <p:cNvPicPr/>
            <p:nvPr/>
          </p:nvPicPr>
          <p:blipFill>
            <a:blip r:embed="rId2">
              <a:lum contrast="6000"/>
            </a:blip>
            <a:srcRect l="0" t="33579" r="21114" b="54865"/>
            <a:stretch/>
          </p:blipFill>
          <p:spPr>
            <a:xfrm>
              <a:off x="5012280" y="3353760"/>
              <a:ext cx="3492720" cy="6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18"/>
          <p:cNvGrpSpPr/>
          <p:nvPr/>
        </p:nvGrpSpPr>
        <p:grpSpPr>
          <a:xfrm>
            <a:off x="5724360" y="4437000"/>
            <a:ext cx="2736720" cy="1871640"/>
            <a:chOff x="5724360" y="4437000"/>
            <a:chExt cx="2736720" cy="1871640"/>
          </a:xfrm>
        </p:grpSpPr>
        <p:sp>
          <p:nvSpPr>
            <p:cNvPr id="73" name="AutoShape 6"/>
            <p:cNvSpPr/>
            <p:nvPr/>
          </p:nvSpPr>
          <p:spPr>
            <a:xfrm>
              <a:off x="5724360" y="4437000"/>
              <a:ext cx="2736720" cy="18716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17" descr=""/>
            <p:cNvPicPr/>
            <p:nvPr/>
          </p:nvPicPr>
          <p:blipFill>
            <a:blip r:embed="rId3">
              <a:lum contrast="6000"/>
            </a:blip>
            <a:srcRect l="45100" t="75467" r="170" b="0"/>
            <a:stretch/>
          </p:blipFill>
          <p:spPr>
            <a:xfrm>
              <a:off x="5878080" y="4781160"/>
              <a:ext cx="24480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Picture 24" descr=""/>
          <p:cNvPicPr/>
          <p:nvPr/>
        </p:nvPicPr>
        <p:blipFill>
          <a:blip r:embed="rId4"/>
          <a:stretch/>
        </p:blipFill>
        <p:spPr>
          <a:xfrm>
            <a:off x="885960" y="3716280"/>
            <a:ext cx="2114280" cy="21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7"/>
          <p:cNvSpPr/>
          <p:nvPr/>
        </p:nvSpPr>
        <p:spPr>
          <a:xfrm>
            <a:off x="5580000" y="4437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      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1116000" y="4976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147636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1116000" y="378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5651640" y="1844640"/>
            <a:ext cx="129672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5580000" y="6021360"/>
            <a:ext cx="129708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3132000" y="4149720"/>
            <a:ext cx="122400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7596360" y="2708280"/>
            <a:ext cx="1223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35"/>
          <p:cNvSpPr txBox="1"/>
          <p:nvPr/>
        </p:nvSpPr>
        <p:spPr>
          <a:xfrm>
            <a:off x="5724360" y="2133720"/>
            <a:ext cx="281484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ізомер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Oval 36"/>
          <p:cNvSpPr/>
          <p:nvPr/>
        </p:nvSpPr>
        <p:spPr>
          <a:xfrm>
            <a:off x="2195640" y="5013360"/>
            <a:ext cx="1152360" cy="1052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8"/>
          <p:cNvSpPr/>
          <p:nvPr/>
        </p:nvSpPr>
        <p:spPr>
          <a:xfrm>
            <a:off x="6516720" y="5229360"/>
            <a:ext cx="1152360" cy="1052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34416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и ізомер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6"/>
          <p:cNvGrpSpPr/>
          <p:nvPr/>
        </p:nvGrpSpPr>
        <p:grpSpPr>
          <a:xfrm>
            <a:off x="-36360" y="1844640"/>
            <a:ext cx="4176720" cy="4753080"/>
            <a:chOff x="-36360" y="1844640"/>
            <a:chExt cx="4176720" cy="4753080"/>
          </a:xfrm>
        </p:grpSpPr>
        <p:sp>
          <p:nvSpPr>
            <p:cNvPr id="89" name="AutoShape 24"/>
            <p:cNvSpPr/>
            <p:nvPr/>
          </p:nvSpPr>
          <p:spPr>
            <a:xfrm>
              <a:off x="250920" y="1844640"/>
              <a:ext cx="3889440" cy="47530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6"/>
            <p:cNvSpPr/>
            <p:nvPr/>
          </p:nvSpPr>
          <p:spPr>
            <a:xfrm>
              <a:off x="-36360" y="21286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труктурн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7"/>
            <p:cNvSpPr/>
            <p:nvPr/>
          </p:nvSpPr>
          <p:spPr>
            <a:xfrm>
              <a:off x="755640" y="2852640"/>
              <a:ext cx="2255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Карбонового скелет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971640" y="4221000"/>
              <a:ext cx="210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оложенн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324000" y="5516640"/>
              <a:ext cx="304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Міжклас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"/>
            <p:cNvSpPr/>
            <p:nvPr/>
          </p:nvSpPr>
          <p:spPr>
            <a:xfrm>
              <a:off x="3141720" y="243828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1"/>
            <p:cNvSpPr/>
            <p:nvPr/>
          </p:nvSpPr>
          <p:spPr>
            <a:xfrm>
              <a:off x="3675240" y="2438280"/>
              <a:ext cx="0" cy="3429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2"/>
            <p:cNvSpPr/>
            <p:nvPr/>
          </p:nvSpPr>
          <p:spPr>
            <a:xfrm flipH="1">
              <a:off x="3205080" y="3276720"/>
              <a:ext cx="470160" cy="7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3"/>
            <p:cNvSpPr/>
            <p:nvPr/>
          </p:nvSpPr>
          <p:spPr>
            <a:xfrm flipH="1">
              <a:off x="3205080" y="4495680"/>
              <a:ext cx="470160" cy="12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4"/>
            <p:cNvSpPr/>
            <p:nvPr/>
          </p:nvSpPr>
          <p:spPr>
            <a:xfrm flipH="1">
              <a:off x="3131640" y="5867280"/>
              <a:ext cx="543240" cy="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7"/>
          <p:cNvGrpSpPr/>
          <p:nvPr/>
        </p:nvGrpSpPr>
        <p:grpSpPr>
          <a:xfrm>
            <a:off x="4356000" y="1844640"/>
            <a:ext cx="4643640" cy="4753080"/>
            <a:chOff x="4356000" y="1844640"/>
            <a:chExt cx="4643640" cy="4753080"/>
          </a:xfrm>
        </p:grpSpPr>
        <p:sp>
          <p:nvSpPr>
            <p:cNvPr id="100" name="AutoShape 25"/>
            <p:cNvSpPr/>
            <p:nvPr/>
          </p:nvSpPr>
          <p:spPr>
            <a:xfrm>
              <a:off x="4356000" y="1844640"/>
              <a:ext cx="4608720" cy="47530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6"/>
            <p:cNvSpPr/>
            <p:nvPr/>
          </p:nvSpPr>
          <p:spPr>
            <a:xfrm>
              <a:off x="5189400" y="220968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Просторова (стереоізомерія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7"/>
            <p:cNvSpPr/>
            <p:nvPr/>
          </p:nvSpPr>
          <p:spPr>
            <a:xfrm>
              <a:off x="5189400" y="33526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Геометричн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8"/>
            <p:cNvSpPr/>
            <p:nvPr/>
          </p:nvSpPr>
          <p:spPr>
            <a:xfrm>
              <a:off x="5189400" y="4495680"/>
              <a:ext cx="31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Оптич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3"/>
            <p:cNvGrpSpPr/>
            <p:nvPr/>
          </p:nvGrpSpPr>
          <p:grpSpPr>
            <a:xfrm>
              <a:off x="4571640" y="2514600"/>
              <a:ext cx="685800" cy="2286000"/>
              <a:chOff x="4571640" y="2514600"/>
              <a:chExt cx="685800" cy="2286000"/>
            </a:xfrm>
          </p:grpSpPr>
          <p:sp>
            <p:nvSpPr>
              <p:cNvPr id="105" name="Line 19"/>
              <p:cNvSpPr/>
              <p:nvPr/>
            </p:nvSpPr>
            <p:spPr>
              <a:xfrm flipH="1">
                <a:off x="4571640" y="2514600"/>
                <a:ext cx="6858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0"/>
              <p:cNvSpPr/>
              <p:nvPr/>
            </p:nvSpPr>
            <p:spPr>
              <a:xfrm>
                <a:off x="4572000" y="2514600"/>
                <a:ext cx="0" cy="2286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1"/>
              <p:cNvSpPr/>
              <p:nvPr/>
            </p:nvSpPr>
            <p:spPr>
              <a:xfrm>
                <a:off x="4572000" y="3657600"/>
                <a:ext cx="5335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2"/>
              <p:cNvSpPr/>
              <p:nvPr/>
            </p:nvSpPr>
            <p:spPr>
              <a:xfrm>
                <a:off x="4572000" y="4800600"/>
                <a:ext cx="5335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на ізомер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900000" y="1125360"/>
            <a:ext cx="71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ище, при якому існують сполуки, однакові за складом і молекулярною масою, але розрізняються за будовою і властивостями- ізомер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7"/>
          <p:cNvSpPr/>
          <p:nvPr/>
        </p:nvSpPr>
        <p:spPr>
          <a:xfrm>
            <a:off x="826920" y="378612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мовлена ​​здатністю атома карбону утворювати різного роду ланцюг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1285920" y="4929120"/>
            <a:ext cx="4214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м відрізняються формули ізомері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7280" y="333000"/>
            <a:ext cx="817236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Ізомерія карбонового скеле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755640" y="1268280"/>
            <a:ext cx="38876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Ізомери відрізняються типом карбонового скелет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932360" y="3068640"/>
            <a:ext cx="3708360" cy="1091880"/>
            <a:chOff x="4932360" y="3068640"/>
            <a:chExt cx="3708360" cy="1091880"/>
          </a:xfrm>
        </p:grpSpPr>
        <p:sp>
          <p:nvSpPr>
            <p:cNvPr id="116" name="AutoShape 18"/>
            <p:cNvSpPr/>
            <p:nvPr/>
          </p:nvSpPr>
          <p:spPr>
            <a:xfrm>
              <a:off x="4932360" y="3068640"/>
              <a:ext cx="3708360" cy="10918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19" descr=""/>
            <p:cNvPicPr/>
            <p:nvPr/>
          </p:nvPicPr>
          <p:blipFill>
            <a:blip r:embed="rId1">
              <a:lum contrast="6000"/>
            </a:blip>
            <a:srcRect l="0" t="33579" r="21114" b="54865"/>
            <a:stretch/>
          </p:blipFill>
          <p:spPr>
            <a:xfrm>
              <a:off x="5012280" y="3353760"/>
              <a:ext cx="3492720" cy="6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20"/>
          <p:cNvGrpSpPr/>
          <p:nvPr/>
        </p:nvGrpSpPr>
        <p:grpSpPr>
          <a:xfrm>
            <a:off x="5724360" y="4437000"/>
            <a:ext cx="2736720" cy="1871640"/>
            <a:chOff x="5724360" y="4437000"/>
            <a:chExt cx="2736720" cy="1871640"/>
          </a:xfrm>
        </p:grpSpPr>
        <p:sp>
          <p:nvSpPr>
            <p:cNvPr id="119" name="AutoShape 21"/>
            <p:cNvSpPr/>
            <p:nvPr/>
          </p:nvSpPr>
          <p:spPr>
            <a:xfrm>
              <a:off x="5724360" y="4437000"/>
              <a:ext cx="2736720" cy="18716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22" descr=""/>
            <p:cNvPicPr/>
            <p:nvPr/>
          </p:nvPicPr>
          <p:blipFill>
            <a:blip r:embed="rId2">
              <a:lum contrast="6000"/>
            </a:blip>
            <a:srcRect l="45100" t="75467" r="170" b="0"/>
            <a:stretch/>
          </p:blipFill>
          <p:spPr>
            <a:xfrm>
              <a:off x="5878080" y="4781160"/>
              <a:ext cx="2448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WordArt 25"/>
          <p:cNvSpPr txBox="1"/>
          <p:nvPr/>
        </p:nvSpPr>
        <p:spPr>
          <a:xfrm>
            <a:off x="5508720" y="1897200"/>
            <a:ext cx="281448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ізомер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5580000" y="6021360"/>
            <a:ext cx="129708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7596360" y="2708280"/>
            <a:ext cx="1223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Ізомерія карбонового скел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608 байт"/>
          <p:cNvPicPr/>
          <p:nvPr/>
        </p:nvPicPr>
        <p:blipFill>
          <a:blip r:embed="rId1"/>
          <a:stretch/>
        </p:blipFill>
        <p:spPr>
          <a:xfrm>
            <a:off x="590400" y="2305080"/>
            <a:ext cx="7963200" cy="22716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5">
            <a:hlinkClick r:id="rId2" action="ppaction://hlinksldjump"/>
          </p:cNvPr>
          <p:cNvSpPr/>
          <p:nvPr/>
        </p:nvSpPr>
        <p:spPr>
          <a:xfrm>
            <a:off x="7924680" y="60958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</p:cNvPr>
          <p:cNvSpPr/>
          <p:nvPr/>
        </p:nvSpPr>
        <p:spPr>
          <a:xfrm>
            <a:off x="84582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>
            <a:hlinkClick r:id="" action="ppaction://hlinkshowjump?jump=previousslide"/>
          </p:cNvPr>
          <p:cNvSpPr/>
          <p:nvPr/>
        </p:nvSpPr>
        <p:spPr>
          <a:xfrm>
            <a:off x="739152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8:43:20Z</dcterms:created>
  <dc:creator>Вика</dc:creator>
  <dc:description/>
  <dc:language>en-US</dc:language>
  <cp:lastModifiedBy>Будченко</cp:lastModifiedBy>
  <dcterms:modified xsi:type="dcterms:W3CDTF">2012-02-04T18:46:47Z</dcterms:modified>
  <cp:revision>9</cp:revision>
  <dc:subject/>
  <dc:title>Явище ізомерії. Структурна ізомері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8000000000001024140</vt:lpwstr>
  </property>
</Properties>
</file>