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gif" ContentType="image/gif"/>
  <Override PartName="/ppt/media/image12.gif" ContentType="image/gi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D3EF-6C66-4E5F-A1FE-0DCF8BD5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07C3-F042-4331-B3B9-EB4A9E47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BD27-6F02-46C6-A7A1-7266E922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4C36-F514-4891-92D9-77D41958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106E-DFEA-43EF-825C-8C5EB637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87CD-BE13-4350-A590-A68654FE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1A0D-F68B-46A6-83BB-F4A7D23A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0E47-E2D2-4A4B-9DB2-EDF15118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6BDD-446A-4E53-8F55-818B1960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9AFC-BA28-4918-9654-0C3E49D0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DE9A-749B-40B4-B1B0-5814E783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27C1-D62F-4F5A-A338-821A08BD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3BF0-CD74-434B-BA3C-23DA0F4A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DA54-B51D-4140-9B8A-8EFB2C7A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C3F0-6B8F-44B9-80C4-0584F921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E411-9696-4286-9C91-CD9189EB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1BDF-939A-40F8-B6CF-B9C8C30C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55E9-E18A-425A-B897-ED1957B7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54A20-E490-4A12-ACAE-0A5F7E22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268A-CA57-41AF-A86B-30842A79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7823-E75F-4E26-81EE-34DC2040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50C6-8BB1-46B6-8675-43241FDF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30A9-4BFA-46AD-BD25-01E9B269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20D7-10CD-473A-B68A-5C9B8C69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5B92-1BA6-481C-BDA6-50FA97B668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850D-0CBB-475B-8E72-444B1DCE21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7160" y="4357800"/>
            <a:ext cx="7500960" cy="18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uk-UA" sz="2800" spc="-1" strike="noStrike">
                <a:solidFill>
                  <a:srgbClr val="00007d"/>
                </a:solidFill>
                <a:latin typeface="Arial"/>
              </a:rPr>
              <a:t>Органічні речовини в живій природі. Теорія хімічної будови органічних сполук О.М.Бутлерова.</a:t>
            </a:r>
            <a:br>
              <a:rPr sz="2800"/>
            </a:br>
            <a:r>
              <a:rPr b="1" i="1" lang="uk-UA" sz="2800" spc="-1" strike="noStrike">
                <a:solidFill>
                  <a:srgbClr val="00007d"/>
                </a:solidFill>
                <a:latin typeface="Arial"/>
              </a:rPr>
              <a:t> Ізомерія органічних сполук. </a:t>
            </a:r>
            <a:br>
              <a:rPr sz="4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922480" cy="3933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3000240" y="1714680"/>
            <a:ext cx="564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«Не можна не дивуватись, оглядаючись назад, який гігантський крок зробила органічна хімія за час свого існування. Незрівнянно більше, однак, чекає на неї попереду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О. М. Бутл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71680" y="1214280"/>
            <a:ext cx="7929360" cy="5286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Arial"/>
              </a:rPr>
              <a:t>МОЛЕКУЛА ІНСУЛИН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bestreferat.ru/images/paper/93/14/2751493.jpeg"/>
          <p:cNvPicPr/>
          <p:nvPr/>
        </p:nvPicPr>
        <p:blipFill>
          <a:blip r:embed="rId1"/>
          <a:stretch/>
        </p:blipFill>
        <p:spPr>
          <a:xfrm>
            <a:off x="2050920" y="1700280"/>
            <a:ext cx="4705560" cy="3467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1835280" y="83664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МОГЛОБ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bestreferat.ru/images/paper/93/14/2751493.jpeg"/>
          <p:cNvPicPr/>
          <p:nvPr/>
        </p:nvPicPr>
        <p:blipFill>
          <a:blip r:embed="rId2"/>
          <a:stretch/>
        </p:blipFill>
        <p:spPr>
          <a:xfrm>
            <a:off x="2071800" y="1714680"/>
            <a:ext cx="4705200" cy="3466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http://www.bestreferat.ru/images/paper/93/14/2751493.jpeg"/>
          <p:cNvPicPr/>
          <p:nvPr/>
        </p:nvPicPr>
        <p:blipFill>
          <a:blip r:embed="rId3"/>
          <a:stretch/>
        </p:blipFill>
        <p:spPr>
          <a:xfrm>
            <a:off x="2224080" y="1866960"/>
            <a:ext cx="4705200" cy="3467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http://www.bestreferat.ru/images/paper/93/14/2751493.jpeg"/>
          <p:cNvPicPr/>
          <p:nvPr/>
        </p:nvPicPr>
        <p:blipFill>
          <a:blip r:embed="rId4"/>
          <a:stretch/>
        </p:blipFill>
        <p:spPr>
          <a:xfrm>
            <a:off x="1928880" y="1643040"/>
            <a:ext cx="52862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chemlib.ru/books/item/f00/s00/z0000000/pic/000074.jpg"/>
          <p:cNvPicPr/>
          <p:nvPr/>
        </p:nvPicPr>
        <p:blipFill>
          <a:blip r:embed="rId1"/>
          <a:stretch/>
        </p:blipFill>
        <p:spPr>
          <a:xfrm>
            <a:off x="900000" y="938160"/>
            <a:ext cx="6767640" cy="57531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"/>
          <p:cNvSpPr/>
          <p:nvPr/>
        </p:nvSpPr>
        <p:spPr>
          <a:xfrm>
            <a:off x="2556000" y="476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ХЛОРОФИ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him.1september.ru/2009/20/4-2.jpg"/>
          <p:cNvPicPr/>
          <p:nvPr/>
        </p:nvPicPr>
        <p:blipFill>
          <a:blip r:embed="rId1"/>
          <a:stretch/>
        </p:blipFill>
        <p:spPr>
          <a:xfrm>
            <a:off x="1979640" y="1109520"/>
            <a:ext cx="5184720" cy="50929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195640" y="40464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Электропроводящие пол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58920" y="836280"/>
            <a:ext cx="577980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ідріх Велер в одному з листів до Йенс Берцеліус так описував органічну хімі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«Органічна хімія може зараз кого завгодно звести з розуму. Вона здається мені дрімучим лісом, повним дивних речей, безмежної хащі, з якої не можна вибратися, куди не насмілюєшся проникнути ... 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2654280" cy="363852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4652640"/>
            <a:ext cx="2819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Arial"/>
              </a:rPr>
              <a:t>Фрідріх Ве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cc"/>
                </a:solidFill>
                <a:latin typeface="Times New Roman"/>
              </a:rPr>
              <a:t>1800-18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1b3"/>
          <p:cNvPicPr/>
          <p:nvPr/>
        </p:nvPicPr>
        <p:blipFill>
          <a:blip r:embed="rId2"/>
          <a:stretch/>
        </p:blipFill>
        <p:spPr>
          <a:xfrm>
            <a:off x="324000" y="5818320"/>
            <a:ext cx="3741480" cy="103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132000" y="549000"/>
            <a:ext cx="56311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Англійський вчений Едуард Франкланд, спираючись на ідеї атомістики, в 1853 р. ввів понятт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алентніс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4437000"/>
            <a:ext cx="28958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Э. Франкла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1825-1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50920" y="333360"/>
            <a:ext cx="2616120" cy="363060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127" name="Rectangle 6"/>
          <p:cNvSpPr/>
          <p:nvPr/>
        </p:nvSpPr>
        <p:spPr>
          <a:xfrm>
            <a:off x="3276720" y="3200400"/>
            <a:ext cx="55623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3352680" y="3352680"/>
            <a:ext cx="5562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365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987280" y="2923920"/>
            <a:ext cx="5770440" cy="3276360"/>
          </a:xfrm>
          <a:prstGeom prst="rect">
            <a:avLst/>
          </a:prstGeom>
          <a:noFill/>
          <a:ln w="57240">
            <a:solidFill>
              <a:srgbClr val="cc3399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алентність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це властивість атомів хімічних елементів утворювати хімічні зв'язки. Вона визначає число хімічних зв'язків, якими даний атом сполучений з іншими атомами в молекулі.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500040"/>
            <a:ext cx="821844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Теорія хімічної будови - результат узагальнення ідей видатних вчених-органіків з трьох європейських країн: німц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Ф. Кекуле</a:t>
            </a: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, англійц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. Купера</a:t>
            </a: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 та росія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. Бутлерова</a:t>
            </a:r>
            <a:r>
              <a:rPr b="1" lang="ru-RU" sz="2400" spc="-1" strike="noStrike">
                <a:solidFill>
                  <a:srgbClr val="9999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0" y="4357800"/>
            <a:ext cx="4496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6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. А. М. Бутлеров створив наукову теорію будови органічних речов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butlerov"/>
          <p:cNvPicPr/>
          <p:nvPr/>
        </p:nvPicPr>
        <p:blipFill>
          <a:blip r:embed="rId1"/>
          <a:srcRect l="0" t="0" r="353" b="0"/>
          <a:stretch/>
        </p:blipFill>
        <p:spPr>
          <a:xfrm>
            <a:off x="7010280" y="3789360"/>
            <a:ext cx="1570320" cy="223056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pic>
        <p:nvPicPr>
          <p:cNvPr id="133" name="Picture 5" descr="kekule"/>
          <p:cNvPicPr/>
          <p:nvPr/>
        </p:nvPicPr>
        <p:blipFill>
          <a:blip r:embed="rId2"/>
          <a:stretch/>
        </p:blipFill>
        <p:spPr>
          <a:xfrm>
            <a:off x="287280" y="3716280"/>
            <a:ext cx="1594080" cy="230364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134" name="Rectangle 6"/>
          <p:cNvSpPr/>
          <p:nvPr/>
        </p:nvSpPr>
        <p:spPr>
          <a:xfrm>
            <a:off x="2050920" y="2214720"/>
            <a:ext cx="6477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5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. Ф. Кекуле відніс вуглець до чотирьохвалентних елемен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58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. А. Купер зазначив, що атоми вуглецю здатні з'єднатисяся один з одним в різні ланцюг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0880" y="601992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Ф. Кек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1829-1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6477120" y="6019920"/>
            <a:ext cx="243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А.М.Бутле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1828-18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umnik"/>
          <p:cNvPicPr/>
          <p:nvPr/>
        </p:nvPicPr>
        <p:blipFill>
          <a:blip r:embed="rId3"/>
          <a:stretch/>
        </p:blipFill>
        <p:spPr>
          <a:xfrm>
            <a:off x="3924360" y="5805360"/>
            <a:ext cx="78264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Учитель"/>
          <p:cNvPicPr/>
          <p:nvPr/>
        </p:nvPicPr>
        <p:blipFill>
          <a:blip r:embed="rId4"/>
          <a:stretch/>
        </p:blipFill>
        <p:spPr>
          <a:xfrm>
            <a:off x="457200" y="2209680"/>
            <a:ext cx="1600200" cy="13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8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8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18:39:35Z</dcterms:created>
  <dc:creator>Вика</dc:creator>
  <dc:description/>
  <dc:language>en-US</dc:language>
  <cp:lastModifiedBy>Будченко</cp:lastModifiedBy>
  <dcterms:modified xsi:type="dcterms:W3CDTF">2012-02-09T20:57:56Z</dcterms:modified>
  <cp:revision>21</cp:revision>
  <dc:subject/>
  <dc:title>Теорія як вища форма наукових знань. Теорія хімічної будови органічних сполук О.М. Бутлерова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5000000000001024140</vt:lpwstr>
  </property>
</Properties>
</file>