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626-8BC2-4428-9AE6-CF218A3A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B5D-55F5-4E5A-85FE-54141A6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F422D-12CF-4B92-A8DB-16AB8384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A1FBF-C1CD-449F-A106-8AC221F1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C7092-BFE9-446F-A18C-1BE0EE1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0E2C2-0592-43DC-841B-1DB0F0B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4BA61-3E44-450E-A420-2DF3AB7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EA6CE-4EDF-41D7-AF2B-8097FC7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19B3-7407-426D-90A5-408B600A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E017D-6147-48B5-BC3A-95E85158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8DE43-A9A9-4480-9722-8587874A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11AD8-8942-46A0-9964-1295B0D8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6A9-F49C-46E8-8F55-F9BBE4B4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E6D79-39C4-4614-A948-EB60AE7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8CCD2-7C39-478C-9937-87773D07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689B4-92D2-486B-9393-FE9E6ABD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2C05E-AF31-4A1F-92A0-9892354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F5C8E-0A1B-493B-8A7E-1E2EC31A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2A31-D5EC-409D-A7D5-7201179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A6809-F111-406C-A895-76B2F88A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2FC89-2C0B-414D-9C90-C6856E6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33B24-12F6-40AE-9A86-12DDC88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97BB1-4C97-4517-A3E5-E6D586C8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0CA-35B9-4413-9B08-E06E335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CF86E-861F-4C23-83F3-CA74B21E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2796-99DA-41C9-97B8-4307A6E5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F8AD-8936-416D-98AA-46A9FA7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92F-8115-43DA-AC1A-CEFABE97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F5C-E567-4225-A4EA-A63179B5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F9D-7EEE-462A-9B09-F0B309D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1F51-0A01-4B1B-904D-6AC2572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EB2B-22DC-4F48-9E17-D80BA99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709-9D1A-43D6-86A2-00407DD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A968-2894-4023-9B8E-0BA180F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62B-EA18-4582-BCD0-4D4125D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314-BC64-40A0-A06E-B51DE87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60F-4FFE-41EA-93B9-BAD48668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516-FB3A-4B83-B795-688B4D79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BB3F-4F14-4908-9CBB-3C2B1EC4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D0D7-7890-4D9C-AE3E-A3D1398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B08E-4C14-4236-B264-C9D89F3A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EF27-6E0B-47D2-9775-E3E2054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AD51-3FCC-4994-B8DE-9BBBC88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285-F633-4485-A7C8-4777B99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B6D9-481F-42C0-92A7-6AEFD01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CD97-1F22-463D-AD58-20BCB88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23A5-7A57-4147-9259-5BF1ED4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33E0-74A8-4C8C-AF17-9EF00BA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2366-3397-47D7-89FC-C2EB047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6DE7-3F4A-4E18-80E3-384B752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D035-727B-4A8C-9E71-E4DE1FD6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D3BB-735D-44D4-A4A2-3467BB6C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B4CD-B40B-4761-883D-C59B0C0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2366-8711-4D20-83D7-0415A8F5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BD3-04C0-4D37-85C2-25A6870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C9ED-13B7-4203-8DF5-F1C7B17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ED02-D71A-4169-B495-E501CDA8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5DD8-8D10-416C-BC75-44B8321C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B659-25C3-4246-912F-AA0F897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C712-499E-47F2-9E09-70E7819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D339-F53F-49ED-992C-0C998D5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C3DB-F946-4D0C-AEB5-C739B8E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C6E6-AE64-4508-9D39-3CC04A11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02AA-1965-4F4F-AE34-68F0FDA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7921-C8E9-413C-93D7-837512A8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239-3E26-4F87-B099-AADA688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E2DE-F39C-41E7-B77A-64E43A9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E756-2E4C-45E9-855B-399692EA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6332-43BB-47FD-935A-6DCE7DE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8416-D8B6-444F-98FC-946E54A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178B-34E1-425C-9400-5A364FB6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AEDD-C0FB-459F-A100-4D0ABC2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8301-0AAA-48CF-A387-7E8CD25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0403-8880-4BC9-AF9B-B189A2A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F9DD-8B20-4C4A-80A1-F9BF8ED8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CD60-29AC-41A3-A349-4486C1A0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E76-218A-4067-BAED-E9C27E14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993C-BD63-432E-A830-6747E0B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0D99-A3FD-4C42-ABE1-3ADA4531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1DAA1-FB3A-462C-85B4-AA6C761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19F0-DAE6-4987-B042-25F53465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5CF0-F207-41BA-BD2B-5FBEE5F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6BB6-BE8F-43C9-86C8-AA0187F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BEC1-B27D-4362-9613-24468B8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01D2-205E-4299-AD3B-0266435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C20E-2CAB-4092-B160-0923BEE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6692-C6DA-45C6-95C5-6ED4714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3A2-CA18-468C-A622-D28A7D0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12D09-D518-46E4-98D5-446968D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035E-96CA-4D62-85BC-B106E159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D8D3-1FF7-40A3-A514-DFA89ACA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C3F45-B363-4DB2-ABA3-89EEC54E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AD7A-8CAD-48DC-9230-80172634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CAC77-5E87-4606-ABA5-2B6E15C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C880-611E-40AC-B5DB-61297D4A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A1911-4B4C-4319-8DAB-77A52E8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8171-1FD4-4956-BB02-FA95A6FB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93D7D-9686-4842-AB7A-0B01A75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B58-EEB1-4951-BB25-66678BC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71FF-2259-4398-8408-C1AEE71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D5E03-5717-445A-AAB6-2FD093F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CE27-F430-4915-8F1D-B74B808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D23C-087B-4A9A-A52C-7D1EFF6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BFA4-3C78-4D84-AC46-2B6D2A2E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208E-4E00-43EB-9ABA-0C14F2A3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381EA-86E5-44CE-A9ED-50A952F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11E2-7D41-4485-8D6B-3C825A5F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0967-E4CF-426C-8B2C-E8344EB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EB81-8D3A-47E7-BD87-9DB7DF9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750-6C93-4F58-B91E-89AC508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55C0-8850-4288-851C-92140A9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ED6C-9637-4D2C-A19A-A12CFA6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BECE8-2A42-4EF4-9557-9154CA6C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AF53-926F-480E-87E3-D7ED8D5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EB8A4-F86C-4A1D-A137-B963FCEE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30E1-E7C5-4762-9DD7-3F814B18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1A6BA-2DE6-45A2-A08D-697572C3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0B4C0-F848-4D22-B5DA-ECE7BB19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1F6EB-C828-4715-BEA5-F40D89E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1D7A0-8F73-4CD7-9C55-6ADC9900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518-88C0-497C-9FF0-C921BB015F4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863-E9BF-4430-8DCA-730E18BAB42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BF25-F9F9-48AB-BD0E-30D50DC240A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8B0-7BEE-4505-8621-79407E6993C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950-9236-4A80-A0C3-2AB89426DA2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1FB-2DC8-42D5-AFB8-FA8D3E60BAB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C462-9A1A-4AA9-BFB0-12B7027C899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E75-0852-4A30-89F2-C68360C0A46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8B4-3428-46EF-8101-1EDD03C912E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6498-97B0-499E-A3A0-FE58647DA63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-146160" y="1427040"/>
            <a:ext cx="9290160" cy="3364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28680" y="4581360"/>
            <a:ext cx="490068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Калушка Іри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студентка гр.К-11-1/9, МЕМ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AutoShape 12">
            <a:hlinkClick r:id="" action="ppaction://hlinkshowjump?jump=nextslide"/>
          </p:cNvPr>
          <p:cNvSpPr/>
          <p:nvPr/>
        </p:nvSpPr>
        <p:spPr>
          <a:xfrm>
            <a:off x="7740720" y="63817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4" descr="image003.gif"/>
          <p:cNvPicPr/>
          <p:nvPr/>
        </p:nvPicPr>
        <p:blipFill>
          <a:blip r:embed="rId2"/>
          <a:stretch/>
        </p:blipFill>
        <p:spPr>
          <a:xfrm>
            <a:off x="249120" y="2706840"/>
            <a:ext cx="4243680" cy="4986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рафен — одна з алотропних форм вуглецю, моноатомний шар Карбону із гексагональною структуро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4" descr="61834464.jpg"/>
          <p:cNvPicPr/>
          <p:nvPr/>
        </p:nvPicPr>
        <p:blipFill>
          <a:blip r:embed="rId2"/>
          <a:stretch/>
        </p:blipFill>
        <p:spPr>
          <a:xfrm>
            <a:off x="298440" y="2279520"/>
            <a:ext cx="4206960" cy="33656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Вперше графен було отримано й досліджено в 2004 році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ндрієм Геймом і Костянтином Новосьолови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9" name="Содержимое 4" descr="geim_novoselov_graphene.jpg"/>
          <p:cNvPicPr/>
          <p:nvPr/>
        </p:nvPicPr>
        <p:blipFill>
          <a:blip r:embed="rId2"/>
          <a:stretch/>
        </p:blipFill>
        <p:spPr>
          <a:xfrm>
            <a:off x="189000" y="1206360"/>
            <a:ext cx="3481200" cy="54756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-360" y="4071960"/>
            <a:ext cx="43434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ін не зовсім прозорий, що й дає можливість бачити й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Прямоугольник 5"/>
          <p:cNvSpPr/>
          <p:nvPr/>
        </p:nvSpPr>
        <p:spPr>
          <a:xfrm>
            <a:off x="4357800" y="535788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ока теплопровідність 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лектропровідн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6"/>
          <p:cNvSpPr/>
          <p:nvPr/>
        </p:nvSpPr>
        <p:spPr>
          <a:xfrm>
            <a:off x="4214880" y="1500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200 раз міцніший за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7" descr="1340_3.jpg"/>
          <p:cNvPicPr/>
          <p:nvPr/>
        </p:nvPicPr>
        <p:blipFill>
          <a:blip r:embed="rId3"/>
          <a:stretch/>
        </p:blipFill>
        <p:spPr>
          <a:xfrm>
            <a:off x="4621320" y="2567160"/>
            <a:ext cx="3297240" cy="542448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179280" y="1599840"/>
            <a:ext cx="446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«Методом відлущування»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до графіту прикладали звичайний скотч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його обережно віддирали  з налиплими фрагментами графіту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притискали до підкладки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усували хімічними методами – а вуглець залишався.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7" name="Содержимое 4" descr="image003.gif"/>
          <p:cNvPicPr/>
          <p:nvPr/>
        </p:nvPicPr>
        <p:blipFill>
          <a:blip r:embed="rId2"/>
          <a:stretch/>
        </p:blipFill>
        <p:spPr>
          <a:xfrm>
            <a:off x="4638600" y="2706840"/>
            <a:ext cx="4395960" cy="51688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50560" y="1773000"/>
            <a:ext cx="8196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сонячні батареї, накопичувачі енергії, сотові телефони, супершвидкі комп’ютерні чіп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1" name="Содержимое 4" descr="graphene-panel.jpg"/>
          <p:cNvPicPr/>
          <p:nvPr/>
        </p:nvPicPr>
        <p:blipFill>
          <a:blip r:embed="rId2"/>
          <a:stretch/>
        </p:blipFill>
        <p:spPr>
          <a:xfrm>
            <a:off x="4906800" y="4280040"/>
            <a:ext cx="3749760" cy="435132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5" descr="grafen-nobelevskaya-premiya-2.jpg"/>
          <p:cNvPicPr/>
          <p:nvPr/>
        </p:nvPicPr>
        <p:blipFill>
          <a:blip r:embed="rId3"/>
          <a:stretch/>
        </p:blipFill>
        <p:spPr>
          <a:xfrm>
            <a:off x="615960" y="4280040"/>
            <a:ext cx="3267000" cy="4327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d1f1f"/>
                </a:solidFill>
                <a:latin typeface="Franklin Gothic Medium"/>
              </a:rPr>
              <a:t>Дякую за увагу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01600" y="2120760"/>
            <a:ext cx="4297320" cy="1659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1973520"/>
          </a:xfrm>
          <a:prstGeom prst="rect">
            <a:avLst/>
          </a:prstGeom>
          <a:ln w="0">
            <a:noFill/>
          </a:ln>
        </p:spPr>
      </p:pic>
      <p:pic>
        <p:nvPicPr>
          <p:cNvPr id="460" name="Rectangle 5" descr=""/>
          <p:cNvPicPr/>
          <p:nvPr/>
        </p:nvPicPr>
        <p:blipFill>
          <a:blip r:embed="rId3"/>
          <a:stretch/>
        </p:blipFill>
        <p:spPr>
          <a:xfrm>
            <a:off x="4456080" y="2157480"/>
            <a:ext cx="4175280" cy="12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0" y="334800"/>
            <a:ext cx="8894880" cy="1152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" descr="6"/>
          <p:cNvPicPr/>
          <p:nvPr/>
        </p:nvPicPr>
        <p:blipFill>
          <a:blip r:embed="rId2"/>
          <a:stretch/>
        </p:blipFill>
        <p:spPr>
          <a:xfrm>
            <a:off x="237960" y="1146240"/>
            <a:ext cx="3395880" cy="2468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0" descr="карбин"/>
          <p:cNvPicPr/>
          <p:nvPr/>
        </p:nvPicPr>
        <p:blipFill>
          <a:blip r:embed="rId3"/>
          <a:stretch/>
        </p:blipFill>
        <p:spPr>
          <a:xfrm>
            <a:off x="4876920" y="1146240"/>
            <a:ext cx="3468600" cy="2401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4" descr="5"/>
          <p:cNvPicPr/>
          <p:nvPr/>
        </p:nvPicPr>
        <p:blipFill>
          <a:blip r:embed="rId4"/>
          <a:stretch/>
        </p:blipFill>
        <p:spPr>
          <a:xfrm>
            <a:off x="304920" y="4078440"/>
            <a:ext cx="3328920" cy="2322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1" descr="7"/>
          <p:cNvPicPr/>
          <p:nvPr/>
        </p:nvPicPr>
        <p:blipFill>
          <a:blip r:embed="rId5"/>
          <a:stretch/>
        </p:blipFill>
        <p:spPr>
          <a:xfrm>
            <a:off x="4876920" y="4078440"/>
            <a:ext cx="3541680" cy="23526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642960" y="3500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Графі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714240" y="62866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Фул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5214960" y="35002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Карб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5572080" y="6286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>
            <a:hlinkClick r:id="" action="ppaction://hlinkshowjump?jump=nextslide"/>
          </p:cNvPr>
          <p:cNvSpPr/>
          <p:nvPr/>
        </p:nvSpPr>
        <p:spPr>
          <a:xfrm>
            <a:off x="785808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7"/>
          <p:cNvPicPr/>
          <p:nvPr/>
        </p:nvPicPr>
        <p:blipFill>
          <a:blip r:embed="rId2"/>
          <a:stretch/>
        </p:blipFill>
        <p:spPr>
          <a:xfrm>
            <a:off x="165240" y="1504800"/>
            <a:ext cx="4394160" cy="36831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9"/>
          <p:cNvSpPr/>
          <p:nvPr/>
        </p:nvSpPr>
        <p:spPr>
          <a:xfrm>
            <a:off x="571680" y="53578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4786200" y="2143080"/>
            <a:ext cx="41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зора кристалічна речовина, найтвердіша з усіх природних речовин, еталон тверд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09440" y="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15"/>
          <p:cNvPicPr/>
          <p:nvPr/>
        </p:nvPicPr>
        <p:blipFill>
          <a:blip r:embed="rId2"/>
          <a:stretch/>
        </p:blipFill>
        <p:spPr>
          <a:xfrm>
            <a:off x="378000" y="4290840"/>
            <a:ext cx="2895480" cy="2372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6"/>
          <p:cNvPicPr/>
          <p:nvPr/>
        </p:nvPicPr>
        <p:blipFill>
          <a:blip r:embed="rId3"/>
          <a:stretch/>
        </p:blipFill>
        <p:spPr>
          <a:xfrm>
            <a:off x="237960" y="1073160"/>
            <a:ext cx="3108600" cy="28702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142920" y="388152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3500280" y="4857840"/>
            <a:ext cx="52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плавлення вище  350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11"/>
          <p:cNvPicPr/>
          <p:nvPr/>
        </p:nvPicPr>
        <p:blipFill>
          <a:blip r:embed="rId4"/>
          <a:stretch/>
        </p:blipFill>
        <p:spPr>
          <a:xfrm>
            <a:off x="5121360" y="1206360"/>
            <a:ext cx="2760480" cy="56088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8"/>
          <p:cNvSpPr/>
          <p:nvPr/>
        </p:nvSpPr>
        <p:spPr>
          <a:xfrm>
            <a:off x="4214880" y="4000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ання графіт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мазка, олівец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тулка, е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перше одержаний в Росії в 60-х роках XX столітт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 молекулі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човини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атоми Карбону сполучені в ланцюжки по черзі потрійними і одинарними зв'язками. Застосовується у фотоелемент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Содержимое 7" descr="Рисунок1.jpg"/>
          <p:cNvPicPr/>
          <p:nvPr/>
        </p:nvPicPr>
        <p:blipFill>
          <a:blip r:embed="rId2"/>
          <a:stretch/>
        </p:blipFill>
        <p:spPr>
          <a:xfrm>
            <a:off x="262080" y="2139840"/>
            <a:ext cx="4236840" cy="486432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9"/>
          <p:cNvSpPr/>
          <p:nvPr/>
        </p:nvSpPr>
        <p:spPr>
          <a:xfrm>
            <a:off x="0" y="4929120"/>
            <a:ext cx="528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С – 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– С ≡ С – С ≡ С – С ≡ С 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255600" y="208080"/>
            <a:ext cx="8437680" cy="1163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8"/>
          <p:cNvPicPr/>
          <p:nvPr/>
        </p:nvPicPr>
        <p:blipFill>
          <a:blip r:embed="rId2"/>
          <a:stretch/>
        </p:blipFill>
        <p:spPr>
          <a:xfrm>
            <a:off x="92160" y="1073160"/>
            <a:ext cx="5181480" cy="261468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6"/>
          <p:cNvSpPr/>
          <p:nvPr/>
        </p:nvSpPr>
        <p:spPr>
          <a:xfrm>
            <a:off x="0" y="3714840"/>
            <a:ext cx="5500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молекул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і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6220440" y="378612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стина 1,7 г/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6" descr="220px-Buckminsterfullerene_animated.gif"/>
          <p:cNvPicPr/>
          <p:nvPr/>
        </p:nvPicPr>
        <p:blipFill>
          <a:blip r:embed="rId3"/>
          <a:stretch/>
        </p:blipFill>
        <p:spPr>
          <a:xfrm>
            <a:off x="6229440" y="1200240"/>
            <a:ext cx="2146320" cy="421956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7"/>
          <p:cNvSpPr/>
          <p:nvPr/>
        </p:nvSpPr>
        <p:spPr>
          <a:xfrm>
            <a:off x="6009840" y="450072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імічно  не актив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572080" y="528624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розчиняється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лярних розчинни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pic>
        <p:nvPicPr>
          <p:cNvPr id="499" name="Содержимое 4" descr="Kohlenstoffnanoroehre_Animation.gif"/>
          <p:cNvPicPr/>
          <p:nvPr/>
        </p:nvPicPr>
        <p:blipFill>
          <a:blip r:embed="rId2"/>
          <a:stretch/>
        </p:blipFill>
        <p:spPr>
          <a:xfrm>
            <a:off x="401760" y="1494000"/>
            <a:ext cx="2334960" cy="4608360"/>
          </a:xfrm>
          <a:prstGeom prst="rect">
            <a:avLst/>
          </a:prstGeom>
          <a:ln w="0">
            <a:noFill/>
          </a:ln>
        </p:spPr>
      </p:pic>
      <p:pic>
        <p:nvPicPr>
          <p:cNvPr id="500" name="Содержимое 5" descr="uglerodnye-nanotrubki.jpg"/>
          <p:cNvPicPr/>
          <p:nvPr/>
        </p:nvPicPr>
        <p:blipFill>
          <a:blip r:embed="rId3"/>
          <a:stretch/>
        </p:blipFill>
        <p:spPr>
          <a:xfrm>
            <a:off x="189000" y="4065480"/>
            <a:ext cx="3859200" cy="48038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6"/>
          <p:cNvSpPr/>
          <p:nvPr/>
        </p:nvSpPr>
        <p:spPr>
          <a:xfrm>
            <a:off x="3000240" y="135720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РУБКИ ВУГЛЕЦЮ – трубчасті наноутворення вугле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увають одно- і багатошаро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на особливість цих       вуглецевих нано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як і фулеренів)–їх каркасна фо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6" descr="Grafen_02.jpg"/>
          <p:cNvPicPr/>
          <p:nvPr/>
        </p:nvPicPr>
        <p:blipFill>
          <a:blip r:embed="rId2"/>
          <a:stretch/>
        </p:blipFill>
        <p:spPr>
          <a:xfrm>
            <a:off x="5425920" y="1206360"/>
            <a:ext cx="2913120" cy="1517760"/>
          </a:xfrm>
          <a:prstGeom prst="rect">
            <a:avLst/>
          </a:prstGeom>
          <a:ln w="0">
            <a:noFill/>
          </a:ln>
        </p:spPr>
      </p:pic>
      <p:pic>
        <p:nvPicPr>
          <p:cNvPr id="505" name="Содержимое 4" descr=""/>
          <p:cNvPicPr/>
          <p:nvPr/>
        </p:nvPicPr>
        <p:blipFill>
          <a:blip r:embed="rId3"/>
          <a:stretch/>
        </p:blipFill>
        <p:spPr>
          <a:xfrm>
            <a:off x="633240" y="1352520"/>
            <a:ext cx="3256200" cy="28954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5"/>
          <p:cNvSpPr/>
          <p:nvPr/>
        </p:nvSpPr>
        <p:spPr>
          <a:xfrm>
            <a:off x="214200" y="4357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ен – вигляд в електронному мікроскоп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7" descr="1340_3.jpg"/>
          <p:cNvPicPr/>
          <p:nvPr/>
        </p:nvPicPr>
        <p:blipFill>
          <a:blip r:embed="rId4"/>
          <a:stretch/>
        </p:blipFill>
        <p:spPr>
          <a:xfrm>
            <a:off x="4638600" y="2779560"/>
            <a:ext cx="4011840" cy="33292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8"/>
          <p:cNvSpPr/>
          <p:nvPr/>
        </p:nvSpPr>
        <p:spPr>
          <a:xfrm>
            <a:off x="4786200" y="61437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оский шар граф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">
            <a:hlinkClick r:id="" action="ppaction://hlinkshowjump?jump=nextslide"/>
          </p:cNvPr>
          <p:cNvSpPr/>
          <p:nvPr/>
        </p:nvSpPr>
        <p:spPr>
          <a:xfrm>
            <a:off x="28584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37:23Z</dcterms:created>
  <dc:creator>Наулм</dc:creator>
  <dc:description/>
  <dc:language>en-US</dc:language>
  <cp:lastModifiedBy>Будченко</cp:lastModifiedBy>
  <dcterms:modified xsi:type="dcterms:W3CDTF">2012-02-05T08:40:14Z</dcterms:modified>
  <cp:revision>58</cp:revision>
  <dc:subject/>
  <dc:title>Алотропні відозміни карб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4f000000000001024140</vt:lpwstr>
  </property>
</Properties>
</file>