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9D2-07E2-4AF6-B818-A4BBC638503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FFC7-34C5-43F7-B934-71344C9AB8A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83E-AEF3-421C-B291-2B98E29F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0EE-8539-40A5-8F21-85475081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829-FAC3-43E0-86C5-3A478CEE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243-62CA-42A8-99D7-F3AF466C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21A-F3AB-4BE4-8F31-A53A558B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9EF7-BD0B-4EF8-AD6C-B883252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7EA8-317E-4BAC-AD7A-80454511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1145-F612-49E1-9276-A464F25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7637-702D-42C1-8CA3-7DA1F3C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DBE4-7113-41CF-8CFA-96CB43B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BAA2-616E-47CB-B199-3368E08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76F-C54E-49CA-848D-2C5B0070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A908-32A5-4693-BF31-1FC4184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DB9C-5D8E-4276-839E-89957F9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FFA6-96C8-4918-9C67-E8757D26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2F83-97FD-45C8-8BC7-887DCE31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D01F-F94D-46AB-BDE9-CDD64241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CED1-B9BB-4AAD-B0AB-E0A05CD4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C2E1-0D6B-49C7-B79A-4CF4C454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2890-C2E1-4C62-8A6E-2784ECA6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C32C-20A2-4820-B89F-E03AD200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C23F-8C9D-489F-8297-E98AD701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76B-CAA7-4B22-AD74-DBE42098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5E30-3E88-4AEF-BE2B-7BD4D182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B07B-CAA4-4716-8920-5FB1BD4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9F4B-8F77-42A0-9C89-AE36095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D195-5855-49E3-825B-78D84EE2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4DC7-2182-4BA3-83E8-7F047114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C998-D9BB-4CD3-B73A-32F6F955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F0A6A-310B-43C3-A703-E34E533E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72D9-B6FF-429F-B86B-33A2B8B5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F669-8FDE-45C2-AD41-AB339B0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974B-9F27-4514-A705-5DBDCA1F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789-CA00-4987-9611-838385B2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1E90-ECE3-4257-8104-125CE50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E6F5-BF5E-4414-9B40-27A5DAB7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594B-3B21-44F1-8316-3950292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91FF-B12F-4F24-A2E0-724FDDCE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E219-FDCC-4640-B0FC-4A0A966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E323-F9DA-4954-BC53-8E0EBD2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B68EE-EDB8-4C7D-A80B-3E517334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90DC-5A32-4F76-ABB1-A9F04B12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7948-334F-426A-8C79-CA5A06C6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C8C-1DBB-4DFD-9BFB-0ADBE630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0C0-73BB-48B9-BF1A-DCC9D6E7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968-1CE5-4EA1-B76F-E28B704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DC-BE4A-425A-BBEB-89445EB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06D-4802-4905-AF71-F90F3E3C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273-A1A8-4A71-9FFD-9C14ADCBBD8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18AC-D3A7-4D41-9D02-3FD00ADFB3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838F-433A-4A07-8591-0C939FAE9C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3512-5CB8-46C3-B6AC-B2DC32C7BA5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69800" y="701640"/>
            <a:ext cx="811368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итель хімії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спеціалізованої школи №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імені Олени Телі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ондарчук Ірина Дмитрі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рганізм – відкрита сист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article-0-118672AC000005DC-292_634x8061.jpg"/>
          <p:cNvPicPr/>
          <p:nvPr/>
        </p:nvPicPr>
        <p:blipFill>
          <a:blip r:embed="rId2"/>
          <a:stretch/>
        </p:blipFill>
        <p:spPr>
          <a:xfrm>
            <a:off x="2701800" y="1357200"/>
            <a:ext cx="374040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214200" y="15001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nstantia"/>
              </a:rPr>
              <a:t>О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28800" y="2071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85840" y="2857680"/>
            <a:ext cx="2357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285840" y="4572000"/>
            <a:ext cx="207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неральні сол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тамі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2" name="Прямая со стрелкой 10"/>
          <p:cNvCxnSpPr/>
          <p:nvPr/>
        </p:nvCxnSpPr>
        <p:spPr>
          <a:xfrm>
            <a:off x="1356840" y="1857240"/>
            <a:ext cx="20725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>
            <a:off x="2285640" y="3571920"/>
            <a:ext cx="11437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V="1">
            <a:off x="1857240" y="4500000"/>
            <a:ext cx="16437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5" name="TextBox 16"/>
          <p:cNvSpPr/>
          <p:nvPr/>
        </p:nvSpPr>
        <p:spPr>
          <a:xfrm>
            <a:off x="6929280" y="1428840"/>
            <a:ext cx="16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7215120" y="27860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СО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572160" y="435780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а кисл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еперетравлені реш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20"/>
          <p:cNvCxnSpPr>
            <a:endCxn id="245" idx="1"/>
          </p:cNvCxnSpPr>
          <p:nvPr/>
        </p:nvCxnSpPr>
        <p:spPr>
          <a:xfrm flipV="1">
            <a:off x="5357520" y="1890360"/>
            <a:ext cx="1572120" cy="862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3"/>
          <p:cNvCxnSpPr/>
          <p:nvPr/>
        </p:nvCxnSpPr>
        <p:spPr>
          <a:xfrm flipV="1">
            <a:off x="5428800" y="3142440"/>
            <a:ext cx="1429560" cy="72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50" name="Прямая со стрелкой 26"/>
          <p:cNvCxnSpPr/>
          <p:nvPr/>
        </p:nvCxnSpPr>
        <p:spPr>
          <a:xfrm>
            <a:off x="5357520" y="4429080"/>
            <a:ext cx="1215000" cy="572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1"/>
          <p:cNvGrpSpPr/>
          <p:nvPr/>
        </p:nvGrpSpPr>
        <p:grpSpPr>
          <a:xfrm>
            <a:off x="353880" y="1249200"/>
            <a:ext cx="8436240" cy="5456520"/>
            <a:chOff x="353880" y="1249200"/>
            <a:chExt cx="8436240" cy="5456520"/>
          </a:xfrm>
        </p:grpSpPr>
        <p:pic>
          <p:nvPicPr>
            <p:cNvPr id="252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353880" y="1249200"/>
              <a:ext cx="8436240" cy="545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357200"/>
              <a:ext cx="82296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лад жирних кислот y соняшниковій олії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uk-UA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еар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1,6-4,6% 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ffc000"/>
                  </a:solidFill>
                  <a:latin typeface="Arial"/>
                  <a:ea typeface="Arial"/>
                </a:rPr>
                <a:t>пальмі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3,5-6,4%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ірис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до 0,1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арахі</a:t>
              </a:r>
              <a:r>
                <a:rPr b="0" lang="uk-UA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до</a:t>
              </a: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0,7-0,9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Н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олеї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     24-40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Arial"/>
                  <a:ea typeface="Arial"/>
                </a:rPr>
                <a:t>лінолева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46 -62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0070c0"/>
                  </a:solidFill>
                  <a:latin typeface="Arial"/>
                  <a:ea typeface="Arial"/>
                </a:rPr>
                <a:t>ліноле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до 1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Заголовок 2"/>
          <p:cNvGrpSpPr/>
          <p:nvPr/>
        </p:nvGrpSpPr>
        <p:grpSpPr>
          <a:xfrm>
            <a:off x="933480" y="225360"/>
            <a:ext cx="7277040" cy="1036800"/>
            <a:chOff x="933480" y="225360"/>
            <a:chExt cx="7277040" cy="1036800"/>
          </a:xfrm>
        </p:grpSpPr>
        <p:pic>
          <p:nvPicPr>
            <p:cNvPr id="255" name="Заголовок 2" descr=""/>
            <p:cNvPicPr/>
            <p:nvPr/>
          </p:nvPicPr>
          <p:blipFill>
            <a:blip r:embed="rId3"/>
            <a:stretch/>
          </p:blipFill>
          <p:spPr>
            <a:xfrm>
              <a:off x="933480" y="225360"/>
              <a:ext cx="727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42920" y="274680"/>
              <a:ext cx="7058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500" spc="-1" strike="noStrike">
                  <a:solidFill>
                    <a:srgbClr val="000000"/>
                  </a:solidFill>
                  <a:latin typeface="Constantia"/>
                </a:rPr>
                <a:t>Склад соняшникової олії</a:t>
              </a:r>
              <a:endParaRPr b="0" lang="en-US" sz="4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7" name="Прямая соединительная линия 4"/>
          <p:cNvSpPr/>
          <p:nvPr/>
        </p:nvSpPr>
        <p:spPr>
          <a:xfrm>
            <a:off x="1071720" y="4357800"/>
            <a:ext cx="72864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Перетворення жирів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жир.jpg"/>
          <p:cNvPicPr/>
          <p:nvPr/>
        </p:nvPicPr>
        <p:blipFill>
          <a:blip r:embed="rId2"/>
          <a:stretch/>
        </p:blipFill>
        <p:spPr>
          <a:xfrm>
            <a:off x="214200" y="1071720"/>
            <a:ext cx="3013200" cy="2071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500720" y="642924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643280" y="1357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іцер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14840" y="3071880"/>
            <a:ext cx="22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і кисло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933920" y="4857840"/>
            <a:ext cx="11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5" name="Прямая со стрелкой 10"/>
          <p:cNvCxnSpPr/>
          <p:nvPr/>
        </p:nvCxnSpPr>
        <p:spPr>
          <a:xfrm>
            <a:off x="3357720" y="314316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 flipV="1">
            <a:off x="3428640" y="1856520"/>
            <a:ext cx="1143720" cy="723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V="1">
            <a:off x="6000480" y="3142440"/>
            <a:ext cx="14295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 flipH="1">
            <a:off x="3214080" y="2571480"/>
            <a:ext cx="1572120" cy="185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>
            <a:stCxn id="263" idx="2"/>
          </p:cNvCxnSpPr>
          <p:nvPr/>
        </p:nvCxnSpPr>
        <p:spPr>
          <a:xfrm flipH="1">
            <a:off x="3714480" y="4518000"/>
            <a:ext cx="1108800" cy="62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0" name="Рисунок 13" descr="дети дети.jpg"/>
          <p:cNvPicPr/>
          <p:nvPr/>
        </p:nvPicPr>
        <p:blipFill>
          <a:blip r:embed="rId3"/>
          <a:stretch/>
        </p:blipFill>
        <p:spPr>
          <a:xfrm>
            <a:off x="5286240" y="4429080"/>
            <a:ext cx="3436920" cy="2214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5"/>
          <p:cNvSpPr/>
          <p:nvPr/>
        </p:nvSpPr>
        <p:spPr>
          <a:xfrm>
            <a:off x="7500960" y="2786040"/>
            <a:ext cx="500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43680" y="3357720"/>
            <a:ext cx="27144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но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71680" y="2286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786120" y="514368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6000840" y="4786200"/>
            <a:ext cx="20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жирні 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TextBox 7" descr=""/>
          <p:cNvPicPr/>
          <p:nvPr/>
        </p:nvPicPr>
        <p:blipFill>
          <a:blip r:embed="rId2"/>
          <a:stretch/>
        </p:blipFill>
        <p:spPr>
          <a:xfrm>
            <a:off x="7412040" y="1536840"/>
            <a:ext cx="128124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79" name="Прямая со стрелкой 9"/>
          <p:cNvCxnSpPr/>
          <p:nvPr/>
        </p:nvCxnSpPr>
        <p:spPr>
          <a:xfrm flipV="1">
            <a:off x="5500800" y="2642400"/>
            <a:ext cx="35784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0" name="Прямая со стрелкой 11"/>
          <p:cNvCxnSpPr/>
          <p:nvPr/>
        </p:nvCxnSpPr>
        <p:spPr>
          <a:xfrm flipH="1">
            <a:off x="4571280" y="4214880"/>
            <a:ext cx="107244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Прямая со стрелкой 13"/>
          <p:cNvCxnSpPr/>
          <p:nvPr/>
        </p:nvCxnSpPr>
        <p:spPr>
          <a:xfrm flipH="1">
            <a:off x="6857640" y="421452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Прямая со стрелкой 15"/>
          <p:cNvCxnSpPr/>
          <p:nvPr/>
        </p:nvCxnSpPr>
        <p:spPr>
          <a:xfrm flipV="1">
            <a:off x="6858000" y="2642760"/>
            <a:ext cx="714960" cy="57240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pic>
        <p:nvPicPr>
          <p:cNvPr id="283" name="Рисунок 12" descr="produkty-bilkovi.jpg"/>
          <p:cNvPicPr/>
          <p:nvPr/>
        </p:nvPicPr>
        <p:blipFill>
          <a:blip r:embed="rId3"/>
          <a:stretch/>
        </p:blipFill>
        <p:spPr>
          <a:xfrm>
            <a:off x="0" y="1643040"/>
            <a:ext cx="4754520" cy="250020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16"/>
          <p:cNvCxnSpPr/>
          <p:nvPr/>
        </p:nvCxnSpPr>
        <p:spPr>
          <a:xfrm flipH="1">
            <a:off x="1498320" y="4215960"/>
            <a:ext cx="2160" cy="1072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5" name="TextBox 17"/>
          <p:cNvSpPr/>
          <p:nvPr/>
        </p:nvSpPr>
        <p:spPr>
          <a:xfrm>
            <a:off x="428760" y="5286240"/>
            <a:ext cx="2286000" cy="94716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денатураці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V="1">
            <a:off x="2500200" y="4214520"/>
            <a:ext cx="2501280" cy="1072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7" name="TextBox 18"/>
          <p:cNvSpPr/>
          <p:nvPr/>
        </p:nvSpPr>
        <p:spPr>
          <a:xfrm>
            <a:off x="5000760" y="13572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изько-молекулярні речови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8" name="Прямая со стрелкой 22"/>
          <p:cNvCxnSpPr/>
          <p:nvPr/>
        </p:nvCxnSpPr>
        <p:spPr>
          <a:xfrm>
            <a:off x="7071840" y="1785600"/>
            <a:ext cx="42948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"/>
          <p:cNvSpPr/>
          <p:nvPr/>
        </p:nvSpPr>
        <p:spPr>
          <a:xfrm>
            <a:off x="4857840" y="3071880"/>
            <a:ext cx="642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ласифікація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Фермен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ранспорт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Захисн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 - гормо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коротлив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труктур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214880" y="2643120"/>
            <a:ext cx="2000160" cy="947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глобу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4286160" y="4572000"/>
            <a:ext cx="207180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фібри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929280" y="3500280"/>
            <a:ext cx="1428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95" name="Прямая со стрелкой 7"/>
          <p:cNvCxnSpPr/>
          <p:nvPr/>
        </p:nvCxnSpPr>
        <p:spPr>
          <a:xfrm flipH="1">
            <a:off x="6357600" y="4142160"/>
            <a:ext cx="128664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96" name="Прямая со стрелкой 10"/>
          <p:cNvCxnSpPr/>
          <p:nvPr/>
        </p:nvCxnSpPr>
        <p:spPr>
          <a:xfrm flipH="1" flipV="1">
            <a:off x="6285960" y="2928240"/>
            <a:ext cx="12862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7" name="Правая фигурная скобка 16"/>
          <p:cNvSpPr/>
          <p:nvPr/>
        </p:nvSpPr>
        <p:spPr>
          <a:xfrm>
            <a:off x="4000680" y="214308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авая фигурная скобка 17"/>
          <p:cNvSpPr/>
          <p:nvPr/>
        </p:nvSpPr>
        <p:spPr>
          <a:xfrm>
            <a:off x="4071960" y="4429080"/>
            <a:ext cx="214200" cy="9288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19"/>
          <p:cNvSpPr/>
          <p:nvPr/>
        </p:nvSpPr>
        <p:spPr>
          <a:xfrm>
            <a:off x="571680" y="428616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7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Солнце 4"/>
          <p:cNvGrpSpPr/>
          <p:nvPr/>
        </p:nvGrpSpPr>
        <p:grpSpPr>
          <a:xfrm>
            <a:off x="225360" y="158760"/>
            <a:ext cx="2438640" cy="2395440"/>
            <a:chOff x="225360" y="158760"/>
            <a:chExt cx="2438640" cy="2395440"/>
          </a:xfrm>
        </p:grpSpPr>
        <p:pic>
          <p:nvPicPr>
            <p:cNvPr id="302" name="Солнце 4" descr=""/>
            <p:cNvPicPr/>
            <p:nvPr/>
          </p:nvPicPr>
          <p:blipFill>
            <a:blip r:embed="rId3"/>
            <a:stretch/>
          </p:blipFill>
          <p:spPr>
            <a:xfrm>
              <a:off x="225360" y="158760"/>
              <a:ext cx="24386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49400" y="930240"/>
              <a:ext cx="7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4" name="Прямоугольник 8"/>
          <p:cNvGrpSpPr/>
          <p:nvPr/>
        </p:nvGrpSpPr>
        <p:grpSpPr>
          <a:xfrm>
            <a:off x="7590960" y="5114880"/>
            <a:ext cx="981360" cy="895320"/>
            <a:chOff x="7590960" y="5114880"/>
            <a:chExt cx="981360" cy="895320"/>
          </a:xfrm>
        </p:grpSpPr>
        <p:pic>
          <p:nvPicPr>
            <p:cNvPr id="30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590960" y="5114880"/>
              <a:ext cx="981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18624000">
              <a:off x="8015040" y="5025600"/>
              <a:ext cx="1299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7" name="Дуга 9"/>
          <p:cNvSpPr/>
          <p:nvPr/>
        </p:nvSpPr>
        <p:spPr>
          <a:xfrm>
            <a:off x="6672240" y="4076640"/>
            <a:ext cx="60480" cy="46080"/>
          </a:xfrm>
          <a:custGeom>
            <a:avLst/>
            <a:gdLst>
              <a:gd name="textAreaLeft" fmla="*/ 30240 w 60480"/>
              <a:gd name="textAreaRight" fmla="*/ 60840 w 604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  <a:lnTo>
                  <a:pt x="30163" y="23019"/>
                </a:lnTo>
                <a:close/>
              </a:path>
              <a:path fill="none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Прямая соединительная линия 11"/>
          <p:cNvSpPr/>
          <p:nvPr/>
        </p:nvSpPr>
        <p:spPr>
          <a:xfrm flipH="1" flipV="1">
            <a:off x="6037200" y="4187880"/>
            <a:ext cx="1658880" cy="1009440"/>
          </a:xfrm>
          <a:prstGeom prst="line">
            <a:avLst/>
          </a:prstGeom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TextBox 29" descr=""/>
          <p:cNvPicPr/>
          <p:nvPr/>
        </p:nvPicPr>
        <p:blipFill>
          <a:blip r:embed="rId5"/>
          <a:stretch/>
        </p:blipFill>
        <p:spPr>
          <a:xfrm>
            <a:off x="1146240" y="817560"/>
            <a:ext cx="45417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ердце 5"/>
          <p:cNvGrpSpPr/>
          <p:nvPr/>
        </p:nvGrpSpPr>
        <p:grpSpPr>
          <a:xfrm>
            <a:off x="4925880" y="3419640"/>
            <a:ext cx="3956040" cy="3200400"/>
            <a:chOff x="4925880" y="3419640"/>
            <a:chExt cx="3956040" cy="3200400"/>
          </a:xfrm>
        </p:grpSpPr>
        <p:pic>
          <p:nvPicPr>
            <p:cNvPr id="311" name="Сердце 5" descr=""/>
            <p:cNvPicPr/>
            <p:nvPr/>
          </p:nvPicPr>
          <p:blipFill>
            <a:blip r:embed="rId6"/>
            <a:stretch/>
          </p:blipFill>
          <p:spPr>
            <a:xfrm>
              <a:off x="4925880" y="3419640"/>
              <a:ext cx="395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7275000">
              <a:off x="5929920" y="3891600"/>
              <a:ext cx="18302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13" name="TextBox 36" descr=""/>
          <p:cNvPicPr/>
          <p:nvPr/>
        </p:nvPicPr>
        <p:blipFill>
          <a:blip r:embed="rId7"/>
          <a:stretch/>
        </p:blipFill>
        <p:spPr>
          <a:xfrm>
            <a:off x="5376960" y="3413160"/>
            <a:ext cx="26510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14" name="Молния 41"/>
          <p:cNvGrpSpPr/>
          <p:nvPr/>
        </p:nvGrpSpPr>
        <p:grpSpPr>
          <a:xfrm>
            <a:off x="2382840" y="792000"/>
            <a:ext cx="824040" cy="1165320"/>
            <a:chOff x="2382840" y="792000"/>
            <a:chExt cx="824040" cy="1165320"/>
          </a:xfrm>
        </p:grpSpPr>
        <p:pic>
          <p:nvPicPr>
            <p:cNvPr id="315" name="Молния 41" descr=""/>
            <p:cNvPicPr/>
            <p:nvPr/>
          </p:nvPicPr>
          <p:blipFill>
            <a:blip r:embed="rId8"/>
            <a:stretch/>
          </p:blipFill>
          <p:spPr>
            <a:xfrm>
              <a:off x="2382840" y="792000"/>
              <a:ext cx="8240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728800" y="1181160"/>
              <a:ext cx="162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17" name="Облако 40"/>
          <p:cNvSpPr/>
          <p:nvPr/>
        </p:nvSpPr>
        <p:spPr>
          <a:xfrm>
            <a:off x="1598760" y="214200"/>
            <a:ext cx="2109600" cy="865440"/>
          </a:xfrm>
          <a:custGeom>
            <a:avLst/>
            <a:gdLst>
              <a:gd name="textAreaLeft" fmla="*/ 290520 w 2109600"/>
              <a:gd name="textAreaRight" fmla="*/ 1668960 w 210960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69a72"/>
            </a:solidFill>
            <a:round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Стрелка вниз 42"/>
          <p:cNvSpPr/>
          <p:nvPr/>
        </p:nvSpPr>
        <p:spPr>
          <a:xfrm rot="19602600">
            <a:off x="1653840" y="2087280"/>
            <a:ext cx="565200" cy="1280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низ 44"/>
          <p:cNvSpPr/>
          <p:nvPr/>
        </p:nvSpPr>
        <p:spPr>
          <a:xfrm rot="19602600">
            <a:off x="2673360" y="1461600"/>
            <a:ext cx="479520" cy="1106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TextBox 46" descr=""/>
          <p:cNvPicPr/>
          <p:nvPr/>
        </p:nvPicPr>
        <p:blipFill>
          <a:blip r:embed="rId9"/>
          <a:stretch/>
        </p:blipFill>
        <p:spPr>
          <a:xfrm>
            <a:off x="1755720" y="298440"/>
            <a:ext cx="1816200" cy="781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7" descr=""/>
          <p:cNvPicPr/>
          <p:nvPr/>
        </p:nvPicPr>
        <p:blipFill>
          <a:blip r:embed="rId10"/>
          <a:stretch/>
        </p:blipFill>
        <p:spPr>
          <a:xfrm>
            <a:off x="189000" y="444600"/>
            <a:ext cx="2328840" cy="163332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6" descr=""/>
          <p:cNvPicPr/>
          <p:nvPr/>
        </p:nvPicPr>
        <p:blipFill>
          <a:blip r:embed="rId11"/>
          <a:stretch/>
        </p:blipFill>
        <p:spPr>
          <a:xfrm>
            <a:off x="5400720" y="4181400"/>
            <a:ext cx="2925720" cy="93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6"/>
          <p:cNvSpPr/>
          <p:nvPr/>
        </p:nvSpPr>
        <p:spPr>
          <a:xfrm>
            <a:off x="4643280" y="857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5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"/>
                            </p:stCondLst>
                            <p:childTnLst>
                              <p:par>
                                <p:cTn id="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5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02523 C 3.05556E-006 -0.03657 0.06441 -0.05046 0.11701 -0.05046 L 0.2342 -0.05046 E">
                                      <p:cBhvr>
                                        <p:cTn id="62" dur="7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with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47 L 0.03941 0.07053 C 0.04844 0.08441 0.05348 0.10545 0.05348 0.12742 C 0.05348 0.1524 0.04844 0.17252 0.03941 0.1864 L -0.00052 0.25347 E">
                                      <p:cBhvr>
                                        <p:cTn id="82" dur="7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with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with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6 -0.0703 L 0.43108 0.35292 E">
                                      <p:cBhvr>
                                        <p:cTn id="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with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5319E-006 L -0.01337 -0.32886 E">
                                      <p:cBhvr>
                                        <p:cTn id="10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2219400" y="890640"/>
            <a:ext cx="6613560" cy="270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9"/>
          <p:cNvGrpSpPr/>
          <p:nvPr/>
        </p:nvGrpSpPr>
        <p:grpSpPr>
          <a:xfrm>
            <a:off x="811080" y="944640"/>
            <a:ext cx="835200" cy="2994120"/>
            <a:chOff x="811080" y="944640"/>
            <a:chExt cx="835200" cy="2994120"/>
          </a:xfrm>
        </p:grpSpPr>
        <p:pic>
          <p:nvPicPr>
            <p:cNvPr id="32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811080" y="944640"/>
              <a:ext cx="8352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6200000">
              <a:off x="-38160" y="199080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2d2db9"/>
                  </a:solidFill>
                  <a:latin typeface="Constantia"/>
                  <a:ea typeface="SimSun"/>
                </a:rPr>
                <a:t>Вуглеводи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8" name="Прямоугольник 11"/>
          <p:cNvSpPr/>
          <p:nvPr/>
        </p:nvSpPr>
        <p:spPr>
          <a:xfrm flipV="1" rot="10800000">
            <a:off x="1763640" y="61956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1763640" y="1413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82000" y="2349360"/>
            <a:ext cx="55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88240" cy="1128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d2db9"/>
                </a:solidFill>
                <a:uFillTx/>
                <a:latin typeface="Calibri"/>
              </a:rPr>
              <a:t>Вуглеводи</a:t>
            </a:r>
            <a:r>
              <a:rPr b="0" lang="ru-RU" sz="3200" spc="-1" strike="noStrike">
                <a:solidFill>
                  <a:srgbClr val="0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цукри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2500"/>
            </a:b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Содержимое 6" descr="вуглеводи.jpg"/>
          <p:cNvPicPr/>
          <p:nvPr/>
        </p:nvPicPr>
        <p:blipFill>
          <a:blip r:embed="rId4"/>
          <a:stretch/>
        </p:blipFill>
        <p:spPr>
          <a:xfrm>
            <a:off x="1474920" y="3852720"/>
            <a:ext cx="2590560" cy="5364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6" descr="grapes2.jpg"/>
          <p:cNvPicPr/>
          <p:nvPr/>
        </p:nvPicPr>
        <p:blipFill>
          <a:blip r:embed="rId5"/>
          <a:stretch/>
        </p:blipFill>
        <p:spPr>
          <a:xfrm>
            <a:off x="6473880" y="3638520"/>
            <a:ext cx="218916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вуглевод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углево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36" name="Прямая со стрелкой 4"/>
          <p:cNvCxnSpPr/>
          <p:nvPr/>
        </p:nvCxnSpPr>
        <p:spPr>
          <a:xfrm>
            <a:off x="1999800" y="2428920"/>
            <a:ext cx="142956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TextBox 7"/>
          <p:cNvSpPr/>
          <p:nvPr/>
        </p:nvSpPr>
        <p:spPr>
          <a:xfrm>
            <a:off x="3000240" y="3357720"/>
            <a:ext cx="1643040" cy="8863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12О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573120" y="371484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глікоге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5643720" y="2071800"/>
            <a:ext cx="28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1255680" y="49291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жир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3500280" y="478620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замінні амінокисло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6143760" y="40719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3" name="Прямая со стрелкой 15"/>
          <p:cNvCxnSpPr>
            <a:endCxn id="338" idx="3"/>
          </p:cNvCxnSpPr>
          <p:nvPr/>
        </p:nvCxnSpPr>
        <p:spPr>
          <a:xfrm flipH="1">
            <a:off x="2531880" y="3785040"/>
            <a:ext cx="468720" cy="22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Прямая со стрелкой 17"/>
          <p:cNvCxnSpPr/>
          <p:nvPr/>
        </p:nvCxnSpPr>
        <p:spPr>
          <a:xfrm flipH="1">
            <a:off x="2499480" y="4000680"/>
            <a:ext cx="107244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Прямая со стрелкой 19"/>
          <p:cNvCxnSpPr/>
          <p:nvPr/>
        </p:nvCxnSpPr>
        <p:spPr>
          <a:xfrm>
            <a:off x="4142160" y="4000680"/>
            <a:ext cx="3582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Прямая со стрелкой 21"/>
          <p:cNvCxnSpPr/>
          <p:nvPr/>
        </p:nvCxnSpPr>
        <p:spPr>
          <a:xfrm>
            <a:off x="4857480" y="3714840"/>
            <a:ext cx="142956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Прямая со стрелкой 23"/>
          <p:cNvCxnSpPr/>
          <p:nvPr/>
        </p:nvCxnSpPr>
        <p:spPr>
          <a:xfrm flipV="1">
            <a:off x="4357800" y="2642760"/>
            <a:ext cx="128664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8" name="TextBox 25" descr=""/>
          <p:cNvPicPr/>
          <p:nvPr/>
        </p:nvPicPr>
        <p:blipFill>
          <a:blip r:embed="rId2"/>
          <a:stretch/>
        </p:blipFill>
        <p:spPr>
          <a:xfrm>
            <a:off x="2871720" y="1816200"/>
            <a:ext cx="2316240" cy="7617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7"/>
          <p:cNvCxnSpPr/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sp>
        <p:nvSpPr>
          <p:cNvPr id="350" name="TextBox 29"/>
          <p:cNvSpPr/>
          <p:nvPr/>
        </p:nvSpPr>
        <p:spPr>
          <a:xfrm>
            <a:off x="6500880" y="521496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молоч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>
            <a:off x="4642920" y="3929040"/>
            <a:ext cx="16441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н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аліз хімічного склад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58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uk-UA" sz="5400" spc="-1" strike="noStrike">
                <a:solidFill>
                  <a:srgbClr val="04617b"/>
                </a:solidFill>
                <a:latin typeface="Calibri"/>
              </a:rPr>
              <a:t>Аналіз калорійності</a:t>
            </a:r>
            <a:br>
              <a:rPr sz="4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Объект 5" descr=""/>
          <p:cNvPicPr/>
          <p:nvPr/>
        </p:nvPicPr>
        <p:blipFill>
          <a:blip r:embed="rId2"/>
          <a:stretch/>
        </p:blipFill>
        <p:spPr>
          <a:xfrm>
            <a:off x="406440" y="1235160"/>
            <a:ext cx="83595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Дати відповідь так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чи н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1. Глюкоза утворюється в процесі фотосинтез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2. При денатурації білків руйнуються пептидні зв'яз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3. Жири належать до класу естер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Выгнутая вверх стрелка 3"/>
          <p:cNvSpPr/>
          <p:nvPr/>
        </p:nvSpPr>
        <p:spPr>
          <a:xfrm>
            <a:off x="5286240" y="1000080"/>
            <a:ext cx="857520" cy="285840"/>
          </a:xfrm>
          <a:custGeom>
            <a:avLst/>
            <a:gdLst>
              <a:gd name="textAreaLeft" fmla="*/ 187560 w 857520"/>
              <a:gd name="textAreaRight" fmla="*/ 634320 w 8575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Выгнутая вправо стрелка 4"/>
          <p:cNvSpPr/>
          <p:nvPr/>
        </p:nvSpPr>
        <p:spPr>
          <a:xfrm rot="5400000">
            <a:off x="7786440" y="785880"/>
            <a:ext cx="285480" cy="857160"/>
          </a:xfrm>
          <a:custGeom>
            <a:avLst/>
            <a:gdLst>
              <a:gd name="textAreaLeft" fmla="*/ 38160 w 285480"/>
              <a:gd name="textAreaRight" fmla="*/ 247320 w 285480"/>
              <a:gd name="textAreaTop" fmla="*/ 187560 h 857160"/>
              <a:gd name="textAreaBottom" fmla="*/ 633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b5395"/>
                </a:solidFill>
                <a:latin typeface="Calibri"/>
              </a:rPr>
              <a:t>Добовий раціон харчув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760" y="164268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 у віці 14-18 років: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дівчат    → 2750 ккал/день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хлопців → 3150 ккал/день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Рисунок 3" descr="diabetes-food-pyramid-picture.jpg"/>
          <p:cNvPicPr/>
          <p:nvPr/>
        </p:nvPicPr>
        <p:blipFill>
          <a:blip r:embed="rId2"/>
          <a:stretch/>
        </p:blipFill>
        <p:spPr>
          <a:xfrm>
            <a:off x="681120" y="4071960"/>
            <a:ext cx="3106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71680" y="260280"/>
          <a:ext cx="8464320" cy="5810400"/>
        </p:xfrm>
        <a:graphic>
          <a:graphicData uri="http://schemas.openxmlformats.org/drawingml/2006/table">
            <a:tbl>
              <a:tblPr/>
              <a:tblGrid>
                <a:gridCol w="2973240"/>
                <a:gridCol w="3098880"/>
                <a:gridCol w="239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ду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нергетична цін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ількість проду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всян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а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п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ліб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иски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лат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к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лоч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рний шоколад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оро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тан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укор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так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62" name="Левая фигурная скобка 4"/>
          <p:cNvSpPr/>
          <p:nvPr/>
        </p:nvSpPr>
        <p:spPr>
          <a:xfrm>
            <a:off x="357120" y="857160"/>
            <a:ext cx="176400" cy="949320"/>
          </a:xfrm>
          <a:custGeom>
            <a:avLst/>
            <a:gdLst>
              <a:gd name="textAreaLeft" fmla="*/ 112680 w 176400"/>
              <a:gd name="textAreaRight" fmla="*/ 176760 w 176400"/>
              <a:gd name="textAreaTop" fmla="*/ 4320 h 949320"/>
              <a:gd name="textAreaBottom" fmla="*/ 94500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4"/>
                </a:cubicBezTo>
                <a:lnTo>
                  <a:pt x="10800" y="10466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4"/>
                </a:cubicBezTo>
                <a:lnTo>
                  <a:pt x="10800" y="21266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Левая фигурная скобка 5"/>
          <p:cNvSpPr/>
          <p:nvPr/>
        </p:nvSpPr>
        <p:spPr>
          <a:xfrm>
            <a:off x="428760" y="20001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11280"/>
              <a:gd name="textAreaBottom" fmla="*/ 15076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Левая фигурная скобка 6"/>
          <p:cNvSpPr/>
          <p:nvPr/>
        </p:nvSpPr>
        <p:spPr>
          <a:xfrm>
            <a:off x="324000" y="3571920"/>
            <a:ext cx="247680" cy="928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928800"/>
              <a:gd name="textAreaBottom" fmla="*/ 922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Левая фигурная скобка 7"/>
          <p:cNvSpPr/>
          <p:nvPr/>
        </p:nvSpPr>
        <p:spPr>
          <a:xfrm>
            <a:off x="428760" y="4643280"/>
            <a:ext cx="176040" cy="1285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4320 h 1285920"/>
              <a:gd name="textAreaBottom" fmla="*/ 12816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Box 8"/>
          <p:cNvSpPr/>
          <p:nvPr/>
        </p:nvSpPr>
        <p:spPr>
          <a:xfrm rot="16200000">
            <a:off x="-555840" y="1055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ніда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Box 9"/>
          <p:cNvSpPr/>
          <p:nvPr/>
        </p:nvSpPr>
        <p:spPr>
          <a:xfrm rot="16200000">
            <a:off x="-341280" y="24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b5395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бі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10"/>
          <p:cNvSpPr/>
          <p:nvPr/>
        </p:nvSpPr>
        <p:spPr>
          <a:xfrm rot="16200000">
            <a:off x="-479880" y="36230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уде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TextBox 11"/>
          <p:cNvSpPr/>
          <p:nvPr/>
        </p:nvSpPr>
        <p:spPr>
          <a:xfrm rot="16200000">
            <a:off x="-194400" y="498060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ечер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Прямая соединительная линия 13"/>
          <p:cNvSpPr/>
          <p:nvPr/>
        </p:nvSpPr>
        <p:spPr>
          <a:xfrm>
            <a:off x="684360" y="4365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Прямая соединительная линия 14"/>
          <p:cNvSpPr/>
          <p:nvPr/>
        </p:nvSpPr>
        <p:spPr>
          <a:xfrm>
            <a:off x="684360" y="4941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Прямая соединительная линия 15"/>
          <p:cNvSpPr/>
          <p:nvPr/>
        </p:nvSpPr>
        <p:spPr>
          <a:xfrm>
            <a:off x="684360" y="5229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684360" y="551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684360" y="4653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8"/>
          <p:cNvSpPr/>
          <p:nvPr/>
        </p:nvSpPr>
        <p:spPr>
          <a:xfrm>
            <a:off x="684360" y="4149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>
            <a:off x="684360" y="3573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Прямая соединительная линия 20"/>
          <p:cNvSpPr/>
          <p:nvPr/>
        </p:nvSpPr>
        <p:spPr>
          <a:xfrm>
            <a:off x="684360" y="3860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Прямая соединительная линия 21"/>
          <p:cNvSpPr/>
          <p:nvPr/>
        </p:nvSpPr>
        <p:spPr>
          <a:xfrm>
            <a:off x="684360" y="3284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ая соединительная линия 22"/>
          <p:cNvSpPr/>
          <p:nvPr/>
        </p:nvSpPr>
        <p:spPr>
          <a:xfrm>
            <a:off x="684360" y="30002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рямая соединительная линия 23"/>
          <p:cNvSpPr/>
          <p:nvPr/>
        </p:nvSpPr>
        <p:spPr>
          <a:xfrm>
            <a:off x="684360" y="278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рямая соединительная линия 24"/>
          <p:cNvSpPr/>
          <p:nvPr/>
        </p:nvSpPr>
        <p:spPr>
          <a:xfrm>
            <a:off x="684360" y="2492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Прямая соединительная линия 25"/>
          <p:cNvSpPr/>
          <p:nvPr/>
        </p:nvSpPr>
        <p:spPr>
          <a:xfrm>
            <a:off x="684360" y="5732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26"/>
          <p:cNvSpPr/>
          <p:nvPr/>
        </p:nvSpPr>
        <p:spPr>
          <a:xfrm>
            <a:off x="574560" y="1628640"/>
            <a:ext cx="8569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27"/>
          <p:cNvSpPr/>
          <p:nvPr/>
        </p:nvSpPr>
        <p:spPr>
          <a:xfrm>
            <a:off x="684360" y="1916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Прямая соединительная линия 28"/>
          <p:cNvSpPr/>
          <p:nvPr/>
        </p:nvSpPr>
        <p:spPr>
          <a:xfrm>
            <a:off x="684360" y="2205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Прямая соединительная линия 29"/>
          <p:cNvSpPr/>
          <p:nvPr/>
        </p:nvSpPr>
        <p:spPr>
          <a:xfrm>
            <a:off x="684360" y="134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Прямая соединительная линия 30"/>
          <p:cNvSpPr/>
          <p:nvPr/>
        </p:nvSpPr>
        <p:spPr>
          <a:xfrm>
            <a:off x="684360" y="1125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Прямая соединительная линия 31"/>
          <p:cNvSpPr/>
          <p:nvPr/>
        </p:nvSpPr>
        <p:spPr>
          <a:xfrm>
            <a:off x="684360" y="83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3635280" y="61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ма: 2900 кк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§5, доповнити конспект класної роботи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вд.2 – 4, додатково завд.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55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олекула сахарози гідролізує на дві молекули глюкоз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5. Чи правильно записані умови проведення  ксантопротеїнової реакції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білок +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NO3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конц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ий колі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5214960" y="4500720"/>
            <a:ext cx="40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6. При повному окисненні целюлози утворюється карбон(ІІ) оксид та во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рус попрацюва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Вуглеводи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жир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білки – це природні біополім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моносахаридів належать: рибоза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крохмаль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фруктоза, глюкоз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Гідроліз крохмалю відбувається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ажче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ніж целюлози, кінцевим продуктом гідролізу є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декстрин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рослинних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олій входять залишки насичених карбонових кислот: пальмітинової, маргаринової, стеаринової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білків входять мономери 20-т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амінокислот, які зв'язані між собою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одневим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зв'язк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ь на другу частин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гнутая вправо стрелка 9"/>
          <p:cNvSpPr/>
          <p:nvPr/>
        </p:nvSpPr>
        <p:spPr>
          <a:xfrm rot="4556400">
            <a:off x="2418840" y="2274840"/>
            <a:ext cx="714240" cy="2276280"/>
          </a:xfrm>
          <a:custGeom>
            <a:avLst/>
            <a:gdLst>
              <a:gd name="textAreaLeft" fmla="*/ 95400 w 714240"/>
              <a:gd name="textAreaRight" fmla="*/ 618840 w 714240"/>
              <a:gd name="textAreaTop" fmla="*/ 501840 h 2276280"/>
              <a:gd name="textAreaBottom" fmla="*/ 1685160 h 22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3579635"/>
                <a:lnTo>
                  <a:pt x="5400" y="21297"/>
                </a:lnTo>
                <a:lnTo>
                  <a:pt x="0" y="19906"/>
                </a:lnTo>
                <a:lnTo>
                  <a:pt x="5400" y="17908"/>
                </a:lnTo>
                <a:lnTo>
                  <a:pt x="5400" y="18755"/>
                </a:lnTo>
                <a:arcTo wR="21600" hR="9529" stAng="3579635" swAng="-3444284"/>
                <a:lnTo>
                  <a:pt x="21514" y="10377"/>
                </a:lnTo>
                <a:arcTo wR="21600" hR="9529" stAng="-135350" swAng="-5264650"/>
                <a:close/>
              </a:path>
              <a:path fill="darkenLess"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-135350"/>
                <a:lnTo>
                  <a:pt x="21514" y="10377"/>
                </a:lnTo>
                <a:arcTo wR="21600" hR="9529" stAng="-135350" swAng="-526465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ыгнутая вверх стрелка 10"/>
          <p:cNvSpPr/>
          <p:nvPr/>
        </p:nvSpPr>
        <p:spPr>
          <a:xfrm rot="615600">
            <a:off x="1774440" y="2080800"/>
            <a:ext cx="2178000" cy="730440"/>
          </a:xfrm>
          <a:custGeom>
            <a:avLst/>
            <a:gdLst>
              <a:gd name="textAreaLeft" fmla="*/ 475920 w 2178000"/>
              <a:gd name="textAreaRight" fmla="*/ 1610640 w 217800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3" y="0"/>
                </a:lnTo>
                <a:arcTo wR="9440" hR="21600" stAng="-5400000" swAng="3649868"/>
                <a:lnTo>
                  <a:pt x="21331" y="16481"/>
                </a:lnTo>
                <a:lnTo>
                  <a:pt x="19787" y="21600"/>
                </a:lnTo>
                <a:lnTo>
                  <a:pt x="17704" y="16481"/>
                </a:lnTo>
                <a:lnTo>
                  <a:pt x="18611" y="16481"/>
                </a:lnTo>
                <a:arcTo wR="9440" hR="21600" stAng="-1750132" swAng="-3505010"/>
                <a:lnTo>
                  <a:pt x="10347" y="100"/>
                </a:lnTo>
                <a:arcTo wR="9440" hR="21600" stAng="-5544858" swAng="-5255142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858"/>
                <a:lnTo>
                  <a:pt x="10347" y="100"/>
                </a:lnTo>
                <a:arcTo wR="9440" hR="21600" stAng="-5544858" swAng="-5255142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Выгнутая вверх стрелка 11"/>
          <p:cNvSpPr/>
          <p:nvPr/>
        </p:nvSpPr>
        <p:spPr>
          <a:xfrm rot="1573200">
            <a:off x="1761840" y="3065400"/>
            <a:ext cx="2590560" cy="857160"/>
          </a:xfrm>
          <a:custGeom>
            <a:avLst/>
            <a:gdLst>
              <a:gd name="textAreaLeft" fmla="*/ 567360 w 2590560"/>
              <a:gd name="textAreaRight" fmla="*/ 1916280 w 259056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11246" y="0"/>
                </a:lnTo>
                <a:arcTo wR="9460" hR="21600" stAng="-5400000" swAng="3568724"/>
                <a:lnTo>
                  <a:pt x="21300" y="16200"/>
                </a:lnTo>
                <a:lnTo>
                  <a:pt x="19813" y="21600"/>
                </a:lnTo>
                <a:lnTo>
                  <a:pt x="17726" y="16200"/>
                </a:lnTo>
                <a:lnTo>
                  <a:pt x="18620" y="16200"/>
                </a:lnTo>
                <a:arcTo wR="9460" hR="21600" stAng="-1831276" swAng="-3426043"/>
                <a:lnTo>
                  <a:pt x="10353" y="96"/>
                </a:lnTo>
                <a:arcTo wR="9460" hR="21600" stAng="-5542681" swAng="-5257319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42681"/>
                <a:lnTo>
                  <a:pt x="10353" y="96"/>
                </a:lnTo>
                <a:arcTo wR="9460" hR="21600" stAng="-5542681" swAng="-5257319"/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Выгнутая вверх стрелка 12"/>
          <p:cNvSpPr/>
          <p:nvPr/>
        </p:nvSpPr>
        <p:spPr>
          <a:xfrm rot="10800000">
            <a:off x="1571400" y="4285800"/>
            <a:ext cx="2300040" cy="785880"/>
          </a:xfrm>
          <a:custGeom>
            <a:avLst/>
            <a:gdLst>
              <a:gd name="textAreaLeft" fmla="*/ 501120 w 2300040"/>
              <a:gd name="textAreaRight" fmla="*/ 1700640 w 2300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7" hR="21600" stAng="10800000" swAng="5400000"/>
                <a:lnTo>
                  <a:pt x="11262" y="0"/>
                </a:lnTo>
                <a:arcTo wR="9417" hR="21600" stAng="-5400000" swAng="3561785"/>
                <a:lnTo>
                  <a:pt x="21301" y="16200"/>
                </a:lnTo>
                <a:lnTo>
                  <a:pt x="19756" y="21600"/>
                </a:lnTo>
                <a:lnTo>
                  <a:pt x="17612" y="16200"/>
                </a:lnTo>
                <a:lnTo>
                  <a:pt x="18534" y="16200"/>
                </a:lnTo>
                <a:arcTo wR="9417" hR="21600" stAng="-1838215" swAng="-3414345"/>
                <a:lnTo>
                  <a:pt x="10339" y="104"/>
                </a:lnTo>
                <a:arcTo wR="9417" hR="21600" stAng="-5547440" swAng="-5252560"/>
                <a:close/>
              </a:path>
              <a:path fill="darkenLess" w="21600" h="21600">
                <a:moveTo>
                  <a:pt x="0" y="21600"/>
                </a:moveTo>
                <a:arcTo wR="9417" hR="21600" stAng="10800000" swAng="5400000"/>
                <a:lnTo>
                  <a:pt x="9417" y="0"/>
                </a:lnTo>
                <a:arcTo wR="9417" hR="21600" stAng="-5400000" swAng="147440"/>
                <a:lnTo>
                  <a:pt x="10339" y="104"/>
                </a:lnTo>
                <a:arcTo wR="9417" hR="21600" stAng="-5547440" swAng="-525256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Выгнутая вверх стрелка 13"/>
          <p:cNvSpPr/>
          <p:nvPr/>
        </p:nvSpPr>
        <p:spPr>
          <a:xfrm rot="2184000">
            <a:off x="1699920" y="4272120"/>
            <a:ext cx="2630520" cy="817560"/>
          </a:xfrm>
          <a:custGeom>
            <a:avLst/>
            <a:gdLst>
              <a:gd name="textAreaLeft" fmla="*/ 581040 w 2630520"/>
              <a:gd name="textAreaRight" fmla="*/ 1947600 w 2630520"/>
              <a:gd name="textAreaTop" fmla="*/ 109440 h 817560"/>
              <a:gd name="textAreaBottom" fmla="*/ 7081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44" hR="21600" stAng="10800000" swAng="5400000"/>
                <a:lnTo>
                  <a:pt x="11219" y="0"/>
                </a:lnTo>
                <a:arcTo wR="9544" hR="21600" stAng="-5400000" swAng="3581913"/>
                <a:lnTo>
                  <a:pt x="21297" y="16200"/>
                </a:lnTo>
                <a:lnTo>
                  <a:pt x="19925" y="21600"/>
                </a:lnTo>
                <a:lnTo>
                  <a:pt x="17946" y="16200"/>
                </a:lnTo>
                <a:lnTo>
                  <a:pt x="18784" y="16200"/>
                </a:lnTo>
                <a:arcTo wR="9544" hR="21600" stAng="-1818087" swAng="-3448172"/>
                <a:lnTo>
                  <a:pt x="10381" y="83"/>
                </a:lnTo>
                <a:arcTo wR="9544" hR="21600" stAng="-5533741" swAng="-5266259"/>
                <a:close/>
              </a:path>
              <a:path fill="darkenLess" w="21600" h="21600">
                <a:moveTo>
                  <a:pt x="0" y="21600"/>
                </a:moveTo>
                <a:arcTo wR="9544" hR="21600" stAng="10800000" swAng="5400000"/>
                <a:lnTo>
                  <a:pt x="9544" y="0"/>
                </a:lnTo>
                <a:arcTo wR="9544" hR="21600" stAng="-5400000" swAng="133741"/>
                <a:lnTo>
                  <a:pt x="10381" y="83"/>
                </a:lnTo>
                <a:arcTo wR="9544" hR="21600" stAng="-5533741" swAng="-5266259"/>
                <a:close/>
              </a:path>
            </a:pathLst>
          </a:cu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1500120" y="21430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385776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357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000680" y="400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1357200" y="4143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Выгнутая вправо стрелка 19"/>
          <p:cNvSpPr/>
          <p:nvPr/>
        </p:nvSpPr>
        <p:spPr>
          <a:xfrm rot="5400000">
            <a:off x="2377440" y="4765680"/>
            <a:ext cx="571680" cy="2184120"/>
          </a:xfrm>
          <a:custGeom>
            <a:avLst/>
            <a:gdLst>
              <a:gd name="textAreaLeft" fmla="*/ 76320 w 571680"/>
              <a:gd name="textAreaRight" fmla="*/ 495360 w 571680"/>
              <a:gd name="textAreaTop" fmla="*/ 492480 h 2184120"/>
              <a:gd name="textAreaBottom" fmla="*/ 162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3612356"/>
                <a:lnTo>
                  <a:pt x="5400" y="21291"/>
                </a:lnTo>
                <a:lnTo>
                  <a:pt x="0" y="20188"/>
                </a:lnTo>
                <a:lnTo>
                  <a:pt x="5400" y="18466"/>
                </a:lnTo>
                <a:lnTo>
                  <a:pt x="5400" y="19172"/>
                </a:lnTo>
                <a:arcTo wR="21600" hR="9741" stAng="3612356" swAng="-3499657"/>
                <a:lnTo>
                  <a:pt x="21543" y="10447"/>
                </a:lnTo>
                <a:arcTo wR="21600" hR="9741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-112700"/>
                <a:lnTo>
                  <a:pt x="21543" y="10447"/>
                </a:lnTo>
                <a:arcTo wR="21600" hR="9741" stAng="-112700" swAng="-52873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929040" y="5357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328680" y="208080"/>
            <a:ext cx="8467560" cy="586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771280" y="3571560"/>
            <a:ext cx="308628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Органічні речови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Жири        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~20</a:t>
            </a:r>
            <a:r>
              <a:rPr b="0" lang="uk-UA" sz="3000" spc="-1" strike="noStrike">
                <a:solidFill>
                  <a:srgbClr val="ffffff"/>
                </a:solidFill>
                <a:latin typeface="Constanti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ілки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~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углеводи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2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Диаграмма 3" descr=""/>
          <p:cNvPicPr/>
          <p:nvPr/>
        </p:nvPicPr>
        <p:blipFill>
          <a:blip r:embed="rId2"/>
          <a:stretch/>
        </p:blipFill>
        <p:spPr>
          <a:xfrm>
            <a:off x="1933560" y="220680"/>
            <a:ext cx="5056200" cy="286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Оксана\Desktop\школа\1_W1MiZnx4Y.jpg"/>
          <p:cNvPicPr/>
          <p:nvPr/>
        </p:nvPicPr>
        <p:blipFill>
          <a:blip r:embed="rId3"/>
          <a:stretch/>
        </p:blipFill>
        <p:spPr>
          <a:xfrm>
            <a:off x="274680" y="3000240"/>
            <a:ext cx="2448000" cy="366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Оксана\Desktop\школа\t-man.jpg"/>
          <p:cNvPicPr/>
          <p:nvPr/>
        </p:nvPicPr>
        <p:blipFill>
          <a:blip r:embed="rId4"/>
          <a:stretch/>
        </p:blipFill>
        <p:spPr>
          <a:xfrm>
            <a:off x="5867280" y="3068640"/>
            <a:ext cx="3103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59Z</dcterms:created>
  <dc:creator>ССD</dc:creator>
  <dc:description/>
  <dc:language>en-US</dc:language>
  <cp:lastModifiedBy>Admin</cp:lastModifiedBy>
  <dcterms:modified xsi:type="dcterms:W3CDTF">2013-01-18T08:49:05Z</dcterms:modified>
  <cp:revision>153</cp:revision>
  <dc:subject/>
  <dc:title>Білки, жири, вуглеводи як компоненти їжі. Їх роль в організмі люд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4140</vt:lpwstr>
  </property>
</Properties>
</file>