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7.png" ContentType="image/png"/>
  <Override PartName="/ppt/media/image12.png" ContentType="image/png"/>
  <Override PartName="/ppt/media/image28.png" ContentType="image/png"/>
  <Override PartName="/ppt/media/image10.jpeg" ContentType="image/jpeg"/>
  <Override PartName="/ppt/media/image30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13.png" ContentType="image/png"/>
  <Override PartName="/ppt/media/image33.wmf" ContentType="image/x-wmf"/>
  <Override PartName="/ppt/media/image9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8.wmf" ContentType="image/x-wmf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B7B9-48BA-41DE-B060-07FD0A7F077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984F-329E-484C-B3F3-E139B00778E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F315-6556-4666-8C56-12753995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056F-8166-4B3C-8548-C2AA978D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864F-10DC-438D-84CD-C10E4176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FE07-1ED0-4275-AF9F-538F5546A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5FA0-9F28-4A79-BE28-6E1C8586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B72B-A912-40EA-808A-0DEA6E70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0C2C-9192-4315-93D7-A214FA59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6020-5328-4210-A3C0-D4312E91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6D93-35D1-4088-A78F-9F92CACF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754B-40EE-4FA9-9BA6-431CB9D1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D2CE-C1E5-4392-8751-DD662596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A59D-CAD4-4726-91D5-C04F4234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BDA3-C8DE-402D-9A96-B526E39B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1B96-DB8F-4F93-8374-82B64D14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7BA9-F408-4856-99CA-59436CD1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335C-AB27-4571-81A9-4573C3C7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AC19-F919-4E83-B334-80BABA61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0FF18-6E50-45CA-8F98-23224201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14427-2B72-4E6D-BEBD-5097AD60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64C18-1982-4417-BB9B-46764DA4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F54EE-6317-4F32-AD48-7E88E456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8F89E-8E9C-4432-AE8D-928D58C7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C3DB-6FAA-44C9-97D2-9540F45A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95D07-C488-4EEE-BAD2-8A70DB81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1BC6F-DB1C-4DBA-9DAB-AF30C4C3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59EB7-19DB-4A9D-A24B-28CF1745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0B477-130D-4CCE-B7D9-B0DA23B5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69750-D413-4C10-B42A-E3A37A98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AE444-86D5-49F3-8246-8F7D572F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10BC0-869A-43F8-8587-A1FF0CB9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A93E5-349E-4DC0-B8B6-5AC3E88F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9486C-97B5-495B-AE51-4DB6A81A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CB892-AD64-4FC2-A6B5-13A9A25B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8D6F-725A-42E9-B211-64C41D21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25408-1A86-4634-8A66-404585B9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CAA0E-50F8-400D-ACA5-01E72649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CD289-20AE-4565-81EE-5070BE04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BD7A4-F769-4B5E-AAF0-2FC241E5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123FD-EF73-4DDC-81D1-DF8B827A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A14B2-2EC1-49C5-88FB-A6771EF1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E028E-15BA-4727-8A89-66D4C5B2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28903-4600-44BF-8F78-D3DBC701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B8195-17F1-41E7-955C-91FD4158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A7EA-4A16-4133-9F48-D5CDF433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41C2-D712-4B46-9918-B3A800DB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A9A-C4F4-4687-A2D2-24A5FDC9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3636-5E33-462B-BE62-1B0D0AD6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971E-FF37-4E4D-8618-55EE76F1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4B7B-FCAB-4CE5-9E73-2003B5E2981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38D1-05CC-4AE4-9064-DBFA2708A63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D0AD-0ACD-4F19-8086-2E693FF9749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5776-EEB1-42CC-BFCD-9375FC08B5C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2"/>
          <a:stretch/>
        </p:blipFill>
        <p:spPr>
          <a:xfrm>
            <a:off x="469800" y="701640"/>
            <a:ext cx="8113680" cy="25592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429000"/>
            <a:ext cx="7854840" cy="2000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Підготувал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учитель хімії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спеціалізованої школи №97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імені Олени Теліг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Бондарчук Ірина Дмитрів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Організм – відкрита систем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Содержимое 3" descr="article-0-118672AC000005DC-292_634x8061.jpg"/>
          <p:cNvPicPr/>
          <p:nvPr/>
        </p:nvPicPr>
        <p:blipFill>
          <a:blip r:embed="rId2"/>
          <a:stretch/>
        </p:blipFill>
        <p:spPr>
          <a:xfrm>
            <a:off x="2701800" y="1357200"/>
            <a:ext cx="3740400" cy="4967280"/>
          </a:xfrm>
          <a:prstGeom prst="rect">
            <a:avLst/>
          </a:prstGeom>
          <a:ln w="0">
            <a:noFill/>
          </a:ln>
        </p:spPr>
      </p:pic>
      <p:sp>
        <p:nvSpPr>
          <p:cNvPr id="238" name="TextBox 4"/>
          <p:cNvSpPr/>
          <p:nvPr/>
        </p:nvSpPr>
        <p:spPr>
          <a:xfrm>
            <a:off x="214200" y="1500120"/>
            <a:ext cx="16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Constantia"/>
              </a:rPr>
              <a:t>О2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928800" y="207180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onstantia"/>
              </a:rPr>
              <a:t>Н2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285840" y="2857680"/>
            <a:ext cx="235728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Жир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Білк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Вуглевод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extBox 8"/>
          <p:cNvSpPr/>
          <p:nvPr/>
        </p:nvSpPr>
        <p:spPr>
          <a:xfrm>
            <a:off x="285840" y="4572000"/>
            <a:ext cx="207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неральні солі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тамін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42" name="Прямая со стрелкой 10"/>
          <p:cNvCxnSpPr/>
          <p:nvPr/>
        </p:nvCxnSpPr>
        <p:spPr>
          <a:xfrm>
            <a:off x="1356840" y="1857240"/>
            <a:ext cx="2072520" cy="929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43" name="Прямая со стрелкой 12"/>
          <p:cNvCxnSpPr/>
          <p:nvPr/>
        </p:nvCxnSpPr>
        <p:spPr>
          <a:xfrm>
            <a:off x="2285640" y="3571920"/>
            <a:ext cx="114372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44" name="Прямая со стрелкой 14"/>
          <p:cNvCxnSpPr/>
          <p:nvPr/>
        </p:nvCxnSpPr>
        <p:spPr>
          <a:xfrm flipV="1">
            <a:off x="1857240" y="4500000"/>
            <a:ext cx="1643760" cy="929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5" name="TextBox 16"/>
          <p:cNvSpPr/>
          <p:nvPr/>
        </p:nvSpPr>
        <p:spPr>
          <a:xfrm>
            <a:off x="6929280" y="1428840"/>
            <a:ext cx="16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onstantia"/>
              </a:rPr>
              <a:t>Н2О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TextBox 17"/>
          <p:cNvSpPr/>
          <p:nvPr/>
        </p:nvSpPr>
        <p:spPr>
          <a:xfrm>
            <a:off x="7215120" y="2786040"/>
            <a:ext cx="121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СО2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TextBox 18"/>
          <p:cNvSpPr/>
          <p:nvPr/>
        </p:nvSpPr>
        <p:spPr>
          <a:xfrm>
            <a:off x="6572160" y="4357800"/>
            <a:ext cx="257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ечови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ечова кисло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Неперетравлені решт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48" name="Прямая со стрелкой 20"/>
          <p:cNvCxnSpPr>
            <a:endCxn id="245" idx="1"/>
          </p:cNvCxnSpPr>
          <p:nvPr/>
        </p:nvCxnSpPr>
        <p:spPr>
          <a:xfrm flipV="1">
            <a:off x="5357520" y="1890360"/>
            <a:ext cx="1572120" cy="86256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9" name="Прямая со стрелкой 23"/>
          <p:cNvCxnSpPr/>
          <p:nvPr/>
        </p:nvCxnSpPr>
        <p:spPr>
          <a:xfrm flipV="1">
            <a:off x="5428800" y="3142440"/>
            <a:ext cx="1429560" cy="723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50" name="Прямая со стрелкой 26"/>
          <p:cNvCxnSpPr/>
          <p:nvPr/>
        </p:nvCxnSpPr>
        <p:spPr>
          <a:xfrm>
            <a:off x="5357520" y="4429080"/>
            <a:ext cx="1215000" cy="57240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Содержимое 1"/>
          <p:cNvGrpSpPr/>
          <p:nvPr/>
        </p:nvGrpSpPr>
        <p:grpSpPr>
          <a:xfrm>
            <a:off x="353880" y="1249200"/>
            <a:ext cx="8436240" cy="5456520"/>
            <a:chOff x="353880" y="1249200"/>
            <a:chExt cx="8436240" cy="5456520"/>
          </a:xfrm>
        </p:grpSpPr>
        <p:pic>
          <p:nvPicPr>
            <p:cNvPr id="252" name="Содержимое 1" descr=""/>
            <p:cNvPicPr/>
            <p:nvPr/>
          </p:nvPicPr>
          <p:blipFill>
            <a:blip r:embed="rId2"/>
            <a:stretch/>
          </p:blipFill>
          <p:spPr>
            <a:xfrm>
              <a:off x="353880" y="1249200"/>
              <a:ext cx="8436240" cy="545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7200" y="1357200"/>
              <a:ext cx="82296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клад жирних кислот y соняшниковій олії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uk-UA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стеаринова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1,6-4,6% (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17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H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35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O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ОН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ru-RU" sz="3200" spc="-1" strike="noStrike">
                  <a:solidFill>
                    <a:srgbClr val="ffc000"/>
                  </a:solidFill>
                  <a:latin typeface="Arial"/>
                  <a:ea typeface="Arial"/>
                </a:rPr>
                <a:t>пальмітинова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3,5-6,4%(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1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5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H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3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1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С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ОН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ru-RU" sz="3200" spc="-1" strike="noStrike">
                  <a:solidFill>
                    <a:srgbClr val="c00000"/>
                  </a:solidFill>
                  <a:latin typeface="Arial"/>
                  <a:ea typeface="Arial"/>
                </a:rPr>
                <a:t>міристинова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до 0,1%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(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1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3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H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2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7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С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ОН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 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92d050"/>
                  </a:solidFill>
                  <a:latin typeface="Arial"/>
                  <a:ea typeface="Arial"/>
                </a:rPr>
                <a:t>арахі</a:t>
              </a:r>
              <a:r>
                <a:rPr b="0" lang="uk-UA" sz="3200" spc="-1" strike="noStrike">
                  <a:solidFill>
                    <a:srgbClr val="92d050"/>
                  </a:solidFill>
                  <a:latin typeface="Arial"/>
                  <a:ea typeface="Arial"/>
                </a:rPr>
                <a:t>до</a:t>
              </a:r>
              <a:r>
                <a:rPr b="0" lang="ru-RU" sz="3200" spc="-1" strike="noStrike">
                  <a:solidFill>
                    <a:srgbClr val="92d050"/>
                  </a:solidFill>
                  <a:latin typeface="Arial"/>
                  <a:ea typeface="Arial"/>
                </a:rPr>
                <a:t>нова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0,7-0,9%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 (С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19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Н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39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С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ОН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b050"/>
                  </a:solidFill>
                  <a:latin typeface="Arial"/>
                  <a:ea typeface="Arial"/>
                </a:rPr>
                <a:t>олеїнова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        24-40%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(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1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7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H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3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3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С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ОН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 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b0f0"/>
                  </a:solidFill>
                  <a:latin typeface="Arial"/>
                  <a:ea typeface="Arial"/>
                </a:rPr>
                <a:t>лінолева     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46 -62 %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 (С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17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H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31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OOH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601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ru-RU" sz="3200" spc="-1" strike="noStrike">
                  <a:solidFill>
                    <a:srgbClr val="0070c0"/>
                  </a:solidFill>
                  <a:latin typeface="Arial"/>
                  <a:ea typeface="Arial"/>
                </a:rPr>
                <a:t>ліноленова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   до 1 %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 (С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17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H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31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OOH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54" name="Заголовок 2"/>
          <p:cNvGrpSpPr/>
          <p:nvPr/>
        </p:nvGrpSpPr>
        <p:grpSpPr>
          <a:xfrm>
            <a:off x="933480" y="225360"/>
            <a:ext cx="7277040" cy="1036800"/>
            <a:chOff x="933480" y="225360"/>
            <a:chExt cx="7277040" cy="1036800"/>
          </a:xfrm>
        </p:grpSpPr>
        <p:pic>
          <p:nvPicPr>
            <p:cNvPr id="255" name="Заголовок 2" descr=""/>
            <p:cNvPicPr/>
            <p:nvPr/>
          </p:nvPicPr>
          <p:blipFill>
            <a:blip r:embed="rId3"/>
            <a:stretch/>
          </p:blipFill>
          <p:spPr>
            <a:xfrm>
              <a:off x="933480" y="225360"/>
              <a:ext cx="727704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042920" y="274680"/>
              <a:ext cx="705816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500" spc="-1" strike="noStrike">
                  <a:solidFill>
                    <a:srgbClr val="000000"/>
                  </a:solidFill>
                  <a:latin typeface="Constantia"/>
                </a:rPr>
                <a:t>Склад соняшникової олії</a:t>
              </a:r>
              <a:endParaRPr b="0" lang="en-US" sz="45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57" name="Прямая соединительная линия 4"/>
          <p:cNvSpPr/>
          <p:nvPr/>
        </p:nvSpPr>
        <p:spPr>
          <a:xfrm>
            <a:off x="1071720" y="4357800"/>
            <a:ext cx="728640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uk-UA" sz="4900" spc="-1" strike="noStrike">
                <a:solidFill>
                  <a:srgbClr val="04617b"/>
                </a:solidFill>
                <a:latin typeface="Constantia"/>
              </a:rPr>
              <a:t>Перетворення жирів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Рисунок 3" descr="жир.jpg"/>
          <p:cNvPicPr/>
          <p:nvPr/>
        </p:nvPicPr>
        <p:blipFill>
          <a:blip r:embed="rId2"/>
          <a:stretch/>
        </p:blipFill>
        <p:spPr>
          <a:xfrm>
            <a:off x="214200" y="1071720"/>
            <a:ext cx="3013200" cy="20714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4500720" y="6429240"/>
            <a:ext cx="857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Прямоугольник 5"/>
          <p:cNvSpPr/>
          <p:nvPr/>
        </p:nvSpPr>
        <p:spPr>
          <a:xfrm>
            <a:off x="4643280" y="135720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іцерин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3714840" y="3071880"/>
            <a:ext cx="221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ні кислоти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Прямоугольник 8"/>
          <p:cNvSpPr/>
          <p:nvPr/>
        </p:nvSpPr>
        <p:spPr>
          <a:xfrm>
            <a:off x="1933920" y="4857840"/>
            <a:ext cx="114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65" name="Прямая со стрелкой 10"/>
          <p:cNvCxnSpPr/>
          <p:nvPr/>
        </p:nvCxnSpPr>
        <p:spPr>
          <a:xfrm>
            <a:off x="3357720" y="3143160"/>
            <a:ext cx="643320" cy="3578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6" name="Прямая со стрелкой 12"/>
          <p:cNvCxnSpPr/>
          <p:nvPr/>
        </p:nvCxnSpPr>
        <p:spPr>
          <a:xfrm flipV="1">
            <a:off x="3428640" y="1856520"/>
            <a:ext cx="1143720" cy="7236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67" name="Прямая со стрелкой 14"/>
          <p:cNvCxnSpPr/>
          <p:nvPr/>
        </p:nvCxnSpPr>
        <p:spPr>
          <a:xfrm flipV="1">
            <a:off x="6000480" y="3142440"/>
            <a:ext cx="1429560" cy="429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8" name="Прямая со стрелкой 16"/>
          <p:cNvCxnSpPr/>
          <p:nvPr/>
        </p:nvCxnSpPr>
        <p:spPr>
          <a:xfrm flipH="1">
            <a:off x="3214080" y="2571480"/>
            <a:ext cx="1572120" cy="1857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9" name="Прямая со стрелкой 18"/>
          <p:cNvCxnSpPr>
            <a:stCxn id="263" idx="2"/>
          </p:cNvCxnSpPr>
          <p:nvPr/>
        </p:nvCxnSpPr>
        <p:spPr>
          <a:xfrm flipH="1">
            <a:off x="3714480" y="4518000"/>
            <a:ext cx="1108800" cy="626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70" name="Рисунок 13" descr="дети дети.jpg"/>
          <p:cNvPicPr/>
          <p:nvPr/>
        </p:nvPicPr>
        <p:blipFill>
          <a:blip r:embed="rId3"/>
          <a:stretch/>
        </p:blipFill>
        <p:spPr>
          <a:xfrm>
            <a:off x="5286240" y="4429080"/>
            <a:ext cx="3436920" cy="22147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5"/>
          <p:cNvSpPr/>
          <p:nvPr/>
        </p:nvSpPr>
        <p:spPr>
          <a:xfrm>
            <a:off x="7500960" y="2786040"/>
            <a:ext cx="500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2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2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еретворення  білкі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5143680" y="3357720"/>
            <a:ext cx="2714400" cy="1068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інокисло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571680" y="228600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білк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3786120" y="5143680"/>
            <a:ext cx="121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білк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TextBox 6"/>
          <p:cNvSpPr/>
          <p:nvPr/>
        </p:nvSpPr>
        <p:spPr>
          <a:xfrm>
            <a:off x="6000840" y="4786200"/>
            <a:ext cx="207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жирні кисло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TextBox 7" descr=""/>
          <p:cNvPicPr/>
          <p:nvPr/>
        </p:nvPicPr>
        <p:blipFill>
          <a:blip r:embed="rId2"/>
          <a:stretch/>
        </p:blipFill>
        <p:spPr>
          <a:xfrm>
            <a:off x="7412040" y="1536840"/>
            <a:ext cx="1281240" cy="1047600"/>
          </a:xfrm>
          <a:prstGeom prst="rect">
            <a:avLst/>
          </a:prstGeom>
          <a:ln w="0">
            <a:noFill/>
          </a:ln>
        </p:spPr>
      </p:pic>
      <p:cxnSp>
        <p:nvCxnSpPr>
          <p:cNvPr id="279" name="Прямая со стрелкой 9"/>
          <p:cNvCxnSpPr/>
          <p:nvPr/>
        </p:nvCxnSpPr>
        <p:spPr>
          <a:xfrm flipV="1">
            <a:off x="5500800" y="2642400"/>
            <a:ext cx="357840" cy="4294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80" name="Прямая со стрелкой 11"/>
          <p:cNvCxnSpPr/>
          <p:nvPr/>
        </p:nvCxnSpPr>
        <p:spPr>
          <a:xfrm flipH="1">
            <a:off x="4571280" y="4214880"/>
            <a:ext cx="1072440" cy="929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1" name="Прямая со стрелкой 13"/>
          <p:cNvCxnSpPr/>
          <p:nvPr/>
        </p:nvCxnSpPr>
        <p:spPr>
          <a:xfrm flipH="1">
            <a:off x="6857640" y="4214520"/>
            <a:ext cx="2160" cy="572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2" name="Прямая со стрелкой 15"/>
          <p:cNvCxnSpPr/>
          <p:nvPr/>
        </p:nvCxnSpPr>
        <p:spPr>
          <a:xfrm flipV="1">
            <a:off x="6858000" y="2642760"/>
            <a:ext cx="714960" cy="572400"/>
          </a:xfrm>
          <a:prstGeom prst="straightConnector1">
            <a:avLst/>
          </a:prstGeom>
          <a:ln w="38160">
            <a:solidFill>
              <a:srgbClr val="10cf9b"/>
            </a:solidFill>
            <a:miter/>
            <a:tailEnd len="med" type="arrow" w="med"/>
          </a:ln>
        </p:spPr>
      </p:cxnSp>
      <p:pic>
        <p:nvPicPr>
          <p:cNvPr id="283" name="Рисунок 12" descr="produkty-bilkovi.jpg"/>
          <p:cNvPicPr/>
          <p:nvPr/>
        </p:nvPicPr>
        <p:blipFill>
          <a:blip r:embed="rId3"/>
          <a:stretch/>
        </p:blipFill>
        <p:spPr>
          <a:xfrm>
            <a:off x="0" y="1643040"/>
            <a:ext cx="4754520" cy="2500200"/>
          </a:xfrm>
          <a:prstGeom prst="rect">
            <a:avLst/>
          </a:prstGeom>
          <a:ln w="0">
            <a:noFill/>
          </a:ln>
        </p:spPr>
      </p:pic>
      <p:cxnSp>
        <p:nvCxnSpPr>
          <p:cNvPr id="284" name="Прямая со стрелкой 16"/>
          <p:cNvCxnSpPr/>
          <p:nvPr/>
        </p:nvCxnSpPr>
        <p:spPr>
          <a:xfrm flipH="1">
            <a:off x="1498320" y="4215960"/>
            <a:ext cx="2160" cy="10724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85" name="TextBox 17"/>
          <p:cNvSpPr/>
          <p:nvPr/>
        </p:nvSpPr>
        <p:spPr>
          <a:xfrm>
            <a:off x="428760" y="5286240"/>
            <a:ext cx="2286000" cy="94716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денатураці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86" name="Прямая со стрелкой 19"/>
          <p:cNvCxnSpPr/>
          <p:nvPr/>
        </p:nvCxnSpPr>
        <p:spPr>
          <a:xfrm flipV="1">
            <a:off x="2500200" y="4214520"/>
            <a:ext cx="2501280" cy="10720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87" name="TextBox 18"/>
          <p:cNvSpPr/>
          <p:nvPr/>
        </p:nvSpPr>
        <p:spPr>
          <a:xfrm>
            <a:off x="5000760" y="1357200"/>
            <a:ext cx="228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изько-молекулярні речовин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88" name="Прямая со стрелкой 22"/>
          <p:cNvCxnSpPr/>
          <p:nvPr/>
        </p:nvCxnSpPr>
        <p:spPr>
          <a:xfrm>
            <a:off x="7071840" y="1785600"/>
            <a:ext cx="429480" cy="214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9" name="Прямая соединительная линия 24"/>
          <p:cNvSpPr/>
          <p:nvPr/>
        </p:nvSpPr>
        <p:spPr>
          <a:xfrm>
            <a:off x="4857840" y="3071880"/>
            <a:ext cx="642960" cy="14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Класифікація білкі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Фермен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Транспортні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Захисні білк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Білки - гормон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Скоротливі білк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Структурні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4214880" y="2643120"/>
            <a:ext cx="2000160" cy="94716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глобулярні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4286160" y="4572000"/>
            <a:ext cx="2071800" cy="947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фібрилярні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6929280" y="3500280"/>
            <a:ext cx="14288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БІЛК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95" name="Прямая со стрелкой 7"/>
          <p:cNvCxnSpPr/>
          <p:nvPr/>
        </p:nvCxnSpPr>
        <p:spPr>
          <a:xfrm flipH="1">
            <a:off x="6357600" y="4142160"/>
            <a:ext cx="1286640" cy="7866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96" name="Прямая со стрелкой 10"/>
          <p:cNvCxnSpPr/>
          <p:nvPr/>
        </p:nvCxnSpPr>
        <p:spPr>
          <a:xfrm flipH="1" flipV="1">
            <a:off x="6285960" y="2928240"/>
            <a:ext cx="1286280" cy="4294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97" name="Правая фигурная скобка 16"/>
          <p:cNvSpPr/>
          <p:nvPr/>
        </p:nvSpPr>
        <p:spPr>
          <a:xfrm>
            <a:off x="4000680" y="2143080"/>
            <a:ext cx="285480" cy="2000160"/>
          </a:xfrm>
          <a:custGeom>
            <a:avLst/>
            <a:gdLst>
              <a:gd name="textAreaLeft" fmla="*/ 0 w 285480"/>
              <a:gd name="textAreaRight" fmla="*/ 102960 w 285480"/>
              <a:gd name="textAreaTop" fmla="*/ 7200 h 2000160"/>
              <a:gd name="textAreaBottom" fmla="*/ 1992960 h 20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9"/>
                  <a:pt x="10800" y="257"/>
                </a:cubicBezTo>
                <a:lnTo>
                  <a:pt x="10800" y="10543"/>
                </a:lnTo>
                <a:cubicBezTo>
                  <a:pt x="10800" y="10672"/>
                  <a:pt x="16200" y="10800"/>
                  <a:pt x="21600" y="10800"/>
                </a:cubicBezTo>
                <a:cubicBezTo>
                  <a:pt x="16200" y="10800"/>
                  <a:pt x="10800" y="10929"/>
                  <a:pt x="10800" y="11057"/>
                </a:cubicBezTo>
                <a:lnTo>
                  <a:pt x="10800" y="21343"/>
                </a:lnTo>
                <a:cubicBezTo>
                  <a:pt x="10800" y="2147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Правая фигурная скобка 17"/>
          <p:cNvSpPr/>
          <p:nvPr/>
        </p:nvSpPr>
        <p:spPr>
          <a:xfrm>
            <a:off x="4071960" y="4429080"/>
            <a:ext cx="214200" cy="928800"/>
          </a:xfrm>
          <a:custGeom>
            <a:avLst/>
            <a:gdLst>
              <a:gd name="textAreaLeft" fmla="*/ 0 w 214200"/>
              <a:gd name="textAreaRight" fmla="*/ 77400 w 214200"/>
              <a:gd name="textAreaTop" fmla="*/ 5400 h 928800"/>
              <a:gd name="textAreaBottom" fmla="*/ 9234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8"/>
                  <a:pt x="10800" y="415"/>
                </a:cubicBezTo>
                <a:lnTo>
                  <a:pt x="10800" y="10385"/>
                </a:lnTo>
                <a:cubicBezTo>
                  <a:pt x="10800" y="10593"/>
                  <a:pt x="16200" y="10800"/>
                  <a:pt x="21600" y="10800"/>
                </a:cubicBezTo>
                <a:cubicBezTo>
                  <a:pt x="16200" y="10800"/>
                  <a:pt x="10800" y="11008"/>
                  <a:pt x="10800" y="11215"/>
                </a:cubicBezTo>
                <a:lnTo>
                  <a:pt x="10800" y="21185"/>
                </a:lnTo>
                <a:cubicBezTo>
                  <a:pt x="10800" y="2139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Прямая соединительная линия 19"/>
          <p:cNvSpPr/>
          <p:nvPr/>
        </p:nvSpPr>
        <p:spPr>
          <a:xfrm>
            <a:off x="571680" y="4286160"/>
            <a:ext cx="34290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Рисунок 7" descr=""/>
          <p:cNvPicPr/>
          <p:nvPr/>
        </p:nvPicPr>
        <p:blipFill>
          <a:blip r:embed="rId2"/>
          <a:stretch/>
        </p:blipFill>
        <p:spPr>
          <a:xfrm>
            <a:off x="316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1" name="Солнце 4"/>
          <p:cNvGrpSpPr/>
          <p:nvPr/>
        </p:nvGrpSpPr>
        <p:grpSpPr>
          <a:xfrm>
            <a:off x="225360" y="158760"/>
            <a:ext cx="2438640" cy="2395440"/>
            <a:chOff x="225360" y="158760"/>
            <a:chExt cx="2438640" cy="2395440"/>
          </a:xfrm>
        </p:grpSpPr>
        <p:pic>
          <p:nvPicPr>
            <p:cNvPr id="302" name="Солнце 4" descr=""/>
            <p:cNvPicPr/>
            <p:nvPr/>
          </p:nvPicPr>
          <p:blipFill>
            <a:blip r:embed="rId3"/>
            <a:stretch/>
          </p:blipFill>
          <p:spPr>
            <a:xfrm>
              <a:off x="225360" y="158760"/>
              <a:ext cx="2438640" cy="23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1049400" y="930240"/>
              <a:ext cx="79524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304" name="Прямоугольник 8"/>
          <p:cNvGrpSpPr/>
          <p:nvPr/>
        </p:nvGrpSpPr>
        <p:grpSpPr>
          <a:xfrm>
            <a:off x="7590960" y="5114880"/>
            <a:ext cx="981360" cy="895320"/>
            <a:chOff x="7590960" y="5114880"/>
            <a:chExt cx="981360" cy="895320"/>
          </a:xfrm>
        </p:grpSpPr>
        <p:pic>
          <p:nvPicPr>
            <p:cNvPr id="305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7590960" y="5114880"/>
              <a:ext cx="9813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 rot="18624000">
              <a:off x="8015040" y="5025600"/>
              <a:ext cx="12996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07" name="Дуга 9"/>
          <p:cNvSpPr/>
          <p:nvPr/>
        </p:nvSpPr>
        <p:spPr>
          <a:xfrm>
            <a:off x="6672240" y="4076640"/>
            <a:ext cx="60480" cy="46080"/>
          </a:xfrm>
          <a:custGeom>
            <a:avLst/>
            <a:gdLst>
              <a:gd name="textAreaLeft" fmla="*/ 30240 w 60480"/>
              <a:gd name="textAreaRight" fmla="*/ 60840 w 60480"/>
              <a:gd name="textAreaTop" fmla="*/ 0 h 46080"/>
              <a:gd name="textAreaBottom" fmla="*/ 23040 h 46080"/>
            </a:gdLst>
            <a:ahLst/>
            <a:rect l="textAreaLeft" t="textAreaTop" r="textAreaRight" b="textAreaBottom"/>
            <a:pathLst>
              <a:path stroke="0" w="60325" h="46038">
                <a:moveTo>
                  <a:pt x="30163" y="0"/>
                </a:moveTo>
                <a:lnTo>
                  <a:pt x="-5202" y="-10522"/>
                </a:lnTo>
                <a:arcTo wR="-2605" hR="-9749" stAng="-9805885" swAng="4678607"/>
                <a:lnTo>
                  <a:pt x="30163" y="23019"/>
                </a:lnTo>
                <a:close/>
              </a:path>
              <a:path fill="none" w="60325" h="46038">
                <a:moveTo>
                  <a:pt x="30163" y="0"/>
                </a:moveTo>
                <a:lnTo>
                  <a:pt x="-5202" y="-10522"/>
                </a:lnTo>
                <a:arcTo wR="-2605" hR="-9749" stAng="-9805885" swAng="4678607"/>
              </a:path>
            </a:pathLst>
          </a:custGeom>
          <a:noFill/>
          <a:ln w="9360">
            <a:solidFill>
              <a:srgbClr val="065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Прямая соединительная линия 11"/>
          <p:cNvSpPr/>
          <p:nvPr/>
        </p:nvSpPr>
        <p:spPr>
          <a:xfrm flipH="1" flipV="1">
            <a:off x="6037200" y="4187880"/>
            <a:ext cx="1658880" cy="1009440"/>
          </a:xfrm>
          <a:prstGeom prst="line">
            <a:avLst/>
          </a:prstGeom>
          <a:ln w="25560">
            <a:solidFill>
              <a:srgbClr val="066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9" name="TextBox 29" descr=""/>
          <p:cNvPicPr/>
          <p:nvPr/>
        </p:nvPicPr>
        <p:blipFill>
          <a:blip r:embed="rId5"/>
          <a:stretch/>
        </p:blipFill>
        <p:spPr>
          <a:xfrm>
            <a:off x="1146240" y="817560"/>
            <a:ext cx="4541760" cy="3602160"/>
          </a:xfrm>
          <a:prstGeom prst="rect">
            <a:avLst/>
          </a:prstGeom>
          <a:ln w="0">
            <a:noFill/>
          </a:ln>
        </p:spPr>
      </p:pic>
      <p:grpSp>
        <p:nvGrpSpPr>
          <p:cNvPr id="310" name="Сердце 5"/>
          <p:cNvGrpSpPr/>
          <p:nvPr/>
        </p:nvGrpSpPr>
        <p:grpSpPr>
          <a:xfrm>
            <a:off x="4925880" y="3419640"/>
            <a:ext cx="3956040" cy="3200400"/>
            <a:chOff x="4925880" y="3419640"/>
            <a:chExt cx="3956040" cy="3200400"/>
          </a:xfrm>
        </p:grpSpPr>
        <p:pic>
          <p:nvPicPr>
            <p:cNvPr id="311" name="Сердце 5" descr=""/>
            <p:cNvPicPr/>
            <p:nvPr/>
          </p:nvPicPr>
          <p:blipFill>
            <a:blip r:embed="rId6"/>
            <a:stretch/>
          </p:blipFill>
          <p:spPr>
            <a:xfrm>
              <a:off x="4925880" y="3419640"/>
              <a:ext cx="395604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 rot="7275000">
              <a:off x="5929920" y="3891600"/>
              <a:ext cx="1830240" cy="16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313" name="TextBox 36" descr=""/>
          <p:cNvPicPr/>
          <p:nvPr/>
        </p:nvPicPr>
        <p:blipFill>
          <a:blip r:embed="rId7"/>
          <a:stretch/>
        </p:blipFill>
        <p:spPr>
          <a:xfrm>
            <a:off x="5376960" y="3413160"/>
            <a:ext cx="2651040" cy="2566800"/>
          </a:xfrm>
          <a:prstGeom prst="rect">
            <a:avLst/>
          </a:prstGeom>
          <a:ln w="0">
            <a:noFill/>
          </a:ln>
        </p:spPr>
      </p:pic>
      <p:grpSp>
        <p:nvGrpSpPr>
          <p:cNvPr id="314" name="Молния 41"/>
          <p:cNvGrpSpPr/>
          <p:nvPr/>
        </p:nvGrpSpPr>
        <p:grpSpPr>
          <a:xfrm>
            <a:off x="2382840" y="792000"/>
            <a:ext cx="824040" cy="1165320"/>
            <a:chOff x="2382840" y="792000"/>
            <a:chExt cx="824040" cy="1165320"/>
          </a:xfrm>
        </p:grpSpPr>
        <p:pic>
          <p:nvPicPr>
            <p:cNvPr id="315" name="Молния 41" descr=""/>
            <p:cNvPicPr/>
            <p:nvPr/>
          </p:nvPicPr>
          <p:blipFill>
            <a:blip r:embed="rId8"/>
            <a:stretch/>
          </p:blipFill>
          <p:spPr>
            <a:xfrm>
              <a:off x="2382840" y="792000"/>
              <a:ext cx="824040" cy="11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2728800" y="1181160"/>
              <a:ext cx="1620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17" name="Облако 40"/>
          <p:cNvSpPr/>
          <p:nvPr/>
        </p:nvSpPr>
        <p:spPr>
          <a:xfrm>
            <a:off x="1598760" y="214200"/>
            <a:ext cx="2109600" cy="865440"/>
          </a:xfrm>
          <a:custGeom>
            <a:avLst/>
            <a:gdLst>
              <a:gd name="textAreaLeft" fmla="*/ 290520 w 2109600"/>
              <a:gd name="textAreaRight" fmla="*/ 1668960 w 2109600"/>
              <a:gd name="textAreaTop" fmla="*/ 130680 h 865440"/>
              <a:gd name="textAreaBottom" fmla="*/ 694800 h 8654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fffff"/>
          </a:solidFill>
          <a:ln w="9360">
            <a:solidFill>
              <a:srgbClr val="069a72"/>
            </a:solidFill>
            <a:round/>
          </a:ln>
          <a:effectLst>
            <a:outerShdw dist="38160" dir="5400000" blurRad="0" rotWithShape="0">
              <a:srgbClr val="00453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Стрелка вниз 42"/>
          <p:cNvSpPr/>
          <p:nvPr/>
        </p:nvSpPr>
        <p:spPr>
          <a:xfrm rot="19602600">
            <a:off x="1653840" y="2087280"/>
            <a:ext cx="565200" cy="128088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Стрелка вниз 44"/>
          <p:cNvSpPr/>
          <p:nvPr/>
        </p:nvSpPr>
        <p:spPr>
          <a:xfrm rot="19602600">
            <a:off x="2673360" y="1461600"/>
            <a:ext cx="479520" cy="110664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0" name="TextBox 46" descr=""/>
          <p:cNvPicPr/>
          <p:nvPr/>
        </p:nvPicPr>
        <p:blipFill>
          <a:blip r:embed="rId9"/>
          <a:stretch/>
        </p:blipFill>
        <p:spPr>
          <a:xfrm>
            <a:off x="1755720" y="298440"/>
            <a:ext cx="1816200" cy="781200"/>
          </a:xfrm>
          <a:prstGeom prst="rect">
            <a:avLst/>
          </a:prstGeom>
          <a:ln w="0">
            <a:noFill/>
          </a:ln>
        </p:spPr>
      </p:pic>
      <p:pic>
        <p:nvPicPr>
          <p:cNvPr id="321" name="TextBox 47" descr=""/>
          <p:cNvPicPr/>
          <p:nvPr/>
        </p:nvPicPr>
        <p:blipFill>
          <a:blip r:embed="rId10"/>
          <a:stretch/>
        </p:blipFill>
        <p:spPr>
          <a:xfrm>
            <a:off x="189000" y="444600"/>
            <a:ext cx="2328840" cy="1633320"/>
          </a:xfrm>
          <a:prstGeom prst="rect">
            <a:avLst/>
          </a:prstGeom>
          <a:ln w="0">
            <a:noFill/>
          </a:ln>
        </p:spPr>
      </p:pic>
      <p:pic>
        <p:nvPicPr>
          <p:cNvPr id="322" name="TextBox 6" descr=""/>
          <p:cNvPicPr/>
          <p:nvPr/>
        </p:nvPicPr>
        <p:blipFill>
          <a:blip r:embed="rId11"/>
          <a:stretch/>
        </p:blipFill>
        <p:spPr>
          <a:xfrm>
            <a:off x="5400720" y="4181400"/>
            <a:ext cx="2925720" cy="939960"/>
          </a:xfrm>
          <a:prstGeom prst="rect">
            <a:avLst/>
          </a:prstGeom>
          <a:ln w="0">
            <a:noFill/>
          </a:ln>
        </p:spPr>
      </p:pic>
      <p:sp>
        <p:nvSpPr>
          <p:cNvPr id="323" name="TextBox 16"/>
          <p:cNvSpPr/>
          <p:nvPr/>
        </p:nvSpPr>
        <p:spPr>
          <a:xfrm>
            <a:off x="4643280" y="857160"/>
            <a:ext cx="1928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6" dur="7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75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with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3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with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40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250"/>
                            </p:stCondLst>
                            <p:childTnLst>
                              <p:par>
                                <p:cTn id="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250"/>
                            </p:stCondLst>
                            <p:childTnLst>
                              <p:par>
                                <p:cTn id="5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750"/>
                            </p:stCondLst>
                            <p:childTnLst>
                              <p:par>
                                <p:cTn id="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75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7037E-007 L 3.05556E-006 -0.02523 C 3.05556E-006 -0.03657 0.06441 -0.05046 0.11701 -0.05046 L 0.2342 -0.05046 E">
                                      <p:cBhvr>
                                        <p:cTn id="62" dur="75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with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with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7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with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347 L 0.03941 0.07053 C 0.04844 0.08441 0.05348 0.10545 0.05348 0.12742 C 0.05348 0.1524 0.04844 0.17252 0.03941 0.1864 L -0.00052 0.25347 E">
                                      <p:cBhvr>
                                        <p:cTn id="82" dur="7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with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84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with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with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with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9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46 -0.0703 L 0.43108 0.35292 E">
                                      <p:cBhvr>
                                        <p:cTn id="99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with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1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with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1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withEffect" fill="hold">
                            <p:stCondLst>
                              <p:cond delay="14200"/>
                            </p:stCondLst>
                            <p:childTnLst>
                              <p:par>
                                <p:cTn id="10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55319E-006 L -0.01337 -0.32886 E">
                                      <p:cBhvr>
                                        <p:cTn id="109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withEffect" fill="hold">
                            <p:stCondLst>
                              <p:cond delay="16200"/>
                            </p:stCondLst>
                            <p:childTnLst>
                              <p:par>
                                <p:cTn id="11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25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" dur="25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withEffect" fill="hold">
                            <p:stCondLst>
                              <p:cond delay="16450"/>
                            </p:stCondLst>
                            <p:childTnLst>
                              <p:par>
                                <p:cTn id="1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with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12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250" autoRev="1" fill="hold"/>
                                        <p:tgtEl>
                                          <p:spTgt spid="3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Схема 6" descr=""/>
          <p:cNvPicPr/>
          <p:nvPr/>
        </p:nvPicPr>
        <p:blipFill>
          <a:blip r:embed="rId2"/>
          <a:stretch/>
        </p:blipFill>
        <p:spPr>
          <a:xfrm>
            <a:off x="2219400" y="890640"/>
            <a:ext cx="6613560" cy="2706480"/>
          </a:xfrm>
          <a:prstGeom prst="rect">
            <a:avLst/>
          </a:prstGeom>
          <a:ln w="0">
            <a:noFill/>
          </a:ln>
        </p:spPr>
      </p:pic>
      <p:grpSp>
        <p:nvGrpSpPr>
          <p:cNvPr id="325" name="Прямоугольник 9"/>
          <p:cNvGrpSpPr/>
          <p:nvPr/>
        </p:nvGrpSpPr>
        <p:grpSpPr>
          <a:xfrm>
            <a:off x="811080" y="944640"/>
            <a:ext cx="835200" cy="2994120"/>
            <a:chOff x="811080" y="944640"/>
            <a:chExt cx="835200" cy="2994120"/>
          </a:xfrm>
        </p:grpSpPr>
        <p:pic>
          <p:nvPicPr>
            <p:cNvPr id="326" name="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811080" y="944640"/>
              <a:ext cx="835200" cy="29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 rot="16200000">
              <a:off x="-38160" y="1990800"/>
              <a:ext cx="266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2d2db9"/>
                  </a:solidFill>
                  <a:latin typeface="Constantia"/>
                  <a:ea typeface="SimSun"/>
                </a:rPr>
                <a:t>Вуглеводи</a:t>
              </a:r>
              <a:endParaRPr b="0" lang="en-US" sz="3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28" name="Прямоугольник 11"/>
          <p:cNvSpPr/>
          <p:nvPr/>
        </p:nvSpPr>
        <p:spPr>
          <a:xfrm flipV="1" rot="10800000">
            <a:off x="1763640" y="619560"/>
            <a:ext cx="142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a5c249"/>
                </a:solidFill>
                <a:latin typeface="Constantia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Прямоугольник 12"/>
          <p:cNvSpPr/>
          <p:nvPr/>
        </p:nvSpPr>
        <p:spPr>
          <a:xfrm>
            <a:off x="1763640" y="141300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a5c249"/>
                </a:solidFill>
                <a:latin typeface="Constantia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Прямоугольник 13"/>
          <p:cNvSpPr/>
          <p:nvPr/>
        </p:nvSpPr>
        <p:spPr>
          <a:xfrm>
            <a:off x="1782000" y="2349360"/>
            <a:ext cx="55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a5c249"/>
                </a:solidFill>
                <a:latin typeface="Constantia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88240" cy="1128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2d2db9"/>
                </a:solidFill>
                <a:uFillTx/>
                <a:latin typeface="Calibri"/>
              </a:rPr>
              <a:t>Вуглеводи</a:t>
            </a:r>
            <a:r>
              <a:rPr b="0" lang="ru-RU" sz="3200" spc="-1" strike="noStrike">
                <a:solidFill>
                  <a:srgbClr val="00008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(цукри</a:t>
            </a: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)</a:t>
            </a:r>
            <a:br>
              <a:rPr sz="2500"/>
            </a:br>
            <a:br>
              <a:rPr sz="2500"/>
            </a:br>
            <a:br>
              <a:rPr sz="1800"/>
            </a:br>
            <a:br>
              <a:rPr sz="18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2" name="Содержимое 6" descr="вуглеводи.jpg"/>
          <p:cNvPicPr/>
          <p:nvPr/>
        </p:nvPicPr>
        <p:blipFill>
          <a:blip r:embed="rId4"/>
          <a:stretch/>
        </p:blipFill>
        <p:spPr>
          <a:xfrm>
            <a:off x="1474920" y="3852720"/>
            <a:ext cx="2590560" cy="536436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16" descr="grapes2.jpg"/>
          <p:cNvPicPr/>
          <p:nvPr/>
        </p:nvPicPr>
        <p:blipFill>
          <a:blip r:embed="rId5"/>
          <a:stretch/>
        </p:blipFill>
        <p:spPr>
          <a:xfrm>
            <a:off x="6473880" y="3638520"/>
            <a:ext cx="2189160" cy="43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еретворення вуглеводі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углевод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336" name="Прямая со стрелкой 4"/>
          <p:cNvCxnSpPr/>
          <p:nvPr/>
        </p:nvCxnSpPr>
        <p:spPr>
          <a:xfrm>
            <a:off x="1999800" y="2428920"/>
            <a:ext cx="1429560" cy="92952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337" name="TextBox 7"/>
          <p:cNvSpPr/>
          <p:nvPr/>
        </p:nvSpPr>
        <p:spPr>
          <a:xfrm>
            <a:off x="3000240" y="3357720"/>
            <a:ext cx="1643040" cy="8863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С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Н12О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TextBox 8"/>
          <p:cNvSpPr/>
          <p:nvPr/>
        </p:nvSpPr>
        <p:spPr>
          <a:xfrm>
            <a:off x="573120" y="3714840"/>
            <a:ext cx="20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глікоген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TextBox 10"/>
          <p:cNvSpPr/>
          <p:nvPr/>
        </p:nvSpPr>
        <p:spPr>
          <a:xfrm>
            <a:off x="5643720" y="2071800"/>
            <a:ext cx="285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рибоз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дезоксирибоз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TextBox 11"/>
          <p:cNvSpPr/>
          <p:nvPr/>
        </p:nvSpPr>
        <p:spPr>
          <a:xfrm>
            <a:off x="1255680" y="4929120"/>
            <a:ext cx="13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жир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TextBox 12"/>
          <p:cNvSpPr/>
          <p:nvPr/>
        </p:nvSpPr>
        <p:spPr>
          <a:xfrm>
            <a:off x="3500280" y="4786200"/>
            <a:ext cx="271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замінні амінокислот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TextBox 13"/>
          <p:cNvSpPr/>
          <p:nvPr/>
        </p:nvSpPr>
        <p:spPr>
          <a:xfrm>
            <a:off x="6143760" y="407196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стероїд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343" name="Прямая со стрелкой 15"/>
          <p:cNvCxnSpPr>
            <a:endCxn id="338" idx="3"/>
          </p:cNvCxnSpPr>
          <p:nvPr/>
        </p:nvCxnSpPr>
        <p:spPr>
          <a:xfrm flipH="1">
            <a:off x="2531880" y="3785040"/>
            <a:ext cx="468720" cy="221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4" name="Прямая со стрелкой 17"/>
          <p:cNvCxnSpPr/>
          <p:nvPr/>
        </p:nvCxnSpPr>
        <p:spPr>
          <a:xfrm flipH="1">
            <a:off x="2499480" y="4000680"/>
            <a:ext cx="1072440" cy="1000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5" name="Прямая со стрелкой 19"/>
          <p:cNvCxnSpPr/>
          <p:nvPr/>
        </p:nvCxnSpPr>
        <p:spPr>
          <a:xfrm>
            <a:off x="4142160" y="4000680"/>
            <a:ext cx="358200" cy="786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6" name="Прямая со стрелкой 21"/>
          <p:cNvCxnSpPr/>
          <p:nvPr/>
        </p:nvCxnSpPr>
        <p:spPr>
          <a:xfrm>
            <a:off x="4857480" y="3714840"/>
            <a:ext cx="1429560" cy="429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7" name="Прямая со стрелкой 23"/>
          <p:cNvCxnSpPr/>
          <p:nvPr/>
        </p:nvCxnSpPr>
        <p:spPr>
          <a:xfrm flipV="1">
            <a:off x="4357800" y="2642760"/>
            <a:ext cx="1286640" cy="572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48" name="TextBox 25" descr=""/>
          <p:cNvPicPr/>
          <p:nvPr/>
        </p:nvPicPr>
        <p:blipFill>
          <a:blip r:embed="rId2"/>
          <a:stretch/>
        </p:blipFill>
        <p:spPr>
          <a:xfrm>
            <a:off x="2871720" y="1816200"/>
            <a:ext cx="2316240" cy="761760"/>
          </a:xfrm>
          <a:prstGeom prst="rect">
            <a:avLst/>
          </a:prstGeom>
          <a:ln w="0">
            <a:noFill/>
          </a:ln>
        </p:spPr>
      </p:pic>
      <p:cxnSp>
        <p:nvCxnSpPr>
          <p:cNvPr id="349" name="Прямая со стрелкой 27"/>
          <p:cNvCxnSpPr/>
          <p:nvPr/>
        </p:nvCxnSpPr>
        <p:spPr>
          <a:xfrm flipH="1" flipV="1">
            <a:off x="3857400" y="2571480"/>
            <a:ext cx="72000" cy="714960"/>
          </a:xfrm>
          <a:prstGeom prst="straightConnector1">
            <a:avLst/>
          </a:prstGeom>
          <a:ln w="38160">
            <a:solidFill>
              <a:srgbClr val="10cf9b"/>
            </a:solidFill>
            <a:miter/>
            <a:tailEnd len="med" type="arrow" w="med"/>
          </a:ln>
        </p:spPr>
      </p:cxnSp>
      <p:sp>
        <p:nvSpPr>
          <p:cNvPr id="350" name="TextBox 29"/>
          <p:cNvSpPr/>
          <p:nvPr/>
        </p:nvSpPr>
        <p:spPr>
          <a:xfrm>
            <a:off x="6500880" y="521496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молоч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кислот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351" name="Прямая со стрелкой 31"/>
          <p:cNvCxnSpPr/>
          <p:nvPr/>
        </p:nvCxnSpPr>
        <p:spPr>
          <a:xfrm>
            <a:off x="4642920" y="3929040"/>
            <a:ext cx="1644120" cy="1215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Ан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аліз хімічного складу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714240" y="1357200"/>
            <a:ext cx="785844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 </a:t>
            </a:r>
            <a:r>
              <a:rPr b="0" lang="uk-UA" sz="5400" spc="-1" strike="noStrike">
                <a:solidFill>
                  <a:srgbClr val="04617b"/>
                </a:solidFill>
                <a:latin typeface="Calibri"/>
              </a:rPr>
              <a:t>Аналіз калорійності</a:t>
            </a:r>
            <a:br>
              <a:rPr sz="4500"/>
            </a:b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7" name="Объект 5" descr=""/>
          <p:cNvPicPr/>
          <p:nvPr/>
        </p:nvPicPr>
        <p:blipFill>
          <a:blip r:embed="rId2"/>
          <a:stretch/>
        </p:blipFill>
        <p:spPr>
          <a:xfrm>
            <a:off x="406440" y="1235160"/>
            <a:ext cx="835956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Дати відповідь так 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чи ні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7176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1. Глюкоза утворюється в процесі фотосинтезу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2. При денатурації білків руйнуються пептидні зв'язк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3. Жири належать до класу естерів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Выгнутая вверх стрелка 3"/>
          <p:cNvSpPr/>
          <p:nvPr/>
        </p:nvSpPr>
        <p:spPr>
          <a:xfrm>
            <a:off x="5286240" y="1000080"/>
            <a:ext cx="857520" cy="285840"/>
          </a:xfrm>
          <a:custGeom>
            <a:avLst/>
            <a:gdLst>
              <a:gd name="textAreaLeft" fmla="*/ 187560 w 857520"/>
              <a:gd name="textAreaRight" fmla="*/ 634320 w 85752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0" hR="21600" stAng="10800000" swAng="5400000"/>
                <a:lnTo>
                  <a:pt x="11250" y="0"/>
                </a:lnTo>
                <a:arcTo wR="9450" hR="21600" stAng="-5400000" swAng="3567133"/>
                <a:lnTo>
                  <a:pt x="21300" y="16200"/>
                </a:lnTo>
                <a:lnTo>
                  <a:pt x="19800" y="21600"/>
                </a:lnTo>
                <a:lnTo>
                  <a:pt x="17700" y="16200"/>
                </a:lnTo>
                <a:lnTo>
                  <a:pt x="18600" y="16200"/>
                </a:lnTo>
                <a:arcTo wR="9450" hR="21600" stAng="-1832867" swAng="-3423323"/>
                <a:lnTo>
                  <a:pt x="10350" y="98"/>
                </a:lnTo>
                <a:arcTo wR="9450" hR="21600" stAng="-5543810" swAng="-5256190"/>
                <a:close/>
              </a:path>
              <a:path fill="darkenLess" w="21600" h="21600">
                <a:moveTo>
                  <a:pt x="0" y="21600"/>
                </a:moveTo>
                <a:arcTo wR="9450" hR="21600" stAng="10800000" swAng="5400000"/>
                <a:lnTo>
                  <a:pt x="9450" y="0"/>
                </a:lnTo>
                <a:arcTo wR="9450" hR="21600" stAng="-5400000" swAng="143810"/>
                <a:lnTo>
                  <a:pt x="10350" y="98"/>
                </a:lnTo>
                <a:arcTo wR="9450" hR="21600" stAng="-5543810" swAng="-5256190"/>
                <a:close/>
              </a:path>
            </a:pathLst>
          </a:custGeom>
          <a:solidFill>
            <a:srgbClr val="ffc0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Выгнутая вправо стрелка 4"/>
          <p:cNvSpPr/>
          <p:nvPr/>
        </p:nvSpPr>
        <p:spPr>
          <a:xfrm rot="5400000">
            <a:off x="7786440" y="785880"/>
            <a:ext cx="285480" cy="857160"/>
          </a:xfrm>
          <a:custGeom>
            <a:avLst/>
            <a:gdLst>
              <a:gd name="textAreaLeft" fmla="*/ 38160 w 285480"/>
              <a:gd name="textAreaRight" fmla="*/ 247320 w 285480"/>
              <a:gd name="textAreaTop" fmla="*/ 187560 h 857160"/>
              <a:gd name="textAreaBottom" fmla="*/ 633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50" stAng="-5400000" swAng="5400000"/>
                <a:lnTo>
                  <a:pt x="21600" y="11250"/>
                </a:lnTo>
                <a:arcTo wR="21600" hR="9450" stAng="0" swAng="3567133"/>
                <a:lnTo>
                  <a:pt x="5400" y="21300"/>
                </a:lnTo>
                <a:lnTo>
                  <a:pt x="0" y="19800"/>
                </a:lnTo>
                <a:lnTo>
                  <a:pt x="5400" y="17700"/>
                </a:lnTo>
                <a:lnTo>
                  <a:pt x="5400" y="18600"/>
                </a:lnTo>
                <a:arcTo wR="21600" hR="9450" stAng="3567133" swAng="-3423323"/>
                <a:lnTo>
                  <a:pt x="21502" y="10350"/>
                </a:lnTo>
                <a:arcTo wR="21600" hR="9450" stAng="-143810" swAng="-5256190"/>
                <a:close/>
              </a:path>
              <a:path fill="darkenLess" w="21600" h="21600">
                <a:moveTo>
                  <a:pt x="0" y="0"/>
                </a:moveTo>
                <a:arcTo wR="21600" hR="9450" stAng="-5400000" swAng="5400000"/>
                <a:lnTo>
                  <a:pt x="21600" y="11250"/>
                </a:lnTo>
                <a:arcTo wR="21600" hR="9450" stAng="0" swAng="-143810"/>
                <a:lnTo>
                  <a:pt x="21502" y="10350"/>
                </a:lnTo>
                <a:arcTo wR="21600" hR="9450" stAng="-143810" swAng="-5256190"/>
                <a:close/>
              </a:path>
            </a:pathLst>
          </a:custGeom>
          <a:solidFill>
            <a:srgbClr val="ffc0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b5395"/>
                </a:solidFill>
                <a:latin typeface="Calibri"/>
              </a:rPr>
              <a:t>Добовий раціон харчуванн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28760" y="1642680"/>
            <a:ext cx="822960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орма у віці 14-18 років: </a:t>
            </a:r>
            <a:br>
              <a:rPr sz="4000"/>
            </a:b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  <a:ea typeface="Arial"/>
              </a:rPr>
              <a:t>для дівчат    → 2750 ккал/день;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  <a:ea typeface="Arial"/>
              </a:rPr>
              <a:t>для хлопців → 3150 ккал/день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0" name="Рисунок 3" descr="diabetes-food-pyramid-picture.jpg"/>
          <p:cNvPicPr/>
          <p:nvPr/>
        </p:nvPicPr>
        <p:blipFill>
          <a:blip r:embed="rId2"/>
          <a:stretch/>
        </p:blipFill>
        <p:spPr>
          <a:xfrm>
            <a:off x="681120" y="4071960"/>
            <a:ext cx="31068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571680" y="260280"/>
          <a:ext cx="8464320" cy="5810400"/>
        </p:xfrm>
        <a:graphic>
          <a:graphicData uri="http://schemas.openxmlformats.org/drawingml/2006/table">
            <a:tbl>
              <a:tblPr/>
              <a:tblGrid>
                <a:gridCol w="2973240"/>
                <a:gridCol w="3098880"/>
                <a:gridCol w="2392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одук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нергетична цінн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ількість продук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всянк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й з цукром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анан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ва з цукром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п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е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ліб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сиски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лат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й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блуко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к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улочк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орний шоколад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воро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метан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укор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й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блу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4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0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2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 кк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чашк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шт.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чашк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чашк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шт.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стакан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шт.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чашк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362" name="Левая фигурная скобка 4"/>
          <p:cNvSpPr/>
          <p:nvPr/>
        </p:nvSpPr>
        <p:spPr>
          <a:xfrm>
            <a:off x="357120" y="857160"/>
            <a:ext cx="176400" cy="949320"/>
          </a:xfrm>
          <a:custGeom>
            <a:avLst/>
            <a:gdLst>
              <a:gd name="textAreaLeft" fmla="*/ 112680 w 176400"/>
              <a:gd name="textAreaRight" fmla="*/ 176760 w 176400"/>
              <a:gd name="textAreaTop" fmla="*/ 4320 h 949320"/>
              <a:gd name="textAreaBottom" fmla="*/ 945000 h 94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7"/>
                  <a:pt x="10800" y="334"/>
                </a:cubicBezTo>
                <a:lnTo>
                  <a:pt x="10800" y="10466"/>
                </a:lnTo>
                <a:cubicBezTo>
                  <a:pt x="10800" y="10633"/>
                  <a:pt x="5400" y="10800"/>
                  <a:pt x="0" y="10800"/>
                </a:cubicBezTo>
                <a:cubicBezTo>
                  <a:pt x="5400" y="10800"/>
                  <a:pt x="10800" y="10967"/>
                  <a:pt x="10800" y="11134"/>
                </a:cubicBezTo>
                <a:lnTo>
                  <a:pt x="10800" y="21266"/>
                </a:lnTo>
                <a:cubicBezTo>
                  <a:pt x="10800" y="2143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Левая фигурная скобка 5"/>
          <p:cNvSpPr/>
          <p:nvPr/>
        </p:nvSpPr>
        <p:spPr>
          <a:xfrm>
            <a:off x="428760" y="2000160"/>
            <a:ext cx="144360" cy="151128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511280"/>
              <a:gd name="textAreaBottom" fmla="*/ 150768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"/>
                  <a:pt x="10800" y="172"/>
                </a:cubicBezTo>
                <a:lnTo>
                  <a:pt x="10800" y="10628"/>
                </a:lnTo>
                <a:cubicBezTo>
                  <a:pt x="10800" y="10714"/>
                  <a:pt x="5400" y="10800"/>
                  <a:pt x="0" y="10800"/>
                </a:cubicBezTo>
                <a:cubicBezTo>
                  <a:pt x="5400" y="10800"/>
                  <a:pt x="10800" y="10886"/>
                  <a:pt x="10800" y="10972"/>
                </a:cubicBezTo>
                <a:lnTo>
                  <a:pt x="10800" y="21428"/>
                </a:lnTo>
                <a:cubicBezTo>
                  <a:pt x="10800" y="2151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Левая фигурная скобка 6"/>
          <p:cNvSpPr/>
          <p:nvPr/>
        </p:nvSpPr>
        <p:spPr>
          <a:xfrm>
            <a:off x="324000" y="3571920"/>
            <a:ext cx="247680" cy="928800"/>
          </a:xfrm>
          <a:custGeom>
            <a:avLst/>
            <a:gdLst>
              <a:gd name="textAreaLeft" fmla="*/ 158400 w 247680"/>
              <a:gd name="textAreaRight" fmla="*/ 248040 w 247680"/>
              <a:gd name="textAreaTop" fmla="*/ 6120 h 928800"/>
              <a:gd name="textAreaBottom" fmla="*/ 92268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Левая фигурная скобка 7"/>
          <p:cNvSpPr/>
          <p:nvPr/>
        </p:nvSpPr>
        <p:spPr>
          <a:xfrm>
            <a:off x="428760" y="4643280"/>
            <a:ext cx="176040" cy="1285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4320 h 1285920"/>
              <a:gd name="textAreaBottom" fmla="*/ 12816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TextBox 8"/>
          <p:cNvSpPr/>
          <p:nvPr/>
        </p:nvSpPr>
        <p:spPr>
          <a:xfrm rot="16200000">
            <a:off x="-555840" y="105588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нідано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TextBox 9"/>
          <p:cNvSpPr/>
          <p:nvPr/>
        </p:nvSpPr>
        <p:spPr>
          <a:xfrm rot="16200000">
            <a:off x="-341280" y="24843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b5395"/>
                </a:solidFill>
                <a:latin typeface="Constantia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обі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TextBox 10"/>
          <p:cNvSpPr/>
          <p:nvPr/>
        </p:nvSpPr>
        <p:spPr>
          <a:xfrm rot="16200000">
            <a:off x="-479880" y="3623040"/>
            <a:ext cx="178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олудено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TextBox 11"/>
          <p:cNvSpPr/>
          <p:nvPr/>
        </p:nvSpPr>
        <p:spPr>
          <a:xfrm rot="16200000">
            <a:off x="-194400" y="4980600"/>
            <a:ext cx="121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ечер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Прямая соединительная линия 13"/>
          <p:cNvSpPr/>
          <p:nvPr/>
        </p:nvSpPr>
        <p:spPr>
          <a:xfrm>
            <a:off x="684360" y="436572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Прямая соединительная линия 14"/>
          <p:cNvSpPr/>
          <p:nvPr/>
        </p:nvSpPr>
        <p:spPr>
          <a:xfrm>
            <a:off x="684360" y="494172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Прямая соединительная линия 15"/>
          <p:cNvSpPr/>
          <p:nvPr/>
        </p:nvSpPr>
        <p:spPr>
          <a:xfrm>
            <a:off x="684360" y="522936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Прямая соединительная линия 16"/>
          <p:cNvSpPr/>
          <p:nvPr/>
        </p:nvSpPr>
        <p:spPr>
          <a:xfrm>
            <a:off x="684360" y="551664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Прямая соединительная линия 17"/>
          <p:cNvSpPr/>
          <p:nvPr/>
        </p:nvSpPr>
        <p:spPr>
          <a:xfrm>
            <a:off x="684360" y="465300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Прямая соединительная линия 18"/>
          <p:cNvSpPr/>
          <p:nvPr/>
        </p:nvSpPr>
        <p:spPr>
          <a:xfrm>
            <a:off x="684360" y="414972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Прямая соединительная линия 19"/>
          <p:cNvSpPr/>
          <p:nvPr/>
        </p:nvSpPr>
        <p:spPr>
          <a:xfrm>
            <a:off x="684360" y="357336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Прямая соединительная линия 20"/>
          <p:cNvSpPr/>
          <p:nvPr/>
        </p:nvSpPr>
        <p:spPr>
          <a:xfrm>
            <a:off x="684360" y="386064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Прямая соединительная линия 21"/>
          <p:cNvSpPr/>
          <p:nvPr/>
        </p:nvSpPr>
        <p:spPr>
          <a:xfrm>
            <a:off x="684360" y="328464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Прямая соединительная линия 22"/>
          <p:cNvSpPr/>
          <p:nvPr/>
        </p:nvSpPr>
        <p:spPr>
          <a:xfrm>
            <a:off x="684360" y="300024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Прямая соединительная линия 23"/>
          <p:cNvSpPr/>
          <p:nvPr/>
        </p:nvSpPr>
        <p:spPr>
          <a:xfrm>
            <a:off x="684360" y="278136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Прямая соединительная линия 24"/>
          <p:cNvSpPr/>
          <p:nvPr/>
        </p:nvSpPr>
        <p:spPr>
          <a:xfrm>
            <a:off x="684360" y="249228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Прямая соединительная линия 25"/>
          <p:cNvSpPr/>
          <p:nvPr/>
        </p:nvSpPr>
        <p:spPr>
          <a:xfrm>
            <a:off x="684360" y="573264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Прямая соединительная линия 26"/>
          <p:cNvSpPr/>
          <p:nvPr/>
        </p:nvSpPr>
        <p:spPr>
          <a:xfrm>
            <a:off x="574560" y="1628640"/>
            <a:ext cx="85694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Прямая соединительная линия 27"/>
          <p:cNvSpPr/>
          <p:nvPr/>
        </p:nvSpPr>
        <p:spPr>
          <a:xfrm>
            <a:off x="684360" y="191628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Прямая соединительная линия 28"/>
          <p:cNvSpPr/>
          <p:nvPr/>
        </p:nvSpPr>
        <p:spPr>
          <a:xfrm>
            <a:off x="684360" y="220500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Прямая соединительная линия 29"/>
          <p:cNvSpPr/>
          <p:nvPr/>
        </p:nvSpPr>
        <p:spPr>
          <a:xfrm>
            <a:off x="684360" y="134136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Прямая соединительная линия 30"/>
          <p:cNvSpPr/>
          <p:nvPr/>
        </p:nvSpPr>
        <p:spPr>
          <a:xfrm>
            <a:off x="684360" y="112536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Прямая соединительная линия 31"/>
          <p:cNvSpPr/>
          <p:nvPr/>
        </p:nvSpPr>
        <p:spPr>
          <a:xfrm>
            <a:off x="684360" y="83664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TextBox 35"/>
          <p:cNvSpPr/>
          <p:nvPr/>
        </p:nvSpPr>
        <p:spPr>
          <a:xfrm>
            <a:off x="3635280" y="61657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ума: 2900 кка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Домашнє завданн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§5, доповнити конспект класної роботи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завд.2 – 4, додатково завд.7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69552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85680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nstantia"/>
              </a:rPr>
              <a:t>4. </a:t>
            </a: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Молекула сахарози гідролізує на дві молекули глюкоз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5. Чи правильно записані умови проведення  ксантопротеїнової реакції: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uk-UA" sz="3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білок +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HNO3</a:t>
            </a: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конц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втий колір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Прямоугольник 4"/>
          <p:cNvSpPr/>
          <p:nvPr/>
        </p:nvSpPr>
        <p:spPr>
          <a:xfrm>
            <a:off x="5214960" y="4500720"/>
            <a:ext cx="404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6. При повному окисненні целюлози утворюється карбон(ІІ) оксид та вод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ірус попрацюва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Вуглеводи, </a:t>
            </a:r>
            <a:r>
              <a:rPr b="0" lang="uk-UA" sz="3600" spc="-1" strike="noStrike" u="sng">
                <a:solidFill>
                  <a:srgbClr val="ff0000"/>
                </a:solidFill>
                <a:uFillTx/>
                <a:latin typeface="Constantia"/>
              </a:rPr>
              <a:t>жири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, білки – це природні біополімер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До моносахаридів належать: рибоза, </a:t>
            </a:r>
            <a:r>
              <a:rPr b="0" lang="uk-UA" sz="3600" spc="-1" strike="noStrike" u="sng">
                <a:solidFill>
                  <a:srgbClr val="ff0000"/>
                </a:solidFill>
                <a:uFillTx/>
                <a:latin typeface="Constantia"/>
              </a:rPr>
              <a:t>крохмаль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, фруктоза, глюкоза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Гідроліз крохмалю відбувається </a:t>
            </a:r>
            <a:r>
              <a:rPr b="0" lang="uk-UA" sz="3600" spc="-1" strike="noStrike" u="sng">
                <a:solidFill>
                  <a:srgbClr val="ff0000"/>
                </a:solidFill>
                <a:uFillTx/>
                <a:latin typeface="Constantia"/>
              </a:rPr>
              <a:t>важче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, ніж целюлози, кінцевим продуктом гідролізу є </a:t>
            </a:r>
            <a:r>
              <a:rPr b="0" lang="uk-UA" sz="3600" spc="-1" strike="noStrike" u="sng">
                <a:solidFill>
                  <a:srgbClr val="ff0000"/>
                </a:solidFill>
                <a:uFillTx/>
                <a:latin typeface="Constantia"/>
              </a:rPr>
              <a:t>декстрини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До складу </a:t>
            </a:r>
            <a:r>
              <a:rPr b="0" lang="uk-UA" sz="3600" spc="-1" strike="noStrike" u="sng">
                <a:solidFill>
                  <a:srgbClr val="ff0000"/>
                </a:solidFill>
                <a:uFillTx/>
                <a:latin typeface="Constantia"/>
              </a:rPr>
              <a:t>рослинних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 олій входять залишки насичених карбонових кислот: пальмітинової, маргаринової, стеаринової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До складу білків входять мономери 20-ти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амінокислот, які зв'язані між собою </a:t>
            </a:r>
            <a:r>
              <a:rPr b="0" lang="uk-UA" sz="3600" spc="-1" strike="noStrike" u="sng">
                <a:solidFill>
                  <a:srgbClr val="ff0000"/>
                </a:solidFill>
                <a:uFillTx/>
                <a:latin typeface="Constantia"/>
              </a:rPr>
              <a:t>водневими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 зв'язкам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ідповідь на другу частин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Выгнутая вправо стрелка 9"/>
          <p:cNvSpPr/>
          <p:nvPr/>
        </p:nvSpPr>
        <p:spPr>
          <a:xfrm rot="4556400">
            <a:off x="2418840" y="2274840"/>
            <a:ext cx="714240" cy="2276280"/>
          </a:xfrm>
          <a:custGeom>
            <a:avLst/>
            <a:gdLst>
              <a:gd name="textAreaLeft" fmla="*/ 95400 w 714240"/>
              <a:gd name="textAreaRight" fmla="*/ 618840 w 714240"/>
              <a:gd name="textAreaTop" fmla="*/ 501840 h 2276280"/>
              <a:gd name="textAreaBottom" fmla="*/ 1685160 h 22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529" stAng="-5400000" swAng="5400000"/>
                <a:lnTo>
                  <a:pt x="21600" y="11224"/>
                </a:lnTo>
                <a:arcTo wR="21600" hR="9529" stAng="0" swAng="3579635"/>
                <a:lnTo>
                  <a:pt x="5400" y="21297"/>
                </a:lnTo>
                <a:lnTo>
                  <a:pt x="0" y="19906"/>
                </a:lnTo>
                <a:lnTo>
                  <a:pt x="5400" y="17908"/>
                </a:lnTo>
                <a:lnTo>
                  <a:pt x="5400" y="18755"/>
                </a:lnTo>
                <a:arcTo wR="21600" hR="9529" stAng="3579635" swAng="-3444284"/>
                <a:lnTo>
                  <a:pt x="21514" y="10377"/>
                </a:lnTo>
                <a:arcTo wR="21600" hR="9529" stAng="-135350" swAng="-5264650"/>
                <a:close/>
              </a:path>
              <a:path fill="darkenLess" w="21600" h="21600">
                <a:moveTo>
                  <a:pt x="0" y="0"/>
                </a:moveTo>
                <a:arcTo wR="21600" hR="9529" stAng="-5400000" swAng="5400000"/>
                <a:lnTo>
                  <a:pt x="21600" y="11224"/>
                </a:lnTo>
                <a:arcTo wR="21600" hR="9529" stAng="0" swAng="-135350"/>
                <a:lnTo>
                  <a:pt x="21514" y="10377"/>
                </a:lnTo>
                <a:arcTo wR="21600" hR="9529" stAng="-135350" swAng="-5264650"/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Выгнутая вверх стрелка 10"/>
          <p:cNvSpPr/>
          <p:nvPr/>
        </p:nvSpPr>
        <p:spPr>
          <a:xfrm rot="615600">
            <a:off x="1774440" y="2080800"/>
            <a:ext cx="2178000" cy="730440"/>
          </a:xfrm>
          <a:custGeom>
            <a:avLst/>
            <a:gdLst>
              <a:gd name="textAreaLeft" fmla="*/ 475920 w 2178000"/>
              <a:gd name="textAreaRight" fmla="*/ 1610640 w 2178000"/>
              <a:gd name="textAreaTop" fmla="*/ 97560 h 730440"/>
              <a:gd name="textAreaBottom" fmla="*/ 632880 h 73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40" hR="21600" stAng="10800000" swAng="5400000"/>
                <a:lnTo>
                  <a:pt x="11253" y="0"/>
                </a:lnTo>
                <a:arcTo wR="9440" hR="21600" stAng="-5400000" swAng="3649868"/>
                <a:lnTo>
                  <a:pt x="21331" y="16481"/>
                </a:lnTo>
                <a:lnTo>
                  <a:pt x="19787" y="21600"/>
                </a:lnTo>
                <a:lnTo>
                  <a:pt x="17704" y="16481"/>
                </a:lnTo>
                <a:lnTo>
                  <a:pt x="18611" y="16481"/>
                </a:lnTo>
                <a:arcTo wR="9440" hR="21600" stAng="-1750132" swAng="-3505010"/>
                <a:lnTo>
                  <a:pt x="10347" y="100"/>
                </a:lnTo>
                <a:arcTo wR="9440" hR="21600" stAng="-5544858" swAng="-5255142"/>
                <a:close/>
              </a:path>
              <a:path fill="darkenLess" w="21600" h="21600">
                <a:moveTo>
                  <a:pt x="0" y="21600"/>
                </a:moveTo>
                <a:arcTo wR="9440" hR="21600" stAng="10800000" swAng="5400000"/>
                <a:lnTo>
                  <a:pt x="9440" y="0"/>
                </a:lnTo>
                <a:arcTo wR="9440" hR="21600" stAng="-5400000" swAng="144858"/>
                <a:lnTo>
                  <a:pt x="10347" y="100"/>
                </a:lnTo>
                <a:arcTo wR="9440" hR="21600" stAng="-5544858" swAng="-5255142"/>
                <a:close/>
              </a:path>
            </a:pathLst>
          </a:custGeom>
          <a:solidFill>
            <a:srgbClr val="ffc0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Выгнутая вверх стрелка 11"/>
          <p:cNvSpPr/>
          <p:nvPr/>
        </p:nvSpPr>
        <p:spPr>
          <a:xfrm rot="1573200">
            <a:off x="1761840" y="3065400"/>
            <a:ext cx="2590560" cy="857160"/>
          </a:xfrm>
          <a:custGeom>
            <a:avLst/>
            <a:gdLst>
              <a:gd name="textAreaLeft" fmla="*/ 567360 w 2590560"/>
              <a:gd name="textAreaRight" fmla="*/ 1916280 w 259056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60" hR="21600" stAng="10800000" swAng="5400000"/>
                <a:lnTo>
                  <a:pt x="11246" y="0"/>
                </a:lnTo>
                <a:arcTo wR="9460" hR="21600" stAng="-5400000" swAng="3568724"/>
                <a:lnTo>
                  <a:pt x="21300" y="16200"/>
                </a:lnTo>
                <a:lnTo>
                  <a:pt x="19813" y="21600"/>
                </a:lnTo>
                <a:lnTo>
                  <a:pt x="17726" y="16200"/>
                </a:lnTo>
                <a:lnTo>
                  <a:pt x="18620" y="16200"/>
                </a:lnTo>
                <a:arcTo wR="9460" hR="21600" stAng="-1831276" swAng="-3426043"/>
                <a:lnTo>
                  <a:pt x="10353" y="96"/>
                </a:lnTo>
                <a:arcTo wR="9460" hR="21600" stAng="-5542681" swAng="-5257319"/>
                <a:close/>
              </a:path>
              <a:path fill="darkenLess" w="21600" h="21600">
                <a:moveTo>
                  <a:pt x="0" y="21600"/>
                </a:moveTo>
                <a:arcTo wR="9460" hR="21600" stAng="10800000" swAng="5400000"/>
                <a:lnTo>
                  <a:pt x="9460" y="0"/>
                </a:lnTo>
                <a:arcTo wR="9460" hR="21600" stAng="-5400000" swAng="142681"/>
                <a:lnTo>
                  <a:pt x="10353" y="96"/>
                </a:lnTo>
                <a:arcTo wR="9460" hR="21600" stAng="-5542681" swAng="-5257319"/>
                <a:close/>
              </a:path>
            </a:pathLst>
          </a:cu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Выгнутая вверх стрелка 12"/>
          <p:cNvSpPr/>
          <p:nvPr/>
        </p:nvSpPr>
        <p:spPr>
          <a:xfrm rot="10800000">
            <a:off x="1571400" y="4285800"/>
            <a:ext cx="2300040" cy="785880"/>
          </a:xfrm>
          <a:custGeom>
            <a:avLst/>
            <a:gdLst>
              <a:gd name="textAreaLeft" fmla="*/ 501120 w 2300040"/>
              <a:gd name="textAreaRight" fmla="*/ 1700640 w 230004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17" hR="21600" stAng="10800000" swAng="5400000"/>
                <a:lnTo>
                  <a:pt x="11262" y="0"/>
                </a:lnTo>
                <a:arcTo wR="9417" hR="21600" stAng="-5400000" swAng="3561785"/>
                <a:lnTo>
                  <a:pt x="21301" y="16200"/>
                </a:lnTo>
                <a:lnTo>
                  <a:pt x="19756" y="21600"/>
                </a:lnTo>
                <a:lnTo>
                  <a:pt x="17612" y="16200"/>
                </a:lnTo>
                <a:lnTo>
                  <a:pt x="18534" y="16200"/>
                </a:lnTo>
                <a:arcTo wR="9417" hR="21600" stAng="-1838215" swAng="-3414345"/>
                <a:lnTo>
                  <a:pt x="10339" y="104"/>
                </a:lnTo>
                <a:arcTo wR="9417" hR="21600" stAng="-5547440" swAng="-5252560"/>
                <a:close/>
              </a:path>
              <a:path fill="darkenLess" w="21600" h="21600">
                <a:moveTo>
                  <a:pt x="0" y="21600"/>
                </a:moveTo>
                <a:arcTo wR="9417" hR="21600" stAng="10800000" swAng="5400000"/>
                <a:lnTo>
                  <a:pt x="9417" y="0"/>
                </a:lnTo>
                <a:arcTo wR="9417" hR="21600" stAng="-5400000" swAng="147440"/>
                <a:lnTo>
                  <a:pt x="10339" y="104"/>
                </a:lnTo>
                <a:arcTo wR="9417" hR="21600" stAng="-5547440" swAng="-5252560"/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Выгнутая вверх стрелка 13"/>
          <p:cNvSpPr/>
          <p:nvPr/>
        </p:nvSpPr>
        <p:spPr>
          <a:xfrm rot="2184000">
            <a:off x="1699920" y="4272120"/>
            <a:ext cx="2630520" cy="817560"/>
          </a:xfrm>
          <a:custGeom>
            <a:avLst/>
            <a:gdLst>
              <a:gd name="textAreaLeft" fmla="*/ 581040 w 2630520"/>
              <a:gd name="textAreaRight" fmla="*/ 1947600 w 2630520"/>
              <a:gd name="textAreaTop" fmla="*/ 109440 h 817560"/>
              <a:gd name="textAreaBottom" fmla="*/ 7081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44" hR="21600" stAng="10800000" swAng="5400000"/>
                <a:lnTo>
                  <a:pt x="11219" y="0"/>
                </a:lnTo>
                <a:arcTo wR="9544" hR="21600" stAng="-5400000" swAng="3581913"/>
                <a:lnTo>
                  <a:pt x="21297" y="16200"/>
                </a:lnTo>
                <a:lnTo>
                  <a:pt x="19925" y="21600"/>
                </a:lnTo>
                <a:lnTo>
                  <a:pt x="17946" y="16200"/>
                </a:lnTo>
                <a:lnTo>
                  <a:pt x="18784" y="16200"/>
                </a:lnTo>
                <a:arcTo wR="9544" hR="21600" stAng="-1818087" swAng="-3448172"/>
                <a:lnTo>
                  <a:pt x="10381" y="83"/>
                </a:lnTo>
                <a:arcTo wR="9544" hR="21600" stAng="-5533741" swAng="-5266259"/>
                <a:close/>
              </a:path>
              <a:path fill="darkenLess" w="21600" h="21600">
                <a:moveTo>
                  <a:pt x="0" y="21600"/>
                </a:moveTo>
                <a:arcTo wR="9544" hR="21600" stAng="10800000" swAng="5400000"/>
                <a:lnTo>
                  <a:pt x="9544" y="0"/>
                </a:lnTo>
                <a:arcTo wR="9544" hR="21600" stAng="-5400000" swAng="133741"/>
                <a:lnTo>
                  <a:pt x="10381" y="83"/>
                </a:lnTo>
                <a:arcTo wR="9544" hR="21600" stAng="-5533741" swAng="-5266259"/>
                <a:close/>
              </a:path>
            </a:pathLst>
          </a:cu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TextBox 14"/>
          <p:cNvSpPr/>
          <p:nvPr/>
        </p:nvSpPr>
        <p:spPr>
          <a:xfrm>
            <a:off x="1500120" y="2143080"/>
            <a:ext cx="2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TextBox 15"/>
          <p:cNvSpPr/>
          <p:nvPr/>
        </p:nvSpPr>
        <p:spPr>
          <a:xfrm>
            <a:off x="3857760" y="25002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TextBox 16"/>
          <p:cNvSpPr/>
          <p:nvPr/>
        </p:nvSpPr>
        <p:spPr>
          <a:xfrm>
            <a:off x="1357200" y="307188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TextBox 17"/>
          <p:cNvSpPr/>
          <p:nvPr/>
        </p:nvSpPr>
        <p:spPr>
          <a:xfrm>
            <a:off x="4000680" y="4000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Box 18"/>
          <p:cNvSpPr/>
          <p:nvPr/>
        </p:nvSpPr>
        <p:spPr>
          <a:xfrm>
            <a:off x="1357200" y="414324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Выгнутая вправо стрелка 19"/>
          <p:cNvSpPr/>
          <p:nvPr/>
        </p:nvSpPr>
        <p:spPr>
          <a:xfrm rot="5400000">
            <a:off x="2377440" y="4765680"/>
            <a:ext cx="571680" cy="2184120"/>
          </a:xfrm>
          <a:custGeom>
            <a:avLst/>
            <a:gdLst>
              <a:gd name="textAreaLeft" fmla="*/ 76320 w 571680"/>
              <a:gd name="textAreaRight" fmla="*/ 495360 w 571680"/>
              <a:gd name="textAreaTop" fmla="*/ 492480 h 2184120"/>
              <a:gd name="textAreaBottom" fmla="*/ 1620360 h 21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41" stAng="-5400000" swAng="5400000"/>
                <a:lnTo>
                  <a:pt x="21600" y="11154"/>
                </a:lnTo>
                <a:arcTo wR="21600" hR="9741" stAng="0" swAng="3612356"/>
                <a:lnTo>
                  <a:pt x="5400" y="21291"/>
                </a:lnTo>
                <a:lnTo>
                  <a:pt x="0" y="20188"/>
                </a:lnTo>
                <a:lnTo>
                  <a:pt x="5400" y="18466"/>
                </a:lnTo>
                <a:lnTo>
                  <a:pt x="5400" y="19172"/>
                </a:lnTo>
                <a:arcTo wR="21600" hR="9741" stAng="3612356" swAng="-3499657"/>
                <a:lnTo>
                  <a:pt x="21543" y="10447"/>
                </a:lnTo>
                <a:arcTo wR="21600" hR="9741" stAng="-112700" swAng="-5287300"/>
                <a:close/>
              </a:path>
              <a:path fill="darkenLess" w="21600" h="21600">
                <a:moveTo>
                  <a:pt x="0" y="0"/>
                </a:moveTo>
                <a:arcTo wR="21600" hR="9741" stAng="-5400000" swAng="5400000"/>
                <a:lnTo>
                  <a:pt x="21600" y="11154"/>
                </a:lnTo>
                <a:arcTo wR="21600" hR="9741" stAng="0" swAng="-112700"/>
                <a:lnTo>
                  <a:pt x="21543" y="10447"/>
                </a:lnTo>
                <a:arcTo wR="21600" hR="9741" stAng="-112700" swAng="-5287300"/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TextBox 20"/>
          <p:cNvSpPr/>
          <p:nvPr/>
        </p:nvSpPr>
        <p:spPr>
          <a:xfrm>
            <a:off x="3929040" y="53578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2"/>
          <a:stretch/>
        </p:blipFill>
        <p:spPr>
          <a:xfrm>
            <a:off x="328680" y="208080"/>
            <a:ext cx="8467560" cy="58640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2771280" y="3571560"/>
            <a:ext cx="3086280" cy="2500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Органічні речовин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Жири         </a:t>
            </a: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~20</a:t>
            </a:r>
            <a:r>
              <a:rPr b="0" lang="uk-UA" sz="3000" spc="-1" strike="noStrike">
                <a:solidFill>
                  <a:srgbClr val="ffffff"/>
                </a:solidFill>
                <a:latin typeface="Constantia"/>
              </a:rPr>
              <a:t>%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Білки      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~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35%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Вуглеводи </a:t>
            </a:r>
            <a:r>
              <a:rPr b="0" lang="uk-UA" sz="3200" spc="-1" strike="noStrike">
                <a:solidFill>
                  <a:srgbClr val="ffffff"/>
                </a:solidFill>
                <a:latin typeface="Constantia"/>
              </a:rPr>
              <a:t>2%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3" name="Диаграмма 3" descr=""/>
          <p:cNvPicPr/>
          <p:nvPr/>
        </p:nvPicPr>
        <p:blipFill>
          <a:blip r:embed="rId2"/>
          <a:stretch/>
        </p:blipFill>
        <p:spPr>
          <a:xfrm>
            <a:off x="1933560" y="220680"/>
            <a:ext cx="5056200" cy="2868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C:\Users\Оксана\Desktop\школа\1_W1MiZnx4Y.jpg"/>
          <p:cNvPicPr/>
          <p:nvPr/>
        </p:nvPicPr>
        <p:blipFill>
          <a:blip r:embed="rId3"/>
          <a:stretch/>
        </p:blipFill>
        <p:spPr>
          <a:xfrm>
            <a:off x="274680" y="3000240"/>
            <a:ext cx="2448000" cy="3668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C:\Users\Оксана\Desktop\школа\t-man.jpg"/>
          <p:cNvPicPr/>
          <p:nvPr/>
        </p:nvPicPr>
        <p:blipFill>
          <a:blip r:embed="rId4"/>
          <a:stretch/>
        </p:blipFill>
        <p:spPr>
          <a:xfrm>
            <a:off x="5867280" y="3068640"/>
            <a:ext cx="31035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2:35:59Z</dcterms:created>
  <dc:creator>ССD</dc:creator>
  <dc:description/>
  <dc:language>en-US</dc:language>
  <cp:lastModifiedBy>Admin</cp:lastModifiedBy>
  <dcterms:modified xsi:type="dcterms:W3CDTF">2013-01-18T08:49:05Z</dcterms:modified>
  <cp:revision>153</cp:revision>
  <dc:subject/>
  <dc:title>Білки, жири, вуглеводи як компоненти їжі. Їх роль в організмі людин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24000000000001024140</vt:lpwstr>
  </property>
</Properties>
</file>