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4.jpeg" ContentType="image/jpeg"/>
  <Override PartName="/ppt/media/image23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3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21.png" ContentType="image/pn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1E7-A437-4A6E-A2E9-56D50C23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2CC-2A6C-4387-ACBB-17A17949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2B08-F2E3-4B5B-8331-9E1396A8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721D-C5C7-414E-B5A3-578ACB14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ED45-CF71-49C3-B58E-73C192F2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213-AE9F-4D8E-B597-18C5BA24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801-C1FB-4E23-8BAF-D98ED50F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976-F002-449B-8ED6-EC67B72E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E5CD-3F5A-455C-8093-918B89EB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FB33-085E-41D1-A2D2-E6E3F355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D62D-4B4E-4ED8-88E3-48B18A06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78E3-7709-4408-8B4C-96F20201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9CE1-F77A-4D89-B2AB-A0D298B43F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3" descr=""/>
          <p:cNvPicPr/>
          <p:nvPr/>
        </p:nvPicPr>
        <p:blipFill>
          <a:blip r:embed="rId2"/>
          <a:stretch/>
        </p:blipFill>
        <p:spPr>
          <a:xfrm>
            <a:off x="450720" y="73080"/>
            <a:ext cx="8242560" cy="10065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6"/>
          <p:cNvSpPr/>
          <p:nvPr/>
        </p:nvSpPr>
        <p:spPr>
          <a:xfrm flipV="1" rot="10800000">
            <a:off x="2085840" y="5988600"/>
            <a:ext cx="6772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FA1B-DD46-4350-A05F-44AD27A6BB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4200" y="1071360"/>
            <a:ext cx="85154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Варіант    №1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1балу)    2 варіант №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№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2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1балу)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№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№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3                                                 №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4200" y="1643040"/>
          <a:ext cx="4000680" cy="741240"/>
        </p:xfrm>
        <a:graphic>
          <a:graphicData uri="http://schemas.openxmlformats.org/drawingml/2006/table">
            <a:tbl>
              <a:tblPr/>
              <a:tblGrid>
                <a:gridCol w="500040"/>
                <a:gridCol w="428760"/>
                <a:gridCol w="428760"/>
                <a:gridCol w="428400"/>
                <a:gridCol w="642960"/>
                <a:gridCol w="571680"/>
                <a:gridCol w="428400"/>
                <a:gridCol w="571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500720" y="1643040"/>
          <a:ext cx="4143240" cy="741240"/>
        </p:xfrm>
        <a:graphic>
          <a:graphicData uri="http://schemas.openxmlformats.org/drawingml/2006/table">
            <a:tbl>
              <a:tblPr/>
              <a:tblGrid>
                <a:gridCol w="571320"/>
                <a:gridCol w="428760"/>
                <a:gridCol w="500040"/>
                <a:gridCol w="500040"/>
                <a:gridCol w="500040"/>
                <a:gridCol w="428760"/>
                <a:gridCol w="642600"/>
                <a:gridCol w="571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85880" y="3143160"/>
          <a:ext cx="1928880" cy="1828800"/>
        </p:xfrm>
        <a:graphic>
          <a:graphicData uri="http://schemas.openxmlformats.org/drawingml/2006/table">
            <a:tbl>
              <a:tblPr/>
              <a:tblGrid>
                <a:gridCol w="963720"/>
                <a:gridCol w="96516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5143680" y="3214800"/>
          <a:ext cx="1928520" cy="1828800"/>
        </p:xfrm>
        <a:graphic>
          <a:graphicData uri="http://schemas.openxmlformats.org/drawingml/2006/table">
            <a:tbl>
              <a:tblPr/>
              <a:tblGrid>
                <a:gridCol w="965160"/>
                <a:gridCol w="96336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14240" y="5715000"/>
          <a:ext cx="2000520" cy="731880"/>
        </p:xfrm>
        <a:graphic>
          <a:graphicData uri="http://schemas.openxmlformats.org/drawingml/2006/table">
            <a:tbl>
              <a:tblPr/>
              <a:tblGrid>
                <a:gridCol w="571680"/>
                <a:gridCol w="428760"/>
                <a:gridCol w="500040"/>
                <a:gridCol w="5000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5143680" y="5715000"/>
          <a:ext cx="2000160" cy="741240"/>
        </p:xfrm>
        <a:graphic>
          <a:graphicData uri="http://schemas.openxmlformats.org/drawingml/2006/table">
            <a:tbl>
              <a:tblPr/>
              <a:tblGrid>
                <a:gridCol w="571320"/>
                <a:gridCol w="428760"/>
                <a:gridCol w="500040"/>
                <a:gridCol w="500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928760" y="1599840"/>
            <a:ext cx="4000680" cy="4971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Пірометалург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FeO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Fe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Металотерм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uk-UA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uk-UA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Воднетерм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uk-UA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Електролі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Na C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2Na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285840" y="3286080"/>
            <a:ext cx="4357440" cy="32860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3"/>
          <p:cNvSpPr/>
          <p:nvPr/>
        </p:nvSpPr>
        <p:spPr>
          <a:xfrm>
            <a:off x="285840" y="1571760"/>
            <a:ext cx="4357440" cy="161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Більшість металів зустрічаються в природі у вигляді сполук. Добування металів з руд – завдання металургії. Це одна з найдавніших галузей хімічної промисловост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071600" y="2000160"/>
            <a:ext cx="4614840" cy="4214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іння сірника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на з реакці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Cl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KCl + 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іння метан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+ 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іння вугілл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+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500040" y="1857240"/>
            <a:ext cx="2143080" cy="185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4"/>
          <a:stretch/>
        </p:blipFill>
        <p:spPr>
          <a:xfrm>
            <a:off x="500040" y="478620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5"/>
          <a:stretch/>
        </p:blipFill>
        <p:spPr>
          <a:xfrm>
            <a:off x="1714680" y="3357720"/>
            <a:ext cx="221436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071600" y="1857240"/>
            <a:ext cx="4614840" cy="3786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тез аміа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3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робництво 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Calibri"/>
              </a:rPr>
              <a:t> 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1стадія: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 + 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2стадія: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+ 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2886120" cy="1857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1357200" y="3000240"/>
            <a:ext cx="2357640" cy="1785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5"/>
          <a:stretch/>
        </p:blipFill>
        <p:spPr>
          <a:xfrm>
            <a:off x="285840" y="4786200"/>
            <a:ext cx="2714400" cy="18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499760" y="3285720"/>
            <a:ext cx="5929560" cy="3071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думаю…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му що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иклад 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же 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99840"/>
            <a:ext cx="811548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може існувати світ без окисно- відновних реакці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машнє завданн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Читати </a:t>
            </a: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§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Виконати вправу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Повторити §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Скласти електронний баланс окисно- відновної реакції  фотосинтез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4786200" y="1428840"/>
            <a:ext cx="3857760" cy="31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577360" cy="2237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142880" y="3429000"/>
            <a:ext cx="4543560" cy="2857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3"/>
          <a:stretch/>
        </p:blipFill>
        <p:spPr>
          <a:xfrm>
            <a:off x="3571920" y="3000240"/>
            <a:ext cx="500076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0720" y="-146160"/>
            <a:ext cx="8242560" cy="1951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3"/>
          <a:stretch/>
        </p:blipFill>
        <p:spPr>
          <a:xfrm>
            <a:off x="1428840" y="1928880"/>
            <a:ext cx="6286320" cy="38005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6"/>
          <p:cNvSpPr/>
          <p:nvPr/>
        </p:nvSpPr>
        <p:spPr>
          <a:xfrm flipV="1" rot="10800000">
            <a:off x="2085840" y="5834520"/>
            <a:ext cx="67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ія створена вчителем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локолодязької ЗОШ І – ІІІ ст.   Завгородньою Г.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C0D1-BC05-4705-BEF2-3B8EB51AC8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3" descr=""/>
          <p:cNvPicPr/>
          <p:nvPr/>
        </p:nvPicPr>
        <p:blipFill>
          <a:blip r:embed="rId2"/>
          <a:stretch/>
        </p:blipFill>
        <p:spPr>
          <a:xfrm>
            <a:off x="165240" y="-146160"/>
            <a:ext cx="9101160" cy="195120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уроку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и теоретичний матеріал про окисно- відновні реак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сконалювати навики складання електронних балансів окисно- відновних реакці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крити значення окисно- відновних реакці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29" descr=""/>
          <p:cNvPicPr/>
          <p:nvPr/>
        </p:nvPicPr>
        <p:blipFill>
          <a:blip r:embed="rId2"/>
          <a:stretch/>
        </p:blipFill>
        <p:spPr>
          <a:xfrm>
            <a:off x="195120" y="96840"/>
            <a:ext cx="8259840" cy="1128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85480" y="1999800"/>
            <a:ext cx="78588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5" descr=""/>
          <p:cNvPicPr/>
          <p:nvPr/>
        </p:nvPicPr>
        <p:blipFill>
          <a:blip r:embed="rId3"/>
          <a:stretch/>
        </p:blipFill>
        <p:spPr>
          <a:xfrm>
            <a:off x="853920" y="1341360"/>
            <a:ext cx="7723440" cy="523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428760" y="2214720"/>
            <a:ext cx="4038480" cy="4143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857480" y="2206080"/>
            <a:ext cx="3857400" cy="4107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254061"/>
                </a:solidFill>
                <a:latin typeface="Arial"/>
                <a:ea typeface="Times New Roman"/>
              </a:rPr>
              <a:t>Добре, що ця реакція відбувається тільки при температурі грозових розряд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4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+O</a:t>
            </a:r>
            <a:r>
              <a:rPr b="1" lang="en-US" sz="4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NO+O</a:t>
            </a:r>
            <a:r>
              <a:rPr b="1" lang="en-US" sz="4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1" lang="en-US" sz="4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гроза.mp3" descr=""/>
          <p:cNvPicPr/>
          <p:nvPr/>
        </p:nvPicPr>
        <p:blipFill>
          <a:blip r:embed="rId4"/>
          <a:stretch/>
        </p:blipFill>
        <p:spPr>
          <a:xfrm>
            <a:off x="792972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107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6528960" y="3616200"/>
            <a:ext cx="27612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24"/>
          <p:cNvPicPr/>
          <p:nvPr/>
        </p:nvPicPr>
        <p:blipFill>
          <a:blip r:embed="rId3"/>
          <a:stretch/>
        </p:blipFill>
        <p:spPr>
          <a:xfrm>
            <a:off x="357120" y="2000160"/>
            <a:ext cx="3857760" cy="3672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1"/>
          <p:cNvSpPr/>
          <p:nvPr/>
        </p:nvSpPr>
        <p:spPr>
          <a:xfrm>
            <a:off x="4357800" y="1857240"/>
            <a:ext cx="4572000" cy="4317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верження вулкану  супроводжується низкою окисно-відновних реакцій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S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S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S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uk-UA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іть ці рівняння метод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ного баланс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528960" y="3616200"/>
            <a:ext cx="27612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"/>
          <p:cNvSpPr/>
          <p:nvPr/>
        </p:nvSpPr>
        <p:spPr>
          <a:xfrm flipV="1" rot="10800000">
            <a:off x="571680" y="1315080"/>
            <a:ext cx="22860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599840"/>
            <a:ext cx="8258040" cy="4971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розія (руйнування) металів – негативне значення окисно- відновних реакці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uk-UA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→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1" lang="uk-UA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1000080" y="3714840"/>
            <a:ext cx="732960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6528960" y="3616200"/>
            <a:ext cx="27612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"/>
          <p:cNvSpPr/>
          <p:nvPr/>
        </p:nvSpPr>
        <p:spPr>
          <a:xfrm flipV="1" rot="10800000">
            <a:off x="571680" y="1315080"/>
            <a:ext cx="22860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5929200" y="1643040"/>
            <a:ext cx="2714760" cy="1857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4"/>
          <a:stretch/>
        </p:blipFill>
        <p:spPr>
          <a:xfrm>
            <a:off x="6215040" y="4500720"/>
            <a:ext cx="2714760" cy="20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5"/>
          <a:stretch/>
        </p:blipFill>
        <p:spPr>
          <a:xfrm>
            <a:off x="285840" y="428616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80" name="Схема 10" descr=""/>
          <p:cNvPicPr/>
          <p:nvPr/>
        </p:nvPicPr>
        <p:blipFill>
          <a:blip r:embed="rId6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  <p:pic>
        <p:nvPicPr>
          <p:cNvPr id="81" name="Схема 13" descr=""/>
          <p:cNvPicPr/>
          <p:nvPr/>
        </p:nvPicPr>
        <p:blipFill>
          <a:blip r:embed="rId7"/>
          <a:stretch/>
        </p:blipFill>
        <p:spPr>
          <a:xfrm>
            <a:off x="1517760" y="1639800"/>
            <a:ext cx="6108480" cy="401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714240" y="1745640"/>
            <a:ext cx="7221600" cy="1250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99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фотосинте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О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+ 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1857240" y="3071880"/>
            <a:ext cx="5643720" cy="357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14:24:51Z</dcterms:created>
  <dc:creator>Admin</dc:creator>
  <dc:description/>
  <dc:language>en-US</dc:language>
  <cp:lastModifiedBy>Admin</cp:lastModifiedBy>
  <dcterms:modified xsi:type="dcterms:W3CDTF">2012-12-27T08:37:51Z</dcterms:modified>
  <cp:revision>100</cp:revision>
  <dc:subject/>
  <dc:title>Окисно- відновні реакції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1a000000000001024140</vt:lpwstr>
  </property>
</Properties>
</file>