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jpeg" ContentType="image/jpeg"/>
  <Override PartName="/ppt/media/image23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21.png" ContentType="image/pn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FC8-9DC1-4537-8396-D6C6B7EC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F537-F96F-413D-BAF5-1AA7318E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CF2-1637-4188-B5A0-97CCC319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5DB6-9485-48AC-883A-0B9A6E52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FCE0-E68A-453A-95DF-4863DE88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1FA3-23AE-4076-A8AA-AAD32CA5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2E1-E3AE-4A49-8BBD-40F3D548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634-C659-4C21-A8C2-1D3D44B8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9C5-A4B3-429D-9C1A-76DFA874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793E-3920-49AE-A018-4A731D3F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FF8-6D4C-42C1-A70B-9F3BD631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C9C-225D-4B53-B874-32A82D52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B0B1-CF7C-4F2C-A196-477DB74C80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3" descr=""/>
          <p:cNvPicPr/>
          <p:nvPr/>
        </p:nvPicPr>
        <p:blipFill>
          <a:blip r:embed="rId2"/>
          <a:stretch/>
        </p:blipFill>
        <p:spPr>
          <a:xfrm>
            <a:off x="450720" y="73080"/>
            <a:ext cx="8242560" cy="10065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6"/>
          <p:cNvSpPr/>
          <p:nvPr/>
        </p:nvSpPr>
        <p:spPr>
          <a:xfrm flipV="1" rot="10800000">
            <a:off x="2085840" y="5988600"/>
            <a:ext cx="6772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CDD9-4140-4289-AAA0-23507D1232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4200" y="1071360"/>
            <a:ext cx="85154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Варіант    №1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1балу)    2 варіант №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№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2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1балу)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№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№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                                                 №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4200" y="1643040"/>
          <a:ext cx="4000680" cy="741240"/>
        </p:xfrm>
        <a:graphic>
          <a:graphicData uri="http://schemas.openxmlformats.org/drawingml/2006/table">
            <a:tbl>
              <a:tblPr/>
              <a:tblGrid>
                <a:gridCol w="500040"/>
                <a:gridCol w="428760"/>
                <a:gridCol w="428760"/>
                <a:gridCol w="428400"/>
                <a:gridCol w="642960"/>
                <a:gridCol w="571680"/>
                <a:gridCol w="428400"/>
                <a:gridCol w="571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500720" y="1643040"/>
          <a:ext cx="4143240" cy="741240"/>
        </p:xfrm>
        <a:graphic>
          <a:graphicData uri="http://schemas.openxmlformats.org/drawingml/2006/table">
            <a:tbl>
              <a:tblPr/>
              <a:tblGrid>
                <a:gridCol w="571320"/>
                <a:gridCol w="428760"/>
                <a:gridCol w="500040"/>
                <a:gridCol w="500040"/>
                <a:gridCol w="500040"/>
                <a:gridCol w="428760"/>
                <a:gridCol w="642600"/>
                <a:gridCol w="571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85880" y="3143160"/>
          <a:ext cx="1928880" cy="1828800"/>
        </p:xfrm>
        <a:graphic>
          <a:graphicData uri="http://schemas.openxmlformats.org/drawingml/2006/table">
            <a:tbl>
              <a:tblPr/>
              <a:tblGrid>
                <a:gridCol w="963720"/>
                <a:gridCol w="96516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143680" y="3214800"/>
          <a:ext cx="1928520" cy="1828800"/>
        </p:xfrm>
        <a:graphic>
          <a:graphicData uri="http://schemas.openxmlformats.org/drawingml/2006/table">
            <a:tbl>
              <a:tblPr/>
              <a:tblGrid>
                <a:gridCol w="965160"/>
                <a:gridCol w="96336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14240" y="5715000"/>
          <a:ext cx="2000520" cy="731880"/>
        </p:xfrm>
        <a:graphic>
          <a:graphicData uri="http://schemas.openxmlformats.org/drawingml/2006/table">
            <a:tbl>
              <a:tblPr/>
              <a:tblGrid>
                <a:gridCol w="571680"/>
                <a:gridCol w="428760"/>
                <a:gridCol w="500040"/>
                <a:gridCol w="5000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5143680" y="5715000"/>
          <a:ext cx="2000160" cy="741240"/>
        </p:xfrm>
        <a:graphic>
          <a:graphicData uri="http://schemas.openxmlformats.org/drawingml/2006/table">
            <a:tbl>
              <a:tblPr/>
              <a:tblGrid>
                <a:gridCol w="571320"/>
                <a:gridCol w="428760"/>
                <a:gridCol w="500040"/>
                <a:gridCol w="500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28760" y="1599840"/>
            <a:ext cx="4000680" cy="4971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Пірометалург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FeO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Fe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Металотерм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uk-UA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uk-UA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Воднетерм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uk-UA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Електрол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Na C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2Na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285840" y="3286080"/>
            <a:ext cx="4357440" cy="32860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3"/>
          <p:cNvSpPr/>
          <p:nvPr/>
        </p:nvSpPr>
        <p:spPr>
          <a:xfrm>
            <a:off x="285840" y="1571760"/>
            <a:ext cx="4357440" cy="161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Більшість металів зустрічаються в природі у вигляді сполук. Добування металів з руд – завдання металургії. Це одна з найдавніших галузей хімічної промислово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071600" y="2000160"/>
            <a:ext cx="4614840" cy="4214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іння сірника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а з реакці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Cl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KCl + 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іння метан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іння вугіл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+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500040" y="1857240"/>
            <a:ext cx="2143080" cy="185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4"/>
          <a:stretch/>
        </p:blipFill>
        <p:spPr>
          <a:xfrm>
            <a:off x="500040" y="478620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5"/>
          <a:stretch/>
        </p:blipFill>
        <p:spPr>
          <a:xfrm>
            <a:off x="1714680" y="3357720"/>
            <a:ext cx="221436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071600" y="1857240"/>
            <a:ext cx="4614840" cy="3786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тез аміа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3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робництво 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Calibri"/>
              </a:rPr>
              <a:t> 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1стадія: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 + 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2стадія: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2886120" cy="1857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1357200" y="300024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5"/>
          <a:stretch/>
        </p:blipFill>
        <p:spPr>
          <a:xfrm>
            <a:off x="285840" y="4786200"/>
            <a:ext cx="2714400" cy="18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499760" y="3285720"/>
            <a:ext cx="5929560" cy="3071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думаю…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му що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иклад 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же 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811548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може існувати світ без окисно- відновних реакці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Читати </a:t>
            </a: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§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Виконати вправу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Повторити §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Скласти електронний баланс окисно- відновної реакції  фотосинтез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4786200" y="1428840"/>
            <a:ext cx="3857760" cy="31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577360" cy="2237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142880" y="3429000"/>
            <a:ext cx="4543560" cy="2857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3571920" y="3000240"/>
            <a:ext cx="500076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0720" y="-146160"/>
            <a:ext cx="8242560" cy="1951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1428840" y="1928880"/>
            <a:ext cx="6286320" cy="3800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 flipV="1" rot="10800000">
            <a:off x="2085840" y="5834520"/>
            <a:ext cx="67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ія створена вчителем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локолодязької ЗОШ І – ІІІ ст.   Завгородньою Г.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8589-CCA9-4A35-B768-7B4DFFF61A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3" descr=""/>
          <p:cNvPicPr/>
          <p:nvPr/>
        </p:nvPicPr>
        <p:blipFill>
          <a:blip r:embed="rId2"/>
          <a:stretch/>
        </p:blipFill>
        <p:spPr>
          <a:xfrm>
            <a:off x="165240" y="-146160"/>
            <a:ext cx="9101160" cy="195120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уроку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и теоретичний матеріал про окисно- відновні реак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сконалювати навики складання електронних балансів окисно- відновних реакці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крити значення окисно- відновних реакці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29" descr=""/>
          <p:cNvPicPr/>
          <p:nvPr/>
        </p:nvPicPr>
        <p:blipFill>
          <a:blip r:embed="rId2"/>
          <a:stretch/>
        </p:blipFill>
        <p:spPr>
          <a:xfrm>
            <a:off x="195120" y="96840"/>
            <a:ext cx="8259840" cy="1128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85480" y="1999800"/>
            <a:ext cx="7858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5" descr=""/>
          <p:cNvPicPr/>
          <p:nvPr/>
        </p:nvPicPr>
        <p:blipFill>
          <a:blip r:embed="rId3"/>
          <a:stretch/>
        </p:blipFill>
        <p:spPr>
          <a:xfrm>
            <a:off x="853920" y="1341360"/>
            <a:ext cx="7723440" cy="523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428760" y="2214720"/>
            <a:ext cx="4038480" cy="4143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857480" y="2206080"/>
            <a:ext cx="3857400" cy="4107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254061"/>
                </a:solidFill>
                <a:latin typeface="Arial"/>
                <a:ea typeface="Times New Roman"/>
              </a:rPr>
              <a:t>Добре, що ця реакція відбувається тільки при температурі грозових розряд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+O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NO+O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гроза.mp3" descr=""/>
          <p:cNvPicPr/>
          <p:nvPr/>
        </p:nvPicPr>
        <p:blipFill>
          <a:blip r:embed="rId4"/>
          <a:stretch/>
        </p:blipFill>
        <p:spPr>
          <a:xfrm>
            <a:off x="792972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107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6528960" y="3616200"/>
            <a:ext cx="27612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24"/>
          <p:cNvPicPr/>
          <p:nvPr/>
        </p:nvPicPr>
        <p:blipFill>
          <a:blip r:embed="rId3"/>
          <a:stretch/>
        </p:blipFill>
        <p:spPr>
          <a:xfrm>
            <a:off x="357120" y="2000160"/>
            <a:ext cx="3857760" cy="3672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1"/>
          <p:cNvSpPr/>
          <p:nvPr/>
        </p:nvSpPr>
        <p:spPr>
          <a:xfrm>
            <a:off x="4357800" y="1857240"/>
            <a:ext cx="4572000" cy="431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ерження вулкану  супроводжується низкою окисно-відновних реакцій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S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S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S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uk-UA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іть ці рівняння метод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ного баланс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528960" y="3616200"/>
            <a:ext cx="27612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"/>
          <p:cNvSpPr/>
          <p:nvPr/>
        </p:nvSpPr>
        <p:spPr>
          <a:xfrm flipV="1" rot="10800000">
            <a:off x="571680" y="1315080"/>
            <a:ext cx="22860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599840"/>
            <a:ext cx="8258040" cy="4971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розія (руйнування) металів – негативне значення окисно- відновних реакці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uk-UA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→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1" lang="uk-UA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1000080" y="3714840"/>
            <a:ext cx="732960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6528960" y="3616200"/>
            <a:ext cx="27612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"/>
          <p:cNvSpPr/>
          <p:nvPr/>
        </p:nvSpPr>
        <p:spPr>
          <a:xfrm flipV="1" rot="10800000">
            <a:off x="571680" y="1315080"/>
            <a:ext cx="22860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5929200" y="1643040"/>
            <a:ext cx="2714760" cy="1857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4"/>
          <a:stretch/>
        </p:blipFill>
        <p:spPr>
          <a:xfrm>
            <a:off x="6215040" y="4500720"/>
            <a:ext cx="2714760" cy="20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5"/>
          <a:stretch/>
        </p:blipFill>
        <p:spPr>
          <a:xfrm>
            <a:off x="285840" y="428616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Схема 10" descr=""/>
          <p:cNvPicPr/>
          <p:nvPr/>
        </p:nvPicPr>
        <p:blipFill>
          <a:blip r:embed="rId6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  <p:pic>
        <p:nvPicPr>
          <p:cNvPr id="81" name="Схема 13" descr=""/>
          <p:cNvPicPr/>
          <p:nvPr/>
        </p:nvPicPr>
        <p:blipFill>
          <a:blip r:embed="rId7"/>
          <a:stretch/>
        </p:blipFill>
        <p:spPr>
          <a:xfrm>
            <a:off x="1517760" y="1639800"/>
            <a:ext cx="6108480" cy="401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714240" y="1745640"/>
            <a:ext cx="7221600" cy="1250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фотосинте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О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1857240" y="3071880"/>
            <a:ext cx="5643720" cy="357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4:24:51Z</dcterms:created>
  <dc:creator>Admin</dc:creator>
  <dc:description/>
  <dc:language>en-US</dc:language>
  <cp:lastModifiedBy>Admin</cp:lastModifiedBy>
  <dcterms:modified xsi:type="dcterms:W3CDTF">2012-12-27T08:37:51Z</dcterms:modified>
  <cp:revision>100</cp:revision>
  <dc:subject/>
  <dc:title>Окисно- відновні реакції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a000000000001024140</vt:lpwstr>
  </property>
</Properties>
</file>