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1.png" ContentType="image/pn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805-6C3B-4992-AA02-6C3C39A0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B79-C134-4FFF-B169-33DE304B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EA2-EB62-44BD-BA6F-B8167B8D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283-9FA2-4A24-B8BA-51380044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621-BC22-4CA4-94B4-099BB795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BED-A1B5-4E64-8EFE-28EF16F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683-366A-4839-BBBE-235E8918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996-717B-4A59-990E-E5F5F027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EE7-6659-404B-80AD-843E6B5E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EF2-1E5A-4727-8B60-AA572E4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E67-559F-431A-A37E-C34CA5C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782-7D48-4AB1-9BC8-9CE0605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6B90-6405-4F71-AABE-C5C5C135B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 flipV="1" rot="10800000">
            <a:off x="2085840" y="5988600"/>
            <a:ext cx="6772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2873-614A-4291-B9FD-314272C234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071360"/>
            <a:ext cx="85154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Варіант    №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    2 варіант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                                                 №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4200" y="1643040"/>
          <a:ext cx="4000680" cy="741240"/>
        </p:xfrm>
        <a:graphic>
          <a:graphicData uri="http://schemas.openxmlformats.org/drawingml/2006/table">
            <a:tbl>
              <a:tblPr/>
              <a:tblGrid>
                <a:gridCol w="500040"/>
                <a:gridCol w="428760"/>
                <a:gridCol w="428760"/>
                <a:gridCol w="428400"/>
                <a:gridCol w="642960"/>
                <a:gridCol w="571680"/>
                <a:gridCol w="4284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00720" y="1643040"/>
          <a:ext cx="414324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  <a:gridCol w="500040"/>
                <a:gridCol w="428760"/>
                <a:gridCol w="6426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85880" y="3143160"/>
          <a:ext cx="1928880" cy="1828800"/>
        </p:xfrm>
        <a:graphic>
          <a:graphicData uri="http://schemas.openxmlformats.org/drawingml/2006/table">
            <a:tbl>
              <a:tblPr/>
              <a:tblGrid>
                <a:gridCol w="963720"/>
                <a:gridCol w="9651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143680" y="3214800"/>
          <a:ext cx="1928520" cy="1828800"/>
        </p:xfrm>
        <a:graphic>
          <a:graphicData uri="http://schemas.openxmlformats.org/drawingml/2006/table">
            <a:tbl>
              <a:tblPr/>
              <a:tblGrid>
                <a:gridCol w="965160"/>
                <a:gridCol w="9633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14240" y="5715000"/>
          <a:ext cx="2000520" cy="731880"/>
        </p:xfrm>
        <a:graphic>
          <a:graphicData uri="http://schemas.openxmlformats.org/drawingml/2006/table">
            <a:tbl>
              <a:tblPr/>
              <a:tblGrid>
                <a:gridCol w="571680"/>
                <a:gridCol w="428760"/>
                <a:gridCol w="500040"/>
                <a:gridCol w="5000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43680" y="5715000"/>
          <a:ext cx="200016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28760" y="1599840"/>
            <a:ext cx="400068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Пірометалург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O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Метало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одне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Електрол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Na C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Na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285840" y="3286080"/>
            <a:ext cx="4357440" cy="3286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3"/>
          <p:cNvSpPr/>
          <p:nvPr/>
        </p:nvSpPr>
        <p:spPr>
          <a:xfrm>
            <a:off x="285840" y="1571760"/>
            <a:ext cx="435744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ільшість металів зустрічаються в природі у вигляді сполук. Добування металів з руд – завдання металургії. Це одна з найдавніших галузей хімічної промислов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071600" y="2000160"/>
            <a:ext cx="4614840" cy="4214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сірника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 з реакці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KCl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метан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вугіл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00040" y="1857240"/>
            <a:ext cx="214308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500040" y="47862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714680" y="3357720"/>
            <a:ext cx="22143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071600" y="1857240"/>
            <a:ext cx="4614840" cy="3786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з амі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робництво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Calibri"/>
              </a:rPr>
              <a:t> 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стадія: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стадія: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2886120" cy="185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1357200" y="300024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285840" y="4786200"/>
            <a:ext cx="271440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99760" y="3285720"/>
            <a:ext cx="5929560" cy="3071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думаю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у що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клад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же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81154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може існувати світ без окисно- відновних реакці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Читати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§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Виконати вправу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Повторити §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Скласти електронний баланс окисно- відновної реакції  фотосинте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3857760" cy="31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577360" cy="22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142880" y="3429000"/>
            <a:ext cx="4543560" cy="285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3571920" y="3000240"/>
            <a:ext cx="500076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242560" cy="195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1428840" y="1928880"/>
            <a:ext cx="6286320" cy="3800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 flipV="1" rot="10800000">
            <a:off x="2085840" y="5834520"/>
            <a:ext cx="67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створена вчителем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околодязької ЗОШ І – ІІІ ст.   Завгородньою Г.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18A8-86C4-40D8-99D1-FA4543064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3" descr=""/>
          <p:cNvPicPr/>
          <p:nvPr/>
        </p:nvPicPr>
        <p:blipFill>
          <a:blip r:embed="rId2"/>
          <a:stretch/>
        </p:blipFill>
        <p:spPr>
          <a:xfrm>
            <a:off x="165240" y="-146160"/>
            <a:ext cx="9101160" cy="1951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теоретичний матеріал про окисно- відновні реа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коналювати навики складання електронних балансів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рити значення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29" descr=""/>
          <p:cNvPicPr/>
          <p:nvPr/>
        </p:nvPicPr>
        <p:blipFill>
          <a:blip r:embed="rId2"/>
          <a:stretch/>
        </p:blipFill>
        <p:spPr>
          <a:xfrm>
            <a:off x="195120" y="96840"/>
            <a:ext cx="8259840" cy="112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5480" y="1999800"/>
            <a:ext cx="785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"/>
          <p:cNvPicPr/>
          <p:nvPr/>
        </p:nvPicPr>
        <p:blipFill>
          <a:blip r:embed="rId3"/>
          <a:stretch/>
        </p:blipFill>
        <p:spPr>
          <a:xfrm>
            <a:off x="853920" y="1341360"/>
            <a:ext cx="772344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28760" y="2214720"/>
            <a:ext cx="4038480" cy="414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857480" y="2206080"/>
            <a:ext cx="3857400" cy="410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254061"/>
                </a:solidFill>
                <a:latin typeface="Arial"/>
                <a:ea typeface="Times New Roman"/>
              </a:rPr>
              <a:t>Добре, що ця реакція відбувається тільки при температурі грозових розря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NO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гроза.mp3" descr=""/>
          <p:cNvPicPr/>
          <p:nvPr/>
        </p:nvPicPr>
        <p:blipFill>
          <a:blip r:embed="rId4"/>
          <a:stretch/>
        </p:blipFill>
        <p:spPr>
          <a:xfrm>
            <a:off x="792972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107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24"/>
          <p:cNvPicPr/>
          <p:nvPr/>
        </p:nvPicPr>
        <p:blipFill>
          <a:blip r:embed="rId3"/>
          <a:stretch/>
        </p:blipFill>
        <p:spPr>
          <a:xfrm>
            <a:off x="357120" y="2000160"/>
            <a:ext cx="385776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1"/>
          <p:cNvSpPr/>
          <p:nvPr/>
        </p:nvSpPr>
        <p:spPr>
          <a:xfrm>
            <a:off x="4357800" y="1857240"/>
            <a:ext cx="4572000" cy="43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рження вулкану  супроводжується низкою окисно-відновних реакці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uk-UA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іть ці рівняння мет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ого балан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зія (руйнування) металів – негативне значення окисно- відновних реакці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00080" y="3714840"/>
            <a:ext cx="73296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929200" y="164304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6215040" y="450072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285840" y="428616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Схема 10" descr=""/>
          <p:cNvPicPr/>
          <p:nvPr/>
        </p:nvPicPr>
        <p:blipFill>
          <a:blip r:embed="rId6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81" name="Схема 13" descr=""/>
          <p:cNvPicPr/>
          <p:nvPr/>
        </p:nvPicPr>
        <p:blipFill>
          <a:blip r:embed="rId7"/>
          <a:stretch/>
        </p:blipFill>
        <p:spPr>
          <a:xfrm>
            <a:off x="1517760" y="1639800"/>
            <a:ext cx="6108480" cy="40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14240" y="1745640"/>
            <a:ext cx="7221600" cy="1250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синте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857240" y="3071880"/>
            <a:ext cx="564372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4:24:51Z</dcterms:created>
  <dc:creator>Admin</dc:creator>
  <dc:description/>
  <dc:language>en-US</dc:language>
  <cp:lastModifiedBy>Admin</cp:lastModifiedBy>
  <dcterms:modified xsi:type="dcterms:W3CDTF">2012-12-27T08:37:51Z</dcterms:modified>
  <cp:revision>100</cp:revision>
  <dc:subject/>
  <dc:title>Окисно- відновні реакції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a000000000001024140</vt:lpwstr>
  </property>
</Properties>
</file>