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4EC-8FB8-46A1-A88C-2C1303CB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F34-DFA3-4B57-903E-915061D6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52C-EBEE-462F-BE06-F093CADF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607-96A4-488F-BECA-0261FAD9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B14A-87D3-4CE7-AAC9-B20B8F98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1FF6-D462-46C0-956E-BB46B1F6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A393-40F6-423A-8989-784A67BD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2540-933B-4BF9-967C-780971E7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7444-CA27-4D1B-8451-5D6B36FF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F33C-A51D-4057-9910-6F97B60A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13B5-369A-4A12-AAF2-53793C63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F79-EED7-4DFF-8047-D03B95B4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4444-ED0C-4021-A36F-D873BC59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CEB5-8D1C-4FA1-92F8-C8BD6BCC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2C3F-DA0A-4E9C-A28B-E05189CD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DF0D-83F9-48CF-A40D-B0798836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0A1A-99BE-4425-8214-ECBA3D64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B01-23B5-41BA-81AB-855E6CD6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CDA-65D2-4E0E-AD80-A7031A7F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C28-94F4-4EAA-BF63-3514E4B4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94C-DB65-49CF-8174-99F8C3CC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F20-14C2-482F-958C-EAE429F8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7D9-B5F3-4943-936D-4B6F1BF4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58C-2FAA-4B08-8766-1403CBFA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87EE-AAFF-42AC-9DE4-BD65EA56835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7BA2-F484-4929-ADD3-E1B946A1A47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Times New Roman"/>
              </a:rPr>
              <a:t>Найважливішим представником лужних металів є Натрій.</a:t>
            </a:r>
            <a:br>
              <a:rPr sz="4000"/>
            </a:br>
            <a:r>
              <a:rPr b="1" lang="uk-UA" sz="4000" spc="-1" strike="noStrike">
                <a:solidFill>
                  <a:srgbClr val="ccecff"/>
                </a:solidFill>
                <a:latin typeface="Times New Roman"/>
              </a:rPr>
              <a:t>Натрій — м'який метал ( ріжеться ножем, як вершкове масло), метал від сріблисто-білого до сірого кольору з характерним блиском, що дуже швидко тьмяніє на повітрі. Легкоплавкий, рухливий.</a:t>
            </a:r>
            <a:r>
              <a:rPr b="1" lang="uk-UA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86868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Селітра (сульфат натрію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Гірнича виробка у соляній шахті Соледару, Донецька область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Times New Roman"/>
              </a:rPr>
              <a:t>Соляна шахт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343400" cy="579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Видобуток солі на озері Сасик-Сіва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80880" y="11066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Times New Roman"/>
              </a:rPr>
              <a:t>Плантація морської солі в Дакарі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001000" cy="52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Times New Roman"/>
              </a:rPr>
              <a:t>Натрій використовується</a:t>
            </a: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в кулінарії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в хімічній промисловості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в медицині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в комунальному господарстві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в металургії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Times New Roman"/>
              </a:rPr>
              <a:t>В кулінарії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191040" cy="44974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553080" y="1066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ecff"/>
                </a:solidFill>
                <a:latin typeface="Times New Roman"/>
              </a:rPr>
              <a:t>сод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3903840" cy="3125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446480" y="120168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ecff"/>
                </a:solidFill>
                <a:latin typeface="Times New Roman"/>
              </a:rPr>
              <a:t>кухонна сі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Times New Roman"/>
              </a:rPr>
              <a:t>В хімічній промисловості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3952800" cy="411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1371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ecff"/>
                </a:solidFill>
                <a:latin typeface="Times New Roman"/>
              </a:rPr>
              <a:t>металевий натрі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2538360" cy="4503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20280" y="144792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ecff"/>
                </a:solidFill>
                <a:latin typeface="Times New Roman"/>
              </a:rPr>
              <a:t>хло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Times New Roman"/>
              </a:rPr>
              <a:t>В медицині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7760" y="838080"/>
            <a:ext cx="457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Times New Roman"/>
              </a:rPr>
              <a:t>Соль - Ілецька лікарн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077320" cy="537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анна з морською сілл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8001000" cy="47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Times New Roman"/>
              </a:rPr>
              <a:t>В комунальному господарстві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4041720" cy="2327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5105520" y="3962520"/>
            <a:ext cx="3124080" cy="23428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143000" y="57913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ecff"/>
                </a:solidFill>
                <a:latin typeface="Times New Roman"/>
              </a:rPr>
              <a:t>технічна сі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01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3200" spc="-1" strike="noStrike">
                <a:solidFill>
                  <a:srgbClr val="ccecff"/>
                </a:solidFill>
                <a:latin typeface="Times New Roman"/>
              </a:rPr>
              <a:t>Металічний Натрій використовують при синтезі багатьох органічних речовин, для виготовлення деяких сплавів, а також у металургії для одержання ряду металів із їх сполук, наприклад титану за реакцією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153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ecff"/>
                </a:solidFill>
                <a:latin typeface="Arial"/>
              </a:rPr>
              <a:t>Натрій є важливим</a:t>
            </a: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ccecff"/>
                </a:solidFill>
                <a:latin typeface="Arial"/>
              </a:rPr>
              <a:t>біоелементом. Натрій – один із найважливіших елементів для мінерального обміну тварин і людини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760" y="1904760"/>
            <a:ext cx="4037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Міститься у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кістковій тканині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крові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мозку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легенях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5080" y="1828440"/>
            <a:ext cx="4037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Регулює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осмотичний тиск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кислотно-лужну рівновагу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проведення нервових імпульсів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822636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685800"/>
            <a:ext cx="8226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eaeaea"/>
                </a:solidFill>
                <a:latin typeface="Times New Roman"/>
              </a:rPr>
              <a:t>Маса Натрію в організмі дорослої людини становить приблизно 100 г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eaeaea"/>
                </a:solidFill>
                <a:latin typeface="Times New Roman"/>
              </a:rPr>
              <a:t>. Людина втрачає Натрій переважно із потом і сечею. Для поповнення організму Натрієм необхідно щодня споживати з їжею 3—6 г солі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Times New Roman"/>
              </a:rPr>
              <a:t>Багаті натріє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976640" y="1598760"/>
            <a:ext cx="3373560" cy="44971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2221200" cy="2627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2896920" cy="21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aeaea"/>
                </a:solidFill>
                <a:latin typeface="Times New Roman"/>
              </a:rPr>
              <a:t>3 січня 1959 рок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49712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У небі з'явилася комета. Незвичайна комета - штучна: з радянської космічної ракети, що летить до Місяця, було випущено хмару пари Натрію. Пурпурне світіння цієї пари дозволило уточнити траєкторію першого літального апарату, що пройшов по маршруту Земля-Місяц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6" name="Picture 5" descr="011"/>
          <p:cNvPicPr/>
          <p:nvPr/>
        </p:nvPicPr>
        <p:blipFill>
          <a:blip r:embed="rId1"/>
          <a:stretch/>
        </p:blipFill>
        <p:spPr>
          <a:xfrm>
            <a:off x="4800600" y="2133720"/>
            <a:ext cx="4143240" cy="4429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334120" y="1600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Це було перше космічне застосування Натрію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629400" cy="876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5410440" cy="37414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3166920" cy="4565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12240" y="1066680"/>
            <a:ext cx="36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ecff"/>
                </a:solidFill>
                <a:latin typeface="Times New Roman"/>
              </a:rPr>
              <a:t>Стародавній Єгип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30120" y="91440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ecff"/>
                </a:solidFill>
                <a:latin typeface="Times New Roman"/>
              </a:rPr>
              <a:t>мумі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581640" cy="48387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Натрій добувають електролізом розплавів його сполук, найчастіше хлоридів і гідроксидів. Саме у такий спосіб у 1807 році добув натрій англійський учений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Гемфрі Деві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388764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Times New Roman"/>
              </a:rPr>
              <a:t>На́трій (Natrium, Na) – хімічний елемент з атомним номером 11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257800" y="1066680"/>
            <a:ext cx="3124080" cy="42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830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uk-UA" sz="3600" spc="-1" strike="noStrike">
                <a:solidFill>
                  <a:srgbClr val="ccecff"/>
                </a:solidFill>
                <a:latin typeface="Times New Roman"/>
              </a:rPr>
              <a:t>Натрій належать до найбільш поширених елементів. На нього припадає 2,64% маси земної кори. У зв'язку з високою хімічною активністю він зустрічається тільки у вигляді різних сполук. Деякі з них, як хлорид натрію, сульфат натрію, утворюють потужні родовища.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Times New Roman"/>
              </a:rPr>
              <a:t>Сода ( карбонат натрію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0400" cy="5562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Times New Roman"/>
              </a:rPr>
              <a:t>Кам'яна сіль( хлорид натрію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5-10-14T02:51:45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13000000000001024140</vt:lpwstr>
  </property>
  <property fmtid="{D5CDD505-2E9C-101B-9397-08002B2CF9AE}" pid="3" name="Version">
    <vt:r8>1</vt:r8>
  </property>
</Properties>
</file>