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BICYCLE_.WAV" ContentType="audio/x-wav"/>
  <Override PartName="/ppt/media/image2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arrow.wav" ContentType="audio/x-wav"/>
  <Override PartName="/ppt/media/RECYCLE.WAV" ContentType="audio/x-wav"/>
  <Override PartName="/ppt/media/image26.jpeg" ContentType="image/jpeg"/>
  <Override PartName="/ppt/media/image5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.png" ContentType="image/png"/>
  <Override PartName="/ppt/media/image12.jpeg" ContentType="image/jpe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4FC0-EB97-4EDF-9F1B-B02056FF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C095-6505-44AA-9C63-01AB5EA2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6FC8-6C99-43FB-8769-388A18FA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9B94-1A94-4439-B1F8-FF30C7BA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157F-D4A6-4366-A67C-773428A9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53B6-D212-4400-93AC-B82652E8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3050-B2BA-4733-AF83-2786D87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066-B18A-4743-A2B1-ACC828D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DD83-772B-435A-B558-825BCA28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AAE-BEED-4AD8-BAF4-47660A1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95B-ADBA-47C2-B4DC-29709DD3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699B-3096-4F3C-BA0F-1B7A8FC6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4CD0-0E0D-4BBE-907D-FBE850E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49FE-2268-402D-B161-A13B9F1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3374-E52E-47C1-B30C-5D24223D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750-940D-4CAA-A14D-D71D0D70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4434-1C86-4878-833C-D2397454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25E4-DD9B-4C4B-9A88-CFB69826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A1D5-EF05-4E4D-8EF6-B319516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7A4F-9D8C-48BF-B58B-1C3B1BF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7615-BE87-4AF1-B946-AEC2FD6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AE6C-9C6E-4CE0-8569-1827526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D986-3635-43D8-B070-BE0E43D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2CAE-057F-497B-A298-F22C404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A7F-FE5A-43D1-8E93-F12F08121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10D-93B3-4F27-ABFB-018407378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7/Hazard_C.sv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BICYCLE_.WAV"/><Relationship Id="rId4" Type="http://schemas.openxmlformats.org/officeDocument/2006/relationships/audio" Target="../media/laser.wav"/><Relationship Id="rId5" Type="http://schemas.openxmlformats.org/officeDocument/2006/relationships/audio" Target="../media/RECYCLE.WAV"/><Relationship Id="rId6" Type="http://schemas.openxmlformats.org/officeDocument/2006/relationships/audio" Target="../media/laser.wav"/><Relationship Id="rId7" Type="http://schemas.openxmlformats.org/officeDocument/2006/relationships/audio" Target="../media/RECYCLE.WAV"/><Relationship Id="rId8" Type="http://schemas.openxmlformats.org/officeDocument/2006/relationships/audio" Target="../media/laser.wav"/><Relationship Id="rId9" Type="http://schemas.openxmlformats.org/officeDocument/2006/relationships/audio" Target="../media/RECYCLE.WAV"/><Relationship Id="rId10" Type="http://schemas.openxmlformats.org/officeDocument/2006/relationships/audio" Target="../media/laser.wav"/><Relationship Id="rId11" Type="http://schemas.openxmlformats.org/officeDocument/2006/relationships/audio" Target="../media/RECYCLE.WAV"/><Relationship Id="rId12" Type="http://schemas.openxmlformats.org/officeDocument/2006/relationships/audio" Target="../media/BICYCLE_.WAV"/><Relationship Id="rId13" Type="http://schemas.openxmlformats.org/officeDocument/2006/relationships/audio" Target="../media/laser.wav"/><Relationship Id="rId14" Type="http://schemas.openxmlformats.org/officeDocument/2006/relationships/audio" Target="../media/RECYCLE.WAV"/><Relationship Id="rId15" Type="http://schemas.openxmlformats.org/officeDocument/2006/relationships/audio" Target="../media/laser.wav"/><Relationship Id="rId16" Type="http://schemas.openxmlformats.org/officeDocument/2006/relationships/audio" Target="../media/RECYCLE.WAV"/><Relationship Id="rId17" Type="http://schemas.openxmlformats.org/officeDocument/2006/relationships/audio" Target="../media/RECYCLE.WAV"/><Relationship Id="rId18" Type="http://schemas.openxmlformats.org/officeDocument/2006/relationships/audio" Target="../media/arrow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0" y="2286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Міністерство освіти і науки, молоді та спорту України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омунальний вищий навчальний заклад 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“Олександрійський педагогічний коледж імені В.О. Сухомлинського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2880" y="1828800"/>
            <a:ext cx="35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78280" y="2590920"/>
            <a:ext cx="20653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000000"/>
                </a:solidFill>
                <a:latin typeface="Times New Roman"/>
              </a:rPr>
              <a:t>Калі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7200" y="4038480"/>
            <a:ext cx="194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конал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удентка 11 гру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Шетела анастасі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икладач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Борищук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09280" y="624852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м. Олександрія, 2012 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идобуток кухоної сол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Євпаторі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>
            <a:hlinkClick r:id="rId2" action="ppaction://hlinksldjump"/>
          </p:cNvPr>
          <p:cNvSpPr/>
          <p:nvPr/>
        </p:nvSpPr>
        <p:spPr>
          <a:xfrm>
            <a:off x="8772480" y="6553080"/>
            <a:ext cx="371520" cy="304920"/>
          </a:xfrm>
          <a:custGeom>
            <a:avLst/>
            <a:gdLst>
              <a:gd name="textAreaLeft" fmla="*/ 75960 w 371520"/>
              <a:gd name="textAreaRight" fmla="*/ 295560 w 3715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26312" h="21600">
                <a:moveTo>
                  <a:pt x="0" y="0"/>
                </a:moveTo>
                <a:lnTo>
                  <a:pt x="26312" y="0"/>
                </a:lnTo>
                <a:lnTo>
                  <a:pt x="26312" y="21600"/>
                </a:lnTo>
                <a:lnTo>
                  <a:pt x="0" y="21600"/>
                </a:lnTo>
                <a:close/>
              </a:path>
              <a:path fill="lightenLess" w="26312" h="21600">
                <a:moveTo>
                  <a:pt x="0" y="0"/>
                </a:moveTo>
                <a:lnTo>
                  <a:pt x="26312" y="0"/>
                </a:lnTo>
                <a:lnTo>
                  <a:pt x="20913" y="5400"/>
                </a:lnTo>
                <a:lnTo>
                  <a:pt x="5400" y="5400"/>
                </a:lnTo>
                <a:close/>
              </a:path>
              <a:path fill="darken" w="26312" h="21600">
                <a:moveTo>
                  <a:pt x="26312" y="0"/>
                </a:moveTo>
                <a:lnTo>
                  <a:pt x="26312" y="21600"/>
                </a:lnTo>
                <a:lnTo>
                  <a:pt x="20913" y="16200"/>
                </a:lnTo>
                <a:lnTo>
                  <a:pt x="20913" y="5400"/>
                </a:lnTo>
                <a:close/>
              </a:path>
              <a:path fill="darkenLess" w="26312" h="21600">
                <a:moveTo>
                  <a:pt x="2631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913" y="16200"/>
                </a:lnTo>
                <a:close/>
              </a:path>
              <a:path fill="lighten" w="2631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841212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10800"/>
                </a:moveTo>
                <a:lnTo>
                  <a:pt x="17512" y="6775"/>
                </a:lnTo>
                <a:lnTo>
                  <a:pt x="17512" y="148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41760" cy="49528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28576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4572000" cy="33451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181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imes New Roman"/>
              </a:rPr>
              <a:t>Соляні шахти Солотвиног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</a:rPr>
              <a:t>Закарпаття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лій входить до складу декількох сотень мінералів. Він знаходиться в грунті, в рослинах, в організмах людей і тварин. Він - як класичний Фігаро: тут - там - всюд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352680" cy="36576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667240" cy="3886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3221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Калій – є важливим біоелементо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алій міститься у кістковій тканині, м’язах, крові, мозку, серці, нирк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Іони К. беруть участь в генерації та проведенні біоелектричних потенціалів в нервах і м'язах, в регуляції скорочень серця і  м'язів, підтримують осмотичний тис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Times New Roman"/>
              </a:rPr>
              <a:t>У середньому організм людини (маса тіла 70 кг) містить близько 140 г калію. Тому для нормальної життєдіяльності з їжею в організм має надходити 2-3 г калію на добу. Багаті калієм такі продукти, як родзинки, курага, горох та інші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6248520" cy="40845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3657600" y="49320"/>
            <a:ext cx="53341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Використання калію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Металічний калій служить каталізатором при одержанні деяких видів синтетичного каучу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2381040" cy="25336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743200" cy="20192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59092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def6"/>
                </a:solidFill>
                <a:latin typeface="Times New Roman"/>
              </a:rPr>
              <a:t>Сполуки калію застосовують  для виготовлення скла, вибухових речови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3962520" cy="34275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2954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Times New Roman"/>
              </a:rPr>
              <a:t>Сплав калію з іншим лужним металом - натрієм (Na) знаходить застосування в якості теплоносія в ядерних реакторах.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Times New Roman"/>
              </a:rPr>
              <a:t>В якості лікарського засобу знаходить застосування йодид калію KI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495520" cy="49910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541008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Times New Roman"/>
              </a:rPr>
              <a:t>Людство знайоме з калієм більше півтора століття. У лекції, прочитаної в Лондоні 20 листопада 1807, Хемфрі Деві повідомив, що при електролізі їдкого калі він отримав «маленькі кульки з сильним металевим блиском  Деякі з них зараз же після свого утворення згорали з вибухом». Це і був калій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38320" y="-3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Times New Roman"/>
              </a:rPr>
              <a:t>Калій - важливий компонент мінерального живлення рослин (на це йде близько 90% видобутих солей калію), він необхідний їм у значних кількостях для нормального розвитку, тому широке застосування знаходять калійні добрива: хлорид калію КСl, нітрат калію, або калійна селітра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Обережно!!!Калій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Файл:Hazard C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257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Times New Roman"/>
              </a:rPr>
              <a:t>Ка́лій</a:t>
            </a:r>
            <a:r>
              <a:rPr b="0" lang="uk-UA" sz="36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dfdef6"/>
                </a:solidFill>
                <a:latin typeface="Times New Roman"/>
              </a:rPr>
              <a:t>– хімічний елемент, належить до групи лужних металів, символ К, ат. н. 19.</a:t>
            </a:r>
            <a:r>
              <a:rPr b="0" lang="uk-UA" sz="36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dfdef6"/>
                </a:solidFill>
                <a:latin typeface="Times New Roman"/>
              </a:rPr>
              <a:t>М'який сріблясто-білий метал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5054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fdef6"/>
                </a:solidFill>
                <a:latin typeface="Times New Roman"/>
              </a:rPr>
              <a:t>У зв'язку з високою хімічною активністю у вільному стані в природі він не зустрічаються, а тільки у вигляді різних сполук. Деякі з них, як хлорид калію, утворюють потужні родовища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648320" y="3308400"/>
            <a:ext cx="4038480" cy="2787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63868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лорид кал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829160" y="2895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трат к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Найбагатші у світі родовища солей калію у вигляді мінералів сильвіну KCl, сильвініту KCl·NaCl, карналіту КCl· MgCl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·6H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O і каїніту KCl·MgSO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·3H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O розташовані поблизу м. Солікамська. Крім того, значні поклади сполук калію знайдені в Білорусії (м. Солігорськ) і в Україні (м. Калуш і м. Стебник у Прикарпатті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6222960"/>
          </a:xfrm>
          <a:prstGeom prst="rect">
            <a:avLst/>
          </a:prstGeom>
          <a:ln w="57240">
            <a:solidFill>
              <a:srgbClr val="52527c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cc66"/>
          </a:solidFill>
          <a:ln w="57240">
            <a:solidFill>
              <a:srgbClr val="525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08000" y="0"/>
            <a:ext cx="50198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одовища Україн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81200" y="1643040"/>
            <a:ext cx="5457960" cy="2943360"/>
          </a:xfrm>
          <a:custGeom>
            <a:avLst/>
            <a:gdLst/>
            <a:ahLst/>
            <a:rect l="l" t="t" r="r" b="b"/>
            <a:pathLst>
              <a:path w="3438" h="1854">
                <a:moveTo>
                  <a:pt x="1026" y="0"/>
                </a:moveTo>
                <a:lnTo>
                  <a:pt x="494" y="63"/>
                </a:lnTo>
                <a:lnTo>
                  <a:pt x="63" y="138"/>
                </a:lnTo>
                <a:cubicBezTo>
                  <a:pt x="0" y="247"/>
                  <a:pt x="113" y="572"/>
                  <a:pt x="117" y="716"/>
                </a:cubicBezTo>
                <a:cubicBezTo>
                  <a:pt x="121" y="860"/>
                  <a:pt x="93" y="905"/>
                  <a:pt x="87" y="1000"/>
                </a:cubicBezTo>
                <a:cubicBezTo>
                  <a:pt x="81" y="1095"/>
                  <a:pt x="54" y="1226"/>
                  <a:pt x="81" y="1287"/>
                </a:cubicBezTo>
                <a:lnTo>
                  <a:pt x="246" y="1365"/>
                </a:lnTo>
                <a:cubicBezTo>
                  <a:pt x="277" y="1387"/>
                  <a:pt x="252" y="1416"/>
                  <a:pt x="267" y="1422"/>
                </a:cubicBezTo>
                <a:cubicBezTo>
                  <a:pt x="282" y="1428"/>
                  <a:pt x="322" y="1395"/>
                  <a:pt x="339" y="1401"/>
                </a:cubicBezTo>
                <a:cubicBezTo>
                  <a:pt x="356" y="1407"/>
                  <a:pt x="353" y="1455"/>
                  <a:pt x="369" y="1461"/>
                </a:cubicBezTo>
                <a:cubicBezTo>
                  <a:pt x="385" y="1467"/>
                  <a:pt x="395" y="1432"/>
                  <a:pt x="438" y="1440"/>
                </a:cubicBezTo>
                <a:cubicBezTo>
                  <a:pt x="481" y="1448"/>
                  <a:pt x="422" y="1473"/>
                  <a:pt x="630" y="1509"/>
                </a:cubicBezTo>
                <a:cubicBezTo>
                  <a:pt x="838" y="1545"/>
                  <a:pt x="1382" y="1613"/>
                  <a:pt x="1686" y="1653"/>
                </a:cubicBezTo>
                <a:cubicBezTo>
                  <a:pt x="1990" y="1693"/>
                  <a:pt x="2238" y="1717"/>
                  <a:pt x="2454" y="1749"/>
                </a:cubicBezTo>
                <a:cubicBezTo>
                  <a:pt x="2670" y="1781"/>
                  <a:pt x="2834" y="1854"/>
                  <a:pt x="2982" y="1845"/>
                </a:cubicBezTo>
                <a:cubicBezTo>
                  <a:pt x="3130" y="1836"/>
                  <a:pt x="3284" y="1757"/>
                  <a:pt x="3342" y="1695"/>
                </a:cubicBezTo>
                <a:cubicBezTo>
                  <a:pt x="3400" y="1633"/>
                  <a:pt x="3438" y="1544"/>
                  <a:pt x="3330" y="1473"/>
                </a:cubicBezTo>
                <a:cubicBezTo>
                  <a:pt x="3222" y="1402"/>
                  <a:pt x="2880" y="1319"/>
                  <a:pt x="2694" y="1269"/>
                </a:cubicBezTo>
                <a:cubicBezTo>
                  <a:pt x="2508" y="1219"/>
                  <a:pt x="2313" y="1203"/>
                  <a:pt x="2214" y="1173"/>
                </a:cubicBezTo>
                <a:cubicBezTo>
                  <a:pt x="2115" y="1143"/>
                  <a:pt x="2145" y="1113"/>
                  <a:pt x="2100" y="1089"/>
                </a:cubicBezTo>
                <a:cubicBezTo>
                  <a:pt x="2055" y="1065"/>
                  <a:pt x="1981" y="1047"/>
                  <a:pt x="1944" y="1029"/>
                </a:cubicBezTo>
                <a:cubicBezTo>
                  <a:pt x="1907" y="1011"/>
                  <a:pt x="1945" y="1013"/>
                  <a:pt x="1878" y="981"/>
                </a:cubicBezTo>
                <a:cubicBezTo>
                  <a:pt x="1811" y="949"/>
                  <a:pt x="1632" y="880"/>
                  <a:pt x="1542" y="837"/>
                </a:cubicBezTo>
                <a:cubicBezTo>
                  <a:pt x="1452" y="794"/>
                  <a:pt x="1373" y="754"/>
                  <a:pt x="1338" y="723"/>
                </a:cubicBezTo>
                <a:cubicBezTo>
                  <a:pt x="1303" y="692"/>
                  <a:pt x="1338" y="672"/>
                  <a:pt x="1329" y="651"/>
                </a:cubicBezTo>
                <a:cubicBezTo>
                  <a:pt x="1320" y="630"/>
                  <a:pt x="1305" y="603"/>
                  <a:pt x="1284" y="594"/>
                </a:cubicBezTo>
                <a:cubicBezTo>
                  <a:pt x="1263" y="585"/>
                  <a:pt x="1234" y="608"/>
                  <a:pt x="1206" y="597"/>
                </a:cubicBezTo>
                <a:cubicBezTo>
                  <a:pt x="1178" y="586"/>
                  <a:pt x="1137" y="559"/>
                  <a:pt x="1116" y="525"/>
                </a:cubicBezTo>
                <a:cubicBezTo>
                  <a:pt x="1095" y="491"/>
                  <a:pt x="1096" y="436"/>
                  <a:pt x="1080" y="390"/>
                </a:cubicBezTo>
                <a:cubicBezTo>
                  <a:pt x="1064" y="344"/>
                  <a:pt x="1026" y="311"/>
                  <a:pt x="1017" y="246"/>
                </a:cubicBezTo>
                <a:cubicBezTo>
                  <a:pt x="1008" y="181"/>
                  <a:pt x="1024" y="51"/>
                  <a:pt x="1026" y="0"/>
                </a:cubicBezTo>
                <a:close/>
              </a:path>
            </a:pathLst>
          </a:custGeom>
          <a:solidFill>
            <a:srgbClr val="ff515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51320" y="5462640"/>
            <a:ext cx="2143080" cy="1116000"/>
          </a:xfrm>
          <a:custGeom>
            <a:avLst/>
            <a:gdLst/>
            <a:ahLst/>
            <a:rect l="l" t="t" r="r" b="b"/>
            <a:pathLst>
              <a:path w="1350" h="703">
                <a:moveTo>
                  <a:pt x="397" y="9"/>
                </a:moveTo>
                <a:cubicBezTo>
                  <a:pt x="385" y="19"/>
                  <a:pt x="414" y="58"/>
                  <a:pt x="412" y="75"/>
                </a:cubicBezTo>
                <a:cubicBezTo>
                  <a:pt x="410" y="92"/>
                  <a:pt x="402" y="102"/>
                  <a:pt x="388" y="111"/>
                </a:cubicBezTo>
                <a:cubicBezTo>
                  <a:pt x="374" y="120"/>
                  <a:pt x="350" y="122"/>
                  <a:pt x="325" y="132"/>
                </a:cubicBezTo>
                <a:cubicBezTo>
                  <a:pt x="300" y="142"/>
                  <a:pt x="270" y="157"/>
                  <a:pt x="238" y="174"/>
                </a:cubicBezTo>
                <a:cubicBezTo>
                  <a:pt x="206" y="191"/>
                  <a:pt x="172" y="205"/>
                  <a:pt x="133" y="234"/>
                </a:cubicBezTo>
                <a:cubicBezTo>
                  <a:pt x="94" y="263"/>
                  <a:pt x="8" y="331"/>
                  <a:pt x="4" y="351"/>
                </a:cubicBezTo>
                <a:cubicBezTo>
                  <a:pt x="0" y="371"/>
                  <a:pt x="80" y="349"/>
                  <a:pt x="112" y="354"/>
                </a:cubicBezTo>
                <a:cubicBezTo>
                  <a:pt x="144" y="359"/>
                  <a:pt x="172" y="374"/>
                  <a:pt x="199" y="384"/>
                </a:cubicBezTo>
                <a:cubicBezTo>
                  <a:pt x="226" y="394"/>
                  <a:pt x="245" y="397"/>
                  <a:pt x="277" y="414"/>
                </a:cubicBezTo>
                <a:cubicBezTo>
                  <a:pt x="309" y="431"/>
                  <a:pt x="374" y="452"/>
                  <a:pt x="391" y="486"/>
                </a:cubicBezTo>
                <a:cubicBezTo>
                  <a:pt x="408" y="520"/>
                  <a:pt x="378" y="587"/>
                  <a:pt x="376" y="615"/>
                </a:cubicBezTo>
                <a:cubicBezTo>
                  <a:pt x="374" y="643"/>
                  <a:pt x="378" y="639"/>
                  <a:pt x="376" y="654"/>
                </a:cubicBezTo>
                <a:cubicBezTo>
                  <a:pt x="374" y="669"/>
                  <a:pt x="356" y="701"/>
                  <a:pt x="364" y="702"/>
                </a:cubicBezTo>
                <a:cubicBezTo>
                  <a:pt x="372" y="703"/>
                  <a:pt x="400" y="687"/>
                  <a:pt x="427" y="663"/>
                </a:cubicBezTo>
                <a:cubicBezTo>
                  <a:pt x="454" y="639"/>
                  <a:pt x="488" y="586"/>
                  <a:pt x="529" y="558"/>
                </a:cubicBezTo>
                <a:cubicBezTo>
                  <a:pt x="570" y="530"/>
                  <a:pt x="608" y="509"/>
                  <a:pt x="676" y="495"/>
                </a:cubicBezTo>
                <a:cubicBezTo>
                  <a:pt x="744" y="481"/>
                  <a:pt x="876" y="486"/>
                  <a:pt x="937" y="474"/>
                </a:cubicBezTo>
                <a:cubicBezTo>
                  <a:pt x="998" y="462"/>
                  <a:pt x="1013" y="428"/>
                  <a:pt x="1042" y="420"/>
                </a:cubicBezTo>
                <a:cubicBezTo>
                  <a:pt x="1071" y="412"/>
                  <a:pt x="1091" y="419"/>
                  <a:pt x="1111" y="423"/>
                </a:cubicBezTo>
                <a:cubicBezTo>
                  <a:pt x="1131" y="427"/>
                  <a:pt x="1141" y="447"/>
                  <a:pt x="1165" y="447"/>
                </a:cubicBezTo>
                <a:cubicBezTo>
                  <a:pt x="1189" y="447"/>
                  <a:pt x="1231" y="430"/>
                  <a:pt x="1258" y="426"/>
                </a:cubicBezTo>
                <a:cubicBezTo>
                  <a:pt x="1285" y="422"/>
                  <a:pt x="1315" y="431"/>
                  <a:pt x="1330" y="423"/>
                </a:cubicBezTo>
                <a:cubicBezTo>
                  <a:pt x="1345" y="415"/>
                  <a:pt x="1346" y="398"/>
                  <a:pt x="1348" y="378"/>
                </a:cubicBezTo>
                <a:cubicBezTo>
                  <a:pt x="1350" y="358"/>
                  <a:pt x="1350" y="323"/>
                  <a:pt x="1342" y="303"/>
                </a:cubicBezTo>
                <a:cubicBezTo>
                  <a:pt x="1334" y="283"/>
                  <a:pt x="1321" y="263"/>
                  <a:pt x="1303" y="258"/>
                </a:cubicBezTo>
                <a:cubicBezTo>
                  <a:pt x="1285" y="253"/>
                  <a:pt x="1249" y="267"/>
                  <a:pt x="1231" y="273"/>
                </a:cubicBezTo>
                <a:cubicBezTo>
                  <a:pt x="1213" y="279"/>
                  <a:pt x="1209" y="293"/>
                  <a:pt x="1192" y="294"/>
                </a:cubicBezTo>
                <a:cubicBezTo>
                  <a:pt x="1175" y="295"/>
                  <a:pt x="1144" y="273"/>
                  <a:pt x="1126" y="279"/>
                </a:cubicBezTo>
                <a:cubicBezTo>
                  <a:pt x="1108" y="285"/>
                  <a:pt x="1107" y="320"/>
                  <a:pt x="1084" y="333"/>
                </a:cubicBezTo>
                <a:cubicBezTo>
                  <a:pt x="1061" y="346"/>
                  <a:pt x="1023" y="360"/>
                  <a:pt x="985" y="360"/>
                </a:cubicBezTo>
                <a:cubicBezTo>
                  <a:pt x="947" y="360"/>
                  <a:pt x="885" y="355"/>
                  <a:pt x="856" y="333"/>
                </a:cubicBezTo>
                <a:cubicBezTo>
                  <a:pt x="827" y="311"/>
                  <a:pt x="827" y="258"/>
                  <a:pt x="808" y="228"/>
                </a:cubicBezTo>
                <a:cubicBezTo>
                  <a:pt x="789" y="198"/>
                  <a:pt x="758" y="170"/>
                  <a:pt x="739" y="153"/>
                </a:cubicBezTo>
                <a:cubicBezTo>
                  <a:pt x="720" y="136"/>
                  <a:pt x="708" y="141"/>
                  <a:pt x="697" y="129"/>
                </a:cubicBezTo>
                <a:cubicBezTo>
                  <a:pt x="686" y="117"/>
                  <a:pt x="692" y="91"/>
                  <a:pt x="673" y="78"/>
                </a:cubicBezTo>
                <a:cubicBezTo>
                  <a:pt x="654" y="65"/>
                  <a:pt x="603" y="56"/>
                  <a:pt x="583" y="54"/>
                </a:cubicBezTo>
                <a:cubicBezTo>
                  <a:pt x="563" y="52"/>
                  <a:pt x="566" y="72"/>
                  <a:pt x="550" y="66"/>
                </a:cubicBezTo>
                <a:cubicBezTo>
                  <a:pt x="534" y="60"/>
                  <a:pt x="510" y="25"/>
                  <a:pt x="484" y="15"/>
                </a:cubicBezTo>
                <a:cubicBezTo>
                  <a:pt x="458" y="5"/>
                  <a:pt x="412" y="0"/>
                  <a:pt x="397" y="9"/>
                </a:cubicBezTo>
                <a:close/>
              </a:path>
            </a:pathLst>
          </a:custGeom>
          <a:solidFill>
            <a:srgbClr val="cc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5600" y="1825560"/>
            <a:ext cx="1441440" cy="862200"/>
          </a:xfrm>
          <a:custGeom>
            <a:avLst/>
            <a:gdLst/>
            <a:ahLst/>
            <a:rect l="l" t="t" r="r" b="b"/>
            <a:pathLst>
              <a:path w="908" h="543">
                <a:moveTo>
                  <a:pt x="15" y="424"/>
                </a:moveTo>
                <a:cubicBezTo>
                  <a:pt x="0" y="478"/>
                  <a:pt x="95" y="543"/>
                  <a:pt x="207" y="532"/>
                </a:cubicBezTo>
                <a:cubicBezTo>
                  <a:pt x="319" y="521"/>
                  <a:pt x="576" y="443"/>
                  <a:pt x="690" y="355"/>
                </a:cubicBezTo>
                <a:cubicBezTo>
                  <a:pt x="804" y="267"/>
                  <a:pt x="908" y="61"/>
                  <a:pt x="890" y="2"/>
                </a:cubicBezTo>
                <a:lnTo>
                  <a:pt x="581" y="2"/>
                </a:lnTo>
                <a:cubicBezTo>
                  <a:pt x="497" y="3"/>
                  <a:pt x="410" y="0"/>
                  <a:pt x="383" y="8"/>
                </a:cubicBezTo>
                <a:cubicBezTo>
                  <a:pt x="356" y="16"/>
                  <a:pt x="411" y="41"/>
                  <a:pt x="416" y="50"/>
                </a:cubicBezTo>
                <a:cubicBezTo>
                  <a:pt x="421" y="59"/>
                  <a:pt x="415" y="50"/>
                  <a:pt x="413" y="62"/>
                </a:cubicBezTo>
                <a:cubicBezTo>
                  <a:pt x="411" y="74"/>
                  <a:pt x="405" y="108"/>
                  <a:pt x="404" y="125"/>
                </a:cubicBezTo>
                <a:cubicBezTo>
                  <a:pt x="403" y="142"/>
                  <a:pt x="411" y="153"/>
                  <a:pt x="407" y="164"/>
                </a:cubicBezTo>
                <a:cubicBezTo>
                  <a:pt x="403" y="175"/>
                  <a:pt x="398" y="187"/>
                  <a:pt x="380" y="194"/>
                </a:cubicBezTo>
                <a:cubicBezTo>
                  <a:pt x="362" y="201"/>
                  <a:pt x="360" y="168"/>
                  <a:pt x="299" y="206"/>
                </a:cubicBezTo>
                <a:lnTo>
                  <a:pt x="15" y="424"/>
                </a:lnTo>
                <a:close/>
              </a:path>
            </a:pathLst>
          </a:cu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97360" y="4010040"/>
            <a:ext cx="5198760" cy="2033640"/>
          </a:xfrm>
          <a:custGeom>
            <a:avLst/>
            <a:gdLst/>
            <a:ahLst/>
            <a:rect l="l" t="t" r="r" b="b"/>
            <a:pathLst>
              <a:path w="3275" h="1281">
                <a:moveTo>
                  <a:pt x="3275" y="72"/>
                </a:moveTo>
                <a:lnTo>
                  <a:pt x="3143" y="66"/>
                </a:lnTo>
                <a:cubicBezTo>
                  <a:pt x="3119" y="72"/>
                  <a:pt x="3138" y="89"/>
                  <a:pt x="3128" y="108"/>
                </a:cubicBezTo>
                <a:cubicBezTo>
                  <a:pt x="3118" y="127"/>
                  <a:pt x="3110" y="154"/>
                  <a:pt x="3083" y="183"/>
                </a:cubicBezTo>
                <a:cubicBezTo>
                  <a:pt x="3056" y="212"/>
                  <a:pt x="3014" y="256"/>
                  <a:pt x="2963" y="282"/>
                </a:cubicBezTo>
                <a:cubicBezTo>
                  <a:pt x="2912" y="308"/>
                  <a:pt x="2832" y="332"/>
                  <a:pt x="2774" y="342"/>
                </a:cubicBezTo>
                <a:cubicBezTo>
                  <a:pt x="2716" y="352"/>
                  <a:pt x="2660" y="343"/>
                  <a:pt x="2615" y="339"/>
                </a:cubicBezTo>
                <a:cubicBezTo>
                  <a:pt x="2570" y="335"/>
                  <a:pt x="2526" y="320"/>
                  <a:pt x="2504" y="315"/>
                </a:cubicBezTo>
                <a:cubicBezTo>
                  <a:pt x="2482" y="310"/>
                  <a:pt x="2564" y="321"/>
                  <a:pt x="2480" y="306"/>
                </a:cubicBezTo>
                <a:cubicBezTo>
                  <a:pt x="2396" y="291"/>
                  <a:pt x="2362" y="276"/>
                  <a:pt x="1997" y="225"/>
                </a:cubicBezTo>
                <a:cubicBezTo>
                  <a:pt x="1632" y="174"/>
                  <a:pt x="579" y="36"/>
                  <a:pt x="290" y="0"/>
                </a:cubicBezTo>
                <a:lnTo>
                  <a:pt x="260" y="9"/>
                </a:lnTo>
                <a:lnTo>
                  <a:pt x="332" y="45"/>
                </a:lnTo>
                <a:lnTo>
                  <a:pt x="386" y="108"/>
                </a:lnTo>
                <a:cubicBezTo>
                  <a:pt x="392" y="146"/>
                  <a:pt x="364" y="242"/>
                  <a:pt x="368" y="273"/>
                </a:cubicBezTo>
                <a:cubicBezTo>
                  <a:pt x="372" y="304"/>
                  <a:pt x="401" y="283"/>
                  <a:pt x="410" y="294"/>
                </a:cubicBezTo>
                <a:cubicBezTo>
                  <a:pt x="419" y="305"/>
                  <a:pt x="410" y="327"/>
                  <a:pt x="419" y="336"/>
                </a:cubicBezTo>
                <a:cubicBezTo>
                  <a:pt x="428" y="345"/>
                  <a:pt x="458" y="335"/>
                  <a:pt x="467" y="348"/>
                </a:cubicBezTo>
                <a:cubicBezTo>
                  <a:pt x="476" y="361"/>
                  <a:pt x="473" y="386"/>
                  <a:pt x="476" y="414"/>
                </a:cubicBezTo>
                <a:cubicBezTo>
                  <a:pt x="479" y="442"/>
                  <a:pt x="469" y="488"/>
                  <a:pt x="488" y="519"/>
                </a:cubicBezTo>
                <a:cubicBezTo>
                  <a:pt x="507" y="550"/>
                  <a:pt x="575" y="568"/>
                  <a:pt x="593" y="603"/>
                </a:cubicBezTo>
                <a:cubicBezTo>
                  <a:pt x="611" y="638"/>
                  <a:pt x="584" y="698"/>
                  <a:pt x="596" y="726"/>
                </a:cubicBezTo>
                <a:cubicBezTo>
                  <a:pt x="608" y="754"/>
                  <a:pt x="653" y="759"/>
                  <a:pt x="662" y="774"/>
                </a:cubicBezTo>
                <a:cubicBezTo>
                  <a:pt x="671" y="789"/>
                  <a:pt x="665" y="812"/>
                  <a:pt x="650" y="819"/>
                </a:cubicBezTo>
                <a:cubicBezTo>
                  <a:pt x="635" y="826"/>
                  <a:pt x="591" y="819"/>
                  <a:pt x="569" y="816"/>
                </a:cubicBezTo>
                <a:cubicBezTo>
                  <a:pt x="547" y="813"/>
                  <a:pt x="535" y="802"/>
                  <a:pt x="518" y="801"/>
                </a:cubicBezTo>
                <a:cubicBezTo>
                  <a:pt x="501" y="800"/>
                  <a:pt x="479" y="811"/>
                  <a:pt x="464" y="810"/>
                </a:cubicBezTo>
                <a:cubicBezTo>
                  <a:pt x="449" y="809"/>
                  <a:pt x="445" y="790"/>
                  <a:pt x="425" y="792"/>
                </a:cubicBezTo>
                <a:cubicBezTo>
                  <a:pt x="405" y="794"/>
                  <a:pt x="359" y="828"/>
                  <a:pt x="344" y="822"/>
                </a:cubicBezTo>
                <a:cubicBezTo>
                  <a:pt x="329" y="816"/>
                  <a:pt x="348" y="763"/>
                  <a:pt x="335" y="756"/>
                </a:cubicBezTo>
                <a:cubicBezTo>
                  <a:pt x="322" y="749"/>
                  <a:pt x="276" y="764"/>
                  <a:pt x="266" y="777"/>
                </a:cubicBezTo>
                <a:lnTo>
                  <a:pt x="272" y="834"/>
                </a:lnTo>
                <a:cubicBezTo>
                  <a:pt x="278" y="849"/>
                  <a:pt x="301" y="857"/>
                  <a:pt x="302" y="870"/>
                </a:cubicBezTo>
                <a:cubicBezTo>
                  <a:pt x="303" y="883"/>
                  <a:pt x="284" y="899"/>
                  <a:pt x="278" y="915"/>
                </a:cubicBezTo>
                <a:cubicBezTo>
                  <a:pt x="272" y="931"/>
                  <a:pt x="275" y="956"/>
                  <a:pt x="266" y="969"/>
                </a:cubicBezTo>
                <a:cubicBezTo>
                  <a:pt x="257" y="982"/>
                  <a:pt x="233" y="978"/>
                  <a:pt x="221" y="993"/>
                </a:cubicBezTo>
                <a:cubicBezTo>
                  <a:pt x="209" y="1008"/>
                  <a:pt x="210" y="1033"/>
                  <a:pt x="191" y="1059"/>
                </a:cubicBezTo>
                <a:cubicBezTo>
                  <a:pt x="172" y="1085"/>
                  <a:pt x="123" y="1129"/>
                  <a:pt x="107" y="1149"/>
                </a:cubicBezTo>
                <a:cubicBezTo>
                  <a:pt x="91" y="1169"/>
                  <a:pt x="105" y="1170"/>
                  <a:pt x="92" y="1179"/>
                </a:cubicBezTo>
                <a:cubicBezTo>
                  <a:pt x="79" y="1188"/>
                  <a:pt x="44" y="1189"/>
                  <a:pt x="29" y="1203"/>
                </a:cubicBezTo>
                <a:lnTo>
                  <a:pt x="2" y="1263"/>
                </a:lnTo>
                <a:cubicBezTo>
                  <a:pt x="5" y="1274"/>
                  <a:pt x="0" y="1281"/>
                  <a:pt x="50" y="1272"/>
                </a:cubicBezTo>
                <a:cubicBezTo>
                  <a:pt x="100" y="1263"/>
                  <a:pt x="234" y="1218"/>
                  <a:pt x="302" y="1209"/>
                </a:cubicBezTo>
                <a:lnTo>
                  <a:pt x="461" y="1215"/>
                </a:lnTo>
                <a:cubicBezTo>
                  <a:pt x="485" y="1202"/>
                  <a:pt x="448" y="1153"/>
                  <a:pt x="449" y="1128"/>
                </a:cubicBezTo>
                <a:cubicBezTo>
                  <a:pt x="450" y="1103"/>
                  <a:pt x="455" y="1077"/>
                  <a:pt x="464" y="1065"/>
                </a:cubicBezTo>
                <a:cubicBezTo>
                  <a:pt x="473" y="1053"/>
                  <a:pt x="492" y="1046"/>
                  <a:pt x="503" y="1053"/>
                </a:cubicBezTo>
                <a:cubicBezTo>
                  <a:pt x="514" y="1060"/>
                  <a:pt x="513" y="1103"/>
                  <a:pt x="527" y="1104"/>
                </a:cubicBezTo>
                <a:cubicBezTo>
                  <a:pt x="541" y="1105"/>
                  <a:pt x="564" y="1072"/>
                  <a:pt x="587" y="1059"/>
                </a:cubicBezTo>
                <a:cubicBezTo>
                  <a:pt x="610" y="1046"/>
                  <a:pt x="638" y="1056"/>
                  <a:pt x="665" y="1026"/>
                </a:cubicBezTo>
                <a:cubicBezTo>
                  <a:pt x="692" y="996"/>
                  <a:pt x="724" y="921"/>
                  <a:pt x="752" y="882"/>
                </a:cubicBezTo>
                <a:cubicBezTo>
                  <a:pt x="780" y="843"/>
                  <a:pt x="813" y="820"/>
                  <a:pt x="833" y="792"/>
                </a:cubicBezTo>
                <a:cubicBezTo>
                  <a:pt x="853" y="764"/>
                  <a:pt x="853" y="734"/>
                  <a:pt x="872" y="714"/>
                </a:cubicBezTo>
                <a:cubicBezTo>
                  <a:pt x="891" y="694"/>
                  <a:pt x="920" y="681"/>
                  <a:pt x="950" y="672"/>
                </a:cubicBezTo>
                <a:cubicBezTo>
                  <a:pt x="980" y="663"/>
                  <a:pt x="1033" y="666"/>
                  <a:pt x="1055" y="657"/>
                </a:cubicBezTo>
                <a:cubicBezTo>
                  <a:pt x="1077" y="648"/>
                  <a:pt x="1071" y="625"/>
                  <a:pt x="1082" y="615"/>
                </a:cubicBezTo>
                <a:cubicBezTo>
                  <a:pt x="1093" y="605"/>
                  <a:pt x="1116" y="591"/>
                  <a:pt x="1124" y="597"/>
                </a:cubicBezTo>
                <a:cubicBezTo>
                  <a:pt x="1132" y="603"/>
                  <a:pt x="1129" y="640"/>
                  <a:pt x="1133" y="651"/>
                </a:cubicBezTo>
                <a:cubicBezTo>
                  <a:pt x="1137" y="662"/>
                  <a:pt x="1138" y="668"/>
                  <a:pt x="1148" y="663"/>
                </a:cubicBezTo>
                <a:cubicBezTo>
                  <a:pt x="1158" y="658"/>
                  <a:pt x="1189" y="641"/>
                  <a:pt x="1196" y="618"/>
                </a:cubicBezTo>
                <a:cubicBezTo>
                  <a:pt x="1203" y="595"/>
                  <a:pt x="1196" y="556"/>
                  <a:pt x="1193" y="522"/>
                </a:cubicBezTo>
                <a:cubicBezTo>
                  <a:pt x="1190" y="488"/>
                  <a:pt x="1173" y="423"/>
                  <a:pt x="1178" y="411"/>
                </a:cubicBezTo>
                <a:cubicBezTo>
                  <a:pt x="1183" y="399"/>
                  <a:pt x="1210" y="407"/>
                  <a:pt x="1226" y="447"/>
                </a:cubicBezTo>
                <a:cubicBezTo>
                  <a:pt x="1242" y="487"/>
                  <a:pt x="1248" y="614"/>
                  <a:pt x="1274" y="654"/>
                </a:cubicBezTo>
                <a:cubicBezTo>
                  <a:pt x="1300" y="694"/>
                  <a:pt x="1368" y="667"/>
                  <a:pt x="1385" y="687"/>
                </a:cubicBezTo>
                <a:cubicBezTo>
                  <a:pt x="1402" y="707"/>
                  <a:pt x="1394" y="763"/>
                  <a:pt x="1376" y="777"/>
                </a:cubicBezTo>
                <a:cubicBezTo>
                  <a:pt x="1358" y="791"/>
                  <a:pt x="1294" y="763"/>
                  <a:pt x="1277" y="774"/>
                </a:cubicBezTo>
                <a:cubicBezTo>
                  <a:pt x="1260" y="785"/>
                  <a:pt x="1271" y="831"/>
                  <a:pt x="1277" y="843"/>
                </a:cubicBezTo>
                <a:cubicBezTo>
                  <a:pt x="1283" y="855"/>
                  <a:pt x="1306" y="840"/>
                  <a:pt x="1316" y="849"/>
                </a:cubicBezTo>
                <a:cubicBezTo>
                  <a:pt x="1326" y="858"/>
                  <a:pt x="1325" y="886"/>
                  <a:pt x="1337" y="897"/>
                </a:cubicBezTo>
                <a:cubicBezTo>
                  <a:pt x="1349" y="908"/>
                  <a:pt x="1353" y="914"/>
                  <a:pt x="1388" y="915"/>
                </a:cubicBezTo>
                <a:cubicBezTo>
                  <a:pt x="1423" y="916"/>
                  <a:pt x="1511" y="909"/>
                  <a:pt x="1547" y="906"/>
                </a:cubicBezTo>
                <a:cubicBezTo>
                  <a:pt x="1583" y="903"/>
                  <a:pt x="1592" y="905"/>
                  <a:pt x="1604" y="897"/>
                </a:cubicBezTo>
                <a:cubicBezTo>
                  <a:pt x="1616" y="889"/>
                  <a:pt x="1615" y="866"/>
                  <a:pt x="1622" y="858"/>
                </a:cubicBezTo>
                <a:cubicBezTo>
                  <a:pt x="1629" y="850"/>
                  <a:pt x="1634" y="842"/>
                  <a:pt x="1646" y="849"/>
                </a:cubicBezTo>
                <a:cubicBezTo>
                  <a:pt x="1658" y="856"/>
                  <a:pt x="1672" y="898"/>
                  <a:pt x="1691" y="903"/>
                </a:cubicBezTo>
                <a:cubicBezTo>
                  <a:pt x="1710" y="908"/>
                  <a:pt x="1746" y="891"/>
                  <a:pt x="1763" y="879"/>
                </a:cubicBezTo>
                <a:cubicBezTo>
                  <a:pt x="1780" y="867"/>
                  <a:pt x="1774" y="837"/>
                  <a:pt x="1793" y="831"/>
                </a:cubicBezTo>
                <a:cubicBezTo>
                  <a:pt x="1812" y="825"/>
                  <a:pt x="1856" y="834"/>
                  <a:pt x="1880" y="840"/>
                </a:cubicBezTo>
                <a:cubicBezTo>
                  <a:pt x="1904" y="846"/>
                  <a:pt x="1922" y="867"/>
                  <a:pt x="1934" y="864"/>
                </a:cubicBezTo>
                <a:lnTo>
                  <a:pt x="1952" y="819"/>
                </a:lnTo>
                <a:cubicBezTo>
                  <a:pt x="1962" y="812"/>
                  <a:pt x="1984" y="816"/>
                  <a:pt x="1994" y="822"/>
                </a:cubicBezTo>
                <a:cubicBezTo>
                  <a:pt x="2004" y="828"/>
                  <a:pt x="1987" y="852"/>
                  <a:pt x="2015" y="855"/>
                </a:cubicBezTo>
                <a:cubicBezTo>
                  <a:pt x="2043" y="858"/>
                  <a:pt x="2133" y="850"/>
                  <a:pt x="2162" y="843"/>
                </a:cubicBezTo>
                <a:cubicBezTo>
                  <a:pt x="2191" y="836"/>
                  <a:pt x="2178" y="819"/>
                  <a:pt x="2192" y="810"/>
                </a:cubicBezTo>
                <a:cubicBezTo>
                  <a:pt x="2206" y="801"/>
                  <a:pt x="2222" y="809"/>
                  <a:pt x="2246" y="789"/>
                </a:cubicBezTo>
                <a:cubicBezTo>
                  <a:pt x="2270" y="769"/>
                  <a:pt x="2274" y="724"/>
                  <a:pt x="2336" y="690"/>
                </a:cubicBezTo>
                <a:cubicBezTo>
                  <a:pt x="2398" y="656"/>
                  <a:pt x="2558" y="606"/>
                  <a:pt x="2618" y="582"/>
                </a:cubicBezTo>
                <a:cubicBezTo>
                  <a:pt x="2678" y="558"/>
                  <a:pt x="2668" y="555"/>
                  <a:pt x="2693" y="549"/>
                </a:cubicBezTo>
                <a:cubicBezTo>
                  <a:pt x="2718" y="543"/>
                  <a:pt x="2747" y="555"/>
                  <a:pt x="2768" y="546"/>
                </a:cubicBezTo>
                <a:cubicBezTo>
                  <a:pt x="2789" y="537"/>
                  <a:pt x="2736" y="538"/>
                  <a:pt x="2816" y="498"/>
                </a:cubicBezTo>
                <a:cubicBezTo>
                  <a:pt x="2896" y="458"/>
                  <a:pt x="3174" y="354"/>
                  <a:pt x="3248" y="306"/>
                </a:cubicBezTo>
                <a:lnTo>
                  <a:pt x="3263" y="210"/>
                </a:lnTo>
                <a:cubicBezTo>
                  <a:pt x="3267" y="171"/>
                  <a:pt x="3275" y="72"/>
                  <a:pt x="3275" y="72"/>
                </a:cubicBezTo>
                <a:close/>
              </a:path>
            </a:pathLst>
          </a:cu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65240" y="1068480"/>
            <a:ext cx="3139920" cy="799920"/>
          </a:xfrm>
          <a:custGeom>
            <a:avLst/>
            <a:gdLst/>
            <a:ahLst/>
            <a:rect l="l" t="t" r="r" b="b"/>
            <a:pathLst>
              <a:path w="1978" h="504">
                <a:moveTo>
                  <a:pt x="49" y="479"/>
                </a:moveTo>
                <a:cubicBezTo>
                  <a:pt x="265" y="479"/>
                  <a:pt x="511" y="476"/>
                  <a:pt x="673" y="479"/>
                </a:cubicBezTo>
                <a:cubicBezTo>
                  <a:pt x="835" y="482"/>
                  <a:pt x="906" y="504"/>
                  <a:pt x="1024" y="497"/>
                </a:cubicBezTo>
                <a:cubicBezTo>
                  <a:pt x="1142" y="490"/>
                  <a:pt x="1239" y="457"/>
                  <a:pt x="1381" y="437"/>
                </a:cubicBezTo>
                <a:cubicBezTo>
                  <a:pt x="1523" y="417"/>
                  <a:pt x="1777" y="391"/>
                  <a:pt x="1876" y="377"/>
                </a:cubicBezTo>
                <a:cubicBezTo>
                  <a:pt x="1975" y="363"/>
                  <a:pt x="1971" y="367"/>
                  <a:pt x="1978" y="353"/>
                </a:cubicBezTo>
                <a:lnTo>
                  <a:pt x="1921" y="290"/>
                </a:lnTo>
                <a:lnTo>
                  <a:pt x="1894" y="281"/>
                </a:lnTo>
                <a:cubicBezTo>
                  <a:pt x="1874" y="284"/>
                  <a:pt x="1820" y="309"/>
                  <a:pt x="1798" y="308"/>
                </a:cubicBezTo>
                <a:cubicBezTo>
                  <a:pt x="1776" y="307"/>
                  <a:pt x="1784" y="272"/>
                  <a:pt x="1759" y="275"/>
                </a:cubicBezTo>
                <a:cubicBezTo>
                  <a:pt x="1734" y="278"/>
                  <a:pt x="1671" y="339"/>
                  <a:pt x="1645" y="329"/>
                </a:cubicBezTo>
                <a:cubicBezTo>
                  <a:pt x="1619" y="319"/>
                  <a:pt x="1621" y="233"/>
                  <a:pt x="1603" y="218"/>
                </a:cubicBezTo>
                <a:cubicBezTo>
                  <a:pt x="1585" y="203"/>
                  <a:pt x="1565" y="228"/>
                  <a:pt x="1540" y="239"/>
                </a:cubicBezTo>
                <a:cubicBezTo>
                  <a:pt x="1515" y="250"/>
                  <a:pt x="1470" y="282"/>
                  <a:pt x="1450" y="284"/>
                </a:cubicBezTo>
                <a:cubicBezTo>
                  <a:pt x="1430" y="286"/>
                  <a:pt x="1438" y="259"/>
                  <a:pt x="1420" y="251"/>
                </a:cubicBezTo>
                <a:cubicBezTo>
                  <a:pt x="1402" y="243"/>
                  <a:pt x="1355" y="240"/>
                  <a:pt x="1339" y="236"/>
                </a:cubicBezTo>
                <a:cubicBezTo>
                  <a:pt x="1323" y="232"/>
                  <a:pt x="1330" y="226"/>
                  <a:pt x="1321" y="224"/>
                </a:cubicBezTo>
                <a:cubicBezTo>
                  <a:pt x="1312" y="222"/>
                  <a:pt x="1300" y="227"/>
                  <a:pt x="1285" y="224"/>
                </a:cubicBezTo>
                <a:cubicBezTo>
                  <a:pt x="1270" y="221"/>
                  <a:pt x="1245" y="199"/>
                  <a:pt x="1231" y="203"/>
                </a:cubicBezTo>
                <a:cubicBezTo>
                  <a:pt x="1217" y="207"/>
                  <a:pt x="1209" y="241"/>
                  <a:pt x="1198" y="251"/>
                </a:cubicBezTo>
                <a:cubicBezTo>
                  <a:pt x="1187" y="261"/>
                  <a:pt x="1172" y="265"/>
                  <a:pt x="1162" y="260"/>
                </a:cubicBezTo>
                <a:cubicBezTo>
                  <a:pt x="1152" y="255"/>
                  <a:pt x="1157" y="231"/>
                  <a:pt x="1135" y="218"/>
                </a:cubicBezTo>
                <a:cubicBezTo>
                  <a:pt x="1113" y="205"/>
                  <a:pt x="1051" y="200"/>
                  <a:pt x="1027" y="185"/>
                </a:cubicBezTo>
                <a:cubicBezTo>
                  <a:pt x="1003" y="170"/>
                  <a:pt x="1004" y="136"/>
                  <a:pt x="991" y="128"/>
                </a:cubicBezTo>
                <a:cubicBezTo>
                  <a:pt x="978" y="120"/>
                  <a:pt x="969" y="137"/>
                  <a:pt x="946" y="134"/>
                </a:cubicBezTo>
                <a:cubicBezTo>
                  <a:pt x="923" y="131"/>
                  <a:pt x="875" y="112"/>
                  <a:pt x="850" y="107"/>
                </a:cubicBezTo>
                <a:cubicBezTo>
                  <a:pt x="825" y="102"/>
                  <a:pt x="808" y="112"/>
                  <a:pt x="796" y="104"/>
                </a:cubicBezTo>
                <a:lnTo>
                  <a:pt x="775" y="56"/>
                </a:lnTo>
                <a:cubicBezTo>
                  <a:pt x="763" y="50"/>
                  <a:pt x="738" y="72"/>
                  <a:pt x="724" y="71"/>
                </a:cubicBezTo>
                <a:cubicBezTo>
                  <a:pt x="710" y="70"/>
                  <a:pt x="703" y="49"/>
                  <a:pt x="688" y="47"/>
                </a:cubicBezTo>
                <a:cubicBezTo>
                  <a:pt x="673" y="45"/>
                  <a:pt x="644" y="58"/>
                  <a:pt x="631" y="56"/>
                </a:cubicBezTo>
                <a:cubicBezTo>
                  <a:pt x="618" y="54"/>
                  <a:pt x="632" y="38"/>
                  <a:pt x="607" y="32"/>
                </a:cubicBezTo>
                <a:cubicBezTo>
                  <a:pt x="582" y="26"/>
                  <a:pt x="510" y="21"/>
                  <a:pt x="481" y="17"/>
                </a:cubicBezTo>
                <a:cubicBezTo>
                  <a:pt x="452" y="13"/>
                  <a:pt x="449" y="10"/>
                  <a:pt x="433" y="8"/>
                </a:cubicBezTo>
                <a:cubicBezTo>
                  <a:pt x="417" y="6"/>
                  <a:pt x="404" y="0"/>
                  <a:pt x="385" y="2"/>
                </a:cubicBezTo>
                <a:cubicBezTo>
                  <a:pt x="366" y="4"/>
                  <a:pt x="346" y="17"/>
                  <a:pt x="319" y="23"/>
                </a:cubicBezTo>
                <a:cubicBezTo>
                  <a:pt x="292" y="29"/>
                  <a:pt x="241" y="30"/>
                  <a:pt x="220" y="38"/>
                </a:cubicBezTo>
                <a:cubicBezTo>
                  <a:pt x="199" y="46"/>
                  <a:pt x="204" y="63"/>
                  <a:pt x="193" y="71"/>
                </a:cubicBezTo>
                <a:cubicBezTo>
                  <a:pt x="182" y="79"/>
                  <a:pt x="167" y="79"/>
                  <a:pt x="154" y="86"/>
                </a:cubicBezTo>
                <a:cubicBezTo>
                  <a:pt x="141" y="93"/>
                  <a:pt x="135" y="111"/>
                  <a:pt x="112" y="116"/>
                </a:cubicBezTo>
                <a:cubicBezTo>
                  <a:pt x="89" y="121"/>
                  <a:pt x="32" y="105"/>
                  <a:pt x="16" y="113"/>
                </a:cubicBezTo>
                <a:cubicBezTo>
                  <a:pt x="0" y="121"/>
                  <a:pt x="13" y="140"/>
                  <a:pt x="13" y="167"/>
                </a:cubicBezTo>
                <a:cubicBezTo>
                  <a:pt x="13" y="194"/>
                  <a:pt x="6" y="244"/>
                  <a:pt x="13" y="278"/>
                </a:cubicBezTo>
                <a:cubicBezTo>
                  <a:pt x="20" y="312"/>
                  <a:pt x="43" y="346"/>
                  <a:pt x="55" y="371"/>
                </a:cubicBezTo>
                <a:cubicBezTo>
                  <a:pt x="67" y="396"/>
                  <a:pt x="81" y="410"/>
                  <a:pt x="88" y="428"/>
                </a:cubicBezTo>
                <a:cubicBezTo>
                  <a:pt x="95" y="446"/>
                  <a:pt x="103" y="471"/>
                  <a:pt x="97" y="479"/>
                </a:cubicBezTo>
                <a:cubicBezTo>
                  <a:pt x="91" y="487"/>
                  <a:pt x="49" y="479"/>
                  <a:pt x="49" y="479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71480" y="1824120"/>
            <a:ext cx="2000160" cy="1923840"/>
          </a:xfrm>
          <a:custGeom>
            <a:avLst/>
            <a:gdLst/>
            <a:ahLst/>
            <a:rect l="l" t="t" r="r" b="b"/>
            <a:pathLst>
              <a:path w="1260" h="1212">
                <a:moveTo>
                  <a:pt x="738" y="0"/>
                </a:moveTo>
                <a:lnTo>
                  <a:pt x="1197" y="21"/>
                </a:lnTo>
                <a:lnTo>
                  <a:pt x="1188" y="153"/>
                </a:lnTo>
                <a:lnTo>
                  <a:pt x="1197" y="216"/>
                </a:lnTo>
                <a:cubicBezTo>
                  <a:pt x="1202" y="249"/>
                  <a:pt x="1206" y="289"/>
                  <a:pt x="1215" y="348"/>
                </a:cubicBezTo>
                <a:cubicBezTo>
                  <a:pt x="1224" y="407"/>
                  <a:pt x="1248" y="512"/>
                  <a:pt x="1254" y="573"/>
                </a:cubicBezTo>
                <a:cubicBezTo>
                  <a:pt x="1260" y="634"/>
                  <a:pt x="1260" y="643"/>
                  <a:pt x="1254" y="714"/>
                </a:cubicBezTo>
                <a:cubicBezTo>
                  <a:pt x="1248" y="785"/>
                  <a:pt x="1221" y="927"/>
                  <a:pt x="1215" y="1002"/>
                </a:cubicBezTo>
                <a:lnTo>
                  <a:pt x="1215" y="1167"/>
                </a:lnTo>
                <a:cubicBezTo>
                  <a:pt x="1193" y="1199"/>
                  <a:pt x="1113" y="1193"/>
                  <a:pt x="1080" y="1194"/>
                </a:cubicBezTo>
                <a:cubicBezTo>
                  <a:pt x="1047" y="1195"/>
                  <a:pt x="1036" y="1171"/>
                  <a:pt x="1017" y="1173"/>
                </a:cubicBezTo>
                <a:cubicBezTo>
                  <a:pt x="998" y="1175"/>
                  <a:pt x="981" y="1212"/>
                  <a:pt x="963" y="1209"/>
                </a:cubicBezTo>
                <a:cubicBezTo>
                  <a:pt x="945" y="1206"/>
                  <a:pt x="940" y="1177"/>
                  <a:pt x="906" y="1155"/>
                </a:cubicBezTo>
                <a:cubicBezTo>
                  <a:pt x="872" y="1133"/>
                  <a:pt x="845" y="1129"/>
                  <a:pt x="756" y="1074"/>
                </a:cubicBezTo>
                <a:cubicBezTo>
                  <a:pt x="667" y="1019"/>
                  <a:pt x="498" y="912"/>
                  <a:pt x="372" y="822"/>
                </a:cubicBezTo>
                <a:cubicBezTo>
                  <a:pt x="246" y="732"/>
                  <a:pt x="48" y="584"/>
                  <a:pt x="0" y="534"/>
                </a:cubicBezTo>
                <a:lnTo>
                  <a:pt x="87" y="525"/>
                </a:lnTo>
                <a:lnTo>
                  <a:pt x="186" y="501"/>
                </a:lnTo>
                <a:cubicBezTo>
                  <a:pt x="234" y="487"/>
                  <a:pt x="320" y="462"/>
                  <a:pt x="378" y="438"/>
                </a:cubicBezTo>
                <a:cubicBezTo>
                  <a:pt x="436" y="414"/>
                  <a:pt x="496" y="386"/>
                  <a:pt x="537" y="354"/>
                </a:cubicBezTo>
                <a:cubicBezTo>
                  <a:pt x="578" y="322"/>
                  <a:pt x="598" y="285"/>
                  <a:pt x="627" y="246"/>
                </a:cubicBezTo>
                <a:cubicBezTo>
                  <a:pt x="656" y="207"/>
                  <a:pt x="690" y="161"/>
                  <a:pt x="708" y="120"/>
                </a:cubicBezTo>
                <a:cubicBezTo>
                  <a:pt x="726" y="79"/>
                  <a:pt x="738" y="0"/>
                  <a:pt x="738" y="0"/>
                </a:cubicBezTo>
                <a:close/>
              </a:path>
            </a:pathLst>
          </a:custGeom>
          <a:solidFill>
            <a:srgbClr val="ffada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4000" y="2509920"/>
            <a:ext cx="6703920" cy="4200480"/>
            <a:chOff x="54000" y="2509920"/>
            <a:chExt cx="6703920" cy="4200480"/>
          </a:xfrm>
        </p:grpSpPr>
        <p:sp>
          <p:nvSpPr>
            <p:cNvPr id="545" name=""/>
            <p:cNvSpPr/>
            <p:nvPr/>
          </p:nvSpPr>
          <p:spPr>
            <a:xfrm>
              <a:off x="54000" y="2509920"/>
              <a:ext cx="2255760" cy="1611360"/>
            </a:xfrm>
            <a:custGeom>
              <a:avLst/>
              <a:gdLst/>
              <a:ahLst/>
              <a:rect l="l" t="t" r="r" b="b"/>
              <a:pathLst>
                <a:path w="1421" h="1015">
                  <a:moveTo>
                    <a:pt x="317" y="0"/>
                  </a:moveTo>
                  <a:cubicBezTo>
                    <a:pt x="388" y="23"/>
                    <a:pt x="574" y="186"/>
                    <a:pt x="647" y="240"/>
                  </a:cubicBezTo>
                  <a:cubicBezTo>
                    <a:pt x="720" y="294"/>
                    <a:pt x="660" y="261"/>
                    <a:pt x="755" y="324"/>
                  </a:cubicBezTo>
                  <a:cubicBezTo>
                    <a:pt x="850" y="387"/>
                    <a:pt x="1109" y="547"/>
                    <a:pt x="1217" y="621"/>
                  </a:cubicBezTo>
                  <a:cubicBezTo>
                    <a:pt x="1325" y="695"/>
                    <a:pt x="1391" y="731"/>
                    <a:pt x="1406" y="771"/>
                  </a:cubicBezTo>
                  <a:cubicBezTo>
                    <a:pt x="1421" y="811"/>
                    <a:pt x="1328" y="841"/>
                    <a:pt x="1304" y="861"/>
                  </a:cubicBezTo>
                  <a:lnTo>
                    <a:pt x="1259" y="891"/>
                  </a:lnTo>
                  <a:lnTo>
                    <a:pt x="1238" y="927"/>
                  </a:lnTo>
                  <a:cubicBezTo>
                    <a:pt x="1193" y="935"/>
                    <a:pt x="1051" y="925"/>
                    <a:pt x="989" y="939"/>
                  </a:cubicBezTo>
                  <a:cubicBezTo>
                    <a:pt x="927" y="953"/>
                    <a:pt x="904" y="1015"/>
                    <a:pt x="866" y="1014"/>
                  </a:cubicBezTo>
                  <a:cubicBezTo>
                    <a:pt x="828" y="1013"/>
                    <a:pt x="782" y="957"/>
                    <a:pt x="758" y="933"/>
                  </a:cubicBezTo>
                  <a:cubicBezTo>
                    <a:pt x="734" y="909"/>
                    <a:pt x="742" y="873"/>
                    <a:pt x="722" y="870"/>
                  </a:cubicBezTo>
                  <a:cubicBezTo>
                    <a:pt x="702" y="867"/>
                    <a:pt x="664" y="914"/>
                    <a:pt x="638" y="915"/>
                  </a:cubicBezTo>
                  <a:cubicBezTo>
                    <a:pt x="612" y="916"/>
                    <a:pt x="592" y="885"/>
                    <a:pt x="566" y="876"/>
                  </a:cubicBezTo>
                  <a:cubicBezTo>
                    <a:pt x="540" y="867"/>
                    <a:pt x="518" y="863"/>
                    <a:pt x="485" y="858"/>
                  </a:cubicBezTo>
                  <a:cubicBezTo>
                    <a:pt x="452" y="853"/>
                    <a:pt x="402" y="863"/>
                    <a:pt x="371" y="849"/>
                  </a:cubicBezTo>
                  <a:cubicBezTo>
                    <a:pt x="340" y="835"/>
                    <a:pt x="319" y="782"/>
                    <a:pt x="302" y="771"/>
                  </a:cubicBezTo>
                  <a:cubicBezTo>
                    <a:pt x="285" y="760"/>
                    <a:pt x="282" y="771"/>
                    <a:pt x="269" y="783"/>
                  </a:cubicBezTo>
                  <a:cubicBezTo>
                    <a:pt x="256" y="795"/>
                    <a:pt x="242" y="843"/>
                    <a:pt x="227" y="843"/>
                  </a:cubicBezTo>
                  <a:cubicBezTo>
                    <a:pt x="212" y="843"/>
                    <a:pt x="198" y="795"/>
                    <a:pt x="181" y="784"/>
                  </a:cubicBezTo>
                  <a:cubicBezTo>
                    <a:pt x="164" y="773"/>
                    <a:pt x="136" y="788"/>
                    <a:pt x="128" y="780"/>
                  </a:cubicBezTo>
                  <a:cubicBezTo>
                    <a:pt x="120" y="772"/>
                    <a:pt x="154" y="764"/>
                    <a:pt x="134" y="735"/>
                  </a:cubicBezTo>
                  <a:cubicBezTo>
                    <a:pt x="114" y="706"/>
                    <a:pt x="16" y="645"/>
                    <a:pt x="8" y="603"/>
                  </a:cubicBezTo>
                  <a:cubicBezTo>
                    <a:pt x="0" y="561"/>
                    <a:pt x="57" y="520"/>
                    <a:pt x="83" y="480"/>
                  </a:cubicBezTo>
                  <a:cubicBezTo>
                    <a:pt x="109" y="440"/>
                    <a:pt x="138" y="383"/>
                    <a:pt x="164" y="363"/>
                  </a:cubicBezTo>
                  <a:cubicBezTo>
                    <a:pt x="190" y="343"/>
                    <a:pt x="231" y="373"/>
                    <a:pt x="242" y="360"/>
                  </a:cubicBezTo>
                  <a:cubicBezTo>
                    <a:pt x="253" y="347"/>
                    <a:pt x="231" y="307"/>
                    <a:pt x="230" y="285"/>
                  </a:cubicBezTo>
                  <a:cubicBezTo>
                    <a:pt x="229" y="263"/>
                    <a:pt x="237" y="248"/>
                    <a:pt x="236" y="228"/>
                  </a:cubicBezTo>
                  <a:cubicBezTo>
                    <a:pt x="235" y="208"/>
                    <a:pt x="226" y="185"/>
                    <a:pt x="224" y="165"/>
                  </a:cubicBezTo>
                  <a:cubicBezTo>
                    <a:pt x="222" y="145"/>
                    <a:pt x="208" y="135"/>
                    <a:pt x="224" y="108"/>
                  </a:cubicBezTo>
                  <a:lnTo>
                    <a:pt x="31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2760" y="6191280"/>
              <a:ext cx="965160" cy="519120"/>
            </a:xfrm>
            <a:custGeom>
              <a:avLst/>
              <a:gdLst/>
              <a:ahLst/>
              <a:rect l="l" t="t" r="r" b="b"/>
              <a:pathLst>
                <a:path w="608" h="327">
                  <a:moveTo>
                    <a:pt x="5" y="261"/>
                  </a:moveTo>
                  <a:cubicBezTo>
                    <a:pt x="0" y="246"/>
                    <a:pt x="55" y="230"/>
                    <a:pt x="74" y="213"/>
                  </a:cubicBezTo>
                  <a:cubicBezTo>
                    <a:pt x="93" y="196"/>
                    <a:pt x="109" y="176"/>
                    <a:pt x="122" y="156"/>
                  </a:cubicBezTo>
                  <a:cubicBezTo>
                    <a:pt x="135" y="136"/>
                    <a:pt x="133" y="113"/>
                    <a:pt x="152" y="93"/>
                  </a:cubicBezTo>
                  <a:cubicBezTo>
                    <a:pt x="171" y="73"/>
                    <a:pt x="186" y="50"/>
                    <a:pt x="239" y="36"/>
                  </a:cubicBezTo>
                  <a:cubicBezTo>
                    <a:pt x="292" y="22"/>
                    <a:pt x="425" y="18"/>
                    <a:pt x="470" y="12"/>
                  </a:cubicBezTo>
                  <a:cubicBezTo>
                    <a:pt x="515" y="6"/>
                    <a:pt x="488" y="0"/>
                    <a:pt x="509" y="3"/>
                  </a:cubicBezTo>
                  <a:cubicBezTo>
                    <a:pt x="530" y="6"/>
                    <a:pt x="590" y="18"/>
                    <a:pt x="599" y="30"/>
                  </a:cubicBezTo>
                  <a:cubicBezTo>
                    <a:pt x="608" y="42"/>
                    <a:pt x="579" y="64"/>
                    <a:pt x="566" y="78"/>
                  </a:cubicBezTo>
                  <a:cubicBezTo>
                    <a:pt x="553" y="92"/>
                    <a:pt x="544" y="106"/>
                    <a:pt x="518" y="114"/>
                  </a:cubicBezTo>
                  <a:cubicBezTo>
                    <a:pt x="492" y="122"/>
                    <a:pt x="443" y="109"/>
                    <a:pt x="410" y="123"/>
                  </a:cubicBezTo>
                  <a:cubicBezTo>
                    <a:pt x="377" y="137"/>
                    <a:pt x="341" y="181"/>
                    <a:pt x="320" y="201"/>
                  </a:cubicBezTo>
                  <a:cubicBezTo>
                    <a:pt x="299" y="221"/>
                    <a:pt x="291" y="236"/>
                    <a:pt x="281" y="246"/>
                  </a:cubicBezTo>
                  <a:cubicBezTo>
                    <a:pt x="271" y="256"/>
                    <a:pt x="268" y="254"/>
                    <a:pt x="260" y="261"/>
                  </a:cubicBezTo>
                  <a:cubicBezTo>
                    <a:pt x="252" y="268"/>
                    <a:pt x="237" y="279"/>
                    <a:pt x="230" y="288"/>
                  </a:cubicBezTo>
                  <a:cubicBezTo>
                    <a:pt x="223" y="297"/>
                    <a:pt x="241" y="310"/>
                    <a:pt x="218" y="315"/>
                  </a:cubicBezTo>
                  <a:cubicBezTo>
                    <a:pt x="195" y="320"/>
                    <a:pt x="124" y="327"/>
                    <a:pt x="89" y="318"/>
                  </a:cubicBezTo>
                  <a:cubicBezTo>
                    <a:pt x="54" y="309"/>
                    <a:pt x="23" y="273"/>
                    <a:pt x="5" y="261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168800" y="760320"/>
            <a:ext cx="3753000" cy="3019680"/>
          </a:xfrm>
          <a:custGeom>
            <a:avLst/>
            <a:gdLst/>
            <a:ahLst/>
            <a:rect l="l" t="t" r="r" b="b"/>
            <a:pathLst>
              <a:path w="2364" h="1902">
                <a:moveTo>
                  <a:pt x="14" y="565"/>
                </a:moveTo>
                <a:lnTo>
                  <a:pt x="92" y="544"/>
                </a:lnTo>
                <a:cubicBezTo>
                  <a:pt x="108" y="529"/>
                  <a:pt x="109" y="496"/>
                  <a:pt x="107" y="478"/>
                </a:cubicBezTo>
                <a:cubicBezTo>
                  <a:pt x="105" y="460"/>
                  <a:pt x="85" y="449"/>
                  <a:pt x="80" y="433"/>
                </a:cubicBezTo>
                <a:cubicBezTo>
                  <a:pt x="75" y="417"/>
                  <a:pt x="63" y="412"/>
                  <a:pt x="77" y="379"/>
                </a:cubicBezTo>
                <a:cubicBezTo>
                  <a:pt x="91" y="346"/>
                  <a:pt x="148" y="266"/>
                  <a:pt x="167" y="235"/>
                </a:cubicBezTo>
                <a:cubicBezTo>
                  <a:pt x="186" y="204"/>
                  <a:pt x="175" y="196"/>
                  <a:pt x="191" y="193"/>
                </a:cubicBezTo>
                <a:cubicBezTo>
                  <a:pt x="207" y="190"/>
                  <a:pt x="242" y="217"/>
                  <a:pt x="263" y="217"/>
                </a:cubicBezTo>
                <a:cubicBezTo>
                  <a:pt x="284" y="217"/>
                  <a:pt x="294" y="195"/>
                  <a:pt x="320" y="190"/>
                </a:cubicBezTo>
                <a:cubicBezTo>
                  <a:pt x="346" y="185"/>
                  <a:pt x="391" y="183"/>
                  <a:pt x="422" y="184"/>
                </a:cubicBezTo>
                <a:cubicBezTo>
                  <a:pt x="453" y="185"/>
                  <a:pt x="483" y="207"/>
                  <a:pt x="509" y="199"/>
                </a:cubicBezTo>
                <a:cubicBezTo>
                  <a:pt x="535" y="191"/>
                  <a:pt x="564" y="161"/>
                  <a:pt x="578" y="136"/>
                </a:cubicBezTo>
                <a:cubicBezTo>
                  <a:pt x="592" y="111"/>
                  <a:pt x="578" y="58"/>
                  <a:pt x="590" y="49"/>
                </a:cubicBezTo>
                <a:cubicBezTo>
                  <a:pt x="602" y="40"/>
                  <a:pt x="627" y="74"/>
                  <a:pt x="650" y="79"/>
                </a:cubicBezTo>
                <a:cubicBezTo>
                  <a:pt x="673" y="84"/>
                  <a:pt x="689" y="85"/>
                  <a:pt x="728" y="79"/>
                </a:cubicBezTo>
                <a:cubicBezTo>
                  <a:pt x="767" y="73"/>
                  <a:pt x="848" y="0"/>
                  <a:pt x="887" y="40"/>
                </a:cubicBezTo>
                <a:cubicBezTo>
                  <a:pt x="926" y="80"/>
                  <a:pt x="922" y="220"/>
                  <a:pt x="962" y="322"/>
                </a:cubicBezTo>
                <a:cubicBezTo>
                  <a:pt x="1002" y="424"/>
                  <a:pt x="1040" y="545"/>
                  <a:pt x="1130" y="652"/>
                </a:cubicBezTo>
                <a:cubicBezTo>
                  <a:pt x="1220" y="759"/>
                  <a:pt x="1360" y="878"/>
                  <a:pt x="1502" y="961"/>
                </a:cubicBezTo>
                <a:cubicBezTo>
                  <a:pt x="1644" y="1044"/>
                  <a:pt x="1862" y="1114"/>
                  <a:pt x="1982" y="1153"/>
                </a:cubicBezTo>
                <a:cubicBezTo>
                  <a:pt x="2102" y="1192"/>
                  <a:pt x="2156" y="1183"/>
                  <a:pt x="2219" y="1195"/>
                </a:cubicBezTo>
                <a:cubicBezTo>
                  <a:pt x="2282" y="1207"/>
                  <a:pt x="2352" y="1191"/>
                  <a:pt x="2358" y="1226"/>
                </a:cubicBezTo>
                <a:cubicBezTo>
                  <a:pt x="2364" y="1261"/>
                  <a:pt x="2307" y="1327"/>
                  <a:pt x="2258" y="1403"/>
                </a:cubicBezTo>
                <a:cubicBezTo>
                  <a:pt x="2209" y="1479"/>
                  <a:pt x="2116" y="1596"/>
                  <a:pt x="2066" y="1679"/>
                </a:cubicBezTo>
                <a:cubicBezTo>
                  <a:pt x="2016" y="1762"/>
                  <a:pt x="2036" y="1881"/>
                  <a:pt x="1959" y="1902"/>
                </a:cubicBezTo>
                <a:lnTo>
                  <a:pt x="1605" y="1807"/>
                </a:lnTo>
                <a:lnTo>
                  <a:pt x="1310" y="1758"/>
                </a:lnTo>
                <a:lnTo>
                  <a:pt x="1213" y="1729"/>
                </a:lnTo>
                <a:cubicBezTo>
                  <a:pt x="1185" y="1716"/>
                  <a:pt x="1165" y="1694"/>
                  <a:pt x="1139" y="1678"/>
                </a:cubicBezTo>
                <a:cubicBezTo>
                  <a:pt x="1113" y="1662"/>
                  <a:pt x="1111" y="1658"/>
                  <a:pt x="1055" y="1630"/>
                </a:cubicBezTo>
                <a:cubicBezTo>
                  <a:pt x="999" y="1602"/>
                  <a:pt x="884" y="1547"/>
                  <a:pt x="800" y="1507"/>
                </a:cubicBezTo>
                <a:cubicBezTo>
                  <a:pt x="716" y="1467"/>
                  <a:pt x="625" y="1427"/>
                  <a:pt x="548" y="1390"/>
                </a:cubicBezTo>
                <a:cubicBezTo>
                  <a:pt x="471" y="1353"/>
                  <a:pt x="378" y="1321"/>
                  <a:pt x="338" y="1285"/>
                </a:cubicBezTo>
                <a:cubicBezTo>
                  <a:pt x="298" y="1249"/>
                  <a:pt x="335" y="1196"/>
                  <a:pt x="308" y="1174"/>
                </a:cubicBezTo>
                <a:cubicBezTo>
                  <a:pt x="281" y="1152"/>
                  <a:pt x="206" y="1169"/>
                  <a:pt x="173" y="1150"/>
                </a:cubicBezTo>
                <a:cubicBezTo>
                  <a:pt x="140" y="1131"/>
                  <a:pt x="128" y="1096"/>
                  <a:pt x="110" y="1057"/>
                </a:cubicBezTo>
                <a:cubicBezTo>
                  <a:pt x="92" y="1018"/>
                  <a:pt x="79" y="954"/>
                  <a:pt x="62" y="913"/>
                </a:cubicBezTo>
                <a:cubicBezTo>
                  <a:pt x="45" y="872"/>
                  <a:pt x="16" y="866"/>
                  <a:pt x="8" y="808"/>
                </a:cubicBezTo>
                <a:cubicBezTo>
                  <a:pt x="0" y="750"/>
                  <a:pt x="9" y="618"/>
                  <a:pt x="14" y="565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96120" y="2587680"/>
            <a:ext cx="1668600" cy="1541520"/>
          </a:xfrm>
          <a:custGeom>
            <a:avLst/>
            <a:gdLst/>
            <a:ahLst/>
            <a:rect l="l" t="t" r="r" b="b"/>
            <a:pathLst>
              <a:path w="1051" h="971">
                <a:moveTo>
                  <a:pt x="0" y="750"/>
                </a:moveTo>
                <a:lnTo>
                  <a:pt x="35" y="697"/>
                </a:lnTo>
                <a:lnTo>
                  <a:pt x="44" y="665"/>
                </a:lnTo>
                <a:cubicBezTo>
                  <a:pt x="54" y="635"/>
                  <a:pt x="39" y="611"/>
                  <a:pt x="94" y="519"/>
                </a:cubicBezTo>
                <a:cubicBezTo>
                  <a:pt x="149" y="427"/>
                  <a:pt x="327" y="191"/>
                  <a:pt x="377" y="113"/>
                </a:cubicBezTo>
                <a:cubicBezTo>
                  <a:pt x="427" y="35"/>
                  <a:pt x="313" y="67"/>
                  <a:pt x="396" y="50"/>
                </a:cubicBezTo>
                <a:cubicBezTo>
                  <a:pt x="479" y="33"/>
                  <a:pt x="790" y="14"/>
                  <a:pt x="877" y="13"/>
                </a:cubicBezTo>
                <a:lnTo>
                  <a:pt x="918" y="45"/>
                </a:lnTo>
                <a:cubicBezTo>
                  <a:pt x="939" y="43"/>
                  <a:pt x="992" y="0"/>
                  <a:pt x="1003" y="2"/>
                </a:cubicBezTo>
                <a:cubicBezTo>
                  <a:pt x="1014" y="4"/>
                  <a:pt x="983" y="38"/>
                  <a:pt x="986" y="60"/>
                </a:cubicBezTo>
                <a:cubicBezTo>
                  <a:pt x="989" y="82"/>
                  <a:pt x="1024" y="109"/>
                  <a:pt x="1024" y="133"/>
                </a:cubicBezTo>
                <a:cubicBezTo>
                  <a:pt x="1024" y="157"/>
                  <a:pt x="1007" y="182"/>
                  <a:pt x="989" y="206"/>
                </a:cubicBezTo>
                <a:cubicBezTo>
                  <a:pt x="971" y="230"/>
                  <a:pt x="923" y="256"/>
                  <a:pt x="915" y="276"/>
                </a:cubicBezTo>
                <a:cubicBezTo>
                  <a:pt x="907" y="296"/>
                  <a:pt x="929" y="309"/>
                  <a:pt x="939" y="323"/>
                </a:cubicBezTo>
                <a:cubicBezTo>
                  <a:pt x="949" y="337"/>
                  <a:pt x="977" y="348"/>
                  <a:pt x="977" y="361"/>
                </a:cubicBezTo>
                <a:cubicBezTo>
                  <a:pt x="977" y="374"/>
                  <a:pt x="945" y="382"/>
                  <a:pt x="939" y="399"/>
                </a:cubicBezTo>
                <a:cubicBezTo>
                  <a:pt x="933" y="416"/>
                  <a:pt x="938" y="445"/>
                  <a:pt x="942" y="461"/>
                </a:cubicBezTo>
                <a:cubicBezTo>
                  <a:pt x="946" y="477"/>
                  <a:pt x="956" y="478"/>
                  <a:pt x="965" y="493"/>
                </a:cubicBezTo>
                <a:cubicBezTo>
                  <a:pt x="974" y="508"/>
                  <a:pt x="984" y="540"/>
                  <a:pt x="997" y="554"/>
                </a:cubicBezTo>
                <a:cubicBezTo>
                  <a:pt x="1010" y="568"/>
                  <a:pt x="1037" y="559"/>
                  <a:pt x="1044" y="580"/>
                </a:cubicBezTo>
                <a:cubicBezTo>
                  <a:pt x="1051" y="601"/>
                  <a:pt x="1047" y="655"/>
                  <a:pt x="1041" y="683"/>
                </a:cubicBezTo>
                <a:cubicBezTo>
                  <a:pt x="1035" y="711"/>
                  <a:pt x="1015" y="729"/>
                  <a:pt x="1006" y="750"/>
                </a:cubicBezTo>
                <a:lnTo>
                  <a:pt x="986" y="811"/>
                </a:lnTo>
                <a:cubicBezTo>
                  <a:pt x="964" y="823"/>
                  <a:pt x="911" y="821"/>
                  <a:pt x="872" y="823"/>
                </a:cubicBezTo>
                <a:cubicBezTo>
                  <a:pt x="833" y="825"/>
                  <a:pt x="783" y="807"/>
                  <a:pt x="749" y="823"/>
                </a:cubicBezTo>
                <a:cubicBezTo>
                  <a:pt x="715" y="839"/>
                  <a:pt x="692" y="897"/>
                  <a:pt x="670" y="920"/>
                </a:cubicBezTo>
                <a:cubicBezTo>
                  <a:pt x="648" y="943"/>
                  <a:pt x="656" y="954"/>
                  <a:pt x="617" y="961"/>
                </a:cubicBezTo>
                <a:cubicBezTo>
                  <a:pt x="578" y="968"/>
                  <a:pt x="470" y="971"/>
                  <a:pt x="433" y="963"/>
                </a:cubicBezTo>
                <a:lnTo>
                  <a:pt x="396" y="914"/>
                </a:lnTo>
                <a:cubicBezTo>
                  <a:pt x="366" y="892"/>
                  <a:pt x="288" y="845"/>
                  <a:pt x="250" y="828"/>
                </a:cubicBezTo>
                <a:cubicBezTo>
                  <a:pt x="212" y="811"/>
                  <a:pt x="208" y="825"/>
                  <a:pt x="166" y="812"/>
                </a:cubicBezTo>
                <a:cubicBezTo>
                  <a:pt x="124" y="799"/>
                  <a:pt x="35" y="763"/>
                  <a:pt x="0" y="750"/>
                </a:cubicBezTo>
                <a:close/>
              </a:path>
            </a:pathLst>
          </a:custGeom>
          <a:solidFill>
            <a:srgbClr val="ad5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605560" y="814320"/>
            <a:ext cx="3085920" cy="1865520"/>
          </a:xfrm>
          <a:custGeom>
            <a:avLst/>
            <a:gdLst/>
            <a:ahLst/>
            <a:rect l="l" t="t" r="r" b="b"/>
            <a:pathLst>
              <a:path w="1944" h="1175">
                <a:moveTo>
                  <a:pt x="0" y="15"/>
                </a:moveTo>
                <a:cubicBezTo>
                  <a:pt x="5" y="55"/>
                  <a:pt x="30" y="190"/>
                  <a:pt x="48" y="261"/>
                </a:cubicBezTo>
                <a:cubicBezTo>
                  <a:pt x="66" y="332"/>
                  <a:pt x="91" y="394"/>
                  <a:pt x="109" y="439"/>
                </a:cubicBezTo>
                <a:cubicBezTo>
                  <a:pt x="127" y="484"/>
                  <a:pt x="133" y="496"/>
                  <a:pt x="156" y="531"/>
                </a:cubicBezTo>
                <a:lnTo>
                  <a:pt x="249" y="651"/>
                </a:lnTo>
                <a:cubicBezTo>
                  <a:pt x="278" y="684"/>
                  <a:pt x="301" y="702"/>
                  <a:pt x="332" y="731"/>
                </a:cubicBezTo>
                <a:cubicBezTo>
                  <a:pt x="363" y="760"/>
                  <a:pt x="404" y="798"/>
                  <a:pt x="438" y="825"/>
                </a:cubicBezTo>
                <a:cubicBezTo>
                  <a:pt x="472" y="852"/>
                  <a:pt x="495" y="865"/>
                  <a:pt x="537" y="891"/>
                </a:cubicBezTo>
                <a:cubicBezTo>
                  <a:pt x="579" y="917"/>
                  <a:pt x="610" y="946"/>
                  <a:pt x="690" y="981"/>
                </a:cubicBezTo>
                <a:cubicBezTo>
                  <a:pt x="770" y="1016"/>
                  <a:pt x="931" y="1075"/>
                  <a:pt x="1020" y="1104"/>
                </a:cubicBezTo>
                <a:cubicBezTo>
                  <a:pt x="1109" y="1133"/>
                  <a:pt x="1155" y="1147"/>
                  <a:pt x="1224" y="1158"/>
                </a:cubicBezTo>
                <a:cubicBezTo>
                  <a:pt x="1293" y="1169"/>
                  <a:pt x="1359" y="1175"/>
                  <a:pt x="1437" y="1173"/>
                </a:cubicBezTo>
                <a:lnTo>
                  <a:pt x="1692" y="1146"/>
                </a:lnTo>
                <a:cubicBezTo>
                  <a:pt x="1776" y="1138"/>
                  <a:pt x="1909" y="1137"/>
                  <a:pt x="1944" y="1125"/>
                </a:cubicBezTo>
                <a:lnTo>
                  <a:pt x="1899" y="1074"/>
                </a:lnTo>
                <a:cubicBezTo>
                  <a:pt x="1878" y="1067"/>
                  <a:pt x="1838" y="1086"/>
                  <a:pt x="1818" y="1083"/>
                </a:cubicBezTo>
                <a:cubicBezTo>
                  <a:pt x="1798" y="1080"/>
                  <a:pt x="1794" y="1059"/>
                  <a:pt x="1779" y="1056"/>
                </a:cubicBezTo>
                <a:cubicBezTo>
                  <a:pt x="1764" y="1053"/>
                  <a:pt x="1753" y="1073"/>
                  <a:pt x="1725" y="1065"/>
                </a:cubicBezTo>
                <a:cubicBezTo>
                  <a:pt x="1697" y="1057"/>
                  <a:pt x="1639" y="1020"/>
                  <a:pt x="1611" y="1011"/>
                </a:cubicBezTo>
                <a:cubicBezTo>
                  <a:pt x="1583" y="1002"/>
                  <a:pt x="1572" y="1017"/>
                  <a:pt x="1554" y="1011"/>
                </a:cubicBezTo>
                <a:cubicBezTo>
                  <a:pt x="1536" y="1005"/>
                  <a:pt x="1515" y="973"/>
                  <a:pt x="1503" y="975"/>
                </a:cubicBezTo>
                <a:cubicBezTo>
                  <a:pt x="1491" y="977"/>
                  <a:pt x="1490" y="1015"/>
                  <a:pt x="1479" y="1023"/>
                </a:cubicBezTo>
                <a:cubicBezTo>
                  <a:pt x="1468" y="1031"/>
                  <a:pt x="1463" y="1036"/>
                  <a:pt x="1437" y="1026"/>
                </a:cubicBezTo>
                <a:cubicBezTo>
                  <a:pt x="1411" y="1016"/>
                  <a:pt x="1346" y="984"/>
                  <a:pt x="1320" y="960"/>
                </a:cubicBezTo>
                <a:cubicBezTo>
                  <a:pt x="1294" y="936"/>
                  <a:pt x="1293" y="895"/>
                  <a:pt x="1281" y="879"/>
                </a:cubicBezTo>
                <a:lnTo>
                  <a:pt x="1245" y="861"/>
                </a:lnTo>
                <a:lnTo>
                  <a:pt x="1218" y="819"/>
                </a:lnTo>
                <a:cubicBezTo>
                  <a:pt x="1195" y="825"/>
                  <a:pt x="1138" y="884"/>
                  <a:pt x="1107" y="897"/>
                </a:cubicBezTo>
                <a:cubicBezTo>
                  <a:pt x="1076" y="910"/>
                  <a:pt x="1053" y="892"/>
                  <a:pt x="1032" y="900"/>
                </a:cubicBezTo>
                <a:cubicBezTo>
                  <a:pt x="1011" y="908"/>
                  <a:pt x="1002" y="942"/>
                  <a:pt x="981" y="945"/>
                </a:cubicBezTo>
                <a:cubicBezTo>
                  <a:pt x="960" y="948"/>
                  <a:pt x="925" y="929"/>
                  <a:pt x="903" y="921"/>
                </a:cubicBezTo>
                <a:cubicBezTo>
                  <a:pt x="881" y="913"/>
                  <a:pt x="865" y="904"/>
                  <a:pt x="852" y="894"/>
                </a:cubicBezTo>
                <a:cubicBezTo>
                  <a:pt x="839" y="884"/>
                  <a:pt x="843" y="863"/>
                  <a:pt x="825" y="861"/>
                </a:cubicBezTo>
                <a:cubicBezTo>
                  <a:pt x="807" y="859"/>
                  <a:pt x="769" y="872"/>
                  <a:pt x="744" y="879"/>
                </a:cubicBezTo>
                <a:cubicBezTo>
                  <a:pt x="719" y="886"/>
                  <a:pt x="697" y="919"/>
                  <a:pt x="672" y="903"/>
                </a:cubicBezTo>
                <a:cubicBezTo>
                  <a:pt x="647" y="887"/>
                  <a:pt x="601" y="815"/>
                  <a:pt x="591" y="783"/>
                </a:cubicBezTo>
                <a:cubicBezTo>
                  <a:pt x="581" y="751"/>
                  <a:pt x="617" y="733"/>
                  <a:pt x="612" y="711"/>
                </a:cubicBezTo>
                <a:cubicBezTo>
                  <a:pt x="607" y="689"/>
                  <a:pt x="571" y="671"/>
                  <a:pt x="561" y="651"/>
                </a:cubicBezTo>
                <a:cubicBezTo>
                  <a:pt x="551" y="631"/>
                  <a:pt x="561" y="606"/>
                  <a:pt x="549" y="591"/>
                </a:cubicBezTo>
                <a:cubicBezTo>
                  <a:pt x="537" y="576"/>
                  <a:pt x="505" y="575"/>
                  <a:pt x="492" y="561"/>
                </a:cubicBezTo>
                <a:cubicBezTo>
                  <a:pt x="479" y="547"/>
                  <a:pt x="484" y="511"/>
                  <a:pt x="468" y="507"/>
                </a:cubicBezTo>
                <a:cubicBezTo>
                  <a:pt x="452" y="503"/>
                  <a:pt x="432" y="535"/>
                  <a:pt x="393" y="534"/>
                </a:cubicBezTo>
                <a:cubicBezTo>
                  <a:pt x="354" y="533"/>
                  <a:pt x="259" y="523"/>
                  <a:pt x="231" y="501"/>
                </a:cubicBezTo>
                <a:cubicBezTo>
                  <a:pt x="203" y="479"/>
                  <a:pt x="229" y="435"/>
                  <a:pt x="222" y="402"/>
                </a:cubicBezTo>
                <a:cubicBezTo>
                  <a:pt x="215" y="369"/>
                  <a:pt x="183" y="326"/>
                  <a:pt x="186" y="300"/>
                </a:cubicBezTo>
                <a:cubicBezTo>
                  <a:pt x="189" y="274"/>
                  <a:pt x="251" y="270"/>
                  <a:pt x="243" y="243"/>
                </a:cubicBezTo>
                <a:cubicBezTo>
                  <a:pt x="235" y="216"/>
                  <a:pt x="156" y="168"/>
                  <a:pt x="141" y="138"/>
                </a:cubicBezTo>
                <a:cubicBezTo>
                  <a:pt x="126" y="108"/>
                  <a:pt x="155" y="78"/>
                  <a:pt x="150" y="63"/>
                </a:cubicBezTo>
                <a:cubicBezTo>
                  <a:pt x="145" y="48"/>
                  <a:pt x="117" y="58"/>
                  <a:pt x="108" y="48"/>
                </a:cubicBezTo>
                <a:cubicBezTo>
                  <a:pt x="99" y="38"/>
                  <a:pt x="111" y="5"/>
                  <a:pt x="96" y="0"/>
                </a:cubicBezTo>
                <a:lnTo>
                  <a:pt x="18" y="21"/>
                </a:lnTo>
                <a:lnTo>
                  <a:pt x="0" y="15"/>
                </a:ln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31840" y="2819520"/>
            <a:ext cx="1805040" cy="1119240"/>
            <a:chOff x="231840" y="2819520"/>
            <a:chExt cx="1805040" cy="1119240"/>
          </a:xfrm>
        </p:grpSpPr>
        <p:sp>
          <p:nvSpPr>
            <p:cNvPr id="551" name=""/>
            <p:cNvSpPr/>
            <p:nvPr/>
          </p:nvSpPr>
          <p:spPr>
            <a:xfrm>
              <a:off x="380880" y="2819520"/>
              <a:ext cx="1656000" cy="1106280"/>
            </a:xfrm>
            <a:custGeom>
              <a:avLst/>
              <a:gdLst/>
              <a:ahLst/>
              <a:rect l="l" t="t" r="r" b="b"/>
              <a:pathLst>
                <a:path w="1043" h="697">
                  <a:moveTo>
                    <a:pt x="0" y="0"/>
                  </a:moveTo>
                  <a:cubicBezTo>
                    <a:pt x="74" y="46"/>
                    <a:pt x="346" y="211"/>
                    <a:pt x="444" y="275"/>
                  </a:cubicBezTo>
                  <a:cubicBezTo>
                    <a:pt x="542" y="339"/>
                    <a:pt x="489" y="312"/>
                    <a:pt x="589" y="382"/>
                  </a:cubicBezTo>
                  <a:cubicBezTo>
                    <a:pt x="689" y="452"/>
                    <a:pt x="948" y="631"/>
                    <a:pt x="1043" y="697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1840" y="3170160"/>
              <a:ext cx="841320" cy="768600"/>
            </a:xfrm>
            <a:custGeom>
              <a:avLst/>
              <a:gdLst/>
              <a:ahLst/>
              <a:rect l="l" t="t" r="r" b="b"/>
              <a:pathLst>
                <a:path w="530" h="484">
                  <a:moveTo>
                    <a:pt x="0" y="0"/>
                  </a:moveTo>
                  <a:cubicBezTo>
                    <a:pt x="45" y="31"/>
                    <a:pt x="181" y="103"/>
                    <a:pt x="269" y="184"/>
                  </a:cubicBezTo>
                  <a:cubicBezTo>
                    <a:pt x="357" y="265"/>
                    <a:pt x="486" y="434"/>
                    <a:pt x="530" y="48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8380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Калу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3080" y="2489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теб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334120"/>
            <a:ext cx="304920" cy="3045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924680" y="2971800"/>
            <a:ext cx="304920" cy="3049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600200" y="3505320"/>
            <a:ext cx="304920" cy="304560"/>
            <a:chOff x="1600200" y="3505320"/>
            <a:chExt cx="304920" cy="304560"/>
          </a:xfrm>
        </p:grpSpPr>
        <p:sp>
          <p:nvSpPr>
            <p:cNvPr id="558" name=""/>
            <p:cNvSpPr/>
            <p:nvPr/>
          </p:nvSpPr>
          <p:spPr>
            <a:xfrm>
              <a:off x="1600200" y="3505320"/>
              <a:ext cx="304920" cy="304560"/>
            </a:xfrm>
            <a:prstGeom prst="cube">
              <a:avLst>
                <a:gd name="adj" fmla="val 27083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00200" y="3571920"/>
              <a:ext cx="228600" cy="237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543800" y="3200400"/>
            <a:ext cx="304920" cy="3049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3733920"/>
            <a:ext cx="304560" cy="3045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4114800"/>
            <a:ext cx="2286000" cy="380880"/>
            <a:chOff x="228600" y="4114800"/>
            <a:chExt cx="2286000" cy="380880"/>
          </a:xfrm>
        </p:grpSpPr>
        <p:sp>
          <p:nvSpPr>
            <p:cNvPr id="563" name=""/>
            <p:cNvSpPr/>
            <p:nvPr/>
          </p:nvSpPr>
          <p:spPr>
            <a:xfrm>
              <a:off x="533520" y="4114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- кухонна сі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" y="4191120"/>
              <a:ext cx="304920" cy="30456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28600" y="4572000"/>
            <a:ext cx="1980720" cy="368280"/>
            <a:chOff x="228600" y="4572000"/>
            <a:chExt cx="1980720" cy="368280"/>
          </a:xfrm>
        </p:grpSpPr>
        <p:sp>
          <p:nvSpPr>
            <p:cNvPr id="566" name=""/>
            <p:cNvSpPr/>
            <p:nvPr/>
          </p:nvSpPr>
          <p:spPr>
            <a:xfrm>
              <a:off x="533160" y="45720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- калійні солі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228600" y="4572000"/>
              <a:ext cx="304560" cy="304920"/>
              <a:chOff x="228600" y="4572000"/>
              <a:chExt cx="304560" cy="304920"/>
            </a:xfrm>
          </p:grpSpPr>
          <p:sp>
            <p:nvSpPr>
              <p:cNvPr id="568" name=""/>
              <p:cNvSpPr/>
              <p:nvPr/>
            </p:nvSpPr>
            <p:spPr>
              <a:xfrm>
                <a:off x="228600" y="4572000"/>
                <a:ext cx="304560" cy="304920"/>
              </a:xfrm>
              <a:prstGeom prst="cube">
                <a:avLst>
                  <a:gd name="adj" fmla="val 27083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8600" y="4638600"/>
                <a:ext cx="228240" cy="238320"/>
              </a:xfrm>
              <a:prstGeom prst="rect">
                <a:avLst/>
              </a:prstGeom>
              <a:solidFill>
                <a:srgbClr val="ff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"/>
          <p:cNvGrpSpPr/>
          <p:nvPr/>
        </p:nvGrpSpPr>
        <p:grpSpPr>
          <a:xfrm>
            <a:off x="685800" y="2819520"/>
            <a:ext cx="304920" cy="304560"/>
            <a:chOff x="685800" y="2819520"/>
            <a:chExt cx="304920" cy="304560"/>
          </a:xfrm>
        </p:grpSpPr>
        <p:sp>
          <p:nvSpPr>
            <p:cNvPr id="571" name=""/>
            <p:cNvSpPr/>
            <p:nvPr/>
          </p:nvSpPr>
          <p:spPr>
            <a:xfrm>
              <a:off x="685800" y="2819520"/>
              <a:ext cx="304920" cy="304560"/>
            </a:xfrm>
            <a:prstGeom prst="cube">
              <a:avLst>
                <a:gd name="adj" fmla="val 27083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2886120"/>
              <a:ext cx="228600" cy="237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олотви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88200" y="5321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ива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9436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Артемівсь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2629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лов'янсь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35280" y="263700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800892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10800"/>
                </a:moveTo>
                <a:lnTo>
                  <a:pt x="17512" y="6775"/>
                </a:lnTo>
                <a:lnTo>
                  <a:pt x="17512" y="1482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75960 w 380880"/>
              <a:gd name="textAreaRight" fmla="*/ 30492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1606" y="5400"/>
                </a:lnTo>
                <a:lnTo>
                  <a:pt x="5400" y="5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1606" y="16200"/>
                </a:lnTo>
                <a:lnTo>
                  <a:pt x="21606" y="5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6" y="16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6" h="21600">
                <a:moveTo>
                  <a:pt x="9478" y="6775"/>
                </a:moveTo>
                <a:lnTo>
                  <a:pt x="17528" y="10800"/>
                </a:lnTo>
                <a:lnTo>
                  <a:pt x="9478" y="1482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>
            <a:hlinkClick r:id="rId2" action="ppaction://hlinksldjump"/>
          </p:cNvPr>
          <p:cNvSpPr/>
          <p:nvPr/>
        </p:nvSpPr>
        <p:spPr>
          <a:xfrm>
            <a:off x="8388360" y="6553080"/>
            <a:ext cx="380880" cy="304920"/>
          </a:xfrm>
          <a:custGeom>
            <a:avLst/>
            <a:gdLst>
              <a:gd name="textAreaLeft" fmla="*/ 75960 w 380880"/>
              <a:gd name="textAreaRight" fmla="*/ 304920 w 380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b5b89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67640" y="1268280"/>
            <a:ext cx="2376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CYCLE_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75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250"/>
                            </p:stCondLst>
                            <p:childTnLst>
                              <p:par>
                                <p:cTn id="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50"/>
                            </p:stCondLst>
                            <p:childTnLst>
                              <p:par>
                                <p:cTn id="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75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75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375"/>
                            </p:stCondLst>
                            <p:childTnLst>
                              <p:par>
                                <p:cTn id="1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875"/>
                            </p:stCondLst>
                            <p:childTnLst>
                              <p:par>
                                <p:cTn id="1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75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5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ICYCLE_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50"/>
                            </p:stCondLst>
                            <p:childTnLst>
                              <p:par>
                                <p:cTn id="1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75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925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425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95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95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88240" y="152280"/>
            <a:ext cx="85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бниківський калійний комбін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333040" y="34308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тока Сива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5-10-14T02:44:5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  <property fmtid="{D5CDD505-2E9C-101B-9397-08002B2CF9AE}" pid="3" name="Version">
    <vt:r8>1</vt:r8>
  </property>
</Properties>
</file>