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D66-8C98-47CE-9923-1E9943AE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603-754B-4713-AA39-A025066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D3F-AF8D-40ED-9E00-1F7F23AC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DEB-7761-4EA0-A653-22200473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D19-6AB1-434B-90EF-ABC7865A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AC-A3AB-48B6-9C8F-C459396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EB4-7B5A-4231-840E-2009DC2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184-827A-4D18-8A1C-4654A59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227-246F-4749-B791-479E7E8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E65-0A97-43C7-A5CA-F706F08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A33-72C4-461E-8A8F-92BBE7C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EDB-0A12-4CCC-84AC-249A9D1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4DE-C6BA-497D-BAF5-C0C55AD6E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3" descr=""/>
          <p:cNvPicPr/>
          <p:nvPr/>
        </p:nvPicPr>
        <p:blipFill>
          <a:blip r:embed="rId1"/>
          <a:stretch/>
        </p:blipFill>
        <p:spPr>
          <a:xfrm>
            <a:off x="-66600" y="73080"/>
            <a:ext cx="9266040" cy="15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615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рум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" descr="F:\Рисунки соли\Карбонат меди(II).jpg"/>
          <p:cNvPicPr/>
          <p:nvPr/>
        </p:nvPicPr>
        <p:blipFill>
          <a:blip r:embed="rId1"/>
          <a:stretch/>
        </p:blipFill>
        <p:spPr>
          <a:xfrm>
            <a:off x="2556000" y="1268280"/>
            <a:ext cx="5616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F:\Рисунки соли\Кристалл CuSO4_sc.JPG"/>
          <p:cNvPicPr/>
          <p:nvPr/>
        </p:nvPicPr>
        <p:blipFill>
          <a:blip r:embed="rId1"/>
          <a:stretch/>
        </p:blipFill>
        <p:spPr>
          <a:xfrm>
            <a:off x="2556000" y="1150920"/>
            <a:ext cx="5400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" descr="F:\Рисунки соли\кристалл медн куп i.jpg"/>
          <p:cNvPicPr/>
          <p:nvPr/>
        </p:nvPicPr>
        <p:blipFill>
          <a:blip r:embed="rId1"/>
          <a:stretch/>
        </p:blipFill>
        <p:spPr>
          <a:xfrm>
            <a:off x="2700360" y="1268280"/>
            <a:ext cx="547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и натрій хлори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F:\Рисунки соли\Кристаллы поваренной соли .jpg"/>
          <p:cNvPicPr/>
          <p:nvPr/>
        </p:nvPicPr>
        <p:blipFill>
          <a:blip r:embed="rId1"/>
          <a:stretch/>
        </p:blipFill>
        <p:spPr>
          <a:xfrm>
            <a:off x="2484360" y="992160"/>
            <a:ext cx="57452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F:\Рисунки соли\Марганец карбонат .jpg"/>
          <p:cNvPicPr/>
          <p:nvPr/>
        </p:nvPicPr>
        <p:blipFill>
          <a:blip r:embed="rId1"/>
          <a:stretch/>
        </p:blipFill>
        <p:spPr>
          <a:xfrm>
            <a:off x="2627280" y="1197000"/>
            <a:ext cx="568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ідний купо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F:\Рисунки соли\Медный купорос -CuSO4_5H2O.jpg"/>
          <p:cNvPicPr/>
          <p:nvPr/>
        </p:nvPicPr>
        <p:blipFill>
          <a:blip r:embed="rId1"/>
          <a:stretch/>
        </p:blipFill>
        <p:spPr>
          <a:xfrm>
            <a:off x="2700360" y="105264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ентум сульфі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F:\Рисунки соли\Серебра сульфид .PNG"/>
          <p:cNvPicPr/>
          <p:nvPr/>
        </p:nvPicPr>
        <p:blipFill>
          <a:blip r:embed="rId1"/>
          <a:stretch/>
        </p:blipFill>
        <p:spPr>
          <a:xfrm>
            <a:off x="2195640" y="1182600"/>
            <a:ext cx="5981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е озе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F:\Рисунки соли\Соляное озеро  .jpg"/>
          <p:cNvPicPr/>
          <p:nvPr/>
        </p:nvPicPr>
        <p:blipFill>
          <a:blip r:embed="rId1"/>
          <a:stretch/>
        </p:blipFill>
        <p:spPr>
          <a:xfrm>
            <a:off x="2556000" y="126828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Рисунки соли\Соль r.jpg"/>
          <p:cNvPicPr/>
          <p:nvPr/>
        </p:nvPicPr>
        <p:blipFill>
          <a:blip r:embed="rId1"/>
          <a:stretch/>
        </p:blipFill>
        <p:spPr>
          <a:xfrm>
            <a:off x="2556000" y="1197000"/>
            <a:ext cx="5825880" cy="51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флу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ій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2" descr="F:\Рисунки соли\Соль Бария r.png"/>
          <p:cNvPicPr/>
          <p:nvPr/>
        </p:nvPicPr>
        <p:blipFill>
          <a:blip r:embed="rId1"/>
          <a:stretch/>
        </p:blipFill>
        <p:spPr>
          <a:xfrm>
            <a:off x="2484360" y="981000"/>
            <a:ext cx="5695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основ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F:\Рисунки соли\Сультфат марганца(II).jpg"/>
          <p:cNvPicPr/>
          <p:nvPr/>
        </p:nvPicPr>
        <p:blipFill>
          <a:blip r:embed="rId1"/>
          <a:stretch/>
        </p:blipFill>
        <p:spPr>
          <a:xfrm>
            <a:off x="2593800" y="1052640"/>
            <a:ext cx="5545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(ІІ)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F:\Рисунки соли\Сульфат железа(II).jpg"/>
          <p:cNvPicPr/>
          <p:nvPr/>
        </p:nvPicPr>
        <p:blipFill>
          <a:blip r:embed="rId1"/>
          <a:stretch/>
        </p:blipFill>
        <p:spPr>
          <a:xfrm>
            <a:off x="2627280" y="1133640"/>
            <a:ext cx="54738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а шах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F:\Рисунки соли\Шахта соляная .jpg"/>
          <p:cNvPicPr/>
          <p:nvPr/>
        </p:nvPicPr>
        <p:blipFill>
          <a:blip r:embed="rId1"/>
          <a:stretch/>
        </p:blipFill>
        <p:spPr>
          <a:xfrm>
            <a:off x="2627280" y="1052640"/>
            <a:ext cx="540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Рисунки соли\Таблица растворимостей 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5640" y="2060640"/>
          <a:ext cx="6311880" cy="3457440"/>
        </p:xfrm>
        <a:graphic>
          <a:graphicData uri="http://schemas.openxmlformats.org/drawingml/2006/table">
            <a:tbl>
              <a:tblPr/>
              <a:tblGrid>
                <a:gridCol w="2104920"/>
                <a:gridCol w="2103480"/>
                <a:gridCol w="21034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кислот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двохосновних кисл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іла ворона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a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Cl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N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 O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Br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n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g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ізхвилинка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, ой солі, ви солі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ладні речовини ви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инні метали містити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залишки в складі теж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 – добрива, ліки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сода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окна й глюкоза в вас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 , ой солі , ви сол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 вивчимо добре вас вс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об знати – несете ви користь,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 шкоду на нашій Землі?</a:t>
            </a:r>
            <a:r>
              <a:rPr b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 складання формули сол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79280" y="1341000"/>
            <a:ext cx="670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суємо символи металу і кислотного зали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 символом металу і кислотним залишком позначаємо валент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одиниць валентності металу і кислотного залишку знаходимо найменше спільне крат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ілення спільного кратного на валентності металу і кислотного залишку знаходимо індек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йдені індекси записуємо у формулу со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юміній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561636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2" descr="F:\Рисунки соли\железа хлорид .jpg"/>
          <p:cNvPicPr/>
          <p:nvPr/>
        </p:nvPicPr>
        <p:blipFill>
          <a:blip r:embed="rId1"/>
          <a:stretch/>
        </p:blipFill>
        <p:spPr>
          <a:xfrm>
            <a:off x="2627280" y="1362240"/>
            <a:ext cx="554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user01</cp:lastModifiedBy>
  <dcterms:modified xsi:type="dcterms:W3CDTF">2012-11-20T13:59:14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2000000000001024140</vt:lpwstr>
  </property>
</Properties>
</file>