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3C4-75E3-4AFE-B56D-888A5BB6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51A-D385-4004-9E27-91F3A488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175-4A56-4765-B308-FA10A698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7B7-3744-455D-A6D4-02A8C7FB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A8D-8BCD-41A9-95F6-3B817DBB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ABD-C76B-4066-8B69-A4F35B66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28D-BB58-46EA-AAA9-D569552C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A950-05A4-44B5-981B-026A8EEF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9CE-4513-4ADB-9BDB-915C5828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015-1788-4A4B-A132-C90A0AEA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908-E6BD-4A95-9E41-9903C708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28A-B81F-4ADD-AFED-DFD3807B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DB1C-A264-4532-8CDB-77E92B26B9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кутник 3" descr=""/>
          <p:cNvPicPr/>
          <p:nvPr/>
        </p:nvPicPr>
        <p:blipFill>
          <a:blip r:embed="rId1"/>
          <a:stretch/>
        </p:blipFill>
        <p:spPr>
          <a:xfrm>
            <a:off x="-66600" y="73080"/>
            <a:ext cx="9266040" cy="1530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987640" y="1413000"/>
            <a:ext cx="6156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прум карбон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8" name="Picture 2" descr="F:\Рисунки соли\Карбонат меди(II).jpg"/>
          <p:cNvPicPr/>
          <p:nvPr/>
        </p:nvPicPr>
        <p:blipFill>
          <a:blip r:embed="rId1"/>
          <a:stretch/>
        </p:blipFill>
        <p:spPr>
          <a:xfrm>
            <a:off x="2556000" y="1268280"/>
            <a:ext cx="5616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стал купрум сульфа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0" name="Picture 2" descr="F:\Рисунки соли\Кристалл CuSO4_sc.JPG"/>
          <p:cNvPicPr/>
          <p:nvPr/>
        </p:nvPicPr>
        <p:blipFill>
          <a:blip r:embed="rId1"/>
          <a:stretch/>
        </p:blipFill>
        <p:spPr>
          <a:xfrm>
            <a:off x="2556000" y="1150920"/>
            <a:ext cx="540072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стал купрум сульфа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2" name="Picture 2" descr="F:\Рисунки соли\кристалл медн куп i.jpg"/>
          <p:cNvPicPr/>
          <p:nvPr/>
        </p:nvPicPr>
        <p:blipFill>
          <a:blip r:embed="rId1"/>
          <a:stretch/>
        </p:blipFill>
        <p:spPr>
          <a:xfrm>
            <a:off x="2700360" y="1268280"/>
            <a:ext cx="5472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стали натрій хлори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F:\Рисунки соли\Кристаллы поваренной соли .jpg"/>
          <p:cNvPicPr/>
          <p:nvPr/>
        </p:nvPicPr>
        <p:blipFill>
          <a:blip r:embed="rId1"/>
          <a:stretch/>
        </p:blipFill>
        <p:spPr>
          <a:xfrm>
            <a:off x="2484360" y="992160"/>
            <a:ext cx="57452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нган карбон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" descr="F:\Рисунки соли\Марганец карбонат .jpg"/>
          <p:cNvPicPr/>
          <p:nvPr/>
        </p:nvPicPr>
        <p:blipFill>
          <a:blip r:embed="rId1"/>
          <a:stretch/>
        </p:blipFill>
        <p:spPr>
          <a:xfrm>
            <a:off x="2627280" y="1197000"/>
            <a:ext cx="56898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ідний купо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8" name="Picture 2" descr="F:\Рисунки соли\Медный купорос -CuSO4_5H2O.jpg"/>
          <p:cNvPicPr/>
          <p:nvPr/>
        </p:nvPicPr>
        <p:blipFill>
          <a:blip r:embed="rId1"/>
          <a:stretch/>
        </p:blipFill>
        <p:spPr>
          <a:xfrm>
            <a:off x="2700360" y="1052640"/>
            <a:ext cx="5857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гентум сульфі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2" descr="F:\Рисунки соли\Серебра сульфид .PNG"/>
          <p:cNvPicPr/>
          <p:nvPr/>
        </p:nvPicPr>
        <p:blipFill>
          <a:blip r:embed="rId1"/>
          <a:stretch/>
        </p:blipFill>
        <p:spPr>
          <a:xfrm>
            <a:off x="2195640" y="1182600"/>
            <a:ext cx="59814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яне озе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2" descr="F:\Рисунки соли\Соляное озеро  .jpg"/>
          <p:cNvPicPr/>
          <p:nvPr/>
        </p:nvPicPr>
        <p:blipFill>
          <a:blip r:embed="rId1"/>
          <a:stretch/>
        </p:blipFill>
        <p:spPr>
          <a:xfrm>
            <a:off x="2556000" y="1268280"/>
            <a:ext cx="5545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:\Рисунки соли\Соль r.jpg"/>
          <p:cNvPicPr/>
          <p:nvPr/>
        </p:nvPicPr>
        <p:blipFill>
          <a:blip r:embed="rId1"/>
          <a:stretch/>
        </p:blipFill>
        <p:spPr>
          <a:xfrm>
            <a:off x="2556000" y="1197000"/>
            <a:ext cx="5825880" cy="518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нган флуор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рій сульф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2" descr="F:\Рисунки соли\Соль Бария r.png"/>
          <p:cNvPicPr/>
          <p:nvPr/>
        </p:nvPicPr>
        <p:blipFill>
          <a:blip r:embed="rId1"/>
          <a:stretch/>
        </p:blipFill>
        <p:spPr>
          <a:xfrm>
            <a:off x="2484360" y="981000"/>
            <a:ext cx="56959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195640" y="2060640"/>
          <a:ext cx="6311880" cy="3456000"/>
        </p:xfrm>
        <a:graphic>
          <a:graphicData uri="http://schemas.openxmlformats.org/drawingml/2006/table">
            <a:tbl>
              <a:tblPr/>
              <a:tblGrid>
                <a:gridCol w="2103480"/>
                <a:gridCol w="2104920"/>
                <a:gridCol w="2103480"/>
              </a:tblGrid>
              <a:tr h="11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грашний шлях – формули основних оксиді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нган сульф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8" name="Picture 2" descr="F:\Рисунки соли\Сультфат марганца(II).jpg"/>
          <p:cNvPicPr/>
          <p:nvPr/>
        </p:nvPicPr>
        <p:blipFill>
          <a:blip r:embed="rId1"/>
          <a:stretch/>
        </p:blipFill>
        <p:spPr>
          <a:xfrm>
            <a:off x="2593800" y="1052640"/>
            <a:ext cx="554544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рум (ІІ) сульф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2" descr="F:\Рисунки соли\Сульфат железа(II).jpg"/>
          <p:cNvPicPr/>
          <p:nvPr/>
        </p:nvPicPr>
        <p:blipFill>
          <a:blip r:embed="rId1"/>
          <a:stretch/>
        </p:blipFill>
        <p:spPr>
          <a:xfrm>
            <a:off x="2627280" y="1133640"/>
            <a:ext cx="54738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яна шах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82" name="Picture 2" descr="F:\Рисунки соли\Шахта соляная .jpg"/>
          <p:cNvPicPr/>
          <p:nvPr/>
        </p:nvPicPr>
        <p:blipFill>
          <a:blip r:embed="rId1"/>
          <a:stretch/>
        </p:blipFill>
        <p:spPr>
          <a:xfrm>
            <a:off x="2627280" y="1052640"/>
            <a:ext cx="5400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:\Рисунки соли\Таблица растворимостей 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195640" y="2060640"/>
          <a:ext cx="6311880" cy="3457440"/>
        </p:xfrm>
        <a:graphic>
          <a:graphicData uri="http://schemas.openxmlformats.org/drawingml/2006/table">
            <a:tbl>
              <a:tblPr/>
              <a:tblGrid>
                <a:gridCol w="2104920"/>
                <a:gridCol w="2103480"/>
                <a:gridCol w="210348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грашний шлях – формули кислотних оксиді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195640" y="2060640"/>
          <a:ext cx="6311880" cy="3456000"/>
        </p:xfrm>
        <a:graphic>
          <a:graphicData uri="http://schemas.openxmlformats.org/drawingml/2006/table">
            <a:tbl>
              <a:tblPr/>
              <a:tblGrid>
                <a:gridCol w="2103480"/>
                <a:gridCol w="2104920"/>
                <a:gridCol w="2103480"/>
              </a:tblGrid>
              <a:tr h="11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грашний шлях – формули двохосновних кисло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іла ворона»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a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 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Cl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 O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N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 O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Br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n O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gO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092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Фізхвилинка 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лі, ой солі, ви солі 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ладні речовини ви є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инні метали містити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І залишки в складі теж є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 – добрива, ліки 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і сода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локна й глюкоза в вас є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лі , ой солі , ви солі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 вивчимо добре вас всі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Щоб знати – несете ви користь,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и шкоду на нашій Землі?</a:t>
            </a:r>
            <a:r>
              <a:rPr b="1" lang="uk-UA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лгоритм складання формули солі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79280" y="1341000"/>
            <a:ext cx="6707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писуємо символи металу і кислотного залиш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д символом металу і кислотним залишком позначаємо валентні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одиниць валентності металу і кислотного залишку знаходимо найменше спільне крат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ілення спільного кратного на валентності металу і кислотного залишку знаходимо індек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найдені індекси записуємо у формулу сол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юміній хлор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561636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рум хлор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6" name="Picture 2" descr="F:\Рисунки соли\железа хлорид .jpg"/>
          <p:cNvPicPr/>
          <p:nvPr/>
        </p:nvPicPr>
        <p:blipFill>
          <a:blip r:embed="rId1"/>
          <a:stretch/>
        </p:blipFill>
        <p:spPr>
          <a:xfrm>
            <a:off x="2627280" y="1362240"/>
            <a:ext cx="55450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6:10:27Z</dcterms:created>
  <dc:creator>Катенок</dc:creator>
  <dc:description/>
  <dc:language>en-US</dc:language>
  <cp:lastModifiedBy>user01</cp:lastModifiedBy>
  <dcterms:modified xsi:type="dcterms:W3CDTF">2012-11-20T13:59:14Z</dcterms:modified>
  <cp:revision>1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12000000000001024140</vt:lpwstr>
  </property>
</Properties>
</file>