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98A-9B5C-474F-A808-A2CDADC9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244-27B5-40E8-890B-7C62817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D47-574D-4482-AA3E-8FBF5F87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C75-FF81-4C3E-A18C-8DF7288E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AE8-8326-4D55-956B-1091DB36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AC1-3C11-45BA-8A98-4AA0E69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A9F-2DBE-444A-A53C-56ADC120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5CD-F08D-4E61-9850-1C0F8FB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752-249C-460E-B124-946173D0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D90-2B3E-4419-90FE-0E81255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CD7-44D8-49B4-AC3D-9E5DEFE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0FA-BD2E-4318-8AA3-2768AF0D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3E9-49F7-4126-B7D2-BCE0F156B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3" descr=""/>
          <p:cNvPicPr/>
          <p:nvPr/>
        </p:nvPicPr>
        <p:blipFill>
          <a:blip r:embed="rId1"/>
          <a:stretch/>
        </p:blipFill>
        <p:spPr>
          <a:xfrm>
            <a:off x="-66600" y="73080"/>
            <a:ext cx="9266040" cy="153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615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рум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" descr="F:\Рисунки соли\Карбонат меди(II).jpg"/>
          <p:cNvPicPr/>
          <p:nvPr/>
        </p:nvPicPr>
        <p:blipFill>
          <a:blip r:embed="rId1"/>
          <a:stretch/>
        </p:blipFill>
        <p:spPr>
          <a:xfrm>
            <a:off x="2556000" y="1268280"/>
            <a:ext cx="5616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2" descr="F:\Рисунки соли\Кристалл CuSO4_sc.JPG"/>
          <p:cNvPicPr/>
          <p:nvPr/>
        </p:nvPicPr>
        <p:blipFill>
          <a:blip r:embed="rId1"/>
          <a:stretch/>
        </p:blipFill>
        <p:spPr>
          <a:xfrm>
            <a:off x="2556000" y="1150920"/>
            <a:ext cx="540072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" descr="F:\Рисунки соли\кристалл медн куп i.jpg"/>
          <p:cNvPicPr/>
          <p:nvPr/>
        </p:nvPicPr>
        <p:blipFill>
          <a:blip r:embed="rId1"/>
          <a:stretch/>
        </p:blipFill>
        <p:spPr>
          <a:xfrm>
            <a:off x="2700360" y="1268280"/>
            <a:ext cx="547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и натрій хлори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F:\Рисунки соли\Кристаллы поваренной соли .jpg"/>
          <p:cNvPicPr/>
          <p:nvPr/>
        </p:nvPicPr>
        <p:blipFill>
          <a:blip r:embed="rId1"/>
          <a:stretch/>
        </p:blipFill>
        <p:spPr>
          <a:xfrm>
            <a:off x="2484360" y="992160"/>
            <a:ext cx="57452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F:\Рисунки соли\Марганец карбонат .jpg"/>
          <p:cNvPicPr/>
          <p:nvPr/>
        </p:nvPicPr>
        <p:blipFill>
          <a:blip r:embed="rId1"/>
          <a:stretch/>
        </p:blipFill>
        <p:spPr>
          <a:xfrm>
            <a:off x="2627280" y="1197000"/>
            <a:ext cx="5689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ідний купо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F:\Рисунки соли\Медный купорос -CuSO4_5H2O.jpg"/>
          <p:cNvPicPr/>
          <p:nvPr/>
        </p:nvPicPr>
        <p:blipFill>
          <a:blip r:embed="rId1"/>
          <a:stretch/>
        </p:blipFill>
        <p:spPr>
          <a:xfrm>
            <a:off x="2700360" y="105264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гентум сульфі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F:\Рисунки соли\Серебра сульфид .PNG"/>
          <p:cNvPicPr/>
          <p:nvPr/>
        </p:nvPicPr>
        <p:blipFill>
          <a:blip r:embed="rId1"/>
          <a:stretch/>
        </p:blipFill>
        <p:spPr>
          <a:xfrm>
            <a:off x="2195640" y="1182600"/>
            <a:ext cx="5981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е озе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F:\Рисунки соли\Соляное озеро  .jpg"/>
          <p:cNvPicPr/>
          <p:nvPr/>
        </p:nvPicPr>
        <p:blipFill>
          <a:blip r:embed="rId1"/>
          <a:stretch/>
        </p:blipFill>
        <p:spPr>
          <a:xfrm>
            <a:off x="2556000" y="126828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Рисунки соли\Соль r.jpg"/>
          <p:cNvPicPr/>
          <p:nvPr/>
        </p:nvPicPr>
        <p:blipFill>
          <a:blip r:embed="rId1"/>
          <a:stretch/>
        </p:blipFill>
        <p:spPr>
          <a:xfrm>
            <a:off x="2556000" y="1197000"/>
            <a:ext cx="5825880" cy="51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флу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ій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2" descr="F:\Рисунки соли\Соль Бария r.png"/>
          <p:cNvPicPr/>
          <p:nvPr/>
        </p:nvPicPr>
        <p:blipFill>
          <a:blip r:embed="rId1"/>
          <a:stretch/>
        </p:blipFill>
        <p:spPr>
          <a:xfrm>
            <a:off x="2484360" y="981000"/>
            <a:ext cx="5695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основ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2" descr="F:\Рисунки соли\Сультфат марганца(II).jpg"/>
          <p:cNvPicPr/>
          <p:nvPr/>
        </p:nvPicPr>
        <p:blipFill>
          <a:blip r:embed="rId1"/>
          <a:stretch/>
        </p:blipFill>
        <p:spPr>
          <a:xfrm>
            <a:off x="2593800" y="1052640"/>
            <a:ext cx="55454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(ІІ)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F:\Рисунки соли\Сульфат железа(II).jpg"/>
          <p:cNvPicPr/>
          <p:nvPr/>
        </p:nvPicPr>
        <p:blipFill>
          <a:blip r:embed="rId1"/>
          <a:stretch/>
        </p:blipFill>
        <p:spPr>
          <a:xfrm>
            <a:off x="2627280" y="1133640"/>
            <a:ext cx="54738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а шах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2" name="Picture 2" descr="F:\Рисунки соли\Шахта соляная .jpg"/>
          <p:cNvPicPr/>
          <p:nvPr/>
        </p:nvPicPr>
        <p:blipFill>
          <a:blip r:embed="rId1"/>
          <a:stretch/>
        </p:blipFill>
        <p:spPr>
          <a:xfrm>
            <a:off x="2627280" y="1052640"/>
            <a:ext cx="540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Рисунки соли\Таблица растворимостей 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95640" y="2060640"/>
          <a:ext cx="6311880" cy="3457440"/>
        </p:xfrm>
        <a:graphic>
          <a:graphicData uri="http://schemas.openxmlformats.org/drawingml/2006/table">
            <a:tbl>
              <a:tblPr/>
              <a:tblGrid>
                <a:gridCol w="2104920"/>
                <a:gridCol w="2103480"/>
                <a:gridCol w="210348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кислот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двохосновних кисл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іла ворона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a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Cl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N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 O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Br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n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g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92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ізхвилинка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, ой солі, ви солі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ладні речовини ви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инні метали містити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залишки в складі теж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 – добрива, ліки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сода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окна й глюкоза в вас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 , ой солі , ви сол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 вивчимо добре вас вс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об знати – несете ви користь,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 шкоду на нашій Землі?</a:t>
            </a:r>
            <a:r>
              <a:rPr b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 складання формули сол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79280" y="1341000"/>
            <a:ext cx="670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суємо символи металу і кислотного залиш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д символом металу і кислотним залишком позначаємо валент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одиниць валентності металу і кислотного залишку знаходимо найменше спільне крат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ілення спільного кратного на валентності металу і кислотного залишку знаходимо індек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йдені індекси записуємо у формулу со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юміній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561636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2" descr="F:\Рисунки соли\железа хлорид .jpg"/>
          <p:cNvPicPr/>
          <p:nvPr/>
        </p:nvPicPr>
        <p:blipFill>
          <a:blip r:embed="rId1"/>
          <a:stretch/>
        </p:blipFill>
        <p:spPr>
          <a:xfrm>
            <a:off x="2627280" y="1362240"/>
            <a:ext cx="5545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user01</cp:lastModifiedBy>
  <dcterms:modified xsi:type="dcterms:W3CDTF">2012-11-20T13:59:14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2000000000001024140</vt:lpwstr>
  </property>
</Properties>
</file>