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D7BA-061B-4247-951E-F67491ED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8FF7-2178-40C4-A9E2-5CA85F12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E530-C511-4B54-9AC9-B51D992D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0019-1930-400B-B097-74F93AC2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EF10-4D77-4BDB-8BDD-94219429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19D-06E9-4747-8A83-0E8ECE65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282-34EA-41CF-B449-C8269562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5D3-976D-46E3-93D6-E878F9AA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19DB-48B8-4AEA-9B30-1012CEEA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49C-C951-48E1-8FD1-31342B6E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5257-22C7-49ED-8076-04E68DB6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6F55-C63B-4AF3-B67E-87AC861F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C7DB-C8D0-4C30-9311-88E3F9F21F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кутник 3" descr=""/>
          <p:cNvPicPr/>
          <p:nvPr/>
        </p:nvPicPr>
        <p:blipFill>
          <a:blip r:embed="rId1"/>
          <a:stretch/>
        </p:blipFill>
        <p:spPr>
          <a:xfrm>
            <a:off x="-66600" y="73080"/>
            <a:ext cx="9266040" cy="1530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987640" y="1413000"/>
            <a:ext cx="6156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прум карбон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8" name="Picture 2" descr="F:\Рисунки соли\Карбонат меди(II).jpg"/>
          <p:cNvPicPr/>
          <p:nvPr/>
        </p:nvPicPr>
        <p:blipFill>
          <a:blip r:embed="rId1"/>
          <a:stretch/>
        </p:blipFill>
        <p:spPr>
          <a:xfrm>
            <a:off x="2556000" y="1268280"/>
            <a:ext cx="5616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истал купрум сульфа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60" name="Picture 2" descr="F:\Рисунки соли\Кристалл CuSO4_sc.JPG"/>
          <p:cNvPicPr/>
          <p:nvPr/>
        </p:nvPicPr>
        <p:blipFill>
          <a:blip r:embed="rId1"/>
          <a:stretch/>
        </p:blipFill>
        <p:spPr>
          <a:xfrm>
            <a:off x="2556000" y="1150920"/>
            <a:ext cx="540072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истал купрум сульфа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62" name="Picture 2" descr="F:\Рисунки соли\кристалл медн куп i.jpg"/>
          <p:cNvPicPr/>
          <p:nvPr/>
        </p:nvPicPr>
        <p:blipFill>
          <a:blip r:embed="rId1"/>
          <a:stretch/>
        </p:blipFill>
        <p:spPr>
          <a:xfrm>
            <a:off x="2700360" y="1268280"/>
            <a:ext cx="5472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истали натрій хлорид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2" descr="F:\Рисунки соли\Кристаллы поваренной соли .jpg"/>
          <p:cNvPicPr/>
          <p:nvPr/>
        </p:nvPicPr>
        <p:blipFill>
          <a:blip r:embed="rId1"/>
          <a:stretch/>
        </p:blipFill>
        <p:spPr>
          <a:xfrm>
            <a:off x="2484360" y="992160"/>
            <a:ext cx="574524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нган карбон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" descr="F:\Рисунки соли\Марганец карбонат .jpg"/>
          <p:cNvPicPr/>
          <p:nvPr/>
        </p:nvPicPr>
        <p:blipFill>
          <a:blip r:embed="rId1"/>
          <a:stretch/>
        </p:blipFill>
        <p:spPr>
          <a:xfrm>
            <a:off x="2627280" y="1197000"/>
            <a:ext cx="56898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ідний купо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68" name="Picture 2" descr="F:\Рисунки соли\Медный купорос -CuSO4_5H2O.jpg"/>
          <p:cNvPicPr/>
          <p:nvPr/>
        </p:nvPicPr>
        <p:blipFill>
          <a:blip r:embed="rId1"/>
          <a:stretch/>
        </p:blipFill>
        <p:spPr>
          <a:xfrm>
            <a:off x="2700360" y="1052640"/>
            <a:ext cx="5857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гентум сульфі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2" descr="F:\Рисунки соли\Серебра сульфид .PNG"/>
          <p:cNvPicPr/>
          <p:nvPr/>
        </p:nvPicPr>
        <p:blipFill>
          <a:blip r:embed="rId1"/>
          <a:stretch/>
        </p:blipFill>
        <p:spPr>
          <a:xfrm>
            <a:off x="2195640" y="1182600"/>
            <a:ext cx="598140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яне озе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72" name="Picture 2" descr="F:\Рисунки соли\Соляное озеро  .jpg"/>
          <p:cNvPicPr/>
          <p:nvPr/>
        </p:nvPicPr>
        <p:blipFill>
          <a:blip r:embed="rId1"/>
          <a:stretch/>
        </p:blipFill>
        <p:spPr>
          <a:xfrm>
            <a:off x="2556000" y="1268280"/>
            <a:ext cx="5545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:\Рисунки соли\Соль r.jpg"/>
          <p:cNvPicPr/>
          <p:nvPr/>
        </p:nvPicPr>
        <p:blipFill>
          <a:blip r:embed="rId1"/>
          <a:stretch/>
        </p:blipFill>
        <p:spPr>
          <a:xfrm>
            <a:off x="2556000" y="1197000"/>
            <a:ext cx="5825880" cy="518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нган флуор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рій сульф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76" name="Picture 2" descr="F:\Рисунки соли\Соль Бария r.png"/>
          <p:cNvPicPr/>
          <p:nvPr/>
        </p:nvPicPr>
        <p:blipFill>
          <a:blip r:embed="rId1"/>
          <a:stretch/>
        </p:blipFill>
        <p:spPr>
          <a:xfrm>
            <a:off x="2484360" y="981000"/>
            <a:ext cx="56959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195640" y="2060640"/>
          <a:ext cx="6311880" cy="3456000"/>
        </p:xfrm>
        <a:graphic>
          <a:graphicData uri="http://schemas.openxmlformats.org/drawingml/2006/table">
            <a:tbl>
              <a:tblPr/>
              <a:tblGrid>
                <a:gridCol w="2103480"/>
                <a:gridCol w="2104920"/>
                <a:gridCol w="2103480"/>
              </a:tblGrid>
              <a:tr h="11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 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 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 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грашний шлях – формули основних оксиді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нган сульф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78" name="Picture 2" descr="F:\Рисунки соли\Сультфат марганца(II).jpg"/>
          <p:cNvPicPr/>
          <p:nvPr/>
        </p:nvPicPr>
        <p:blipFill>
          <a:blip r:embed="rId1"/>
          <a:stretch/>
        </p:blipFill>
        <p:spPr>
          <a:xfrm>
            <a:off x="2593800" y="1052640"/>
            <a:ext cx="554544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рум (ІІ) сульф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80" name="Picture 2" descr="F:\Рисунки соли\Сульфат железа(II).jpg"/>
          <p:cNvPicPr/>
          <p:nvPr/>
        </p:nvPicPr>
        <p:blipFill>
          <a:blip r:embed="rId1"/>
          <a:stretch/>
        </p:blipFill>
        <p:spPr>
          <a:xfrm>
            <a:off x="2627280" y="1133640"/>
            <a:ext cx="547380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яна шах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82" name="Picture 2" descr="F:\Рисунки соли\Шахта соляная .jpg"/>
          <p:cNvPicPr/>
          <p:nvPr/>
        </p:nvPicPr>
        <p:blipFill>
          <a:blip r:embed="rId1"/>
          <a:stretch/>
        </p:blipFill>
        <p:spPr>
          <a:xfrm>
            <a:off x="2627280" y="1052640"/>
            <a:ext cx="5400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:\Рисунки соли\Таблица растворимостей 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195640" y="2060640"/>
          <a:ext cx="6311880" cy="3457440"/>
        </p:xfrm>
        <a:graphic>
          <a:graphicData uri="http://schemas.openxmlformats.org/drawingml/2006/table">
            <a:tbl>
              <a:tblPr/>
              <a:tblGrid>
                <a:gridCol w="2104920"/>
                <a:gridCol w="2103480"/>
                <a:gridCol w="210348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 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грашний шлях – формули кислотних оксиді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195640" y="2060640"/>
          <a:ext cx="6311880" cy="3456000"/>
        </p:xfrm>
        <a:graphic>
          <a:graphicData uri="http://schemas.openxmlformats.org/drawingml/2006/table">
            <a:tbl>
              <a:tblPr/>
              <a:tblGrid>
                <a:gridCol w="2103480"/>
                <a:gridCol w="2104920"/>
                <a:gridCol w="2103480"/>
              </a:tblGrid>
              <a:tr h="11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N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1" lang="en-US" sz="4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грашний шлях – формули двохосновних кисло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Біла ворона»</a:t>
            </a: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a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 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Cl</a:t>
            </a:r>
            <a:br>
              <a:rPr sz="4400"/>
            </a:b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 O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N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br>
              <a:rPr sz="4400"/>
            </a:b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u O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S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Br</a:t>
            </a:r>
            <a:br>
              <a:rPr sz="4400"/>
            </a:b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n O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S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br>
              <a:rPr sz="4400"/>
            </a:b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gO  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iO</a:t>
            </a:r>
            <a:r>
              <a:rPr b="1" lang="uk-UA" sz="4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8092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Фізхвилинка 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лі, ой солі, ви солі 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ладні речовини ви є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винні метали містити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І залишки в складі теж є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 – добрива, ліки 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і сода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локна й глюкоза в вас є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лі , ой солі , ви солі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и вивчимо добре вас всі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Щоб знати – несете ви користь,</a:t>
            </a:r>
            <a:br>
              <a:rPr sz="2800"/>
            </a:b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и шкоду на нашій Землі?</a:t>
            </a:r>
            <a:r>
              <a:rPr b="1" lang="uk-UA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лгоритм складання формули солі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79280" y="1341000"/>
            <a:ext cx="6707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писуємо символи металу і кислотного залиш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д символом металу і кислотним залишком позначаємо валентні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одиниць валентності металу і кислотного залишку знаходимо найменше спільне крат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ілення спільного кратного на валентності металу і кислотного залишку знаходимо індекс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найдені індекси записуємо у формулу сол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юміній хлор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2556000" y="1125360"/>
            <a:ext cx="5616360" cy="49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844720" y="404640"/>
          <a:ext cx="4969080" cy="517680"/>
        </p:xfrm>
        <a:graphic>
          <a:graphicData uri="http://schemas.openxmlformats.org/drawingml/2006/table">
            <a:tbl>
              <a:tblPr/>
              <a:tblGrid>
                <a:gridCol w="496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рум хлор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6" name="Picture 2" descr="F:\Рисунки соли\железа хлорид .jpg"/>
          <p:cNvPicPr/>
          <p:nvPr/>
        </p:nvPicPr>
        <p:blipFill>
          <a:blip r:embed="rId1"/>
          <a:stretch/>
        </p:blipFill>
        <p:spPr>
          <a:xfrm>
            <a:off x="2627280" y="1362240"/>
            <a:ext cx="55450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0T16:10:27Z</dcterms:created>
  <dc:creator>Катенок</dc:creator>
  <dc:description/>
  <dc:language>en-US</dc:language>
  <cp:lastModifiedBy>user01</cp:lastModifiedBy>
  <dcterms:modified xsi:type="dcterms:W3CDTF">2012-11-20T13:59:14Z</dcterms:modified>
  <cp:revision>1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012000000000001024140</vt:lpwstr>
  </property>
</Properties>
</file>