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gif" ContentType="image/gif"/>
  <Override PartName="/ppt/media/image32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gif" ContentType="image/gif"/>
  <Override PartName="/ppt/media/image17.jpeg" ContentType="image/jpeg"/>
  <Override PartName="/ppt/media/image16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15.png" ContentType="image/png"/>
  <Override PartName="/ppt/media/image3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40.jpeg" ContentType="image/jpeg"/>
  <Override PartName="/ppt/media/image41.jpeg" ContentType="image/jpeg"/>
  <Override PartName="/ppt/media/image45.jpeg" ContentType="image/jpeg"/>
  <Override PartName="/ppt/media/image43.jpeg" ContentType="image/jpeg"/>
  <Override PartName="/ppt/media/image46.jpeg" ContentType="image/jpeg"/>
  <Override PartName="/ppt/media/image47.jpeg" ContentType="image/jpeg"/>
  <Override PartName="/ppt/media/image49.jpeg" ContentType="image/jpeg"/>
  <Override PartName="/ppt/media/image20.jpeg" ContentType="image/jpeg"/>
  <Override PartName="/ppt/media/image48.jpeg" ContentType="image/jpeg"/>
  <Override PartName="/ppt/media/image53.jpeg" ContentType="image/jpeg"/>
  <Override PartName="/ppt/media/image55.jpeg" ContentType="image/jpeg"/>
  <Override PartName="/ppt/media/image44.gif" ContentType="image/gif"/>
  <Override PartName="/ppt/media/image34.jpeg" ContentType="image/jpeg"/>
  <Override PartName="/ppt/media/image38.jpeg" ContentType="image/jpeg"/>
  <Override PartName="/ppt/media/image7.jpeg" ContentType="image/jpeg"/>
  <Override PartName="/ppt/media/image56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media/image37.gif" ContentType="image/gif"/>
  <Override PartName="/ppt/media/image28.jpeg" ContentType="image/jpeg"/>
  <Override PartName="/ppt/media/image51.jpeg" ContentType="image/jpeg"/>
  <Override PartName="/ppt/media/image13.png" ContentType="image/png"/>
  <Override PartName="/ppt/media/image5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D70A-0957-4245-A990-4BC888A0B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6E78-BEB5-4857-AEC9-84AC5854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05C1-324D-4422-AC4B-87CF1BC1F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2AE3-5589-4BCB-95DC-3E7C5EAB7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D98E-3295-4281-87FA-6589E2BA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4DC7-7E93-4DD4-9D04-C5A43606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EF57-9F5D-44BA-A39E-E2F9FC56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6BAE-3256-48FB-B1FB-C89C5DB1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1AA3-17A7-4BA4-913E-5D70608A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3E50-9492-4F3E-8867-D01E0C28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6CDF-35DE-4CE7-BA65-DDB619DD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6072-3595-4928-9B79-9384044C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6F11-1626-415C-BF77-6FB6FA2AF1A3}" type="slidenum">
              <a:rPr b="0" lang="uk-U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7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44.gif"/><Relationship Id="rId3" Type="http://schemas.openxmlformats.org/officeDocument/2006/relationships/image" Target="../media/image44.gif"/><Relationship Id="rId4" Type="http://schemas.openxmlformats.org/officeDocument/2006/relationships/image" Target="../media/image44.gif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image" Target="../media/image48.jpeg"/><Relationship Id="rId9" Type="http://schemas.openxmlformats.org/officeDocument/2006/relationships/image" Target="../media/image49.jpeg"/><Relationship Id="rId10" Type="http://schemas.openxmlformats.org/officeDocument/2006/relationships/image" Target="../media/image50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24000" y="4437000"/>
            <a:ext cx="84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Time Roman"/>
              </a:rPr>
              <a:t>Бог вирішивши створити Світ, призвав 4 стихі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ізико-хімічні властивості вогню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7" descr="i15.gif"/>
          <p:cNvPicPr/>
          <p:nvPr/>
        </p:nvPicPr>
        <p:blipFill>
          <a:blip r:embed="rId2"/>
          <a:stretch/>
        </p:blipFill>
        <p:spPr>
          <a:xfrm>
            <a:off x="900000" y="568440"/>
            <a:ext cx="2016360" cy="34938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9" descr="42.gif"/>
          <p:cNvPicPr/>
          <p:nvPr/>
        </p:nvPicPr>
        <p:blipFill>
          <a:blip r:embed="rId3"/>
          <a:stretch/>
        </p:blipFill>
        <p:spPr>
          <a:xfrm>
            <a:off x="168120" y="4124160"/>
            <a:ext cx="3456000" cy="25927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3492360" y="1067040"/>
            <a:ext cx="5651640" cy="3018600"/>
          </a:xfrm>
          <a:prstGeom prst="rect">
            <a:avLst/>
          </a:prstGeom>
          <a:solidFill>
            <a:srgbClr val="a6a6a6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іння – це фізико-хіміч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цес взаємодії горючої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човини з киснем повіт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аслідок чого виділяє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пло і випромінюється світло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Вого́нь</a:t>
            </a:r>
            <a:r>
              <a:rPr b="1" lang="ru-RU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r>
              <a:rPr b="1" lang="vi-VN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— як найбільший добродій людства</a:t>
            </a:r>
            <a:r>
              <a:rPr b="1" lang="uk-UA" sz="4400" spc="-1" strike="noStrike">
                <a:solidFill>
                  <a:srgbClr val="ffcc00"/>
                </a:solidFill>
                <a:latin typeface="Calibri"/>
                <a:ea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2195640" y="1700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Вогонь – опалює наші оселі ( за допомогою теплотехніки,  усі теплоелектростанції працюють  за принципом спалювання енергоносії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16" descr="teplotehnika.jpg"/>
          <p:cNvPicPr/>
          <p:nvPr/>
        </p:nvPicPr>
        <p:blipFill>
          <a:blip r:embed="rId2"/>
          <a:stretch/>
        </p:blipFill>
        <p:spPr>
          <a:xfrm>
            <a:off x="250920" y="981000"/>
            <a:ext cx="1908000" cy="19065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324000" y="2997360"/>
            <a:ext cx="67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Вогонь – допомагає у приготуванні їжі ( за принципом теплової обробки продуктів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3"/>
          <a:stretch/>
        </p:blipFill>
        <p:spPr>
          <a:xfrm>
            <a:off x="7236000" y="2349360"/>
            <a:ext cx="1368360" cy="18734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"/>
          <p:cNvSpPr/>
          <p:nvPr/>
        </p:nvSpPr>
        <p:spPr>
          <a:xfrm>
            <a:off x="2374920" y="422100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Вогонь – допомагає нам подорожувати по різним містам нашої планети Земля (усі двигуни автомобілів працюють за принципом внутрішнього згорянн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4"/>
          <a:stretch/>
        </p:blipFill>
        <p:spPr>
          <a:xfrm>
            <a:off x="755640" y="3716280"/>
            <a:ext cx="1655640" cy="1244520"/>
          </a:xfrm>
          <a:prstGeom prst="rect">
            <a:avLst/>
          </a:prstGeom>
          <a:ln w="0">
            <a:noFill/>
          </a:ln>
        </p:spPr>
      </p:pic>
      <p:sp>
        <p:nvSpPr>
          <p:cNvPr id="106" name="TextBox 8"/>
          <p:cNvSpPr/>
          <p:nvPr/>
        </p:nvSpPr>
        <p:spPr>
          <a:xfrm>
            <a:off x="2916360" y="551664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Вогонь – допомагає нам на виробництві (виплавка металів, зварювання металевих конструкцій, тощо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5"/>
          <a:stretch/>
        </p:blipFill>
        <p:spPr>
          <a:xfrm>
            <a:off x="1476360" y="5607000"/>
            <a:ext cx="1405080" cy="1251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6"/>
          <a:stretch/>
        </p:blipFill>
        <p:spPr>
          <a:xfrm>
            <a:off x="179280" y="5157720"/>
            <a:ext cx="133200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6868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го́нь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vi-VN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як найбільш</a:t>
            </a:r>
            <a:r>
              <a:rPr b="1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vi-VN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безпека</a:t>
            </a:r>
            <a:r>
              <a:rPr b="1" lang="vi-VN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люд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2124000" y="134136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обережне поводження з вогнем призводить до великих небезпе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3768840" y="292428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ісових пожеж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3782880" y="4221000"/>
            <a:ext cx="46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хногенних катастроф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3851280" y="5410080"/>
            <a:ext cx="529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жеж та вибухів на підприємств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 в оселях, тощ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5"/>
          <a:stretch/>
        </p:blipFill>
        <p:spPr>
          <a:xfrm>
            <a:off x="71280" y="2060640"/>
            <a:ext cx="2019600" cy="1352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6"/>
          <a:stretch/>
        </p:blipFill>
        <p:spPr>
          <a:xfrm>
            <a:off x="1717560" y="2492280"/>
            <a:ext cx="1917720" cy="1181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7"/>
          <a:stretch/>
        </p:blipFill>
        <p:spPr>
          <a:xfrm>
            <a:off x="82440" y="3681360"/>
            <a:ext cx="1871640" cy="1452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8"/>
          <a:stretch/>
        </p:blipFill>
        <p:spPr>
          <a:xfrm>
            <a:off x="1889280" y="3933720"/>
            <a:ext cx="1279440" cy="1573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1"/>
          <p:cNvPicPr/>
          <p:nvPr/>
        </p:nvPicPr>
        <p:blipFill>
          <a:blip r:embed="rId9"/>
          <a:stretch/>
        </p:blipFill>
        <p:spPr>
          <a:xfrm>
            <a:off x="324000" y="5229360"/>
            <a:ext cx="1444320" cy="1488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9" name="Picture 22" descr="4"/>
          <p:cNvPicPr/>
          <p:nvPr/>
        </p:nvPicPr>
        <p:blipFill>
          <a:blip r:embed="rId10"/>
          <a:stretch/>
        </p:blipFill>
        <p:spPr>
          <a:xfrm>
            <a:off x="1763640" y="5661000"/>
            <a:ext cx="1594080" cy="1197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3"/>
          <p:cNvSpPr/>
          <p:nvPr/>
        </p:nvSpPr>
        <p:spPr>
          <a:xfrm>
            <a:off x="250920" y="260280"/>
            <a:ext cx="856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изити рівень пожежної небезпеки можна шляхом застосування негорючих матеріалів, обмеженням маси та об'єму горючих матеріалів і речовин, ізолюванням горючого середовища (наприклад, застосуванням ізольованих негорючих відсіків, кабін), вогнезахис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гнезахист - це зниження рівня пожежної небезпеки матеріалів і конструкцій шляхом спеціальної обробки. Для такої обробки часто застосовують спеціальні речовини - антипір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child0003_005"/>
          <p:cNvPicPr/>
          <p:nvPr/>
        </p:nvPicPr>
        <p:blipFill>
          <a:blip r:embed="rId2"/>
          <a:stretch/>
        </p:blipFill>
        <p:spPr>
          <a:xfrm>
            <a:off x="250920" y="3068640"/>
            <a:ext cx="2528640" cy="316692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6"/>
          <p:cNvSpPr/>
          <p:nvPr/>
        </p:nvSpPr>
        <p:spPr>
          <a:xfrm>
            <a:off x="324000" y="2565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несення антипірену на деревину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Группа 9"/>
          <p:cNvGrpSpPr/>
          <p:nvPr/>
        </p:nvGrpSpPr>
        <p:grpSpPr>
          <a:xfrm>
            <a:off x="5148360" y="2349360"/>
            <a:ext cx="3887640" cy="3818160"/>
            <a:chOff x="5148360" y="2349360"/>
            <a:chExt cx="3887640" cy="3818160"/>
          </a:xfrm>
        </p:grpSpPr>
        <p:pic>
          <p:nvPicPr>
            <p:cNvPr id="124" name="Picture 5" descr=""/>
            <p:cNvPicPr/>
            <p:nvPr/>
          </p:nvPicPr>
          <p:blipFill>
            <a:blip r:embed="rId3"/>
            <a:stretch/>
          </p:blipFill>
          <p:spPr>
            <a:xfrm>
              <a:off x="5148360" y="2349360"/>
              <a:ext cx="2328840" cy="23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6" descr=""/>
            <p:cNvPicPr/>
            <p:nvPr/>
          </p:nvPicPr>
          <p:blipFill>
            <a:blip r:embed="rId4"/>
            <a:stretch/>
          </p:blipFill>
          <p:spPr>
            <a:xfrm>
              <a:off x="7451640" y="2349360"/>
              <a:ext cx="1584360" cy="214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7" descr=""/>
            <p:cNvPicPr/>
            <p:nvPr/>
          </p:nvPicPr>
          <p:blipFill>
            <a:blip r:embed="rId5"/>
            <a:stretch/>
          </p:blipFill>
          <p:spPr>
            <a:xfrm>
              <a:off x="5148360" y="4437000"/>
              <a:ext cx="2303280" cy="17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8" descr=""/>
            <p:cNvPicPr/>
            <p:nvPr/>
          </p:nvPicPr>
          <p:blipFill>
            <a:blip r:embed="rId6"/>
            <a:stretch/>
          </p:blipFill>
          <p:spPr>
            <a:xfrm>
              <a:off x="7451640" y="4437000"/>
              <a:ext cx="1584360" cy="1730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" name="Picture 9" descr=""/>
          <p:cNvPicPr/>
          <p:nvPr/>
        </p:nvPicPr>
        <p:blipFill>
          <a:blip r:embed="rId7"/>
          <a:stretch/>
        </p:blipFill>
        <p:spPr>
          <a:xfrm>
            <a:off x="2843280" y="3860640"/>
            <a:ext cx="227484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Группа 13"/>
          <p:cNvGrpSpPr/>
          <p:nvPr/>
        </p:nvGrpSpPr>
        <p:grpSpPr>
          <a:xfrm>
            <a:off x="0" y="3429000"/>
            <a:ext cx="4572000" cy="3429000"/>
            <a:chOff x="0" y="3429000"/>
            <a:chExt cx="4572000" cy="3429000"/>
          </a:xfrm>
        </p:grpSpPr>
        <p:pic>
          <p:nvPicPr>
            <p:cNvPr id="43" name="Picture 7" descr=""/>
            <p:cNvPicPr/>
            <p:nvPr/>
          </p:nvPicPr>
          <p:blipFill>
            <a:blip r:embed="rId2"/>
            <a:stretch/>
          </p:blipFill>
          <p:spPr>
            <a:xfrm>
              <a:off x="0" y="3429000"/>
              <a:ext cx="45720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Рисунок 9" descr="0.jpeg"/>
            <p:cNvPicPr/>
            <p:nvPr/>
          </p:nvPicPr>
          <p:blipFill>
            <a:blip r:embed="rId3"/>
            <a:stretch/>
          </p:blipFill>
          <p:spPr>
            <a:xfrm>
              <a:off x="3072960" y="3443040"/>
              <a:ext cx="1497960" cy="149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" name="Группа 18"/>
          <p:cNvGrpSpPr/>
          <p:nvPr/>
        </p:nvGrpSpPr>
        <p:grpSpPr>
          <a:xfrm>
            <a:off x="4572000" y="0"/>
            <a:ext cx="4572000" cy="3430440"/>
            <a:chOff x="4572000" y="0"/>
            <a:chExt cx="4572000" cy="3430440"/>
          </a:xfrm>
        </p:grpSpPr>
        <p:pic>
          <p:nvPicPr>
            <p:cNvPr id="46" name="Picture 5" descr=""/>
            <p:cNvPicPr/>
            <p:nvPr/>
          </p:nvPicPr>
          <p:blipFill>
            <a:blip r:embed="rId4"/>
            <a:srcRect l="0" t="0" r="-74" b="0"/>
            <a:stretch/>
          </p:blipFill>
          <p:spPr>
            <a:xfrm>
              <a:off x="4572000" y="0"/>
              <a:ext cx="4572000" cy="343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Рисунок 10" descr="02.jpeg"/>
            <p:cNvPicPr/>
            <p:nvPr/>
          </p:nvPicPr>
          <p:blipFill>
            <a:blip r:embed="rId5"/>
            <a:stretch/>
          </p:blipFill>
          <p:spPr>
            <a:xfrm>
              <a:off x="4577400" y="1888560"/>
              <a:ext cx="1584000" cy="151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Группа 17"/>
          <p:cNvGrpSpPr/>
          <p:nvPr/>
        </p:nvGrpSpPr>
        <p:grpSpPr>
          <a:xfrm>
            <a:off x="0" y="0"/>
            <a:ext cx="4587840" cy="3429000"/>
            <a:chOff x="0" y="0"/>
            <a:chExt cx="4587840" cy="3429000"/>
          </a:xfrm>
        </p:grpSpPr>
        <p:pic>
          <p:nvPicPr>
            <p:cNvPr id="49" name="Picture 3" descr=""/>
            <p:cNvPicPr/>
            <p:nvPr/>
          </p:nvPicPr>
          <p:blipFill>
            <a:blip r:embed="rId6"/>
            <a:srcRect l="0" t="0" r="0" b="-39"/>
            <a:stretch/>
          </p:blipFill>
          <p:spPr>
            <a:xfrm>
              <a:off x="0" y="0"/>
              <a:ext cx="457164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Рисунок 11" descr="03.jpeg"/>
            <p:cNvPicPr/>
            <p:nvPr/>
          </p:nvPicPr>
          <p:blipFill>
            <a:blip r:embed="rId7"/>
            <a:stretch/>
          </p:blipFill>
          <p:spPr>
            <a:xfrm>
              <a:off x="3071520" y="1892520"/>
              <a:ext cx="1516320" cy="151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Группа 19"/>
          <p:cNvGrpSpPr/>
          <p:nvPr/>
        </p:nvGrpSpPr>
        <p:grpSpPr>
          <a:xfrm>
            <a:off x="4572000" y="3408480"/>
            <a:ext cx="4572000" cy="3449520"/>
            <a:chOff x="4572000" y="3408480"/>
            <a:chExt cx="4572000" cy="3449520"/>
          </a:xfrm>
        </p:grpSpPr>
        <p:pic>
          <p:nvPicPr>
            <p:cNvPr id="52" name="Picture 8" descr=""/>
            <p:cNvPicPr/>
            <p:nvPr/>
          </p:nvPicPr>
          <p:blipFill>
            <a:blip r:embed="rId8"/>
            <a:stretch/>
          </p:blipFill>
          <p:spPr>
            <a:xfrm>
              <a:off x="4572000" y="3428640"/>
              <a:ext cx="4572000" cy="342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Рисунок 12" descr="04.jpeg"/>
            <p:cNvPicPr/>
            <p:nvPr/>
          </p:nvPicPr>
          <p:blipFill>
            <a:blip r:embed="rId9"/>
            <a:stretch/>
          </p:blipFill>
          <p:spPr>
            <a:xfrm>
              <a:off x="4572000" y="3408480"/>
              <a:ext cx="1584000" cy="153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TextBox 5"/>
          <p:cNvSpPr/>
          <p:nvPr/>
        </p:nvSpPr>
        <p:spPr>
          <a:xfrm>
            <a:off x="179280" y="4653000"/>
            <a:ext cx="4681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ff0000"/>
                </a:solidFill>
                <a:latin typeface="Time Roman"/>
              </a:rPr>
              <a:t>Повітр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539640" y="404640"/>
            <a:ext cx="288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ff0000"/>
                </a:solidFill>
                <a:latin typeface="Time Roman"/>
              </a:rPr>
              <a:t>Вод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5364000" y="476280"/>
            <a:ext cx="360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ff0000"/>
                </a:solidFill>
                <a:latin typeface="Time Roman"/>
              </a:rPr>
              <a:t>Земл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5111640" y="4581360"/>
            <a:ext cx="403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ff0000"/>
                </a:solidFill>
                <a:latin typeface="Time Roman"/>
              </a:rPr>
              <a:t>Вогон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2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650"/>
                            </p:stCondLst>
                            <p:childTnLst>
                              <p:par>
                                <p:cTn id="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350"/>
                            </p:stCondLst>
                            <p:childTnLst>
                              <p:par>
                                <p:cTn id="4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3650"/>
                            </p:stCondLst>
                            <p:childTnLst>
                              <p:par>
                                <p:cTn id="5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4150"/>
                            </p:stCondLst>
                            <p:childTnLst>
                              <p:par>
                                <p:cTn id="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3"/>
          <p:cNvSpPr/>
          <p:nvPr/>
        </p:nvSpPr>
        <p:spPr>
          <a:xfrm>
            <a:off x="4067280" y="1773360"/>
            <a:ext cx="457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аверсі монети із золота розміщено коло, діагонально поділене на сектори, які   символізують чотири стихії: землю, повітря, воду, вогонь; у центрі кола – стилізоване зображення сонц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5" descr="510_06_g_zol__oven.1.jpg"/>
          <p:cNvPicPr/>
          <p:nvPr/>
        </p:nvPicPr>
        <p:blipFill>
          <a:blip r:embed="rId2"/>
          <a:stretch/>
        </p:blipFill>
        <p:spPr>
          <a:xfrm>
            <a:off x="1103400" y="5229360"/>
            <a:ext cx="2600280" cy="12967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" descr="big_1249211212.jpg"/>
          <p:cNvPicPr/>
          <p:nvPr/>
        </p:nvPicPr>
        <p:blipFill>
          <a:blip r:embed="rId3"/>
          <a:srcRect l="0" t="0" r="0" b="-109"/>
          <a:stretch/>
        </p:blipFill>
        <p:spPr>
          <a:xfrm>
            <a:off x="203040" y="4149720"/>
            <a:ext cx="2973600" cy="13003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7" descr="big_1249211966.jpg"/>
          <p:cNvPicPr/>
          <p:nvPr/>
        </p:nvPicPr>
        <p:blipFill>
          <a:blip r:embed="rId4"/>
          <a:stretch/>
        </p:blipFill>
        <p:spPr>
          <a:xfrm>
            <a:off x="944640" y="2997360"/>
            <a:ext cx="2835360" cy="12967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1" descr="MoneyImage_1_57.jpg"/>
          <p:cNvPicPr/>
          <p:nvPr/>
        </p:nvPicPr>
        <p:blipFill>
          <a:blip r:embed="rId5"/>
          <a:stretch/>
        </p:blipFill>
        <p:spPr>
          <a:xfrm>
            <a:off x="250920" y="1773360"/>
            <a:ext cx="2625480" cy="131436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12"/>
          <p:cNvSpPr/>
          <p:nvPr/>
        </p:nvSpPr>
        <p:spPr>
          <a:xfrm>
            <a:off x="0" y="333360"/>
            <a:ext cx="919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'ятні та ювілейні монети України,серія 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Знаки зодіаку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4"/>
          <p:cNvSpPr/>
          <p:nvPr/>
        </p:nvSpPr>
        <p:spPr>
          <a:xfrm>
            <a:off x="3276720" y="404640"/>
            <a:ext cx="5867280" cy="2288520"/>
          </a:xfrm>
          <a:prstGeom prst="rect">
            <a:avLst/>
          </a:prstGeom>
          <a:solidFill>
            <a:srgbClr val="a6a6a6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го́нь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у </a:t>
            </a:r>
            <a:r>
              <a:rPr b="1" lang="vi-V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іфологі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ї </a:t>
            </a:r>
            <a:r>
              <a:rPr b="1" lang="vi-V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йбільший добродій людства, справжній творець цивілізації, що дає світло і тепло, два головні джерела життя, із найдавніших часів був об'єктом культу і СИМВОЛОМ БОЖЕСЬКОЇ СИ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5" descr="ageofmyth_121802_006.jpg"/>
          <p:cNvPicPr/>
          <p:nvPr/>
        </p:nvPicPr>
        <p:blipFill>
          <a:blip r:embed="rId2"/>
          <a:stretch/>
        </p:blipFill>
        <p:spPr>
          <a:xfrm>
            <a:off x="324000" y="3213000"/>
            <a:ext cx="3678120" cy="27590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6"/>
          <p:cNvSpPr/>
          <p:nvPr/>
        </p:nvSpPr>
        <p:spPr>
          <a:xfrm>
            <a:off x="4140360" y="2997360"/>
            <a:ext cx="4752720" cy="3143160"/>
          </a:xfrm>
          <a:prstGeom prst="rect">
            <a:avLst/>
          </a:prstGeom>
          <a:solidFill>
            <a:srgbClr val="a6a6a6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пі́тер </a:t>
            </a: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це </a:t>
            </a:r>
            <a:r>
              <a:rPr b="1" lang="vi-V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овий відмінок латинізованої вимови грецького імені Зевс, що виник через невміння італійців вимовляти грецький звук "з". Італьський бог неба з його атмосферними явищами — дощем, громом та блискавкою, творець достатку, врожайності, перемоги, зцілення; охоронець порядку, вірності, чистоти; верховний цар богів і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7" descr="42.gif"/>
          <p:cNvPicPr/>
          <p:nvPr/>
        </p:nvPicPr>
        <p:blipFill>
          <a:blip r:embed="rId3"/>
          <a:stretch/>
        </p:blipFill>
        <p:spPr>
          <a:xfrm>
            <a:off x="371520" y="549360"/>
            <a:ext cx="27846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у не дарма в різних міфологіях присутні “Боги Вогню”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1344600" cy="202248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4"/>
          <p:cNvSpPr/>
          <p:nvPr/>
        </p:nvSpPr>
        <p:spPr>
          <a:xfrm>
            <a:off x="1655640" y="1341360"/>
            <a:ext cx="7488360" cy="825480"/>
          </a:xfrm>
          <a:prstGeom prst="rect">
            <a:avLst/>
          </a:prstGeom>
          <a:solidFill>
            <a:srgbClr val="a6a6a6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ґні (санскр. </a:t>
            </a:r>
            <a:r>
              <a:rPr b="1" lang="hi-IN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अग्नि</a:t>
            </a:r>
            <a:r>
              <a:rPr b="1" lang="hi-I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«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гонь») — бог вогню в індуїзмі, охоронець південно-східної частини сві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3"/>
          <a:stretch/>
        </p:blipFill>
        <p:spPr>
          <a:xfrm>
            <a:off x="250920" y="2997360"/>
            <a:ext cx="1177920" cy="157788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6"/>
          <p:cNvSpPr/>
          <p:nvPr/>
        </p:nvSpPr>
        <p:spPr>
          <a:xfrm>
            <a:off x="1547640" y="2781360"/>
            <a:ext cx="7596360" cy="1557000"/>
          </a:xfrm>
          <a:prstGeom prst="rect">
            <a:avLst/>
          </a:prstGeom>
          <a:solidFill>
            <a:srgbClr val="a6a6a6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фе́ст (грец. 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Ήφαιστος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phaistos) — </a:t>
            </a:r>
            <a:r>
              <a:rPr b="1" lang="vi-V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льгавий син Зевса й Гери (за деякими переказами, син самої Гери), бог вогню та ковальства, на відміну від інших богів не цурався фізичної прац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8"/>
          <p:cNvSpPr/>
          <p:nvPr/>
        </p:nvSpPr>
        <p:spPr>
          <a:xfrm>
            <a:off x="1835280" y="4653000"/>
            <a:ext cx="7308720" cy="1557000"/>
          </a:xfrm>
          <a:prstGeom prst="rect">
            <a:avLst/>
          </a:prstGeom>
          <a:solidFill>
            <a:srgbClr val="a6a6a6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у́н — божество в давньоруській язичницьк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ій </a:t>
            </a:r>
            <a:r>
              <a:rPr b="1" lang="vi-V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іфології, покровитель князя і дружини, ймовірно, бог війни. Також, судячи з лінгвістични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1" lang="vi-V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дани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1" lang="vi-V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бог-громовержець, бог грози, грому і блиска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4"/>
          <a:stretch/>
        </p:blipFill>
        <p:spPr>
          <a:xfrm>
            <a:off x="179280" y="4653000"/>
            <a:ext cx="129708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кож нам відома легенда про ПРОМЕТЕ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4"/>
          <p:cNvSpPr/>
          <p:nvPr/>
        </p:nvSpPr>
        <p:spPr>
          <a:xfrm>
            <a:off x="3780000" y="1268280"/>
            <a:ext cx="5364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ете́й (грец. </a:t>
            </a:r>
            <a:r>
              <a:rPr b="1" lang="el-G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ρομηθεύς, </a:t>
            </a:r>
            <a:r>
              <a:rPr b="1" lang="vi-VN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т.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etheus — </a:t>
            </a:r>
            <a:r>
              <a:rPr b="1" lang="vi-VN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идець) — у грецькій міфології віщий і добрий син титана Япета й німфи Клімени (варіанти: Асії, Феміди), брат Атаманта, Менетія та Епіметея, батько Девкаліона. Допоміг Зевс</a:t>
            </a:r>
            <a:r>
              <a:rPr b="1" lang="uk-U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vi-VN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долати титанів і здобути владу над світом. Під час суперечки про зменшення жертв богам став на бік людей, які жили надголодь і були безсилі проти могутніх олімпійців. Прометей поділив забитого бика на дві частини. В одну купу склав усе м'ясо й накрив шкурою тварини, а в другу — самі кістки, поклавши на них шматки жиру. Зевс, уведений в оману, вибрав купу, яка лисніла смачним жиром. Відтоді люди стали приносити в жертву богам кістки, тобто гіршу частину вбитої тварини, а самі їли м'ясо. Зевс розгнівався на людей і забрав у них вогонь, однак Прометей викрав вогонь з Олімпу і приніс його людям у тростинці. Так людський рід було врятовано від голоду й холоду.</a:t>
            </a:r>
            <a:r>
              <a:rPr b="1" lang="uk-U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етея за протидію богам Зевс звелів прикути до однієї із скель Кавказу і пробити йому списом груди. Щоранку на скелю сідав орел і гострим дзьобом рвав печін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5" descr="passion7.JPG"/>
          <p:cNvPicPr/>
          <p:nvPr/>
        </p:nvPicPr>
        <p:blipFill>
          <a:blip r:embed="rId2"/>
          <a:stretch/>
        </p:blipFill>
        <p:spPr>
          <a:xfrm>
            <a:off x="324000" y="1125360"/>
            <a:ext cx="119988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3"/>
          <a:stretch/>
        </p:blipFill>
        <p:spPr>
          <a:xfrm>
            <a:off x="1763640" y="1373040"/>
            <a:ext cx="2016360" cy="28782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6" descr="size1.jpg"/>
          <p:cNvPicPr/>
          <p:nvPr/>
        </p:nvPicPr>
        <p:blipFill>
          <a:blip r:embed="rId4"/>
          <a:srcRect l="0" t="0" r="83" b="0"/>
          <a:stretch/>
        </p:blipFill>
        <p:spPr>
          <a:xfrm>
            <a:off x="0" y="3933720"/>
            <a:ext cx="2046240" cy="29242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6" descr="35-18.jpg"/>
          <p:cNvPicPr/>
          <p:nvPr/>
        </p:nvPicPr>
        <p:blipFill>
          <a:blip r:embed="rId5"/>
          <a:stretch/>
        </p:blipFill>
        <p:spPr>
          <a:xfrm>
            <a:off x="2124000" y="4365720"/>
            <a:ext cx="15940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3"/>
          <p:cNvSpPr/>
          <p:nvPr/>
        </p:nvSpPr>
        <p:spPr>
          <a:xfrm>
            <a:off x="2897280" y="189000"/>
            <a:ext cx="6246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, не журися за тіло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сним, вогнем засвітилось вон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истим, палючим, як добре вин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ільними іскрами вгору злетіл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гкий, пухкий попілец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яже, вернувшися, в рідну землицю,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не початком тоді мій кінец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дуть приходити люд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богі й багаті, веселі й сумні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дощі й тугу нестимуть мені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їм промовляти душа моя буд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обізвуся до н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елестом тихим вербової гіл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лосом ніжним тонкої сопіл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утними росами з вітів мої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7451640" y="4446720"/>
            <a:ext cx="1528920" cy="22320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5"/>
          <p:cNvSpPr/>
          <p:nvPr/>
        </p:nvSpPr>
        <p:spPr>
          <a:xfrm>
            <a:off x="324000" y="4724280"/>
            <a:ext cx="36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vi-VN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́ся Украї́н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vi-VN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 (25) лютого 1871</a:t>
            </a:r>
            <a:r>
              <a:rPr b="1" lang="uk-U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</a:t>
            </a:r>
            <a:r>
              <a:rPr b="1" lang="vi-VN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 липня (1 серпня) 1913</a:t>
            </a:r>
            <a:r>
              <a:rPr b="1" lang="uk-U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3"/>
          <a:srcRect l="0" t="0" r="0" b="22"/>
          <a:stretch/>
        </p:blipFill>
        <p:spPr>
          <a:xfrm>
            <a:off x="611280" y="189000"/>
            <a:ext cx="27367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3"/>
          <p:cNvSpPr/>
          <p:nvPr/>
        </p:nvSpPr>
        <p:spPr>
          <a:xfrm>
            <a:off x="0" y="0"/>
            <a:ext cx="9144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7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шим в історії правильно визначив явище горіння як процес з'єднання речовин із киснем видатний французький хімік Антуан-Лоран Лавуазьє (1743 - 1794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5"/>
          <p:cNvSpPr/>
          <p:nvPr/>
        </p:nvSpPr>
        <p:spPr>
          <a:xfrm>
            <a:off x="6516720" y="242100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іння виникає за одночасної  наявності трьох основних складов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child0003_002"/>
          <p:cNvPicPr/>
          <p:nvPr/>
        </p:nvPicPr>
        <p:blipFill>
          <a:blip r:embed="rId2"/>
          <a:stretch/>
        </p:blipFill>
        <p:spPr>
          <a:xfrm>
            <a:off x="2916360" y="1557360"/>
            <a:ext cx="3348000" cy="388764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7"/>
          <p:cNvSpPr/>
          <p:nvPr/>
        </p:nvSpPr>
        <p:spPr>
          <a:xfrm>
            <a:off x="1116000" y="558972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ови виникнення горіння ("трикутник вогню"). На цьому "трикутнику вогню" заснована низка спеціальних заходів щодо запобігання пожежам і ґрунтуються способи ліквідації горінн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3"/>
          <a:stretch/>
        </p:blipFill>
        <p:spPr>
          <a:xfrm>
            <a:off x="179280" y="1557360"/>
            <a:ext cx="252108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179280" y="277560"/>
            <a:ext cx="8651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альшу розробку теорії процесів горіння вивчав академік М.М. Семенов, за що йому у 1956 р. було присвоєно Нобелівську премію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3497400" cy="352728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5"/>
          <p:cNvSpPr/>
          <p:nvPr/>
        </p:nvSpPr>
        <p:spPr>
          <a:xfrm>
            <a:off x="395280" y="515772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менов(праворуч) і Капіца(злі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6"/>
          <p:cNvSpPr/>
          <p:nvPr/>
        </p:nvSpPr>
        <p:spPr>
          <a:xfrm>
            <a:off x="3924360" y="1484280"/>
            <a:ext cx="5219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ко́ла Микола́йович Семе́н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(15 квітня) 1896— 25 вересня 1986 радянський хімік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</a:t>
            </a:r>
            <a:r>
              <a:rPr b="1" lang="vi-V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ізик, один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і</a:t>
            </a:r>
            <a:r>
              <a:rPr b="1" lang="vi-V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сновників </a:t>
            </a:r>
            <a:r>
              <a:rPr b="1" lang="vi-V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хімічної фізики, єдиний радянський лауреат Нобелівської премії з хімії (отримав в 1956 році спільно з Сирілом Хиншелвуд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3"/>
          <a:stretch/>
        </p:blipFill>
        <p:spPr>
          <a:xfrm>
            <a:off x="4788000" y="4611600"/>
            <a:ext cx="3671640" cy="18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2T12:54:28Z</dcterms:created>
  <dc:creator>ALEX-NANYA</dc:creator>
  <dc:description/>
  <dc:language>en-US</dc:language>
  <cp:lastModifiedBy>ALEX-TANYA</cp:lastModifiedBy>
  <dcterms:modified xsi:type="dcterms:W3CDTF">2012-02-12T14:38:05Z</dcterms:modified>
  <cp:revision>74</cp:revision>
  <dc:subject/>
  <dc:title>4 стихії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82b000000000001024140</vt:lpwstr>
  </property>
</Properties>
</file>