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5.png" ContentType="image/pn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0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44.gif" ContentType="image/gif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7.gif" ContentType="image/gif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969-2642-4265-97F0-CB186C67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D49-B38B-49AC-9C0A-C7BA7261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BA4-584B-4A28-A62C-5AE76438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D81-E37F-4FD8-AB4A-FFB6835E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6D4-305D-4962-956B-796D653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9CD-F600-45EF-A000-0BD57F1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0E5-2A37-4635-B700-7F8596C3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439-8DA5-4D74-ABF6-F83832F1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050-2D69-41E3-8DCE-248603DF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834-BA0A-4C72-A0E6-AAB28BA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630-C39C-4A3D-A442-03C4DE51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883-09F9-4724-A0D2-5E2B1C42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B1D1-2E65-4BEC-A4E6-1DD393364C9D}" type="slidenum">
              <a:rPr b="0" lang="uk-U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4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24000" y="4437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Time Roman"/>
              </a:rPr>
              <a:t>Бог вирішивши створити Світ, призвав 4 стих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ізико-хімічні властивості вогн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i15.gif"/>
          <p:cNvPicPr/>
          <p:nvPr/>
        </p:nvPicPr>
        <p:blipFill>
          <a:blip r:embed="rId2"/>
          <a:stretch/>
        </p:blipFill>
        <p:spPr>
          <a:xfrm>
            <a:off x="900000" y="568440"/>
            <a:ext cx="2016360" cy="349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42.gif"/>
          <p:cNvPicPr/>
          <p:nvPr/>
        </p:nvPicPr>
        <p:blipFill>
          <a:blip r:embed="rId3"/>
          <a:stretch/>
        </p:blipFill>
        <p:spPr>
          <a:xfrm>
            <a:off x="168120" y="41241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492360" y="1067040"/>
            <a:ext cx="5651640" cy="3018600"/>
          </a:xfrm>
          <a:prstGeom prst="rect">
            <a:avLst/>
          </a:prstGeom>
          <a:solidFill>
            <a:srgbClr val="a6a6a6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іння – це фізико-хім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 взаємодії горюч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овини з киснем повіт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аслідок чого виділя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пло і випромінюється світл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́нь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vi-VN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— як найбільший добродій людства</a:t>
            </a:r>
            <a:r>
              <a:rPr b="1" lang="uk-UA" sz="4400" spc="-1" strike="noStrike">
                <a:solidFill>
                  <a:srgbClr val="ffcc00"/>
                </a:solidFill>
                <a:latin typeface="Calibri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195640" y="1700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опалює наші оселі ( за допомогою теплотехніки,  усі теплоелектростанції працюють  за принципом спалювання енергоносії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6" descr="teplotehnika.jpg"/>
          <p:cNvPicPr/>
          <p:nvPr/>
        </p:nvPicPr>
        <p:blipFill>
          <a:blip r:embed="rId2"/>
          <a:stretch/>
        </p:blipFill>
        <p:spPr>
          <a:xfrm>
            <a:off x="250920" y="981000"/>
            <a:ext cx="1908000" cy="1906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24000" y="299736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у приготуванні їжі ( за принципом теплової обробки продукті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7236000" y="2349360"/>
            <a:ext cx="1368360" cy="1873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2374920" y="4221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нам подорожувати по різним містам нашої планети Земля (усі двигуни автомобілів працюють за принципом внутрішнього згоря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755640" y="3716280"/>
            <a:ext cx="1655640" cy="12445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916360" y="551664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огонь – допомагає нам на виробництві (виплавка металів, зварювання металевих конструкцій, тощо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5"/>
          <a:stretch/>
        </p:blipFill>
        <p:spPr>
          <a:xfrm>
            <a:off x="1476360" y="5607000"/>
            <a:ext cx="1405080" cy="125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6"/>
          <a:stretch/>
        </p:blipFill>
        <p:spPr>
          <a:xfrm>
            <a:off x="179280" y="5157720"/>
            <a:ext cx="13320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686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́нь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як найбільш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езпека</a:t>
            </a:r>
            <a:r>
              <a:rPr b="1" lang="vi-VN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юд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ережне поводження з вогнем призводить до великих небезп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3768840" y="2924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ісових пожеж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782880" y="4221000"/>
            <a:ext cx="46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генних катастроф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851280" y="5410080"/>
            <a:ext cx="52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жеж та вибухів на підприєм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 в оселях, тощ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71280" y="2060640"/>
            <a:ext cx="20196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6"/>
          <a:stretch/>
        </p:blipFill>
        <p:spPr>
          <a:xfrm>
            <a:off x="1717560" y="2492280"/>
            <a:ext cx="1917720" cy="1181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7"/>
          <a:stretch/>
        </p:blipFill>
        <p:spPr>
          <a:xfrm>
            <a:off x="82440" y="3681360"/>
            <a:ext cx="1871640" cy="145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8"/>
          <a:stretch/>
        </p:blipFill>
        <p:spPr>
          <a:xfrm>
            <a:off x="1889280" y="3933720"/>
            <a:ext cx="1279440" cy="157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1"/>
          <p:cNvPicPr/>
          <p:nvPr/>
        </p:nvPicPr>
        <p:blipFill>
          <a:blip r:embed="rId9"/>
          <a:stretch/>
        </p:blipFill>
        <p:spPr>
          <a:xfrm>
            <a:off x="324000" y="5229360"/>
            <a:ext cx="1444320" cy="1488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22" descr="4"/>
          <p:cNvPicPr/>
          <p:nvPr/>
        </p:nvPicPr>
        <p:blipFill>
          <a:blip r:embed="rId10"/>
          <a:stretch/>
        </p:blipFill>
        <p:spPr>
          <a:xfrm>
            <a:off x="1763640" y="5661000"/>
            <a:ext cx="1594080" cy="119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250920" y="26028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изити рівень пожежної небезпеки можна шляхом застосування негорючих матеріалів, обмеженням маси та об'єму горючих матеріалів і речовин, ізолюванням горючого середовища (наприклад, застосуванням ізольованих негорючих відсіків, кабін), вогнезахи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незахист - це зниження рівня пожежної небезпеки матеріалів і конструкцій шляхом спеціальної обробки. Для такої обробки часто застосовують спеціальні речовини - антипі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hild0003_005"/>
          <p:cNvPicPr/>
          <p:nvPr/>
        </p:nvPicPr>
        <p:blipFill>
          <a:blip r:embed="rId2"/>
          <a:stretch/>
        </p:blipFill>
        <p:spPr>
          <a:xfrm>
            <a:off x="250920" y="3068640"/>
            <a:ext cx="2528640" cy="3166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24000" y="256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есення антипірену на деревину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9"/>
          <p:cNvGrpSpPr/>
          <p:nvPr/>
        </p:nvGrpSpPr>
        <p:grpSpPr>
          <a:xfrm>
            <a:off x="5148360" y="2349360"/>
            <a:ext cx="3887640" cy="3818160"/>
            <a:chOff x="5148360" y="2349360"/>
            <a:chExt cx="3887640" cy="3818160"/>
          </a:xfrm>
        </p:grpSpPr>
        <p:pic>
          <p:nvPicPr>
            <p:cNvPr id="124" name="Picture 5" descr=""/>
            <p:cNvPicPr/>
            <p:nvPr/>
          </p:nvPicPr>
          <p:blipFill>
            <a:blip r:embed="rId3"/>
            <a:stretch/>
          </p:blipFill>
          <p:spPr>
            <a:xfrm>
              <a:off x="5148360" y="2349360"/>
              <a:ext cx="2328840" cy="23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"/>
            <p:cNvPicPr/>
            <p:nvPr/>
          </p:nvPicPr>
          <p:blipFill>
            <a:blip r:embed="rId4"/>
            <a:stretch/>
          </p:blipFill>
          <p:spPr>
            <a:xfrm>
              <a:off x="7451640" y="2349360"/>
              <a:ext cx="1584360" cy="21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7" descr=""/>
            <p:cNvPicPr/>
            <p:nvPr/>
          </p:nvPicPr>
          <p:blipFill>
            <a:blip r:embed="rId5"/>
            <a:stretch/>
          </p:blipFill>
          <p:spPr>
            <a:xfrm>
              <a:off x="5148360" y="4437000"/>
              <a:ext cx="230328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6"/>
            <a:stretch/>
          </p:blipFill>
          <p:spPr>
            <a:xfrm>
              <a:off x="7451640" y="4437000"/>
              <a:ext cx="1584360" cy="17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9" descr=""/>
          <p:cNvPicPr/>
          <p:nvPr/>
        </p:nvPicPr>
        <p:blipFill>
          <a:blip r:embed="rId7"/>
          <a:stretch/>
        </p:blipFill>
        <p:spPr>
          <a:xfrm>
            <a:off x="2843280" y="3860640"/>
            <a:ext cx="2274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Группа 13"/>
          <p:cNvGrpSpPr/>
          <p:nvPr/>
        </p:nvGrpSpPr>
        <p:grpSpPr>
          <a:xfrm>
            <a:off x="0" y="3429000"/>
            <a:ext cx="4572000" cy="3429000"/>
            <a:chOff x="0" y="3429000"/>
            <a:chExt cx="4572000" cy="3429000"/>
          </a:xfrm>
        </p:grpSpPr>
        <p:pic>
          <p:nvPicPr>
            <p:cNvPr id="43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9" descr="0.jpeg"/>
            <p:cNvPicPr/>
            <p:nvPr/>
          </p:nvPicPr>
          <p:blipFill>
            <a:blip r:embed="rId3"/>
            <a:stretch/>
          </p:blipFill>
          <p:spPr>
            <a:xfrm>
              <a:off x="3072960" y="3443040"/>
              <a:ext cx="1497960" cy="149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" name="Группа 18"/>
          <p:cNvGrpSpPr/>
          <p:nvPr/>
        </p:nvGrpSpPr>
        <p:grpSpPr>
          <a:xfrm>
            <a:off x="4572000" y="0"/>
            <a:ext cx="4572000" cy="3430440"/>
            <a:chOff x="4572000" y="0"/>
            <a:chExt cx="4572000" cy="343044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rcRect l="0" t="0" r="-74" b="0"/>
            <a:stretch/>
          </p:blipFill>
          <p:spPr>
            <a:xfrm>
              <a:off x="4572000" y="0"/>
              <a:ext cx="4572000" cy="34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10" descr="02.jpeg"/>
            <p:cNvPicPr/>
            <p:nvPr/>
          </p:nvPicPr>
          <p:blipFill>
            <a:blip r:embed="rId5"/>
            <a:stretch/>
          </p:blipFill>
          <p:spPr>
            <a:xfrm>
              <a:off x="4577400" y="1888560"/>
              <a:ext cx="1584000" cy="15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Группа 17"/>
          <p:cNvGrpSpPr/>
          <p:nvPr/>
        </p:nvGrpSpPr>
        <p:grpSpPr>
          <a:xfrm>
            <a:off x="0" y="0"/>
            <a:ext cx="4587840" cy="3429000"/>
            <a:chOff x="0" y="0"/>
            <a:chExt cx="4587840" cy="3429000"/>
          </a:xfrm>
        </p:grpSpPr>
        <p:pic>
          <p:nvPicPr>
            <p:cNvPr id="49" name="Picture 3" descr=""/>
            <p:cNvPicPr/>
            <p:nvPr/>
          </p:nvPicPr>
          <p:blipFill>
            <a:blip r:embed="rId6"/>
            <a:srcRect l="0" t="0" r="0" b="-39"/>
            <a:stretch/>
          </p:blipFill>
          <p:spPr>
            <a:xfrm>
              <a:off x="0" y="0"/>
              <a:ext cx="457164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Рисунок 11" descr="03.jpeg"/>
            <p:cNvPicPr/>
            <p:nvPr/>
          </p:nvPicPr>
          <p:blipFill>
            <a:blip r:embed="rId7"/>
            <a:stretch/>
          </p:blipFill>
          <p:spPr>
            <a:xfrm>
              <a:off x="3071520" y="1892520"/>
              <a:ext cx="1516320" cy="151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Группа 19"/>
          <p:cNvGrpSpPr/>
          <p:nvPr/>
        </p:nvGrpSpPr>
        <p:grpSpPr>
          <a:xfrm>
            <a:off x="4572000" y="3408480"/>
            <a:ext cx="4572000" cy="3449520"/>
            <a:chOff x="4572000" y="3408480"/>
            <a:chExt cx="4572000" cy="3449520"/>
          </a:xfrm>
        </p:grpSpPr>
        <p:pic>
          <p:nvPicPr>
            <p:cNvPr id="52" name="Picture 8" descr=""/>
            <p:cNvPicPr/>
            <p:nvPr/>
          </p:nvPicPr>
          <p:blipFill>
            <a:blip r:embed="rId8"/>
            <a:stretch/>
          </p:blipFill>
          <p:spPr>
            <a:xfrm>
              <a:off x="4572000" y="3428640"/>
              <a:ext cx="4572000" cy="34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Рисунок 12" descr="04.jpeg"/>
            <p:cNvPicPr/>
            <p:nvPr/>
          </p:nvPicPr>
          <p:blipFill>
            <a:blip r:embed="rId9"/>
            <a:stretch/>
          </p:blipFill>
          <p:spPr>
            <a:xfrm>
              <a:off x="4572000" y="3408480"/>
              <a:ext cx="1584000" cy="153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Box 5"/>
          <p:cNvSpPr/>
          <p:nvPr/>
        </p:nvSpPr>
        <p:spPr>
          <a:xfrm>
            <a:off x="179280" y="4653000"/>
            <a:ext cx="46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Повітр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39640" y="404640"/>
            <a:ext cx="28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5364000" y="476280"/>
            <a:ext cx="360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Земл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111640" y="458136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0000"/>
                </a:solidFill>
                <a:latin typeface="Time Roman"/>
              </a:rPr>
              <a:t>Вогон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4067280" y="1773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версі монети із золота розміщено коло, діагонально поділене на сектори, які   символізують чотири стихії: землю, повітря, воду, вогонь; у центрі кола – стилізоване зображення сонц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510_06_g_zol__oven.1.jpg"/>
          <p:cNvPicPr/>
          <p:nvPr/>
        </p:nvPicPr>
        <p:blipFill>
          <a:blip r:embed="rId2"/>
          <a:stretch/>
        </p:blipFill>
        <p:spPr>
          <a:xfrm>
            <a:off x="1103400" y="5229360"/>
            <a:ext cx="2600280" cy="1296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big_1249211212.jpg"/>
          <p:cNvPicPr/>
          <p:nvPr/>
        </p:nvPicPr>
        <p:blipFill>
          <a:blip r:embed="rId3"/>
          <a:srcRect l="0" t="0" r="0" b="-109"/>
          <a:stretch/>
        </p:blipFill>
        <p:spPr>
          <a:xfrm>
            <a:off x="203040" y="4149720"/>
            <a:ext cx="29736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big_1249211966.jpg"/>
          <p:cNvPicPr/>
          <p:nvPr/>
        </p:nvPicPr>
        <p:blipFill>
          <a:blip r:embed="rId4"/>
          <a:stretch/>
        </p:blipFill>
        <p:spPr>
          <a:xfrm>
            <a:off x="944640" y="2997360"/>
            <a:ext cx="2835360" cy="129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MoneyImage_1_57.jpg"/>
          <p:cNvPicPr/>
          <p:nvPr/>
        </p:nvPicPr>
        <p:blipFill>
          <a:blip r:embed="rId5"/>
          <a:stretch/>
        </p:blipFill>
        <p:spPr>
          <a:xfrm>
            <a:off x="250920" y="1773360"/>
            <a:ext cx="2625480" cy="1314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2"/>
          <p:cNvSpPr/>
          <p:nvPr/>
        </p:nvSpPr>
        <p:spPr>
          <a:xfrm>
            <a:off x="0" y="333360"/>
            <a:ext cx="919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'ятні та ювілейні монети України,серія 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наки зодіаку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3276720" y="404640"/>
            <a:ext cx="5867280" cy="228852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́н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фологі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більший добродій людства, справжній творець цивілізації, що дає світло і тепло, два головні джерела життя, із найдавніших часів був об'єктом культу і СИМВОЛОМ БОЖЕСЬКОЇ С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ageofmyth_121802_006.jpg"/>
          <p:cNvPicPr/>
          <p:nvPr/>
        </p:nvPicPr>
        <p:blipFill>
          <a:blip r:embed="rId2"/>
          <a:stretch/>
        </p:blipFill>
        <p:spPr>
          <a:xfrm>
            <a:off x="324000" y="3213000"/>
            <a:ext cx="3678120" cy="2759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4140360" y="2997360"/>
            <a:ext cx="4752720" cy="314316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пі́тер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це </a:t>
            </a:r>
            <a:r>
              <a:rPr b="1" lang="vi-V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овий відмінок латинізованої вимови грецького імені Зевс, що виник через невміння італійців вимовляти грецький звук "з". Італьський бог неба з його атмосферними явищами — дощем, громом та блискавкою, творець достатку, врожайності, перемоги, зцілення; охоронець порядку, вірності, чистоти; верховний цар богів і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42.gif"/>
          <p:cNvPicPr/>
          <p:nvPr/>
        </p:nvPicPr>
        <p:blipFill>
          <a:blip r:embed="rId3"/>
          <a:stretch/>
        </p:blipFill>
        <p:spPr>
          <a:xfrm>
            <a:off x="371520" y="549360"/>
            <a:ext cx="278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у не дарма в різних міфологіях присутні “Боги Вогню”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344600" cy="20224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1655640" y="1341360"/>
            <a:ext cx="7488360" cy="825480"/>
          </a:xfrm>
          <a:prstGeom prst="rect">
            <a:avLst/>
          </a:prstGeom>
          <a:solidFill>
            <a:srgbClr val="a6a6a6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ґні (санскр.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अग्नि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«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гонь») — бог вогню в індуїзмі, охоронець південно-східної частини сві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250920" y="2997360"/>
            <a:ext cx="1177920" cy="1577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547640" y="2781360"/>
            <a:ext cx="7596360" cy="1557000"/>
          </a:xfrm>
          <a:prstGeom prst="rect">
            <a:avLst/>
          </a:prstGeom>
          <a:solidFill>
            <a:srgbClr val="a6a6a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фе́ст (грец.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Ήφαιστος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phaistos) —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ьгавий син Зевса й Гери (за деякими переказами, син самої Гери), бог вогню та ковальства, на відміну від інших богів не цурався фізичної прац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1835280" y="4653000"/>
            <a:ext cx="7308720" cy="1557000"/>
          </a:xfrm>
          <a:prstGeom prst="rect">
            <a:avLst/>
          </a:prstGeom>
          <a:solidFill>
            <a:srgbClr val="a6a6a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у́н — божество в давньоруській язичницьк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й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фології, покровитель князя і дружини, ймовірно, бог війни. Також, судячи з лінгвістични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и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бог-громовержець, бог грози, грому і блиск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12970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ж нам відома легенда про ПРОМЕТЕ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780000" y="1268280"/>
            <a:ext cx="536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́й (грец. </a:t>
            </a:r>
            <a:r>
              <a:rPr b="1" lang="el-G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ρομηθεύς,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etheus —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идець) — у грецькій міфології віщий і добрий син титана Япета й німфи Клімени (варіанти: Асії, Феміди), брат Атаманта, Менетія та Епіметея, батько Девкаліона. Допоміг Зевс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олати титанів і здобути владу над світом. Під час суперечки про зменшення жертв богам став на бік людей, які жили надголодь і були безсилі проти могутніх олімпійців. Прометей поділив забитого бика на дві частини. В одну купу склав усе м'ясо й накрив шкурою тварини, а в другу — самі кістки, поклавши на них шматки жиру. Зевс, уведений в оману, вибрав купу, яка лисніла смачним жиром. Відтоді люди стали приносити в жертву богам кістки, тобто гіршу частину вбитої тварини, а самі їли м'ясо. Зевс розгнівався на людей і забрав у них вогонь, однак Прометей викрав вогонь з Олімпу і приніс його людям у тростинці. Так людський рід було врятовано від голоду й холоду.</a:t>
            </a:r>
            <a:r>
              <a:rPr b="1" lang="uk-U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тея за протидію богам Зевс звелів прикути до однієї із скель Кавказу і пробити йому списом груди. Щоранку на скелю сідав орел і гострим дзьобом рвав печі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passion7.JPG"/>
          <p:cNvPicPr/>
          <p:nvPr/>
        </p:nvPicPr>
        <p:blipFill>
          <a:blip r:embed="rId2"/>
          <a:stretch/>
        </p:blipFill>
        <p:spPr>
          <a:xfrm>
            <a:off x="324000" y="1125360"/>
            <a:ext cx="119988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1763640" y="1373040"/>
            <a:ext cx="2016360" cy="2878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size1.jpg"/>
          <p:cNvPicPr/>
          <p:nvPr/>
        </p:nvPicPr>
        <p:blipFill>
          <a:blip r:embed="rId4"/>
          <a:srcRect l="0" t="0" r="83" b="0"/>
          <a:stretch/>
        </p:blipFill>
        <p:spPr>
          <a:xfrm>
            <a:off x="0" y="3933720"/>
            <a:ext cx="2046240" cy="2924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35-18.jpg"/>
          <p:cNvPicPr/>
          <p:nvPr/>
        </p:nvPicPr>
        <p:blipFill>
          <a:blip r:embed="rId5"/>
          <a:stretch/>
        </p:blipFill>
        <p:spPr>
          <a:xfrm>
            <a:off x="2124000" y="4365720"/>
            <a:ext cx="1594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2897280" y="189000"/>
            <a:ext cx="624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, не журися за тіл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сним, вогнем засвітилось во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тим, палючим, як добре ви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льними іскрами вгору злеті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гкий, пухкий попілец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яже, вернувшися, в рідну землицю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не початком тоді мій кінец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уть приходити лю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богі й багаті, веселі й сум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ощі й тугу нестимуть мен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їм промовляти душа моя бу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обізвуся до 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лестом тихим вербової гі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ом ніжним тонкої сопі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утними росами з вітів мої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7451640" y="4446720"/>
            <a:ext cx="1528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324000" y="472428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́ся Украї́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(25) лютого 1871</a:t>
            </a: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vi-VN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липня (1 серпня) 1913</a:t>
            </a:r>
            <a:r>
              <a:rPr b="1" lang="uk-U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rcRect l="0" t="0" r="0" b="22"/>
          <a:stretch/>
        </p:blipFill>
        <p:spPr>
          <a:xfrm>
            <a:off x="611280" y="189000"/>
            <a:ext cx="27367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7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шим в історії правильно визначив явище горіння як процес з'єднання речовин із киснем видатний французький хімік Антуан-Лоран Лавуазьє (1743 - 1794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6516720" y="2421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іння виникає за одночасної  наявності трьох основних складов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hild0003_002"/>
          <p:cNvPicPr/>
          <p:nvPr/>
        </p:nvPicPr>
        <p:blipFill>
          <a:blip r:embed="rId2"/>
          <a:stretch/>
        </p:blipFill>
        <p:spPr>
          <a:xfrm>
            <a:off x="2916360" y="1557360"/>
            <a:ext cx="3348000" cy="388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1116000" y="55897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ови виникнення горіння ("трикутник вогню"). На цьому "трикутнику вогню" заснована низка спеціальних заходів щодо запобігання пожежам і ґрунтуються способи ліквідації горі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2521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179280" y="277560"/>
            <a:ext cx="865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альшу розробку теорії процесів горіння вивчав академік М.М. Семенов, за що йому у 1956 р. було присвоєно Нобелівську премію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497400" cy="35272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395280" y="5157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нов(праворуч) і Капіца(злі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924360" y="1484280"/>
            <a:ext cx="52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о́ла Микола́йович Семе́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(15 квітня) 1896— 25 вересня 1986 радянський хімік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ізик, один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новників </a:t>
            </a:r>
            <a:r>
              <a:rPr b="1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хімічної фізики, єдиний радянський лауреат Нобелівської премії з хімії (отримав в 1956 році спільно з Сирілом Хиншелвуд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4788000" y="4611600"/>
            <a:ext cx="367164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12:54:28Z</dcterms:created>
  <dc:creator>ALEX-NANYA</dc:creator>
  <dc:description/>
  <dc:language>en-US</dc:language>
  <cp:lastModifiedBy>ALEX-TANYA</cp:lastModifiedBy>
  <dcterms:modified xsi:type="dcterms:W3CDTF">2012-02-12T14:38:05Z</dcterms:modified>
  <cp:revision>74</cp:revision>
  <dc:subject/>
  <dc:title>4 стих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2b000000000001024140</vt:lpwstr>
  </property>
</Properties>
</file>