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CF5-81DC-4BEE-B13F-E0AB6E70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D14-42D1-4F6D-A50C-C94C0D07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A1F-6D83-4A6E-9F49-4D59390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869-2583-4C9C-B8A6-4E093461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47EB-860D-41E3-A18A-FC6C3121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91C-67E5-4E42-9D02-511B25D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3A7-95B5-4938-B923-98924CC1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EFE-B5AA-4B6D-95B3-5880D2C4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54F-B5C0-41E0-890F-3360FE5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F63-47AE-441A-A8D8-E19041B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95E-1858-48BF-A082-443E30D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7EB-6A42-478E-A08D-7276CB61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3291-682A-4E0A-9E38-B28EF3E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4AA-B1A0-4A6E-9DBC-FB3680F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7551-BCFA-4BCD-881D-329B75E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CF13-CF7A-4FF9-92F2-D1A2338C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A28-34F4-455A-A704-C5846107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1D9-C64E-488B-8F69-19C2A57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842-CE42-4009-ADC9-541F3E2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BD3-18F0-4251-857D-66A60BA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90F-CABE-4A7C-96EF-29FDD4F6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BE1-D104-4797-A284-926F7BA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153-4DC8-415C-AC32-A0E7A73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6C8-09D2-4619-B2C3-569C2F1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A76-216B-4896-80F6-7136032576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CA40-C2CD-4CCD-B062-BDDE4F4D10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Х</a:t>
            </a: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імічний склад</a:t>
            </a:r>
            <a:br>
              <a:rPr sz="4800"/>
            </a:b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 фаст-фуду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1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віт члені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хіміко-теоретичної лабораторі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однозаміщений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ристовується для покращення сма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еякі люди дуже чутливі до його вживання у великих доз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еакцією може бути головний біль, нудота, слабкість, печія, біль в області шиї та передпліччі, порушення серцевого ритму та ускладнення дих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усах для салаті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чіпса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46400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95272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5805360"/>
            <a:ext cx="2305080" cy="486000"/>
          </a:xfrm>
          <a:prstGeom prst="rightArrow">
            <a:avLst>
              <a:gd name="adj1" fmla="val 50000"/>
              <a:gd name="adj2" fmla="val 118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– і дигліцериди (емульгатори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блять хліб м'якшим, маргарин твердішим, а карамель менш липко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появі шарування в арахісовому масл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яться  моно- і дигліцери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аргарині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олодощ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1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72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нітрат тіаміну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вітамін В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бсолютно безпеч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вітамінізованих злакових культу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15756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атрій карбокси-метил целюлоза (згущувач і стабілізатор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Утворюється в результаті хімічних реакцій целюлози з похідним оцтової кисло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побігає кристалізації цукру в продук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іститься: у пиві, дієтичних продуктах, морозив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7367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ітрит натрію, нітрат натрію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(барвник, приправа і консервант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 натрію є стабілізатором червоного кольору консервованого м'яса і харчової добавки. Без нього хот-доги і бекон були б сірого кольор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ат натрію використовується для сухої консервації м'яса, наприклад, яловичини, тому що він повільніше розкладається на нітри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и також уповільнюють ріст бактерій, які викликають ботуліз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давання нітритів в продукти може збільшувати вплив нітрозамінів, які є причиною онкологічних захворювань. У наш час виробники додають аскорбінову кислоту в бекон для запобігання утворення нітрозамі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нітрит і нітрат натрі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бекон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копченій риб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89744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59280" y="2060640"/>
            <a:ext cx="865080" cy="485640"/>
          </a:xfrm>
          <a:prstGeom prst="rightArrow">
            <a:avLst>
              <a:gd name="adj1" fmla="val 50000"/>
              <a:gd name="adj2" fmla="val 445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084640"/>
            <a:ext cx="1336680" cy="486000"/>
          </a:xfrm>
          <a:prstGeom prst="leftArrow">
            <a:avLst>
              <a:gd name="adj1" fmla="val 50000"/>
              <a:gd name="adj2" fmla="val 68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замінник жиру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интетичний жир, який використовється для виготовлення чіпс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же викликати діарею, біль спазматичного характеру в шлунку, метеориз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нижує засвоєння організмом корисних жиророзчинни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α-, β-каротину, ліпкопіну і лютеїну, які надходять з фруктів та овоч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місти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ек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Акриламід (канцероген)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уйнує ДН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ликає хворобу Альцгеймер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традиційній картоплі “Фрі” його міститься у 100 разів більше нор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ражає нервову систе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чиняє різні генетичні мутації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є утворенню пухлин у черевній порожни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лісорбат 60 (емульгатор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лісорбати 60, 65, 80 діють аналогічно моно- і дигліцеридам і не потрібні людському організ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они не дають черствіти хлібобулочним виробам, звертатися кріпному маслі в маринад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ють розчиненню вершків для ка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ють відокремленню масла у збитих крем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Є полісорба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хлібобулочних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роб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молочних десерт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5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4328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7640" y="6237360"/>
            <a:ext cx="2952720" cy="44604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лгаллат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Антиоксидант і 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берігає жир і мас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оже бути причиною онкологічних захворювань у тварин та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іститься у жувальній гумці, м'ясних продуктах і рослинній олії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762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онат кальцію (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є утворенню плісня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живання кальцію корисне та безпеч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хлібі та випічц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697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іль (натрій хлорид) приправа та консерв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ловживання сіллю збільшує ризик розвитку артеріальної гіпертензії, що у свою чергу є причиною виникнення серцевих приступів та інсуль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більшості продук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теариллактат кальцію (добавка до тіста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кріплює тісто для його використання у хлібопекарському обладнанні, що дозволяє виготовляти більші об'єми хлі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кремі, тісті для випічки хліба, начинці для пиріж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окоферол (вітамін Е) Антиоксид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дається для запобігання прогірклост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рослинних оліях та подрібнених зла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іфіти (відбілююча та консервуюча речови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ють колір вказа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росту бактерій у винах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уйнують вітамін В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ожуть слугувати причиною приступу аст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ьфіти містя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ухофр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а в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024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Фосфати, ортофосфатна кислота</a:t>
            </a: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 (ароматизатор, емульгатор, підкислююча добавка, стабілізатор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Ортофосфатна кислота – це харчова добавка, яка використовується для виготовлення ко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сфат кальцію та феруму діють як мінеральні добав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Алюмінієво-натірієвий фосфат є розпушувачем ті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ислий пірофосфат натрію запобігає зміненню кольору картоплі та цукрового сироп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надмірному вживанні фосфатів може відбутися дисбаланс у харчуванн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криламі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мажених та печених прод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сфати містя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ирах           у газованих напо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345600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919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рансізомерні жир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ід час технологічної обробки олій, як-от: підігрівання, гідрування, знебарвлення та дезодорація – відбуваються зміни у структурі вищих ненасичених карбонових кислот та їх залишків у жирах. А саме:   цис-ізомери перетворюються на транс-ізоме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міна просторової конфігурації молекул біологічно   активних речовин має фатальні наслідки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відомляєм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Усі використані матеріали та картинки слугують лише в наукових цілях і не рекламують виробників продукції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33cc"/>
                </a:solidFill>
                <a:latin typeface="Tahoma"/>
              </a:rPr>
              <a:t>Дякуємо за увагу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скорбінова кислота (Вітамін С)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нтиоксидант, стабілізатор кольору харчових продукті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є червоні кольори м'яс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є створенню канцерогенних нітрозамін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користовується для насичення продуктів вітамі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скорбінова кисл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уп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'ясних консерв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7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(добавка для поліпшення якості борош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користовується для збільшення о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єму хліба і поліпшкння структри 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иш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ільша частина брооматів швидко розкладається на безпечні форми бромід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ромати можуть спровокувати онкологічні захворюван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Їх мізерна кількість, яка міститься в хлібі, також являє незначний ризик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омати заборонені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Великій Британії та Південній Африці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білому борошн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905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ідролізований рослинній білок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V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кладається із рослинного білка (із соєвих бобів), який руйнується амінокислотними еомпонент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ращує смак натураль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 однозаміщений глутамат натрію, який може викликати неадекватні алергічні реакц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гідролізований біл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сисках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упах-концентратах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38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30:50Z</dcterms:created>
  <dc:creator>Customer</dc:creator>
  <dc:description/>
  <dc:language>en-US</dc:language>
  <cp:lastModifiedBy>Admin</cp:lastModifiedBy>
  <dcterms:modified xsi:type="dcterms:W3CDTF">2012-02-05T13:24:15Z</dcterms:modified>
  <cp:revision>8</cp:revision>
  <dc:subject/>
  <dc:title>Хімічний склад фаст-фу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b000000000001024140</vt:lpwstr>
  </property>
</Properties>
</file>