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271-EF36-47D6-8C4C-18D3BB1D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2BC-8B67-4433-87E6-D10CC93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4B5-7620-4D49-9E2A-B44F28D9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991-7B4A-4C1F-A025-D2E6B572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36E-ED9D-45F5-A31D-E05BE18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1352-EF24-48DB-A7B1-677C5956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FAF1-7FEF-4052-A90A-E62D24E4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8BA1-BCE4-41C1-A9B0-C0AB4E3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9C75-553D-4667-AE68-5E8C4F0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E718-9470-4E96-85E1-A4028A7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5327-0DD5-4012-AD23-61C466C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4E2-6DFC-4E79-8B99-4D77DDA9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ADC-4F47-4488-9B78-BB928477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E133-ABB9-479B-AD2D-25B847D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787-D5A8-45D0-9311-CCE5B4DC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8F0-7FAE-484A-99C6-52DF10B2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8EB3-E329-4EA7-B339-9A5EFBEE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D87-3FB9-4E6D-9A87-0C229860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10C-8BE2-4BB3-8C67-35F873FD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2C9-3D1D-4DB9-A6B4-C7CDB69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521-6872-488B-8056-12FB4E7C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3A3-6396-4FC8-8341-3FF8429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188-F4C7-4B8C-A924-34892AD5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DCE-0D21-4559-BEBE-FC768DE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14AC-A7FA-41DB-89F0-9F6912CDB6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C2DF-1DE0-4441-A27B-0097D6DB2E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Х</a:t>
            </a: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імічний склад</a:t>
            </a:r>
            <a:br>
              <a:rPr sz="4800"/>
            </a:b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 фаст-фуду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13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віт члені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хіміко-теоретичної лабораторі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однозаміщений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S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ристовується для покращення смак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еякі люди дуже чутливі до його вживання у великих доз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еакцією може бути головний біль, нудота, слабкість, печія, біль в області шиї та передпліччі, порушення серцевого ритму та ускладнення дихан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усах для салаті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чіпса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446400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295272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87640" y="5805360"/>
            <a:ext cx="2305080" cy="486000"/>
          </a:xfrm>
          <a:prstGeom prst="rightArrow">
            <a:avLst>
              <a:gd name="adj1" fmla="val 50000"/>
              <a:gd name="adj2" fmla="val 11857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– і дигліцериди (емульгатори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облять хліб м'якшим, маргарин твердішим, а карамель менш липко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появі шарування в арахісовому масл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яться  моно- і дигліцери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аргарині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олодощ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10364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722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нітрат тіаміну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вітамін В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бсолютно безпеч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вітамінізованих злакових культу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157560" cy="26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атрій карбокси-метил целюлоза (згущувач і стабілізатор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Утворюється в результаті хімічних реакцій целюлози з похідним оцтової кисло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побігає кристалізації цукру в продук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іститься: у пиві, дієтичних продуктах, морозив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88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73672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664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ітрит натрію, нітрат натрію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(барвник, приправа і консервант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 натрію є стабілізатором червоного кольору консервованого м'яса і харчової добавки. Без нього хот-доги і бекон були б сірого кольор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ат натрію використовується для сухої консервації м'яса, наприклад, яловичини, тому що він повільніше розкладається на нітри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и також уповільнюють ріст бактерій, які викликають ботуліз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давання нітритів в продукти може збільшувати вплив нітрозамінів, які є причиною онкологічних захворювань. У наш час виробники додають аскорбінову кислоту в бекон для запобігання утворення нітрозаміні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нітрит і нітрат натрі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бекон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копченій риб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897440" cy="28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59280" y="2060640"/>
            <a:ext cx="865080" cy="485640"/>
          </a:xfrm>
          <a:prstGeom prst="rightArrow">
            <a:avLst>
              <a:gd name="adj1" fmla="val 50000"/>
              <a:gd name="adj2" fmla="val 445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084640"/>
            <a:ext cx="1336680" cy="486000"/>
          </a:xfrm>
          <a:prstGeom prst="leftArrow">
            <a:avLst>
              <a:gd name="adj1" fmla="val 50000"/>
              <a:gd name="adj2" fmla="val 687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замінник жиру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интетичний жир, який використовється для виготовлення чіпс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оже викликати діарею, біль спазматичного характеру в шлунку, метеориз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нижує засвоєння організмом корисних жиророзчинни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α-, β-каротину, ліпкопіну і лютеїну, які надходять з фруктів та овочі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місти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еке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Акриламід (канцероген)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уйнує ДНК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ликає хворобу Альцгеймер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традиційній картоплі “Фрі” його міститься у 100 разів більше нор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ражає нервову систе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чиняє різні генетичні мутації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є утворенню пухлин у черевній порожнин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лісорбат 60 (емульгатор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олісорбати 60, 65, 80 діють аналогічно моно- і дигліцеридам і не потрібні людському організ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они не дають черствіти хлібобулочним виробам, звертатися кріпному маслі в маринад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ють розчиненню вершків для ка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ють відокремленню масла у збитих крем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Є полісорба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хлібобулочних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роб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молочних десерт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572000" cy="266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743280" cy="417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27640" y="6237360"/>
            <a:ext cx="2952720" cy="44604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59760 h 446040"/>
              <a:gd name="textAreaBottom" fmla="*/ 386280 h 4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лгаллат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Антиоксидант і 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берігає жир і масл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оже бути причиною онкологічних захворювань у тварин та лю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іститься у жувальній гумці, м'ясних продуктах і рослинній олії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762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онат кальцію (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є утворенню плісня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живання кальцію корисне та безпеч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хлібі та випічц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6697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іль (натрій хлорид) приправа та консерв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ловживання сіллю збільшує ризик розвитку артеріальної гіпертензії, що у свою чергу є причиною виникнення серцевих приступів та інсуль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більшості продук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теариллактат кальцію (добавка до тіста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кріплює тісто для його використання у хлібопекарському обладнанні, що дозволяє виготовляти більші об'єми хліб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кремі, тісті для випічки хліба, начинці для пиріжкі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окоферол (вітамін Е) Антиоксид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одається для запобігання прогірклост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рослинних оліях та подрібнених зла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814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іфіти (відбілююча та консервуюча речови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ють колір вказа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росту бактерій у винах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уйнують вітамін В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ожуть слугувати причиною приступу аст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ьфіти містя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ухофр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та в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3024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Фосфати, ортофосфатна кислота</a:t>
            </a: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 (ароматизатор, емульгатор, підкислююча добавка, стабілізатор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Ортофосфатна кислота – це харчова добавка, яка використовується для виготовлення ко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Фосфат кальцію та феруму діють як мінеральні добав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Алюмінієво-натірієвий фосфат є розпушувачем ті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ислий пірофосфат натрію запобігає зміненню кольору картоплі та цукрового сироп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надмірному вживанні фосфатів може відбутися дисбаланс у харчуванн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криламі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мажених та печених прод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4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сфати містя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ирах           у газованих напо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345600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919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рансізомерні жир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ід час технологічної обробки олій, як-от: підігрівання, гідрування, знебарвлення та дезодорація – відбуваються зміни у структурі вищих ненасичених карбонових кислот та їх залишків у жирах. А саме:   цис-ізомери перетворюються на транс-ізоме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міна просторової конфігурації молекул біологічно   активних речовин має фатальні наслідки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відомляєм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Усі використані матеріали та картинки слугують лише в наукових цілях і не рекламують виробників продукції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33cc"/>
                </a:solidFill>
                <a:latin typeface="Tahoma"/>
              </a:rPr>
              <a:t>Дякуємо за увагу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скорбінова кислота (Вітамін С)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нтиоксидант, стабілізатор кольору харчових продуктів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є червоні кольори м'яс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є створенню канцерогенних нітрозамін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користовується для насичення продуктів вітамі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скорбінова кисл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уп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'ясних консерв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17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(добавка для поліпшення якості борош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користовується для збільшення о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єму хліба і поліпшкння структри 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иш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ільша частина брооматів швидко розкладається на безпечні форми бромід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ромати можуть спровокувати онкологічні захворюванн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Їх мізерна кількість, яка міститься в хлібі, також являє незначний ризик;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омати заборонені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Великій Британії та Південній Африці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білому борошн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905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ідролізований рослинній білок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V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кладається із рослинного білка (із соєвих бобів), який руйнується амінокислотними еомпонента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кращує смак натураль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 однозаміщений глутамат натрію, який може викликати неадекватні алергічні реакц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гідролізований біл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сисках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упах-концентратах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384720" cy="345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30:50Z</dcterms:created>
  <dc:creator>Customer</dc:creator>
  <dc:description/>
  <dc:language>en-US</dc:language>
  <cp:lastModifiedBy>Admin</cp:lastModifiedBy>
  <dcterms:modified xsi:type="dcterms:W3CDTF">2012-02-05T13:24:15Z</dcterms:modified>
  <cp:revision>8</cp:revision>
  <dc:subject/>
  <dc:title>Хімічний склад фаст-фу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0b000000000001024140</vt:lpwstr>
  </property>
</Properties>
</file>