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.jpeg" ContentType="image/jpeg"/>
  <Override PartName="/ppt/media/image18.wmf" ContentType="image/x-wmf"/>
  <Override PartName="/ppt/media/image26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0DF7-4762-4D27-8ADE-D5406877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7B3F-1B6C-4BBB-BCA2-B9421892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2DB1-33F9-40A8-B09D-CD108F2E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C421-F161-4448-84BD-3C059B58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1B8D-C238-492E-A8C5-1A7F1AE2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BFAA-C385-49B9-A19C-E815D158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3CB2-113B-4149-858E-626840D8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5BF6-7E32-4222-8508-6613E1CD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B5B2-844D-47A7-9E30-670FD8CA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EB7A-29BC-4FB0-A05F-6466E88B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3BB0-3A79-462F-B3A7-D2979110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4349-642B-49B1-BC5B-3B757A6D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F0F3-8EF6-48C1-B709-E9868123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A77C-ABF0-485F-8117-8FDDEDC3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AB6C-549D-4475-B567-D87E09C6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B2F3-0203-48A5-987F-98FEC2C2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8108-0ECB-4824-A2CA-669C81D4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EBDD-36D7-4319-9740-F4691296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A23-B4CD-4449-9BEF-A16BA2E2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7EA-3AA2-4950-B7E2-8E5CEE90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B7D4-5B78-4CB2-9861-B7CED953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3E4-C2EB-44C3-967E-7F5F028F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A3ED-4DA3-421A-9B84-945D1A6E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DF58-FB51-42D2-A6FF-005078CF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E803-F04D-4E08-B895-471A61E6A2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78D5-5833-4C5D-8D86-CB0D28A507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640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ahoma"/>
              </a:rPr>
              <a:t>Х</a:t>
            </a:r>
            <a:r>
              <a:rPr b="1" lang="uk-UA" sz="4800" spc="-1" strike="noStrike">
                <a:solidFill>
                  <a:srgbClr val="333399"/>
                </a:solidFill>
                <a:latin typeface="Tahoma"/>
              </a:rPr>
              <a:t>імічний склад</a:t>
            </a:r>
            <a:br>
              <a:rPr sz="4800"/>
            </a:br>
            <a:r>
              <a:rPr b="1" lang="uk-UA" sz="4800" spc="-1" strike="noStrike">
                <a:solidFill>
                  <a:srgbClr val="333399"/>
                </a:solidFill>
                <a:latin typeface="Tahoma"/>
              </a:rPr>
              <a:t> фаст-фуду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000" y="3886200"/>
            <a:ext cx="8135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Звіт члені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хіміко-теоретичної лабораторі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Глутамат натрію однозаміщений (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SG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икористовується для покращення смак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Деякі люди дуже чутливі до його вживання у великих доза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Реакцією може бути головний біль, нудота, слабкість, печія, біль в області шиї та передпліччі, порушення серцевого ритму та ускладнення диханн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Глутамат натрію міститьс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728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соусах для салаті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чіпса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4464000" cy="3313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2060640"/>
            <a:ext cx="2952720" cy="4464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87640" y="5805360"/>
            <a:ext cx="2305080" cy="486000"/>
          </a:xfrm>
          <a:prstGeom prst="rightArrow">
            <a:avLst>
              <a:gd name="adj1" fmla="val 50000"/>
              <a:gd name="adj2" fmla="val 11857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оно– і дигліцериди (емульгатори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Роблять хліб м'якшим, маргарин твердішим, а карамель менш липкою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апобігають появі шарування в арахісовому маслі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істяться  моно- і дигліцерид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аргарині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солодощ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4103640" cy="3529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148360" y="2060640"/>
            <a:ext cx="37227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ононітрат тіаміну 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(вітамін В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Абсолютно безпеч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іститься у вітамінізованих злакових культур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076720" y="3716280"/>
            <a:ext cx="3157560" cy="26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332000" y="4221000"/>
            <a:ext cx="360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Tahoma"/>
              </a:rPr>
              <a:t>Натрій карбокси-метил целюлоза (згущувач і стабілізатор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Утворюється в результаті хімічних реакцій целюлози з похідним оцтової кисло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апобігає кристалізації цукру в продукт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Міститься: у пиві, дієтичних продуктах, морозиві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2808360" cy="2881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276720" y="3716280"/>
            <a:ext cx="2736720" cy="2852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084720" y="3716280"/>
            <a:ext cx="2664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Tahoma"/>
              </a:rPr>
              <a:t>Нітрит натрію, нітрат натрію</a:t>
            </a:r>
            <a:br>
              <a:rPr sz="3600"/>
            </a:br>
            <a:r>
              <a:rPr b="0" lang="uk-UA" sz="3600" spc="-1" strike="noStrike">
                <a:solidFill>
                  <a:srgbClr val="333399"/>
                </a:solidFill>
                <a:latin typeface="Tahoma"/>
              </a:rPr>
              <a:t>(барвник, приправа і консервант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Нітрит натрію є стабілізатором червоного кольору консервованого м'яса і харчової добавки. Без нього хот-доги і бекон були б сірого кольор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Нітрат натрію використовується для сухої консервації м'яса, наприклад, яловичини, тому що він повільніше розкладається на нітрит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Нітрити також уповільнюють ріст бактерій, які викликають ботуліз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Додавання нітритів в продукти може збільшувати вплив нітрозамінів, які є причиною онкологічних захворювань. У наш час виробники додають аскорбінову кислоту в бекон для запобігання утворення нітрозаміні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іститься нітрит і нітрат натрі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бекон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копченій риб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51280" y="1989000"/>
            <a:ext cx="4897440" cy="2808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059280" y="2060640"/>
            <a:ext cx="865080" cy="485640"/>
          </a:xfrm>
          <a:prstGeom prst="rightArrow">
            <a:avLst>
              <a:gd name="adj1" fmla="val 50000"/>
              <a:gd name="adj2" fmla="val 4453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5084640"/>
            <a:ext cx="1336680" cy="486000"/>
          </a:xfrm>
          <a:prstGeom prst="leftArrow">
            <a:avLst>
              <a:gd name="adj1" fmla="val 50000"/>
              <a:gd name="adj2" fmla="val 687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Олестра (Олеан) 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(замінник жиру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Синтетичний жир, який використовється для виготовлення чіпсі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Може викликати діарею, біль спазматичного характеру в шлунку, метеориз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Знижує засвоєння організмом корисних жиророзчинних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α-, β-каротину, ліпкопіну і лютеїну, які надходять з фруктів та овочі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Олестра (Олеан) міститься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крекер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72010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Акриламід (канцероген)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Руйнує ДНК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икликає хворобу Альцгеймер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традиційній картоплі “Фрі” його міститься у 100 разів більше норм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ражає нервову систем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Спричиняє різні генетичні мутації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Сприяє утворенню пухлин у черевній порожнині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Полісорбат 60 (емульгатор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олісорбати 60, 65, 80 діють аналогічно моно- і дигліцеридам і не потрібні людському організм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они не дають черствіти хлібобулочним виробам, звертатися кріпному маслі в маринада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Сприяють розчиненню вершків для кав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Запобігають відокремленню масла у збитих крема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Є полісорба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хлібобулочних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иробах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молочних десертах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4572000" cy="2665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3743280" cy="4176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427640" y="6237360"/>
            <a:ext cx="2952720" cy="446040"/>
          </a:xfrm>
          <a:custGeom>
            <a:avLst/>
            <a:gdLst>
              <a:gd name="textAreaLeft" fmla="*/ 516600 w 2952720"/>
              <a:gd name="textAreaRight" fmla="*/ 2140920 w 2952720"/>
              <a:gd name="textAreaTop" fmla="*/ 59760 h 446040"/>
              <a:gd name="textAreaBottom" fmla="*/ 386280 h 44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Пропілгаллат 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(Антиоксидант і консервант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берігає жир і масл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Може бути причиною онкологічних захворювань у тварин та люд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Міститься у жувальній гумці, м'ясних продуктах і рослинній олії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0920" y="3716280"/>
            <a:ext cx="2881080" cy="2808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203640" y="371628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227640" y="3716280"/>
            <a:ext cx="2762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Пропіонат кальцію (Консервант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Запобігає утворенню плісняв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живання кальцію корисне та безпечн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іститься у хлібі та випічц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58920" y="3645000"/>
            <a:ext cx="6697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Сіль (натрій хлорид) приправа та консерван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ловживання сіллю збільшує ризик розвитку артеріальної гіпертензії, що у свою чергу є причиною виникнення серцевих приступів та інсульті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іститься у більшості продукті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Стеариллактат кальцію (добавка до тіста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Закріплює тісто для його використання у хлібопекарському обладнанні, що дозволяє виготовляти більші об'єми хліб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Міститься у кремі, тісті для випічки хліба, начинці для пиріжкі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Токоферол (вітамін Е) Антиоксидан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Додається для запобігання прогірклості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Міститься у рослинних оліях та подрібнених злака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84360" y="3716280"/>
            <a:ext cx="3456000" cy="2808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859280" y="3573360"/>
            <a:ext cx="37814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Суліфіти (відбілююча та консервуюча речовина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берігають колір вказаних продукті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апобігають росту бактерій у винах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Руйнують вітамін В1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ожуть слугувати причиною приступу аст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Сульфіти містятьс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сухофрукт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та вин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4176720" cy="3241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302436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Tahoma"/>
              </a:rPr>
              <a:t>Фосфати, ортофосфатна кислота</a:t>
            </a:r>
            <a:r>
              <a:rPr b="0" lang="uk-UA" sz="3200" spc="-1" strike="noStrike">
                <a:solidFill>
                  <a:srgbClr val="333399"/>
                </a:solidFill>
                <a:latin typeface="Tahoma"/>
              </a:rPr>
              <a:t> (ароматизатор, емульгатор, підкислююча добавка, стабілізатор)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Ортофосфатна кислота – це харчова добавка, яка використовується для виготовлення ко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Фосфат кальцію та феруму діють як мінеральні добав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Алюмінієво-натірієвий фосфат є розпушувачем тіс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Кислий пірофосфат натрію запобігає зміненню кольору картоплі та цукрового сироп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При надмірному вживанні фосфатів може відбутися дисбаланс у харчуванні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іститься акриламід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смажених та печених продукт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7488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Фосфати містяться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сирах           у газованих напоя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3456000" cy="3529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572000" y="2708280"/>
            <a:ext cx="39196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Трансізомерні жири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Під час технологічної обробки олій, як-от: підігрівання, гідрування, знебарвлення та дезодорація – відбуваються зміни у структурі вищих ненасичених карбонових кислот та їх залишків у жирах. А саме:   цис-ізомери перетворюються на транс-ізомер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міна просторової конфігурації молекул біологічно   активних речовин має фатальні наслідки.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Повідомляєм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Усі використані матеріали та картинки слугують лише в наукових цілях і не рекламують виробників продукції!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182600" y="2637000"/>
            <a:ext cx="77724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3333cc"/>
                </a:solidFill>
                <a:latin typeface="Tahoma"/>
              </a:rPr>
              <a:t>Дякуємо за увагу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Tahoma"/>
              </a:rPr>
              <a:t>Аскорбінова кислота (Вітамін С)</a:t>
            </a:r>
            <a:br>
              <a:rPr sz="3600"/>
            </a:br>
            <a:r>
              <a:rPr b="0" lang="uk-UA" sz="3600" spc="-1" strike="noStrike">
                <a:solidFill>
                  <a:srgbClr val="333399"/>
                </a:solidFill>
                <a:latin typeface="Tahoma"/>
              </a:rPr>
              <a:t>Антиоксидант, стабілізатор кольору харчових продуктів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берігає червоні кольори м'ясних продукті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апобігає створенню канцерогенних нітрозаміні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икористовується для насичення продуктів вітамін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іститься Аскорбінова кисл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крупах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'ясних консерв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3600360" cy="345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716360" y="3716280"/>
            <a:ext cx="4176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Калій бромат (добавка для поліпшення якості борошна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икористовується для збільшення о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єму хліба і поліпшкння структри 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киш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Більша частина брооматів швидко розкладається на безпечні форми броміді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Бромати можуть спровокувати онкологічні захворюванн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Їх мізерна кількість, яка міститься в хлібі, також являє незначний ризик;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ромати заборонені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Великій Британії та Південній Африці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Калій бромат міститьс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білому борошн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590544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Гідролізований рослинній білок (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VP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Складається із рослинного білка (із соєвих бобів), який руйнується амінокислотними еомпонентам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кращує смак натуральних продукті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істить однозаміщений глутамат натрію, який може викликати неадекватні алергічні реакції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іститься гідролізований білок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сосисках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супах-концентратах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9640" y="2708280"/>
            <a:ext cx="3384720" cy="3457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0" y="2060640"/>
            <a:ext cx="4248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9:30:50Z</dcterms:created>
  <dc:creator>Customer</dc:creator>
  <dc:description/>
  <dc:language>en-US</dc:language>
  <cp:lastModifiedBy>Admin</cp:lastModifiedBy>
  <dcterms:modified xsi:type="dcterms:W3CDTF">2012-02-05T13:24:15Z</dcterms:modified>
  <cp:revision>8</cp:revision>
  <dc:subject/>
  <dc:title>Хімічний склад фаст-фуд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0b000000000001024140</vt:lpwstr>
  </property>
</Properties>
</file>