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1.jpeg" ContentType="image/jpeg"/>
  <Override PartName="/ppt/media/image22.jpeg" ContentType="image/jpeg"/>
  <Override PartName="/ppt/media/image7.png" ContentType="image/png"/>
  <Override PartName="/ppt/media/image1.jpeg" ContentType="image/jpeg"/>
  <Override PartName="/ppt/media/image9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12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.jpeg" ContentType="image/jpeg"/>
  <Override PartName="/ppt/media/image18.wmf" ContentType="image/x-wmf"/>
  <Override PartName="/ppt/media/image26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3B1A-72D1-49DA-BEB3-DE77BBE3F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12A1-BB81-4977-B90D-223E997DE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9C85-9EA1-4958-AD64-510484359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D276-D70F-43E1-88EA-E7FF2881E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205A4-C483-4CF9-861F-4C77C7466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AA6D9-C934-478D-9656-3A92E27C6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0B394-71AD-4C1F-9A3C-FA71BBDCD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E8FEF-4066-46C8-B8C4-1F6FA7D51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EB4DC-C4B2-4E98-ADEE-7648056F0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70022-E276-4A06-B738-ECA67B74A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77113-3B63-4A01-9838-FE10E727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5D14-844A-45EF-8381-C8235F2C6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BA3F3-45BD-4758-974C-340F8EBE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5984D-CBDF-4F41-A5C7-6CAD7CE2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23086-A132-4A11-AD84-3B455E9A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7553E-3E7C-4E21-98D7-5BC0958F6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F4B06-026C-4BE9-8499-1C8037FED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FCD4-AAC3-41D2-A4E9-B61ACDEE8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7ACA-C6FD-4232-91B0-5FA60551E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1609-6417-445A-B633-B14C09230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A5E1-A9EA-46DF-82E8-B773F3108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7C50-3D8E-4C76-855B-C70ED1F3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959B-DE63-4A49-B45C-1D28706F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240D-43F1-449F-985B-28E47AAF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DBC03-C673-41CD-8DC0-D0EE3DB59AA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09386-6803-412F-B97E-3B663315944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4000" y="981000"/>
            <a:ext cx="864072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Tahoma"/>
              </a:rPr>
              <a:t>Х</a:t>
            </a:r>
            <a:r>
              <a:rPr b="1" lang="uk-UA" sz="4800" spc="-1" strike="noStrike">
                <a:solidFill>
                  <a:srgbClr val="333399"/>
                </a:solidFill>
                <a:latin typeface="Tahoma"/>
              </a:rPr>
              <a:t>імічний склад</a:t>
            </a:r>
            <a:br>
              <a:rPr sz="4800"/>
            </a:br>
            <a:r>
              <a:rPr b="1" lang="uk-UA" sz="4800" spc="-1" strike="noStrike">
                <a:solidFill>
                  <a:srgbClr val="333399"/>
                </a:solidFill>
                <a:latin typeface="Tahoma"/>
              </a:rPr>
              <a:t> фаст-фуду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4000" y="3886200"/>
            <a:ext cx="8135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ahoma"/>
              </a:rPr>
              <a:t>Звіт члені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Tahoma"/>
              </a:rPr>
              <a:t>хіміко-теоретичної лабораторії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Глутамат натрію однозаміщений (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SG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Використовується для покращення смаку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Деякі люди дуже чутливі до його вживання у великих дозах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Реакцією може бути головний біль, нудота, слабкість, печія, біль в області шиї та передпліччі, порушення серцевого ритму та ускладнення диханн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Глутамат натрію міститьс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7280" y="198864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У соусах для салатів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У чіпсах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900000" y="2708280"/>
            <a:ext cx="4464000" cy="33130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580000" y="2060640"/>
            <a:ext cx="2952720" cy="4464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987640" y="5805360"/>
            <a:ext cx="2305080" cy="486000"/>
          </a:xfrm>
          <a:prstGeom prst="rightArrow">
            <a:avLst>
              <a:gd name="adj1" fmla="val 50000"/>
              <a:gd name="adj2" fmla="val 118574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Моно– і дигліцериди (емульгатори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Роблять хліб м'якшим, маргарин твердішим, а карамель менш липкою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Запобігають появі шарування в арахісовому маслі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Містяться  моно- і дигліцерид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                 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Маргарині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У солодоща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00000" y="2060640"/>
            <a:ext cx="4103640" cy="3529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148360" y="2060640"/>
            <a:ext cx="37227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Мононітрат тіаміну </a:t>
            </a:r>
            <a:br>
              <a:rPr sz="4400"/>
            </a:b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(вітамін В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Абсолютно безпечн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Міститься у вітамінізованих злакових культура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076720" y="3716280"/>
            <a:ext cx="3157560" cy="2665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332000" y="4221000"/>
            <a:ext cx="36003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333399"/>
                </a:solidFill>
                <a:latin typeface="Tahoma"/>
              </a:rPr>
              <a:t>Натрій карбокси-метил целюлоза (згущувач і стабілізатор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Утворюється в результаті хімічних реакцій целюлози з похідним оцтової кислот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Запобігає кристалізації цукру в продуктах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Міститься: у пиві, дієтичних продуктах, морозиві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5280" y="3716280"/>
            <a:ext cx="2808360" cy="28814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276720" y="3716280"/>
            <a:ext cx="2736720" cy="28526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6084720" y="3716280"/>
            <a:ext cx="26640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333399"/>
                </a:solidFill>
                <a:latin typeface="Tahoma"/>
              </a:rPr>
              <a:t>Нітрит натрію, нітрат натрію</a:t>
            </a:r>
            <a:br>
              <a:rPr sz="3600"/>
            </a:br>
            <a:r>
              <a:rPr b="0" lang="uk-UA" sz="3600" spc="-1" strike="noStrike">
                <a:solidFill>
                  <a:srgbClr val="333399"/>
                </a:solidFill>
                <a:latin typeface="Tahoma"/>
              </a:rPr>
              <a:t>(барвник, приправа і консервант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Нітрит натрію є стабілізатором червоного кольору консервованого м'яса і харчової добавки. Без нього хот-доги і бекон були б сірого кольору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Нітрат натрію використовується для сухої консервації м'яса, наприклад, яловичини, тому що він повільніше розкладається на нітрит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Нітрити також уповільнюють ріст бактерій, які викликають ботулізм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Додавання нітритів в продукти може збільшувати вплив нітрозамінів, які є причиною онкологічних захворювань. У наш час виробники додають аскорбінову кислоту в бекон для запобігання утворення нітрозамінів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Міститься нітрит і нітрат натрію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У беконі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  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                                            </a:t>
            </a: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У копченій рибі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851280" y="1989000"/>
            <a:ext cx="4897440" cy="2808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826920" y="2852640"/>
            <a:ext cx="3048120" cy="30481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059280" y="2060640"/>
            <a:ext cx="865080" cy="485640"/>
          </a:xfrm>
          <a:prstGeom prst="rightArrow">
            <a:avLst>
              <a:gd name="adj1" fmla="val 50000"/>
              <a:gd name="adj2" fmla="val 4453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0" y="5084640"/>
            <a:ext cx="1336680" cy="486000"/>
          </a:xfrm>
          <a:prstGeom prst="leftArrow">
            <a:avLst>
              <a:gd name="adj1" fmla="val 50000"/>
              <a:gd name="adj2" fmla="val 6875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Олестра (Олеан) </a:t>
            </a:r>
            <a:br>
              <a:rPr sz="4400"/>
            </a:b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(замінник жиру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Синтетичний жир, який використовється для виготовлення чіпсів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Може викликати діарею, біль спазматичного характеру в шлунку, метеоризм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Знижує засвоєння організмом корисних жиророзчинних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α-, β-каротину, ліпкопіну і лютеїну, які надходять з фруктів та овочі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523880" y="1397160"/>
            <a:ext cx="6096240" cy="40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Олестра (Олеан) міститься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У крекера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116000" y="2133720"/>
            <a:ext cx="720108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Акриламід (канцероген)  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Руйнує ДНК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Викликає хворобу Альцгеймер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У традиційній картоплі “Фрі” його міститься у 100 разів більше норм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Вражає нервову систему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Спричиняє різні генетичні мутації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Сприяє утворенню пухлин у черевній порожнині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Полісорбат 60 (емульгатор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Полісорбати 60, 65, 80 діють аналогічно моно- і дигліцеридам і не потрібні людському організму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Вони не дають черствіти хлібобулочним виробам, звертатися кріпному маслі в маринадах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Сприяють розчиненню вершків для кав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Запобігають відокремленню масла у збитих кремах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Є полісорбат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6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У хлібобулочних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виробах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У молочних десертах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95280" y="3068640"/>
            <a:ext cx="4572000" cy="26654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5148360" y="1916280"/>
            <a:ext cx="3743280" cy="41767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427640" y="6237360"/>
            <a:ext cx="2952720" cy="446040"/>
          </a:xfrm>
          <a:custGeom>
            <a:avLst/>
            <a:gdLst>
              <a:gd name="textAreaLeft" fmla="*/ 516600 w 2952720"/>
              <a:gd name="textAreaRight" fmla="*/ 2140920 w 2952720"/>
              <a:gd name="textAreaTop" fmla="*/ 59760 h 446040"/>
              <a:gd name="textAreaBottom" fmla="*/ 386280 h 446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Пропілгаллат </a:t>
            </a:r>
            <a:br>
              <a:rPr sz="4400"/>
            </a:b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(Антиоксидант і консервант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Зберігає жир і масло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Може бути причиною онкологічних захворювань у тварин та люде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Міститься у жувальній гумці, м'ясних продуктах і рослинній олії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50920" y="3716280"/>
            <a:ext cx="2881080" cy="28083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3203640" y="3716280"/>
            <a:ext cx="2952720" cy="28083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6227640" y="3716280"/>
            <a:ext cx="27622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Пропіонат кальцію (Консервант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Запобігає утворенню плісняв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Вживання кальцію корисне та безпечн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Міститься у хлібі та випічці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258920" y="3645000"/>
            <a:ext cx="66978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Сіль (натрій хлорид) приправа та консерван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Зловживання сіллю збільшує ризик розвитку артеріальної гіпертензії, що у свою чергу є причиною виникнення серцевих приступів та інсульті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Міститься у більшості продукті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Стеариллактат кальцію (добавка до тіста)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Закріплює тісто для його використання у хлібопекарському обладнанні, що дозволяє виготовляти більші об'єми хліб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Міститься у кремі, тісті для випічки хліба, начинці для пиріжків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Токоферол (вітамін Е) Антиоксидан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Додається для запобігання прогірклості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Міститься у рослинних оліях та подрібнених злака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84360" y="3716280"/>
            <a:ext cx="3456000" cy="28083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859280" y="3573360"/>
            <a:ext cx="378144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Суліфіти (відбілююча та консервуюча речовина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Зберігають колір вказаних продуктів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Запобігають росту бактерій у винах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Руйнують вітамін В1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Можуть слугувати причиною приступу астм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Сульфіти містятьс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У сухофрукта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                 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та вина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826920" y="2924280"/>
            <a:ext cx="4176720" cy="32414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364000" y="1989000"/>
            <a:ext cx="302436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333399"/>
                </a:solidFill>
                <a:latin typeface="Tahoma"/>
              </a:rPr>
              <a:t>Фосфати, ортофосфатна кислота</a:t>
            </a:r>
            <a:r>
              <a:rPr b="0" lang="uk-UA" sz="3200" spc="-1" strike="noStrike">
                <a:solidFill>
                  <a:srgbClr val="333399"/>
                </a:solidFill>
                <a:latin typeface="Tahoma"/>
              </a:rPr>
              <a:t> (ароматизатор, емульгатор, підкислююча добавка, стабілізатор)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Ортофосфатна кислота – це харчова добавка, яка використовується для виготовлення кол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Фосфат кальцію та феруму діють як мінеральні добавк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Алюмінієво-натірієвий фосфат є розпушувачем тіст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Кислий пірофосфат натрію запобігає зміненню кольору картоплі та цукрового сиропу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При надмірному вживанні фосфатів може відбутися дисбаланс у харчуванні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Міститься акриламід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У смажених та печених продукта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71640" y="2565360"/>
            <a:ext cx="7488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Фосфати містяться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У сирах           у газованих напоя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900000" y="2708280"/>
            <a:ext cx="3456000" cy="35290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572000" y="2708280"/>
            <a:ext cx="391968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Трансізомерні жири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Під час технологічної обробки олій, як-от: підігрівання, гідрування, знебарвлення та дезодорація – відбуваються зміни у структурі вищих ненасичених карбонових кислот та їх залишків у жирах. А саме:   цис-ізомери перетворюються на транс-ізомер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Зміна просторової конфігурації молекул біологічно   активних речовин має фатальні наслідки.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Повідомляємо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uk-UA" sz="3600" spc="-1" strike="noStrike">
                <a:solidFill>
                  <a:srgbClr val="000000"/>
                </a:solidFill>
                <a:latin typeface="Tahoma"/>
              </a:rPr>
              <a:t>Усі використані матеріали та картинки слугують лише в наукових цілях і не рекламують виробників продукції!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1182600" y="2637000"/>
            <a:ext cx="7772400" cy="34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3333cc"/>
                </a:solidFill>
                <a:latin typeface="Tahoma"/>
              </a:rPr>
              <a:t>Дякуємо за увагу!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5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333399"/>
                </a:solidFill>
                <a:latin typeface="Tahoma"/>
              </a:rPr>
              <a:t>Аскорбінова кислота (Вітамін С)</a:t>
            </a:r>
            <a:br>
              <a:rPr sz="3600"/>
            </a:br>
            <a:r>
              <a:rPr b="0" lang="uk-UA" sz="3600" spc="-1" strike="noStrike">
                <a:solidFill>
                  <a:srgbClr val="333399"/>
                </a:solidFill>
                <a:latin typeface="Tahoma"/>
              </a:rPr>
              <a:t>Антиоксидант, стабілізатор кольору харчових продуктів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Зберігає червоні кольори м'ясних продуктів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Запобігає створенню канцерогенних нітрозамінів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Використовується для насичення продуктів вітамінам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Міститься Аскорбінова кисло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У крупах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м'ясних консерва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95280" y="2637000"/>
            <a:ext cx="3600360" cy="3456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716360" y="3716280"/>
            <a:ext cx="417672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Калій бромат (добавка для поліпшення якості борошна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икористовується для збільшення о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єму хліба і поліпшкння структри м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якиш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Більша частина брооматів швидко розкладається на безпечні форми бромідів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Бромати можуть спровокувати онкологічні захворювання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Їх мізерна кількість, яка міститься в хлібі, також являє незначний ризик;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ромати заборонені </a:t>
            </a: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у Великій Британії та Південній Африці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Калій бромат міститьс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У білому борошні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692360" y="2565360"/>
            <a:ext cx="590544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Гідролізований рослинній білок (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VP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Складається із рослинного білка (із соєвих бобів), який руйнується амінокислотними еомпонентам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Покращує смак натуральних продуктів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Містить однозаміщений глутамат натрію, який може викликати неадекватні алергічні реакції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Міститься гідролізований білок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У сосисках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                                  </a:t>
            </a: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У супах-концентратах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39640" y="2708280"/>
            <a:ext cx="3384720" cy="3457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572000" y="2060640"/>
            <a:ext cx="4248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6T19:30:50Z</dcterms:created>
  <dc:creator>Customer</dc:creator>
  <dc:description/>
  <dc:language>en-US</dc:language>
  <cp:lastModifiedBy>Admin</cp:lastModifiedBy>
  <dcterms:modified xsi:type="dcterms:W3CDTF">2012-02-05T13:24:15Z</dcterms:modified>
  <cp:revision>8</cp:revision>
  <dc:subject/>
  <dc:title>Хімічний склад фаст-фуд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a0b000000000001024140</vt:lpwstr>
  </property>
</Properties>
</file>