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5675040" y="-3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5675040" y="65415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3EDC-43B8-4053-A031-F99B870FF17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D415-C113-402D-BD99-41187494BA6E}" type="slidenum">
              <a:rPr b="1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4E0-4636-4DE3-83F9-C3F3FC2D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0DD-636B-44D4-BD30-7825DDCC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D88-0C41-4018-B2E3-1FDCD853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2B3-0CBD-4911-862C-CEB8F3FD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C445-ECD6-4D44-99DD-0AE704BB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FAB7-97F6-49CC-AB4E-D4AA7819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8646-C203-45CA-B463-C8409694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7D9A-4125-4242-9E0F-9B94E71C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3C63-1DBB-418B-A0C6-5788FA8C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1019-C8A2-4562-9F46-9CE9608D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DB1F-2CFB-4343-9A5F-52F26C97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681-C90A-4851-8C70-7AE49432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CC2A-CCBB-4582-8D93-50ACEB14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4C7C-DF2E-4051-BB7B-331692EA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4E05-00A0-46A5-AD11-8CF23C35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A283-34F9-48A0-AC32-8AD9C4CE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6CA7-D984-4DD4-972F-295E8337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4B7-0DD3-491E-A038-93BB97E7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1BF-2055-4E4E-A319-A6D7A2AC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2AE-90DE-4DF6-9D94-9713EACF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9D9-0174-4D6E-96F4-CFAE14DC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1D7-3253-4CF0-8D1D-C3839FC0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05A-E0E6-4F5F-A400-3A9B8B9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4D7-733A-4418-A5B9-6BC44A18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08B5-64B0-40AE-A105-5142D4E87F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B1E7-B6CD-4C41-A731-868FBEA4AD8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tki.yandex.ru/top/users/nikitich4/view/277080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-108000" y="189000"/>
            <a:ext cx="925200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b2b2b2"/>
                </a:solidFill>
                <a:latin typeface="Arial"/>
                <a:ea typeface="Aharoni"/>
              </a:rPr>
              <a:t>Урок-диспут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Arial"/>
                <a:ea typeface="Aharoni"/>
              </a:rPr>
              <a:t>Тема: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“</a:t>
            </a:r>
            <a:r>
              <a:rPr b="1" lang="uk-UA" sz="8800" spc="-1" strike="noStrike">
                <a:solidFill>
                  <a:srgbClr val="7030a0"/>
                </a:solidFill>
                <a:latin typeface="Arial"/>
                <a:ea typeface="Aharoni"/>
              </a:rPr>
              <a:t>Спирти</a:t>
            </a: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 - ЗА </a:t>
            </a:r>
            <a:r>
              <a:rPr b="1" lang="uk-UA" sz="8800" spc="-1" strike="noStrike">
                <a:solidFill>
                  <a:srgbClr val="7030a0"/>
                </a:solidFill>
                <a:latin typeface="Arial"/>
                <a:ea typeface="Aharoni"/>
              </a:rPr>
              <a:t>і </a:t>
            </a:r>
            <a:r>
              <a:rPr b="1" lang="uk-UA" sz="8800" spc="-1" strike="noStrike">
                <a:solidFill>
                  <a:srgbClr val="0070c0"/>
                </a:solidFill>
                <a:latin typeface="Arial"/>
                <a:ea typeface="Aharoni"/>
              </a:rPr>
              <a:t>ПРОТИ</a:t>
            </a: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”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3184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90240" y="0"/>
            <a:ext cx="74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ЖИВАННЯ АЛКОГОЛЮ БІЛЬШЕ НОР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 flipV="1" rot="10800000">
            <a:off x="1403280" y="1626840"/>
            <a:ext cx="158616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ервин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ура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292720" y="1628640"/>
            <a:ext cx="177336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торин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ура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637280" y="2708280"/>
            <a:ext cx="999000" cy="680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Arial"/>
              </a:rPr>
              <a:t>етано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154120" y="2708280"/>
            <a:ext cx="205992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Проміжні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продукти розпад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492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Гибель клітин мозк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(100 г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горілки = гибель 7500 клітин мозку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303120" y="2800440"/>
            <a:ext cx="3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432680" y="3933720"/>
            <a:ext cx="1869480" cy="680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О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Оцтова 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кисло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516720" y="3933720"/>
            <a:ext cx="1584360" cy="954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Оцтовий альдегід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3851280" y="5229360"/>
            <a:ext cx="36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рове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реродження печін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63720" y="5294160"/>
            <a:ext cx="22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Гибель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еритроцитів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8160" y="61657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Денатурація білків-ферментів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7" descr="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56000" y="4005360"/>
            <a:ext cx="1371600" cy="1055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Эритр"/>
          <p:cNvPicPr/>
          <p:nvPr/>
        </p:nvPicPr>
        <p:blipFill>
          <a:blip r:embed="rId2"/>
          <a:stretch/>
        </p:blipFill>
        <p:spPr>
          <a:xfrm>
            <a:off x="2700360" y="515772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Line 20"/>
          <p:cNvSpPr/>
          <p:nvPr/>
        </p:nvSpPr>
        <p:spPr>
          <a:xfrm>
            <a:off x="6877080" y="3429000"/>
            <a:ext cx="431640" cy="431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1"/>
          <p:cNvSpPr/>
          <p:nvPr/>
        </p:nvSpPr>
        <p:spPr>
          <a:xfrm flipH="1">
            <a:off x="5148000" y="3429000"/>
            <a:ext cx="360360" cy="431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 rot="12678600">
            <a:off x="2339640" y="404280"/>
            <a:ext cx="485640" cy="1231920"/>
          </a:xfrm>
          <a:prstGeom prst="upArrow">
            <a:avLst>
              <a:gd name="adj1" fmla="val 50000"/>
              <a:gd name="adj2" fmla="val 6341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 rot="8601000">
            <a:off x="5363640" y="332640"/>
            <a:ext cx="486000" cy="1336680"/>
          </a:xfrm>
          <a:prstGeom prst="upArrow">
            <a:avLst>
              <a:gd name="adj1" fmla="val 50000"/>
              <a:gd name="adj2" fmla="val 6875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2124000" y="2349360"/>
            <a:ext cx="0" cy="287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227640" y="2349360"/>
            <a:ext cx="0" cy="287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26"/>
          <p:cNvSpPr/>
          <p:nvPr/>
        </p:nvSpPr>
        <p:spPr>
          <a:xfrm>
            <a:off x="1835280" y="3500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27"/>
          <p:cNvSpPr/>
          <p:nvPr/>
        </p:nvSpPr>
        <p:spPr>
          <a:xfrm>
            <a:off x="4859280" y="465300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9" descr="536922_524508"/>
          <p:cNvPicPr/>
          <p:nvPr/>
        </p:nvPicPr>
        <p:blipFill>
          <a:blip r:embed="rId3"/>
          <a:stretch/>
        </p:blipFill>
        <p:spPr>
          <a:xfrm>
            <a:off x="7380360" y="4876920"/>
            <a:ext cx="14288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0_303c6_2a2a4164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1"/>
          <p:cNvSpPr/>
          <p:nvPr/>
        </p:nvSpPr>
        <p:spPr>
          <a:xfrm>
            <a:off x="0" y="575280"/>
            <a:ext cx="44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«Від алкоголю щороку гине 1,5 млн чоловік — це вибухи 13 атомних бомб Хіросіми у вигляді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пиртних напоїв»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 житті потрібно спробувати все, в тому числі і алко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0" descr="Абсолютная водка сдувается"/>
          <p:cNvPicPr/>
          <p:nvPr/>
        </p:nvPicPr>
        <p:blipFill>
          <a:blip r:embed="rId1"/>
          <a:stretch/>
        </p:blipFill>
        <p:spPr>
          <a:xfrm>
            <a:off x="5435640" y="2530440"/>
            <a:ext cx="3529080" cy="4327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Абсолютная водка сдувается"/>
          <p:cNvPicPr/>
          <p:nvPr/>
        </p:nvPicPr>
        <p:blipFill>
          <a:blip r:embed="rId2"/>
          <a:stretch/>
        </p:blipFill>
        <p:spPr>
          <a:xfrm>
            <a:off x="5357880" y="2530440"/>
            <a:ext cx="352908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живати алкоголь чи не вживати - це моя особиста спр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Можна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вживати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алкоголь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«з головою» та не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залежати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від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нього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іф  чи реальність</a:t>
            </a:r>
            <a:r>
              <a:rPr b="0" lang="uk-U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Коли п</a:t>
            </a:r>
            <a:r>
              <a:rPr b="0" lang="el-GR" sz="4000" spc="-1" strike="noStrike">
                <a:solidFill>
                  <a:srgbClr val="ffff00"/>
                </a:solidFill>
                <a:latin typeface="Arial"/>
                <a:ea typeface="Arial"/>
              </a:rPr>
              <a:t>΄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єш алкоголь стаєш активнішим, швидко реагуєш на будь - яку ситуаці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r>
              <a:rPr b="0" lang="uk-U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Вживання невеликої кількості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алкоголю не шкодить  здоров'ю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343296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Щоб не стати алкоголіком, головне знати міру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0" y="885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Тест  «Міф чи реальніст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Позначте:             міф (М) чи      реальність (Р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Алкоголь — це стимулюючий засіб, його вживання веде до підняття духу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Чашка міцної кави, ковток свіжого повітря або холодний душ поможуть вам протверезитись, якщо ви збираєтесь вести машину в нетверезому стан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. Людям стає веселіше, якщо вони випил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Якщо хочеш випити, то краще випити пива чи віск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Коли вагітна жінка п'є, палить або вживає наркотики, це впливає на   внутрішньоутробний плід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Люди ніколи не вмирають від алкогольного отруєння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Молоді люди, які починають пити алкогольні напої до 15 років, можуть удвічі частіше почати вживати наркотики, ніж ті, хто не вживав алкоголю в цьому віц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Коли діти вірять, що алкоголь не може завдати їм шкоди, існує велика вірогідність того, що вони почнуть вживати наркоти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.  Келих спиртного зігріває взимку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0" y="1386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п'яної людини в мозку відбувається велика кількість дрібних крововиливів, закупорка судин, у результаті чого клітки мозку не одержують кисню й гинуть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и вживанні 100 г пива гине близько 300 клітин мозку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00 г вина — 5 000 клітин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00 г горілки — 7 500 клітин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отягом років у питущої людини гинуть мільйони клітин, що не відновлюютьс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Не існує безпечних видів спиртного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Не існує безпечних кількостей спиртного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Кількість спиртного, яку можна випити не п'яніючи, залежить від ваги, статі, віку і швидкості обміну речовин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-erytro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267200" y="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ЕТАБОЛІЗМ АЛКОГОЛЮ В ПЕЧІНЦ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549360"/>
            <a:ext cx="88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Алкоголь на відмінність від  більшості харчових  продуктів та напоїв не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ретравлюється, а з шлунка потрапляє одразу в кров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7240" y="1268280"/>
            <a:ext cx="84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лкоголь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зберігається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в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організмі до тих пір, поки не буде перероблений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чінкою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Це відбувається дуже повільно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1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ЕС/година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73520" y="2023920"/>
            <a:ext cx="79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В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печінці проходять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хімічні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процеси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окиснення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етилового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спирту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: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3512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-20160" y="2606760"/>
            <a:ext cx="1275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тано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189080" y="24922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систе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алкоголь-ДГ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094200" y="2597040"/>
            <a:ext cx="2485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99"/>
                </a:solidFill>
                <a:latin typeface="Arial"/>
              </a:rPr>
              <a:t>оцтовий альдегі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(</a:t>
            </a:r>
            <a:r>
              <a:rPr b="1" lang="uk-UA" sz="2400" spc="-1" strike="noStrike">
                <a:solidFill>
                  <a:srgbClr val="ff6699"/>
                </a:solidFill>
                <a:latin typeface="Arial"/>
              </a:rPr>
              <a:t>ацетальдегід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 flipV="1" rot="10800000">
            <a:off x="5378400" y="2485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835600" y="2637000"/>
            <a:ext cx="253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О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оцтова кислот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015240" y="414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цетил-Со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4578480" y="5661000"/>
            <a:ext cx="25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Синтез жирних кисло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7477920" y="5734080"/>
            <a:ext cx="14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+Н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7" descr="Печень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22" name="Line 18"/>
          <p:cNvSpPr/>
          <p:nvPr/>
        </p:nvSpPr>
        <p:spPr>
          <a:xfrm>
            <a:off x="1258920" y="2852640"/>
            <a:ext cx="2376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5003640" y="2852640"/>
            <a:ext cx="12193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7093080" y="3467160"/>
            <a:ext cx="0" cy="682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>
            <a:off x="5724000" y="4581360"/>
            <a:ext cx="863640" cy="10083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7596360" y="4581360"/>
            <a:ext cx="647640" cy="1079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-mozg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a-konservuje"/>
          <p:cNvPicPr/>
          <p:nvPr/>
        </p:nvPicPr>
        <p:blipFill>
          <a:blip r:embed="rId1"/>
          <a:stretch/>
        </p:blipFill>
        <p:spPr>
          <a:xfrm>
            <a:off x="304920" y="333360"/>
            <a:ext cx="883908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b2b2b2"/>
                </a:solidFill>
                <a:latin typeface="Arial"/>
              </a:rPr>
              <a:t>Алкоголь: за і про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495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тисептичний засі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озчинник рідких лаків, розтирок для компрес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интез органічних речов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иробництво лаків і фар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сушувач та промивний засіб в оптиці й електроніц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иробництво синтетичного каучу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ятувальний засіб у разі отруєнь метанолом та етиленгліко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озчинник для приготування одеколонів, парфум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онсервування анатомічних препарат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59280" y="1197000"/>
            <a:ext cx="41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Про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ародження дітей з каліцтв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більшення кількості дорожньо-транспортних при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меншення тривалості житт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атологія внутрішніх орган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тримка розвитку інтелек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тисоціальна поведі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рушення роботи центральної нервової систе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611280" y="260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АКТОР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, ЯКИ ВПЛИВАЮТЬ НА ФОРМУВАННЯ ЗАЛЕЖ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643280" y="1521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та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24784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575240" y="20718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ві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 flipV="1" rot="10800000">
            <a:off x="4642920" y="4040280"/>
            <a:ext cx="33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частота вживанн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643280" y="2779560"/>
            <a:ext cx="21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кільк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641480" y="34653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міцн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76364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642560" y="522756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як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643280" y="4651200"/>
            <a:ext cx="15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таж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641120" y="576900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особисті особливості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3" descr="i?id=83523926-02"/>
          <p:cNvPicPr/>
          <p:nvPr/>
        </p:nvPicPr>
        <p:blipFill>
          <a:blip r:embed="rId1"/>
          <a:stretch/>
        </p:blipFill>
        <p:spPr>
          <a:xfrm>
            <a:off x="826920" y="1557360"/>
            <a:ext cx="3110040" cy="45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4"/>
          <p:cNvSpPr/>
          <p:nvPr/>
        </p:nvSpPr>
        <p:spPr>
          <a:xfrm>
            <a:off x="179280" y="537372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9280" y="328464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79280" y="134136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7"/>
          <p:cNvPicPr/>
          <p:nvPr/>
        </p:nvPicPr>
        <p:blipFill>
          <a:blip r:embed="rId1"/>
          <a:stretch/>
        </p:blipFill>
        <p:spPr>
          <a:xfrm>
            <a:off x="6372360" y="620640"/>
            <a:ext cx="2346120" cy="2166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3365640" y="-42840"/>
            <a:ext cx="27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ЛКОГОЛІЗ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05840" y="533520"/>
            <a:ext cx="55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  <a:ea typeface="Arial"/>
              </a:rPr>
              <a:t>—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це динамічний процес, який протікає в декіль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стадій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7928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тад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763640" y="16351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атологічн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 тяга до алкоголю,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його систематичне вживання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179280" y="2492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-2 ро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 flipV="1" rot="10800000">
            <a:off x="177840" y="3572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ад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1476360" y="335772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аростаюча тяга до алкоголю, частков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трат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ам</a:t>
            </a:r>
            <a:r>
              <a:rPr b="1" lang="el-GR" sz="1800" spc="-1" strike="noStrike">
                <a:solidFill>
                  <a:srgbClr val="ffffcc"/>
                </a:solidFill>
                <a:latin typeface="Arial"/>
                <a:ea typeface="Arial"/>
              </a:rPr>
              <a:t>΄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яти та контролю над собою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250920" y="443088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-5 ро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157320" y="56610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ад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1908000" y="5373720"/>
            <a:ext cx="68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овна (психічна та фізична) залежніст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ід алкоголю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1911960" y="594216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Деградація особистості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1836000" y="630864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еоборотні зміни організму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" descr="i?id=32343570-01"/>
          <p:cNvPicPr/>
          <p:nvPr/>
        </p:nvPicPr>
        <p:blipFill>
          <a:blip r:embed="rId2"/>
          <a:stretch/>
        </p:blipFill>
        <p:spPr>
          <a:xfrm>
            <a:off x="7164360" y="5032440"/>
            <a:ext cx="1303200" cy="182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i?id=131067244-06"/>
          <p:cNvPicPr/>
          <p:nvPr/>
        </p:nvPicPr>
        <p:blipFill>
          <a:blip r:embed="rId3"/>
          <a:stretch/>
        </p:blipFill>
        <p:spPr>
          <a:xfrm>
            <a:off x="7093080" y="2997360"/>
            <a:ext cx="1871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6"/>
          <p:cNvSpPr/>
          <p:nvPr/>
        </p:nvSpPr>
        <p:spPr>
          <a:xfrm>
            <a:off x="142920" y="5143680"/>
            <a:ext cx="2895480" cy="838080"/>
          </a:xfrm>
          <a:prstGeom prst="rightArrowCallout">
            <a:avLst>
              <a:gd name="adj1" fmla="val 25002"/>
              <a:gd name="adj2" fmla="val 25000"/>
              <a:gd name="adj3" fmla="val 57582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152280" y="4322880"/>
            <a:ext cx="2895840" cy="761760"/>
          </a:xfrm>
          <a:prstGeom prst="rightArrowCallout">
            <a:avLst>
              <a:gd name="adj1" fmla="val 25002"/>
              <a:gd name="adj2" fmla="val 25000"/>
              <a:gd name="adj3" fmla="val 6335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152280" y="3429000"/>
            <a:ext cx="2895840" cy="762120"/>
          </a:xfrm>
          <a:prstGeom prst="rightArrowCallout">
            <a:avLst>
              <a:gd name="adj1" fmla="val 25002"/>
              <a:gd name="adj2" fmla="val 25000"/>
              <a:gd name="adj3" fmla="val 6332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152280" y="2565360"/>
            <a:ext cx="2895840" cy="762120"/>
          </a:xfrm>
          <a:prstGeom prst="rightArrowCallout">
            <a:avLst>
              <a:gd name="adj1" fmla="val 25002"/>
              <a:gd name="adj2" fmla="val 25000"/>
              <a:gd name="adj3" fmla="val 6332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152280" y="1700280"/>
            <a:ext cx="2895840" cy="685800"/>
          </a:xfrm>
          <a:prstGeom prst="rightArrowCallout">
            <a:avLst>
              <a:gd name="adj1" fmla="val 25002"/>
              <a:gd name="adj2" fmla="val 25000"/>
              <a:gd name="adj3" fmla="val 70376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152280" y="765000"/>
            <a:ext cx="2895840" cy="685800"/>
          </a:xfrm>
          <a:prstGeom prst="rightArrowCallout">
            <a:avLst>
              <a:gd name="adj1" fmla="val 25002"/>
              <a:gd name="adj2" fmla="val 25000"/>
              <a:gd name="adj3" fmla="val 70376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899440" y="-428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ПЛИВ АЛКОГОЛ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24000" y="76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головний мозо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2991960" y="90792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Гибель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ервових кліти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609480" y="18381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ерц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934000" y="1844640"/>
            <a:ext cx="27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Жирове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ерерод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3964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печін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30040" y="270828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Цироз, алкогольний гепати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534600" y="3595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шлуно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994120" y="363852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Гастрит вираз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682560" y="45021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нир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994120" y="4529160"/>
            <a:ext cx="345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Гибель ниркових клубочків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отруєння продукт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обміну речови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129240" y="5510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татеві  залоз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3203640" y="393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2982960" y="5562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Імпотенц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8064360" y="3645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рт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8" descr="1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56360" y="1773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1" descr="Почки"/>
          <p:cNvPicPr/>
          <p:nvPr/>
        </p:nvPicPr>
        <p:blipFill>
          <a:blip r:embed="rId2"/>
          <a:stretch/>
        </p:blipFill>
        <p:spPr>
          <a:xfrm>
            <a:off x="6372360" y="4437000"/>
            <a:ext cx="1185840" cy="1063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3"/>
          <p:cNvSpPr/>
          <p:nvPr/>
        </p:nvSpPr>
        <p:spPr>
          <a:xfrm>
            <a:off x="1508040" y="293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714708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7236000" y="838080"/>
            <a:ext cx="838080" cy="6019920"/>
          </a:xfrm>
          <a:custGeom>
            <a:avLst/>
            <a:gdLst>
              <a:gd name="textAreaLeft" fmla="*/ 0 w 838080"/>
              <a:gd name="textAreaRight" fmla="*/ 302760 w 838080"/>
              <a:gd name="textAreaTop" fmla="*/ 156960 h 6019920"/>
              <a:gd name="textAreaBottom" fmla="*/ 586296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9" descr="i?id=79601509-03"/>
          <p:cNvPicPr/>
          <p:nvPr/>
        </p:nvPicPr>
        <p:blipFill>
          <a:blip r:embed="rId3"/>
          <a:stretch/>
        </p:blipFill>
        <p:spPr>
          <a:xfrm>
            <a:off x="5292720" y="3213000"/>
            <a:ext cx="971640" cy="1314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1" descr="i?id=8974509-03"/>
          <p:cNvPicPr/>
          <p:nvPr/>
        </p:nvPicPr>
        <p:blipFill>
          <a:blip r:embed="rId4"/>
          <a:stretch/>
        </p:blipFill>
        <p:spPr>
          <a:xfrm>
            <a:off x="5867280" y="692280"/>
            <a:ext cx="1295640" cy="866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3" descr="i?id=113258280-01"/>
          <p:cNvPicPr/>
          <p:nvPr/>
        </p:nvPicPr>
        <p:blipFill>
          <a:blip r:embed="rId5"/>
          <a:stretch/>
        </p:blipFill>
        <p:spPr>
          <a:xfrm>
            <a:off x="6300720" y="2708280"/>
            <a:ext cx="1238400" cy="96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0:16:47Z</dcterms:created>
  <dc:creator>User</dc:creator>
  <dc:description/>
  <dc:language>en-US</dc:language>
  <cp:lastModifiedBy>user</cp:lastModifiedBy>
  <dcterms:modified xsi:type="dcterms:W3CDTF">2011-12-25T16:44:10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9000000000001024140</vt:lpwstr>
  </property>
</Properties>
</file>