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AC8-A5D2-40BA-9D03-3CDA0F1DD89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46D3-804E-4251-BFC4-B5792F987CF7}" type="slidenum">
              <a:rPr b="1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22A-7850-419D-AD21-EE12B49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B3A-D679-42A6-9430-65D1839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225-9CC0-41F3-B5D6-E7AB5B31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CB9-C5F0-4451-9C2F-025D1616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98A9-DB73-43FF-883F-188527E1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2D8-BF05-418C-9F63-B454B2D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CC75-170D-482A-B83F-A472CD2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056-94DB-40AC-A4CD-475CF88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D1C-6372-4E5C-A4F3-ED7EBE3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89D-CD86-4115-A6E6-DF29EC8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225-8CF5-4CF3-A972-65A805A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703-6B3C-47C4-88F4-87336CD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86AB-86E3-4140-A94B-AB88A84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155-3673-4ACC-BBD9-CA97D7A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FE7F-1A22-4C32-9F6B-DDE6AA02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95E3-FE64-44FD-AD88-BB643580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2E40-4AFF-4E3F-9014-E2FF35F6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7B0-15FA-489F-A804-688A8E0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F4A-F581-4274-8271-FE22B75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539-66B5-4993-884F-2BDA3D5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55C-EA8F-4249-8DD6-B13F87FA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7E6-67FB-4E4B-9307-FC5C8D1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732-8BA8-421F-B9E4-67824D5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AF9-C7D0-45DF-A14A-6CD7D86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CCB4-1EC3-4D64-9F01-17C9887196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A3AB-CFBD-4495-ADA0-0B2D78A33C1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top/users/nikitich4/view/277080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-108000" y="189000"/>
            <a:ext cx="92520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b2b2b2"/>
                </a:solidFill>
                <a:latin typeface="Arial"/>
                <a:ea typeface="Aharoni"/>
              </a:rPr>
              <a:t>Урок-диспут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  <a:ea typeface="Aharoni"/>
              </a:rPr>
              <a:t>Тема: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“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Спир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 - ЗА 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і </a:t>
            </a:r>
            <a:r>
              <a:rPr b="1" lang="uk-UA" sz="8800" spc="-1" strike="noStrike">
                <a:solidFill>
                  <a:srgbClr val="0070c0"/>
                </a:solidFill>
                <a:latin typeface="Arial"/>
                <a:ea typeface="Aharoni"/>
              </a:rPr>
              <a:t>ПРО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”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3184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90240" y="0"/>
            <a:ext cx="74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ЖИВАННЯ АЛКОГОЛЮ БІЛЬШЕ НОР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 flipV="1" rot="10800000">
            <a:off x="1403280" y="1626840"/>
            <a:ext cx="15861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в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292720" y="1628640"/>
            <a:ext cx="17733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ор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37280" y="2708280"/>
            <a:ext cx="99900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54120" y="2708280"/>
            <a:ext cx="205992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міжн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дукти розпа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ибель клітин мозк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100 г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орілки = гибель 7500 клітин мозк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03120" y="280044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432680" y="3933720"/>
            <a:ext cx="186948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а 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кисло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516720" y="3933720"/>
            <a:ext cx="1584360" cy="95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51280" y="522936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родження печін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3720" y="5294160"/>
            <a:ext cx="22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еритроци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160" y="61657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Денатурація білків-фермен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7" descr="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400536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Эритр"/>
          <p:cNvPicPr/>
          <p:nvPr/>
        </p:nvPicPr>
        <p:blipFill>
          <a:blip r:embed="rId2"/>
          <a:stretch/>
        </p:blipFill>
        <p:spPr>
          <a:xfrm>
            <a:off x="2700360" y="51577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0"/>
          <p:cNvSpPr/>
          <p:nvPr/>
        </p:nvSpPr>
        <p:spPr>
          <a:xfrm>
            <a:off x="6877080" y="3429000"/>
            <a:ext cx="43164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5148000" y="3429000"/>
            <a:ext cx="36036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2678600">
            <a:off x="2339640" y="404280"/>
            <a:ext cx="485640" cy="1231920"/>
          </a:xfrm>
          <a:prstGeom prst="upArrow">
            <a:avLst>
              <a:gd name="adj1" fmla="val 50000"/>
              <a:gd name="adj2" fmla="val 6341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8601000">
            <a:off x="5363640" y="332640"/>
            <a:ext cx="486000" cy="1336680"/>
          </a:xfrm>
          <a:prstGeom prst="upArrow">
            <a:avLst>
              <a:gd name="adj1" fmla="val 50000"/>
              <a:gd name="adj2" fmla="val 687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1835280" y="3500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59280" y="465300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9" descr="536922_524508"/>
          <p:cNvPicPr/>
          <p:nvPr/>
        </p:nvPicPr>
        <p:blipFill>
          <a:blip r:embed="rId3"/>
          <a:stretch/>
        </p:blipFill>
        <p:spPr>
          <a:xfrm>
            <a:off x="7380360" y="4876920"/>
            <a:ext cx="1428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0_303c6_2a2a4164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0" y="57528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«Від алкоголю щороку гине 1,5 млн чоловік — це вибухи 13 атомних бомб Хіросіми у вигляді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пиртних напоїв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житті потрібно спробувати все, в тому числі і 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0" descr="Абсолютная водка сдувается"/>
          <p:cNvPicPr/>
          <p:nvPr/>
        </p:nvPicPr>
        <p:blipFill>
          <a:blip r:embed="rId1"/>
          <a:stretch/>
        </p:blipFill>
        <p:spPr>
          <a:xfrm>
            <a:off x="5435640" y="2530440"/>
            <a:ext cx="3529080" cy="432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Абсолютная водка сдувается"/>
          <p:cNvPicPr/>
          <p:nvPr/>
        </p:nvPicPr>
        <p:blipFill>
          <a:blip r:embed="rId2"/>
          <a:stretch/>
        </p:blipFill>
        <p:spPr>
          <a:xfrm>
            <a:off x="5357880" y="2530440"/>
            <a:ext cx="35290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живати алкоголь чи не вживати - це моя особиста с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Можн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жив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«з головою» та не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леж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д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ньог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Коли п</a:t>
            </a:r>
            <a:r>
              <a:rPr b="0" lang="el-GR" sz="4000" spc="-1" strike="noStrike">
                <a:solidFill>
                  <a:srgbClr val="ffff00"/>
                </a:solidFill>
                <a:latin typeface="Arial"/>
                <a:ea typeface="Arial"/>
              </a:rPr>
              <a:t>΄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єш алкоголь стаєш активнішим, швидко реагуєш на будь - яку ситуаці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Вживання невеликої кільк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алкоголю не шкодить  здоров'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34329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Щоб не стати алкоголіком, головне знати міру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885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Тест  «Міф чи реальніст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значте:             міф (М) чи      реальність (Р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Алкоголь — це стимулюючий засіб, його вживання веде до підняття дух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ашка міцної кави, ковток свіжого повітря або холодний душ поможуть вам протверезитись, якщо ви збираєтесь вести машину в нетверезому стан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Людям стає веселіше, якщо вони випил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Якщо хочеш випити, то краще випити пива чи віск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вагітна жінка п'є, палить або вживає наркотики, це впливає на   внутрішньоутробний плі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Люди ніколи не вмирають від алкогольного отруєнн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Молоді люди, які починають пити алкогольні напої до 15 років, можуть удвічі частіше почати вживати наркотики, ніж ті, хто не вживав алкоголю в цьому віц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діти вірять, що алкоголь не може завдати їм шкоди, існує велика вірогідність того, що вони почнуть вживати наркоти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 Келих спиртного зігріває взимк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3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п'яної людини в мозку відбувається велика кількість дрібних крововиливів, закупорка судин, у результаті чого клітки мозку не одержують кисню й гину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 вживанні 100 г пива гине близько 300 клітин мозку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вина — 5 000 клітин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горілки — 7 500 кліт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тягом років у питущої людини гинуть мільйони клітин, що не відновлюю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видів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кількостей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Кількість спиртного, яку можна випити не п'яніючи, залежить від ваги, статі, віку і швидкості обміну речов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-erytro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67200" y="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ТАБОЛІЗМ АЛКОГОЛЮ В ПЕЧІНЦ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549360"/>
            <a:ext cx="88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Алкоголь на відмінність від  більшості харчових  продуктів та напоїв н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травлюється, а з шлунка потрапляє одразу в кр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7240" y="1268280"/>
            <a:ext cx="84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лкого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зберігається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в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організмі до тих пір, поки не буде перероблений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чінкою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відбувається дуже повільно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1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/годин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3520" y="2023920"/>
            <a:ext cx="79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В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ечінці проходять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хімічні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роцеси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окиснення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етилового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спирту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512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-20160" y="2606760"/>
            <a:ext cx="127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89080" y="2492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алкоголь-ДГ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094200" y="2597040"/>
            <a:ext cx="2485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(</a:t>
            </a: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ацетальдегід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flipV="1" rot="10800000">
            <a:off x="5378400" y="2485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35600" y="2637000"/>
            <a:ext cx="253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цтова кисло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15240" y="414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цетил-Со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578480" y="5661000"/>
            <a:ext cx="25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Синтез жирних кисло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7477920" y="5734080"/>
            <a:ext cx="14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Н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7" descr="Печен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Line 18"/>
          <p:cNvSpPr/>
          <p:nvPr/>
        </p:nvSpPr>
        <p:spPr>
          <a:xfrm>
            <a:off x="1258920" y="2852640"/>
            <a:ext cx="2376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003640" y="2852640"/>
            <a:ext cx="1219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7093080" y="3467160"/>
            <a:ext cx="0" cy="682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>
            <a:off x="5724000" y="4581360"/>
            <a:ext cx="863640" cy="10083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7596360" y="4581360"/>
            <a:ext cx="647640" cy="1079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-mozg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-konservuje"/>
          <p:cNvPicPr/>
          <p:nvPr/>
        </p:nvPicPr>
        <p:blipFill>
          <a:blip r:embed="rId1"/>
          <a:stretch/>
        </p:blipFill>
        <p:spPr>
          <a:xfrm>
            <a:off x="304920" y="333360"/>
            <a:ext cx="883908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2b2b2"/>
                </a:solidFill>
                <a:latin typeface="Arial"/>
              </a:rPr>
              <a:t>Алкоголь: за і про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ептичний засі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рідких лаків, розтирок для компрес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интез органічних речо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лаків і фа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сушувач та промивний засіб в оптиці й електроні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синтетичного кауч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ятувальний засіб у разі отруєнь метанолом та етиленгліко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для приготування одеколонів, парфум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ервування анатомічних препара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59280" y="1197000"/>
            <a:ext cx="41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родження дітей з каліцт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кількості дорожньо-транспортних при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тривалості житт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атологія внутрішніх орга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тримка розвитку інтеле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оціальна поведі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рушення роботи центральної нервової систе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11280" y="26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ОР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ЯКИ ВПЛИВАЮТЬ НА ФОРМУВАННЯ ЗАЛЕЖ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43280" y="15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5240" y="20718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і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flipV="1" rot="10800000">
            <a:off x="4642920" y="404028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частота вживан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43280" y="2779560"/>
            <a:ext cx="21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кіль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641480" y="34653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міцн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642560" y="52275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я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643280" y="4651200"/>
            <a:ext cx="15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641120" y="576900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особисті особливості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3" descr="i?id=83523926-02"/>
          <p:cNvPicPr/>
          <p:nvPr/>
        </p:nvPicPr>
        <p:blipFill>
          <a:blip r:embed="rId1"/>
          <a:stretch/>
        </p:blipFill>
        <p:spPr>
          <a:xfrm>
            <a:off x="826920" y="1557360"/>
            <a:ext cx="311004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>
            <a:off x="179280" y="537372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9280" y="328464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79280" y="134136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7"/>
          <p:cNvPicPr/>
          <p:nvPr/>
        </p:nvPicPr>
        <p:blipFill>
          <a:blip r:embed="rId1"/>
          <a:stretch/>
        </p:blipFill>
        <p:spPr>
          <a:xfrm>
            <a:off x="6372360" y="620640"/>
            <a:ext cx="2346120" cy="2166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365640" y="-42840"/>
            <a:ext cx="27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КОГОЛІЗ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05840" y="53352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динамічний процес, який протікає в декіль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стадій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7928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63640" y="1635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атологічн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 тяга до алкоголю,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його систематичне вживання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79280" y="2492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-2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 flipV="1" rot="10800000">
            <a:off x="177840" y="357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476360" y="3357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аростаюча тяга до алкоголю, частков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рат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ам</a:t>
            </a:r>
            <a:r>
              <a:rPr b="1" lang="el-GR" sz="1800" spc="-1" strike="noStrike">
                <a:solidFill>
                  <a:srgbClr val="ffffcc"/>
                </a:solidFill>
                <a:latin typeface="Arial"/>
                <a:ea typeface="Arial"/>
              </a:rPr>
              <a:t>΄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яти та контролю над собо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50920" y="44308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-5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157320" y="566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908000" y="5373720"/>
            <a:ext cx="68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овна (психічна та фізична) залежніс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ід алкоголю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911960" y="5942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Деградація особистост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836000" y="630864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оборотні зміни організму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" descr="i?id=32343570-01"/>
          <p:cNvPicPr/>
          <p:nvPr/>
        </p:nvPicPr>
        <p:blipFill>
          <a:blip r:embed="rId2"/>
          <a:stretch/>
        </p:blipFill>
        <p:spPr>
          <a:xfrm>
            <a:off x="7164360" y="5032440"/>
            <a:ext cx="130320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i?id=131067244-06"/>
          <p:cNvPicPr/>
          <p:nvPr/>
        </p:nvPicPr>
        <p:blipFill>
          <a:blip r:embed="rId3"/>
          <a:stretch/>
        </p:blipFill>
        <p:spPr>
          <a:xfrm>
            <a:off x="7093080" y="299736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142920" y="5143680"/>
            <a:ext cx="2895480" cy="838080"/>
          </a:xfrm>
          <a:prstGeom prst="rightArrowCallout">
            <a:avLst>
              <a:gd name="adj1" fmla="val 25002"/>
              <a:gd name="adj2" fmla="val 25000"/>
              <a:gd name="adj3" fmla="val 57582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52280" y="4322880"/>
            <a:ext cx="2895840" cy="761760"/>
          </a:xfrm>
          <a:prstGeom prst="rightArrowCallout">
            <a:avLst>
              <a:gd name="adj1" fmla="val 25002"/>
              <a:gd name="adj2" fmla="val 25000"/>
              <a:gd name="adj3" fmla="val 6335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2280" y="342900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2280" y="256536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52280" y="170028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152280" y="76500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99440" y="-428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ПЛИВ АЛКОГОЛ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4000" y="76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оловний моз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991960" y="9079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рвових кліт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609480" y="18381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ерц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934000" y="184464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ерод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ечін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30040" y="2708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Цироз, алкогольний гепати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34600" y="3595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шлун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994120" y="3638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астрит вираз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2560" y="4502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нир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94120" y="4529160"/>
            <a:ext cx="345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Гибель ниркових клубочків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труєння продук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бміну речов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129240" y="5510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теві  залоз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20364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982960" y="5562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Імпотенц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8064360" y="36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8" descr="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177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Почки"/>
          <p:cNvPicPr/>
          <p:nvPr/>
        </p:nvPicPr>
        <p:blipFill>
          <a:blip r:embed="rId2"/>
          <a:stretch/>
        </p:blipFill>
        <p:spPr>
          <a:xfrm>
            <a:off x="6372360" y="44370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3"/>
          <p:cNvSpPr/>
          <p:nvPr/>
        </p:nvSpPr>
        <p:spPr>
          <a:xfrm>
            <a:off x="15080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7147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7236000" y="838080"/>
            <a:ext cx="838080" cy="6019920"/>
          </a:xfrm>
          <a:custGeom>
            <a:avLst/>
            <a:gdLst>
              <a:gd name="textAreaLeft" fmla="*/ 0 w 838080"/>
              <a:gd name="textAreaRight" fmla="*/ 302760 w 83808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9" descr="i?id=79601509-03"/>
          <p:cNvPicPr/>
          <p:nvPr/>
        </p:nvPicPr>
        <p:blipFill>
          <a:blip r:embed="rId3"/>
          <a:stretch/>
        </p:blipFill>
        <p:spPr>
          <a:xfrm>
            <a:off x="5292720" y="3213000"/>
            <a:ext cx="971640" cy="13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i?id=8974509-03"/>
          <p:cNvPicPr/>
          <p:nvPr/>
        </p:nvPicPr>
        <p:blipFill>
          <a:blip r:embed="rId4"/>
          <a:stretch/>
        </p:blipFill>
        <p:spPr>
          <a:xfrm>
            <a:off x="5867280" y="692280"/>
            <a:ext cx="1295640" cy="86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i?id=113258280-01"/>
          <p:cNvPicPr/>
          <p:nvPr/>
        </p:nvPicPr>
        <p:blipFill>
          <a:blip r:embed="rId5"/>
          <a:stretch/>
        </p:blipFill>
        <p:spPr>
          <a:xfrm>
            <a:off x="6300720" y="2708280"/>
            <a:ext cx="12384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0:16:47Z</dcterms:created>
  <dc:creator>User</dc:creator>
  <dc:description/>
  <dc:language>en-US</dc:language>
  <cp:lastModifiedBy>user</cp:lastModifiedBy>
  <dcterms:modified xsi:type="dcterms:W3CDTF">2011-12-25T16:44:10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9000000000001024140</vt:lpwstr>
  </property>
</Properties>
</file>