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drumroll.wav" ContentType="audio/x-wav"/>
  <Override PartName="/ppt/media/chimes.wav" ContentType="audio/x-wav"/>
  <Override PartName="/ppt/media/image6.jpeg" ContentType="image/jpeg"/>
  <Override PartName="/ppt/media/click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1AC-03DF-44AB-989C-53861BFA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604-8103-4A17-8A0B-F324D6C1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71A-97A0-4338-9B20-336C5899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D44-4D25-4553-AD3C-65B095B7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B1A-442A-4856-AB83-47ECF0D2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C25-0651-486D-87DF-7D27F236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CB9-614B-4883-BA20-071AA3CA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C28-9168-4440-9A61-04CCE64E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EFA-B14F-4559-9B24-3D2EBB90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851-3878-4EA6-9945-FE17FFAA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31A-A85E-454C-BD3F-839635A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306-4AF3-4A56-ABCB-6E43F11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DE83-6AA6-4BF2-868C-24B71373F4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лазская О.А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5673-B148-402E-B3DD-2744C4550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Єдиний шлях до знань – діяльні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.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274680"/>
            <a:ext cx="67057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«Вплив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концентрації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човин на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швидкість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акції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дві комірки насипте трохи порошку магні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першу долийте 4 краплі хлоридної кислоти, а в другу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краплі дистильованої води і 1 краплю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209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28600" y="1905120"/>
            <a:ext cx="327672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28600" y="3429000"/>
            <a:ext cx="3733920" cy="198108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концентраці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агуюч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62720" y="4038480"/>
            <a:ext cx="274320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Залежить від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температу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181480" y="1905120"/>
            <a:ext cx="342900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23880" y="5181480"/>
            <a:ext cx="2743200" cy="16765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Каталіз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Що згоряє швидше дерев’яна дошка чи дерев`яні ошурки?                         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шу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йменшу швидкість мають частинки речовини у якому стані?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частинки твердої речови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арчові продукти довше зберігаються у вакуумних упаковка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 І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би пришвидшити випалювання залізної руди, її подрібнюють і розпорошують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 В ІІІ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5257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 допомогою якого фактора можна прискорити реакції між газами.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тис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Чому не можна під час пожежі відкривати вікна?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більшується концентрація кисн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 літку зростає небезпека харчових отруєнь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рмін служби мідних водопровідних труб значно більший порівняно зі сталевими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  V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3505320" cy="990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04920"/>
            <a:ext cx="3200400" cy="10666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67B8-0860-4EC5-9D82-ACC0F19F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F42F-AF2B-4E1A-B45F-1472225DA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2590920"/>
            <a:ext cx="6477120" cy="1752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Є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тільки дві форми життя;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971800" y="5715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914400" y="3808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омашнє завдання: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523880"/>
            <a:ext cx="7772400" cy="4572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Times New Roman"/>
              </a:rPr>
              <a:t>Школа виживання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обіть пам`ятку для тих, хт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бирається у похі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і продукти харчування краще брати з собою і чо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 доцільніше зберігати продукт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90720" y="114300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lick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533520" y="4343400"/>
            <a:ext cx="792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якую за увагу!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05" name="Picture 5" descr="36_2_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1676520"/>
            <a:ext cx="1446120" cy="110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6_2_2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0" y="1981080"/>
            <a:ext cx="1474920" cy="110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36_1_50"/>
          <p:cNvPicPr/>
          <p:nvPr/>
        </p:nvPicPr>
        <p:blipFill>
          <a:blip r:embed="rId3"/>
          <a:stretch/>
        </p:blipFill>
        <p:spPr>
          <a:xfrm>
            <a:off x="3962520" y="2286000"/>
            <a:ext cx="1465200" cy="110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36_2_18"/>
          <p:cNvPicPr/>
          <p:nvPr/>
        </p:nvPicPr>
        <p:blipFill>
          <a:blip r:embed="rId4"/>
          <a:stretch/>
        </p:blipFill>
        <p:spPr>
          <a:xfrm>
            <a:off x="5638680" y="2666880"/>
            <a:ext cx="1446480" cy="110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9092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66680" y="2819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267080" y="35812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172200" y="3962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752480" y="6858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entury Schoolbook"/>
              </a:rPr>
              <a:t>Ваш </a:t>
            </a:r>
            <a:r>
              <a:rPr b="1" i="1" lang="uk-UA" sz="3200" spc="-1" strike="noStrike">
                <a:solidFill>
                  <a:srgbClr val="0000ff"/>
                </a:solidFill>
                <a:latin typeface="Century Schoolbook"/>
              </a:rPr>
              <a:t>настрій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5" name="click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203400">
            <a:off x="2590920" y="761760"/>
            <a:ext cx="538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ма урок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3973320" cy="402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220212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5874-45D3-4775-A870-0FB0D914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937A-3193-40F9-BDD3-C961E84A9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 rot="186000">
            <a:off x="1752120" y="4572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 зможемо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133720" y="1371600"/>
            <a:ext cx="685800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5050"/>
                </a:solidFill>
                <a:uFillTx/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.Робити висновки про вплив різн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чинників на швидкість хімічних реакці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228600" y="2819520"/>
            <a:ext cx="647712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Пояснити, який спосіб зберіганн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харчових продуктів доцільніш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80880" y="4724280"/>
            <a:ext cx="6477120" cy="1752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«Є тільки дві форми життя: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295280" y="4038480"/>
            <a:ext cx="28670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Ми поміркуємо</a:t>
            </a:r>
            <a:endParaRPr b="1" i="1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5050"/>
                </a:solidFill>
                <a:latin typeface="Times New Roman"/>
              </a:rPr>
              <a:t>Розташуйте явища за зростанням швидкості хімічних реак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00"/>
                </a:solidFill>
                <a:latin typeface="Arial"/>
              </a:rPr>
              <a:t>ШВИДКІСТ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91120" cy="480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З фі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752120"/>
            <a:ext cx="4038480" cy="4830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Швидкість хімічної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реак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визначається зміною концентрації речовин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одиницю ч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19682400">
            <a:off x="5638680" y="151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8320" y="4038480"/>
            <a:ext cx="4244760" cy="256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28800" y="2514600"/>
                <a:ext cx="13240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943600" y="3962520"/>
                <a:ext cx="1714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n</m:t>
                            </m:r>
                          </m:num>
                          <m:den>
                            <m:r>
                              <m:t xml:space="preserve">Vτ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rd"/>
    <p:sndAc>
      <p:stSnd>
        <p:snd r:embed="rId5" name="click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9343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3600"/>
            </a:b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Вплив хімічної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природи реагентів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реакції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дну комірку насипте трохи порошку магнію, а в другу стільки ж за масою порошку залі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бидві комірки налийте по 2-3 краплі розчину хлоридної кисло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4284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143000" y="205740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 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Вплив </a:t>
            </a: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площі поверхні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стикання речовин </a:t>
            </a: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реакції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30477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дну комірку насипте трохи порошку заліза, а в другу стільки ж за масою залізних ош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бидві комірки налийте по 2-3 краплі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80880"/>
            <a:ext cx="7086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85800" y="42670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724280" y="22096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3-27T18:27:4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