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drumroll.wav" ContentType="audio/x-wav"/>
  <Override PartName="/ppt/media/chimes.wav" ContentType="audio/x-wav"/>
  <Override PartName="/ppt/media/image6.jpeg" ContentType="image/jpeg"/>
  <Override PartName="/ppt/media/click.wav" ContentType="audio/x-wav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jpeg" ContentType="image/jpeg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9FD-1D37-45A1-B8B1-FA39E040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90D-AD63-4C40-BB59-623D18F0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E6E-9597-44FD-A9E7-7B006059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A52-F11F-4478-A56C-9A39AC26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DB1-BE87-46A6-A73E-BA814EFE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FF3-A9D3-494E-8316-F50B2563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98D-519D-400F-B011-DCDE1A84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082-D86A-466A-9EBF-93B387B7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6BB-824A-467B-9996-2E1F79DA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7D0A-E826-4A44-BB78-8DB1021F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876-F807-408F-A0F1-30D2B65A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C6C-D968-429A-B6D2-88AE3783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CF27-059B-477E-847B-5A9699AAB0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лазская О.А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5211-C16C-4D39-AF35-D07154EA9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Єдиний шлях до знань – діяльніс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.Ш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274680"/>
            <a:ext cx="670572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абораторний дослід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«Вплив </a:t>
            </a:r>
            <a:r>
              <a:rPr b="1" lang="uk-UA" sz="3600" spc="-1" strike="noStrike">
                <a:solidFill>
                  <a:srgbClr val="009900"/>
                </a:solidFill>
                <a:latin typeface="Times New Roman"/>
              </a:rPr>
              <a:t>концентрації</a:t>
            </a: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 речовин на </a:t>
            </a:r>
            <a:r>
              <a:rPr b="1" lang="uk-UA" sz="3600" spc="-1" strike="noStrike">
                <a:solidFill>
                  <a:srgbClr val="009900"/>
                </a:solidFill>
                <a:latin typeface="Times New Roman"/>
              </a:rPr>
              <a:t>швидкість</a:t>
            </a: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 реакції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дві комірки насипте трохи порошку магні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першу долийте 4 краплі хлоридної кислоти, а в другу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краплі дистильованої води і 1 краплю розчину хлоридної кисл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428840" cy="1981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2209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cc"/>
                </a:solidFill>
                <a:latin typeface="Times New Roman"/>
              </a:rPr>
              <a:t>Неухильно виконуйте </a:t>
            </a:r>
            <a:r>
              <a:rPr b="1" lang="uk-UA" sz="2400" spc="-1" strike="noStrike" u="sng">
                <a:solidFill>
                  <a:srgbClr val="ff33cc"/>
                </a:solidFill>
                <a:uFillTx/>
                <a:latin typeface="Times New Roman"/>
              </a:rPr>
              <a:t>правила техніки безп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lick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228600" y="1905120"/>
            <a:ext cx="3276720" cy="190476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Залежить від площ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поверхні стикан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реагенті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228600" y="3429000"/>
            <a:ext cx="3733920" cy="198108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концентраці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реагуючи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5562720" y="4038480"/>
            <a:ext cx="274320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</a:rPr>
              <a:t>Залежить від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</a:rPr>
              <a:t>температур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5181480" y="1905120"/>
            <a:ext cx="3429000" cy="190476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природ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реагуючих 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523880" y="5181480"/>
            <a:ext cx="2743200" cy="16765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Каталіз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4038480" cy="510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Що згоряє швидше дерев’яна дошка чи дерев`яні ошурки?                                  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ошур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айменшу швидкість мають частинки речовини у якому стані?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частинки твердої речовин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Харчові продукти довше зберігаються у вакуумних упаковка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А  І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би пришвидшити випалювання залізної руди, її подрібнюють і розпорошують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 В ІІІ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05160" y="1371240"/>
            <a:ext cx="3809880" cy="52578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 допомогою якого фактора можна прискорити реакції між газами.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тис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Чому не можна під час пожежі відкривати вікна?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збільшується концентрація кисн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 літку зростає небезпека харчових отруєнь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А 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рмін служби мідних водопровідних труб значно більший порівняно зі сталевими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  V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80880"/>
            <a:ext cx="3505320" cy="99072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варіа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04920"/>
            <a:ext cx="3200400" cy="106668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варіа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8F29-7B5F-4127-B169-A7EB4311A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EFD2-05A5-4EF8-8CC8-E33DD6566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295280" y="2590920"/>
            <a:ext cx="6477120" cy="1752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«Є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тільки дві форми життя;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гнитт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і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5050"/>
                </a:solidFill>
                <a:latin typeface="Times New Roman"/>
              </a:rPr>
              <a:t>горінн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. Боягузи та жадібні оберу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першу, мужні та щедрі – другу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2971800" y="5715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914400" y="38088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Домашнє завдання:</a:t>
            </a:r>
            <a:endParaRPr b="1" i="1" lang="en-US" sz="32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838080" y="1523880"/>
            <a:ext cx="7772400" cy="4572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99"/>
                </a:solidFill>
                <a:latin typeface="Times New Roman"/>
              </a:rPr>
              <a:t>Школа виживання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робіть пам`ятку для тих, хт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бирається у похід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і продукти харчування краще брати з собою і чому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 доцільніше зберігати продукт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девочка уроки"/>
          <p:cNvPicPr/>
          <p:nvPr/>
        </p:nvPicPr>
        <p:blipFill>
          <a:blip r:embed="rId1"/>
          <a:stretch/>
        </p:blipFill>
        <p:spPr>
          <a:xfrm>
            <a:off x="990720" y="1143000"/>
            <a:ext cx="164628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2" name="click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533520" y="4343400"/>
            <a:ext cx="7924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Дякую за увагу!</a:t>
            </a:r>
            <a:endParaRPr b="1" i="1" lang="en-US" sz="32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105" name="Picture 5" descr="36_2_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1676520"/>
            <a:ext cx="1446120" cy="110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6_2_2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286000" y="1981080"/>
            <a:ext cx="1474920" cy="1101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36_1_50"/>
          <p:cNvPicPr/>
          <p:nvPr/>
        </p:nvPicPr>
        <p:blipFill>
          <a:blip r:embed="rId3"/>
          <a:stretch/>
        </p:blipFill>
        <p:spPr>
          <a:xfrm>
            <a:off x="3962520" y="2286000"/>
            <a:ext cx="1465200" cy="110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36_2_18"/>
          <p:cNvPicPr/>
          <p:nvPr/>
        </p:nvPicPr>
        <p:blipFill>
          <a:blip r:embed="rId4"/>
          <a:stretch/>
        </p:blipFill>
        <p:spPr>
          <a:xfrm>
            <a:off x="5638680" y="2666880"/>
            <a:ext cx="1446480" cy="1101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2590920" y="32004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066680" y="28195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4267080" y="358128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6172200" y="39625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1752480" y="68580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entury Schoolbook"/>
              </a:rPr>
              <a:t>Ваш </a:t>
            </a:r>
            <a:r>
              <a:rPr b="1" i="1" lang="uk-UA" sz="3200" spc="-1" strike="noStrike">
                <a:solidFill>
                  <a:srgbClr val="0000ff"/>
                </a:solidFill>
                <a:latin typeface="Century Schoolbook"/>
              </a:rPr>
              <a:t>настрій ??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5" name="click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 rot="203400">
            <a:off x="2590920" y="761760"/>
            <a:ext cx="5381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19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Тема уроку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3973320" cy="402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220212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EC1D-2A7A-463E-8145-854D6BDF3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89B6-0F2C-463F-9B8F-0D7ADC633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 rot="186000">
            <a:off x="1752120" y="457200"/>
            <a:ext cx="4419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 зможемо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2133720" y="1371600"/>
            <a:ext cx="6858000" cy="1143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5050"/>
                </a:solidFill>
                <a:uFillTx/>
                <a:latin typeface="Century Schoolbook"/>
              </a:rPr>
              <a:t>1</a:t>
            </a: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.Робити висновки про вплив різни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чинників на швидкість хімічних реакці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228600" y="2819520"/>
            <a:ext cx="6477120" cy="1143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2. </a:t>
            </a: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Пояснити, який спосіб зберіганн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харчових продуктів доцільніш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380880" y="4724280"/>
            <a:ext cx="6477120" cy="1752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«Є тільки дві форми життя: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гнитт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і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5050"/>
                </a:solidFill>
                <a:latin typeface="Times New Roman"/>
              </a:rPr>
              <a:t>горінн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. Боягузи та жадібні оберу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першу, мужні та щедрі – другу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295280" y="4038480"/>
            <a:ext cx="28670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Ми поміркуємо</a:t>
            </a:r>
            <a:endParaRPr b="1" i="1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5050"/>
                </a:solidFill>
                <a:latin typeface="Times New Roman"/>
              </a:rPr>
              <a:t>Розташуйте явища за зростанням швидкості хімічних реакц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бух г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жавіння залі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творення мінералів у природ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родіння виноградного с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горяння тирси у груб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кисання м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творення мінералів у природ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жавіння залі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родіння виноградного с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кисання м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горяння тирси у груб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бух г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6600"/>
                </a:solidFill>
                <a:latin typeface="Arial"/>
              </a:rPr>
              <a:t>ШВИДКІСТЬ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191120" cy="4800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Times New Roman"/>
              </a:rPr>
              <a:t>З фіз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600" y="1752120"/>
            <a:ext cx="4038480" cy="4830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Швидкість хімічної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реакц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визначається зміною концентрації речовин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 одиницю ча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3657600" cy="2248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732040" cy="1716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rot="19682400">
            <a:off x="5638680" y="151920"/>
            <a:ext cx="2732040" cy="1716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648320" y="4038480"/>
            <a:ext cx="4244760" cy="2563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828800" y="2514600"/>
                <a:ext cx="132408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943600" y="3962520"/>
                <a:ext cx="1714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n</m:t>
                            </m:r>
                          </m:num>
                          <m:den>
                            <m:r>
                              <m:t xml:space="preserve">Vτ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cover dir="rd"/>
    <p:sndAc>
      <p:stSnd>
        <p:snd r:embed="rId5" name="click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69343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абораторний дослід</a:t>
            </a:r>
            <a:br>
              <a:rPr sz="3600"/>
            </a:b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Вплив хімічної </a:t>
            </a:r>
            <a:r>
              <a:rPr b="1" lang="uk-UA" sz="3600" spc="-1" strike="noStrike">
                <a:solidFill>
                  <a:srgbClr val="cc0000"/>
                </a:solidFill>
                <a:latin typeface="Times New Roman"/>
              </a:rPr>
              <a:t>природи реагентів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cc0000"/>
                </a:solidFill>
                <a:latin typeface="Times New Roman"/>
              </a:rPr>
              <a:t>на швидкість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 реакції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”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 одну комірку насипте трохи порошку магнію, а в другу стільки ж за масою порошку залі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 обидві комірки налийте по 2-3 краплі розчину хлоридної кисло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428480" cy="198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20574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cc"/>
                </a:solidFill>
                <a:latin typeface="Times New Roman"/>
              </a:rPr>
              <a:t>Неухильно виконуйте </a:t>
            </a:r>
            <a:r>
              <a:rPr b="1" lang="uk-UA" sz="2400" spc="-1" strike="noStrike" u="sng">
                <a:solidFill>
                  <a:srgbClr val="ff33cc"/>
                </a:solidFill>
                <a:uFillTx/>
                <a:latin typeface="Times New Roman"/>
              </a:rPr>
              <a:t>правила техніки безп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lick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90720" y="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143000" y="2057400"/>
            <a:ext cx="327672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природ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реагуючих 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абораторний дослід</a:t>
            </a:r>
            <a:br>
              <a:rPr sz="40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« 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Вплив </a:t>
            </a:r>
            <a:r>
              <a:rPr b="1" lang="uk-UA" sz="3600" spc="-1" strike="noStrike" u="sng">
                <a:solidFill>
                  <a:srgbClr val="0000ff"/>
                </a:solidFill>
                <a:uFillTx/>
                <a:latin typeface="Times New Roman"/>
              </a:rPr>
              <a:t>площі поверхні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стикання речовин </a:t>
            </a: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на швидкість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реакції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3047760"/>
            <a:ext cx="7391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одну комірку насипте трохи порошку заліза, а в другу стільки ж за масою залізних ош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обидві комірки налийте по 2-3 краплі розчину хлоридної кисл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428840" cy="198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057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cc"/>
                </a:solidFill>
                <a:latin typeface="Times New Roman"/>
              </a:rPr>
              <a:t>Неухильно виконуйте </a:t>
            </a:r>
            <a:r>
              <a:rPr b="1" lang="uk-UA" sz="2400" spc="-1" strike="noStrike" u="sng">
                <a:solidFill>
                  <a:srgbClr val="ff33cc"/>
                </a:solidFill>
                <a:uFillTx/>
                <a:latin typeface="Times New Roman"/>
              </a:rPr>
              <a:t>правила техніки безп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lick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43000" y="380880"/>
            <a:ext cx="70866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685800" y="4267080"/>
            <a:ext cx="327672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Залежить від площ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поверхні стикан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реагенті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724280" y="2209680"/>
            <a:ext cx="327672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природ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реагуючих 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0-03-27T18:27:4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