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drumroll.wav" ContentType="audio/x-wav"/>
  <Override PartName="/ppt/media/chimes.wav" ContentType="audio/x-wav"/>
  <Override PartName="/ppt/media/image6.jpeg" ContentType="image/jpeg"/>
  <Override PartName="/ppt/media/click.wav" ContentType="audio/x-wav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A5D-3FF7-432B-817A-F941E6F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724-F5EF-4840-B2A4-57D68029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397-41AF-45F6-BBFC-0C23E08A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806-63AB-46CA-A2FA-E4175C6E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C47-E397-4BA7-BFAA-03AD2072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AF3-445D-403F-AE90-E3EC7B61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3AE-C0C1-442E-9216-69D7682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386-6B3C-47D8-9F5F-BFB523BD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0BC-A054-429B-84E6-57D8CEF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88E-7DF8-4CA9-AA62-B82C4E04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CAB-92E8-4692-8524-BFC0E767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759-2D63-4D76-8974-B190E92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BDC9-72F1-4CD6-8B43-8F94C4D7B1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лазская О.А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CCAA-2FE0-459B-A69A-A25D77C56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диний шлях до знань – діяльні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.Ш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74680"/>
            <a:ext cx="670572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Вплив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концентрації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човин на </a:t>
            </a:r>
            <a:r>
              <a:rPr b="1" lang="uk-UA" sz="3600" spc="-1" strike="noStrike">
                <a:solidFill>
                  <a:srgbClr val="009900"/>
                </a:solidFill>
                <a:latin typeface="Times New Roman"/>
              </a:rPr>
              <a:t>швидкість</a:t>
            </a: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 реакції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дві комірки насипте трохи порошку магні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першу долийте 4 краплі хлоридної кислоти, а в другу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краплі дистильованої води і 1 краплю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09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28600" y="1905120"/>
            <a:ext cx="327672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28600" y="3429000"/>
            <a:ext cx="3733920" cy="198108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онцентраці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агуючи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62720" y="4038480"/>
            <a:ext cx="274320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Залежить від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</a:rPr>
              <a:t>температур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5181480" y="1905120"/>
            <a:ext cx="3429000" cy="19047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23880" y="5181480"/>
            <a:ext cx="2743200" cy="16765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Каталіз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4038480" cy="5105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Що згоряє швидше дерев’яна дошка чи дерев`яні ошурки?                         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ошур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айменшу швидкість мають частинки речовини у якому стані?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частинки твердої речовин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Харчові продукти довше зберігаються у вакуумних упаковках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 І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би пришвидшити випалювання залізної руди, її подрібнюють і розпорошують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 В ІІІ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5257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 допомогою якого фактора можна прискорити реакції між газами.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тис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Чому не можна під час пожежі відкривати вікна?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збільшується концентрація кисн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У літку зростає небезпека харчових отруєнь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А 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ермін служби мідних водопровідних труб значно більший порівняно зі сталевими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  V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3505320" cy="99072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04920"/>
            <a:ext cx="3200400" cy="106668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варі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A0C1-E558-4607-ADCE-602A0AB7E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A3C-2843-4692-BDDC-14F8BC9E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295280" y="2590920"/>
            <a:ext cx="6477120" cy="1752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Є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тільки дві форми життя;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971800" y="5715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914400" y="38088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омашнє завдання: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838080" y="1523880"/>
            <a:ext cx="7772400" cy="4572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Школа виживання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робіть пам`ятку для тих, хт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бирається у похід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продукти харчування краще брати з собою і чому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 доцільніше зберігати продук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девочка уроки"/>
          <p:cNvPicPr/>
          <p:nvPr/>
        </p:nvPicPr>
        <p:blipFill>
          <a:blip r:embed="rId1"/>
          <a:stretch/>
        </p:blipFill>
        <p:spPr>
          <a:xfrm>
            <a:off x="990720" y="114300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2" name="click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533520" y="4343400"/>
            <a:ext cx="7924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Дякую за увагу!</a:t>
            </a:r>
            <a:endParaRPr b="1" i="1" lang="en-US" sz="32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05" name="Picture 5" descr="36_2_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1676520"/>
            <a:ext cx="1446120" cy="110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6_2_2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1981080"/>
            <a:ext cx="1474920" cy="1101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6_1_50"/>
          <p:cNvPicPr/>
          <p:nvPr/>
        </p:nvPicPr>
        <p:blipFill>
          <a:blip r:embed="rId3"/>
          <a:stretch/>
        </p:blipFill>
        <p:spPr>
          <a:xfrm>
            <a:off x="3962520" y="2286000"/>
            <a:ext cx="1465200" cy="110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36_2_18"/>
          <p:cNvPicPr/>
          <p:nvPr/>
        </p:nvPicPr>
        <p:blipFill>
          <a:blip r:embed="rId4"/>
          <a:stretch/>
        </p:blipFill>
        <p:spPr>
          <a:xfrm>
            <a:off x="5638680" y="2666880"/>
            <a:ext cx="144648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2590920" y="32004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66680" y="2819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267080" y="35812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6172200" y="39625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752480" y="68580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entury Schoolbook"/>
              </a:rPr>
              <a:t>Ваш </a:t>
            </a:r>
            <a:r>
              <a:rPr b="1" i="1" lang="uk-UA" sz="3200" spc="-1" strike="noStrike">
                <a:solidFill>
                  <a:srgbClr val="0000ff"/>
                </a:solidFill>
                <a:latin typeface="Century Schoolbook"/>
              </a:rPr>
              <a:t>настрій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5" name="click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3400">
            <a:off x="2590920" y="761760"/>
            <a:ext cx="5381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193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 уроку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3973320" cy="402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2202120" cy="259092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8CEB-709A-4058-8E6F-6137D06B7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4E0-0FAF-45D0-84EA-082EA67B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 rot="186000">
            <a:off x="1752120" y="457200"/>
            <a:ext cx="4419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 зможемо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2133720" y="1371600"/>
            <a:ext cx="685800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5050"/>
                </a:solidFill>
                <a:uFillTx/>
                <a:latin typeface="Century Schoolbook"/>
              </a:rPr>
              <a:t>1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.Робити висновки про вплив різни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чинників на швидкість хімічних реакці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228600" y="2819520"/>
            <a:ext cx="6477120" cy="11430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2. </a:t>
            </a: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Пояснити, який спосіб зберіганн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cc"/>
                </a:solidFill>
                <a:latin typeface="Century Schoolbook"/>
              </a:rPr>
              <a:t>харчових продуктів доцільніши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380880" y="4724280"/>
            <a:ext cx="6477120" cy="17528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«Є тільки дві форми життя: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нитт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Times New Roman"/>
              </a:rPr>
              <a:t>горіння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. Боягузи та жадібні оберут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першу, мужні та щедрі – другу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cc"/>
                </a:solidFill>
                <a:latin typeface="Times New Roman"/>
              </a:rPr>
              <a:t>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295280" y="4038480"/>
            <a:ext cx="28670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Ми поміркуємо</a:t>
            </a:r>
            <a:endParaRPr b="1" i="1" lang="en-US" sz="2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5050"/>
                </a:solidFill>
                <a:latin typeface="Times New Roman"/>
              </a:rPr>
              <a:t>Розташуйте явища за зростанням швидкості хімічних реакц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творення мінералів у природ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жавіння залі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родіння виноградного с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кисання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горяння тирси у груб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бух га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6600"/>
                </a:solidFill>
                <a:latin typeface="Arial"/>
              </a:rPr>
              <a:t>ШВИДКІСТЬ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191120" cy="4800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З фіз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1752120"/>
            <a:ext cx="4038480" cy="483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Швидкість хімічної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реакц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визначається зміною концентрації речовин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одиницю ч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248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19682400">
            <a:off x="5638680" y="151920"/>
            <a:ext cx="2732040" cy="171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8320" y="4038480"/>
            <a:ext cx="4244760" cy="2563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28800" y="2514600"/>
                <a:ext cx="13240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943600" y="3962520"/>
                <a:ext cx="1714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n</m:t>
                            </m:r>
                          </m:num>
                          <m:den>
                            <m:r>
                              <m:t xml:space="preserve">Vτ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cover dir="rd"/>
    <p:sndAc>
      <p:stSnd>
        <p:snd r:embed="rId5" name="click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9343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3600"/>
            </a:b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Вплив хімічної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природи реагентів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 реакції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cc0000"/>
                </a:solidFill>
                <a:latin typeface="Times New Roman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дну комірку насипте трохи порошку магнію, а в другу стільки ж за масою порошку залі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В обидві комірки налийте по 2-3 краплі розчину хлоридної кисло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98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05740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143000" y="205740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6781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абораторний дослід</a:t>
            </a: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 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Вплив </a:t>
            </a:r>
            <a:r>
              <a:rPr b="1" lang="uk-UA" sz="3600" spc="-1" strike="noStrike" u="sng">
                <a:solidFill>
                  <a:srgbClr val="0000ff"/>
                </a:solidFill>
                <a:uFillTx/>
                <a:latin typeface="Times New Roman"/>
              </a:rPr>
              <a:t>площі поверхні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стикання речовин </a:t>
            </a:r>
            <a:r>
              <a:rPr b="1" lang="uk-UA" sz="3600" spc="-1" strike="noStrike">
                <a:solidFill>
                  <a:srgbClr val="0000ff"/>
                </a:solidFill>
                <a:latin typeface="Times New Roman"/>
              </a:rPr>
              <a:t>на швидкість</a:t>
            </a:r>
            <a:r>
              <a:rPr b="0" lang="uk-UA" sz="3600" spc="-1" strike="noStrike">
                <a:solidFill>
                  <a:srgbClr val="0000ff"/>
                </a:solidFill>
                <a:latin typeface="Times New Roman"/>
              </a:rPr>
              <a:t> реакції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дну комірку насипте трохи порошку заліза, а в другу стільки ж за масою залізних ош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обидві комірки налийте по 2-3 краплі розчину хлоридної кисл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98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0574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cc"/>
                </a:solidFill>
                <a:latin typeface="Times New Roman"/>
              </a:rPr>
              <a:t>Неухильно виконуйте </a:t>
            </a:r>
            <a:r>
              <a:rPr b="1" lang="uk-UA" sz="2400" spc="-1" strike="noStrike" u="sng">
                <a:solidFill>
                  <a:srgbClr val="ff33cc"/>
                </a:solidFill>
                <a:uFillTx/>
                <a:latin typeface="Times New Roman"/>
              </a:rPr>
              <a:t>правила техніки безп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lick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70866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видкість хімічної реакції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685800" y="42670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Залежить від площ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поверхні стик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9900"/>
                </a:solidFill>
                <a:latin typeface="Times New Roman"/>
              </a:rPr>
              <a:t>реагенті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724280" y="2209680"/>
            <a:ext cx="3276720" cy="190512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Залежить ві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природ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реагуючих речов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lick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0-03-27T18:27:4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