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76D-F502-40BE-8270-D0F62F53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EE4-E575-47C9-AAC4-FFF29C3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BE7-CEEF-4C4F-845C-7F73AB71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F5F-6A48-47DD-8710-087587DD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48976-7E6A-4D03-AE18-01914F1A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F1670-EF8F-40F1-96AF-E3D0A5A8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E978-3A08-4441-8E4B-1D72ADA6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C1725-1050-4CCE-A5A1-06F6E7ED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757E6-4285-4F8E-8FAB-0ED5A0F1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82143-9ADC-4B58-BE04-0C355AF0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47F1A-3FD5-4EF1-8D83-5FDCD36B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6B4-DDC0-429D-A7DD-773D2F0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0D550-2E27-4DCC-8D12-88A619F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AB025-CF66-4288-8D62-73596D7E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99F11-2C18-41F4-9CDF-79F5630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15226-F46F-4DF4-B0B2-CA0EF365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6DC95-2BDC-429A-A191-0A8CC7FB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A722-2879-47C8-A0B5-C50167EE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F6B7-B4E8-4295-B7C4-F2B708AE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76F9-1B4D-42BD-A483-EB961C10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1732-BF42-4E0A-87B6-285E5636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8CEA-A1C9-4BAB-937A-EE9E9DBE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7A9-55BE-4DA0-B736-4CD6DF2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BAF6-8EB3-4D7B-8327-613E33A8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C450-3093-4CD9-B79A-B177213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E3CD-84B8-451F-94FB-89EAB06E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57F7-E000-4708-8A55-361B250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6CBE-4F1B-402F-B49C-0E5F6D4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CB6B-9B8F-4000-B1AA-26E2D07B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0FB0-F772-41AB-8C3D-1AA196CD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5F07B-EEB7-443B-AAD7-02CDDF74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8E084-E246-44DF-AB2A-FC2CD7EB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84D17-B6F1-4F89-A272-89FFA028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DBA-B721-4132-8C6E-8E0774ED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F6B2D-71E8-4214-A5A2-A00C34E6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52481-F12A-4C19-A2F4-75360AD3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071A4-7E05-4B29-8BBB-F3BAAB8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5FDF5-2142-4AAC-BB46-4A58E1A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1775B-9BD1-40FE-9C6E-B17F9DC0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BEF65-A3A0-49EE-9FB4-D24C8E5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31918-A927-4383-85CA-5EEABF91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36F53-1840-4A85-BA16-7CA59270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8E83D-1305-4268-ADD6-ADAA7DF3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35AF0-A8EA-4A7B-A7DF-63BA7422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F97-9E6E-4CBF-ADD2-46C96DBB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7E1DD-DFB7-4749-8B0D-9445AF6C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68ECA-907E-4A33-8A71-654B83E9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BD91F-95C3-4C01-9F94-7186AC93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95AC4-393A-4CB4-AD06-325B19D5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586C0-0519-4C9A-ADE8-E625BA8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EA37E-75C0-42CA-97A2-5776F07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916FE-1B67-481F-9843-89F71D2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F5D16-DE56-4255-AEEC-7C719BC6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7A930-59B8-4A9D-BE03-0CA3DA52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4527C-1562-415A-90A5-5A1142D5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6BD-4489-46C9-BB35-70744F1C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9C83B-E5A9-4BB0-B1AC-2ED56FE0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BC727-F24C-4038-8A67-7F7F9B63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C1015-9B83-4D9E-A0D5-474A741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1194B-5D19-47BB-9176-E4AB07B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AFECC-6D11-4666-8B3E-3C0CE7F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EB08E-9FD3-47DE-9424-82A196F3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332A7-221D-4116-BDF8-2BDC0EB0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3F6F8-CF7A-4A58-8D49-1FE6B5E5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E6347-D59F-4AA4-A529-B90AC40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E6147-2144-470B-8B55-424C039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51D-96A9-40E0-A6DB-41E5923E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82E27-A695-48F2-A05C-2AE65013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2DFDC-C3CF-4239-8A34-992477A0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EBFD6-D1C3-4975-A9D6-4A22C6B2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BB9-C73D-450B-8220-B400958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E73-6839-45E4-92CD-78C9A92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4B8-C04F-4FF3-83F2-E25A88AFC14D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B756-7D01-4DCF-A45E-3BC0AA35303C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23F-6DB0-423A-B9F1-D117F1FD564F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991-04DF-4A1E-9846-248794E7225E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E9A8-FBA5-460F-8335-6B4D8616EA70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56F6-8EBE-4967-B872-A99FDA06EDE0}" type="slidenum">
              <a:rPr b="0" lang="uk-UA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k.wikipedia.org/wiki/&#1044;&#1080;&#1089;&#1087;&#1083;&#1077;&#1081;" TargetMode="External"/><Relationship Id="rId3" Type="http://schemas.openxmlformats.org/officeDocument/2006/relationships/hyperlink" Target="http://uk.wikipedia.org/wiki/&#1057;&#1080;&#1089;&#1090;&#1077;&#1084;&#1085;&#1072;_&#1087;&#1083;&#1072;&#1090;&#1072;" TargetMode="External"/><Relationship Id="rId4" Type="http://schemas.openxmlformats.org/officeDocument/2006/relationships/hyperlink" Target="http://uk.wikipedia.org/wiki/&#1062;&#1077;&#1085;&#1090;&#1088;&#1072;&#1083;&#1100;&#1085;&#1080;&#1081;_&#1087;&#1088;&#1086;&#1094;&#1077;&#1089;&#1086;&#1088;" TargetMode="External"/><Relationship Id="rId5" Type="http://schemas.openxmlformats.org/officeDocument/2006/relationships/hyperlink" Target="http://uk.wikipedia.org/wiki/&#1052;&#1110;&#1082;&#1088;&#1086;&#1087;&#1088;&#1086;&#1094;&#1077;&#1089;&#1086;&#1088;" TargetMode="External"/><Relationship Id="rId6" Type="http://schemas.openxmlformats.org/officeDocument/2006/relationships/hyperlink" Target="http://uk.wikipedia.org/wiki/&#1054;&#1087;&#1077;&#1088;&#1072;&#1090;&#1080;&#1074;&#1085;&#1072;_&#1087;&#1072;&#1084;&apos;&#1103;&#1090;&#1100;" TargetMode="External"/><Relationship Id="rId7" Type="http://schemas.openxmlformats.org/officeDocument/2006/relationships/hyperlink" Target="http://uk.wikipedia.org/wiki/&#1050;&#1072;&#1088;&#1090;&#1080;_&#1088;&#1086;&#1079;&#1096;&#1080;&#1088;&#1077;&#1085;&#1085;&#1103;" TargetMode="External"/><Relationship Id="rId8" Type="http://schemas.openxmlformats.org/officeDocument/2006/relationships/hyperlink" Target="http://uk.wikipedia.org/wiki/&#1041;&#1083;&#1086;&#1082;_&#1078;&#1080;&#1074;&#1083;&#1077;&#1085;&#1085;&#1103;" TargetMode="External"/><Relationship Id="rId9" Type="http://schemas.openxmlformats.org/officeDocument/2006/relationships/hyperlink" Target="http://uk.wikipedia.org/wiki/&#1054;&#1087;&#1090;&#1080;&#1095;&#1085;&#1080;&#1081;_&#1076;&#1080;&#1089;&#1082;&#1086;&#1074;&#1086;&#1076;" TargetMode="External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428760" y="-1219680"/>
            <a:ext cx="8429400" cy="90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нову день почався, діти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сі зібрались на урок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ож пора нам поспішати –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личе в подорож дзвінок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А урок наш незвичайний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Грою» - всі його зовуть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Щоб урок цей був цікавим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и активним мусиш буть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468360" y="404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8. Основна одиниця виміру інформації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6213240" y="2421000"/>
            <a:ext cx="19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байт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324000" y="404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9. Друкувальний пристрій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4211640" y="1341360"/>
            <a:ext cx="333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70c0"/>
                </a:solidFill>
                <a:latin typeface="Constantia"/>
              </a:rPr>
              <a:t>принте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4"/>
          <p:cNvSpPr/>
          <p:nvPr/>
        </p:nvSpPr>
        <p:spPr>
          <a:xfrm>
            <a:off x="395280" y="260280"/>
            <a:ext cx="8748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0. Якщо є складна робота,                                         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усить бути лиш охота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о зі мною буде толк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дже я – системний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6443640" y="4941720"/>
            <a:ext cx="194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блок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324000" y="30960"/>
            <a:ext cx="8424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1.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А, Б, В, Г, Ґ і кома –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сім, мабуть, уже відом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ака клавішна структура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вісно ж це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4929120" y="508464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клавіатура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428760" y="357120"/>
          <a:ext cx="8286480" cy="6097680"/>
        </p:xfrm>
        <a:graphic>
          <a:graphicData uri="http://schemas.openxmlformats.org/drawingml/2006/table">
            <a:tbl>
              <a:tblPr/>
              <a:tblGrid>
                <a:gridCol w="596880"/>
                <a:gridCol w="669960"/>
                <a:gridCol w="618840"/>
                <a:gridCol w="730440"/>
                <a:gridCol w="666720"/>
                <a:gridCol w="693720"/>
                <a:gridCol w="617400"/>
                <a:gridCol w="619200"/>
                <a:gridCol w="666720"/>
                <a:gridCol w="601920"/>
                <a:gridCol w="618840"/>
                <a:gridCol w="601920"/>
                <a:gridCol w="583920"/>
              </a:tblGrid>
              <a:tr h="9752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     </a:t>
                      </a: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357120" y="853920"/>
            <a:ext cx="84297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Тема уроку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Подорож країною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«Інформатика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214200" y="-1080"/>
            <a:ext cx="8715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равило піднятої руки. Якщо хочеш щось спитати, підніми руку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428760" y="1357200"/>
            <a:ext cx="8286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</a:rPr>
              <a:t>Без дозволу -  нічого не вмикай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571680" y="1571760"/>
            <a:ext cx="82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</a:rPr>
              <a:t>Знаєш сам – навчи того, хто не знає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642960" y="178596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Monotype Corsiva"/>
              </a:rPr>
              <a:t>Будь уважним і старанним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428760" y="285840"/>
          <a:ext cx="8429400" cy="6143400"/>
        </p:xfrm>
        <a:graphic>
          <a:graphicData uri="http://schemas.openxmlformats.org/drawingml/2006/table">
            <a:tbl>
              <a:tblPr/>
              <a:tblGrid>
                <a:gridCol w="608040"/>
                <a:gridCol w="680760"/>
                <a:gridCol w="628920"/>
                <a:gridCol w="742680"/>
                <a:gridCol w="677880"/>
                <a:gridCol w="706680"/>
                <a:gridCol w="628560"/>
                <a:gridCol w="630360"/>
                <a:gridCol w="677520"/>
                <a:gridCol w="613080"/>
                <a:gridCol w="628560"/>
                <a:gridCol w="612720"/>
                <a:gridCol w="593640"/>
              </a:tblGrid>
              <a:tr h="7333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781200" y="692280"/>
            <a:ext cx="758016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428760" y="1214280"/>
            <a:ext cx="8215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800" spc="-1" strike="noStrike">
                <a:solidFill>
                  <a:srgbClr val="ff0000"/>
                </a:solidFill>
                <a:latin typeface="Monotype Corsiva"/>
              </a:rPr>
              <a:t>Наука для людини, як сонце для життя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428760" y="21960"/>
            <a:ext cx="8358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Увага! 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Швидкий потяг в подорож країною “Інформатика” відходить з першої колії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Звук поїзда.mp3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00950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500040" y="12142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</a:rPr>
              <a:t>«Комп’ютерна граматика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57120" y="1795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мп’ютер складається з 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428760" y="428760"/>
            <a:ext cx="721512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2"/>
              </a:rPr>
              <a:t>Дисплей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3"/>
              </a:rPr>
              <a:t>Системна плата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4"/>
              </a:rPr>
              <a:t>Центральний процесор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 (</a:t>
            </a: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5"/>
              </a:rPr>
              <a:t>Мікропроцесор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)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6"/>
              </a:rPr>
              <a:t>Оперативна пам'ять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7"/>
              </a:rPr>
              <a:t>Карти розширення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8"/>
              </a:rPr>
              <a:t>Блок живлення</a:t>
            </a:r>
            <a:r>
              <a:rPr b="0" lang="uk-UA" sz="3600" spc="-1" strike="noStrike">
                <a:solidFill>
                  <a:srgbClr val="00206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8e58b6"/>
                </a:solidFill>
                <a:uFillTx/>
                <a:latin typeface="Monotype Corsiva"/>
                <a:hlinkClick r:id="rId9"/>
              </a:rPr>
              <a:t>Оптичний дисковод</a:t>
            </a: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Постійна пам'ять (Твердий диск)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Клавіатура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Monotype Corsiva"/>
              </a:rPr>
              <a:t>Миша комп'ютерн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428760" y="-9936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пераційна система в якій працює наш комп’ютер, називається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714240" y="507204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window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57120" y="82404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лово «</a:t>
            </a:r>
            <a:r>
              <a:rPr b="0" lang="en-US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Windows</a:t>
            </a: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» в перекладі з англійської мови означає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5762520" y="3504600"/>
            <a:ext cx="25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вікно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500040" y="-36756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ісля завантаження операційної системи з</a:t>
            </a:r>
            <a:r>
              <a:rPr b="0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’</a:t>
            </a: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являється 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500040" y="400068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</a:rPr>
              <a:t>діалогове вікно </a:t>
            </a:r>
            <a:r>
              <a:rPr b="1" lang="uk-UA" sz="7200" spc="-1" strike="noStrike">
                <a:solidFill>
                  <a:srgbClr val="7030a0"/>
                </a:solidFill>
                <a:latin typeface="Monotype Corsiva"/>
              </a:rPr>
              <a:t>привітання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500040" y="88992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На робочому столі розташовані….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6143760" y="2027880"/>
            <a:ext cx="27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ярлики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395280" y="549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nstantia"/>
              </a:rPr>
              <a:t>1. Найменша одиниця виміру інформації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5530680" y="2924280"/>
            <a:ext cx="15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70c0"/>
                </a:solidFill>
                <a:latin typeface="Constantia"/>
              </a:rPr>
              <a:t>біт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>
            <a:off x="357120" y="236160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лавіша </a:t>
            </a:r>
            <a:r>
              <a:rPr b="0" lang="en-US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Enter 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643800" y="181332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ввід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357120" y="46152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Щоб закрити програму потрібно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Picture 3" descr="http://bal.znaimo.com.ua/tw_files2/urls_1/11/d-10418/7z-docs/1_html_1de13d6.png"/>
          <p:cNvPicPr/>
          <p:nvPr/>
        </p:nvPicPr>
        <p:blipFill>
          <a:blip r:embed="rId2"/>
          <a:stretch/>
        </p:blipFill>
        <p:spPr>
          <a:xfrm>
            <a:off x="6210360" y="-274680"/>
            <a:ext cx="285840" cy="114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428760" y="2078280"/>
            <a:ext cx="8286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слід натиснути кнопку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           </a:t>
            </a:r>
            <a:r>
              <a:rPr b="0" lang="uk-UA" sz="7200" spc="-1" strike="noStrike">
                <a:solidFill>
                  <a:srgbClr val="7030a0"/>
                </a:solidFill>
                <a:latin typeface="Monotype Corsiva"/>
                <a:ea typeface="Arial"/>
              </a:rPr>
              <a:t>в заголовку вікна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Picture 5" descr="http://bal.znaimo.com.ua/tw_files2/urls_1/11/d-10418/7z-docs/1_html_1de13d6.png"/>
          <p:cNvPicPr/>
          <p:nvPr/>
        </p:nvPicPr>
        <p:blipFill>
          <a:blip r:embed="rId3"/>
          <a:stretch/>
        </p:blipFill>
        <p:spPr>
          <a:xfrm>
            <a:off x="928800" y="4643280"/>
            <a:ext cx="160632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428760" y="37764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Щоб надрукувати велику літеру використовуємо клавішу…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771720" y="3786120"/>
            <a:ext cx="44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Monotype Corsiva"/>
              </a:rPr>
              <a:t>Caps Lock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Звук поїзда.mp3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51264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076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357120" y="11044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Хвилинка Здоров</a:t>
            </a:r>
            <a:r>
              <a:rPr b="1" i="1" lang="ru-RU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’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я»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Фізкультхвилинка   ялинка.3gp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8191440" cy="61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9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вук поїзда.mp3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649080" cy="5763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"/>
          <p:cNvSpPr/>
          <p:nvPr/>
        </p:nvSpPr>
        <p:spPr>
          <a:xfrm>
            <a:off x="357120" y="11044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Хвилинка Здоров</a:t>
            </a:r>
            <a:r>
              <a:rPr b="1" i="1" lang="ru-RU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’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я»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076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428760" y="11044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Станція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Веселий </a:t>
            </a:r>
            <a:r>
              <a:rPr b="1" i="1" lang="uk-UA" sz="7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моніторчик</a:t>
            </a: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Звуки_природи__Шум_лсу_та_джерела(MusVid.net).mp3" descr=""/>
          <p:cNvPicPr/>
          <p:nvPr/>
        </p:nvPicPr>
        <p:blipFill>
          <a:blip r:embed="rId2"/>
          <a:stretch/>
        </p:blipFill>
        <p:spPr>
          <a:xfrm>
            <a:off x="8143920" y="578628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43393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642960" y="193860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упинк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Кмітливих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Звук поїзда.mp3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51300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0761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500040" y="1318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Гра 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«Вгадай малюнок»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Звук поїзда.mp3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076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726120" y="2000160"/>
            <a:ext cx="75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70c0"/>
                </a:solidFill>
                <a:latin typeface="Monotype Corsiva"/>
              </a:rPr>
              <a:t>Кінцева зупинка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95280" y="260280"/>
            <a:ext cx="8497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2. Пристрій, за допомогою якого можна ввести в комп’ютер малюнки, фотографії, текст</a:t>
            </a:r>
            <a:r>
              <a:rPr b="0" lang="uk-UA" sz="60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6540480" y="3933720"/>
            <a:ext cx="26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скане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:\Інформатика\Семінар\2014-03-07 14.16.56.jpg"/>
          <p:cNvPicPr/>
          <p:nvPr/>
        </p:nvPicPr>
        <p:blipFill>
          <a:blip r:embed="rId2"/>
          <a:stretch/>
        </p:blipFill>
        <p:spPr>
          <a:xfrm>
            <a:off x="357120" y="357120"/>
            <a:ext cx="8501040" cy="628668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1"/>
          <p:cNvSpPr/>
          <p:nvPr/>
        </p:nvSpPr>
        <p:spPr>
          <a:xfrm>
            <a:off x="-8280" y="285840"/>
            <a:ext cx="89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Monotype Corsiva"/>
              </a:rPr>
              <a:t>Комп</a:t>
            </a: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’</a:t>
            </a:r>
            <a:r>
              <a:rPr b="0" lang="uk-UA" sz="7200" spc="-1" strike="noStrike">
                <a:solidFill>
                  <a:srgbClr val="ffffff"/>
                </a:solidFill>
                <a:latin typeface="Monotype Corsiva"/>
              </a:rPr>
              <a:t>ютерний клас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468360" y="404640"/>
            <a:ext cx="842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3. Новини, повідомлення, відомості представлені у різних видах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4427640" y="4221000"/>
            <a:ext cx="422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інформація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68360" y="40464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</a:rPr>
              <a:t>4. Пристрій, який використовують для зв’язку між комп’ютерами та для виходу в Інтернет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6227640" y="515772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</a:rPr>
              <a:t>модем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324000" y="-41580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 Я пишу листи і вірші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ї тексти найгарніші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ай підтвердить весь     народ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Як усім потрібен 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6045120" y="5229360"/>
            <a:ext cx="221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70c0"/>
                </a:solidFill>
                <a:latin typeface="Constantia"/>
              </a:rPr>
              <a:t>Word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324000" y="-10332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.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Я показую об’єкти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ото-, відео проекти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Я не плеєр, не мотор,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0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 звичайний </a:t>
            </a:r>
            <a:r>
              <a:rPr b="0" i="1" lang="uk-UA" sz="6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5796000" y="4653000"/>
            <a:ext cx="303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моніто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79280" y="1224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9280" indent="-719280">
              <a:buClr>
                <a:srgbClr val="000000"/>
              </a:buClr>
              <a:buFont typeface="Constantia"/>
              <a:buAutoNum type="arabicPeriod" startAt="7"/>
              <a:tabLst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Я не нишпорю в коморах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-719280">
              <a:tabLst>
                <a:tab algn="l" pos="0"/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 ховаюся по норах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-719280">
              <a:tabLst>
                <a:tab algn="l" pos="0"/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взаю по столу трішки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-719280">
              <a:tabLst>
                <a:tab algn="l" pos="0"/>
                <a:tab algn="l" pos="82440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о комп’ютерна я 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6084720" y="4653000"/>
            <a:ext cx="27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70c0"/>
                </a:solidFill>
                <a:latin typeface="Constantia"/>
                <a:ea typeface="Times New Roman"/>
              </a:rPr>
              <a:t>мишк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2:56:08Z</dcterms:created>
  <dc:creator>Чайка</dc:creator>
  <dc:description/>
  <dc:language>en-US</dc:language>
  <cp:lastModifiedBy>Admin</cp:lastModifiedBy>
  <dcterms:modified xsi:type="dcterms:W3CDTF">2014-06-18T09:25:58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20000000000001024140</vt:lpwstr>
  </property>
</Properties>
</file>