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973-02B6-44D5-BF87-82F3A6BE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97E-487A-45FC-B751-5679429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AF2-9F54-4785-8227-E3A53722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CB7-0A6F-41B3-BAE5-607270EA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D89E0-0EFE-4A0A-A6D3-45853DDD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680E-A33A-44C1-BCFF-F53466BA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D66C-A54C-40CA-8F8D-155780DF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2A4D8-253C-4898-A2C2-EC70F63E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63813-A8DA-44BA-B116-69196D2E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879C-2182-487D-B715-798C579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FA04B-F67E-4E3C-A74F-CFEC3E8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20B-15A4-4AAF-B7D9-3125461B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78FCB-144E-437C-BA36-857F259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A82A-BF2D-4EBD-8231-B777D60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45853-C717-4267-AEA8-532AB1A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DE9B6-086A-44F4-ADD2-5C132EC6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AAF10-B1F9-430C-A294-118C685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6051-7B7C-444E-85CD-64B0AAB0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5DBD-96AE-4E20-AC5E-DB66FEB9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C8C4-888A-449E-823B-F81B2094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DC0E-2EDF-47B3-860C-E781A6D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DE4D-A9AA-4A55-9A22-A175C10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96F-BC02-41F3-AAF1-6615BB4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CF17-975D-47A5-B06C-6CEBBFF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BF99-E0E4-418E-8CD7-E05FB14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6836-B0AE-40A4-A149-831993F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FF08-3F7F-42EC-91E8-35E125B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4E2A-8DBE-4590-BA73-82AA4185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BE41-AE9A-4B73-B74E-CED0C3E9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7757-120C-4571-A15C-11A81339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3572A-794A-462E-98D3-AAC9A43A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2F844-CD82-4B4B-B755-D47E3DD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DE144-9B22-4D92-A51C-3F2D112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372-8D02-472E-8622-FA74F34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D4F72-90AD-4345-AAFF-2F669428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684DE-21CC-40E0-A5B7-930B0B6F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D63E0-4DE2-47D4-A16F-9A42ECAC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88AFC-97A1-48ED-9987-85295CD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E2ADA-740B-4EA1-8F9A-81108EC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E1953-DDB1-4BD3-B521-B01733F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3503D-75D5-44D1-A665-5030B5F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93CEC-D393-4BCE-861B-461059C7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0EBBB-77B3-440D-8F56-E1F0F8FD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2C92F-2886-469B-A5A8-4B59A24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23D-A5F6-4FE9-A6C0-2C2C045A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7E7A8-0DD4-42B6-B805-6474106C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D9F38-C6BC-4D99-B204-0E30F3F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BA3A9-0470-47BB-B465-53E5309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DF858-36B7-4F2F-831E-AD35861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A68E1-9D3E-4D3C-AA44-951DDCE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8A6D5-B6E0-4FFE-A65D-AF60319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99695-0F10-401B-A9FB-6133501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EDC08-5C41-438A-A25C-A1482CA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BF5DB-3809-44DB-8265-592746DB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B8741-7BED-4024-84EB-4CB9811C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554-5DF3-4123-8492-8120834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093A6-9AD9-49B2-BDB3-18F5FC0C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F75D3-B033-4701-850F-40157C95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66F9C-6C29-4FA2-83BD-99A074A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09C1D-13F0-46DA-8EAE-530509FE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0A5E7-4B48-43E9-AEDF-7C5C10A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CAB6F-4408-48B2-B267-636AE4A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89319-C40F-472F-8D5D-DBD4681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E6F0B-6A4C-43DC-9F8F-2706ED8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2C842-C6B2-408A-9F6C-2B9A256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2903F-D855-4235-B119-F10034B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0FB-E824-480B-B65A-F234FE8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CF791-3688-42A6-BB3B-982C7EF1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B972C-E70B-4273-A748-5974152F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BECA6-3C1E-4023-BE65-097D9C46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BF2-75AA-4909-899A-824B6EA2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DE7-9AE5-4378-81E4-A0A391C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77C-67B8-4944-808F-FE40AA02E8E0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FEB-7ED0-4108-B177-DAE1A0A37B80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100-AABC-4243-9729-DD0A0E063EEB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8FF-2B3C-424F-98ED-8620FED58E73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6BD-61A9-4501-B9B8-305647F56B1F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C4A-9D02-420A-AE73-74C889D122D0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k.wikipedia.org/wiki/&#1044;&#1080;&#1089;&#1087;&#1083;&#1077;&#1081;" TargetMode="External"/><Relationship Id="rId3" Type="http://schemas.openxmlformats.org/officeDocument/2006/relationships/hyperlink" Target="http://uk.wikipedia.org/wiki/&#1057;&#1080;&#1089;&#1090;&#1077;&#1084;&#1085;&#1072;_&#1087;&#1083;&#1072;&#1090;&#1072;" TargetMode="External"/><Relationship Id="rId4" Type="http://schemas.openxmlformats.org/officeDocument/2006/relationships/hyperlink" Target="http://uk.wikipedia.org/wiki/&#1062;&#1077;&#1085;&#1090;&#1088;&#1072;&#1083;&#1100;&#1085;&#1080;&#1081;_&#1087;&#1088;&#1086;&#1094;&#1077;&#1089;&#1086;&#1088;" TargetMode="External"/><Relationship Id="rId5" Type="http://schemas.openxmlformats.org/officeDocument/2006/relationships/hyperlink" Target="http://uk.wikipedia.org/wiki/&#1052;&#1110;&#1082;&#1088;&#1086;&#1087;&#1088;&#1086;&#1094;&#1077;&#1089;&#1086;&#1088;" TargetMode="External"/><Relationship Id="rId6" Type="http://schemas.openxmlformats.org/officeDocument/2006/relationships/hyperlink" Target="http://uk.wikipedia.org/wiki/&#1054;&#1087;&#1077;&#1088;&#1072;&#1090;&#1080;&#1074;&#1085;&#1072;_&#1087;&#1072;&#1084;&apos;&#1103;&#1090;&#1100;" TargetMode="External"/><Relationship Id="rId7" Type="http://schemas.openxmlformats.org/officeDocument/2006/relationships/hyperlink" Target="http://uk.wikipedia.org/wiki/&#1050;&#1072;&#1088;&#1090;&#1080;_&#1088;&#1086;&#1079;&#1096;&#1080;&#1088;&#1077;&#1085;&#1085;&#1103;" TargetMode="External"/><Relationship Id="rId8" Type="http://schemas.openxmlformats.org/officeDocument/2006/relationships/hyperlink" Target="http://uk.wikipedia.org/wiki/&#1041;&#1083;&#1086;&#1082;_&#1078;&#1080;&#1074;&#1083;&#1077;&#1085;&#1085;&#1103;" TargetMode="External"/><Relationship Id="rId9" Type="http://schemas.openxmlformats.org/officeDocument/2006/relationships/hyperlink" Target="http://uk.wikipedia.org/wiki/&#1054;&#1087;&#1090;&#1080;&#1095;&#1085;&#1080;&#1081;_&#1076;&#1080;&#1089;&#1082;&#1086;&#1074;&#1086;&#1076;" TargetMode="Externa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28760" y="-1219680"/>
            <a:ext cx="8429400" cy="90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нову день почався, діти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сі зібрались на урок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ож пора нам поспішати –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личе в подорож дзвінок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А урок наш незвичайний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Грою» - всі його зовуть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Щоб урок цей був цікавим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и активним мусиш буть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468360" y="404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8. Основна одиниця виміру інформації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6213240" y="2421000"/>
            <a:ext cx="19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байт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324000" y="404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9. Друкувальний пристрій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4211640" y="1341360"/>
            <a:ext cx="333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</a:rPr>
              <a:t>принте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4"/>
          <p:cNvSpPr/>
          <p:nvPr/>
        </p:nvSpPr>
        <p:spPr>
          <a:xfrm>
            <a:off x="395280" y="260280"/>
            <a:ext cx="8748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0. Якщо є складна робота,                                         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сить бути лиш охота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о зі мною буде толк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дже я – системний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6443640" y="4941720"/>
            <a:ext cx="194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блок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324000" y="3096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1.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А, Б, В, Г, Ґ і кома –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сім, мабуть, уже відом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а клавішна структура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вісно ж це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4929120" y="50846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клавіатура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28760" y="357120"/>
          <a:ext cx="8286480" cy="6097680"/>
        </p:xfrm>
        <a:graphic>
          <a:graphicData uri="http://schemas.openxmlformats.org/drawingml/2006/table">
            <a:tbl>
              <a:tblPr/>
              <a:tblGrid>
                <a:gridCol w="596880"/>
                <a:gridCol w="669960"/>
                <a:gridCol w="618840"/>
                <a:gridCol w="730440"/>
                <a:gridCol w="666720"/>
                <a:gridCol w="693720"/>
                <a:gridCol w="617400"/>
                <a:gridCol w="619200"/>
                <a:gridCol w="666720"/>
                <a:gridCol w="601920"/>
                <a:gridCol w="618840"/>
                <a:gridCol w="601920"/>
                <a:gridCol w="583920"/>
              </a:tblGrid>
              <a:tr h="9752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   </a:t>
                      </a: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57120" y="853920"/>
            <a:ext cx="84297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Тема уроку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Подорож країною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«Інформатика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214200" y="-1080"/>
            <a:ext cx="8715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равило піднятої руки. Якщо хочеш щось спитати, підніми руку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428760" y="1357200"/>
            <a:ext cx="8286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Без дозволу -  нічого не вмикай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571680" y="1571760"/>
            <a:ext cx="82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Знаєш сам – навчи того, хто не знає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642960" y="178596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Будь уважним і старанним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28760" y="285840"/>
          <a:ext cx="8429400" cy="6143400"/>
        </p:xfrm>
        <a:graphic>
          <a:graphicData uri="http://schemas.openxmlformats.org/drawingml/2006/table">
            <a:tbl>
              <a:tblPr/>
              <a:tblGrid>
                <a:gridCol w="608040"/>
                <a:gridCol w="680760"/>
                <a:gridCol w="628920"/>
                <a:gridCol w="742680"/>
                <a:gridCol w="677880"/>
                <a:gridCol w="706680"/>
                <a:gridCol w="628560"/>
                <a:gridCol w="630360"/>
                <a:gridCol w="677520"/>
                <a:gridCol w="613080"/>
                <a:gridCol w="628560"/>
                <a:gridCol w="612720"/>
                <a:gridCol w="593640"/>
              </a:tblGrid>
              <a:tr h="7333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781200" y="692280"/>
            <a:ext cx="758016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428760" y="1214280"/>
            <a:ext cx="8215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800" spc="-1" strike="noStrike">
                <a:solidFill>
                  <a:srgbClr val="ff0000"/>
                </a:solidFill>
                <a:latin typeface="Monotype Corsiva"/>
              </a:rPr>
              <a:t>Наука для людини, як сонце для життя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428760" y="21960"/>
            <a:ext cx="8358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Увага!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Швидкий потяг в подорож країною “Інформатика” відходить з першої колії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00950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500040" y="12142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</a:rPr>
              <a:t>«Комп’ютерна граматика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57120" y="1795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мп’ютер складається з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428760" y="428760"/>
            <a:ext cx="721512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2"/>
              </a:rPr>
              <a:t>Дисплей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3"/>
              </a:rPr>
              <a:t>Системна плата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4"/>
              </a:rPr>
              <a:t>Центральний процесор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 (</a:t>
            </a: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5"/>
              </a:rPr>
              <a:t>Мікропроцесор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6"/>
              </a:rPr>
              <a:t>Оперативна пам'ять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7"/>
              </a:rPr>
              <a:t>Карти розширення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8"/>
              </a:rPr>
              <a:t>Блок живлення</a:t>
            </a:r>
            <a:r>
              <a:rPr b="0" lang="uk-UA" sz="3600" spc="-1" strike="noStrike">
                <a:solidFill>
                  <a:srgbClr val="00206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9"/>
              </a:rPr>
              <a:t>Оптичний дисковод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Постійна пам'ять (Твердий диск)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Клавіатура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Миша комп'ютерн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428760" y="-9936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пераційна система в якій працює наш комп’ютер, називається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714240" y="507204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window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57120" y="82404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лово «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Windows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» в перекладі з англійської мови означає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762520" y="3504600"/>
            <a:ext cx="25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ікно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500040" y="-36756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ісля завантаження операційної системи з</a:t>
            </a:r>
            <a:r>
              <a:rPr b="0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’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являється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500040" y="400068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</a:rPr>
              <a:t>діалогове вікно </a:t>
            </a:r>
            <a:r>
              <a:rPr b="1" lang="uk-UA" sz="7200" spc="-1" strike="noStrike">
                <a:solidFill>
                  <a:srgbClr val="7030a0"/>
                </a:solidFill>
                <a:latin typeface="Monotype Corsiva"/>
              </a:rPr>
              <a:t>привітання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500040" y="88992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На робочому столі розташовані…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143760" y="2027880"/>
            <a:ext cx="27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ярлики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95280" y="549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nstantia"/>
              </a:rPr>
              <a:t>1. Найменша одиниця виміру інформації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5530680" y="2924280"/>
            <a:ext cx="15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70c0"/>
                </a:solidFill>
                <a:latin typeface="Constantia"/>
              </a:rPr>
              <a:t>біт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357120" y="236160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лавіша 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Enter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643800" y="181332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від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357120" y="46152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закрити програму потрібно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Picture 3" descr="http://bal.znaimo.com.ua/tw_files2/urls_1/11/d-10418/7z-docs/1_html_1de13d6.png"/>
          <p:cNvPicPr/>
          <p:nvPr/>
        </p:nvPicPr>
        <p:blipFill>
          <a:blip r:embed="rId2"/>
          <a:stretch/>
        </p:blipFill>
        <p:spPr>
          <a:xfrm>
            <a:off x="6210360" y="-274680"/>
            <a:ext cx="285840" cy="114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428760" y="207828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слід натиснути кнопку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           </a:t>
            </a: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 заголовку вікна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5" descr="http://bal.znaimo.com.ua/tw_files2/urls_1/11/d-10418/7z-docs/1_html_1de13d6.png"/>
          <p:cNvPicPr/>
          <p:nvPr/>
        </p:nvPicPr>
        <p:blipFill>
          <a:blip r:embed="rId3"/>
          <a:stretch/>
        </p:blipFill>
        <p:spPr>
          <a:xfrm>
            <a:off x="928800" y="4643280"/>
            <a:ext cx="160632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428760" y="3776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надрукувати велику літеру використовуємо клавішу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771720" y="3786120"/>
            <a:ext cx="44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Monotype Corsiva"/>
              </a:rPr>
              <a:t>Caps Lock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Звук поїзда.mp3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076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357120" y="11044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Хвилинка Здоров</a:t>
            </a:r>
            <a:r>
              <a:rPr b="1" i="1" lang="ru-RU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’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я»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Фізкультхвилинка   ялинка.3gp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9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649080" cy="5763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"/>
          <p:cNvSpPr/>
          <p:nvPr/>
        </p:nvSpPr>
        <p:spPr>
          <a:xfrm>
            <a:off x="357120" y="11044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Хвилинка Здоров</a:t>
            </a:r>
            <a:r>
              <a:rPr b="1" i="1" lang="ru-RU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’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я»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076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428760" y="11044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Станція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Веселий </a:t>
            </a:r>
            <a:r>
              <a:rPr b="1" i="1" lang="uk-UA" sz="7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моніторчик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Звуки_природи__Шум_лсу_та_джерела(MusVid.net).mp3" descr=""/>
          <p:cNvPicPr/>
          <p:nvPr/>
        </p:nvPicPr>
        <p:blipFill>
          <a:blip r:embed="rId2"/>
          <a:stretch/>
        </p:blipFill>
        <p:spPr>
          <a:xfrm>
            <a:off x="8143920" y="578628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43393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642960" y="193860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Кмітливих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Звук поїзда.mp3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51300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076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500040" y="1318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Гр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Вгадай малюнок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076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726120" y="2000160"/>
            <a:ext cx="75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70c0"/>
                </a:solidFill>
                <a:latin typeface="Monotype Corsiva"/>
              </a:rPr>
              <a:t>Кінцева зупинка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95280" y="260280"/>
            <a:ext cx="8497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2. Пристрій, за допомогою якого можна ввести в комп’ютер малюнки, фотографії, текст</a:t>
            </a:r>
            <a:r>
              <a:rPr b="0" lang="uk-UA" sz="6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6540480" y="3933720"/>
            <a:ext cx="26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скане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:\Інформатика\Семінар\2014-03-07 14.16.56.jpg"/>
          <p:cNvPicPr/>
          <p:nvPr/>
        </p:nvPicPr>
        <p:blipFill>
          <a:blip r:embed="rId2"/>
          <a:stretch/>
        </p:blipFill>
        <p:spPr>
          <a:xfrm>
            <a:off x="357120" y="357120"/>
            <a:ext cx="8501040" cy="628668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"/>
          <p:cNvSpPr/>
          <p:nvPr/>
        </p:nvSpPr>
        <p:spPr>
          <a:xfrm>
            <a:off x="-8280" y="285840"/>
            <a:ext cx="89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</a:rPr>
              <a:t>Комп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’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</a:rPr>
              <a:t>ютерний клас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68360" y="404640"/>
            <a:ext cx="842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3. Новини, повідомлення, відомості представлені у різних видах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4427640" y="4221000"/>
            <a:ext cx="42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інформація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68360" y="40464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4. Пристрій, який використовують для зв’язку між комп’ютерами та для виходу в Інтернет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6227640" y="515772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модем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24000" y="-41580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Я пишу листи і вірші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ї тексти найгарніші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ай підтвердить весь     народ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к усім потрібен 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6045120" y="5229360"/>
            <a:ext cx="22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70c0"/>
                </a:solidFill>
                <a:latin typeface="Constantia"/>
              </a:rPr>
              <a:t>Word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324000" y="-10332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Я показую об’єкти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ото-, відео проекти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 не плеєр, не мотор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 звичайний 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5796000" y="465300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моніто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79280" y="122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9280" indent="-719280">
              <a:buClr>
                <a:srgbClr val="000000"/>
              </a:buClr>
              <a:buFont typeface="Constantia"/>
              <a:buAutoNum type="arabicPeriod" startAt="7"/>
              <a:tabLst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 не нишпорю в коморах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 ховаюся по норах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взаю по столу трішки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о комп’ютерна я 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6084720" y="4653000"/>
            <a:ext cx="27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мишк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2:56:08Z</dcterms:created>
  <dc:creator>Чайка</dc:creator>
  <dc:description/>
  <dc:language>en-US</dc:language>
  <cp:lastModifiedBy>Admin</cp:lastModifiedBy>
  <dcterms:modified xsi:type="dcterms:W3CDTF">2014-06-18T09:25:58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0000000000001024140</vt:lpwstr>
  </property>
</Properties>
</file>