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42C-7D86-4D10-842E-812D6D8F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B63-B8CC-473A-BC23-C7AA28D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3A5-180C-45A3-AAC9-2AC36F5A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55C-F4F7-42D4-AFAF-F6C583F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15F-71E7-4372-964E-39AB96BB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1EF-EB31-4F10-AB0E-4A47E0D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DB8-80B1-4FD5-8A11-33F2CB4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8C9-8B00-43AD-98DE-9B93FEC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4FD-84D5-48EC-AA96-374FF61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852-1BFE-4AB4-9AF4-184D959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BF-CFEA-461F-B128-D57D9EA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A4D-671E-43BD-9884-5F2EC985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1C85-0A85-4238-873E-003338255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 Димівської ЗО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Гладюк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09:03:44Z</dcterms:modified>
  <cp:revision>5</cp:revision>
  <dc:subject/>
  <dc:title>Текстовий редак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2000000000001024140</vt:lpwstr>
  </property>
</Properties>
</file>