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4DF-9BB5-4959-A1A1-3726B733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CBC-76C7-48CF-ACA1-68949BA8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D2A-7521-40CB-88CB-A4CE7D9A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B19-21B6-4A12-BF2C-CB4D2FE5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74D-2E7E-4A74-AD18-6CEE0384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0EE-29E3-4FBF-B963-A192EBFC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3FC-5203-4E03-9BC6-461316B7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724-C95C-4C9B-B1B2-6EF6AC85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329-F6F5-44D5-8285-1B7166B1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5EF-8B79-48D9-B32B-487E6D2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1BA-820C-43EF-B3CC-5E41854D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FEB-3B05-47B7-86BD-3475BB1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F204-0C34-4793-A03B-55A285308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кстов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</a:t>
            </a: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ідсумков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Вчитель Димівської ЗО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Гладюк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готувати допов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и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ери застосування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Творча майстерня редакції журналу Здоров’я школяра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147920" cy="345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тату пирсинг\урок\о.jpg"/>
          <p:cNvPicPr/>
          <p:nvPr/>
        </p:nvPicPr>
        <p:blipFill>
          <a:blip r:embed="rId3"/>
          <a:stretch/>
        </p:blipFill>
        <p:spPr>
          <a:xfrm rot="1617600">
            <a:off x="4847760" y="2341080"/>
            <a:ext cx="31608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авила техніки безп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ідстань до монітора повинна бути 50-60 с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до класу хтось ввійшов,  то підніматись не мож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почули запах гарі, необхідно повідомити про це в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о класу потрібно заходити повільно, з дозволу у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ісля 10-15 хв. роботи за комп’ютером необхідно робити вправи релаксації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 допомогою яких прикладних програм ми  можемо випустити листівк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процесо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давничої системи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реда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:\тату пирсинг\урок\i.jpg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Які можливості має текстовий процесо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238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ра «Плута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становити правильний алгоритм виконання дій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 група для створення документ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 – для збереже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 – для відкритт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тату пирсинг\урок\п.jpg"/>
          <p:cNvPicPr/>
          <p:nvPr/>
        </p:nvPicPr>
        <p:blipFill>
          <a:blip r:embed="rId2"/>
          <a:stretch/>
        </p:blipFill>
        <p:spPr>
          <a:xfrm>
            <a:off x="4500720" y="3429000"/>
            <a:ext cx="4601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игадати основні етапи створення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2"/>
          <a:srcRect l="0" t="0" r="0" b="252"/>
          <a:stretch/>
        </p:blipFill>
        <p:spPr>
          <a:xfrm>
            <a:off x="1258920" y="2349360"/>
            <a:ext cx="49388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бота за комп’ютер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ворити листівку про збереження здоров’я, використовуючи можливості 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H:\тату пирсинг\урок\в.jpg"/>
          <p:cNvPicPr/>
          <p:nvPr/>
        </p:nvPicPr>
        <p:blipFill>
          <a:blip r:embed="rId2"/>
          <a:stretch/>
        </p:blipFill>
        <p:spPr>
          <a:xfrm>
            <a:off x="3995640" y="2781360"/>
            <a:ext cx="4064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засоби текстового редактора ви використовували під час приготування листів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и був вивчений ма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 для вас новий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о нового ви х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 б узна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34:47Z</dcterms:created>
  <dc:creator>Пользователь Windows</dc:creator>
  <dc:description/>
  <dc:language>en-US</dc:language>
  <cp:lastModifiedBy>Admin</cp:lastModifiedBy>
  <dcterms:modified xsi:type="dcterms:W3CDTF">2014-06-13T09:03:44Z</dcterms:modified>
  <cp:revision>5</cp:revision>
  <dc:subject/>
  <dc:title>Текстовий редакт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2000000000001024140</vt:lpwstr>
  </property>
</Properties>
</file>