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FDA86-B486-47A9-8602-0858DDE99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AE143-CA6A-4E7F-A1C9-D3658031C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3C464-D811-4B4F-8144-A75A98F98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8D79E-4E2B-4AB4-9A2E-8E122AE46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7C4B0-17AB-4C51-A697-3DDF6946E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E6BB8-3DD4-4FD5-AE53-E99462047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AE058-E24C-44A4-93D0-57E308E4A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7029B-19CB-4665-A392-8CE2A5F8B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8CBD3-48A6-4E4D-BF8F-B5DDC87BB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8B2E2-527B-4D26-86A2-E86D5A7D7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31A02-7124-47AF-8A19-766D7D6CB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CF191-CFC3-48B7-B68C-416C61D10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1F372-5386-4B0F-9EDF-6A19E593A82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Текстовий редактор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П</a:t>
            </a:r>
            <a:r>
              <a:rPr b="0" lang="uk-UA" sz="3200" spc="-1" strike="noStrike">
                <a:solidFill>
                  <a:srgbClr val="898989"/>
                </a:solidFill>
                <a:latin typeface="Calibri"/>
              </a:rPr>
              <a:t>ідсумковий уро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898989"/>
                </a:solidFill>
                <a:latin typeface="Calibri"/>
              </a:rPr>
              <a:t>Вчитель Димівської ЗОШ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898989"/>
                </a:solidFill>
                <a:latin typeface="Calibri"/>
              </a:rPr>
              <a:t>Гладюк А.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Домашнє завданн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готувати допов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і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і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иди граф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і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фери застосування граф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і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«Творча майстерня редакції журналу Здоров’я школяра».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Объект 4" descr=""/>
          <p:cNvPicPr/>
          <p:nvPr/>
        </p:nvPicPr>
        <p:blipFill>
          <a:blip r:embed="rId2"/>
          <a:stretch/>
        </p:blipFill>
        <p:spPr>
          <a:xfrm>
            <a:off x="250920" y="1773360"/>
            <a:ext cx="4147920" cy="34560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" descr="H:\тату пирсинг\урок\о.jpg"/>
          <p:cNvPicPr/>
          <p:nvPr/>
        </p:nvPicPr>
        <p:blipFill>
          <a:blip r:embed="rId3"/>
          <a:stretch/>
        </p:blipFill>
        <p:spPr>
          <a:xfrm rot="1617600">
            <a:off x="4847760" y="2341080"/>
            <a:ext cx="3160800" cy="41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Правила техніки безпе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Calibri"/>
              </a:rPr>
              <a:t>відстань до монітора повинна бути 50-60 см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Calibri"/>
              </a:rPr>
              <a:t>якщо до класу хтось ввійшов,  то підніматись не можна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Calibri"/>
              </a:rPr>
              <a:t>якщо почули запах гарі, необхідно повідомити про це вчителя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Calibri"/>
              </a:rPr>
              <a:t>до класу потрібно заходити повільно, з дозволу учителя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Calibri"/>
              </a:rPr>
              <a:t>після 10-15 хв. роботи за комп’ютером необхідно робити вправи релаксації….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" dur="5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7" dur="5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2" dur="5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7" dur="50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2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За допомогою яких прикладних програм ми  можемо випустити листівку?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2708280"/>
            <a:ext cx="8229600" cy="341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Текстового процесора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Видавничої системи 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Текстового редактор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3" descr="H:\тату пирсинг\урок\i.jpg"/>
          <p:cNvPicPr/>
          <p:nvPr/>
        </p:nvPicPr>
        <p:blipFill>
          <a:blip r:embed="rId2"/>
          <a:stretch/>
        </p:blipFill>
        <p:spPr>
          <a:xfrm>
            <a:off x="5364000" y="2565360"/>
            <a:ext cx="338472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23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Які можливості має текстовий процесор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ord</a:t>
            </a: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?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Объект 3" descr=""/>
          <p:cNvPicPr/>
          <p:nvPr/>
        </p:nvPicPr>
        <p:blipFill>
          <a:blip r:embed="rId2"/>
          <a:stretch/>
        </p:blipFill>
        <p:spPr>
          <a:xfrm>
            <a:off x="3203640" y="2492280"/>
            <a:ext cx="2238480" cy="21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Calibri"/>
              </a:rPr>
              <a:t>Гра «Плутанина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06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Встановити правильний алгоритм виконання дій.</a:t>
            </a:r>
            <a:br>
              <a:rPr sz="3200"/>
            </a:b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1 група для створення документа</a:t>
            </a:r>
            <a:br>
              <a:rPr sz="3200"/>
            </a:b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2 – для збереження</a:t>
            </a:r>
            <a:br>
              <a:rPr sz="3200"/>
            </a:b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3 – для відкриття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H:\тату пирсинг\урок\п.jpg"/>
          <p:cNvPicPr/>
          <p:nvPr/>
        </p:nvPicPr>
        <p:blipFill>
          <a:blip r:embed="rId2"/>
          <a:stretch/>
        </p:blipFill>
        <p:spPr>
          <a:xfrm>
            <a:off x="4500720" y="3429000"/>
            <a:ext cx="460188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72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Пригадати основні етапи створення текстового докумен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Объект 3" descr=""/>
          <p:cNvPicPr/>
          <p:nvPr/>
        </p:nvPicPr>
        <p:blipFill>
          <a:blip r:embed="rId2"/>
          <a:srcRect l="0" t="0" r="0" b="252"/>
          <a:stretch/>
        </p:blipFill>
        <p:spPr>
          <a:xfrm>
            <a:off x="1258920" y="2349360"/>
            <a:ext cx="4938840" cy="38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Робота за комп’ютером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Створити листівку про збереження здоров’я, використовуючи можливості ТР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3" descr="H:\тату пирсинг\урок\в.jpg"/>
          <p:cNvPicPr/>
          <p:nvPr/>
        </p:nvPicPr>
        <p:blipFill>
          <a:blip r:embed="rId2"/>
          <a:stretch/>
        </p:blipFill>
        <p:spPr>
          <a:xfrm>
            <a:off x="3995640" y="2781360"/>
            <a:ext cx="406404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Підсумок урок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Які засоби текстового редактора ви використовували під час приготування листівок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Чи був вивчений матер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л для вас новий?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Що нового ви хот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ли б узнати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20T18:34:47Z</dcterms:created>
  <dc:creator>Пользователь Windows</dc:creator>
  <dc:description/>
  <dc:language>en-US</dc:language>
  <cp:lastModifiedBy>Admin</cp:lastModifiedBy>
  <dcterms:modified xsi:type="dcterms:W3CDTF">2014-06-13T09:03:44Z</dcterms:modified>
  <cp:revision>5</cp:revision>
  <dc:subject/>
  <dc:title>Текстовий редактор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ca02000000000001024140</vt:lpwstr>
  </property>
</Properties>
</file>