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469B-43FD-440C-9E02-2AA0FA7C6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DDCA-E5C1-41E0-A48F-E3A1A322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370-8CF7-45A3-AB0D-218E836C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357-4D5B-491D-AF28-F40144D8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9AC-E37B-4DAE-BF42-7C31048F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AE4-3A07-45DD-BC61-6B2DD4A3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5476-645A-43BF-A39A-28CCB9A7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A6B-3F0D-408B-961B-F7351B1B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AE4B-0B19-4EF9-B7E6-BBD8429C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E8F-1A52-4824-9D9F-CAD21EFA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91FC-DFE9-4893-8DB5-220BDDC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B5DD-B9BF-4728-861B-D6A18845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8413-9E3C-43D1-8705-DED19E15A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ов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</a:t>
            </a: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ідсумков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готувати доп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и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ери застосування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ворча майстерня редакції журналу Здоров’я школяра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47920" cy="34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тату пирсинг\урок\о.jpg"/>
          <p:cNvPicPr/>
          <p:nvPr/>
        </p:nvPicPr>
        <p:blipFill>
          <a:blip r:embed="rId3"/>
          <a:stretch/>
        </p:blipFill>
        <p:spPr>
          <a:xfrm rot="1617600">
            <a:off x="4847760" y="2341080"/>
            <a:ext cx="3160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авила техніки безп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ідстань до монітора повинна бути 50-60 с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до класу хтось ввійшов,  то підніматись не мо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почули запах гарі, необхідно повідомити про це в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 класу потрібно заходити повільно, з дозволу у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сля 10-15 хв. роботи за комп’ютером необхідно робити вправи релаксації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 допомогою яких прикладних програм ми  можемо випустити листів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проце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давничої системи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тату пирсинг\урок\i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Які можливості має текстовий процесо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238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ра «Плута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становити правильний алгоритм виконання дій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 група для створення докумен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 – для збере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 – для відкритт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тату пирсинг\урок\п.jpg"/>
          <p:cNvPicPr/>
          <p:nvPr/>
        </p:nvPicPr>
        <p:blipFill>
          <a:blip r:embed="rId2"/>
          <a:stretch/>
        </p:blipFill>
        <p:spPr>
          <a:xfrm>
            <a:off x="4500720" y="3429000"/>
            <a:ext cx="4601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гадати основні етапи створення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rcRect l="0" t="0" r="0" b="252"/>
          <a:stretch/>
        </p:blipFill>
        <p:spPr>
          <a:xfrm>
            <a:off x="1258920" y="2349360"/>
            <a:ext cx="49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бота за комп’ютер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ити листівку про збереження здоров’я, використовуючи можливості 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тату пирсинг\урок\в.jpg"/>
          <p:cNvPicPr/>
          <p:nvPr/>
        </p:nvPicPr>
        <p:blipFill>
          <a:blip r:embed="rId2"/>
          <a:stretch/>
        </p:blipFill>
        <p:spPr>
          <a:xfrm>
            <a:off x="3995640" y="2781360"/>
            <a:ext cx="406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засоби текстового редактора ви використовували під час приготування листів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 був вивчений ма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 для вас новий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нового ви х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 б узна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34:47Z</dcterms:created>
  <dc:creator>Пользователь Windows</dc:creator>
  <dc:description/>
  <dc:language>en-US</dc:language>
  <cp:lastModifiedBy>Admin</cp:lastModifiedBy>
  <dcterms:modified xsi:type="dcterms:W3CDTF">2014-06-13T11:11:53Z</dcterms:modified>
  <cp:revision>4</cp:revision>
  <dc:subject/>
  <dc:title>Текстовий редактор</dc:title>
</cp:coreProperties>
</file>