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4BF-97A0-41B5-9230-4E667379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A48-B4A1-4CBA-B162-BAEFDC02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CE8-A520-4CD6-88CC-B31EDB37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192-0415-4F36-9351-AEE9B160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E3A-382D-4BE5-8DC9-A5136A2C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7DF-D000-4828-8EF8-64625E8B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363-812A-426C-8A8B-DB252176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EB3-53AC-4F6B-9201-04801E93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347-3DB8-41AA-A696-9D16E425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E24-AA68-4C37-BA53-025EE38F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690-0226-4AC9-9268-D93ADB93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086-B0C9-40A0-B168-BB876128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22EB-4DA8-4166-9B40-F57E366FFC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кстов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</a:t>
            </a: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ідсумков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готувати допов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и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ери застосування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Творча майстерня редакції журналу Здоров’я школяра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4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147920" cy="345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тату пирсинг\урок\о.jpg"/>
          <p:cNvPicPr/>
          <p:nvPr/>
        </p:nvPicPr>
        <p:blipFill>
          <a:blip r:embed="rId3"/>
          <a:stretch/>
        </p:blipFill>
        <p:spPr>
          <a:xfrm rot="1617600">
            <a:off x="4847760" y="2341080"/>
            <a:ext cx="31608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авила техніки безп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ідстань до монітора повинна бути 50-60 с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до класу хтось ввійшов,  то підніматись не мож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почули запах гарі, необхідно повідомити про це в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о класу потрібно заходити повільно, з дозволу у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ісля 10-15 хв. роботи за комп’ютером необхідно робити вправи релаксації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а допомогою яких прикладних програм ми  можемо випустити листівк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процесор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давничої системи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редак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H:\тату пирсинг\урок\i.jpg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Які можливості має текстовий процесо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22384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ра «Плута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становити правильний алгоритм виконання дій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 група для створення документ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 – для збереже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 – для відкритт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тату пирсинг\урок\п.jpg"/>
          <p:cNvPicPr/>
          <p:nvPr/>
        </p:nvPicPr>
        <p:blipFill>
          <a:blip r:embed="rId2"/>
          <a:stretch/>
        </p:blipFill>
        <p:spPr>
          <a:xfrm>
            <a:off x="4500720" y="3429000"/>
            <a:ext cx="4601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игадати основні етапи створення текстового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2"/>
          <a:srcRect l="0" t="0" r="0" b="252"/>
          <a:stretch/>
        </p:blipFill>
        <p:spPr>
          <a:xfrm>
            <a:off x="1258920" y="2349360"/>
            <a:ext cx="49388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бота за комп’ютеро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ворити листівку про збереження здоров’я, використовуючи можливості Т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H:\тату пирсинг\урок\в.jpg"/>
          <p:cNvPicPr/>
          <p:nvPr/>
        </p:nvPicPr>
        <p:blipFill>
          <a:blip r:embed="rId2"/>
          <a:stretch/>
        </p:blipFill>
        <p:spPr>
          <a:xfrm>
            <a:off x="3995640" y="2781360"/>
            <a:ext cx="4064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засоби текстового редактора ви використовували під час приготування листів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и був вивчений мат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 для вас новий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о нового ви х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 б узна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34:47Z</dcterms:created>
  <dc:creator>Пользователь Windows</dc:creator>
  <dc:description/>
  <dc:language>en-US</dc:language>
  <cp:lastModifiedBy>Admin</cp:lastModifiedBy>
  <dcterms:modified xsi:type="dcterms:W3CDTF">2014-06-13T11:11:53Z</dcterms:modified>
  <cp:revision>4</cp:revision>
  <dc:subject/>
  <dc:title>Текстовий редактор</dc:title>
</cp:coreProperties>
</file>