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4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5.png" ContentType="image/png"/>
  <Override PartName="/ppt/media/image12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D2B-3609-4A46-8B3F-4EA5CE74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C38-ACA3-42D4-B66D-DAEEDE09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BCA-FF60-4A09-A2E2-01F9F005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BBC-E17B-453B-88D2-295A6DF3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8954-3D9B-40D9-83DC-51A7F260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30F4-736C-451F-9A91-E72B16CD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834B-9F75-4A92-BEC4-BCF1A2C8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5624-4C6B-461B-BFB4-3C8BB744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F322-3636-4A99-B460-AE907A7E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84B2-65E8-42BA-8089-B84840A6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AC4D-17D1-44EB-92A3-27D68270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42A-C190-4E46-99B8-66DE0C61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B64C-B665-416E-A660-3315D77E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213B-9AD2-4E01-9798-29B89EF4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2796-0AAF-4621-ABA3-5F8A7207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8D11-3A2D-428A-B144-70883518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A2C4-00A2-4CF8-8F49-164FDBD3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BCC2-9F2C-4314-8A0E-23A1EF4D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9277-EE8B-4F43-ACE8-73A80C4C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AE2FD-9A7E-4E93-962B-F41C705D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C092-19C8-4A15-AD47-45E12593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43A4-7437-4323-92AF-080B82E5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0CE-871D-44DE-8397-398AC3DB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A733-8177-44FF-B4DB-1C2F5FAC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00A7-7D25-4CB1-A884-07C35596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0220-7CEF-46DC-9654-20BFB47D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E3F3-B9B7-4A15-BBAE-56EB995E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DDA2-DA21-4A5B-8311-76458B79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D389B-E38C-45EF-882A-C18408ED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3414-669B-4A6C-8B11-119018A7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1B874-2642-4280-8C05-A537F0EA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E1CA-E195-4FC2-9F62-DF09275E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0DBDE-DBC5-4DDD-81B7-636C7FDA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A69-624F-462D-AC2D-ED6E1981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C7EFC-81B5-46BB-976B-A8321643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7D8AA-83AD-4829-B015-B0647C2E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B1B25-3A36-414C-893B-1B3088AF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CFD49-41AA-4A85-B156-F35DAE22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26F46-8348-4CF9-8027-CB7D77FE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65A6C-DE59-4337-B825-8BA6A969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FE235-0C52-4EF9-9BDD-05DE9CD2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61D8B-E275-49E6-94AA-0109F9C8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DB777-C891-40D8-ABDF-2F9EB4A0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3FA1D-98F2-4C99-AB99-0C09FEFC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74B-7D48-4347-969A-95E5ECD1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D2FDB-7342-46E5-A1EF-45C50C3A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F0B06-0549-422B-B279-E2C77621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31765-2ACE-4282-BC33-F9AF2966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05A44-1CAC-460D-9DEC-92188F13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C273F-05CA-4B27-A812-164FC1C7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3E7FA-E72A-489E-AAE9-59846939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4D63A-4CEB-4EC9-9476-26841824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5AF8A-D7A4-4808-94B8-A5A29099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7A638-EEDB-4EC5-BBEB-0A08E37D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F171C-2F98-4219-A176-A883547F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A47-EA7F-46E0-9392-5C344F54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FDDF2-B7ED-40B5-8B38-39EFD79E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C03C3-D8E2-4704-B2A1-436054B1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A02A9-8D44-4B34-9953-0F831B24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92797-BE98-4366-84CB-8991BBC5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4BA77-84B1-4135-902E-8D90DC5B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3ED05-4743-48FA-AA1D-C7D9E8FB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1A3C4-4422-4723-8C30-271E8ABE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91708-F2CF-4C1D-9039-187489A5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EAE08-BD17-4BF2-9A60-72012EF7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B411D-320A-4BF5-A8C5-B9222A8D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5A3-292B-4ABF-9B33-3FEC9D83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676A2-FD78-4B5C-9E15-01D1520D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2D5AF-7E3D-4C02-AAD4-C2A8940C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3FAFA-4EA7-4CC7-9DFF-11069CE3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17BD4-7AC2-46EC-9370-015BAD18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56E79-79EC-45F3-A9E8-6CECE21F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4109E-2612-4497-9F9B-303E6F9A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79D56-953C-459D-8177-3BA1453A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E8F96-6022-45D3-85F4-8826D9D7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700AE-769F-4DD0-B03F-AA439DEC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B955E-4F30-4559-9DDF-72422810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629-3E73-4ED9-87FA-21519937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A8187-E819-4787-B690-646965A8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17C66-517B-4C0C-92AB-D54FDCCF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CD506-32C5-4C3E-912A-82BC9A6C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03081-B9DB-4394-8CD5-477D67F8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CCC4F-4EF3-4C1B-A009-7AE8073D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D52-C630-4672-AF3B-46B2C04C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ffef2">
              <a:alpha val="33000"/>
            </a:srgbClr>
          </a:solidFill>
          <a:ln cap="rnd" w="3240">
            <a:solidFill>
              <a:srgbClr val="ecd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2"/>
            </a:solidFill>
            <a:miter/>
          </a:ln>
          <a:effectLst>
            <a:outerShdw dist="12600" dir="5400000" blurRad="0" rotWithShape="0">
              <a:srgbClr val="c2b38a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33a2c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398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bb8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bb8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bb8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1A5F-CA76-4293-AB9E-86B4E34F54D4}" type="slidenum">
              <a:rPr b="0" lang="ru-RU" sz="1200" spc="-1" strike="noStrike">
                <a:solidFill>
                  <a:srgbClr val="cbb8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b73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ffef2">
              <a:alpha val="33000"/>
            </a:srgbClr>
          </a:solidFill>
          <a:ln cap="rnd" w="3240">
            <a:solidFill>
              <a:srgbClr val="ecd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2"/>
            </a:solidFill>
            <a:miter/>
          </a:ln>
          <a:effectLst>
            <a:outerShdw dist="12600" dir="5400000" blurRad="0" rotWithShape="0">
              <a:srgbClr val="c2b38a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b73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d38e27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33a2c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398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bb8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bb8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bb8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C85F-3F4E-4A02-8A3C-59585AC8B149}" type="slidenum">
              <a:rPr b="0" lang="ru-RU" sz="1200" spc="-1" strike="noStrike">
                <a:solidFill>
                  <a:srgbClr val="cbb8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b73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d38e27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33a2c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398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bb8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bb8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bb8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9808-8874-4153-9F18-562A4F4D31D2}" type="slidenum">
              <a:rPr b="0" lang="ru-RU" sz="1200" spc="-1" strike="noStrike">
                <a:solidFill>
                  <a:srgbClr val="cbb8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33a2c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398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bb8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bb8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bb8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707E-7AE0-482C-8191-44D1A7472910}" type="slidenum">
              <a:rPr b="0" lang="ru-RU" sz="1200" spc="-1" strike="noStrike">
                <a:solidFill>
                  <a:srgbClr val="cbb8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b73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33a2c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398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bb8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bb8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bb8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A307-B654-476C-9EAB-963457527F7E}" type="slidenum">
              <a:rPr b="0" lang="ru-RU" sz="1200" spc="-1" strike="noStrike">
                <a:solidFill>
                  <a:srgbClr val="cbb8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33a2c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398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bb8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bb8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bb8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495C-5384-49E3-B31D-C8981BA6966A}" type="slidenum">
              <a:rPr b="0" lang="ru-RU" sz="1200" spc="-1" strike="noStrike">
                <a:solidFill>
                  <a:srgbClr val="cbb8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efa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be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33a2c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58b8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398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bb8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bb8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bb8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9FEE-597E-46E9-91B5-46A53643EDDA}" type="slidenum">
              <a:rPr b="0" lang="ru-RU" sz="1200" spc="-1" strike="noStrike">
                <a:solidFill>
                  <a:srgbClr val="cbb8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eta-ukraine.com/" TargetMode="External"/><Relationship Id="rId3" Type="http://schemas.openxmlformats.org/officeDocument/2006/relationships/hyperlink" Target="http://www.topping.com.ua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00080" y="192888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990033"/>
                </a:solidFill>
                <a:latin typeface="Corbel"/>
              </a:rPr>
              <a:t>Пошук інформації </a:t>
            </a:r>
            <a:br>
              <a:rPr sz="7200"/>
            </a:br>
            <a:r>
              <a:rPr b="1" i="1" lang="uk-UA" sz="7200" spc="-1" strike="noStrike">
                <a:solidFill>
                  <a:srgbClr val="990033"/>
                </a:solidFill>
                <a:latin typeface="Corbel"/>
              </a:rPr>
              <a:t>у мережі </a:t>
            </a:r>
            <a:br>
              <a:rPr sz="7200"/>
            </a:br>
            <a:r>
              <a:rPr b="1" i="1" lang="uk-UA" sz="7200" spc="-1" strike="noStrike">
                <a:solidFill>
                  <a:srgbClr val="990033"/>
                </a:solidFill>
                <a:latin typeface="Corbel"/>
              </a:rPr>
              <a:t>Інтернет</a:t>
            </a:r>
            <a:endParaRPr b="0" lang="en-US" sz="72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1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12" descr="http://www.extranom.ru/images/internet-search_256x256.png"/>
          <p:cNvPicPr/>
          <p:nvPr/>
        </p:nvPicPr>
        <p:blipFill>
          <a:blip r:embed="rId2"/>
          <a:stretch/>
        </p:blipFill>
        <p:spPr>
          <a:xfrm>
            <a:off x="4786200" y="378612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http://t1.gstatic.com/images?q=tbn:ANd9GcR2HnZ-lIr-334lTjo9rKSNIH1sueIt22TvyFeoKdBaNFrk_AQr"/>
          <p:cNvPicPr/>
          <p:nvPr/>
        </p:nvPicPr>
        <p:blipFill>
          <a:blip r:embed="rId2"/>
          <a:stretch/>
        </p:blipFill>
        <p:spPr>
          <a:xfrm>
            <a:off x="285840" y="78588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2006640" y="2500200"/>
            <a:ext cx="71373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orbel"/>
              </a:rPr>
              <a:t>Метапошукова система 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– це пошуковий інструмент, який відправляє Ваш запит на кілька пошукових систем одночасно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ttp://www.all4one.com/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ttp://www.oneseek.com/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ttp://www.dogpile.com/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28480" y="571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990033"/>
                </a:solidFill>
                <a:latin typeface="Corbel"/>
              </a:rPr>
              <a:t>Корисно використовувати метапошукові системи:</a:t>
            </a:r>
            <a:endParaRPr b="0" lang="en-US" sz="3900" spc="-1" strike="noStrike">
              <a:solidFill>
                <a:srgbClr val="533a2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848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990033"/>
                </a:solidFill>
                <a:latin typeface="Corbel"/>
              </a:rPr>
              <a:t>Апаратна складова </a:t>
            </a:r>
            <a:r>
              <a:rPr b="1" lang="uk-UA" sz="3900" spc="-1" strike="noStrike">
                <a:solidFill>
                  <a:srgbClr val="533a2c"/>
                </a:solidFill>
                <a:latin typeface="Corbel"/>
              </a:rPr>
              <a:t>пошукової ситеми – </a:t>
            </a:r>
            <a:r>
              <a:rPr b="1" lang="uk-UA" sz="3900" spc="-1" strike="noStrike" u="sng">
                <a:solidFill>
                  <a:srgbClr val="533a2c"/>
                </a:solidFill>
                <a:uFillTx/>
                <a:latin typeface="Corbel"/>
              </a:rPr>
              <a:t>сотні тисяч, мільйони фізичних серверів</a:t>
            </a:r>
            <a:r>
              <a:rPr b="1" lang="uk-UA" sz="3900" spc="-1" strike="noStrike">
                <a:solidFill>
                  <a:srgbClr val="533a2c"/>
                </a:solidFill>
                <a:latin typeface="Corbel"/>
              </a:rPr>
              <a:t> (комп</a:t>
            </a:r>
            <a:r>
              <a:rPr b="1" lang="en-US" sz="3900" spc="-1" strike="noStrike">
                <a:solidFill>
                  <a:srgbClr val="533a2c"/>
                </a:solidFill>
                <a:latin typeface="Gill Sans MT"/>
              </a:rPr>
              <a:t>’</a:t>
            </a:r>
            <a:r>
              <a:rPr b="1" lang="uk-UA" sz="3900" spc="-1" strike="noStrike">
                <a:solidFill>
                  <a:srgbClr val="533a2c"/>
                </a:solidFill>
                <a:latin typeface="Corbel"/>
              </a:rPr>
              <a:t>ютерів)</a:t>
            </a:r>
            <a:endParaRPr b="0" lang="en-US" sz="39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15" descr=""/>
          <p:cNvPicPr/>
          <p:nvPr/>
        </p:nvPicPr>
        <p:blipFill>
          <a:blip r:embed="rId2"/>
          <a:stretch/>
        </p:blipFill>
        <p:spPr>
          <a:xfrm>
            <a:off x="2000160" y="2786040"/>
            <a:ext cx="50007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990033"/>
                </a:solidFill>
                <a:latin typeface="Corbel"/>
              </a:rPr>
              <a:t>Програмна частина </a:t>
            </a:r>
            <a:r>
              <a:rPr b="1" lang="uk-UA" sz="3900" spc="-1" strike="noStrike">
                <a:solidFill>
                  <a:srgbClr val="533a2c"/>
                </a:solidFill>
                <a:latin typeface="Corbel"/>
              </a:rPr>
              <a:t>пошукової служби – це </a:t>
            </a:r>
            <a:r>
              <a:rPr b="1" lang="uk-UA" sz="3900" spc="-1" strike="noStrike" u="sng">
                <a:solidFill>
                  <a:srgbClr val="ff0000"/>
                </a:solidFill>
                <a:uFillTx/>
                <a:latin typeface="Corbel"/>
              </a:rPr>
              <a:t>пошукова машина</a:t>
            </a:r>
            <a:endParaRPr b="0" lang="en-US" sz="39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214280" y="2428560"/>
            <a:ext cx="73584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rbel"/>
              </a:rPr>
              <a:t>П</a:t>
            </a:r>
            <a:r>
              <a:rPr b="1" lang="uk-UA" sz="3200" spc="-1" strike="noStrike" u="sng">
                <a:solidFill>
                  <a:srgbClr val="ff0000"/>
                </a:solidFill>
                <a:uFillTx/>
                <a:latin typeface="Corbel"/>
              </a:rPr>
              <a:t>ошукова машина 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1" i="1" lang="uk-UA" sz="3200" spc="-1" strike="noStrike">
                <a:solidFill>
                  <a:srgbClr val="000000"/>
                </a:solidFill>
                <a:latin typeface="Corbel"/>
              </a:rPr>
              <a:t>це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orbel"/>
              </a:rPr>
              <a:t>комплекс програм, що забезпечують постійне і правильне функціонування пошукової систе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5786280" y="4214880"/>
            <a:ext cx="2333880" cy="1933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Rectangle 2"/>
          <p:cNvGrpSpPr/>
          <p:nvPr/>
        </p:nvGrpSpPr>
        <p:grpSpPr>
          <a:xfrm>
            <a:off x="-79200" y="-55440"/>
            <a:ext cx="9302400" cy="7016760"/>
            <a:chOff x="-79200" y="-55440"/>
            <a:chExt cx="9302400" cy="7016760"/>
          </a:xfrm>
        </p:grpSpPr>
        <p:pic>
          <p:nvPicPr>
            <p:cNvPr id="357" name="Rectangle 2" descr=""/>
            <p:cNvPicPr/>
            <p:nvPr/>
          </p:nvPicPr>
          <p:blipFill>
            <a:blip r:embed="rId2"/>
            <a:stretch/>
          </p:blipFill>
          <p:spPr>
            <a:xfrm>
              <a:off x="-79200" y="-55440"/>
              <a:ext cx="9302400" cy="701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359" name="Text Box 3" descr=""/>
          <p:cNvPicPr/>
          <p:nvPr/>
        </p:nvPicPr>
        <p:blipFill>
          <a:blip r:embed="rId3"/>
          <a:stretch/>
        </p:blipFill>
        <p:spPr>
          <a:xfrm>
            <a:off x="165240" y="109440"/>
            <a:ext cx="6851520" cy="1225800"/>
          </a:xfrm>
          <a:prstGeom prst="rect">
            <a:avLst/>
          </a:prstGeom>
          <a:ln w="0">
            <a:noFill/>
          </a:ln>
        </p:spPr>
      </p:pic>
      <p:pic>
        <p:nvPicPr>
          <p:cNvPr id="360" name="AutoShape 4" descr=""/>
          <p:cNvPicPr/>
          <p:nvPr/>
        </p:nvPicPr>
        <p:blipFill>
          <a:blip r:embed="rId4"/>
          <a:stretch/>
        </p:blipFill>
        <p:spPr>
          <a:xfrm>
            <a:off x="291960" y="5016600"/>
            <a:ext cx="1854360" cy="1622160"/>
          </a:xfrm>
          <a:prstGeom prst="rect">
            <a:avLst/>
          </a:prstGeom>
          <a:ln w="0">
            <a:noFill/>
          </a:ln>
        </p:spPr>
      </p:pic>
      <p:pic>
        <p:nvPicPr>
          <p:cNvPr id="361" name="AutoShape 5" descr=""/>
          <p:cNvPicPr/>
          <p:nvPr/>
        </p:nvPicPr>
        <p:blipFill>
          <a:blip r:embed="rId5"/>
          <a:stretch/>
        </p:blipFill>
        <p:spPr>
          <a:xfrm>
            <a:off x="2882880" y="2425680"/>
            <a:ext cx="3000240" cy="4164120"/>
          </a:xfrm>
          <a:prstGeom prst="rect">
            <a:avLst/>
          </a:prstGeom>
          <a:ln w="0">
            <a:noFill/>
          </a:ln>
        </p:spPr>
      </p:pic>
      <p:pic>
        <p:nvPicPr>
          <p:cNvPr id="362" name="AutoShape 14" descr=""/>
          <p:cNvPicPr/>
          <p:nvPr/>
        </p:nvPicPr>
        <p:blipFill>
          <a:blip r:embed="rId6"/>
          <a:stretch/>
        </p:blipFill>
        <p:spPr>
          <a:xfrm>
            <a:off x="1523880" y="5815080"/>
            <a:ext cx="2664000" cy="76824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16"/>
          <p:cNvSpPr/>
          <p:nvPr/>
        </p:nvSpPr>
        <p:spPr>
          <a:xfrm>
            <a:off x="2743200" y="2286000"/>
            <a:ext cx="99072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2743200" y="2971800"/>
            <a:ext cx="290052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Rectangle 18"/>
          <p:cNvSpPr/>
          <p:nvPr/>
        </p:nvSpPr>
        <p:spPr>
          <a:xfrm>
            <a:off x="2743200" y="3657600"/>
            <a:ext cx="18288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3276720" y="4343400"/>
            <a:ext cx="21333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Rectangle 20" descr=""/>
          <p:cNvPicPr/>
          <p:nvPr/>
        </p:nvPicPr>
        <p:blipFill>
          <a:blip r:embed="rId7"/>
          <a:stretch/>
        </p:blipFill>
        <p:spPr>
          <a:xfrm>
            <a:off x="304920" y="2157480"/>
            <a:ext cx="2206440" cy="28224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26"/>
          <p:cNvGrpSpPr/>
          <p:nvPr/>
        </p:nvGrpSpPr>
        <p:grpSpPr>
          <a:xfrm>
            <a:off x="2133360" y="2514600"/>
            <a:ext cx="2210040" cy="2057400"/>
            <a:chOff x="2133360" y="2514600"/>
            <a:chExt cx="2210040" cy="2057400"/>
          </a:xfrm>
        </p:grpSpPr>
        <p:sp>
          <p:nvSpPr>
            <p:cNvPr id="369" name="Line 21"/>
            <p:cNvSpPr/>
            <p:nvPr/>
          </p:nvSpPr>
          <p:spPr>
            <a:xfrm flipH="1">
              <a:off x="2133720" y="2514600"/>
              <a:ext cx="12348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70" name="Line 22"/>
            <p:cNvSpPr/>
            <p:nvPr/>
          </p:nvSpPr>
          <p:spPr>
            <a:xfrm flipH="1">
              <a:off x="2133360" y="3200400"/>
              <a:ext cx="142956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71" name="Line 23"/>
            <p:cNvSpPr/>
            <p:nvPr/>
          </p:nvSpPr>
          <p:spPr>
            <a:xfrm flipH="1">
              <a:off x="2133360" y="3886200"/>
              <a:ext cx="16246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72" name="Line 24"/>
            <p:cNvSpPr/>
            <p:nvPr/>
          </p:nvSpPr>
          <p:spPr>
            <a:xfrm flipH="1">
              <a:off x="2133720" y="4572000"/>
              <a:ext cx="22096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373" name="Rectangle 31" descr=""/>
          <p:cNvPicPr/>
          <p:nvPr/>
        </p:nvPicPr>
        <p:blipFill>
          <a:blip r:embed="rId8"/>
          <a:stretch/>
        </p:blipFill>
        <p:spPr>
          <a:xfrm>
            <a:off x="6327720" y="5967360"/>
            <a:ext cx="2578320" cy="677880"/>
          </a:xfrm>
          <a:prstGeom prst="rect">
            <a:avLst/>
          </a:prstGeom>
          <a:ln w="0">
            <a:noFill/>
          </a:ln>
        </p:spPr>
      </p:pic>
      <p:pic>
        <p:nvPicPr>
          <p:cNvPr id="374" name="AutoShape 30" descr=""/>
          <p:cNvPicPr/>
          <p:nvPr/>
        </p:nvPicPr>
        <p:blipFill>
          <a:blip r:embed="rId9"/>
          <a:stretch/>
        </p:blipFill>
        <p:spPr>
          <a:xfrm>
            <a:off x="6291360" y="2230560"/>
            <a:ext cx="2882880" cy="3816360"/>
          </a:xfrm>
          <a:prstGeom prst="rect">
            <a:avLst/>
          </a:prstGeom>
          <a:ln w="0">
            <a:noFill/>
          </a:ln>
        </p:spPr>
      </p:pic>
      <p:pic>
        <p:nvPicPr>
          <p:cNvPr id="375" name="AutoShape 6" descr=""/>
          <p:cNvPicPr/>
          <p:nvPr/>
        </p:nvPicPr>
        <p:blipFill>
          <a:blip r:embed="rId10"/>
          <a:stretch/>
        </p:blipFill>
        <p:spPr>
          <a:xfrm>
            <a:off x="5791320" y="109440"/>
            <a:ext cx="3279600" cy="2828880"/>
          </a:xfrm>
          <a:prstGeom prst="rect">
            <a:avLst/>
          </a:prstGeom>
          <a:ln w="0">
            <a:noFill/>
          </a:ln>
        </p:spPr>
      </p:pic>
      <p:pic>
        <p:nvPicPr>
          <p:cNvPr id="376" name="AutoShape 10" descr=""/>
          <p:cNvPicPr/>
          <p:nvPr/>
        </p:nvPicPr>
        <p:blipFill>
          <a:blip r:embed="rId11"/>
          <a:stretch/>
        </p:blipFill>
        <p:spPr>
          <a:xfrm>
            <a:off x="4035600" y="1341360"/>
            <a:ext cx="2914560" cy="28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14280" y="11426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a5644e"/>
                </a:solidFill>
                <a:latin typeface="Corbel"/>
              </a:rPr>
              <a:t>Основними характеристиками якісної роботи </a:t>
            </a:r>
            <a:br>
              <a:rPr sz="3900"/>
            </a:br>
            <a:r>
              <a:rPr b="1" lang="uk-UA" sz="3900" spc="-1" strike="noStrike">
                <a:solidFill>
                  <a:srgbClr val="a5644e"/>
                </a:solidFill>
                <a:latin typeface="Corbel"/>
              </a:rPr>
              <a:t>пошукової системи є:</a:t>
            </a:r>
            <a:endParaRPr b="0" lang="en-US" sz="39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28800" y="2714760"/>
            <a:ext cx="8215200" cy="31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c00000"/>
                </a:solidFill>
                <a:latin typeface="Corbel"/>
              </a:rPr>
              <a:t>Релевантність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нгл. </a:t>
            </a:r>
            <a:r>
              <a:rPr b="1" i="1" lang="en-US" sz="2400" spc="-1" strike="noStrike">
                <a:solidFill>
                  <a:srgbClr val="0070c0"/>
                </a:solidFill>
                <a:latin typeface="Gill Sans MT"/>
              </a:rPr>
              <a:t>Relevance - </a:t>
            </a:r>
            <a:r>
              <a:rPr b="1" i="1" lang="uk-UA" sz="2400" spc="-1" strike="noStrike">
                <a:solidFill>
                  <a:srgbClr val="0070c0"/>
                </a:solidFill>
                <a:latin typeface="Corbel"/>
              </a:rPr>
              <a:t>акутуальність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orbel"/>
              </a:rPr>
              <a:t>(відсоток відповідності запиту і знайденої інформації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c00000"/>
                </a:solidFill>
                <a:latin typeface="Corbel"/>
              </a:rPr>
              <a:t>Пертинентність </a:t>
            </a:r>
            <a:r>
              <a:rPr b="1" i="1" lang="uk-UA" sz="27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i="1" lang="uk-UA" sz="2400" spc="-1" strike="noStrike">
                <a:solidFill>
                  <a:srgbClr val="c00000"/>
                </a:solidFill>
                <a:latin typeface="Corbel"/>
              </a:rPr>
              <a:t>англ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2400" spc="-1" strike="noStrike">
                <a:solidFill>
                  <a:srgbClr val="0070c0"/>
                </a:solidFill>
                <a:latin typeface="Gill Sans MT"/>
              </a:rPr>
              <a:t>Pertinence</a:t>
            </a:r>
            <a:r>
              <a:rPr b="1" i="1" lang="uk-UA" sz="2400" spc="-1" strike="noStrike">
                <a:solidFill>
                  <a:srgbClr val="0070c0"/>
                </a:solidFill>
                <a:latin typeface="Corbel"/>
              </a:rPr>
              <a:t> – доречність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Corbel"/>
              </a:rPr>
              <a:t>(відношення об</a:t>
            </a:r>
            <a:r>
              <a:rPr b="1" i="1" lang="en-US" sz="27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1" i="1" lang="uk-UA" sz="2700" spc="-1" strike="noStrike">
                <a:solidFill>
                  <a:srgbClr val="000000"/>
                </a:solidFill>
                <a:latin typeface="Corbel"/>
              </a:rPr>
              <a:t>єму корисної для користувача інформації до об</a:t>
            </a:r>
            <a:r>
              <a:rPr b="1" i="1" lang="en-US" sz="27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1" i="1" lang="uk-UA" sz="2700" spc="-1" strike="noStrike">
                <a:solidFill>
                  <a:srgbClr val="000000"/>
                </a:solidFill>
                <a:latin typeface="Corbel"/>
              </a:rPr>
              <a:t>єму одержаної інформації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Text Box 3" descr=""/>
          <p:cNvPicPr/>
          <p:nvPr/>
        </p:nvPicPr>
        <p:blipFill>
          <a:blip r:embed="rId2"/>
          <a:stretch/>
        </p:blipFill>
        <p:spPr>
          <a:xfrm>
            <a:off x="907920" y="225360"/>
            <a:ext cx="7480440" cy="665280"/>
          </a:xfrm>
          <a:prstGeom prst="rect">
            <a:avLst/>
          </a:prstGeom>
          <a:ln w="0">
            <a:noFill/>
          </a:ln>
        </p:spPr>
      </p:pic>
      <p:pic>
        <p:nvPicPr>
          <p:cNvPr id="381" name="Rectangle 4" descr=""/>
          <p:cNvPicPr/>
          <p:nvPr/>
        </p:nvPicPr>
        <p:blipFill>
          <a:blip r:embed="rId3"/>
          <a:stretch/>
        </p:blipFill>
        <p:spPr>
          <a:xfrm>
            <a:off x="530280" y="3144960"/>
            <a:ext cx="2822400" cy="115236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7" descr=""/>
          <p:cNvPicPr/>
          <p:nvPr/>
        </p:nvPicPr>
        <p:blipFill>
          <a:blip r:embed="rId4"/>
          <a:stretch/>
        </p:blipFill>
        <p:spPr>
          <a:xfrm>
            <a:off x="530280" y="5278320"/>
            <a:ext cx="2822400" cy="115272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9"/>
          <p:cNvSpPr/>
          <p:nvPr/>
        </p:nvSpPr>
        <p:spPr>
          <a:xfrm>
            <a:off x="304920" y="1371600"/>
            <a:ext cx="3733560" cy="1143000"/>
          </a:xfrm>
          <a:prstGeom prst="cloudCallout">
            <a:avLst>
              <a:gd name="adj1" fmla="val -27722"/>
              <a:gd name="adj2" fmla="val 102638"/>
            </a:avLst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Інформаційна потреб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84" name="AutoShape 11"/>
          <p:cNvGrpSpPr/>
          <p:nvPr/>
        </p:nvGrpSpPr>
        <p:grpSpPr>
          <a:xfrm>
            <a:off x="5407200" y="5052960"/>
            <a:ext cx="3663720" cy="1298520"/>
            <a:chOff x="5407200" y="5052960"/>
            <a:chExt cx="3663720" cy="1298520"/>
          </a:xfrm>
        </p:grpSpPr>
        <p:pic>
          <p:nvPicPr>
            <p:cNvPr id="385" name="AutoShape 11" descr=""/>
            <p:cNvPicPr/>
            <p:nvPr/>
          </p:nvPicPr>
          <p:blipFill>
            <a:blip r:embed="rId5"/>
            <a:stretch/>
          </p:blipFill>
          <p:spPr>
            <a:xfrm>
              <a:off x="5407200" y="5052960"/>
              <a:ext cx="36637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486400" y="5300640"/>
              <a:ext cx="301788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cc"/>
                  </a:solidFill>
                  <a:latin typeface="Arial"/>
                </a:rPr>
                <a:t>База даних ПС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87" name="Line 12"/>
          <p:cNvSpPr/>
          <p:nvPr/>
        </p:nvSpPr>
        <p:spPr>
          <a:xfrm>
            <a:off x="1905120" y="4267080"/>
            <a:ext cx="0" cy="99072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88" name="Rectangle 14"/>
          <p:cNvGrpSpPr/>
          <p:nvPr/>
        </p:nvGrpSpPr>
        <p:grpSpPr>
          <a:xfrm>
            <a:off x="5559480" y="2840040"/>
            <a:ext cx="2828880" cy="1152360"/>
            <a:chOff x="5559480" y="2840040"/>
            <a:chExt cx="2828880" cy="1152360"/>
          </a:xfrm>
        </p:grpSpPr>
        <p:pic>
          <p:nvPicPr>
            <p:cNvPr id="389" name="Rectangle 14" descr=""/>
            <p:cNvPicPr/>
            <p:nvPr/>
          </p:nvPicPr>
          <p:blipFill>
            <a:blip r:embed="rId6"/>
            <a:stretch/>
          </p:blipFill>
          <p:spPr>
            <a:xfrm>
              <a:off x="5559480" y="2840040"/>
              <a:ext cx="28288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638680" y="2895480"/>
              <a:ext cx="2667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cc"/>
                  </a:solidFill>
                  <a:latin typeface="Arial"/>
                </a:rPr>
                <a:t>Відповідь ПС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cc"/>
                  </a:solidFill>
                  <a:latin typeface="Arial"/>
                </a:rPr>
                <a:t>на запит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91" name="Line 15"/>
          <p:cNvSpPr/>
          <p:nvPr/>
        </p:nvSpPr>
        <p:spPr>
          <a:xfrm flipV="1">
            <a:off x="3733920" y="5791320"/>
            <a:ext cx="1600200" cy="144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Line 16"/>
          <p:cNvSpPr/>
          <p:nvPr/>
        </p:nvSpPr>
        <p:spPr>
          <a:xfrm flipV="1">
            <a:off x="7010280" y="3962160"/>
            <a:ext cx="0" cy="99036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Line 17"/>
          <p:cNvSpPr/>
          <p:nvPr/>
        </p:nvSpPr>
        <p:spPr>
          <a:xfrm flipV="1">
            <a:off x="3526560" y="3729240"/>
            <a:ext cx="2023920" cy="1707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4" name="Rectangle 18" descr=""/>
          <p:cNvPicPr/>
          <p:nvPr/>
        </p:nvPicPr>
        <p:blipFill>
          <a:blip r:embed="rId7"/>
          <a:stretch/>
        </p:blipFill>
        <p:spPr>
          <a:xfrm>
            <a:off x="3413160" y="3352680"/>
            <a:ext cx="2017800" cy="1828800"/>
          </a:xfrm>
          <a:prstGeom prst="rect">
            <a:avLst/>
          </a:prstGeom>
          <a:ln w="0">
            <a:noFill/>
          </a:ln>
        </p:spPr>
      </p:pic>
      <p:sp>
        <p:nvSpPr>
          <p:cNvPr id="395" name="Line 19"/>
          <p:cNvSpPr/>
          <p:nvPr/>
        </p:nvSpPr>
        <p:spPr>
          <a:xfrm>
            <a:off x="3858480" y="2093760"/>
            <a:ext cx="2713320" cy="6915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Rectangle 20" descr=""/>
          <p:cNvPicPr/>
          <p:nvPr/>
        </p:nvPicPr>
        <p:blipFill>
          <a:blip r:embed="rId8"/>
          <a:stretch/>
        </p:blipFill>
        <p:spPr>
          <a:xfrm>
            <a:off x="4127400" y="1573200"/>
            <a:ext cx="2492640" cy="10605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http://t2.gstatic.com/images?q=tbn:ANd9GcQazQQ6MdO9Jfw5Doij1-4tXHoYsIdGV1buAg0HvY843Mv0qp5hKDYO_fRQ"/>
          <p:cNvPicPr/>
          <p:nvPr/>
        </p:nvPicPr>
        <p:blipFill>
          <a:blip r:embed="rId9"/>
          <a:stretch/>
        </p:blipFill>
        <p:spPr>
          <a:xfrm>
            <a:off x="371520" y="3902040"/>
            <a:ext cx="1128600" cy="20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1357200" y="407196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1071360" y="500040"/>
            <a:ext cx="7576920" cy="57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990033"/>
                </a:solidFill>
                <a:latin typeface="Corbel"/>
              </a:rPr>
              <a:t>Правила ефективного пошуку інформації в мережі Інтернет: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mlmideal.ru/wp-content/uploads/2013/02/%D0%BF%D0%BE%D0%B8%D1%81%D0%BA-%D0%B8%D0%BD%D1%84%D0%BE%D1%80%D0%BC%D0%B0%D1%86%D0%B8%D0%B8.jpg"/>
          <p:cNvPicPr/>
          <p:nvPr/>
        </p:nvPicPr>
        <p:blipFill>
          <a:blip r:embed="rId2"/>
          <a:stretch/>
        </p:blipFill>
        <p:spPr>
          <a:xfrm>
            <a:off x="2071800" y="3286080"/>
            <a:ext cx="5238720" cy="31431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1214280" y="571320"/>
            <a:ext cx="74980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Визначтеся з темою запиту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i="1" lang="ru-RU" sz="3200" spc="-1" strike="noStrike">
                <a:solidFill>
                  <a:srgbClr val="990033"/>
                </a:solidFill>
                <a:latin typeface="Corbel"/>
              </a:rPr>
              <a:t>Що саме потрібно знайти?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равильно сформулюйте  і впишіть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ключові слова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http://iktschool.ru/wp-content/uploads/2012/02/search.jpg"/>
          <p:cNvPicPr/>
          <p:nvPr/>
        </p:nvPicPr>
        <p:blipFill>
          <a:blip r:embed="rId2"/>
          <a:stretch/>
        </p:blipFill>
        <p:spPr>
          <a:xfrm>
            <a:off x="3214800" y="4071960"/>
            <a:ext cx="3357360" cy="251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1434960" y="428760"/>
            <a:ext cx="7499520" cy="58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Здійснюйте пошук за принципом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        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«від складного до простого»,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початку вказуйте більше ключових слів, а потім зменшуйте їх кількість за рахунок менш важливих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Використовуйте можливості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різних пошукових систе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990033"/>
                </a:solidFill>
                <a:latin typeface="Corbel"/>
              </a:rPr>
              <a:t>Використовуйте спеціальні оператори в запитах:</a:t>
            </a:r>
            <a:endParaRPr b="0" lang="en-US" sz="39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28800" y="1447560"/>
            <a:ext cx="800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мережа </a:t>
            </a:r>
            <a:r>
              <a:rPr b="1" lang="uk-UA" sz="3600" spc="-1" strike="noStrike">
                <a:solidFill>
                  <a:srgbClr val="ff0000"/>
                </a:solidFill>
                <a:latin typeface="Corbel"/>
              </a:rPr>
              <a:t>-Інтернет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Продаж</a:t>
            </a:r>
            <a:r>
              <a:rPr b="1" lang="uk-UA" sz="3600" spc="-1" strike="noStrike">
                <a:solidFill>
                  <a:srgbClr val="ff0000"/>
                </a:solidFill>
                <a:latin typeface="Corbel"/>
              </a:rPr>
              <a:t>+</a:t>
            </a: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автомобіл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orbel"/>
              </a:rPr>
              <a:t>~</a:t>
            </a: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найкращі фільм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Купити телефон </a:t>
            </a:r>
            <a:r>
              <a:rPr b="1" lang="uk-UA" sz="3600" spc="-1" strike="noStrike">
                <a:solidFill>
                  <a:srgbClr val="ff0000"/>
                </a:solidFill>
                <a:latin typeface="Corbel"/>
              </a:rPr>
              <a:t>|</a:t>
            </a: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 планшет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ill Sans MT"/>
              </a:rPr>
              <a:t>define:</a:t>
            </a: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толерантніст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Щоб дійти до мети, треба перш за             все йти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Автомобіль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filetype:pd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1360" y="17856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33a2c"/>
                </a:solidFill>
                <a:latin typeface="Corbel"/>
              </a:rPr>
              <a:t>Для пошуку інформації в мережі Інтернет зазвичай використовують </a:t>
            </a:r>
            <a:br>
              <a:rPr sz="4400"/>
            </a:br>
            <a:r>
              <a:rPr b="1" lang="uk-UA" sz="8800" spc="-1" strike="noStrike">
                <a:solidFill>
                  <a:srgbClr val="990033"/>
                </a:solidFill>
                <a:latin typeface="Corbel"/>
              </a:rPr>
              <a:t>3 способи</a:t>
            </a:r>
            <a:r>
              <a:rPr b="1" lang="uk-UA" sz="8800" spc="-1" strike="noStrike">
                <a:solidFill>
                  <a:srgbClr val="533a2c"/>
                </a:solidFill>
                <a:latin typeface="Corbel"/>
              </a:rPr>
              <a:t>:</a:t>
            </a:r>
            <a:endParaRPr b="0" lang="en-US" sz="8800" spc="-1" strike="noStrike">
              <a:solidFill>
                <a:srgbClr val="533a2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http://goldwebmaster.net/wp-content/uploads/2011/10/web_design.jpg"/>
          <p:cNvPicPr/>
          <p:nvPr/>
        </p:nvPicPr>
        <p:blipFill>
          <a:blip r:embed="rId2"/>
          <a:stretch/>
        </p:blipFill>
        <p:spPr>
          <a:xfrm>
            <a:off x="3511440" y="4383000"/>
            <a:ext cx="3376800" cy="22068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85560" y="571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990033"/>
                </a:solidFill>
                <a:latin typeface="Corbel"/>
              </a:rPr>
              <a:t>Використовуйте </a:t>
            </a:r>
            <a:br>
              <a:rPr sz="4800"/>
            </a:br>
            <a:r>
              <a:rPr b="1" lang="uk-UA" sz="4800" spc="-1" strike="noStrike">
                <a:solidFill>
                  <a:srgbClr val="990033"/>
                </a:solidFill>
                <a:latin typeface="Corbel"/>
              </a:rPr>
              <a:t>розширений пошук</a:t>
            </a:r>
            <a:endParaRPr b="0" lang="en-US" sz="48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28480" y="2057040"/>
            <a:ext cx="7358040" cy="24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Він доступний за посиланням на сторінці пошуку і являє собою форму, яку потрібно заповнити, даючи відповідь на додаткові питанн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http://www.q5.ru/images/stories/info.jpg"/>
          <p:cNvPicPr/>
          <p:nvPr/>
        </p:nvPicPr>
        <p:blipFill>
          <a:blip r:embed="rId2"/>
          <a:stretch/>
        </p:blipFill>
        <p:spPr>
          <a:xfrm>
            <a:off x="3500280" y="2928960"/>
            <a:ext cx="2876760" cy="35719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Кожне посилання в списку результатів пошуку містить кілька рядків зі знайденного документ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Оцініть відповідність  цього тексту  Вашому запитові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1213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990033"/>
                </a:solidFill>
                <a:latin typeface="Corbel"/>
              </a:rPr>
              <a:t>Вдалого пошуку!</a:t>
            </a:r>
            <a:endParaRPr b="0" lang="en-US" sz="9600" spc="-1" strike="noStrike">
              <a:solidFill>
                <a:srgbClr val="533a2c"/>
              </a:solidFill>
              <a:latin typeface="Corbel"/>
            </a:endParaRPr>
          </a:p>
        </p:txBody>
      </p:sp>
      <p:pic>
        <p:nvPicPr>
          <p:cNvPr id="412" name="Picture 2" descr="http://reklamec.ru/wp-content/uploads/2012/03/Poiskovyie-sistemyi-1.jpg"/>
          <p:cNvPicPr/>
          <p:nvPr/>
        </p:nvPicPr>
        <p:blipFill>
          <a:blip r:embed="rId2"/>
          <a:stretch/>
        </p:blipFill>
        <p:spPr>
          <a:xfrm>
            <a:off x="3357720" y="3357720"/>
            <a:ext cx="31813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855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533a2c"/>
                </a:solidFill>
                <a:latin typeface="Corbel"/>
              </a:rPr>
              <a:t>1 спосіб </a:t>
            </a:r>
            <a:r>
              <a:rPr b="1" lang="uk-UA" sz="4300" spc="-1" strike="noStrike">
                <a:solidFill>
                  <a:srgbClr val="533a2c"/>
                </a:solidFill>
                <a:latin typeface="Corbel"/>
              </a:rPr>
              <a:t>– </a:t>
            </a:r>
            <a:r>
              <a:rPr b="1" lang="uk-UA" sz="4300" spc="-1" strike="noStrike" u="sng">
                <a:solidFill>
                  <a:srgbClr val="990033"/>
                </a:solidFill>
                <a:uFillTx/>
                <a:latin typeface="Corbel"/>
              </a:rPr>
              <a:t>пошук за адресою</a:t>
            </a: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14280" y="2500200"/>
            <a:ext cx="7500960" cy="35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Застосовується тоді, коли відома адреса інформаційного ресурсу, що містить необхідну інформацію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Достатньо ввести адресу ресурсу в адресний рядок браузер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848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533a2c"/>
                </a:solidFill>
                <a:latin typeface="Corbel"/>
              </a:rPr>
              <a:t>2 спосіб – </a:t>
            </a:r>
            <a:r>
              <a:rPr b="1" lang="uk-UA" sz="3900" spc="-1" strike="noStrike" u="sng">
                <a:solidFill>
                  <a:srgbClr val="990033"/>
                </a:solidFill>
                <a:uFillTx/>
                <a:latin typeface="Corbel"/>
              </a:rPr>
              <a:t>пошук за допомогою навігації по гіперпосиланнях</a:t>
            </a:r>
            <a:r>
              <a:rPr b="1" lang="uk-UA" sz="3900" spc="-1" strike="noStrike" u="sng">
                <a:solidFill>
                  <a:srgbClr val="533a2c"/>
                </a:solidFill>
                <a:uFillTx/>
                <a:latin typeface="Corbel"/>
              </a:rPr>
              <a:t>.</a:t>
            </a:r>
            <a:endParaRPr b="0" lang="en-US" sz="39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57200" y="2356920"/>
            <a:ext cx="750096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Це найменш зручний спосіб, так як з його допомогою можна шукати документи, лише близькі за змістом до поточного документ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http://t1.gstatic.com/images?q=tbn:ANd9GcQcKSXGhW-1I5VcMcmh23xpFNDJCj1-OvpnGdowYD_DQuZ9EPgykg"/>
          <p:cNvPicPr/>
          <p:nvPr/>
        </p:nvPicPr>
        <p:blipFill>
          <a:blip r:embed="rId2"/>
          <a:stretch/>
        </p:blipFill>
        <p:spPr>
          <a:xfrm>
            <a:off x="2571840" y="2946240"/>
            <a:ext cx="4786200" cy="37166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2848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533a2c"/>
                </a:solidFill>
                <a:latin typeface="Corbel"/>
              </a:rPr>
              <a:t>3 спосіб – </a:t>
            </a:r>
            <a:r>
              <a:rPr b="1" lang="uk-UA" sz="3900" spc="-1" strike="noStrike" u="sng">
                <a:solidFill>
                  <a:srgbClr val="990033"/>
                </a:solidFill>
                <a:uFillTx/>
                <a:latin typeface="Corbel"/>
              </a:rPr>
              <a:t>використання пошукових серверів </a:t>
            </a:r>
            <a:br>
              <a:rPr sz="3900"/>
            </a:br>
            <a:r>
              <a:rPr b="1" lang="uk-UA" sz="3900" spc="-1" strike="noStrike" u="sng">
                <a:solidFill>
                  <a:srgbClr val="990033"/>
                </a:solidFill>
                <a:uFillTx/>
                <a:latin typeface="Corbel"/>
              </a:rPr>
              <a:t>(пошукових систем)Інтернету.</a:t>
            </a:r>
            <a:endParaRPr b="0" lang="en-US" sz="39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285560" y="2285640"/>
            <a:ext cx="700092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Найбільш зручний спосіб пошуку інформації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vsocorp.com/wp-content/uploads/2010/12/search_engines-300x300.jpg"/>
          <p:cNvPicPr/>
          <p:nvPr/>
        </p:nvPicPr>
        <p:blipFill>
          <a:blip r:embed="rId2"/>
          <a:stretch/>
        </p:blipFill>
        <p:spPr>
          <a:xfrm>
            <a:off x="3000240" y="335772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1214280" y="285840"/>
            <a:ext cx="749808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ff0000"/>
                </a:solidFill>
                <a:uFillTx/>
                <a:latin typeface="Corbel"/>
              </a:rPr>
              <a:t>Пошукова система </a:t>
            </a:r>
            <a:r>
              <a:rPr b="1" lang="uk-UA" sz="44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1" i="1" lang="uk-UA" sz="4400" spc="-1" strike="noStrike">
                <a:solidFill>
                  <a:srgbClr val="523227"/>
                </a:solidFill>
                <a:latin typeface="Corbel"/>
              </a:rPr>
              <a:t>це сукупність апаратних і програмних засобів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523227"/>
                </a:solidFill>
                <a:latin typeface="Corbel"/>
              </a:rPr>
              <a:t>у поєднанні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523227"/>
                </a:solidFill>
                <a:latin typeface="Corbel"/>
              </a:rPr>
              <a:t>із веб-інтерфейсом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33"/>
                </a:solidFill>
                <a:latin typeface="Corbel"/>
              </a:rPr>
              <a:t>Пошукові системи для пошуку у міжнародних інформаційних ресурсах:</a:t>
            </a:r>
            <a:endParaRPr b="0" lang="en-US" sz="32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28440" y="1571400"/>
            <a:ext cx="7934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Alta Vista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 (http://www.altavista.com/)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Google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 (http://www.google.com/)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Yahoo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 (http://www.yahoo.com/)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Infoseek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 (http://www.infoseek.com/)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Hot Bot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 (http://www.hotbot.com/)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85560" y="4996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90033"/>
                </a:solidFill>
                <a:latin typeface="Corbel"/>
              </a:rPr>
              <a:t>Українські пошукові системи:</a:t>
            </a:r>
            <a:endParaRPr b="0" lang="en-US" sz="43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285560" y="2214360"/>
            <a:ext cx="735156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ad1f1f"/>
                </a:solidFill>
                <a:uFillTx/>
                <a:latin typeface="Corbel"/>
                <a:hlinkClick r:id="rId2"/>
              </a:rPr>
              <a:t>http://meta-ukraine.com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ad1f1f"/>
                </a:solidFill>
                <a:uFillTx/>
                <a:latin typeface="Gill Sans MT"/>
                <a:hlinkClick r:id="rId3"/>
              </a:rPr>
              <a:t>http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://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www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.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topping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.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com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.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ua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8480" y="8568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990033"/>
                </a:solidFill>
                <a:latin typeface="Corbel"/>
              </a:rPr>
              <a:t>Для пошуку інформації в </a:t>
            </a:r>
            <a:r>
              <a:rPr b="1" i="1" lang="ru-RU" sz="3900" spc="-1" strike="noStrike">
                <a:solidFill>
                  <a:srgbClr val="990033"/>
                </a:solidFill>
                <a:latin typeface="Corbel"/>
              </a:rPr>
              <a:t>російських інформаційних ресурсах:</a:t>
            </a:r>
            <a:br>
              <a:rPr sz="3900"/>
            </a:br>
            <a:endParaRPr b="0" lang="en-US" sz="3900" spc="-1" strike="noStrike">
              <a:solidFill>
                <a:srgbClr val="533a2c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600" y="2571480"/>
            <a:ext cx="72802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Яндекс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http://www.yandex.ru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мблер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http://www.rambler.ru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21T08:06:26Z</dcterms:modified>
  <cp:revision>88</cp:revision>
  <dc:subject/>
  <dc:title>Поисковые сист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14000000000001024140</vt:lpwstr>
  </property>
</Properties>
</file>