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55E-17AC-4673-9067-0804DF43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C2F-7D2D-498C-B751-B966185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0F9-0CB6-465D-A2A3-A223E194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6FA-B179-4F68-8CD8-5051449D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CB1-52D8-46F9-8FF6-3F7946A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78E-6648-4C77-8271-A1E4761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DA5-FC76-41B7-808A-C4D64EB1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199-F8F0-4BAF-BED7-D3F2CED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C12-A29F-4291-8BC2-F291A66E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A49-D569-41DB-8D4E-93B98D8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B16-B899-4C8A-93B8-BE1315AC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15A-607B-4A9F-8743-5543D4E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6782-9015-4A56-B915-62A5CCC3E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765000"/>
            <a:ext cx="889308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c0504d"/>
                </a:solidFill>
                <a:latin typeface="Arial"/>
              </a:rPr>
              <a:t>УРОК №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248000" cy="5238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3111840" cy="482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стандартні стил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СНОВНІ ТИПИ СТИЛ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1484280"/>
            <a:ext cx="2880000" cy="13478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ТАБЛ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413000"/>
            <a:ext cx="2880000" cy="13478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БЗА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413000"/>
            <a:ext cx="2879640" cy="13478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ИМВ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78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08720" y="28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716280"/>
            <a:ext cx="3097080" cy="20890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жрядковий інтер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сту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абуля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ж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араметри шрифт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789360"/>
            <a:ext cx="2378160" cy="201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ип шриф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мір шриф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рес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ір шриф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789360"/>
            <a:ext cx="2592360" cy="201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ипи  лін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овщина лін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ір гра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ливка комі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29376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Правила оформл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науково - дослідницьких робіт М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яг документа - до 30 друкованих сторінок, аркуші формату А4, формат текстового редактора Microsoft Word,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 одному рядку 60 + 2 знаки з урахуванням пропусків між словами; абзацний відступ 3-5  інтервалів;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одній сторінці - 40 ± 2 ряд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рифт - Times New Roman, 14 пт, міжрядковий інтервал -1,5 рядка, вирівнювання - по шири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я: верхнє - 20 мм, ліве і нижнє - не менше 20 мм, праве -10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головки відокремлюються від тексту зверху і знизу подвійним інтервалом, крапку в кінці заголовка не ставл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мерація сторінок: арабськими цифрами в правому верхньому куті без знака №, першою сторінкою є титульний аркуш, не нумерує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44280"/>
            <a:ext cx="8424720" cy="67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Слід дотримуватися загальних правил стильового оформлення тексті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ий текст документа бажано оформлювати в одному форматі, інший формат використовувати для виділення заголовків, окремих смислових фрагменті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ількість різних кольорів і шрифтів у документі не повинна перевищувати трь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змір символів, міжрядковий інтервал слід підбирати такими, щоб текст читався легко, без напруження оч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льорова гама повинна відповідати призначенню документа - вітальна листівка може бути оформлена яскравими, насиченими кольорами, а простий лист варто оформлювати в більш спокійних то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типну структуровану інформацію доцільно подавати в таблиц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афічні зображення в документі (рисунки, діаграми, схеми) повинні доповнювати зміст тексту, роз'яснювати або ілюструвати його окремі мо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афічні зображення (фотографії, рисунки, схеми) також потрібно оформлювати в єдиному стил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всіх сторінках робити однакове тло і поля, якщо інше не вимагається змістом док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907920"/>
            <a:ext cx="842472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Стандартний розмір шрифту за держстандартам – 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Неправ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 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У кінці заголовка крапку не став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Прав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Стиль можна створити, можна застосувати, але не можна зміни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Неправда. Мож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Кількість різних кольорів і шрифтів у документі може бути яка зав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Не може. Вона не повинна перевищувати трьо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Для застосування стилю необхідно виділити фрагмент текс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Прав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Якщо в документі змінюється елемент основного стилю, зміна поширюється на всі стилі, які базуються на цьому стил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c0504d"/>
                </a:solidFill>
                <a:latin typeface="Arial"/>
              </a:rPr>
              <a:t>Прав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Вірю – не вір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852480" cy="735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979640" y="69228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ілений фрагмент тексту після натискання на цю кнопку ст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жовт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жир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півжир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кур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357120" y="4071960"/>
            <a:ext cx="1690920" cy="676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124000" y="4005360"/>
            <a:ext cx="671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допомогою цього списку, що випадає можна змін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озмір шриф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номер сторі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195640" y="62064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а кнопка дозволя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ереглянути документ перед           дру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знайти слово в докумен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еревірити орфограф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викликати довідку по текстовому редак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1206360" cy="1109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268360" y="393372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тисканні цієї кнопки виділений текст буде вирівня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 лівому кр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 цен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 ширині 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 правому кр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571680" y="1571760"/>
            <a:ext cx="828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беріть правильну пару, розміщену на одній клавіші клавіат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буква кирилиці - латинська літ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Э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Ю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47640" y="234936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c0504d"/>
                </a:solidFill>
                <a:latin typeface="Arial"/>
              </a:rPr>
              <a:t>Сти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39640" y="981000"/>
            <a:ext cx="8145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ма уроку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0504d"/>
                </a:solidFill>
                <a:latin typeface="Arial"/>
              </a:rPr>
              <a:t>Використання стилів в текстових документ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0504d"/>
                </a:solidFill>
                <a:latin typeface="Arial"/>
              </a:rPr>
              <a:t>Правила стильового оформлення документ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upload.wikimedia.org/wikipedia/commons/f/fd/%D0%A2%D0%B8%D1%82%D1%83%D0%BB%D1%8C%D0%BD%D0%B0%D1%8F_%D1%81%D1%82%D1%80%D0%B0%D0%BD%D0%B8%D1%86%D0%B0_%D0%B3%D0%B0%D0%B7%D0%B5%D1%82%D1%8B_%22%D0%91%D0%B5%D0%BA%D0%BE%D0%B2%D1%81%D0%BA%D0%B8%D0%B9_%D0%B2%D0%B5%D1%81%D1%82%D0%BD%D0%B8%D0%BA%22_%E2%84%96_7_%D0%BE%D1%82_24_%D1%8F%D0%BD%D0%B2%D0%B0%D1%80%D1%8F_2012_%D0%B3%D0%BE%D0%B4%D0%B0..jpg"/>
          <p:cNvPicPr/>
          <p:nvPr/>
        </p:nvPicPr>
        <p:blipFill>
          <a:blip r:embed="rId2"/>
          <a:stretch/>
        </p:blipFill>
        <p:spPr>
          <a:xfrm>
            <a:off x="214200" y="214200"/>
            <a:ext cx="4786560" cy="676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obxnewspaper.com/wp-content/uploads/products_img/new_york_times_obxnewspaper.jpg"/>
          <p:cNvPicPr/>
          <p:nvPr/>
        </p:nvPicPr>
        <p:blipFill>
          <a:blip r:embed="rId3"/>
          <a:stretch/>
        </p:blipFill>
        <p:spPr>
          <a:xfrm>
            <a:off x="37148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65000"/>
            <a:ext cx="911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Стиль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це набір значень властивостей об’єктів певного типу, який має ім’я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няття сти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4149720"/>
            <a:ext cx="34560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ИДКУ ЗМІНУ БАГАТЬО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БЗАЦ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149720"/>
            <a:ext cx="34560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ОНОМІЯ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551664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ДНОМАНІ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ОРМАТ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276640"/>
            <a:ext cx="8425080" cy="1152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икористання стилів надає користувачев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акі переваг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7128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5111640" cy="5473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ндартні стил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5:30:49Z</dcterms:created>
  <dc:creator>Елена</dc:creator>
  <dc:description/>
  <dc:language>en-US</dc:language>
  <cp:lastModifiedBy>Teacher</cp:lastModifiedBy>
  <dcterms:modified xsi:type="dcterms:W3CDTF">2013-12-16T09:18:12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4000000000001024140</vt:lpwstr>
  </property>
</Properties>
</file>