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5.png" ContentType="image/png"/>
  <Override PartName="/ppt/media/image59.gif" ContentType="image/gif"/>
  <Override PartName="/ppt/media/image3.jpeg" ContentType="image/jpeg"/>
  <Override PartName="/ppt/media/image30.png" ContentType="image/pn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0.gif" ContentType="image/gif"/>
  <Override PartName="/ppt/media/image55.png" ContentType="image/png"/>
  <Override PartName="/ppt/media/image44.png" ContentType="image/png"/>
  <Override PartName="/ppt/media/image56.png" ContentType="image/png"/>
  <Override PartName="/ppt/media/image31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0.png" ContentType="image/png"/>
  <Override PartName="/ppt/media/image5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526-D5A6-40AA-A26D-5FC3B844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5BE-A675-465C-B7F2-C4D0A6EF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205-E1CC-4CC5-923F-36067CDC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D38-D835-49B4-8D12-53A29BD6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A18-4EAF-4E9C-A0D1-DF75772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028-E7DE-41F3-93BF-EE56ADD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2AB-D826-4107-912A-CC2ADDF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D79-E944-4D52-9ACF-263922D6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6C3-B0CE-4D5E-8A10-05B417C0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F1A-9588-4456-B7BA-56DA33DC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516-592E-40FF-A9CC-384A2C3B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9D7-85E7-4F62-92FF-90131D9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DE8B-6C1F-4708-BBE4-3C5DBB638B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png"/><Relationship Id="rId3" Type="http://schemas.openxmlformats.org/officeDocument/2006/relationships/image" Target="../media/image36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8.png"/><Relationship Id="rId3" Type="http://schemas.openxmlformats.org/officeDocument/2006/relationships/image" Target="../media/image5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yprawy.onet.pl/_i/loswiaheros/news/klawiatura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334800" y="907920"/>
            <a:ext cx="9217080" cy="392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72" name="Прямоугольник 2"/>
          <p:cNvGrpSpPr/>
          <p:nvPr/>
        </p:nvGrpSpPr>
        <p:grpSpPr>
          <a:xfrm>
            <a:off x="208080" y="871560"/>
            <a:ext cx="1554120" cy="603360"/>
            <a:chOff x="208080" y="871560"/>
            <a:chExt cx="1554120" cy="603360"/>
          </a:xfrm>
        </p:grpSpPr>
        <p:pic>
          <p:nvPicPr>
            <p:cNvPr id="7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208080" y="871560"/>
              <a:ext cx="155412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12840" y="933480"/>
              <a:ext cx="13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а) DVD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Прямоугольник 3"/>
          <p:cNvGrpSpPr/>
          <p:nvPr/>
        </p:nvGrpSpPr>
        <p:grpSpPr>
          <a:xfrm>
            <a:off x="2249640" y="4498920"/>
            <a:ext cx="6711840" cy="2243160"/>
            <a:chOff x="2249640" y="4498920"/>
            <a:chExt cx="6711840" cy="2243160"/>
          </a:xfrm>
        </p:grpSpPr>
        <p:pic>
          <p:nvPicPr>
            <p:cNvPr id="76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249640" y="4498920"/>
              <a:ext cx="67118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354400" y="4560840"/>
              <a:ext cx="6502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1. Є скороченим DVD Recordable, формат одноразового запису даних, який розроблений на основі формату CD-R. Також він забезпечує практично повну сумісність записаних дисків з різними DVD програвачами відео та музики. Він дає змогу записувати інформацію ємністю понад 4 Гб (з однієї сторони) та майже 8 Гб (з обох сторін) на швидкості 4-х (приблизно 5 Мб/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4"/>
          <p:cNvGrpSpPr/>
          <p:nvPr/>
        </p:nvGrpSpPr>
        <p:grpSpPr>
          <a:xfrm>
            <a:off x="195120" y="3048120"/>
            <a:ext cx="1597320" cy="596880"/>
            <a:chOff x="195120" y="3048120"/>
            <a:chExt cx="1597320" cy="596880"/>
          </a:xfrm>
        </p:grpSpPr>
        <p:pic>
          <p:nvPicPr>
            <p:cNvPr id="79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195120" y="3048120"/>
              <a:ext cx="15973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02400" y="311004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б) DVD 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5"/>
          <p:cNvGrpSpPr/>
          <p:nvPr/>
        </p:nvGrpSpPr>
        <p:grpSpPr>
          <a:xfrm>
            <a:off x="2249640" y="2494080"/>
            <a:ext cx="6711840" cy="1693800"/>
            <a:chOff x="2249640" y="2494080"/>
            <a:chExt cx="6711840" cy="1693800"/>
          </a:xfrm>
        </p:grpSpPr>
        <p:pic>
          <p:nvPicPr>
            <p:cNvPr id="82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2249640" y="2494080"/>
              <a:ext cx="67118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2354400" y="2556000"/>
              <a:ext cx="6502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2. Скорочення від DVD Read – Only Memory (постійний запам’ятовуючий пристрій DVD). Найпоширеніший тип DVD, який виготовляється на заводах вже із записаною на них інформацією. Це може бути відео, музика або комп’ютерні прогр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6"/>
          <p:cNvGrpSpPr/>
          <p:nvPr/>
        </p:nvGrpSpPr>
        <p:grpSpPr>
          <a:xfrm>
            <a:off x="189000" y="5145120"/>
            <a:ext cx="1560600" cy="603360"/>
            <a:chOff x="189000" y="5145120"/>
            <a:chExt cx="1560600" cy="603360"/>
          </a:xfrm>
        </p:grpSpPr>
        <p:pic>
          <p:nvPicPr>
            <p:cNvPr id="85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189000" y="5145120"/>
              <a:ext cx="15606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3760" y="5207040"/>
              <a:ext cx="139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в) DVD R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7"/>
          <p:cNvGrpSpPr/>
          <p:nvPr/>
        </p:nvGrpSpPr>
        <p:grpSpPr>
          <a:xfrm>
            <a:off x="2236680" y="457200"/>
            <a:ext cx="6712200" cy="1695600"/>
            <a:chOff x="2236680" y="457200"/>
            <a:chExt cx="6712200" cy="1695600"/>
          </a:xfrm>
        </p:grpSpPr>
        <p:pic>
          <p:nvPicPr>
            <p:cNvPr id="88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2236680" y="457200"/>
              <a:ext cx="67122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338560" y="517680"/>
              <a:ext cx="6503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. Є скороченням DVD Rewritable, тобто той, який можна багаторазово переписувати, створений на основі DVD-R. Є сумісним із різних DVD-плеєрами та пристроями типу DVD RОМ. На нього можна як дописувати інформацію, так і перезаписувати диск повністю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-0.00879 L -0.0658 -0.62766 E">
                                      <p:cBhvr>
                                        <p:cTn id="3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46994E-006 L -0.00104 0.63136 E">
                                      <p:cBhvr>
                                        <p:cTn id="3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2"/>
          <p:cNvGrpSpPr/>
          <p:nvPr/>
        </p:nvGrpSpPr>
        <p:grpSpPr>
          <a:xfrm>
            <a:off x="7564320" y="146160"/>
            <a:ext cx="1281240" cy="596880"/>
            <a:chOff x="7564320" y="146160"/>
            <a:chExt cx="1281240" cy="596880"/>
          </a:xfrm>
        </p:grpSpPr>
        <p:pic>
          <p:nvPicPr>
            <p:cNvPr id="92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564320" y="146160"/>
              <a:ext cx="128124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674120" y="2080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а) СD R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Прямоугольник 3"/>
          <p:cNvGrpSpPr/>
          <p:nvPr/>
        </p:nvGrpSpPr>
        <p:grpSpPr>
          <a:xfrm>
            <a:off x="2755800" y="3571920"/>
            <a:ext cx="5894640" cy="2243160"/>
            <a:chOff x="2755800" y="3571920"/>
            <a:chExt cx="5894640" cy="224316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755800" y="3571920"/>
              <a:ext cx="58946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859120" y="3630600"/>
              <a:ext cx="5688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1. Cкороченим від СD-ReWritable – пристрій, що багаторазово перезаписує компакт-диск, інформацію на якому можна записувати або знищувати в будь-який момент. Для їх читання необхідні спеціальні приводи CD-RW, але їх також читають звичайні CD-ROM, які останнім часом стали найпопулярнішими і тому входять до стандартної комплектації нових ПК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4"/>
          <p:cNvGrpSpPr/>
          <p:nvPr/>
        </p:nvGrpSpPr>
        <p:grpSpPr>
          <a:xfrm>
            <a:off x="5389560" y="6004080"/>
            <a:ext cx="1438200" cy="598320"/>
            <a:chOff x="5389560" y="6004080"/>
            <a:chExt cx="1438200" cy="59832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389560" y="6004080"/>
              <a:ext cx="14382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497920" y="606276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б) СD 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5"/>
          <p:cNvGrpSpPr/>
          <p:nvPr/>
        </p:nvGrpSpPr>
        <p:grpSpPr>
          <a:xfrm>
            <a:off x="317520" y="171360"/>
            <a:ext cx="5894280" cy="1419480"/>
            <a:chOff x="317520" y="171360"/>
            <a:chExt cx="5894280" cy="1419480"/>
          </a:xfrm>
        </p:grpSpPr>
        <p:pic>
          <p:nvPicPr>
            <p:cNvPr id="101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317520" y="171360"/>
              <a:ext cx="58942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22280" y="231840"/>
              <a:ext cx="568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2. Скорочення від Compact Disk-Read Only Memory – стандартний для комп’ютерних дисків, які використовуються для зберігання файлів чи папок. Стандартний обсяг такого диска – близько 650 М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6"/>
          <p:cNvGrpSpPr/>
          <p:nvPr/>
        </p:nvGrpSpPr>
        <p:grpSpPr>
          <a:xfrm>
            <a:off x="639720" y="5450040"/>
            <a:ext cx="1073160" cy="596880"/>
            <a:chOff x="639720" y="5450040"/>
            <a:chExt cx="1073160" cy="596880"/>
          </a:xfrm>
        </p:grpSpPr>
        <p:pic>
          <p:nvPicPr>
            <p:cNvPr id="104" name="Прямоугольник 6" descr=""/>
            <p:cNvPicPr/>
            <p:nvPr/>
          </p:nvPicPr>
          <p:blipFill>
            <a:blip r:embed="rId6"/>
            <a:stretch/>
          </p:blipFill>
          <p:spPr>
            <a:xfrm>
              <a:off x="639720" y="5450040"/>
              <a:ext cx="10731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750240" y="550872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в) СD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оугольник 7"/>
          <p:cNvGrpSpPr/>
          <p:nvPr/>
        </p:nvGrpSpPr>
        <p:grpSpPr>
          <a:xfrm>
            <a:off x="1987560" y="1768320"/>
            <a:ext cx="6638760" cy="1700280"/>
            <a:chOff x="1987560" y="1768320"/>
            <a:chExt cx="6638760" cy="1700280"/>
          </a:xfrm>
        </p:grpSpPr>
        <p:pic>
          <p:nvPicPr>
            <p:cNvPr id="107" name="Прямоугольник 7" descr=""/>
            <p:cNvPicPr/>
            <p:nvPr/>
          </p:nvPicPr>
          <p:blipFill>
            <a:blip r:embed="rId7"/>
            <a:stretch/>
          </p:blipFill>
          <p:spPr>
            <a:xfrm>
              <a:off x="1987560" y="1768320"/>
              <a:ext cx="663876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093760" y="1830240"/>
              <a:ext cx="6424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3. Є скороченням CD-Recordable – компакт-диск одноразового запису. Можна обирати різноманітні формати, тому після запису цей диск може бути як відео, так і аудіо, а також диск може зчитуватися різними CD-приводами. Записані на цей диск дані не можна замінити або вилучит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03423E-006 L -0.8151 0.04371 E">
                                      <p:cBhvr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84 0.03261 L 0.04861 -0.4926 E">
                                      <p:cBhvr>
                                        <p:cTn id="47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9722E-006 L -0.58559 -0.463 E">
                                      <p:cBhvr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8881E-006 L 0.24531 0.34691 E">
                                      <p:cBhvr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9704E-006 L 5.55556E-007 0.45097 E">
                                      <p:cBhvr>
                                        <p:cTn id="56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0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1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4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Скругленная соединительная линия 8"/>
          <p:cNvCxnSpPr/>
          <p:nvPr/>
        </p:nvCxnSpPr>
        <p:spPr>
          <a:xfrm rot="10800000">
            <a:off x="1546920" y="3575880"/>
            <a:ext cx="1369440" cy="861120"/>
          </a:xfrm>
          <a:prstGeom prst="curvedConnector5">
            <a:avLst>
              <a:gd name="adj1" fmla="val 13068"/>
              <a:gd name="adj2" fmla="val 49979"/>
              <a:gd name="adj3" fmla="val 13068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16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17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1" descr=""/>
          <p:cNvPicPr/>
          <p:nvPr/>
        </p:nvPicPr>
        <p:blipFill>
          <a:blip r:embed="rId2"/>
          <a:stretch/>
        </p:blipFill>
        <p:spPr>
          <a:xfrm>
            <a:off x="2000160" y="317520"/>
            <a:ext cx="6096240" cy="276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2652840" y="3789360"/>
          <a:ext cx="4630680" cy="2376360"/>
        </p:xfrm>
        <a:graphic>
          <a:graphicData uri="http://schemas.openxmlformats.org/drawingml/2006/table">
            <a:tbl>
              <a:tblPr/>
              <a:tblGrid>
                <a:gridCol w="1542960"/>
                <a:gridCol w="1544760"/>
                <a:gridCol w="1542960"/>
              </a:tblGrid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87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22" name="Управляющая кнопка: далее 3"/>
          <p:cNvGrpSpPr/>
          <p:nvPr/>
        </p:nvGrpSpPr>
        <p:grpSpPr>
          <a:xfrm>
            <a:off x="7540560" y="5992920"/>
            <a:ext cx="1408320" cy="828720"/>
            <a:chOff x="7540560" y="5992920"/>
            <a:chExt cx="1408320" cy="828720"/>
          </a:xfrm>
        </p:grpSpPr>
        <p:pic>
          <p:nvPicPr>
            <p:cNvPr id="123" name="Управляющая кнопка: далее 3" descr=""/>
            <p:cNvPicPr/>
            <p:nvPr/>
          </p:nvPicPr>
          <p:blipFill>
            <a:blip r:embed="rId7"/>
            <a:stretch/>
          </p:blipFill>
          <p:spPr>
            <a:xfrm>
              <a:off x="7540560" y="5992920"/>
              <a:ext cx="1408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596360" y="6021360"/>
              <a:ext cx="1296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" descr="http://im3-tub-ua.yandex.net/i?id=200657527-66-72&amp;n=21"/>
          <p:cNvPicPr/>
          <p:nvPr/>
        </p:nvPicPr>
        <p:blipFill>
          <a:blip r:embed="rId1"/>
          <a:stretch/>
        </p:blipFill>
        <p:spPr>
          <a:xfrm>
            <a:off x="179280" y="549360"/>
            <a:ext cx="8496360" cy="5904000"/>
          </a:xfrm>
          <a:prstGeom prst="rect">
            <a:avLst/>
          </a:prstGeom>
          <a:ln w="0">
            <a:noFill/>
          </a:ln>
        </p:spPr>
      </p:pic>
      <p:grpSp>
        <p:nvGrpSpPr>
          <p:cNvPr id="126" name="Управляющая кнопка: возврат 10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27" name="Управляющая кнопка: возврат 10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http://im5-tub-ua.yandex.net/i?id=452603627-32-72&amp;n=21"/>
          <p:cNvPicPr/>
          <p:nvPr/>
        </p:nvPicPr>
        <p:blipFill>
          <a:blip r:embed="rId1"/>
          <a:stretch/>
        </p:blipFill>
        <p:spPr>
          <a:xfrm>
            <a:off x="179280" y="247680"/>
            <a:ext cx="8713800" cy="6421320"/>
          </a:xfrm>
          <a:prstGeom prst="rect">
            <a:avLst/>
          </a:prstGeom>
          <a:ln w="0">
            <a:noFill/>
          </a:ln>
        </p:spPr>
      </p:pic>
      <p:grpSp>
        <p:nvGrpSpPr>
          <p:cNvPr id="130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1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http://www.freemp3musicdownload.co.uk/images/cd.jpg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  <p:grpSp>
        <p:nvGrpSpPr>
          <p:cNvPr id="134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5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5" descr="http://www.picdesktop.ru/drawing/1152x864/drawing102.jpg"/>
          <p:cNvPicPr/>
          <p:nvPr/>
        </p:nvPicPr>
        <p:blipFill>
          <a:blip r:embed="rId1"/>
          <a:srcRect l="0" t="0" r="29" b="0"/>
          <a:stretch/>
        </p:blipFill>
        <p:spPr>
          <a:xfrm>
            <a:off x="755640" y="260280"/>
            <a:ext cx="7201080" cy="6193080"/>
          </a:xfrm>
          <a:prstGeom prst="rect">
            <a:avLst/>
          </a:prstGeom>
          <a:ln w="0">
            <a:noFill/>
          </a:ln>
        </p:spPr>
      </p:pic>
      <p:grpSp>
        <p:nvGrpSpPr>
          <p:cNvPr id="138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39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http://kotomatrix.ru/images/lolz/2010/03/13/512642.jpg"/>
          <p:cNvPicPr/>
          <p:nvPr/>
        </p:nvPicPr>
        <p:blipFill>
          <a:blip r:embed="rId1"/>
          <a:stretch/>
        </p:blipFill>
        <p:spPr>
          <a:xfrm>
            <a:off x="179280" y="115920"/>
            <a:ext cx="8640720" cy="648180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43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6" descr="http://warehousepc.com.pe/uploads/ofertas/104_1.jpg"/>
          <p:cNvPicPr/>
          <p:nvPr/>
        </p:nvPicPr>
        <p:blipFill>
          <a:blip r:embed="rId1"/>
          <a:stretch/>
        </p:blipFill>
        <p:spPr>
          <a:xfrm>
            <a:off x="900000" y="549360"/>
            <a:ext cx="7775640" cy="6119640"/>
          </a:xfrm>
          <a:prstGeom prst="rect">
            <a:avLst/>
          </a:prstGeom>
          <a:ln w="0">
            <a:noFill/>
          </a:ln>
        </p:spPr>
      </p:pic>
      <p:grpSp>
        <p:nvGrpSpPr>
          <p:cNvPr id="146" name="Управляющая кнопка: возврат 7"/>
          <p:cNvGrpSpPr/>
          <p:nvPr/>
        </p:nvGrpSpPr>
        <p:grpSpPr>
          <a:xfrm>
            <a:off x="6553080" y="5931000"/>
            <a:ext cx="1925640" cy="847800"/>
            <a:chOff x="6553080" y="5931000"/>
            <a:chExt cx="1925640" cy="847800"/>
          </a:xfrm>
        </p:grpSpPr>
        <p:pic>
          <p:nvPicPr>
            <p:cNvPr id="147" name="Управляющая кнопка: возврат 7" descr=""/>
            <p:cNvPicPr/>
            <p:nvPr/>
          </p:nvPicPr>
          <p:blipFill>
            <a:blip r:embed="rId2"/>
            <a:stretch/>
          </p:blipFill>
          <p:spPr>
            <a:xfrm>
              <a:off x="6553080" y="593100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588000" y="6021360"/>
              <a:ext cx="1800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" descr=""/>
          <p:cNvPicPr/>
          <p:nvPr/>
        </p:nvPicPr>
        <p:blipFill>
          <a:blip r:embed="rId2"/>
          <a:stretch/>
        </p:blipFill>
        <p:spPr>
          <a:xfrm>
            <a:off x="682560" y="1249200"/>
            <a:ext cx="7534440" cy="3554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50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51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54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56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57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9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60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61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1" descr=""/>
          <p:cNvPicPr/>
          <p:nvPr/>
        </p:nvPicPr>
        <p:blipFill>
          <a:blip r:embed="rId2"/>
          <a:stretch/>
        </p:blipFill>
        <p:spPr>
          <a:xfrm>
            <a:off x="420840" y="1560600"/>
            <a:ext cx="825336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66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67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70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72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73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5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76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77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9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80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181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5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s.rimg.info/0801e0ee3a4e8b79fdad88f3fbffa3d5.gif"/>
          <p:cNvPicPr/>
          <p:nvPr/>
        </p:nvPicPr>
        <p:blipFill>
          <a:blip r:embed="rId3"/>
          <a:stretch/>
        </p:blipFill>
        <p:spPr>
          <a:xfrm>
            <a:off x="6211800" y="3424320"/>
            <a:ext cx="2702160" cy="3243240"/>
          </a:xfrm>
          <a:prstGeom prst="rect">
            <a:avLst/>
          </a:prstGeom>
          <a:ln w="0">
            <a:noFill/>
          </a:ln>
        </p:spPr>
      </p:pic>
      <p:pic>
        <p:nvPicPr>
          <p:cNvPr id="186" name="gimnastika_dlya_vseh.mp3" descr=""/>
          <p:cNvPicPr/>
          <p:nvPr/>
        </p:nvPicPr>
        <p:blipFill>
          <a:blip r:embed="rId4"/>
          <a:stretch/>
        </p:blipFill>
        <p:spPr>
          <a:xfrm>
            <a:off x="420840" y="5867280"/>
            <a:ext cx="7999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9508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88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89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92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94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195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7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198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199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1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02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03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5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06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07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ПАМ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’</a:t>
            </a: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Я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1" descr=""/>
          <p:cNvPicPr/>
          <p:nvPr/>
        </p:nvPicPr>
        <p:blipFill>
          <a:blip r:embed="rId2"/>
          <a:stretch/>
        </p:blipFill>
        <p:spPr>
          <a:xfrm>
            <a:off x="438120" y="1773360"/>
            <a:ext cx="8248680" cy="268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11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12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15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17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218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0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21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222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25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26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8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29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30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ДЕЛЬФІ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 rot="571200">
            <a:off x="5362200" y="3578040"/>
            <a:ext cx="1755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бережно, мілина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Скругленная соединительная линия 16"/>
          <p:cNvCxnSpPr/>
          <p:nvPr/>
        </p:nvCxnSpPr>
        <p:spPr>
          <a:xfrm rot="5400000">
            <a:off x="6744960" y="3225600"/>
            <a:ext cx="1486440" cy="9374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  <p:grpSp>
        <p:nvGrpSpPr>
          <p:cNvPr id="235" name="Прямоугольник 2"/>
          <p:cNvGrpSpPr/>
          <p:nvPr/>
        </p:nvGrpSpPr>
        <p:grpSpPr>
          <a:xfrm>
            <a:off x="3968640" y="4419720"/>
            <a:ext cx="4778640" cy="1908000"/>
            <a:chOff x="3968640" y="4419720"/>
            <a:chExt cx="4778640" cy="1908000"/>
          </a:xfrm>
        </p:grpSpPr>
        <p:pic>
          <p:nvPicPr>
            <p:cNvPr id="236" name="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3968640" y="4419720"/>
              <a:ext cx="47786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119480" y="4492800"/>
              <a:ext cx="45720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Конкурс цей не для лякливих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А для спритних і сміливих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Вся команда вболіває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500" spc="-1" strike="noStrike">
                  <a:solidFill>
                    <a:srgbClr val="0000ff"/>
                  </a:solidFill>
                  <a:latin typeface="Calibri"/>
                </a:rPr>
                <a:t>Капітан один їх грає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39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0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43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8"/>
          <p:cNvCxnSpPr/>
          <p:nvPr/>
        </p:nvCxnSpPr>
        <p:spPr>
          <a:xfrm rot="10800000">
            <a:off x="1978920" y="3575880"/>
            <a:ext cx="937440" cy="861120"/>
          </a:xfrm>
          <a:prstGeom prst="curvedConnector5">
            <a:avLst>
              <a:gd name="adj1" fmla="val 49980"/>
              <a:gd name="adj2" fmla="val 49979"/>
              <a:gd name="adj3" fmla="val 4998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45" name="Text Box 15"/>
          <p:cNvGrpSpPr/>
          <p:nvPr/>
        </p:nvGrpSpPr>
        <p:grpSpPr>
          <a:xfrm>
            <a:off x="6480" y="3718080"/>
            <a:ext cx="1596960" cy="695160"/>
            <a:chOff x="6480" y="3718080"/>
            <a:chExt cx="1596960" cy="695160"/>
          </a:xfrm>
        </p:grpSpPr>
        <p:pic>
          <p:nvPicPr>
            <p:cNvPr id="246" name="Text Box 15" descr=""/>
            <p:cNvPicPr/>
            <p:nvPr/>
          </p:nvPicPr>
          <p:blipFill>
            <a:blip r:embed="rId2"/>
            <a:stretch/>
          </p:blipFill>
          <p:spPr>
            <a:xfrm>
              <a:off x="6480" y="3718080"/>
              <a:ext cx="1596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1920" y="3751200"/>
              <a:ext cx="148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бережно айсберги!!!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8" name="Скругленная соединительная линия 9"/>
          <p:cNvCxnSpPr/>
          <p:nvPr/>
        </p:nvCxnSpPr>
        <p:spPr>
          <a:xfrm flipV="1" rot="16200000">
            <a:off x="1132560" y="3121920"/>
            <a:ext cx="577080" cy="469080"/>
          </a:xfrm>
          <a:prstGeom prst="curvedConnector5">
            <a:avLst>
              <a:gd name="adj1" fmla="val -4431"/>
              <a:gd name="adj2" fmla="val 50000"/>
              <a:gd name="adj3" fmla="val -4431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49" name="Скругленная прямоугольная выноска 37"/>
          <p:cNvGrpSpPr/>
          <p:nvPr/>
        </p:nvGrpSpPr>
        <p:grpSpPr>
          <a:xfrm>
            <a:off x="219240" y="1554120"/>
            <a:ext cx="1938240" cy="1463760"/>
            <a:chOff x="219240" y="1554120"/>
            <a:chExt cx="1938240" cy="1463760"/>
          </a:xfrm>
        </p:grpSpPr>
        <p:pic>
          <p:nvPicPr>
            <p:cNvPr id="250" name="Скругленная прямоугольная выноска 37" descr=""/>
            <p:cNvPicPr/>
            <p:nvPr/>
          </p:nvPicPr>
          <p:blipFill>
            <a:blip r:embed="rId3"/>
            <a:stretch/>
          </p:blipFill>
          <p:spPr>
            <a:xfrm>
              <a:off x="219240" y="1554120"/>
              <a:ext cx="19382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301680" y="1657440"/>
              <a:ext cx="17715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Порт «ЛАНЦЮЖКОВ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2" name="Скругленная соединительная линия 12"/>
          <p:cNvCxnSpPr/>
          <p:nvPr/>
        </p:nvCxnSpPr>
        <p:spPr>
          <a:xfrm flipV="1">
            <a:off x="1547280" y="2851920"/>
            <a:ext cx="3026520" cy="19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grpSp>
        <p:nvGrpSpPr>
          <p:cNvPr id="253" name="Скругленная прямоугольная выноска 30"/>
          <p:cNvGrpSpPr/>
          <p:nvPr/>
        </p:nvGrpSpPr>
        <p:grpSpPr>
          <a:xfrm>
            <a:off x="3681360" y="590400"/>
            <a:ext cx="1835280" cy="2000520"/>
            <a:chOff x="3681360" y="590400"/>
            <a:chExt cx="1835280" cy="2000520"/>
          </a:xfrm>
        </p:grpSpPr>
        <p:pic>
          <p:nvPicPr>
            <p:cNvPr id="254" name="Скругленная прямоугольная выноска 30" descr=""/>
            <p:cNvPicPr/>
            <p:nvPr/>
          </p:nvPicPr>
          <p:blipFill>
            <a:blip r:embed="rId4"/>
            <a:stretch/>
          </p:blipFill>
          <p:spPr>
            <a:xfrm>
              <a:off x="3681360" y="590400"/>
              <a:ext cx="183528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767040" y="647640"/>
              <a:ext cx="16686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Courier New"/>
                  <a:ea typeface="Times New Roman"/>
                </a:rPr>
                <a:t>Острів «СПОРТИВНИ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6" name="Скругленная соединительная линия 38"/>
          <p:cNvCxnSpPr/>
          <p:nvPr/>
        </p:nvCxnSpPr>
        <p:spPr>
          <a:xfrm>
            <a:off x="4787640" y="2852280"/>
            <a:ext cx="2664360" cy="505800"/>
          </a:xfrm>
          <a:prstGeom prst="curvedConnector5">
            <a:avLst>
              <a:gd name="adj1" fmla="val 6445"/>
              <a:gd name="adj2" fmla="val 50000"/>
              <a:gd name="adj3" fmla="val 6445"/>
            </a:avLst>
          </a:prstGeom>
          <a:ln w="82440">
            <a:solidFill>
              <a:srgbClr val="ff0000"/>
            </a:solidFill>
            <a:prstDash val="sysDash"/>
            <a:miter/>
          </a:ln>
        </p:spPr>
      </p:cxnSp>
      <p:cxnSp>
        <p:nvCxnSpPr>
          <p:cNvPr id="257" name="Скругленная соединительная линия 51"/>
          <p:cNvCxnSpPr/>
          <p:nvPr/>
        </p:nvCxnSpPr>
        <p:spPr>
          <a:xfrm flipH="1" flipV="1">
            <a:off x="7019640" y="2657160"/>
            <a:ext cx="606960" cy="589680"/>
          </a:xfrm>
          <a:prstGeom prst="curvedConnector5">
            <a:avLst>
              <a:gd name="adj1" fmla="val -22077"/>
              <a:gd name="adj2" fmla="val 49969"/>
              <a:gd name="adj3" fmla="val -22077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58" name="Скругленная прямоугольная выноска 76"/>
          <p:cNvSpPr/>
          <p:nvPr/>
        </p:nvSpPr>
        <p:spPr>
          <a:xfrm>
            <a:off x="6956280" y="1365120"/>
            <a:ext cx="1338480" cy="58284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Бухта  «ДЕЛЬФІ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 rot="571200">
            <a:off x="5362200" y="3578040"/>
            <a:ext cx="1755720" cy="857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Обережно, мілина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Скругленная соединительная линия 16"/>
          <p:cNvCxnSpPr/>
          <p:nvPr/>
        </p:nvCxnSpPr>
        <p:spPr>
          <a:xfrm rot="5400000">
            <a:off x="6744960" y="3225600"/>
            <a:ext cx="1486440" cy="93744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261" name="Скругленная соединительная линия 18"/>
          <p:cNvCxnSpPr/>
          <p:nvPr/>
        </p:nvCxnSpPr>
        <p:spPr>
          <a:xfrm>
            <a:off x="7020000" y="4575240"/>
            <a:ext cx="937440" cy="870480"/>
          </a:xfrm>
          <a:prstGeom prst="curvedConnector5">
            <a:avLst>
              <a:gd name="adj1" fmla="val 16442"/>
              <a:gd name="adj2" fmla="val 49979"/>
              <a:gd name="adj3" fmla="val 16442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262" name="Скругленная прямоугольная выноска 23"/>
          <p:cNvSpPr/>
          <p:nvPr/>
        </p:nvSpPr>
        <p:spPr>
          <a:xfrm>
            <a:off x="7618320" y="4262400"/>
            <a:ext cx="1354320" cy="777960"/>
          </a:xfrm>
          <a:prstGeom prst="wedgeRoundRectCallout">
            <a:avLst>
              <a:gd name="adj1" fmla="val 7874"/>
              <a:gd name="adj2" fmla="val 10444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«РЕБУСІ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1" descr=""/>
          <p:cNvPicPr/>
          <p:nvPr/>
        </p:nvPicPr>
        <p:blipFill>
          <a:blip r:embed="rId2"/>
          <a:stretch/>
        </p:blipFill>
        <p:spPr>
          <a:xfrm>
            <a:off x="444600" y="1047600"/>
            <a:ext cx="8254800" cy="26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D:\ІНФОРМАТИКА\ігри\РЕБУСИ\45454545\61.png"/>
          <p:cNvPicPr/>
          <p:nvPr/>
        </p:nvPicPr>
        <p:blipFill>
          <a:blip r:embed="rId2"/>
          <a:stretch/>
        </p:blipFill>
        <p:spPr>
          <a:xfrm>
            <a:off x="285840" y="357120"/>
            <a:ext cx="6072120" cy="2428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ІНФОРМАТИКА\ігри\РЕБУСИ\45454545\62.png"/>
          <p:cNvPicPr/>
          <p:nvPr/>
        </p:nvPicPr>
        <p:blipFill>
          <a:blip r:embed="rId3"/>
          <a:stretch/>
        </p:blipFill>
        <p:spPr>
          <a:xfrm>
            <a:off x="2571840" y="2857680"/>
            <a:ext cx="6323040" cy="2528640"/>
          </a:xfrm>
          <a:prstGeom prst="rect">
            <a:avLst/>
          </a:prstGeom>
          <a:ln w="0">
            <a:noFill/>
          </a:ln>
        </p:spPr>
      </p:pic>
      <p:grpSp>
        <p:nvGrpSpPr>
          <p:cNvPr id="268" name="TextBox 5"/>
          <p:cNvGrpSpPr/>
          <p:nvPr/>
        </p:nvGrpSpPr>
        <p:grpSpPr>
          <a:xfrm>
            <a:off x="633240" y="4359240"/>
            <a:ext cx="1927440" cy="925560"/>
            <a:chOff x="633240" y="4359240"/>
            <a:chExt cx="1927440" cy="925560"/>
          </a:xfrm>
        </p:grpSpPr>
        <p:pic>
          <p:nvPicPr>
            <p:cNvPr id="269" name="TextBox 5" descr=""/>
            <p:cNvPicPr/>
            <p:nvPr/>
          </p:nvPicPr>
          <p:blipFill>
            <a:blip r:embed="rId4"/>
            <a:stretch/>
          </p:blipFill>
          <p:spPr>
            <a:xfrm>
              <a:off x="633240" y="4359240"/>
              <a:ext cx="192744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785880" y="4429080"/>
              <a:ext cx="16430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монит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TextBox 6"/>
          <p:cNvGrpSpPr/>
          <p:nvPr/>
        </p:nvGrpSpPr>
        <p:grpSpPr>
          <a:xfrm>
            <a:off x="6345360" y="1285920"/>
            <a:ext cx="2427120" cy="768240"/>
            <a:chOff x="6345360" y="1285920"/>
            <a:chExt cx="2427120" cy="768240"/>
          </a:xfrm>
        </p:grpSpPr>
        <p:pic>
          <p:nvPicPr>
            <p:cNvPr id="272" name="TextBox 6" descr=""/>
            <p:cNvPicPr/>
            <p:nvPr/>
          </p:nvPicPr>
          <p:blipFill>
            <a:blip r:embed="rId5"/>
            <a:stretch/>
          </p:blipFill>
          <p:spPr>
            <a:xfrm>
              <a:off x="6345360" y="1285920"/>
              <a:ext cx="24271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500880" y="1357200"/>
              <a:ext cx="221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омпьютер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D:\ІНФОРМАТИКА\ігри\РЕБУСИ\45454545\64.png"/>
          <p:cNvPicPr/>
          <p:nvPr/>
        </p:nvPicPr>
        <p:blipFill>
          <a:blip r:embed="rId2"/>
          <a:stretch/>
        </p:blipFill>
        <p:spPr>
          <a:xfrm>
            <a:off x="357120" y="500040"/>
            <a:ext cx="5965920" cy="2386080"/>
          </a:xfrm>
          <a:prstGeom prst="rect">
            <a:avLst/>
          </a:prstGeom>
          <a:ln w="0">
            <a:noFill/>
          </a:ln>
        </p:spPr>
      </p:pic>
      <p:grpSp>
        <p:nvGrpSpPr>
          <p:cNvPr id="276" name="TextBox 2"/>
          <p:cNvGrpSpPr/>
          <p:nvPr/>
        </p:nvGrpSpPr>
        <p:grpSpPr>
          <a:xfrm>
            <a:off x="6419880" y="1573200"/>
            <a:ext cx="2193840" cy="768240"/>
            <a:chOff x="6419880" y="1573200"/>
            <a:chExt cx="2193840" cy="768240"/>
          </a:xfrm>
        </p:grpSpPr>
        <p:pic>
          <p:nvPicPr>
            <p:cNvPr id="277" name="TextBox 2" descr=""/>
            <p:cNvPicPr/>
            <p:nvPr/>
          </p:nvPicPr>
          <p:blipFill>
            <a:blip r:embed="rId3"/>
            <a:stretch/>
          </p:blipFill>
          <p:spPr>
            <a:xfrm>
              <a:off x="6419880" y="1573200"/>
              <a:ext cx="21938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572160" y="1643040"/>
              <a:ext cx="1928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процесс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3" descr="D:\ІНФОРМАТИКА\ігри\РЕБУСИ\45454545\66.png"/>
          <p:cNvPicPr/>
          <p:nvPr/>
        </p:nvPicPr>
        <p:blipFill>
          <a:blip r:embed="rId4"/>
          <a:stretch/>
        </p:blipFill>
        <p:spPr>
          <a:xfrm>
            <a:off x="3071880" y="3000240"/>
            <a:ext cx="5834160" cy="2333880"/>
          </a:xfrm>
          <a:prstGeom prst="rect">
            <a:avLst/>
          </a:prstGeom>
          <a:ln w="0">
            <a:noFill/>
          </a:ln>
        </p:spPr>
      </p:pic>
      <p:grpSp>
        <p:nvGrpSpPr>
          <p:cNvPr id="280" name="TextBox 4"/>
          <p:cNvGrpSpPr/>
          <p:nvPr/>
        </p:nvGrpSpPr>
        <p:grpSpPr>
          <a:xfrm>
            <a:off x="847800" y="4286160"/>
            <a:ext cx="1706400" cy="766800"/>
            <a:chOff x="847800" y="4286160"/>
            <a:chExt cx="1706400" cy="766800"/>
          </a:xfrm>
        </p:grpSpPr>
        <p:pic>
          <p:nvPicPr>
            <p:cNvPr id="281" name="TextBox 4" descr=""/>
            <p:cNvPicPr/>
            <p:nvPr/>
          </p:nvPicPr>
          <p:blipFill>
            <a:blip r:embed="rId5"/>
            <a:stretch/>
          </p:blipFill>
          <p:spPr>
            <a:xfrm>
              <a:off x="847800" y="4286160"/>
              <a:ext cx="17064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000080" y="4357800"/>
              <a:ext cx="150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урсо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D:\ІНФОРМАТИКА\ігри\РЕБУСИ\45454545\67.png"/>
          <p:cNvPicPr/>
          <p:nvPr/>
        </p:nvPicPr>
        <p:blipFill>
          <a:blip r:embed="rId2"/>
          <a:stretch/>
        </p:blipFill>
        <p:spPr>
          <a:xfrm>
            <a:off x="357120" y="428760"/>
            <a:ext cx="5715000" cy="2286000"/>
          </a:xfrm>
          <a:prstGeom prst="rect">
            <a:avLst/>
          </a:prstGeom>
          <a:ln w="0">
            <a:noFill/>
          </a:ln>
        </p:spPr>
      </p:pic>
      <p:grpSp>
        <p:nvGrpSpPr>
          <p:cNvPr id="285" name="TextBox 2"/>
          <p:cNvGrpSpPr/>
          <p:nvPr/>
        </p:nvGrpSpPr>
        <p:grpSpPr>
          <a:xfrm>
            <a:off x="6450120" y="1639800"/>
            <a:ext cx="2309760" cy="930600"/>
            <a:chOff x="6450120" y="1639800"/>
            <a:chExt cx="2309760" cy="930600"/>
          </a:xfrm>
        </p:grpSpPr>
        <p:pic>
          <p:nvPicPr>
            <p:cNvPr id="286" name="TextBox 2" descr=""/>
            <p:cNvPicPr/>
            <p:nvPr/>
          </p:nvPicPr>
          <p:blipFill>
            <a:blip r:embed="rId3"/>
            <a:stretch/>
          </p:blipFill>
          <p:spPr>
            <a:xfrm>
              <a:off x="6450120" y="1639800"/>
              <a:ext cx="23097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572160" y="1714680"/>
              <a:ext cx="207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клавиатур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1" descr=""/>
          <p:cNvPicPr/>
          <p:nvPr/>
        </p:nvPicPr>
        <p:blipFill>
          <a:blip r:embed="rId4"/>
          <a:srcRect l="6740" t="0" r="0" b="0"/>
          <a:stretch/>
        </p:blipFill>
        <p:spPr>
          <a:xfrm>
            <a:off x="3571920" y="2928960"/>
            <a:ext cx="4857840" cy="2206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89" name="TextBox 5"/>
          <p:cNvGrpSpPr/>
          <p:nvPr/>
        </p:nvGrpSpPr>
        <p:grpSpPr>
          <a:xfrm>
            <a:off x="1017720" y="3925800"/>
            <a:ext cx="1749240" cy="774720"/>
            <a:chOff x="1017720" y="3925800"/>
            <a:chExt cx="1749240" cy="774720"/>
          </a:xfrm>
        </p:grpSpPr>
        <p:pic>
          <p:nvPicPr>
            <p:cNvPr id="290" name="TextBox 5" descr=""/>
            <p:cNvPicPr/>
            <p:nvPr/>
          </p:nvPicPr>
          <p:blipFill>
            <a:blip r:embed="rId5"/>
            <a:stretch/>
          </p:blipFill>
          <p:spPr>
            <a:xfrm>
              <a:off x="1017720" y="3925800"/>
              <a:ext cx="1749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071720" y="4000680"/>
              <a:ext cx="1643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500" spc="-1" strike="noStrike">
                  <a:solidFill>
                    <a:srgbClr val="ffff00"/>
                  </a:solidFill>
                  <a:latin typeface="Palatino Linotype"/>
                </a:rPr>
                <a:t>серве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5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-9360" y="0"/>
            <a:ext cx="913896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Rectangle 1" descr=""/>
          <p:cNvPicPr/>
          <p:nvPr/>
        </p:nvPicPr>
        <p:blipFill>
          <a:blip r:embed="rId2"/>
          <a:stretch/>
        </p:blipFill>
        <p:spPr>
          <a:xfrm>
            <a:off x="1987560" y="573120"/>
            <a:ext cx="5145120" cy="3876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http://s3.rimg.info/e4cd3396caac137289caa230627b553a.gif"/>
          <p:cNvPicPr/>
          <p:nvPr/>
        </p:nvPicPr>
        <p:blipFill>
          <a:blip r:embed="rId3"/>
          <a:stretch/>
        </p:blipFill>
        <p:spPr>
          <a:xfrm>
            <a:off x="5651640" y="4437000"/>
            <a:ext cx="2714400" cy="169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2"/>
          <a:stretch/>
        </p:blipFill>
        <p:spPr>
          <a:xfrm>
            <a:off x="1560600" y="2182680"/>
            <a:ext cx="6035760" cy="1760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50" name="Таблица 6" descr=""/>
          <p:cNvPicPr/>
          <p:nvPr/>
        </p:nvPicPr>
        <p:blipFill>
          <a:blip r:embed="rId2"/>
          <a:stretch/>
        </p:blipFill>
        <p:spPr>
          <a:xfrm>
            <a:off x="1139760" y="1316160"/>
            <a:ext cx="6346800" cy="1506240"/>
          </a:xfrm>
          <a:prstGeom prst="rect">
            <a:avLst/>
          </a:prstGeom>
          <a:ln w="0">
            <a:noFill/>
          </a:ln>
        </p:spPr>
      </p:pic>
      <p:grpSp>
        <p:nvGrpSpPr>
          <p:cNvPr id="51" name="Управляющая кнопка: настраиваемая 10"/>
          <p:cNvGrpSpPr/>
          <p:nvPr/>
        </p:nvGrpSpPr>
        <p:grpSpPr>
          <a:xfrm>
            <a:off x="1103400" y="1311120"/>
            <a:ext cx="6394320" cy="1468440"/>
            <a:chOff x="1103400" y="1311120"/>
            <a:chExt cx="6394320" cy="1468440"/>
          </a:xfrm>
        </p:grpSpPr>
        <p:pic>
          <p:nvPicPr>
            <p:cNvPr id="52" name="Управляющая кнопка: настраиваемая 10" descr=""/>
            <p:cNvPicPr/>
            <p:nvPr/>
          </p:nvPicPr>
          <p:blipFill>
            <a:blip r:embed="rId3"/>
            <a:stretch/>
          </p:blipFill>
          <p:spPr>
            <a:xfrm>
              <a:off x="1103400" y="1311120"/>
              <a:ext cx="63943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158840" y="1341360"/>
              <a:ext cx="62866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Рисунок 8" descr="http://svit-pk.cpto1.vn.ua/datas/users/2-klava.jpg"/>
          <p:cNvPicPr/>
          <p:nvPr/>
        </p:nvPicPr>
        <p:blipFill>
          <a:blip r:embed="rId4"/>
          <a:srcRect l="0" t="0" r="25" b="81"/>
          <a:stretch/>
        </p:blipFill>
        <p:spPr>
          <a:xfrm>
            <a:off x="520560" y="3789360"/>
            <a:ext cx="8298000" cy="267012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" descr=""/>
          <p:cNvPicPr/>
          <p:nvPr/>
        </p:nvPicPr>
        <p:blipFill>
          <a:blip r:embed="rId5"/>
          <a:stretch/>
        </p:blipFill>
        <p:spPr>
          <a:xfrm>
            <a:off x="36360" y="36360"/>
            <a:ext cx="7894800" cy="11224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2" descr=""/>
          <p:cNvPicPr/>
          <p:nvPr/>
        </p:nvPicPr>
        <p:blipFill>
          <a:blip r:embed="rId6"/>
          <a:stretch/>
        </p:blipFill>
        <p:spPr>
          <a:xfrm>
            <a:off x="158760" y="3133800"/>
            <a:ext cx="525456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8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9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1" descr=""/>
          <p:cNvPicPr/>
          <p:nvPr/>
        </p:nvPicPr>
        <p:blipFill>
          <a:blip r:embed="rId2"/>
          <a:stretch/>
        </p:blipFill>
        <p:spPr>
          <a:xfrm>
            <a:off x="444600" y="1560600"/>
            <a:ext cx="82548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://5dreal.com/wp-content/uploads/2011/09/bora_bor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64" name="Скругленная соединительная линия 4"/>
          <p:cNvCxnSpPr/>
          <p:nvPr/>
        </p:nvCxnSpPr>
        <p:spPr>
          <a:xfrm rot="10800000">
            <a:off x="5939640" y="5660280"/>
            <a:ext cx="133740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65" name="AutoShape 17"/>
          <p:cNvSpPr/>
          <p:nvPr/>
        </p:nvSpPr>
        <p:spPr>
          <a:xfrm>
            <a:off x="6156360" y="6170760"/>
            <a:ext cx="2239920" cy="506160"/>
          </a:xfrm>
          <a:custGeom>
            <a:avLst/>
            <a:gdLst>
              <a:gd name="textAreaLeft" fmla="*/ 559800 w 2239920"/>
              <a:gd name="textAreaRight" fmla="*/ 1680120 w 2239920"/>
              <a:gd name="textAreaTop" fmla="*/ 0 h 506160"/>
              <a:gd name="textAreaBottom" fmla="*/ 337680 h 506160"/>
            </a:gdLst>
            <a:ahLst/>
            <a:rect l="textAreaLeft" t="textAreaTop" r="textAreaRight" b="textAreaBottom"/>
            <a:pathLst>
              <a:path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2070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5400" y="7200"/>
                </a:lnTo>
                <a:lnTo>
                  <a:pt x="5400" y="1800"/>
                </a:lnTo>
                <a:cubicBezTo>
                  <a:pt x="5400" y="90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900"/>
                  <a:pt x="16200" y="1800"/>
                </a:cubicBezTo>
                <a:lnTo>
                  <a:pt x="162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0700"/>
                  <a:pt x="13500" y="19800"/>
                </a:cubicBezTo>
                <a:lnTo>
                  <a:pt x="13500" y="14400"/>
                </a:lnTo>
                <a:close/>
              </a:path>
              <a:path fill="darkenLess" w="21600" h="21600">
                <a:moveTo>
                  <a:pt x="8100" y="14400"/>
                </a:moveTo>
                <a:lnTo>
                  <a:pt x="8100" y="19800"/>
                </a:lnTo>
                <a:cubicBezTo>
                  <a:pt x="8100" y="18900"/>
                  <a:pt x="7680" y="18000"/>
                  <a:pt x="7260" y="18000"/>
                </a:cubicBezTo>
                <a:lnTo>
                  <a:pt x="6240" y="18000"/>
                </a:lnTo>
                <a:cubicBezTo>
                  <a:pt x="5820" y="18000"/>
                  <a:pt x="5400" y="17100"/>
                  <a:pt x="5400" y="16200"/>
                </a:cubicBezTo>
                <a:cubicBezTo>
                  <a:pt x="5400" y="15300"/>
                  <a:pt x="5820" y="14400"/>
                  <a:pt x="6240" y="14400"/>
                </a:cubicBezTo>
                <a:close/>
              </a:path>
              <a:path fill="darkenLess" w="21600" h="21600">
                <a:moveTo>
                  <a:pt x="13500" y="14400"/>
                </a:moveTo>
                <a:lnTo>
                  <a:pt x="13500" y="19800"/>
                </a:lnTo>
                <a:cubicBezTo>
                  <a:pt x="13500" y="18900"/>
                  <a:pt x="13920" y="18000"/>
                  <a:pt x="14340" y="18000"/>
                </a:cubicBezTo>
                <a:lnTo>
                  <a:pt x="15360" y="18000"/>
                </a:lnTo>
                <a:cubicBezTo>
                  <a:pt x="15780" y="18000"/>
                  <a:pt x="16200" y="17100"/>
                  <a:pt x="16200" y="16200"/>
                </a:cubicBezTo>
                <a:cubicBezTo>
                  <a:pt x="16200" y="15300"/>
                  <a:pt x="15780" y="14400"/>
                  <a:pt x="15360" y="14400"/>
                </a:cubicBezTo>
                <a:close/>
              </a:path>
              <a:path fill="darkenLess" w="21600" h="21600">
                <a:moveTo>
                  <a:pt x="5400" y="16200"/>
                </a:moveTo>
                <a:lnTo>
                  <a:pt x="5400" y="7200"/>
                </a:lnTo>
              </a:path>
              <a:path fill="darkenLess" w="21600" h="21600">
                <a:moveTo>
                  <a:pt x="16200" y="16200"/>
                </a:moveTo>
                <a:lnTo>
                  <a:pt x="16200" y="72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ая прямоугольная выноска 5"/>
          <p:cNvSpPr/>
          <p:nvPr/>
        </p:nvSpPr>
        <p:spPr>
          <a:xfrm>
            <a:off x="3635280" y="5383080"/>
            <a:ext cx="1339920" cy="787680"/>
          </a:xfrm>
          <a:prstGeom prst="wedgeRoundRectCallout">
            <a:avLst>
              <a:gd name="adj1" fmla="val 103606"/>
              <a:gd name="adj2" fmla="val 33953"/>
              <a:gd name="adj3" fmla="val 16667"/>
            </a:avLst>
          </a:prstGeom>
          <a:solidFill>
            <a:srgbClr val="ff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 «ЗАПИТА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Скругленная соединительная линия 6"/>
          <p:cNvCxnSpPr/>
          <p:nvPr/>
        </p:nvCxnSpPr>
        <p:spPr>
          <a:xfrm rot="10800000">
            <a:off x="3231360" y="4436280"/>
            <a:ext cx="2493000" cy="1008720"/>
          </a:xfrm>
          <a:prstGeom prst="curvedConnector5">
            <a:avLst>
              <a:gd name="adj1" fmla="val 45609"/>
              <a:gd name="adj2" fmla="val 49982"/>
              <a:gd name="adj3" fmla="val 45609"/>
            </a:avLst>
          </a:prstGeom>
          <a:ln w="8244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68" name="Скругленная прямоугольная выноска 7"/>
          <p:cNvSpPr/>
          <p:nvPr/>
        </p:nvSpPr>
        <p:spPr>
          <a:xfrm>
            <a:off x="3220920" y="3284640"/>
            <a:ext cx="1338480" cy="582480"/>
          </a:xfrm>
          <a:prstGeom prst="wedgeRoundRectCallout">
            <a:avLst>
              <a:gd name="adj1" fmla="val -63916"/>
              <a:gd name="adj2" fmla="val 127203"/>
              <a:gd name="adj3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Острів  «ДИСКОВ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img01.chitalnya.ru/upload/240/1438807789236.jpg"/>
          <p:cNvPicPr/>
          <p:nvPr/>
        </p:nvPicPr>
        <p:blipFill>
          <a:blip r:embed="rId1"/>
          <a:srcRect l="0" t="0" r="0" b="143"/>
          <a:stretch/>
        </p:blipFill>
        <p:spPr>
          <a:xfrm>
            <a:off x="0" y="-27000"/>
            <a:ext cx="9144000" cy="690408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1" descr=""/>
          <p:cNvPicPr/>
          <p:nvPr/>
        </p:nvPicPr>
        <p:blipFill>
          <a:blip r:embed="rId2"/>
          <a:stretch/>
        </p:blipFill>
        <p:spPr>
          <a:xfrm>
            <a:off x="1566720" y="1560600"/>
            <a:ext cx="601056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01:15Z</dcterms:created>
  <dc:creator>COMPUTER</dc:creator>
  <dc:description/>
  <dc:language>en-US</dc:language>
  <cp:lastModifiedBy>School 9</cp:lastModifiedBy>
  <dcterms:modified xsi:type="dcterms:W3CDTF">2012-12-06T10:14:29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26000000000001024140</vt:lpwstr>
  </property>
</Properties>
</file>