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673-1117-4B6D-9279-C9846D42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77D-B17F-418E-BB53-5E389CF7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696-32A7-4AA6-A710-2A815350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8DC-0AE8-4D84-9506-8C3173D3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D9D9-C817-468F-AF16-F280CBF3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37F0-33E6-4D64-BB63-BA6FDBC0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522B-4BAD-4A87-982C-2E9395BC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DDC1-7906-48F4-BF07-B0A75D04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DB6D-ED7A-413A-B6CD-3A52E79F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43AD-8D6C-4D33-8E8A-2C61E2D6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411C-4A0F-4EEC-B621-C0BEB85C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F32-F006-4A38-9320-D88A40C3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3CAC-6474-4945-8AFD-498D1B9D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2883-4397-4084-A840-FC017DE5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EEDE-BE49-4630-954D-4276565F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379F-4A32-43FA-B605-FA6FAE13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7806-D36D-4203-A09F-E4120CF3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BC4DE-7171-420B-91DB-1C242560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3B882-82A0-4A03-A87F-282A4B1F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2501A-B093-420F-AB58-1BB3440D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04CE7-F189-4167-AF5B-60FE3F3F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7BFE2-BC45-49AD-A0AB-DF146CA0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FE06-19BA-43D3-B31B-6787DB83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C7C3E-611C-4D1E-8A3E-22CE9F9E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CAB8A-D259-441A-9BEA-9200BB34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71EA7-2848-49CF-AE2B-7023073B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2DA15-4060-4DC5-AA5E-23D5EA36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16483-41F2-44EA-ABE8-53D97A83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04D61-3993-4402-A1A3-7D9702AB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13C51-235B-4274-99EB-F5E981F7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CCEA8-5F9D-45DA-806D-43CDB58E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D2FB2-2ACF-4F86-8E4F-D02D558C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9B408-2AEA-4B01-AF87-C0152A27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8FE-F3F8-48BB-AF55-D974BA24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1C1AA-D019-4537-BA91-8A7C1A72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2D8D5-03FE-4EE4-8027-9D2A80E7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B4544-FB66-4659-8987-45332F63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C8541-723A-4C00-97CC-7BF136F4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002B2-02FC-4007-9E00-76380749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ABA1F-B88D-4AB4-BAC0-BAF71714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5B0AF-3FEC-4BC7-9B51-253D7A22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C62A3-8332-4D38-A6C2-218B743D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821A6-6E4C-44E7-A32F-CF886889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47359-EE95-4E43-8794-DD87F5DF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7CE-51C9-4A75-B0B3-20D8DCEE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B6EDB-4C58-4E57-B06A-B26C3247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3EF3D-BBD7-4FB2-B613-A4F22570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697F7-464F-4584-969D-E30FDE80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C166F-805A-4287-883C-D30245C7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17BA3-8B35-42A4-A8A8-0075CDBA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03495-3C58-4A46-B827-A211A0FE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7434F-85C9-46A6-B4E7-64AAA3DD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9AC87-CAB0-4643-AF8F-8F7035B3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08F4D-1ED5-4907-B566-7E31C515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2FEFF-C3FF-4F50-BC70-16F12FDA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CE5-1E6F-4BB9-9FD7-C0D483BD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87154-A5CA-490C-9489-C7A0A5AF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1FAEF-F26D-45F6-BD42-DF8788A2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BCF67-AC24-4666-A807-F2E415EA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91B17-76B0-4C42-9F01-EAF1ACCC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BDA62-39B4-4326-868C-3B2CD1D3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A8EFF-4DAB-4640-BCA3-E3856722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06EED-94AB-4687-8E27-B576A30F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5EF7D-B053-4315-B139-C60B6A50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4B535-98D5-4714-AEC6-1271A7CB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C58DC-C42B-4638-8CD9-ECB5D3DE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121-2619-414C-9213-E59975F4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81A98-6CCF-44D0-91D3-E6A77859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CA007-8299-44B9-8AA6-44A8C8CB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C9FD0-2641-4CDA-B54A-408429D8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9A007-89BB-4DB9-AA07-CD318025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20D73-A11E-4DB5-BE97-D392A6A3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A0CFB-6338-48E6-9C84-DD83B85B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DCC45-449C-4268-91B4-5DC36DB4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8F635-E380-413B-8968-AFE8D295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DF87A-6108-48B8-AE0E-46F38223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8880F-7190-40A8-A4FF-E35436C1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EBB4-11A5-4CB0-B502-70337EBF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69CD8-F7E3-4659-A9D7-DC0E8F9D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B55B4-70A4-4A30-BB67-18ADB58F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CA715-763D-4F47-BB46-6C84C7F6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3B792-E1E5-4C05-9D05-91449724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5E2F4-E479-4486-BF99-28AA5739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5DB-6774-44BB-94EE-9F8A8215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7F39-8905-4C45-85D6-348C3C0F5444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BCB1-D1A5-4873-80DA-16E90C109602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C46E-5705-4945-B739-16B7D4F4DD31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5BED-57CB-4304-B666-185A91C5F052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8A7B-4E8B-48B8-AAD3-7C733B08EC6F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1413-0576-44A7-B8BD-89914FB9C0EE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F625-057B-43DD-8B59-F51686A62850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28560" y="92880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572314"/>
                </a:solidFill>
                <a:latin typeface="Arial"/>
                <a:ea typeface="Arial"/>
              </a:rPr>
              <a:t>11.02.2013</a:t>
            </a:r>
            <a:br>
              <a:rPr sz="2000"/>
            </a:br>
            <a:r>
              <a:rPr b="0" lang="uk-UA" sz="2000" spc="-1" strike="noStrike">
                <a:solidFill>
                  <a:srgbClr val="572314"/>
                </a:solidFill>
                <a:latin typeface="Arial"/>
                <a:ea typeface="Arial"/>
              </a:rPr>
              <a:t>9 клас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785880" y="3071880"/>
            <a:ext cx="8215200" cy="1371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Тема: Пошук інформації в Інтернеті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56840" y="3567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572314"/>
                </a:solidFill>
                <a:latin typeface="Arial"/>
              </a:rPr>
              <a:t>Найпопулярніші пошукові системи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rcRect l="0" t="0" r="15" b="0"/>
          <a:stretch/>
        </p:blipFill>
        <p:spPr>
          <a:xfrm>
            <a:off x="108000" y="1700280"/>
            <a:ext cx="4464000" cy="210168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108000" y="4221000"/>
            <a:ext cx="4168800" cy="2087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361" name="Picture 7" descr=""/>
          <p:cNvPicPr/>
          <p:nvPr/>
        </p:nvPicPr>
        <p:blipFill>
          <a:blip r:embed="rId3"/>
          <a:srcRect l="0" t="0" r="-38" b="0"/>
          <a:stretch/>
        </p:blipFill>
        <p:spPr>
          <a:xfrm>
            <a:off x="4643280" y="4221000"/>
            <a:ext cx="4392720" cy="2087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362" name="Picture 6" descr=""/>
          <p:cNvPicPr/>
          <p:nvPr/>
        </p:nvPicPr>
        <p:blipFill>
          <a:blip r:embed="rId4"/>
          <a:stretch/>
        </p:blipFill>
        <p:spPr>
          <a:xfrm>
            <a:off x="4743360" y="1706400"/>
            <a:ext cx="4292640" cy="23702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572314"/>
                </a:solidFill>
                <a:latin typeface="Arial"/>
              </a:rPr>
              <a:t>Формулювання запиту та одержання результатів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4" name="Picture 6" descr=""/>
          <p:cNvPicPr/>
          <p:nvPr/>
        </p:nvPicPr>
        <p:blipFill>
          <a:blip r:embed="rId1"/>
          <a:stretch/>
        </p:blipFill>
        <p:spPr>
          <a:xfrm>
            <a:off x="3924360" y="1773360"/>
            <a:ext cx="4608360" cy="238104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e7dec9">
                <a:alpha val="50000"/>
              </a:srgbClr>
            </a:outerShdw>
          </a:effectLst>
        </p:spPr>
      </p:pic>
      <p:sp>
        <p:nvSpPr>
          <p:cNvPr id="365" name="Text Box 7"/>
          <p:cNvSpPr/>
          <p:nvPr/>
        </p:nvSpPr>
        <p:spPr>
          <a:xfrm>
            <a:off x="682560" y="2637000"/>
            <a:ext cx="252108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питом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в пошуковій системі є слово або група слів, які вводяться у поле введення запиту на веб-сторінці пошукової системи, і які використовуються пошуковою машиною для знаходження записів у її базі даних інтернет-документів, що містять ці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3995640" y="3198960"/>
            <a:ext cx="3745080" cy="29988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9"/>
          <p:cNvSpPr/>
          <p:nvPr/>
        </p:nvSpPr>
        <p:spPr>
          <a:xfrm>
            <a:off x="3348000" y="4653000"/>
            <a:ext cx="2448000" cy="504720"/>
          </a:xfrm>
          <a:prstGeom prst="wedgeRectCallout">
            <a:avLst>
              <a:gd name="adj1" fmla="val -7393"/>
              <a:gd name="adj2" fmla="val -296226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кст запи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8"/>
          <p:cNvSpPr/>
          <p:nvPr/>
        </p:nvSpPr>
        <p:spPr>
          <a:xfrm>
            <a:off x="6300720" y="4508640"/>
            <a:ext cx="2448000" cy="647640"/>
          </a:xfrm>
          <a:prstGeom prst="wedgeRectCallout">
            <a:avLst>
              <a:gd name="adj1" fmla="val -16083"/>
              <a:gd name="adj2" fmla="val -20637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ле введення запи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572314"/>
                </a:solidFill>
                <a:latin typeface="Arial"/>
              </a:rPr>
              <a:t>Результати пошук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rcRect l="0" t="0" r="0" b="-32"/>
          <a:stretch/>
        </p:blipFill>
        <p:spPr>
          <a:xfrm>
            <a:off x="250920" y="1341360"/>
            <a:ext cx="5619600" cy="338292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e7dec9">
                <a:alpha val="50000"/>
              </a:srgbClr>
            </a:outerShdw>
          </a:effectLst>
        </p:spPr>
      </p:pic>
      <p:pic>
        <p:nvPicPr>
          <p:cNvPr id="371" name="Picture 6" descr=""/>
          <p:cNvPicPr/>
          <p:nvPr/>
        </p:nvPicPr>
        <p:blipFill>
          <a:blip r:embed="rId2"/>
          <a:stretch/>
        </p:blipFill>
        <p:spPr>
          <a:xfrm>
            <a:off x="324000" y="4941720"/>
            <a:ext cx="5572080" cy="165744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e7dec9">
                <a:alpha val="50000"/>
              </a:srgbClr>
            </a:outerShdw>
          </a:effectLst>
        </p:spPr>
      </p:pic>
      <p:sp>
        <p:nvSpPr>
          <p:cNvPr id="372" name="Text Box 7"/>
          <p:cNvSpPr/>
          <p:nvPr/>
        </p:nvSpPr>
        <p:spPr>
          <a:xfrm>
            <a:off x="6084720" y="1477800"/>
            <a:ext cx="273708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писів бази даних пошукової машини, які містять вказані у полі введення запиту слова, може бути дуже бага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6084720" y="3043080"/>
            <a:ext cx="2737080" cy="14655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нашому прикладі нараховується 4420 документів, які містять слова “перший”, “космічний”,  “зонд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6084720" y="4645080"/>
            <a:ext cx="2737080" cy="20142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обхідно або переглядати їх всі по-черзі, поки не знайдете потрібну інформацію, або звузити область пошуку, змінивши або уточнивши зап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"/>
          <p:cNvPicPr/>
          <p:nvPr/>
        </p:nvPicPr>
        <p:blipFill>
          <a:blip r:embed="rId1"/>
          <a:stretch/>
        </p:blipFill>
        <p:spPr>
          <a:xfrm>
            <a:off x="2484360" y="2421000"/>
            <a:ext cx="6516720" cy="427356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e7dec9">
                <a:alpha val="50000"/>
              </a:srgbClr>
            </a:outerShdw>
          </a:effectLst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43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572314"/>
                </a:solidFill>
                <a:latin typeface="Arial"/>
              </a:rPr>
              <a:t>Оптимізація запиту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250920" y="2565360"/>
            <a:ext cx="2089080" cy="30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Якщо пошукова машина знайшла вам велику кількість записів, а їх перегляд  потребує багато часу, то доцільно звузити кількість записів, уточнивши пошуковий запит за допомогою форми складного пошу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610320" cy="86688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e7dec9">
                <a:alpha val="50000"/>
              </a:srgbClr>
            </a:outerShdw>
          </a:effectLst>
        </p:spPr>
      </p:pic>
      <p:sp>
        <p:nvSpPr>
          <p:cNvPr id="379" name="Oval 7"/>
          <p:cNvSpPr/>
          <p:nvPr/>
        </p:nvSpPr>
        <p:spPr>
          <a:xfrm>
            <a:off x="5796000" y="1773360"/>
            <a:ext cx="863640" cy="431640"/>
          </a:xfrm>
          <a:prstGeom prst="ellipse">
            <a:avLst/>
          </a:prstGeom>
          <a:noFill/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8"/>
          <p:cNvSpPr/>
          <p:nvPr/>
        </p:nvSpPr>
        <p:spPr>
          <a:xfrm>
            <a:off x="6227640" y="2205000"/>
            <a:ext cx="73080" cy="4320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572314"/>
                </a:solidFill>
                <a:latin typeface="Arial"/>
              </a:rPr>
              <a:t>Переваги і недоліки пошукових систем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971640" y="1916280"/>
            <a:ext cx="6913440" cy="119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еревагою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ошукової системи є те, що вона, завдяки своєму алгоритму роботи, охоплює значно більший об'єм інтернет-документів, ніж веб-каталог. Знайдені записи вона виводить у відповідності до їх релевантнос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1042920" y="4941720"/>
            <a:ext cx="6480360" cy="9169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доліком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шукової системи є те, що зразок пошуку може бути присутнім і в інтернет-документах, які не містять шукану інформацію, хоча і містять слова із зра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3203640" y="3429000"/>
            <a:ext cx="5545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Релевантність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— це міра відповідності результатів пошуку поставленому завданню. Знайдені сторінки відображуються в порядку зменшення релевантнос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000000"/>
                </a:solidFill>
                <a:latin typeface="Arial"/>
              </a:rPr>
              <a:t>Виснов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187280" y="1628640"/>
            <a:ext cx="6913800" cy="40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•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еб-каталог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— це сайт, на якому зібрано багато посилань на інші сайти, відсортованих і поділених на категорії залежно від тема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•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шукова систем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являє собою систему програм, призначених для пошуку сторінок, що містять задане слово чи словосполучення або відповідають іншим критері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•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елевантність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— це міра відповідності результатів пошуку поставленому завданню. Знайдені сторінки відображуються в порядку зменшення релевантнос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•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кщо результат знову незадовільний, скористайтес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орінкою розширеного пошук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та сформулюйте складніший критері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1230840" y="1793520"/>
            <a:ext cx="73738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машнє завд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ацювати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раграф 16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шук у Всесвітній мережі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)     НТЗ №2 (створити власний електронний фотоальб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* Виберіть цікаву тему і збережіть 10 зображень для розділу з цієї т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1"/>
          <p:cNvSpPr/>
          <p:nvPr/>
        </p:nvSpPr>
        <p:spPr>
          <a:xfrm>
            <a:off x="1357200" y="28288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Do а barrel roll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при наборі сторінка перевертається. Після запиту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zerg rush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оріночка завмирає і на результати пошуку нападають маленькі букви 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Прямоугольник 3"/>
          <p:cNvSpPr/>
          <p:nvPr/>
        </p:nvSpPr>
        <p:spPr>
          <a:xfrm>
            <a:off x="714240" y="22860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Monotype Corsiva"/>
              </a:rPr>
              <a:t>Хто володіє інформацією – той володіє світ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28560" y="92880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785880" y="3071880"/>
            <a:ext cx="8215200" cy="1371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Тема: Пошук інформації в Інтернеті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1071720" y="2080440"/>
            <a:ext cx="664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  <a:ea typeface="Calibri"/>
              </a:rPr>
              <a:t>розглянути засоби, призначені для знаходже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  <a:ea typeface="Calibri"/>
              </a:rPr>
              <a:t>потрібної інформації в Інтернет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  <a:ea typeface="Calibri"/>
              </a:rPr>
              <a:t>розглянути пошукові системи мережі Інте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  <a:ea typeface="Calibri"/>
              </a:rPr>
              <a:t>розглянути правила пошуку інформ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572314"/>
                </a:solidFill>
                <a:latin typeface="Arial"/>
              </a:rPr>
              <a:t>Засоби пошуку інформації в Інтернеті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26" name="Organization Chart 6"/>
          <p:cNvGrpSpPr/>
          <p:nvPr/>
        </p:nvGrpSpPr>
        <p:grpSpPr>
          <a:xfrm>
            <a:off x="685800" y="2311560"/>
            <a:ext cx="7771320" cy="2232720"/>
            <a:chOff x="685800" y="2311560"/>
            <a:chExt cx="7771320" cy="2232720"/>
          </a:xfrm>
        </p:grpSpPr>
        <p:cxnSp>
          <p:nvCxnSpPr>
            <p:cNvPr id="327" name="_s1028"/>
            <p:cNvCxnSpPr>
              <a:stCxn id="328" idx="0"/>
              <a:endCxn id="329" idx="2"/>
            </p:cNvCxnSpPr>
            <p:nvPr/>
          </p:nvCxnSpPr>
          <p:spPr>
            <a:xfrm flipV="1" rot="16200000">
              <a:off x="5393520" y="2381040"/>
              <a:ext cx="447120" cy="2093400"/>
            </a:xfrm>
            <a:prstGeom prst="bentConnector3">
              <a:avLst>
                <a:gd name="adj1" fmla="val 160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0" name="_s1029"/>
            <p:cNvCxnSpPr>
              <a:stCxn id="331" idx="0"/>
              <a:endCxn id="329" idx="2"/>
            </p:cNvCxnSpPr>
            <p:nvPr/>
          </p:nvCxnSpPr>
          <p:spPr>
            <a:xfrm flipH="1" flipV="1" rot="5400000">
              <a:off x="3301200" y="2381760"/>
              <a:ext cx="447120" cy="2091960"/>
            </a:xfrm>
            <a:prstGeom prst="bentConnector3">
              <a:avLst>
                <a:gd name="adj1" fmla="val 160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29" name="_s1030"/>
            <p:cNvSpPr/>
            <p:nvPr/>
          </p:nvSpPr>
          <p:spPr>
            <a:xfrm>
              <a:off x="2777400" y="2311560"/>
              <a:ext cx="3586680" cy="89316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300" spc="-1" strike="noStrike">
                  <a:solidFill>
                    <a:srgbClr val="4f271c"/>
                  </a:solidFill>
                  <a:latin typeface="Arial"/>
                </a:rPr>
                <a:t>Засоби пошуку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300" spc="-1" strike="noStrike">
                  <a:solidFill>
                    <a:srgbClr val="4f271c"/>
                  </a:solidFill>
                  <a:latin typeface="Arial"/>
                </a:rPr>
                <a:t>інформації в Інтернеті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031"/>
            <p:cNvSpPr/>
            <p:nvPr/>
          </p:nvSpPr>
          <p:spPr>
            <a:xfrm>
              <a:off x="685800" y="3651120"/>
              <a:ext cx="3586680" cy="89316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300" spc="-1" strike="noStrike">
                  <a:solidFill>
                    <a:srgbClr val="000000"/>
                  </a:solidFill>
                  <a:latin typeface="Arial"/>
                </a:rPr>
                <a:t>Веб-каталог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_s1032"/>
            <p:cNvSpPr/>
            <p:nvPr/>
          </p:nvSpPr>
          <p:spPr>
            <a:xfrm>
              <a:off x="4870440" y="3651120"/>
              <a:ext cx="3586680" cy="89316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Пошукові систем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572314"/>
                </a:solidFill>
                <a:latin typeface="Arial"/>
              </a:rPr>
              <a:t>Веб-каталог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971640" y="1844640"/>
            <a:ext cx="6913440" cy="9169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еб-каталог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— сайт, або частина сайту, на якому зібрано багато посилань на інші сайти, відсортовані і розділені на категорії згідно з тематико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3851280" y="3068640"/>
            <a:ext cx="424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каталогах сайти розподіляються за їх основною тематико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агатотематичні сайти можуть бути віднесені до різних 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4572000" y="479736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 правило, тема може містити ряд підтем. Таким чином формуються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єрархічн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(деревовидні) структури каталог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2298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572314"/>
                </a:solidFill>
                <a:latin typeface="Arial"/>
              </a:rPr>
              <a:t>Приклад веб-каталогу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1763640" y="1569960"/>
            <a:ext cx="6516720" cy="528804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4859280" y="189000"/>
            <a:ext cx="396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малюнку наведена веб-сторінка веб-каталогу “Мета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6"/>
          <p:cNvSpPr/>
          <p:nvPr/>
        </p:nvSpPr>
        <p:spPr>
          <a:xfrm>
            <a:off x="179280" y="1844640"/>
            <a:ext cx="1440000" cy="432000"/>
          </a:xfrm>
          <a:prstGeom prst="wedgeRectCallout">
            <a:avLst>
              <a:gd name="adj1" fmla="val 51652"/>
              <a:gd name="adj2" fmla="val 12058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убрик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1692360" y="2529000"/>
            <a:ext cx="1800000" cy="4068720"/>
          </a:xfrm>
          <a:prstGeom prst="rect">
            <a:avLst/>
          </a:prstGeom>
          <a:noFill/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8"/>
          <p:cNvSpPr/>
          <p:nvPr/>
        </p:nvSpPr>
        <p:spPr>
          <a:xfrm>
            <a:off x="179280" y="2781360"/>
            <a:ext cx="1440000" cy="1008000"/>
          </a:xfrm>
          <a:prstGeom prst="wedgeRectCallout">
            <a:avLst>
              <a:gd name="adj1" fmla="val 64662"/>
              <a:gd name="adj2" fmla="val -27796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ле із списком вибору 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108000" y="4437000"/>
            <a:ext cx="1439640" cy="647640"/>
          </a:xfrm>
          <a:prstGeom prst="wedgeRectCallout">
            <a:avLst>
              <a:gd name="adj1" fmla="val 72162"/>
              <a:gd name="adj2" fmla="val -3553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исок під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>
            <a:off x="108000" y="5445000"/>
            <a:ext cx="1439640" cy="432000"/>
          </a:xfrm>
          <a:prstGeom prst="wedgeRectCallout">
            <a:avLst>
              <a:gd name="adj1" fmla="val 64555"/>
              <a:gd name="adj2" fmla="val 514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бір мі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1"/>
          <p:cNvSpPr/>
          <p:nvPr/>
        </p:nvSpPr>
        <p:spPr>
          <a:xfrm>
            <a:off x="4284720" y="907920"/>
            <a:ext cx="4680000" cy="649440"/>
          </a:xfrm>
          <a:prstGeom prst="wedgeRectCallout">
            <a:avLst>
              <a:gd name="adj1" fmla="val -9361"/>
              <a:gd name="adj2" fmla="val 101342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ле введення запиту для системи пошуку у реєстрі катало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2"/>
          <p:cNvSpPr/>
          <p:nvPr/>
        </p:nvSpPr>
        <p:spPr>
          <a:xfrm>
            <a:off x="5867280" y="2276640"/>
            <a:ext cx="3024360" cy="647640"/>
          </a:xfrm>
          <a:prstGeom prst="wedgeRectCallout">
            <a:avLst>
              <a:gd name="adj1" fmla="val -32675"/>
              <a:gd name="adj2" fmla="val 119361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исок сайтів, які відповідають заданій те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572314"/>
                </a:solidFill>
                <a:latin typeface="Arial"/>
              </a:rPr>
              <a:t>Переваги і недоліки веб-каталогів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971640" y="1916280"/>
            <a:ext cx="6121440" cy="119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еревагою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веб-каталогів є те, що посилання на сайти в них впорядковані за темами, що дає можливість легко звузити область пошуку сайту, який може містити потрібну інформаці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979640" y="3716280"/>
            <a:ext cx="6840360" cy="25743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доліком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яких веб-каталогів є те, що вони дозволяють знайти сайт, який може містити потрібну інформацію, але не саму інформацію.  А це тільки половина задач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агато сучасних каталогів наділені і засобами пошуку інформації у вибраних сайтах, що виправляє цей недолі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ле навіть самі великі каталоги містять дуже обмежену базу посилань на сайти Інтернету, яка не перевищує й 1% від їх загальної кількос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572314"/>
                </a:solidFill>
                <a:latin typeface="Arial"/>
              </a:rPr>
              <a:t>Пошукові системи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3419640" y="189000"/>
            <a:ext cx="5473440" cy="13107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ошукова систем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(пошуковий сервер) – це система серверних програм призначених для пошуку інформації в інтернет-документах за заданим словом, словосполученням або іншим критерієм. Першу пошукову службу створив Метью Грей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4932360" y="1549440"/>
            <a:ext cx="388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клад пошукової систе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6" descr=""/>
          <p:cNvPicPr/>
          <p:nvPr/>
        </p:nvPicPr>
        <p:blipFill>
          <a:blip r:embed="rId1"/>
          <a:stretch/>
        </p:blipFill>
        <p:spPr>
          <a:xfrm>
            <a:off x="5437080" y="1989000"/>
            <a:ext cx="3706920" cy="4869000"/>
          </a:xfrm>
          <a:prstGeom prst="rect">
            <a:avLst/>
          </a:prstGeom>
          <a:ln w="0">
            <a:noFill/>
          </a:ln>
        </p:spPr>
      </p:pic>
      <p:sp>
        <p:nvSpPr>
          <p:cNvPr id="354" name="AutoShape 7"/>
          <p:cNvSpPr/>
          <p:nvPr/>
        </p:nvSpPr>
        <p:spPr>
          <a:xfrm>
            <a:off x="324000" y="1700280"/>
            <a:ext cx="4679640" cy="865080"/>
          </a:xfrm>
          <a:prstGeom prst="wedgeRectCallout">
            <a:avLst>
              <a:gd name="adj1" fmla="val 64143"/>
              <a:gd name="adj2" fmla="val 4394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БОТ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 переглядаючи за певним алгоритмом сайти Інтернету, збирає з них інформацію та передає її індексувальній програм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8"/>
          <p:cNvSpPr/>
          <p:nvPr/>
        </p:nvSpPr>
        <p:spPr>
          <a:xfrm>
            <a:off x="324000" y="2852640"/>
            <a:ext cx="4606920" cy="863640"/>
          </a:xfrm>
          <a:prstGeom prst="wedgeRectCallout">
            <a:avLst>
              <a:gd name="adj1" fmla="val 66124"/>
              <a:gd name="adj2" fmla="val 46509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ІНДЕКСУВАЛЬНА ПРОГРАМ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тримує від робота інформацію та заносить значущі слова  до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БАЗИ ДАНИХ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9"/>
          <p:cNvSpPr/>
          <p:nvPr/>
        </p:nvSpPr>
        <p:spPr>
          <a:xfrm>
            <a:off x="324000" y="3933720"/>
            <a:ext cx="4679640" cy="1584360"/>
          </a:xfrm>
          <a:prstGeom prst="wedgeRectCallout">
            <a:avLst>
              <a:gd name="adj1" fmla="val 64550"/>
              <a:gd name="adj2" fmla="val 1753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ОШУКОВА МАШИН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знаходить у базі даних записи, що містять інформацію, яка відповідає введеному користувачем критерію, та сортує знайдені записи за критеріями їх важливості. Серед полів запису є поле з адресою документу, що містить інформаці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0"/>
          <p:cNvSpPr/>
          <p:nvPr/>
        </p:nvSpPr>
        <p:spPr>
          <a:xfrm>
            <a:off x="324000" y="5661000"/>
            <a:ext cx="4535280" cy="981000"/>
          </a:xfrm>
          <a:prstGeom prst="wedgeRectCallout">
            <a:avLst>
              <a:gd name="adj1" fmla="val 67398"/>
              <a:gd name="adj2" fmla="val 1262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ЕБ-ІНТЕРФЕЙС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використовують для введення критерію пошуку, а також для відображення його результат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0:09:45Z</dcterms:created>
  <dc:creator>Uchitel</dc:creator>
  <dc:description/>
  <dc:language>en-US</dc:language>
  <cp:lastModifiedBy>Оля</cp:lastModifiedBy>
  <dcterms:modified xsi:type="dcterms:W3CDTF">2013-02-18T19:39:06Z</dcterms:modified>
  <cp:revision>15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b000000000001024140</vt:lpwstr>
  </property>
</Properties>
</file>