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laser.wav" ContentType="audio/x-wav"/>
  <Override PartName="/ppt/media/image20.wmf" ContentType="image/x-wmf"/>
  <Override PartName="/ppt/media/image18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BADC-936D-4C7E-A97B-92F4E97B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4174-476E-4969-97A2-20C29482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D820-3930-4C18-AD9D-E7A86910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2411-FCA3-4C0B-854C-BCFF6301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252A-8BA8-4265-95BD-B0934B00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9C29-DA7F-4259-9811-1DB27741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7B71-1C24-4ABB-8B60-3774100B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0906-4069-4A9B-834C-0F1972CF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4413-BF31-4C1C-AB70-86AF3E0D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947A-B0F2-43DA-8FAA-1D571EEF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2B58-DCFB-4B9D-B40B-EF579CF5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4272-0C19-454F-BE35-DB8BAF94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60C7-BE35-4B8A-8823-70ED153B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C26D-D3A1-4BE9-B795-E9AAB65E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AFAE-FAFD-4495-A45C-4DCC5C5A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BD8C-B6BF-4A9A-B443-FF532989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0998-80E6-40DE-A839-8DC6399F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09B0-BBEC-4CB5-BEF0-34CF675A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E4A9-ED97-4969-B944-00E5A27D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94E3-FDF6-46B0-8C24-9ABBD3CA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D75B-5B70-4F3E-92E0-3FB9F119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DF13-39C2-42A1-845A-10B3A24A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9DD5-BFCF-4D6B-9D1A-26F1609E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632F-72CA-4DA6-91D5-B5311DAB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B606-4846-4FB7-AF1F-EA80D97BC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5A33-858C-4A93-912F-90B71C8B563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25520" y="380880"/>
            <a:ext cx="601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786950"/>
                </a:solidFill>
                <a:latin typeface="Times New Roman"/>
              </a:rPr>
              <a:t>Чи можна зробити роботу комп’ютера безпечною?</a:t>
            </a:r>
            <a:endParaRPr b="0" lang="en-US" sz="60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343040" y="5181120"/>
            <a:ext cx="48006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86950"/>
                </a:solidFill>
                <a:latin typeface="Times New Roman"/>
              </a:rPr>
              <a:t>Автор проекту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86950"/>
                </a:solidFill>
                <a:latin typeface="Times New Roman"/>
              </a:rPr>
              <a:t>Мазур </a:t>
            </a:r>
            <a:endParaRPr b="0" lang="en-US" sz="36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86950"/>
                </a:solidFill>
                <a:latin typeface="Times New Roman"/>
              </a:rPr>
              <a:t>Наталія Володимирівна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979640" y="549360"/>
            <a:ext cx="5732280" cy="26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ажаю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спіху !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419720" y="2878200"/>
            <a:ext cx="4724280" cy="39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19280" y="685440"/>
            <a:ext cx="57229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786950"/>
                </a:solidFill>
                <a:latin typeface="Times New Roman"/>
              </a:rPr>
              <a:t>Комп'ютерні віруси – міфи чи реальність?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51280" y="3357720"/>
            <a:ext cx="49338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786950"/>
                </a:solidFill>
                <a:latin typeface="Times New Roman"/>
              </a:rPr>
              <a:t>Як захиститися від комп'ютерних вірусів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780000" y="404640"/>
            <a:ext cx="462744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Оберіть завдання: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523880" y="30492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оект  допоможе тобі зрозуміти :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 txBox="1"/>
          <p:nvPr/>
        </p:nvSpPr>
        <p:spPr>
          <a:xfrm rot="21474000">
            <a:off x="3492360" y="1413000"/>
            <a:ext cx="480060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чому люди пишуть віруси;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564000" y="2276640"/>
            <a:ext cx="482760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 яку шкоду може нанести вірус 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твоєму ПК;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 rot="21444600">
            <a:off x="4284360" y="3645000"/>
            <a:ext cx="403848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 як захистити свій комп'ютер.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1905120"/>
            <a:ext cx="533520" cy="609480"/>
          </a:xfrm>
          <a:prstGeom prst="rect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2514600"/>
            <a:ext cx="304920" cy="914400"/>
          </a:xfrm>
          <a:prstGeom prst="rect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2057400"/>
            <a:ext cx="304560" cy="914400"/>
          </a:xfrm>
          <a:prstGeom prst="rect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1676520"/>
            <a:ext cx="304560" cy="457200"/>
          </a:xfrm>
          <a:prstGeom prst="rect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2895480"/>
            <a:ext cx="304560" cy="533520"/>
          </a:xfrm>
          <a:prstGeom prst="rect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2286000"/>
            <a:ext cx="152280" cy="609480"/>
          </a:xfrm>
          <a:prstGeom prst="rect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2438280"/>
            <a:ext cx="152280" cy="381240"/>
          </a:xfrm>
          <a:prstGeom prst="rect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19051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20574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23623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1337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266688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05000" y="28386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49640" y="29844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32004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32004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325116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32767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32004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28195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28195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66688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81080" y="25909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25146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23623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860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21337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0574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19051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16002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6880" y="16002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411280" y="4653000"/>
            <a:ext cx="1209960" cy="828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403280" y="1484280"/>
            <a:ext cx="1171800" cy="1057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3995640" y="5661000"/>
            <a:ext cx="1209600" cy="809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084720" y="5661000"/>
            <a:ext cx="1181160" cy="905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7812000" y="4653000"/>
            <a:ext cx="981000" cy="1324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1979640" y="3141720"/>
            <a:ext cx="1181160" cy="118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979640" y="333360"/>
            <a:ext cx="549576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и дізнаєшся: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419640" y="2133720"/>
            <a:ext cx="5182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 чим відрізняється діяльність 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антивірусів;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51280" y="3645000"/>
            <a:ext cx="4686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 як позбутися наслідків дії вірусу;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2057400"/>
            <a:ext cx="304560" cy="914400"/>
          </a:xfrm>
          <a:prstGeom prst="rect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1676520"/>
            <a:ext cx="304560" cy="457200"/>
          </a:xfrm>
          <a:prstGeom prst="rect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2895480"/>
            <a:ext cx="304560" cy="533520"/>
          </a:xfrm>
          <a:prstGeom prst="rect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286000"/>
            <a:ext cx="152280" cy="609480"/>
          </a:xfrm>
          <a:prstGeom prst="rect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19051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20574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23623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21337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66688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05000" y="28386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49640" y="29844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32004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32004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325116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32767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32004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28195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28195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266688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25909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25146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23623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22860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21337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20574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19051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16002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66880" y="16002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195640" y="4653000"/>
            <a:ext cx="1209600" cy="809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547640" y="3645000"/>
            <a:ext cx="971640" cy="1181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2050920" y="2133720"/>
            <a:ext cx="905040" cy="1285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1332000" y="1052640"/>
            <a:ext cx="1238040" cy="1009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4788000" y="5157720"/>
            <a:ext cx="3619440" cy="11905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3132000" y="5373720"/>
            <a:ext cx="865440" cy="865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3348000" y="1197000"/>
            <a:ext cx="518328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 про сучасні антивірусні програми;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96600"/>
                </a:solidFill>
                <a:latin typeface="Times New Roman"/>
              </a:rPr>
              <a:t>Обери спеціалізацію в групі: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Журналі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– шукає інформаці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Художник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– створює (підбирає) графічні зображенн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едактор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– відповідає за створення файлу-публікації в програм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crosoft Publis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– організовує ефективну роботу групи (ставить завдання, організує умови роботи, допомагає, перевіряє, контролює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51280" y="549360"/>
            <a:ext cx="518472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786950"/>
                </a:solidFill>
                <a:latin typeface="Times New Roman"/>
              </a:rPr>
              <a:t>Результати роботи представте </a:t>
            </a:r>
            <a:br>
              <a:rPr sz="5400"/>
            </a:br>
            <a:r>
              <a:rPr b="1" lang="uk-UA" sz="5400" spc="-1" strike="noStrike">
                <a:solidFill>
                  <a:srgbClr val="786950"/>
                </a:solidFill>
                <a:latin typeface="Times New Roman"/>
              </a:rPr>
              <a:t>у вигляді публікації</a:t>
            </a:r>
            <a:endParaRPr b="0" lang="en-US" sz="54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96600"/>
                </a:solidFill>
                <a:latin typeface="Times New Roman"/>
              </a:rPr>
              <a:t>Альтернативний варіант – </a:t>
            </a:r>
            <a:br>
              <a:rPr sz="4000"/>
            </a:br>
            <a:r>
              <a:rPr b="1" lang="uk-UA" sz="4000" spc="-1" strike="noStrike">
                <a:solidFill>
                  <a:srgbClr val="996600"/>
                </a:solidFill>
                <a:latin typeface="Times New Roman"/>
              </a:rPr>
              <a:t>індивідуальне завдання.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520" y="2637000"/>
            <a:ext cx="76201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6600"/>
                </a:solidFill>
                <a:latin typeface="Times New Roman"/>
              </a:rPr>
              <a:t>“</a:t>
            </a:r>
            <a:r>
              <a:rPr b="1" i="1" lang="uk-UA" sz="3200" spc="-1" strike="noStrike">
                <a:solidFill>
                  <a:srgbClr val="996600"/>
                </a:solidFill>
                <a:latin typeface="Times New Roman"/>
              </a:rPr>
              <a:t>Комп'ютерний вірус може бути корисним. Наприклад, 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59280" y="20606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ідготуй повідомленн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4581360"/>
            <a:ext cx="76201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6600"/>
                </a:solidFill>
                <a:latin typeface="Times New Roman"/>
              </a:rPr>
              <a:t>“</a:t>
            </a:r>
            <a:r>
              <a:rPr b="1" i="1" lang="uk-UA" sz="3200" spc="-1" strike="noStrike">
                <a:solidFill>
                  <a:srgbClr val="996600"/>
                </a:solidFill>
                <a:latin typeface="Times New Roman"/>
              </a:rPr>
              <a:t>На моєму ПК почали відбуватися незрозумілі речі, 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39337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ділись інформацією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8000" y="5950080"/>
            <a:ext cx="63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кажи про результати дії вірусу та про спосіб його знешкоджен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996600"/>
                </a:solidFill>
                <a:latin typeface="Times New Roman"/>
              </a:rPr>
              <a:t>Розсуди, що краще :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140360" y="1484280"/>
            <a:ext cx="4851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ерегти комп’ютер від зараженн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одразу ж встановити хоча б якусь антивірусну програм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чекати, сподіватись, що це лихо вас мин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становити ліцензовану версію сучасного антивірус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32000" y="2752560"/>
            <a:ext cx="2735280" cy="23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720" y="3049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96600"/>
                </a:solidFill>
                <a:latin typeface="Times New Roman"/>
              </a:rPr>
              <a:t>Використовуй: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03640" y="4508640"/>
            <a:ext cx="3792600" cy="2081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403280" y="1197000"/>
            <a:ext cx="74898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ідручник  інформа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ахову прес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Довідкову систему О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-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есурси мереж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пеціальні (тематичні) чати, фору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оради фахівців, друзів, знайом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03:38:45Z</dcterms:created>
  <dc:creator>User02</dc:creator>
  <dc:description/>
  <dc:language>en-US</dc:language>
  <cp:lastModifiedBy>PC11</cp:lastModifiedBy>
  <dcterms:modified xsi:type="dcterms:W3CDTF">2008-12-02T08:40:14Z</dcterms:modified>
  <cp:revision>32</cp:revision>
  <dc:subject/>
  <dc:title>Технічний прогрес – нагорода чи покарання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04000000000001024140</vt:lpwstr>
  </property>
</Properties>
</file>