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laser.wav" ContentType="audio/x-wav"/>
  <Override PartName="/ppt/media/image20.wmf" ContentType="image/x-wmf"/>
  <Override PartName="/ppt/media/image18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F52-C8FD-434A-9A37-6D90C416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6BC-EA01-44AC-98DE-8657478D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70E-286A-452D-867A-EF7B9DF2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154-094D-43BC-94B5-BB103883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7E02-C6F6-4A12-9A16-2308B9A77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2099-A340-40B6-B024-797B7926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A572-F7AA-445D-A2DC-EAB5183E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0529-6516-4432-86C1-26BDE574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27FC-AAC0-445C-BF71-1B9837C3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2599-36E3-4EB4-A314-ED1AEE5E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7CA7-205D-41DA-BEEB-E3C0ACBD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AD8-54EE-45D2-9F56-DB48EDEF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54CD-8A69-40EE-BA15-1CF90CDA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883B-9EF6-4112-97BC-D612DA4A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63DE-955C-4B01-8B27-5F1CB35A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31C2-33B4-478C-9476-74FA404D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3D87-778C-48A4-A760-23B518E1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D2A-A501-465D-B518-9AE1BF6F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2A6-8A51-413D-BDE8-3F6F8952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C60-14C3-4159-B8B9-B371AD65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760-1887-4CFF-A72D-6906A17B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8AC-E4ED-4F3C-BC79-8A48361F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F85-C0B9-4B8A-8E41-97F55A86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973-17AA-487A-B942-9C873E3A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2094-2C03-451A-9023-444251DAA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4773-1912-434F-854F-37784CEFFEB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5520" y="380880"/>
            <a:ext cx="601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786950"/>
                </a:solidFill>
                <a:latin typeface="Times New Roman"/>
              </a:rPr>
              <a:t>Чи можна зробити роботу комп’ютера безпечною?</a:t>
            </a:r>
            <a:endParaRPr b="0" lang="en-US" sz="60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040" y="5181120"/>
            <a:ext cx="48006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86950"/>
                </a:solidFill>
                <a:latin typeface="Times New Roman"/>
              </a:rPr>
              <a:t>Автор проекту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86950"/>
                </a:solidFill>
                <a:latin typeface="Times New Roman"/>
              </a:rPr>
              <a:t>Мазур </a:t>
            </a:r>
            <a:endParaRPr b="0" lang="en-US" sz="36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86950"/>
                </a:solidFill>
                <a:latin typeface="Times New Roman"/>
              </a:rPr>
              <a:t>Наталія Володимирівна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79640" y="549360"/>
            <a:ext cx="5732280" cy="26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ажаю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піху !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419720" y="2878200"/>
            <a:ext cx="4724280" cy="39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19280" y="685440"/>
            <a:ext cx="5722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86950"/>
                </a:solidFill>
                <a:latin typeface="Times New Roman"/>
              </a:rPr>
              <a:t>Комп'ютерні віруси – міфи чи реальність?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51280" y="3357720"/>
            <a:ext cx="49338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786950"/>
                </a:solidFill>
                <a:latin typeface="Times New Roman"/>
              </a:rPr>
              <a:t>Як захиститися від комп'ютерних вірусів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80000" y="404640"/>
            <a:ext cx="462744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еріть завдання: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523880" y="30492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оект  допоможе тобі зрозуміти 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 rot="21474000">
            <a:off x="3492360" y="1413000"/>
            <a:ext cx="480060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чому люди пишуть віруси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64000" y="2276640"/>
            <a:ext cx="482760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яку шкоду може нанести вірус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твоєму ПК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 rot="21444600">
            <a:off x="4284360" y="3645000"/>
            <a:ext cx="40384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як захистити свій комп'ютер.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1905120"/>
            <a:ext cx="533520" cy="60948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514600"/>
            <a:ext cx="304920" cy="9144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1676520"/>
            <a:ext cx="304560" cy="4572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2895480"/>
            <a:ext cx="304560" cy="53352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2286000"/>
            <a:ext cx="152280" cy="60948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438280"/>
            <a:ext cx="152280" cy="38124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9051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057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3623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133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66688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5000" y="28386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49640" y="2984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25116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276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28195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1080" y="266688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25909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3623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133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057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9051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6002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16002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1209960" cy="8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403280" y="1484280"/>
            <a:ext cx="1171800" cy="1057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995640" y="566100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084720" y="5661000"/>
            <a:ext cx="1181160" cy="905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7812000" y="4653000"/>
            <a:ext cx="981000" cy="1324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1979640" y="314172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79640" y="333360"/>
            <a:ext cx="549576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и дізнаєшся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419640" y="2133720"/>
            <a:ext cx="518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чим відрізняється діяльність 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антивірусів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1280" y="3645000"/>
            <a:ext cx="4686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як позбутися наслідків дії вірусу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2057400"/>
            <a:ext cx="304560" cy="9144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676520"/>
            <a:ext cx="304560" cy="45720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2895480"/>
            <a:ext cx="304560" cy="53352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286000"/>
            <a:ext cx="152280" cy="609480"/>
          </a:xfrm>
          <a:prstGeom prst="rect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19051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057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23623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133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66688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05000" y="28386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49640" y="2984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25116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3276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3200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28195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28195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266688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25909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25146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23623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2860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21337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20574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190512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16002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1600200"/>
            <a:ext cx="228600" cy="228600"/>
          </a:xfrm>
          <a:prstGeom prst="ellipse">
            <a:avLst/>
          </a:prstGeom>
          <a:solidFill>
            <a:srgbClr val="e9e2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195640" y="4653000"/>
            <a:ext cx="1209600" cy="80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971640" cy="1181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050920" y="2133720"/>
            <a:ext cx="905040" cy="1285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1332000" y="1052640"/>
            <a:ext cx="1238040" cy="1009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788000" y="5157720"/>
            <a:ext cx="3619440" cy="11905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3132000" y="5373720"/>
            <a:ext cx="865440" cy="865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3348000" y="1197000"/>
            <a:ext cx="518328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- про сучасні антивірусні програми;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00"/>
                </a:solidFill>
                <a:latin typeface="Times New Roman"/>
              </a:rPr>
              <a:t>Обери спеціалізацію в групі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Журналіст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шукає інформаці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Художник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створює (підбирає) графічні зображен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едактор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відповідає за створення файлу-публікації в програм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crosoft Publis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иректор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– організовує ефективну роботу групи (ставить завдання, організує умови роботи, допомагає, перевіряє, контролює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51280" y="549360"/>
            <a:ext cx="518472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86950"/>
                </a:solidFill>
                <a:latin typeface="Times New Roman"/>
              </a:rPr>
              <a:t>Результати роботи представте </a:t>
            </a:r>
            <a:br>
              <a:rPr sz="5400"/>
            </a:br>
            <a:r>
              <a:rPr b="1" lang="uk-UA" sz="5400" spc="-1" strike="noStrike">
                <a:solidFill>
                  <a:srgbClr val="786950"/>
                </a:solidFill>
                <a:latin typeface="Times New Roman"/>
              </a:rPr>
              <a:t>у вигляді публікації</a:t>
            </a:r>
            <a:endParaRPr b="0" lang="en-US" sz="54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6600"/>
                </a:solidFill>
                <a:latin typeface="Times New Roman"/>
              </a:rPr>
              <a:t>Альтернативний варіант – </a:t>
            </a:r>
            <a:br>
              <a:rPr sz="4000"/>
            </a:br>
            <a:r>
              <a:rPr b="1" lang="uk-UA" sz="4000" spc="-1" strike="noStrike">
                <a:solidFill>
                  <a:srgbClr val="996600"/>
                </a:solidFill>
                <a:latin typeface="Times New Roman"/>
              </a:rPr>
              <a:t>індивідуальне завдання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520" y="2637000"/>
            <a:ext cx="76201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i="1" lang="uk-UA" sz="3200" spc="-1" strike="noStrike">
                <a:solidFill>
                  <a:srgbClr val="996600"/>
                </a:solidFill>
                <a:latin typeface="Times New Roman"/>
              </a:rPr>
              <a:t>Комп'ютерний вірус може бути корисним. Наприклад,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59280" y="2060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дготуй повідомленн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4581360"/>
            <a:ext cx="762012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i="1" lang="uk-UA" sz="3200" spc="-1" strike="noStrike">
                <a:solidFill>
                  <a:srgbClr val="996600"/>
                </a:solidFill>
                <a:latin typeface="Times New Roman"/>
              </a:rPr>
              <a:t>На моєму ПК почали відбуватися незрозумілі речі, 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3933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оділись інформаціє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5950080"/>
            <a:ext cx="63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кажи про результати дії вірусу та про спосіб його знешкоджен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996600"/>
                </a:solidFill>
                <a:latin typeface="Times New Roman"/>
              </a:rPr>
              <a:t>Розсуди, що краще :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40360" y="1484280"/>
            <a:ext cx="4851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берегти комп’ютер від зараженн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дразу ж встановити хоча б якусь антивірусну програм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чекати, сподіватись, що це лихо вас мине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становити ліцензовану версію сучасного антивірус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2752560"/>
            <a:ext cx="273528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00"/>
                </a:solidFill>
                <a:latin typeface="Times New Roman"/>
              </a:rPr>
              <a:t>Використовуй: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03640" y="4508640"/>
            <a:ext cx="3792600" cy="2081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403280" y="1197000"/>
            <a:ext cx="74898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ідручник  інформа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Фахову прес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овідкову систему ОС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ресурси мереж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Спеціальні (тематичні) чати, фору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ради фахівців, друзів, знайом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03:38:45Z</dcterms:created>
  <dc:creator>User02</dc:creator>
  <dc:description/>
  <dc:language>en-US</dc:language>
  <cp:lastModifiedBy>PC11</cp:lastModifiedBy>
  <dcterms:modified xsi:type="dcterms:W3CDTF">2008-12-02T08:40:14Z</dcterms:modified>
  <cp:revision>32</cp:revision>
  <dc:subject/>
  <dc:title>Технічний прогрес – нагорода чи покарання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4000000000001024140</vt:lpwstr>
  </property>
</Properties>
</file>