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B24-2EE7-4EE7-9706-A14DAF2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4CE-16C7-4FE4-8B5C-4EFF766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CF9-F6FA-4096-8C3C-261296F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E33-9D6E-4054-A436-02515A1D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75A8-63C1-4BA3-AB8C-6B769324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B118-48A1-433F-9824-4810E037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469-55FC-47EA-A865-0AB6618A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2A9-B303-4791-8106-BE87AEC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4D9-8429-4704-95B7-40EEE34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BCDA-D113-4E6B-9EBB-24061EE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CC80-8214-4FF0-A778-C95311B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A7F-575E-4EF9-8AEE-4FFA194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D22-F817-4CDE-B809-B85B5F7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DB7C-28A1-4ACF-875D-74152D9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8B4-A769-44F2-840A-AC3049F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BB9-E35E-40A1-B002-9BDCB6E7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0C3-EE41-4B57-A0F1-CEC2B72B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E05-C2AD-4CE3-A360-47F6C9DE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DEE-5B32-4937-8581-06CAA9C9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589-37D9-4DF6-B779-ABE1C03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810-1DDB-4538-AE82-B0DDE4D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789-7BDD-4BA3-9727-00EED43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D90-13C8-4D67-AC19-404AE14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DB8-7C41-471F-AC17-4807681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E96-488A-4B8B-AFB1-F0B20520C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832-7867-4B23-8328-2744E9F7C8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scratch.ucoz.net/_si/0/26211.gif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Программирование в  среде Scratch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8" descr="http://scratch.ucoz.net/_si/0/26211.gif"/>
          <p:cNvPicPr/>
          <p:nvPr/>
        </p:nvPicPr>
        <p:blipFill>
          <a:blip r:embed="rId1"/>
          <a:srcRect l="0" t="0" r="31" b="381"/>
          <a:stretch/>
        </p:blipFill>
        <p:spPr>
          <a:xfrm>
            <a:off x="826920" y="4508640"/>
            <a:ext cx="1513080" cy="160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scratch.ucoz.net/_si/0/26211.gif"/>
          <p:cNvPicPr/>
          <p:nvPr/>
        </p:nvPicPr>
        <p:blipFill>
          <a:blip r:embed="rId2"/>
          <a:srcRect l="0" t="0" r="31" b="381"/>
          <a:stretch/>
        </p:blipFill>
        <p:spPr>
          <a:xfrm rot="20465400">
            <a:off x="3422160" y="3846240"/>
            <a:ext cx="1513080" cy="160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cratch.ucoz.net/_si/0/26211.gif"/>
          <p:cNvPicPr/>
          <p:nvPr/>
        </p:nvPicPr>
        <p:blipFill>
          <a:blip r:embed="rId3"/>
          <a:srcRect l="0" t="0" r="31" b="381"/>
          <a:stretch/>
        </p:blipFill>
        <p:spPr>
          <a:xfrm>
            <a:off x="6084720" y="5013360"/>
            <a:ext cx="1511640" cy="160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http://scratch.ucoz.net/_si/0/26211.gif"/>
          <p:cNvPicPr/>
          <p:nvPr/>
        </p:nvPicPr>
        <p:blipFill>
          <a:blip r:embed="rId4"/>
          <a:srcRect l="0" t="0" r="31" b="381"/>
          <a:stretch/>
        </p:blipFill>
        <p:spPr>
          <a:xfrm flipH="1" rot="19869600">
            <a:off x="7070400" y="2812680"/>
            <a:ext cx="1623960" cy="172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scratch.ucoz.net/_si/0/26211.gif"/>
          <p:cNvPicPr/>
          <p:nvPr/>
        </p:nvPicPr>
        <p:blipFill>
          <a:blip r:embed="rId5"/>
          <a:srcRect l="0" t="0" r="31" b="381"/>
          <a:stretch/>
        </p:blipFill>
        <p:spPr>
          <a:xfrm rot="20133600">
            <a:off x="826560" y="259920"/>
            <a:ext cx="1513080" cy="1606680"/>
          </a:xfrm>
          <a:prstGeom prst="rect">
            <a:avLst/>
          </a:prstGeom>
          <a:ln w="0">
            <a:noFill/>
          </a:ln>
        </p:spPr>
      </p:pic>
      <p:sp>
        <p:nvSpPr>
          <p:cNvPr id="126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Цели уро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о назначении программы Scratch (Скретч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палитру блоков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анды, изученные на прошло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южеты проектов разного уровня слож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логическое мыш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реда программирования Scratch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Picture 8" descr="http://scratch.ucoz.net/_si/0/26211.gif"/>
          <p:cNvPicPr/>
          <p:nvPr/>
        </p:nvPicPr>
        <p:blipFill>
          <a:blip r:embed="rId1"/>
          <a:srcRect l="0" t="0" r="31" b="381"/>
          <a:stretch/>
        </p:blipFill>
        <p:spPr>
          <a:xfrm rot="20133600">
            <a:off x="167760" y="15984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2"/>
          <a:srcRect l="0" t="0" r="0" b="-12"/>
          <a:stretch/>
        </p:blipFill>
        <p:spPr>
          <a:xfrm>
            <a:off x="3203640" y="1773360"/>
            <a:ext cx="5619600" cy="287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09512"/>
          <p:cNvPicPr/>
          <p:nvPr/>
        </p:nvPicPr>
        <p:blipFill>
          <a:blip r:embed="rId3"/>
          <a:stretch/>
        </p:blipFill>
        <p:spPr>
          <a:xfrm>
            <a:off x="250920" y="1413000"/>
            <a:ext cx="183996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38466"/>
          <p:cNvPicPr/>
          <p:nvPr/>
        </p:nvPicPr>
        <p:blipFill>
          <a:blip r:embed="rId4"/>
          <a:stretch/>
        </p:blipFill>
        <p:spPr>
          <a:xfrm>
            <a:off x="250920" y="3213000"/>
            <a:ext cx="2190600" cy="25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s262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789360"/>
            <a:ext cx="2982960" cy="2606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36353"/>
          <p:cNvPicPr/>
          <p:nvPr/>
        </p:nvPicPr>
        <p:blipFill>
          <a:blip r:embed="rId7"/>
          <a:stretch/>
        </p:blipFill>
        <p:spPr>
          <a:xfrm>
            <a:off x="250920" y="2565360"/>
            <a:ext cx="1955880" cy="446040"/>
          </a:xfrm>
          <a:prstGeom prst="rect">
            <a:avLst/>
          </a:prstGeom>
          <a:ln w="0">
            <a:noFill/>
          </a:ln>
        </p:spPr>
      </p:pic>
      <p:sp>
        <p:nvSpPr>
          <p:cNvPr id="139" name="Дата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ние для группы № 1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умать и создать проект на произвольную тему, используя все возможности Scr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8" descr="http://scratch.ucoz.net/_si/0/26211.gif"/>
          <p:cNvPicPr/>
          <p:nvPr/>
        </p:nvPicPr>
        <p:blipFill>
          <a:blip r:embed="rId1"/>
          <a:srcRect l="0" t="0" r="31" b="381"/>
          <a:stretch/>
        </p:blipFill>
        <p:spPr>
          <a:xfrm rot="20133600">
            <a:off x="266760" y="3360600"/>
            <a:ext cx="2430360" cy="258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scratch.ucoz.net/_si/0/26211.gif"/>
          <p:cNvPicPr/>
          <p:nvPr/>
        </p:nvPicPr>
        <p:blipFill>
          <a:blip r:embed="rId2"/>
          <a:srcRect l="0" t="0" r="31" b="381"/>
          <a:stretch/>
        </p:blipFill>
        <p:spPr>
          <a:xfrm flipH="1" rot="1466400">
            <a:off x="6369840" y="4041360"/>
            <a:ext cx="1932120" cy="2053080"/>
          </a:xfrm>
          <a:prstGeom prst="rect">
            <a:avLst/>
          </a:prstGeom>
          <a:ln w="0">
            <a:noFill/>
          </a:ln>
        </p:spPr>
      </p:pic>
      <p:sp>
        <p:nvSpPr>
          <p:cNvPr id="145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ние для группы № 2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проект </a:t>
            </a:r>
            <a:r>
              <a:rPr b="0" lang="ru-RU" sz="2800" spc="-1" strike="noStrike">
                <a:solidFill>
                  <a:srgbClr val="2c1c00"/>
                </a:solidFill>
                <a:latin typeface="Times New Roman"/>
              </a:rPr>
              <a:t>«Моя семья»</a:t>
            </a:r>
            <a:r>
              <a:rPr b="0" lang="ru-RU" sz="2800" spc="-1" strike="noStrike">
                <a:solidFill>
                  <a:srgbClr val="00cc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совать но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стю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http://scratch.ucoz.net/_si/0/26211.gif"/>
          <p:cNvPicPr/>
          <p:nvPr/>
        </p:nvPicPr>
        <p:blipFill>
          <a:blip r:embed="rId1"/>
          <a:srcRect l="0" t="0" r="31" b="381"/>
          <a:stretch/>
        </p:blipFill>
        <p:spPr>
          <a:xfrm flipH="1" rot="1466400">
            <a:off x="6287760" y="4103640"/>
            <a:ext cx="2430360" cy="258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scratch.ucoz.net/_si/0/26211.gif"/>
          <p:cNvPicPr/>
          <p:nvPr/>
        </p:nvPicPr>
        <p:blipFill>
          <a:blip r:embed="rId2"/>
          <a:srcRect l="0" t="0" r="31" b="381"/>
          <a:stretch/>
        </p:blipFill>
        <p:spPr>
          <a:xfrm rot="20133600">
            <a:off x="425160" y="1007640"/>
            <a:ext cx="2430360" cy="2583000"/>
          </a:xfrm>
          <a:prstGeom prst="rect">
            <a:avLst/>
          </a:prstGeom>
          <a:ln w="0">
            <a:noFill/>
          </a:ln>
        </p:spPr>
      </p:pic>
      <p:sp>
        <p:nvSpPr>
          <p:cNvPr id="151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ние для группы № 3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 проект </a:t>
            </a:r>
            <a:r>
              <a:rPr b="0" lang="ru-RU" sz="2800" spc="-1" strike="noStrike">
                <a:solidFill>
                  <a:srgbClr val="00cc66"/>
                </a:solidFill>
                <a:latin typeface="Times New Roman"/>
              </a:rPr>
              <a:t>«Движение»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брать но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ъект из фай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7885080" y="6021360"/>
            <a:ext cx="790560" cy="476280"/>
          </a:xfrm>
          <a:custGeom>
            <a:avLst/>
            <a:gdLst>
              <a:gd name="textAreaLeft" fmla="*/ 30600 w 790560"/>
              <a:gd name="textAreaRight" fmla="*/ 759960 w 790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842" h="21600">
                <a:moveTo>
                  <a:pt x="0" y="0"/>
                </a:moveTo>
                <a:lnTo>
                  <a:pt x="35842" y="0"/>
                </a:lnTo>
                <a:lnTo>
                  <a:pt x="35842" y="21600"/>
                </a:lnTo>
                <a:lnTo>
                  <a:pt x="0" y="21600"/>
                </a:lnTo>
                <a:close/>
              </a:path>
              <a:path fill="lightenLess" w="35842" h="21600">
                <a:moveTo>
                  <a:pt x="0" y="0"/>
                </a:moveTo>
                <a:lnTo>
                  <a:pt x="35842" y="0"/>
                </a:lnTo>
                <a:lnTo>
                  <a:pt x="34442" y="1400"/>
                </a:lnTo>
                <a:lnTo>
                  <a:pt x="1400" y="1400"/>
                </a:lnTo>
                <a:close/>
              </a:path>
              <a:path fill="darken" w="35842" h="21600">
                <a:moveTo>
                  <a:pt x="35842" y="0"/>
                </a:moveTo>
                <a:lnTo>
                  <a:pt x="35842" y="21600"/>
                </a:lnTo>
                <a:lnTo>
                  <a:pt x="34442" y="20200"/>
                </a:lnTo>
                <a:lnTo>
                  <a:pt x="34442" y="1400"/>
                </a:lnTo>
                <a:close/>
              </a:path>
              <a:path fill="darkenLess" w="35842" h="21600">
                <a:moveTo>
                  <a:pt x="35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42" y="20200"/>
                </a:lnTo>
                <a:close/>
              </a:path>
              <a:path fill="lighten" w="35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42" h="21600">
                <a:moveTo>
                  <a:pt x="17921" y="3837"/>
                </a:moveTo>
                <a:lnTo>
                  <a:pt x="20497" y="6448"/>
                </a:lnTo>
                <a:lnTo>
                  <a:pt x="20497" y="4707"/>
                </a:lnTo>
                <a:lnTo>
                  <a:pt x="22273" y="4707"/>
                </a:lnTo>
                <a:lnTo>
                  <a:pt x="22273" y="8224"/>
                </a:lnTo>
                <a:lnTo>
                  <a:pt x="24884" y="10800"/>
                </a:lnTo>
                <a:lnTo>
                  <a:pt x="23230" y="10800"/>
                </a:lnTo>
                <a:lnTo>
                  <a:pt x="23230" y="17989"/>
                </a:lnTo>
                <a:lnTo>
                  <a:pt x="12612" y="17989"/>
                </a:lnTo>
                <a:lnTo>
                  <a:pt x="12612" y="10800"/>
                </a:lnTo>
                <a:lnTo>
                  <a:pt x="10958" y="10800"/>
                </a:lnTo>
                <a:close/>
              </a:path>
              <a:path fill="darkenLess" w="35842" h="21600">
                <a:moveTo>
                  <a:pt x="20497" y="6448"/>
                </a:moveTo>
                <a:lnTo>
                  <a:pt x="20497" y="4707"/>
                </a:lnTo>
                <a:lnTo>
                  <a:pt x="22273" y="4707"/>
                </a:lnTo>
                <a:lnTo>
                  <a:pt x="22273" y="8224"/>
                </a:lnTo>
                <a:close/>
              </a:path>
              <a:path fill="darkenLess" w="35842" h="21600">
                <a:moveTo>
                  <a:pt x="16999" y="14299"/>
                </a:moveTo>
                <a:lnTo>
                  <a:pt x="18844" y="14299"/>
                </a:lnTo>
                <a:lnTo>
                  <a:pt x="18844" y="17989"/>
                </a:lnTo>
                <a:lnTo>
                  <a:pt x="23230" y="17989"/>
                </a:lnTo>
                <a:lnTo>
                  <a:pt x="23230" y="10800"/>
                </a:lnTo>
                <a:lnTo>
                  <a:pt x="12612" y="10800"/>
                </a:lnTo>
                <a:lnTo>
                  <a:pt x="12612" y="17989"/>
                </a:lnTo>
                <a:lnTo>
                  <a:pt x="16999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http://scratch.ucoz.net/_si/0/26211.gif"/>
          <p:cNvPicPr/>
          <p:nvPr/>
        </p:nvPicPr>
        <p:blipFill>
          <a:blip r:embed="rId2"/>
          <a:srcRect l="0" t="0" r="31" b="381"/>
          <a:stretch/>
        </p:blipFill>
        <p:spPr>
          <a:xfrm flipH="1" rot="1466400">
            <a:off x="5716080" y="1008000"/>
            <a:ext cx="2432160" cy="258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scratch.ucoz.net/_si/0/26211.gif"/>
          <p:cNvPicPr/>
          <p:nvPr/>
        </p:nvPicPr>
        <p:blipFill>
          <a:blip r:embed="rId3"/>
          <a:srcRect l="0" t="0" r="31" b="381"/>
          <a:stretch/>
        </p:blipFill>
        <p:spPr>
          <a:xfrm rot="20133600">
            <a:off x="820440" y="1079640"/>
            <a:ext cx="2430360" cy="2582640"/>
          </a:xfrm>
          <a:prstGeom prst="rect">
            <a:avLst/>
          </a:prstGeom>
          <a:ln w="0">
            <a:noFill/>
          </a:ln>
        </p:spPr>
      </p:pic>
      <p:sp>
        <p:nvSpPr>
          <p:cNvPr id="158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цизька ЗОШ №5, Чендєва Ю.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6:33:47Z</dcterms:created>
  <dc:creator>15</dc:creator>
  <dc:description/>
  <dc:language>en-US</dc:language>
  <cp:lastModifiedBy>ADMIN</cp:lastModifiedBy>
  <dcterms:modified xsi:type="dcterms:W3CDTF">2012-10-21T09:22:59Z</dcterms:modified>
  <cp:revision>8</cp:revision>
  <dc:subject/>
  <dc:title>Программирование в  среде ЛогоМи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6000000000001024140</vt:lpwstr>
  </property>
</Properties>
</file>