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B15-3F3F-45BE-90DA-284E92286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84A0-2D92-4A4A-B4EF-6D3105F56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635A-8E46-4CC5-83C5-CA9FC9B2A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64D7-D8E5-4AD3-AF29-4700C7C43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F697-7F9A-4B12-B55B-C2FE3C549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D487-0F46-49B6-A205-3A7D2193D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1D7A-A55A-4298-813F-D227A56E8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40FC-254F-4DF3-8DD2-52BABF52C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A9A-20EB-4598-8710-05F0038E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543-180A-4F04-B276-8A834718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49C-CB5F-4666-8EDA-22719058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4B3-92EA-4D17-83FF-A0389E49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0AE5-7116-4048-88F3-2793B9F3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23EE-7037-4230-ABD6-A5F52BB5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26E0-1C45-4DF2-A49E-6571549A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2AFB-3ADE-4033-981A-E2CE63C4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7995-52E9-4B07-83E6-3A50EE5D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2F19-EE1D-459B-9165-775D4DDD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1C13-E97F-44B3-99AE-09071624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90B-7B40-426C-ACCE-28D9BCF6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0C9E-96C0-4D13-86AD-54B1E34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FBF4-B290-48C1-B09D-DF850381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836A-58D6-4BF0-88F4-6BFE7091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179D-779B-4C69-A1B4-DAE59CC0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4EA0-5E07-4683-ADB7-86A2A12D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3DE2C-9DA3-4645-9FB7-42E2B8B0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9397C-4954-4572-BB34-FE429EB0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0194E-9C58-4AD1-B442-6BEFC77E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5E029-FEF3-4058-AD73-5708755A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5FB2F-4A82-41BB-B214-10B0D68F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DBC-F15D-47EF-B2A6-9C54E2B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B4238-CD1C-4274-9E08-23864B00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5B643-080A-4E6F-9630-95770141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14C03-553D-46C1-A691-5B549184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3AC65-E5D0-40C5-8EB0-13CB8B0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CA96D-4C5B-49F2-9946-8D7C8361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F28EF-896B-4661-B0C4-4168A7C8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443D5-D7B5-4C29-AB66-4ED43EEF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412A-F501-4636-B4CA-E55F4A6F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B5CED-CC3C-446D-BCF6-A488EF9F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9797-7C26-4682-8CA6-5D3ED321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B64-EB31-40C8-AF48-3B865D77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0BDEF-B1DA-413C-BC8C-E34481F0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7ABB-C8FF-43F7-891B-486E7821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428E1-CF74-4920-8D9A-EE086B90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149D-74E7-49F1-8D68-A4DF0B57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B5D79-84B3-4775-B3A4-81E14691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7600-9B70-4BEA-9E83-13BB688B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9204-B64E-42EE-A382-8262C383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2C29-1D7D-42D7-AFB6-9468CF7F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7934-94C2-40F3-AAB8-10F0FB25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E2FE7-2511-4346-9CF5-9DC433CF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397-2974-4815-AA60-5E2D955A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3DF96-0B7A-42E2-902C-389BE4F5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3FEA0-99A2-4341-9D74-BDF19FE1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79B72-ACA2-4EF5-A0F2-2791DD2F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4C1E9-78B8-490C-9E1D-B539EFC6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77A31-8831-41D3-BC3A-6D911829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EFA59-D079-4F9C-A296-E5822069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A8512-1D5E-4B72-AFAF-AFFA5E47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E9AFE-48F7-4D7A-940D-2DE91DA5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BE216-A3AB-4D66-A89E-8C62F5F7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9B4E4-D6ED-42A6-B239-392FFA26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2D0-1B79-4499-AB99-CF2CF0CD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5F0EB-001F-48AA-AB4B-66EB17D7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CBB69-F372-4189-B917-80854566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1846B-D2E6-4389-93F1-81FFEE1A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3955D-E1D1-4A7E-BD5D-2F7AE237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6458E-5A50-47A1-8373-C48B1824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2A27C-7A46-49E8-BFCE-D29CB07C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18FAE-2236-489E-A102-F810356F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02175-FDD3-4A52-8EE6-3395F797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A846E-409A-4885-B1EF-05B5C456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A9AC2-6FD8-4C3D-8F58-A993C58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29F-FDAD-4ED3-AC76-9A74D27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215A6-0035-4594-A59E-98DECCBB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659D1-3438-45B7-9A3F-8222F27E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DA0BF-21C8-4AF8-9072-27049C00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8D5B8-4EC3-466E-ADBE-0C45BA88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18A01-72F8-4951-ACB3-F49F8D1E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F6375-404E-4AF0-BFEE-74C18FC0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C5286-2302-4EEC-AA64-09B7D678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B3A6B-6A46-4F2E-98BD-E2D237E4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72479-BED6-41BB-BC97-C026A7BE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D2404-DC9E-433D-8B67-BCEDBC86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217-3F62-4AF5-AFCC-402EEA7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B6975-25E8-41C3-842A-0F041D5B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AE7F3-DEAB-492E-AEA5-46FECE5E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66FCF-07ED-4FCA-BD51-96125496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751C7-675C-41C3-B198-B41272D5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591D2-4AC9-4B0D-B3C8-F690A1D5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DC3-F117-4534-9948-95276FCA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6EE7-8B4A-441E-921E-C3B4461B9A7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DC51-194D-4671-A97A-3CE9A289D4C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691-1065-4175-A109-C768EFC35F4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F90E-CB1C-46B1-9A59-D04DA596FB9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D3A6-5EF8-43B2-83DA-D78D13D0DBD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DD8E-A84F-4EBD-B30F-5B45F8264EB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554B-B51E-453A-911B-85B24EF4BEB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609480" y="1663560"/>
            <a:ext cx="772164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598d9"/>
                </a:solidFill>
                <a:latin typeface="Arial"/>
              </a:rPr>
              <a:t>Девіз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пружуй нерв, напружуй моз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иймай, збагни і зрозумі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ихайло Казимирч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68280" y="355680"/>
            <a:ext cx="768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Організаційни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303120" y="471600"/>
            <a:ext cx="800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598d9"/>
                </a:solidFill>
                <a:latin typeface="Arial"/>
              </a:rPr>
              <a:t>Програми, призначені для стиснення і архівації да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696960" y="2192400"/>
            <a:ext cx="74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хіватор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це спеціальні програми, які стискають дані для компактного їх зберіг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ед них найбільш відомі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Zip, WinRAR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465120" y="1403280"/>
            <a:ext cx="77104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гляд і вилучення файлів 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ів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івація файл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давання файлів до архі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ворення багатотомних, саморозпаковувальних й неперервних архів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1190160" y="428760"/>
            <a:ext cx="66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98d9"/>
                </a:solidFill>
                <a:latin typeface="Arial"/>
              </a:rPr>
              <a:t>Функції програм-архіватор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Объект 3" descr=""/>
          <p:cNvPicPr/>
          <p:nvPr/>
        </p:nvPicPr>
        <p:blipFill>
          <a:blip r:embed="rId1"/>
          <a:stretch/>
        </p:blipFill>
        <p:spPr>
          <a:xfrm>
            <a:off x="353880" y="5592600"/>
            <a:ext cx="2322720" cy="1028880"/>
          </a:xfrm>
          <a:prstGeom prst="rect">
            <a:avLst/>
          </a:prstGeom>
          <a:ln w="0">
            <a:noFill/>
          </a:ln>
        </p:spPr>
      </p:pic>
      <p:pic>
        <p:nvPicPr>
          <p:cNvPr id="391" name="Объект 4" descr=""/>
          <p:cNvPicPr/>
          <p:nvPr/>
        </p:nvPicPr>
        <p:blipFill>
          <a:blip r:embed="rId2"/>
          <a:stretch/>
        </p:blipFill>
        <p:spPr>
          <a:xfrm>
            <a:off x="4643280" y="5351400"/>
            <a:ext cx="3668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961920" y="399960"/>
            <a:ext cx="72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Arial"/>
              </a:rPr>
              <a:t>Алгоритми дій архівації та розархівації</a:t>
            </a:r>
            <a:r>
              <a:rPr b="0" lang="ru-RU" sz="2800" spc="-1" strike="noStrike">
                <a:solidFill>
                  <a:srgbClr val="7598d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522360" y="1031760"/>
            <a:ext cx="7721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Архіваці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Натиснути правою кнопкою миші на значок файла або папки, які слід додати до архіву. Із контекстного меню обрати команду Добавить в арх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вікні програми-архіватора, що з'явиться на екрані, у вкладці Общие обрати назву архі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Зазначити, в якій папці має зберігатися архів. Для того щоб визначити шлях до потрібної папки, використовуємо кнопку Об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ти програму-архіватор, за допомогою якої стискатимемо дані. Для цього у вікні Формат архива потрібно встановити відповідний перемикач біля назви обраної прог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7598d9"/>
                </a:solidFill>
                <a:latin typeface="Arial"/>
              </a:rPr>
              <a:t>У рядку вибору Метод сжатия обрати один із запропонованих варіан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тиснути 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885960" y="357120"/>
            <a:ext cx="7370640" cy="74952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1"/>
          <p:cNvSpPr/>
          <p:nvPr/>
        </p:nvSpPr>
        <p:spPr>
          <a:xfrm>
            <a:off x="314280" y="1444680"/>
            <a:ext cx="77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Розархіва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98d9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7598d9"/>
                </a:solidFill>
                <a:latin typeface="Arial"/>
              </a:rPr>
              <a:t>Викликати контекстне меню, натиснувши правою кнопкою миші на значок архіву. Обрати команду Извлечь файли у вікні програми, яка розархівовує, у вкладці Общие обрати папку для розпакованих фай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замовчуванням Режим обновлення та Режим перезаписи виставлено оптимально, але у разі потреби їх можна змінити, використовуючи перемикачі різних режим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98d9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7598d9"/>
                </a:solidFill>
                <a:latin typeface="Arial"/>
              </a:rPr>
              <a:t>Натиснути кнопку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Архіватор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 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. Роша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74760" y="906480"/>
            <a:ext cx="8423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Завантаження</a:t>
            </a:r>
            <a:r>
              <a:rPr b="1" lang="ru-RU" sz="2100" spc="-1" strike="noStrike">
                <a:solidFill>
                  <a:srgbClr val="7598d9"/>
                </a:solidFill>
                <a:latin typeface="Arial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уск –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inR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3103560" y="1546200"/>
            <a:ext cx="5410080" cy="385776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7"/>
          <p:cNvSpPr/>
          <p:nvPr/>
        </p:nvSpPr>
        <p:spPr>
          <a:xfrm>
            <a:off x="331920" y="1476360"/>
            <a:ext cx="2354040" cy="631800"/>
          </a:xfrm>
          <a:prstGeom prst="wedgeRoundRectCallout">
            <a:avLst>
              <a:gd name="adj1" fmla="val 73467"/>
              <a:gd name="adj2" fmla="val 70101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иснути виділені фай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645080" y="1042920"/>
            <a:ext cx="2354040" cy="446040"/>
          </a:xfrm>
          <a:prstGeom prst="wedgeRoundRectCallout">
            <a:avLst>
              <a:gd name="adj1" fmla="val -68208"/>
              <a:gd name="adj2" fmla="val 167439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акувати арх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3675240" y="5837400"/>
            <a:ext cx="2354040" cy="446040"/>
          </a:xfrm>
          <a:prstGeom prst="wedgeRoundRectCallout">
            <a:avLst>
              <a:gd name="adj1" fmla="val -59981"/>
              <a:gd name="adj2" fmla="val -163879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мінити пар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1265400" y="5985000"/>
            <a:ext cx="1800000" cy="446040"/>
          </a:xfrm>
          <a:prstGeom prst="wedgeRoundRectCallout">
            <a:avLst>
              <a:gd name="adj1" fmla="val 56967"/>
              <a:gd name="adj2" fmla="val -194837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мінити ди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63400" y="3665520"/>
            <a:ext cx="1810080" cy="927000"/>
          </a:xfrm>
          <a:prstGeom prst="wedgeRoundRectCallout">
            <a:avLst>
              <a:gd name="adj1" fmla="val 92629"/>
              <a:gd name="adj2" fmla="val -22944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двійний клік ЛКМ: ввійти в арх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730080" y="2541600"/>
            <a:ext cx="1413000" cy="584280"/>
          </a:xfrm>
          <a:prstGeom prst="wedgeRoundRectCallout">
            <a:avLst>
              <a:gd name="adj1" fmla="val 125615"/>
              <a:gd name="adj2" fmla="val -24726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йти з пап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хіватор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: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стисн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1"/>
          <a:stretch/>
        </p:blipFill>
        <p:spPr>
          <a:xfrm>
            <a:off x="4524480" y="1851120"/>
            <a:ext cx="3933720" cy="385740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7"/>
          <p:cNvSpPr/>
          <p:nvPr/>
        </p:nvSpPr>
        <p:spPr>
          <a:xfrm>
            <a:off x="3382920" y="2892600"/>
            <a:ext cx="1042920" cy="622080"/>
          </a:xfrm>
          <a:prstGeom prst="wedgeRoundRectCallout">
            <a:avLst>
              <a:gd name="adj1" fmla="val 90333"/>
              <a:gd name="adj2" fmla="val 117856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ип архі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8113680" y="3898800"/>
            <a:ext cx="858960" cy="373320"/>
          </a:xfrm>
          <a:prstGeom prst="wedgeRoundRectCallout">
            <a:avLst>
              <a:gd name="adj1" fmla="val -125972"/>
              <a:gd name="adj2" fmla="val -5319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F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2027160" y="5091120"/>
            <a:ext cx="1855800" cy="593640"/>
          </a:xfrm>
          <a:prstGeom prst="wedgeRoundRectCallout">
            <a:avLst>
              <a:gd name="adj1" fmla="val 100981"/>
              <a:gd name="adj2" fmla="val -57754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агатотомні архі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1"/>
          <p:cNvSpPr/>
          <p:nvPr/>
        </p:nvSpPr>
        <p:spPr>
          <a:xfrm>
            <a:off x="6386400" y="1119240"/>
            <a:ext cx="1282680" cy="372960"/>
          </a:xfrm>
          <a:prstGeom prst="wedgeRoundRectCallout">
            <a:avLst>
              <a:gd name="adj1" fmla="val -4333"/>
              <a:gd name="adj2" fmla="val 296810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ар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3548160" y="1117440"/>
            <a:ext cx="1042920" cy="622440"/>
          </a:xfrm>
          <a:prstGeom prst="wedgeRoundRectCallout">
            <a:avLst>
              <a:gd name="adj1" fmla="val 73439"/>
              <a:gd name="adj2" fmla="val 235203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м'я архі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Архіватор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: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розархівува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3025800" y="2635200"/>
            <a:ext cx="2409840" cy="326700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5"/>
          <p:cNvSpPr/>
          <p:nvPr/>
        </p:nvSpPr>
        <p:spPr>
          <a:xfrm>
            <a:off x="3106800" y="2287440"/>
            <a:ext cx="858600" cy="373320"/>
          </a:xfrm>
          <a:prstGeom prst="wedgeRoundRectCallout">
            <a:avLst>
              <a:gd name="adj1" fmla="val 51662"/>
              <a:gd name="adj2" fmla="val 215106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4"/>
          <p:cNvSpPr/>
          <p:nvPr/>
        </p:nvSpPr>
        <p:spPr>
          <a:xfrm>
            <a:off x="699480" y="2215440"/>
            <a:ext cx="5306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Інтерактивна вправа «Закінчити реченн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976320" y="579600"/>
            <a:ext cx="674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598d9"/>
                </a:solidFill>
                <a:latin typeface="Arial"/>
              </a:rPr>
              <a:t>Закріплення 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598d9"/>
                </a:solidFill>
                <a:latin typeface="Arial"/>
              </a:rPr>
              <a:t>Підведення підсумків уро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598d9"/>
                </a:solidFill>
                <a:latin typeface="Arial"/>
              </a:rPr>
              <a:t>Оцін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698400" y="2790720"/>
            <a:ext cx="615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івація даних — це злиття кількох файлів чи каталогів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снення даних — це скорочення обсягу вихідних файлів шляхом усуненн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іватори – це спеціальні програми, які стискають дані для компактного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снення буває: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ідомішими програмами-архіваторами є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965160" y="1822320"/>
            <a:ext cx="6972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вчити теоретичний матеріал Інформатика, 9кл (підручник) стор. 2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слідницьке завдання на вибі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ли і де вперше було використано програми-архівато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1287360" y="630360"/>
            <a:ext cx="63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598d9"/>
                </a:solidFill>
                <a:latin typeface="Arial"/>
              </a:rPr>
              <a:t>Домашнє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34800" y="4894200"/>
            <a:ext cx="814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928800" y="1336320"/>
            <a:ext cx="67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и вичерпали тему уро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якую всім за ро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ажаю вам успіху у житті, а він не приходить без напруження нервів, мозку та волі, без віри у свої си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ехай вам всім щастить. Урок закінч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406440" y="306360"/>
            <a:ext cx="8026200" cy="606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598d9"/>
                </a:solidFill>
                <a:latin typeface="Arial"/>
              </a:rPr>
              <a:t>Перевірка домашнього завда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Троє учнів проходять тестування за допомогою програми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Технологія «Снігова груд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Дослідницьке домашнє завд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ли було вперше зафіксовано масове зараження ком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ютерів вірус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то був автором першого мережевого віру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5100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Що таке «троян» і коли він вперше 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вився? (повідомлення учні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Мотивація навчальної діяльності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598d9"/>
                </a:solidFill>
                <a:latin typeface="Century Schoolbook"/>
              </a:rPr>
              <a:t>Інтерактивна вправа “Мозковий штурм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703440" y="2513880"/>
            <a:ext cx="61639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туаці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вас є флешка обсягом  2 Гб. Вам потрібно терміново  перенести інформацію об'ємом 2,5 Гб на інший комп'ютер. Ваші дії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5"/>
          <p:cNvSpPr/>
          <p:nvPr/>
        </p:nvSpPr>
        <p:spPr>
          <a:xfrm>
            <a:off x="1355760" y="52236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е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те гру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ласна ро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041480" y="1960920"/>
            <a:ext cx="668016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598d9"/>
                </a:solidFill>
                <a:latin typeface="Arial"/>
              </a:rPr>
              <a:t>Тема уро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тиснення, архівування та розархівування да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рограми-архіват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рактична робота № 6 «Архівування та розархівування дани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878040" y="891720"/>
            <a:ext cx="700884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7598d9"/>
                </a:solidFill>
                <a:latin typeface="Arial"/>
              </a:rPr>
              <a:t>Навчальн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сформувати вміння учнів використовувати  програми-архіватори для стиснення, архівації та розархівації файл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598d9"/>
                </a:solidFill>
                <a:latin typeface="Arial"/>
              </a:rPr>
              <a:t>Розвивальна 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озвивати логічне мислення, формувати алгоритмічний стиль думки, поглибити знання учнів про впорядкування  інформації в  ком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598d9"/>
                </a:solidFill>
                <a:latin typeface="Arial"/>
              </a:rPr>
              <a:t>Виховн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ховувати  навички командної роботи, розвивати риси комунікабельної людини, підтримувати інтерес до предм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344600" y="528480"/>
            <a:ext cx="53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598d9"/>
                </a:solidFill>
                <a:latin typeface="Arial"/>
              </a:rPr>
              <a:t>Мет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1600200" y="596880"/>
            <a:ext cx="603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чікувані результати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584280" y="1587600"/>
            <a:ext cx="7962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чні зрозуміють поняття стиснення, архівації та розархівації файл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своять алгоритм архівування файл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знайомляться з  інтерфейсом програм-архіватор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чні будуть вміти застосовувати програми – архіватори для архівації да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297000" y="2328840"/>
            <a:ext cx="82692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длишок інформації призводить до збільшення вартості її збереження та переда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жим Петер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582560" y="617400"/>
            <a:ext cx="56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7598d9"/>
                </a:solidFill>
                <a:latin typeface="Arial"/>
              </a:rPr>
              <a:t>Епіграф уро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Стиснення файл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419040" y="922320"/>
            <a:ext cx="838692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Стиснення файлів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це зменшення їх розмі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12"/>
              </a:spcBef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Мета стисненн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еншити місце, яке займають файли на д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ворити резервну копію даних (на CD, DV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еншити об'єм даних, які передаються через І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'єднати групу файлів в один арх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шифрувати дані з паро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12"/>
              </a:spcBef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Типи стисненн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ез втрат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тиснений файл можна відновити у вихідному вигляді, знаючи алгоритм стисн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к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 втрат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 при стисненні частина інформації безповоротно втрача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тограф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Чи всі файли однаково можна стиснут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844720" y="13082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598d9"/>
                </a:solidFill>
                <a:latin typeface="Arial"/>
              </a:rPr>
              <a:t>Стискаю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730080" y="3598920"/>
            <a:ext cx="3613320" cy="189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к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кум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xl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иснені малю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bm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иснений зву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wa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иснене віде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av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1193760" y="2290680"/>
            <a:ext cx="2281320" cy="389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б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4849920" y="2270160"/>
            <a:ext cx="2388960" cy="38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465800" y="3624120"/>
            <a:ext cx="4149720" cy="189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падкові да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нені малю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gif, *.jpg, *.png, *.tif, 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нений зву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p3, *.w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нене віде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pg, *.wm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"/>
          <p:cNvSpPr/>
          <p:nvPr/>
        </p:nvSpPr>
        <p:spPr>
          <a:xfrm rot="20219400">
            <a:off x="3184560" y="1866960"/>
            <a:ext cx="582480" cy="323640"/>
          </a:xfrm>
          <a:prstGeom prst="leftArrow">
            <a:avLst>
              <a:gd name="adj1" fmla="val 50000"/>
              <a:gd name="adj2" fmla="val 449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6"/>
          <p:cNvSpPr/>
          <p:nvPr/>
        </p:nvSpPr>
        <p:spPr>
          <a:xfrm flipH="1" rot="1380600">
            <a:off x="4340160" y="1866600"/>
            <a:ext cx="582840" cy="32400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2" descr=""/>
          <p:cNvPicPr/>
          <p:nvPr/>
        </p:nvPicPr>
        <p:blipFill>
          <a:blip r:embed="rId1"/>
          <a:stretch/>
        </p:blipFill>
        <p:spPr>
          <a:xfrm rot="17591400">
            <a:off x="1777680" y="2817720"/>
            <a:ext cx="812880" cy="584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3" descr=""/>
          <p:cNvPicPr/>
          <p:nvPr/>
        </p:nvPicPr>
        <p:blipFill>
          <a:blip r:embed="rId2"/>
          <a:stretch/>
        </p:blipFill>
        <p:spPr>
          <a:xfrm rot="4110600">
            <a:off x="5606280" y="2832120"/>
            <a:ext cx="8492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olena</cp:lastModifiedBy>
  <dcterms:modified xsi:type="dcterms:W3CDTF">2011-12-06T17:35:26Z</dcterms:modified>
  <cp:revision>213</cp:revision>
  <dc:subject/>
  <dc:title>Программное обеспечение (ПО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9000000000001024140</vt:lpwstr>
  </property>
</Properties>
</file>