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A9C5-FC41-4FD5-B1C1-39F0684D74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ACAB-878F-4980-A66B-9639C16DF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5C55-2C12-46A9-98E7-B56EB1414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AB24-A9EB-4601-A662-007B0E723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4363-128E-400D-930F-2CEEFE527B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E1AF-F910-4C61-9521-5F5672EABC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1ADB-27D3-4A38-8B8D-F82C9BA8CA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A663-A9D3-4611-B745-15E22EE928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BC1-1C36-4EEC-BD30-9A5779CB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2F6-6328-4B06-BB6E-334D3AAD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3B2-7FB4-421B-A099-386E2B1F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4F6-2678-43F2-9CB1-FEC421B0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2224-08B6-430A-9501-2959A866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6AE5-7325-4D49-960C-33E6684B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BBC5-5091-4910-9E37-5CA8BF64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584F-B0F7-41BA-AAF8-8D57AADA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B013-4004-4CA9-BCA4-DE1B8888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5B6C-0593-4D8C-ACC5-5291B13C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0DF0-CED5-4D5C-9948-0E5E2871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DA4-6EC6-4811-9F87-2B618A53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9568-123A-4446-925E-DD4469C3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846F-388D-4AB9-A8CF-E91781F0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1A6F-CF1C-4145-98C5-F276C196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7B2B-D72E-47DA-A05D-5FCE715E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3079-3C8B-477B-AAF9-4986CD32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2CF89-A6A1-4DAC-BA76-D0E2E71B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E8EEF-7591-4A4C-A6F9-0CCBC18A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A2D62-2652-4324-AA33-452F47F0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394BF-0129-4FB4-B239-39C74511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86EC0-E50E-489C-911A-21BBD28D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DBF-1A53-40BD-AF05-5771EF14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35177-C1F2-4E96-8147-0FAE8853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0FED1-7059-4410-919F-EFCB277B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EFFC5-E09C-45B8-8031-A8B032FF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3C4A5-4604-4F40-903E-61BDEFFE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349CB-CFC6-404E-954A-540801F6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6BF39-C5A6-4442-B465-C2E5729D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EC8C7-EF75-4854-A397-8FA6403B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DDFDF-6E88-469D-9BD2-B21EE105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F9859-8565-4F3A-8B75-992C8FFC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079DB-1FE5-4686-8689-8C4EA81E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573-60A9-40B8-9E81-DE8E27A5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C4CE6-D00B-4D81-B536-D56EE0B2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AE2C8-769B-4A17-BB7A-5433006E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363A7-951D-4319-8013-DB0BF948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C7468-537A-4B6E-9075-461A9DFC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B606B-ED2C-489D-9488-9B274C6A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CC092-88D6-4967-9D9A-D7AE71C6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3807B-9394-424F-A3E5-4B9317D5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BCE1B-487A-4346-81F9-4AEABD7E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8B057-81CB-458C-A358-A1686D4D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55701-B1BF-4872-809B-7130E4AD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960-154A-47B6-BB7C-0C9F1017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32F04-7DE2-4BE4-BCE8-16FA0770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6B9F00-1BE3-4ADC-ABE1-4EFFB642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C1B2C-A25A-4B44-9AB3-1310D68F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E4180B-B9B0-4610-BC80-EE6B9314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22996-8BEC-4E5D-B81D-8EF42C0B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70E12-1445-4945-BC3A-D38E5E2C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4AA19-FA85-4903-87DE-A27EBBCC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6A7A5-3C48-4A60-9237-1779E5DD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21D804-7CAB-4D91-A3AA-DFD202C3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187F6-C83C-4704-A27F-E495AD55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488-7C67-4EC7-98B3-13ADA376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F7044-F227-4A6D-A87D-4187A81D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32110-DA70-452D-80BB-015A92B1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75EB4B-8F2C-4AB5-9759-2D81138D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C16BA-E83D-4EF6-BC36-29901E54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6F45E-874E-4E9B-95A4-02D88020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9EF101-BB34-4F71-81DE-338F5B1B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A93A27-D975-41DB-AF01-7242F3D5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6DF58-6F3D-4EEC-BCAB-13A974B1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83530-58FF-4A58-B5B5-A518448F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CB34A9-78EA-4C24-B223-9F133269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D56-76DF-40D7-ABEC-6844D353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79962E-C3C4-4833-8A14-746457E6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CBF7AB-83E6-48A4-B572-4C606FB7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78689-60DB-4552-8AD2-EB1F1C55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8F6DA-C908-4E12-9A9C-03EB857F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A69D3E-A9C5-45B3-BED3-87031C8B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CDCF05-5C5A-49BB-AB10-4FCF4D17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C5862B-8D9B-492C-9263-69F719F1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43A271-9958-4222-924C-E9436DCF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880C91-46A1-45C8-82C5-1AB51AA5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4CB556-54AA-43A8-9F48-E6615FF3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D06-17D4-467C-A353-5D5F91EB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72A2D9-8492-4105-8231-9F99F270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9BF1B-2CE3-4022-A178-0E024B48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6ECF1-80F6-4EF6-8832-4C60F235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405BDF-0527-40A8-9A54-933F40DA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16C181-DC74-420F-BDAB-874B9292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513-58EB-4F36-9470-973E5EDD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4A93-D273-478E-BB41-DC216471852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EA4A-E978-4DBA-A0DF-9B56D536717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6CA4-EFD5-42D8-AFAC-B1DBCB745D8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30DD-F3A1-4666-8A54-31B444FB25A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2FC0-924B-4D69-B08E-6026D61D2A2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49B8-F227-467E-B1C0-9F223370124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733F-8A3B-4D45-9B7E-42D56F60E83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609480" y="1663560"/>
            <a:ext cx="772164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598d9"/>
                </a:solidFill>
                <a:latin typeface="Arial"/>
              </a:rPr>
              <a:t>Девіз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пружуй нерв, напружуй моз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иймай, збагни і зрозумі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ихайло Казимирч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68280" y="355680"/>
            <a:ext cx="768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.Організаційний мо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303120" y="471600"/>
            <a:ext cx="800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598d9"/>
                </a:solidFill>
                <a:latin typeface="Arial"/>
              </a:rPr>
              <a:t>Програми, призначені для стиснення і архівації да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2"/>
          <p:cNvSpPr/>
          <p:nvPr/>
        </p:nvSpPr>
        <p:spPr>
          <a:xfrm>
            <a:off x="696960" y="2192400"/>
            <a:ext cx="74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рхіватор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це спеціальні програми, які стискають дані для компактного їх зберіг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ред них найбільш відомі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Zip, WinRAR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465120" y="1403280"/>
            <a:ext cx="77104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гляд і вилучення файлів 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ів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хівація файл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давання файлів до архі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ворення багатотомних, саморозпаковувальних й неперервних архів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2"/>
          <p:cNvSpPr/>
          <p:nvPr/>
        </p:nvSpPr>
        <p:spPr>
          <a:xfrm>
            <a:off x="1190160" y="428760"/>
            <a:ext cx="667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98d9"/>
                </a:solidFill>
                <a:latin typeface="Arial"/>
              </a:rPr>
              <a:t>Функції програм-архіватор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Объект 3" descr=""/>
          <p:cNvPicPr/>
          <p:nvPr/>
        </p:nvPicPr>
        <p:blipFill>
          <a:blip r:embed="rId1"/>
          <a:stretch/>
        </p:blipFill>
        <p:spPr>
          <a:xfrm>
            <a:off x="353880" y="5592600"/>
            <a:ext cx="2322720" cy="1028880"/>
          </a:xfrm>
          <a:prstGeom prst="rect">
            <a:avLst/>
          </a:prstGeom>
          <a:ln w="0">
            <a:noFill/>
          </a:ln>
        </p:spPr>
      </p:pic>
      <p:pic>
        <p:nvPicPr>
          <p:cNvPr id="391" name="Объект 4" descr=""/>
          <p:cNvPicPr/>
          <p:nvPr/>
        </p:nvPicPr>
        <p:blipFill>
          <a:blip r:embed="rId2"/>
          <a:stretch/>
        </p:blipFill>
        <p:spPr>
          <a:xfrm>
            <a:off x="4643280" y="5351400"/>
            <a:ext cx="3668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961920" y="399960"/>
            <a:ext cx="72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98d9"/>
                </a:solidFill>
                <a:latin typeface="Arial"/>
              </a:rPr>
              <a:t>Алгоритми дій архівації та розархівації</a:t>
            </a:r>
            <a:r>
              <a:rPr b="0" lang="ru-RU" sz="2800" spc="-1" strike="noStrike">
                <a:solidFill>
                  <a:srgbClr val="7598d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522360" y="1031760"/>
            <a:ext cx="7721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Архіваці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598d9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7598d9"/>
                </a:solidFill>
                <a:latin typeface="Arial"/>
              </a:rPr>
              <a:t>Натиснути правою кнопкою миші на значок файла або папки, які слід додати до архіву. Із контекстного меню обрати команду Добавить в арх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вікні програми-архіватора, що з'явиться на екрані, у вкладці Общие обрати назву архі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598d9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7598d9"/>
                </a:solidFill>
                <a:latin typeface="Arial"/>
              </a:rPr>
              <a:t>Зазначити, в якій папці має зберігатися архів. Для того щоб визначити шлях до потрібної папки, використовуємо кнопку Обз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ти програму-архіватор, за допомогою якої стискатимемо дані. Для цього у вікні Формат архива потрібно встановити відповідний перемикач біля назви обраної прог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598d9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7598d9"/>
                </a:solidFill>
                <a:latin typeface="Arial"/>
              </a:rPr>
              <a:t>У рядку вибору Метод сжатия обрати один із запропонованих варіант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тиснути 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885960" y="357120"/>
            <a:ext cx="7370640" cy="74952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1"/>
          <p:cNvSpPr/>
          <p:nvPr/>
        </p:nvSpPr>
        <p:spPr>
          <a:xfrm>
            <a:off x="314280" y="1444680"/>
            <a:ext cx="77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Розархіваці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98d9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7598d9"/>
                </a:solidFill>
                <a:latin typeface="Arial"/>
              </a:rPr>
              <a:t>Викликати контекстне меню, натиснувши правою кнопкою миші на значок архіву. Обрати команду Извлечь файли у вікні програми, яка розархівовує, у вкладці Общие обрати папку для розпакованих файл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замовчуванням Режим обновлення та Режим перезаписи виставлено оптимально, але у разі потреби їх можна змінити, використовуючи перемикачі різних режим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98d9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7598d9"/>
                </a:solidFill>
                <a:latin typeface="Arial"/>
              </a:rPr>
              <a:t>Натиснути кнопку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Архіватор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nRAR 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. Роша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374760" y="906480"/>
            <a:ext cx="8423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tabLst>
                <a:tab algn="l" pos="0"/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Завантаження</a:t>
            </a:r>
            <a:r>
              <a:rPr b="1" lang="ru-RU" sz="2100" spc="-1" strike="noStrike">
                <a:solidFill>
                  <a:srgbClr val="7598d9"/>
                </a:solidFill>
                <a:latin typeface="Arial"/>
              </a:rPr>
              <a:t>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Пуск –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WinR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3103560" y="1546200"/>
            <a:ext cx="5410080" cy="385776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7"/>
          <p:cNvSpPr/>
          <p:nvPr/>
        </p:nvSpPr>
        <p:spPr>
          <a:xfrm>
            <a:off x="331920" y="1476360"/>
            <a:ext cx="2354040" cy="631800"/>
          </a:xfrm>
          <a:prstGeom prst="wedgeRoundRectCallout">
            <a:avLst>
              <a:gd name="adj1" fmla="val 73467"/>
              <a:gd name="adj2" fmla="val 70101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тиснути виділені фай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645080" y="1042920"/>
            <a:ext cx="2354040" cy="446040"/>
          </a:xfrm>
          <a:prstGeom prst="wedgeRoundRectCallout">
            <a:avLst>
              <a:gd name="adj1" fmla="val -68208"/>
              <a:gd name="adj2" fmla="val 167439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акувати арх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9"/>
          <p:cNvSpPr/>
          <p:nvPr/>
        </p:nvSpPr>
        <p:spPr>
          <a:xfrm>
            <a:off x="3675240" y="5837400"/>
            <a:ext cx="2354040" cy="446040"/>
          </a:xfrm>
          <a:prstGeom prst="wedgeRoundRectCallout">
            <a:avLst>
              <a:gd name="adj1" fmla="val -59981"/>
              <a:gd name="adj2" fmla="val -163879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мінити пар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0"/>
          <p:cNvSpPr/>
          <p:nvPr/>
        </p:nvSpPr>
        <p:spPr>
          <a:xfrm>
            <a:off x="1265400" y="5985000"/>
            <a:ext cx="1800000" cy="446040"/>
          </a:xfrm>
          <a:prstGeom prst="wedgeRoundRectCallout">
            <a:avLst>
              <a:gd name="adj1" fmla="val 56967"/>
              <a:gd name="adj2" fmla="val -194837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мінити ди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563400" y="3665520"/>
            <a:ext cx="1810080" cy="927000"/>
          </a:xfrm>
          <a:prstGeom prst="wedgeRoundRectCallout">
            <a:avLst>
              <a:gd name="adj1" fmla="val 92629"/>
              <a:gd name="adj2" fmla="val -22944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одвійний клік ЛКМ: ввійти в арх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>
            <a:off x="730080" y="2541600"/>
            <a:ext cx="1413000" cy="584280"/>
          </a:xfrm>
          <a:prstGeom prst="wedgeRoundRectCallout">
            <a:avLst>
              <a:gd name="adj1" fmla="val 125615"/>
              <a:gd name="adj2" fmla="val -24726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йти з пап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хіватор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nRAR: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стисн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1"/>
          <a:stretch/>
        </p:blipFill>
        <p:spPr>
          <a:xfrm>
            <a:off x="4524480" y="1851120"/>
            <a:ext cx="3933720" cy="3857400"/>
          </a:xfrm>
          <a:prstGeom prst="rect">
            <a:avLst/>
          </a:prstGeom>
          <a:ln w="0">
            <a:noFill/>
          </a:ln>
        </p:spPr>
      </p:pic>
      <p:sp>
        <p:nvSpPr>
          <p:cNvPr id="409" name="AutoShape 7"/>
          <p:cNvSpPr/>
          <p:nvPr/>
        </p:nvSpPr>
        <p:spPr>
          <a:xfrm>
            <a:off x="3382920" y="2892600"/>
            <a:ext cx="1042920" cy="622080"/>
          </a:xfrm>
          <a:prstGeom prst="wedgeRoundRectCallout">
            <a:avLst>
              <a:gd name="adj1" fmla="val 90333"/>
              <a:gd name="adj2" fmla="val 117856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ип архі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9"/>
          <p:cNvSpPr/>
          <p:nvPr/>
        </p:nvSpPr>
        <p:spPr>
          <a:xfrm>
            <a:off x="8113680" y="3898800"/>
            <a:ext cx="858960" cy="373320"/>
          </a:xfrm>
          <a:prstGeom prst="wedgeRoundRectCallout">
            <a:avLst>
              <a:gd name="adj1" fmla="val -125972"/>
              <a:gd name="adj2" fmla="val -5319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F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0"/>
          <p:cNvSpPr/>
          <p:nvPr/>
        </p:nvSpPr>
        <p:spPr>
          <a:xfrm>
            <a:off x="2027160" y="5091120"/>
            <a:ext cx="1855800" cy="593640"/>
          </a:xfrm>
          <a:prstGeom prst="wedgeRoundRectCallout">
            <a:avLst>
              <a:gd name="adj1" fmla="val 100981"/>
              <a:gd name="adj2" fmla="val -57754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агатотомні архі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1"/>
          <p:cNvSpPr/>
          <p:nvPr/>
        </p:nvSpPr>
        <p:spPr>
          <a:xfrm>
            <a:off x="6386400" y="1119240"/>
            <a:ext cx="1282680" cy="372960"/>
          </a:xfrm>
          <a:prstGeom prst="wedgeRoundRectCallout">
            <a:avLst>
              <a:gd name="adj1" fmla="val -4333"/>
              <a:gd name="adj2" fmla="val 296810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ар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3548160" y="1117440"/>
            <a:ext cx="1042920" cy="622440"/>
          </a:xfrm>
          <a:prstGeom prst="wedgeRoundRectCallout">
            <a:avLst>
              <a:gd name="adj1" fmla="val 73439"/>
              <a:gd name="adj2" fmla="val 235203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ім'я архі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Архіватор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nRAR: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розархівува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3025800" y="2635200"/>
            <a:ext cx="2409840" cy="326700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5"/>
          <p:cNvSpPr/>
          <p:nvPr/>
        </p:nvSpPr>
        <p:spPr>
          <a:xfrm>
            <a:off x="3106800" y="2287440"/>
            <a:ext cx="858600" cy="373320"/>
          </a:xfrm>
          <a:prstGeom prst="wedgeRoundRectCallout">
            <a:avLst>
              <a:gd name="adj1" fmla="val 51662"/>
              <a:gd name="adj2" fmla="val 215106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4"/>
          <p:cNvSpPr/>
          <p:nvPr/>
        </p:nvSpPr>
        <p:spPr>
          <a:xfrm>
            <a:off x="699480" y="2215440"/>
            <a:ext cx="5306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Інтерактивна вправа «Закінчити реченн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976320" y="579600"/>
            <a:ext cx="674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598d9"/>
                </a:solidFill>
                <a:latin typeface="Arial"/>
              </a:rPr>
              <a:t>Закріплення те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598d9"/>
                </a:solidFill>
                <a:latin typeface="Arial"/>
              </a:rPr>
              <a:t>Підведення підсумків уро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598d9"/>
                </a:solidFill>
                <a:latin typeface="Arial"/>
              </a:rPr>
              <a:t>Оцін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698400" y="2790720"/>
            <a:ext cx="615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хівація даних — це злиття кількох файлів чи каталогів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иснення даних — це скорочення обсягу вихідних файлів шляхом усуненн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хіватори – це спеціальні програми, які стискають дані для компактного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иснення буває: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відомішими програмами-архіваторами є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965160" y="1822320"/>
            <a:ext cx="6972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ивчити теоретичний матеріал Інформатика, 9кл (підручник) стор. 2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ослідницьке завдання на вибі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оли і де вперше було використано програми-архіватор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1287360" y="630360"/>
            <a:ext cx="634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598d9"/>
                </a:solidFill>
                <a:latin typeface="Arial"/>
              </a:rPr>
              <a:t>Домашнє завд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34800" y="4894200"/>
            <a:ext cx="814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928800" y="1336320"/>
            <a:ext cx="676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и вичерпали тему уро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якую всім за ро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ажаю вам успіху у житті, а він не приходить без напруження нервів, мозку та волі, без віри у свої си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ехай вам всім щастить. Урок закінч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406440" y="306360"/>
            <a:ext cx="8026200" cy="606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598d9"/>
                </a:solidFill>
                <a:latin typeface="Arial"/>
              </a:rPr>
              <a:t>Перевірка домашнього завдання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Троє учнів проходять тестування за допомогою програми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.Технологія «Снігова груд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.Дослідницьке домашнє завд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оли було вперше зафіксовано масове зараження ком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ютерів вірус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то був автором першого мережевого вірус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Що таке «троян» і коли він вперше 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вився? (повідомлення учні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.Мотивація навчальної діяльності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598d9"/>
                </a:solidFill>
                <a:latin typeface="Century Schoolbook"/>
              </a:rPr>
              <a:t>Інтерактивна вправа “Мозковий штурм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703440" y="2513880"/>
            <a:ext cx="61639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туаці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 вас є флешка обсягом  2 Гб. Вам потрібно терміново  перенести інформацію об'ємом 2,5 Гб на інший комп'ютер. Ваші дії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5"/>
          <p:cNvSpPr/>
          <p:nvPr/>
        </p:nvSpPr>
        <p:spPr>
          <a:xfrm>
            <a:off x="1355760" y="52236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е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те гру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ласна ро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1041480" y="1960920"/>
            <a:ext cx="668016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598d9"/>
                </a:solidFill>
                <a:latin typeface="Arial"/>
              </a:rPr>
              <a:t>Тема уро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Стиснення, архівування та розархівування да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Програми-архівато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Практична робота № 6 «Архівування та розархівування дани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878040" y="891720"/>
            <a:ext cx="700884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7598d9"/>
                </a:solidFill>
                <a:latin typeface="Arial"/>
              </a:rPr>
              <a:t>Навчальн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сформувати вміння учнів використовувати  програми-архіватори для стиснення, архівації та розархівації файл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598d9"/>
                </a:solidFill>
                <a:latin typeface="Arial"/>
              </a:rPr>
              <a:t>Розвивальна 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озвивати логічне мислення, формувати алгоритмічний стиль думки, поглибити знання учнів про впорядкування  інформації в  ком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ю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598d9"/>
                </a:solidFill>
                <a:latin typeface="Arial"/>
              </a:rPr>
              <a:t>Виховн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виховувати  навички командної роботи, розвивати риси комунікабельної людини, підтримувати інтерес до предм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344600" y="528480"/>
            <a:ext cx="53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598d9"/>
                </a:solidFill>
                <a:latin typeface="Arial"/>
              </a:rPr>
              <a:t>Мета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3"/>
          <p:cNvSpPr/>
          <p:nvPr/>
        </p:nvSpPr>
        <p:spPr>
          <a:xfrm>
            <a:off x="1600200" y="596880"/>
            <a:ext cx="6032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чікувані результати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584280" y="1587600"/>
            <a:ext cx="7962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чні зрозуміють поняття стиснення, архівації та розархівації файл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своять алгоритм архівування файл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знайомляться з  інтерфейсом програм-архіватор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чні будуть вміти застосовувати програми – архіватори для архівації да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4"/>
          <p:cNvSpPr/>
          <p:nvPr/>
        </p:nvSpPr>
        <p:spPr>
          <a:xfrm>
            <a:off x="297000" y="2328840"/>
            <a:ext cx="826920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длишок інформації призводить до збільшення вартості її збереження та передач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жим Петер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1582560" y="617400"/>
            <a:ext cx="56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7598d9"/>
                </a:solidFill>
                <a:latin typeface="Arial"/>
              </a:rPr>
              <a:t>Епіграф уро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Стиснення файл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419040" y="922320"/>
            <a:ext cx="838692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Стиснення файлів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це зменшення їх розмі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312"/>
              </a:spcBef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Мета стисненн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меншити місце, яке займають файли на ди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ворити резервну копію даних (на CD, DV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меншити об'єм даних, які передаються через І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'єднати групу файлів в один арх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шифрувати дані з паро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312"/>
              </a:spcBef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Типи стисненн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ез втрат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тиснений файл можна відновити у вихідному вигляді, знаючи алгоритм стисн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к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г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 втрата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 при стисненні частина інформації безповоротно втрачає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тограф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Чи всі файли однаково можна стиснут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844720" y="13082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598d9"/>
                </a:solidFill>
                <a:latin typeface="Arial"/>
              </a:rPr>
              <a:t>Стискаю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730080" y="3598920"/>
            <a:ext cx="3613320" cy="189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к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x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кумен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d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xl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стиснені малю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bm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стиснений зву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wa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стиснене віде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av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9"/>
          <p:cNvSpPr/>
          <p:nvPr/>
        </p:nvSpPr>
        <p:spPr>
          <a:xfrm>
            <a:off x="1193760" y="2290680"/>
            <a:ext cx="2281320" cy="389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б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0"/>
          <p:cNvSpPr/>
          <p:nvPr/>
        </p:nvSpPr>
        <p:spPr>
          <a:xfrm>
            <a:off x="4849920" y="2270160"/>
            <a:ext cx="2388960" cy="38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г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4465800" y="3624120"/>
            <a:ext cx="4149720" cy="189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падкові да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гр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ex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иснені малю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gif, *.jpg, *.png, *.tif, 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иснений зву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p3, *.w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иснене віде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pg, *.wm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"/>
          <p:cNvSpPr/>
          <p:nvPr/>
        </p:nvSpPr>
        <p:spPr>
          <a:xfrm rot="20219400">
            <a:off x="3184560" y="1866960"/>
            <a:ext cx="582480" cy="323640"/>
          </a:xfrm>
          <a:prstGeom prst="leftArrow">
            <a:avLst>
              <a:gd name="adj1" fmla="val 50000"/>
              <a:gd name="adj2" fmla="val 449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6"/>
          <p:cNvSpPr/>
          <p:nvPr/>
        </p:nvSpPr>
        <p:spPr>
          <a:xfrm flipH="1" rot="1380600">
            <a:off x="4340160" y="1866600"/>
            <a:ext cx="582840" cy="32400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2" descr=""/>
          <p:cNvPicPr/>
          <p:nvPr/>
        </p:nvPicPr>
        <p:blipFill>
          <a:blip r:embed="rId1"/>
          <a:stretch/>
        </p:blipFill>
        <p:spPr>
          <a:xfrm rot="17591400">
            <a:off x="1777680" y="2817720"/>
            <a:ext cx="812880" cy="584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3" descr=""/>
          <p:cNvPicPr/>
          <p:nvPr/>
        </p:nvPicPr>
        <p:blipFill>
          <a:blip r:embed="rId2"/>
          <a:stretch/>
        </p:blipFill>
        <p:spPr>
          <a:xfrm rot="4110600">
            <a:off x="5606280" y="2832120"/>
            <a:ext cx="84924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olena</cp:lastModifiedBy>
  <dcterms:modified xsi:type="dcterms:W3CDTF">2011-12-06T17:35:26Z</dcterms:modified>
  <cp:revision>213</cp:revision>
  <dc:subject/>
  <dc:title>Программное обеспечение (ПО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9000000000001024140</vt:lpwstr>
  </property>
</Properties>
</file>