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0162-B1F0-4670-83BA-D745D4073B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D2A5-3F83-4A7A-99D1-EE36A4AD0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4CA-0B10-4F5B-B149-436BFE6E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150-6C0C-4F2D-AE89-989D70A6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B21-9FDF-44EF-AB99-18D06D19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7E7-44AE-44A5-BABF-5F32FF17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7FC9-8DC7-443D-A268-54A80C31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D095-CA68-4259-B23E-1810997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0E20-4A32-43FB-9F9A-B9390954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687-121C-4B4E-B096-F61F4365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7BA5-0A83-428F-B253-E8A7CCEE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109C-59C6-433D-B44D-11688D0B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368-754E-4101-AC27-DDBF2A4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219-0FBC-4A77-890E-B59E711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A1B-C210-4FFE-97DC-B630B9C1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864-685E-42CB-9AAC-7D76C0E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D6D-8817-4244-9CB4-25237CCF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784-9C13-4E29-A937-077C8BBF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0CCB-E001-40FF-9179-4FBF69D2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3F92-E8F6-4370-A26C-6DFF27E3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72B6-3BED-448A-AF8D-2EDFE890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340B-42D0-4D40-80F2-241FF273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450C-6D49-4886-8A0B-F6001DC9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D669-73E0-497C-BFCB-86A48B0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AA5-0DA7-46F7-A562-37192F06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45B8-FAFC-4FBF-B112-4154EC54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9E9B-9A45-4DD1-BA9F-F3372DD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F2A1-0515-4FBC-BDCE-B53114DA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0530-6716-4DF3-AF97-F7BD4B0D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ADFF-520C-4BCB-B4DC-1488EF1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9992-DCB1-4D1B-880A-1ECF7267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0AAC-3A82-4A24-AA03-2FC1AB6B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B60B-3D0D-40F9-AAEC-66DCD337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B037-E162-49A2-9952-59C99126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ADD3-663B-40E0-8B88-367BC57C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71A-C07B-48C6-8E10-7CC0D3D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66E5-2E95-44E4-9352-338EC166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71C6-BE43-4C47-8658-5510C1C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2991-AFAE-489C-B2A6-D9F3742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274B-DFC2-46FF-A9FE-0FC3D39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DBEF-E2BA-45FD-8B3F-720E2CF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39F9-6838-44F1-A53F-A5F1A1D5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7222-9156-42D7-A4F4-963F68B3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BE81C-EDD5-45A9-826C-0A938D6D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07AE-18D2-4949-A204-E40CB748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5FC2-B23B-4B1E-82FA-9A6012BB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70D-FEE2-4F56-8A5F-F9F45A0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1700-3473-411B-8F0B-F75A62FB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1188-CC88-468C-BE2A-8EB13F70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3813-A703-4171-9F9D-70771FB5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51E2-EB5C-4045-BCA0-1C9C5D5D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FC1A-8ACD-4017-B93D-8A1B4267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8DAA9-152C-432B-AF33-22489F5D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CF12-E147-4249-B052-69D6E38B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5B51-F490-4330-AAC1-5D0526A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1262-BF97-41A3-9B17-FE0B49ED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DE16-1001-40B1-914E-5A809A60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FD1-617D-4109-A2C9-49332EA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A7C8-B798-42E9-82E8-350CF3F5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BCB-5C8D-41C8-93B2-DB073AA4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7D7-769A-498D-A188-4A0E9C4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AA2-4EB7-49BE-BE3F-FFC8B02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E654-E834-4A6F-9118-F6A7805D05E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E32A-6BA5-4582-9542-A1155BB44A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558-2D7B-4113-A7E1-DF8D3D288D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DFA4-D2EE-4D34-8EBD-84CA2465501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50A-C47E-4758-9F9F-BCABDBE7B0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85920" y="350028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mbria"/>
              </a:rPr>
              <a:t>Мова програмування С++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Дата 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24.12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ижний колонтитул 3"/>
          <p:cNvSpPr/>
          <p:nvPr/>
        </p:nvSpPr>
        <p:spPr>
          <a:xfrm>
            <a:off x="914400" y="6172200"/>
            <a:ext cx="27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696464"/>
                </a:solidFill>
                <a:latin typeface="Arial"/>
              </a:rPr>
              <a:t>Лекція № </a:t>
            </a: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618920" y="1483920"/>
            <a:ext cx="634356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Загальні відомості про функцї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ласифікація функці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Задача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Створити функцію користувача, яка порівнює два цілих числа та повертає результат порівняння у вигляді одного із  знаків: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&gt;, &lt;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аб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раметри функці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Фактичні параметр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Формальні параметр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Інструкція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Perpetu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Схема 3" descr=""/>
          <p:cNvPicPr/>
          <p:nvPr/>
        </p:nvPicPr>
        <p:blipFill>
          <a:blip r:embed="rId1"/>
          <a:stretch/>
        </p:blipFill>
        <p:spPr>
          <a:xfrm>
            <a:off x="3773520" y="1616040"/>
            <a:ext cx="5168880" cy="1461960"/>
          </a:xfrm>
          <a:prstGeom prst="rect">
            <a:avLst/>
          </a:prstGeom>
          <a:ln w="0">
            <a:noFill/>
          </a:ln>
        </p:spPr>
      </p:pic>
      <p:pic>
        <p:nvPicPr>
          <p:cNvPr id="264" name="Схема 4" descr=""/>
          <p:cNvPicPr/>
          <p:nvPr/>
        </p:nvPicPr>
        <p:blipFill>
          <a:blip r:embed="rId2"/>
          <a:stretch/>
        </p:blipFill>
        <p:spPr>
          <a:xfrm>
            <a:off x="3408480" y="3157560"/>
            <a:ext cx="5175000" cy="1146240"/>
          </a:xfrm>
          <a:prstGeom prst="rect">
            <a:avLst/>
          </a:prstGeom>
          <a:ln w="0">
            <a:noFill/>
          </a:ln>
        </p:spPr>
      </p:pic>
      <p:pic>
        <p:nvPicPr>
          <p:cNvPr id="265" name="Схема 5" descr=""/>
          <p:cNvPicPr/>
          <p:nvPr/>
        </p:nvPicPr>
        <p:blipFill>
          <a:blip r:embed="rId3"/>
          <a:stretch/>
        </p:blipFill>
        <p:spPr>
          <a:xfrm>
            <a:off x="3060720" y="4145040"/>
            <a:ext cx="5168880" cy="117000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6" descr=""/>
          <p:cNvPicPr/>
          <p:nvPr/>
        </p:nvPicPr>
        <p:blipFill>
          <a:blip r:embed="rId4"/>
          <a:stretch/>
        </p:blipFill>
        <p:spPr>
          <a:xfrm>
            <a:off x="2633760" y="5718240"/>
            <a:ext cx="5162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питання на закріпл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и повинна співпадати кількість  фактичних параметрів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 кількістю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формальних параметрів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якому випадку інструкція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turn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в тілі функції не використовуєтьс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Чи допускається позначення різними символами фактичних та формальних параметрів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9" name="Схема 3" descr=""/>
          <p:cNvPicPr/>
          <p:nvPr/>
        </p:nvPicPr>
        <p:blipFill>
          <a:blip r:embed="rId1"/>
          <a:stretch/>
        </p:blipFill>
        <p:spPr>
          <a:xfrm>
            <a:off x="1914480" y="4565520"/>
            <a:ext cx="68454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питання на закріпл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айте визначення функції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Дайте визначення прототипу функції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Що таке виклик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2" name="Схема 3" descr=""/>
          <p:cNvPicPr/>
          <p:nvPr/>
        </p:nvPicPr>
        <p:blipFill>
          <a:blip r:embed="rId1"/>
          <a:stretch/>
        </p:blipFill>
        <p:spPr>
          <a:xfrm>
            <a:off x="1347840" y="1852560"/>
            <a:ext cx="6448320" cy="1098720"/>
          </a:xfrm>
          <a:prstGeom prst="rect">
            <a:avLst/>
          </a:prstGeom>
          <a:ln w="0">
            <a:noFill/>
          </a:ln>
        </p:spPr>
      </p:pic>
      <p:pic>
        <p:nvPicPr>
          <p:cNvPr id="273" name="Схема 4" descr=""/>
          <p:cNvPicPr/>
          <p:nvPr/>
        </p:nvPicPr>
        <p:blipFill>
          <a:blip r:embed="rId2"/>
          <a:stretch/>
        </p:blipFill>
        <p:spPr>
          <a:xfrm>
            <a:off x="1347840" y="3346560"/>
            <a:ext cx="6448320" cy="950760"/>
          </a:xfrm>
          <a:prstGeom prst="rect">
            <a:avLst/>
          </a:prstGeom>
          <a:ln w="0">
            <a:noFill/>
          </a:ln>
        </p:spPr>
      </p:pic>
      <p:pic>
        <p:nvPicPr>
          <p:cNvPr id="274" name="Схема 5" descr=""/>
          <p:cNvPicPr/>
          <p:nvPr/>
        </p:nvPicPr>
        <p:blipFill>
          <a:blip r:embed="rId3"/>
          <a:stretch/>
        </p:blipFill>
        <p:spPr>
          <a:xfrm>
            <a:off x="1322280" y="4664160"/>
            <a:ext cx="65660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4000" y="1447920"/>
            <a:ext cx="83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ворити функцію користувача, яка виконує математичну дію над змінними в залежності від введеного з клавіатури знаку операції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мінні дійсного типу та знак операції передати у функцію в якості параметрів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Головна функці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98100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iostream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conio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per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float , float , char 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main (  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     float chislo1, chislo2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ar znak;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char vidpovid='y'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o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{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адайте перше числ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chislo1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адайте друге число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chislo2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Головна функція (продовження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адайте знак операції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znak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per (chislo1, chislo2, znak 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“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иберіть для продовження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Y/N) 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  vidpovid;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ile (vidpovid=='y'|| vidpovid=='Y'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изначення фун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per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float chislo1, float chislo2 , char znak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      if ( znak=='+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+chislo2; cout &lt;&lt; "\n ";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znak=='-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-chislo2;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\n ";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Визначення функції(продовження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znak=='*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*chislo2;     cout &lt;&lt; "\n ";    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znak=='/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/chislo2;     cout &lt;&lt; "\n ";   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“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Ви помилились !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Домашнє завда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писати програму,  яка обчислює значення математичного виразу з одним невідомим (вираз вибрати самостійно).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дбачити функцію користувача, яка на екран монітору виводить результа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 якості параметрів використати змінні, введені з клавіатур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лан ле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21428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ласифікація функцій С++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уктура функцій користувач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Параметри функцій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7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Теми для самостійного вивч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8" name="Содержимое 2" descr=""/>
          <p:cNvPicPr/>
          <p:nvPr/>
        </p:nvPicPr>
        <p:blipFill>
          <a:blip r:embed="rId1"/>
          <a:stretch/>
        </p:blipFill>
        <p:spPr>
          <a:xfrm>
            <a:off x="103320" y="755640"/>
            <a:ext cx="89852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ласифікація функці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андартні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Функції користувач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Схема 4" descr=""/>
          <p:cNvPicPr/>
          <p:nvPr/>
        </p:nvPicPr>
        <p:blipFill>
          <a:blip r:embed="rId1"/>
          <a:stretch/>
        </p:blipFill>
        <p:spPr>
          <a:xfrm>
            <a:off x="4346640" y="1779480"/>
            <a:ext cx="4236840" cy="101916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" descr=""/>
          <p:cNvPicPr/>
          <p:nvPr/>
        </p:nvPicPr>
        <p:blipFill>
          <a:blip r:embed="rId2"/>
          <a:stretch/>
        </p:blipFill>
        <p:spPr>
          <a:xfrm>
            <a:off x="5419800" y="3730680"/>
            <a:ext cx="2523960" cy="1139760"/>
          </a:xfrm>
          <a:prstGeom prst="rect">
            <a:avLst/>
          </a:prstGeom>
          <a:ln w="0">
            <a:noFill/>
          </a:ln>
        </p:spPr>
      </p:pic>
      <p:pic>
        <p:nvPicPr>
          <p:cNvPr id="245" name="Схема 6" descr=""/>
          <p:cNvPicPr/>
          <p:nvPr/>
        </p:nvPicPr>
        <p:blipFill>
          <a:blip r:embed="rId3"/>
          <a:stretch/>
        </p:blipFill>
        <p:spPr>
          <a:xfrm>
            <a:off x="1987560" y="5065560"/>
            <a:ext cx="47419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труктура функцій користувач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тотип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иклик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изначення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8" name="Схема 3" descr=""/>
          <p:cNvPicPr/>
          <p:nvPr/>
        </p:nvPicPr>
        <p:blipFill>
          <a:blip r:embed="rId1"/>
          <a:stretch/>
        </p:blipFill>
        <p:spPr>
          <a:xfrm>
            <a:off x="701640" y="5205240"/>
            <a:ext cx="77407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Запитання на закріпл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Що таке тип поверненого значення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якому місці програми можна викликати функцію користувача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Чи має значення тип параметра, який передається у стандартну функцію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Якій інструкції передається управління при виклику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Якій інструкції передається управління після закінчення виконання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З яких символів починається тіло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Приклад використання фун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Створити функцію користувача, яка повертає максимальне  з двох цілих чисел, отриманих в якості  аргументі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Код програм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iostream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conio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nt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int, int );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//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прототип функці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  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     int pershe, dru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ar vidpovid='y'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o        {      cout &lt;&lt; "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дайте перше числ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persh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дайте друге числ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dru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-343800"/>
            <a:ext cx="777240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9280" y="90756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//виклик функці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аксимальне число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= " &lt;&lt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pershe, druge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ля продовження  виберіть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Y/N)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  vidpovid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ile (vidpovid=='y'|| vidpovid=='Y'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Визначення фун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560" y="90792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//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изначення функці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nt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int pershe, int druge 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cout &lt;&lt; "\n 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pershe&gt;druge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turn   persh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turn   dru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0:04:22Z</dcterms:created>
  <dc:creator>Vladimir Billig</dc:creator>
  <dc:description/>
  <dc:language>en-US</dc:language>
  <cp:lastModifiedBy>antonina.rudenko</cp:lastModifiedBy>
  <dcterms:modified xsi:type="dcterms:W3CDTF">2011-02-16T14:39:06Z</dcterms:modified>
  <cp:revision>204</cp:revision>
  <dc:subject/>
  <dc:title>Владимир Биллиг  Vladimir.Billig@tversu.r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a000000000001024140</vt:lpwstr>
  </property>
</Properties>
</file>