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408-F76D-487F-95CA-4A3B9111DC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5C2-5B6E-489B-8902-795471EDD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684-5C28-4422-B611-3A4627E6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539-6326-40B0-B400-CBCFBCB5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C35-2C61-4AA4-BB0A-DC7A2436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08D-3EB3-49A0-8C52-574982E7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8C4-0D3E-4035-BA0C-BEAF3DBA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CED9-0CF8-4531-8A8D-A15282D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6EE0-8D6E-4AA3-8DCD-FB98BB5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32B2-B444-4FA0-8724-84521D2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169-C612-4E2B-9A75-64F33B7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549B-9FFD-4D2C-818C-E1D583F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67E6-F41A-42BF-9653-45B08D7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271-BF86-4C8C-BFA3-C16F8EC1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D136-0DC7-46B0-AD78-24F9807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1BBF-89DE-4C64-A96B-5323FE3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9C5A-D19E-4AD8-B4CF-2A88973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1F6-4C1B-4157-A1A5-D5A36930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03D0-2E15-4765-BC54-CAF6FF1E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487E-DECE-48C3-877D-4030E3DD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E3BF-57E0-45E8-93D6-1694667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1971-FE77-4B46-ADCA-32B435B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F47D-52ED-41AF-A60F-ACBBD75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49B7-4589-471D-9D00-4AF89FA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470-7A6D-48B2-BFDC-A8CF01F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7764-BE10-4B6E-BA04-DD40429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E1BD-0A15-42A6-B6C7-2EB2D61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FF5B-421B-4D35-975A-78A779B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989D-7CA5-4299-9B05-9828770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D162-E8CD-42DA-93C6-EE0B2C96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2E5A-9EB0-4FD8-B1AC-00CED147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355F-8A5E-48EF-B0CE-AD2DBC2E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B25F-19F6-46D0-A252-C420617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5633-8F4E-4343-9194-AC96A1AA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80DA-10B2-4223-BF07-6410B73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901-7C75-48DD-82A2-36CB954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E4D0-7E99-4D2B-98FE-4787411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59B8-D467-4571-B840-F94F5F9E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F940-537C-497F-9B03-B3208DF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2705-5355-41C9-A6DA-685EC5C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97AC-ECBE-49E1-8D6D-B4F1E8F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91BD-E847-4FAD-8727-0FDA2B5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0E53-D320-4013-81D7-A281E39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794F-C423-4BBF-8CEB-810B7AF1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0487-6C80-446A-9836-9A8F295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1B7B-F1CE-4890-BDC3-E3D461FA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293-BFCC-410B-9C81-8FF25B5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4224-8127-45CA-9374-CC5F36F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36CA-5E86-4C16-9EF8-44908A5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851B8-9CE7-488E-AB21-4734D25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7A3D-6098-467C-AB93-F0D0969D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760F-E3F4-40EB-9091-91C1904F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3A48F-C984-4999-8BC8-DB224EB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428A-AAA7-4219-AF4C-FD04AFD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318D-34BA-4C28-A6A4-CF0AFCA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1BE57-974C-4F93-9A4A-4DE0CF7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A1EBC-C483-4586-9FA0-A3BCF897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099-66C2-46DB-9FD3-B64D544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936E-731E-4368-A171-47C6BF86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994-B079-4F64-A9FD-0553821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295-7076-4263-879C-2A53DBF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2C9-DF96-4AC4-962B-DC3002A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109-FDBF-4830-86AC-61964B59B1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D9EC-6B4D-4C65-B74F-E5EDEFD9DF6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6461-A666-4C8D-AC24-2329A45F11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440C-E49E-4E89-8F5C-9FCE5EC884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D466-7964-4077-9007-1A37026D25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mbria"/>
              </a:rPr>
              <a:t>Мова програмування С++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Дата 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24.12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ижний колонтитул 3"/>
          <p:cNvSpPr/>
          <p:nvPr/>
        </p:nvSpPr>
        <p:spPr>
          <a:xfrm>
            <a:off x="914400" y="6172200"/>
            <a:ext cx="27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696464"/>
                </a:solidFill>
                <a:latin typeface="Arial"/>
              </a:rPr>
              <a:t>Лекція № </a:t>
            </a: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618920" y="1483920"/>
            <a:ext cx="63435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агальні відомості про функцї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ласифікація функці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Задача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порівнює два цілих числа та повертає результат порівняння у вигляді одного із  знаків: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&gt;, &lt;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аб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раметри функ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актичні параметр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ормальні параметри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Інструкція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Perpetu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Схема 3" descr=""/>
          <p:cNvPicPr/>
          <p:nvPr/>
        </p:nvPicPr>
        <p:blipFill>
          <a:blip r:embed="rId1"/>
          <a:stretch/>
        </p:blipFill>
        <p:spPr>
          <a:xfrm>
            <a:off x="3773520" y="1616040"/>
            <a:ext cx="5168880" cy="1461960"/>
          </a:xfrm>
          <a:prstGeom prst="rect">
            <a:avLst/>
          </a:prstGeom>
          <a:ln w="0">
            <a:noFill/>
          </a:ln>
        </p:spPr>
      </p:pic>
      <p:pic>
        <p:nvPicPr>
          <p:cNvPr id="264" name="Схема 4" descr=""/>
          <p:cNvPicPr/>
          <p:nvPr/>
        </p:nvPicPr>
        <p:blipFill>
          <a:blip r:embed="rId2"/>
          <a:stretch/>
        </p:blipFill>
        <p:spPr>
          <a:xfrm>
            <a:off x="3408480" y="3157560"/>
            <a:ext cx="5175000" cy="114624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5" descr=""/>
          <p:cNvPicPr/>
          <p:nvPr/>
        </p:nvPicPr>
        <p:blipFill>
          <a:blip r:embed="rId3"/>
          <a:stretch/>
        </p:blipFill>
        <p:spPr>
          <a:xfrm>
            <a:off x="3060720" y="4145040"/>
            <a:ext cx="5168880" cy="117000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6" descr=""/>
          <p:cNvPicPr/>
          <p:nvPr/>
        </p:nvPicPr>
        <p:blipFill>
          <a:blip r:embed="rId4"/>
          <a:stretch/>
        </p:blipFill>
        <p:spPr>
          <a:xfrm>
            <a:off x="2633760" y="5718240"/>
            <a:ext cx="5162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и повинна співпадати кількість  фактичних параметрів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 кількістю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формальних параметрів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якому випадку інструкція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в тілі функції не використовуєтьс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Чи допускається позначення різними символами фактичних та формальних параметрів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9" name="Схема 3" descr=""/>
          <p:cNvPicPr/>
          <p:nvPr/>
        </p:nvPicPr>
        <p:blipFill>
          <a:blip r:embed="rId1"/>
          <a:stretch/>
        </p:blipFill>
        <p:spPr>
          <a:xfrm>
            <a:off x="1914480" y="4565520"/>
            <a:ext cx="68454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айте визначення функції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Дайте визначення прототипу функції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Що таке виклик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Схема 3" descr=""/>
          <p:cNvPicPr/>
          <p:nvPr/>
        </p:nvPicPr>
        <p:blipFill>
          <a:blip r:embed="rId1"/>
          <a:stretch/>
        </p:blipFill>
        <p:spPr>
          <a:xfrm>
            <a:off x="1347840" y="1852560"/>
            <a:ext cx="6448320" cy="1098720"/>
          </a:xfrm>
          <a:prstGeom prst="rect">
            <a:avLst/>
          </a:prstGeom>
          <a:ln w="0">
            <a:noFill/>
          </a:ln>
        </p:spPr>
      </p:pic>
      <p:pic>
        <p:nvPicPr>
          <p:cNvPr id="273" name="Схема 4" descr=""/>
          <p:cNvPicPr/>
          <p:nvPr/>
        </p:nvPicPr>
        <p:blipFill>
          <a:blip r:embed="rId2"/>
          <a:stretch/>
        </p:blipFill>
        <p:spPr>
          <a:xfrm>
            <a:off x="1347840" y="3346560"/>
            <a:ext cx="6448320" cy="950760"/>
          </a:xfrm>
          <a:prstGeom prst="rect">
            <a:avLst/>
          </a:prstGeom>
          <a:ln w="0">
            <a:noFill/>
          </a:ln>
        </p:spPr>
      </p:pic>
      <p:pic>
        <p:nvPicPr>
          <p:cNvPr id="274" name="Схема 5" descr=""/>
          <p:cNvPicPr/>
          <p:nvPr/>
        </p:nvPicPr>
        <p:blipFill>
          <a:blip r:embed="rId3"/>
          <a:stretch/>
        </p:blipFill>
        <p:spPr>
          <a:xfrm>
            <a:off x="1322280" y="4664160"/>
            <a:ext cx="65660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44792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виконує математичну дію над змінними в залежності від введеного з клавіатури знаку операції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мінні дійсного типу та знак операції передати у функцію в якості параметрів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Головна функці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98100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iostream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conio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per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float , float , char 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main ( 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float chislo1, chislo2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ar znak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char vidpovid='y'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o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{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перш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chislo1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друге число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chislo2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Головна функція (продовження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Задайте знак операції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znak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per (chislo1, chislo2, znak 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“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беріть для продовження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Y/N)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  vidpovid;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le (vidpovid=='y'|| vidpovid=='Y'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изначе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per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float chislo1, float chislo2 , char znak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 if ( znak=='+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+chislo2; cout &lt;&lt; "\n ";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-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-chislo2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\n ";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Визначення функції(продовження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*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*chislo2;     cout &lt;&lt; "\n ";    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znak=='/'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cout &lt;&lt; chislo1 &lt;&lt;  znak &lt;&lt; chislo2 &lt;&lt;" = " &lt;&lt;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islo1/chislo2;     cout &lt;&lt; "\n ";    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“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Ви помилились !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Домашнє завда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писати програму,  яка обчислює значення математичного виразу з одним невідомим (вираз вибрати самостійно).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дбачити функцію користувача, яка на екран монітору виводить результа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 якості параметрів використати змінні, введені з клавіатур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 ле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21428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ласифікація функцій С++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уктура функцій користувач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Параметри функцій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Теми для самостійного вивч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8" name="Содержимое 2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89852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ласифікація функ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андартні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Функції користувач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Схема 4" descr=""/>
          <p:cNvPicPr/>
          <p:nvPr/>
        </p:nvPicPr>
        <p:blipFill>
          <a:blip r:embed="rId1"/>
          <a:stretch/>
        </p:blipFill>
        <p:spPr>
          <a:xfrm>
            <a:off x="4346640" y="1779480"/>
            <a:ext cx="4236840" cy="101916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" descr=""/>
          <p:cNvPicPr/>
          <p:nvPr/>
        </p:nvPicPr>
        <p:blipFill>
          <a:blip r:embed="rId2"/>
          <a:stretch/>
        </p:blipFill>
        <p:spPr>
          <a:xfrm>
            <a:off x="5419800" y="3730680"/>
            <a:ext cx="2523960" cy="1139760"/>
          </a:xfrm>
          <a:prstGeom prst="rect">
            <a:avLst/>
          </a:prstGeom>
          <a:ln w="0">
            <a:noFill/>
          </a:ln>
        </p:spPr>
      </p:pic>
      <p:pic>
        <p:nvPicPr>
          <p:cNvPr id="245" name="Схема 6" descr=""/>
          <p:cNvPicPr/>
          <p:nvPr/>
        </p:nvPicPr>
        <p:blipFill>
          <a:blip r:embed="rId3"/>
          <a:stretch/>
        </p:blipFill>
        <p:spPr>
          <a:xfrm>
            <a:off x="1987560" y="5065560"/>
            <a:ext cx="474192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труктура функцій користувач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тотип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иклик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изначення функції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Схема 3" descr=""/>
          <p:cNvPicPr/>
          <p:nvPr/>
        </p:nvPicPr>
        <p:blipFill>
          <a:blip r:embed="rId1"/>
          <a:stretch/>
        </p:blipFill>
        <p:spPr>
          <a:xfrm>
            <a:off x="701640" y="5205240"/>
            <a:ext cx="7740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Запитання на закріпленн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Що таке тип поверненого значення?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якому місці програми можна викликати функцію користувач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Чи має значення тип параметра, який передається у стандартну функцію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Якій інструкції передається управління при виклику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Якій інструкції передається управління після закінчення виконання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 яких символів починається тіло функції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Приклад використа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Створити функцію користувача, яка повертає максимальне  з двох цілих чисел, отриманих в якості  аргументі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Код програм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iostream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#include "conio.h "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t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int, int );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//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рототип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oid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 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     int pershe,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har vidpovid='y'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o        {      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йте перш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persh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йте друге число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" 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-343800"/>
            <a:ext cx="777240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9280" y="90756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//виклик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аксимальне число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= " &lt;&lt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pershe, druge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ut &lt;&lt; "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ля продовження  виберіть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Y/N)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in &gt;&gt;   vidpovid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le (vidpovid=='y'|| vidpovid=='Y'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96464"/>
                </a:solidFill>
                <a:latin typeface="Calibri"/>
              </a:rPr>
              <a:t>Визначення функ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90792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//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значення функції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nt 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(int pershe, int druge 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{  cout &lt;&lt; "\n "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( pershe&gt;druge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  persh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turn   druge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04:22Z</dcterms:created>
  <dc:creator>Vladimir Billig</dc:creator>
  <dc:description/>
  <dc:language>en-US</dc:language>
  <cp:lastModifiedBy>antonina.rudenko</cp:lastModifiedBy>
  <dcterms:modified xsi:type="dcterms:W3CDTF">2011-02-16T14:39:06Z</dcterms:modified>
  <cp:revision>204</cp:revision>
  <dc:subject/>
  <dc:title>Владимир Биллиг  Vladimir.Billig@tversu.r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a000000000001024140</vt:lpwstr>
  </property>
</Properties>
</file>