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076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064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076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064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255600"/>
            <a:ext cx="86058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-1800" y="720"/>
            <a:ext cx="1008036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5280" indent="-324000"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287280">
              <a:spcAft>
                <a:spcPts val="1426"/>
              </a:spcAft>
              <a:buSzPct val="111603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2541600"/>
            <a:ext cx="86076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манди роботи з графічними об'єкт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4140000"/>
            <a:ext cx="8607600" cy="25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зентація-підруч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880"/>
            <a:ext cx="90709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Якщо внизу вікна текстового редактора немає панелі інструменті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исовани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000" y="3274920"/>
            <a:ext cx="882036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натисніть кнопку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анель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рисования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     на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Стандартній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панелі інструме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1008072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832360" y="3851280"/>
            <a:ext cx="64764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06280"/>
            <a:ext cx="86076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ставка об'єкта WordArt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76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16120" indent="-74772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тиснути кноп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6120" indent="-74772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ти стиль текстового ефект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472000" y="1547640"/>
            <a:ext cx="482760" cy="50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232000" y="2700360"/>
            <a:ext cx="511344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06280"/>
            <a:ext cx="86076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ставка об'єкта Галереї текстових ефектів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1596600"/>
            <a:ext cx="8607600" cy="13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1612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вікні зміни тексту ввести потрібне, наприклад, назву краї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400720" y="3419640"/>
            <a:ext cx="417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краї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3280" y="2916360"/>
            <a:ext cx="47433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7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ставка фото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76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16120" indent="-74772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тиснути кноп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6120" indent="-74772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найти шлях до фай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368440" y="2700360"/>
            <a:ext cx="4832640" cy="448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45080" y="1403280"/>
            <a:ext cx="6699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7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ставка фото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96960"/>
            <a:ext cx="431964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16120" indent="-74772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ля того, щоб текст розташувался навкруг фото, в контекстному меню обрати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ормат рису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6120" indent="-74772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вкладці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оложени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обрати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Вокруг рам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35640" y="2195640"/>
            <a:ext cx="5184720" cy="44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7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ворення рам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76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16120" indent="-74772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ти коман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61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6120" indent="-74772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тановити потрібні парамет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256360" y="1332000"/>
            <a:ext cx="3456000" cy="156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592360" y="3348000"/>
            <a:ext cx="5200560" cy="387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in</cp:lastModifiedBy>
  <dcterms:modified xsi:type="dcterms:W3CDTF">2011-08-16T17:56:19Z</dcterms:modified>
  <cp:revision>2</cp:revision>
  <dc:subject/>
  <dc:title>Команди роботи з графічними об'єкт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3000000000001024140</vt:lpwstr>
  </property>
</Properties>
</file>