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24E-DE81-4366-A15E-E50F038F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738-7F07-421D-9B5C-7160B77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389-30B1-4DDF-B964-1C95EED7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38F-2097-4ACA-BD08-E8E359A0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A59-55D2-47F2-A131-C8DA7323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3F5-EF04-4671-89FC-74619F0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E38-E83C-4F2C-94F9-9FD5A34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192-36F6-421C-BC73-D45B7FBE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F8B-9FAA-4F3C-BB81-DB9D2BC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A0D-1F55-43BD-8245-C88D323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BB8A-EA3A-4542-8018-5320179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D69-79AE-4D0C-BE0D-4F24369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чичка О.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C774-4110-4953-9727-0EEEFB697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49000" y="1268280"/>
            <a:ext cx="81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ва програмування HTM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и для роботи з фоном.Теги для задання кольор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1844640"/>
            <a:ext cx="691200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тивація навчальної діяльності учн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ндруючи просторами Інтернету чи задумувалися ви над тим, чому одна сторінка має привабливий вигляд, а інша не д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ому один текст виділений одним кольором, а другий іншим і якими засобами мови 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 можна для оформлення фону(тла) веб 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 використати графічний об‘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0000" y="765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4360" y="1853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кріпити знання учнів про команди мови (теги) HTML,технологію створення HTML-файлу, ознайомити учнів з тегами для роботи з фоном та тегами для задання кольору, навчити створювати найпростіші веб-сторін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звивати вміння порівнювати,виділяти суттєве,самостійно здобувати та застосовувати здобуті зна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иховувати навички колективної праці на основі творчого та інтелектуального розвитку кожного уч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сля цього уроку учні змож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яснювати поняття "веб-документ", зрозум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чого призначена мова розмітки документа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ворювати найпро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б-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ористовуюч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еги для роботи з  кольором  та ф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бути навичок роботи в групі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 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рагменти якого розмічен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в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иваєть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доку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м’я такого файла звичайно має розширенн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слідовності символів, які починаються знаком «мен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lt;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закінчуються знаком «біль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gt;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мати атрибути, які, в свою чергу, можуть приймати певні 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... &lt; 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 - включають в себе всі інш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 весь інформаційний зміст док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ташовується у першому рядку докум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останньому рядку.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оловок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стить інформацію про доку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зва документа, яка відображається в рядку заголов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іл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,..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іло документа містить весь текст з інформацією і вс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і використовуються для форматування текс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авила роботи в  мові розміт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документ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іли та інші «невидимі символи» ігнор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ги форматування можуть бути написані великими або малими літ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ість тегів форматування пишуться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я створе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  можна  створювати  за  допомогою найпростішого текстового процесора, який дозволяє зберігати текстові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 файли, наприкла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otepa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(Блокнот). При цьому не застосовуються ніякі коди для форма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головному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нкт Пуск-Программы -Стандартные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вести структуру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Зберегти   створений   документ,   обов'язково надавши йому розширення *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 Перевірити вигляд створеної гіпертекстової сторінки. Для перевірки одержаної сторінки завантажи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відкрити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команд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антажити створений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внесення змін повернутись до програми Блокнот,  внести зміни,  зберегти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. Активізува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натиснути кнопку Обнов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7560" y="509760"/>
            <a:ext cx="7976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рядок створенн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окумент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биття підсумків . Оцінювання результа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вчити теоретичний матеріал та підготуватись до практич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7:05:29Z</dcterms:created>
  <dc:creator>User</dc:creator>
  <dc:description/>
  <dc:language>en-US</dc:language>
  <cp:lastModifiedBy>dom</cp:lastModifiedBy>
  <dcterms:modified xsi:type="dcterms:W3CDTF">2011-07-31T11:04:46Z</dcterms:modified>
  <cp:revision>34</cp:revision>
  <dc:subject/>
  <dc:title>Слайд 1</dc:title>
</cp:coreProperties>
</file>