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62B-F035-4124-A3AF-7208489C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E43-C472-44BC-9D5C-A048CC97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5F2-75CE-4206-9AE5-93FBC8B5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68A3-45E5-439B-A71D-16BF52EF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018-D9A1-4CFA-BF6E-4795FF26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B4AD-A6DC-4E69-9AD9-7CD5EA92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3EE-3E4D-4BD8-88FA-6D4C15DE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CD5-91B8-4390-AAF5-FA87C845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F3A-EA9D-4DB5-9C93-66DB9C68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168-4071-4092-BC59-12FCB514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176-FDD5-46A2-AD39-19A058BD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C549-7496-499E-A939-E4EA0CF9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учичка О.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1D5F-6225-4152-90CE-42B7CABB20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49000" y="1268280"/>
            <a:ext cx="81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а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ласна робо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ма 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ва програмування HTM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ги для роботи з фоном.Теги для задання кольор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1844640"/>
            <a:ext cx="6912000" cy="185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якую за співпрацю!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Мотивація навчальної діяльності учнів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андруючи просторами Інтернету чи задумувалися ви над тим, чому одна сторінка має привабливий вигляд, а інша не ду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Чому один текст виділений одним кольором, а другий іншим і якими засобами мови 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це можна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 можна для оформлення фону(тла) веб сто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ки використати графічний об‘єк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900000" y="7650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Мета уроку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684360" y="1853640"/>
            <a:ext cx="7775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вч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закріпити знання учнів про команди мови (теги) HTML,технологію створення HTML-файлу, ознайомити учнів з тегами для роботи з фоном та тегами для задання кольору, навчити створювати найпростіші веб-сторін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Розвиваль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розвивати вміння порівнювати,виділяти суттєве,самостійно здобувати та застосовувати здобуті знанн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95360"/>
                <a:tab algn="l" pos="685800"/>
                <a:tab algn="l" pos="4071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иховна: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виховувати навички колективної праці на основі творчого та інтелектуального розвитку кожного учн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чікувані результ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ісля цього уроку учні зможу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яснювати поняття "веб-документ", зрозумі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ля чого призначена мова розмітки документа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ворювати найпрос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б-сто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ки,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користовуючи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теги для роботи з  кольором  та фо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набути навичок роботи в групі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айл дан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фрагменти якого розмічен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г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в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називаєтьс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доку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Ім’я такого файла звичайно має розширенн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г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це послідовності символів, які починаються знаком «менше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&lt;)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закінчуються знаком «більше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&gt;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Теги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уть мати атрибути, які, в свою чергу, можуть приймати певні знач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-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gt;... &lt; 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&gt; - включають в себе всі інші тег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і весь інформаційний зміст доку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розташовується у першому рядку докуме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останньому рядку.</a:t>
            </a:r>
            <a:br>
              <a:rPr sz="1600"/>
            </a:br>
            <a:br>
              <a:rPr sz="1600"/>
            </a:b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головок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... 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стить інформацію про докумен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ва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... 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назва документа, яка відображається в рядку заголовк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іло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,..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тіло документа містить весь текст з інформацією і всі тег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які використовуються для форматування текс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Надання необхідної інформаці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Правила роботи в  мові розмітк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документа</a:t>
            </a: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 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обіли та інші «невидимі символи» ігнорую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ги форматування можуть бути написані великими або малими літе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Більшість тегів форматування пишуться па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Технологія створенн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документ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-документ  можна  створювати  за  допомогою найпростішого текстового процесора, який дозволяє зберігати текстові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) файли, наприкла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Notepa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(Блокнот). При цьому не застосовуються ніякі коди для форматув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У головному мен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брат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ункт Пуск-Программы -Стандартные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-Блокн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вести структуру докумен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 Зберегти   створений   документ,   обов'язково надавши йому розширення *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.  Перевірити вигляд створеної гіпертекстової сторінки. Для перевірки одержаної сторінки завантажи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відкрити меню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вибрати команду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n fi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завантажити створений фай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Для внесення змін повернутись до програми Блокнот,  внести зміни,  зберегти фай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6. Активізуват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1" lang="uk-UA" sz="1600" spc="-1" strike="noStrike">
                <a:solidFill>
                  <a:srgbClr val="000000"/>
                </a:solidFill>
                <a:latin typeface="Arial"/>
              </a:rPr>
              <a:t>, натиснути кнопку Обнов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907560" y="509760"/>
            <a:ext cx="7976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орядок створенн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документ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ідбиття підсумків . Оцінювання результат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Вивчити теоретичний матеріал та підготуватись до практичної робо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7:05:29Z</dcterms:created>
  <dc:creator>User</dc:creator>
  <dc:description/>
  <dc:language>en-US</dc:language>
  <cp:lastModifiedBy>dom</cp:lastModifiedBy>
  <dcterms:modified xsi:type="dcterms:W3CDTF">2011-07-31T11:04:46Z</dcterms:modified>
  <cp:revision>34</cp:revision>
  <dc:subject/>
  <dc:title>Слайд 1</dc:title>
</cp:coreProperties>
</file>