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81E1-A84A-4F98-9AEC-3ED67CBE0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7BAF-E143-4757-BD2E-98A078D7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7DB2-9D52-41EA-A642-C87034476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0470-4892-457B-AB62-F4C0B18A1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6697-ECC0-492B-8DC1-EF8C614E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3BD0-80E1-49D7-B9C3-D4BBFC35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241E-15C2-4B8F-840D-C031C705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C0D3-413E-494D-A69D-24BB9B29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3E67-AAC6-459B-A949-EEBC0D2F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D25A-225D-46B6-BA2D-31915324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C05D-F9C5-4DC2-8BF1-4C760CF7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1625-A424-42BC-9D77-3476F1B1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чичка О.Г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993D-0BE4-43E9-8B61-1263F77C48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49000" y="1268280"/>
            <a:ext cx="819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ат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Класна робот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ема 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ва програмування HTM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ги для роботи з фоном.Теги для задання кольору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4"/>
          <p:cNvSpPr txBox="1"/>
          <p:nvPr/>
        </p:nvSpPr>
        <p:spPr>
          <a:xfrm>
            <a:off x="1332000" y="1844640"/>
            <a:ext cx="6912000" cy="185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якую за співпрацю!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Мотивація навчальної діяльності учнів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андруючи просторами Інтернету чи задумувалися ви над тим, чому одна сторінка має привабливий вигляд, а інша не дуж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Чому один текст виділений одним кольором, а другий іншим і якими засобами мови HTM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це можна зроби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и можна для оформлення фону(тла) веб стор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ки використати графічний об‘єкт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900000" y="76500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ета уроку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684360" y="1853640"/>
            <a:ext cx="7775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95360"/>
                <a:tab algn="l" pos="685800"/>
                <a:tab algn="l" pos="4071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Навчальна: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закріпити знання учнів про команди мови (теги) HTML,технологію створення HTML-файлу, ознайомити учнів з тегами для роботи з фоном та тегами для задання кольору, навчити створювати найпростіші веб-сторін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95360"/>
                <a:tab algn="l" pos="685800"/>
                <a:tab algn="l" pos="4071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95360"/>
                <a:tab algn="l" pos="685800"/>
                <a:tab algn="l" pos="4071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Розвивальна: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розвивати вміння порівнювати,виділяти суттєве,самостійно здобувати та застосовувати здобуті знанн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95360"/>
                <a:tab algn="l" pos="685800"/>
                <a:tab algn="l" pos="4071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95360"/>
                <a:tab algn="l" pos="685800"/>
                <a:tab algn="l" pos="4071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Виховна: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виховувати навички колективної праці на основі творчого та інтелектуального розвитку кожного учн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Очікувані результ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ісля цього уроку учні зможу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ояснювати поняття "веб-документ", зрозумі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ля чого призначена мова розмітки документа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ворювати найпрост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еб-стор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ки,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користовуючи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теги для роботи з  кольором  та фон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набути навичок роботи в групі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адання необхідної інформа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йл дан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фрагменти якого розмічені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гам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в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азиваєтьс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докумен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Ім’я такого файла звичайно має розширенн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t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Теги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це послідовності символів, які починаються знаком «менше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&lt;)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 закінчуються знаком «більше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&gt;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еги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ожуть мати атрибути, які, в свою чергу, можуть приймати певні знач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Надання необхідної інформаці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Структур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-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&gt;... &lt; /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&gt; - включають в себе всі інші тег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і весь інформаційний зміст докуме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зташовується у першому рядку докумен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&gt; -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у останньому рядку.</a:t>
            </a:r>
            <a:br>
              <a:rPr sz="1600"/>
            </a:br>
            <a:br>
              <a:rPr sz="1600"/>
            </a:b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аголовок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gt;... &lt;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gt; -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містить інформацію про докумен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зва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&gt;... &lt;/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&gt; -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назва документа, яка відображається в рядку заголовк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et Explorer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іло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&gt;,..&lt;/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&gt; -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тіло документа містить весь текст з інформацією і всі тег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які використовуються для форматування текс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Надання необхідної інформаці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Правила роботи в  мові розмітк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документа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 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робіли та інші «невидимі символи» ігнорую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Теги форматування можуть бути написані великими або малими літер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Більшість тегів форматування пишуться пар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Технологія створенн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-документ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-документ  можна  створювати  за  допомогою найпростішого текстового процесора, який дозволяє зберігати текстові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CII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) файли, наприкла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Notepad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(Блокнот). При цьому не застосовуються ніякі коди для форматув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У головному меню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ибрат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ункт Пуск-Программы -Стандартные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-Блокно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вести структуру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 Зберегти   створений   документ,   обов'язково надавши йому розширення *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.  Перевірити вигляд створеної гіпертекстової сторінки. Для перевірки одержаної сторінки завантажит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et Explorer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відкрити меню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ибрати команду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n fil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авантажити створений фай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ля внесення змін повернутись до програми Блокнот,  внести зміни,  зберегти фай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6. Активізуват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et Explorer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, натиснути кнопку Обнови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907560" y="509760"/>
            <a:ext cx="797616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 marL="13716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орядок створенн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документа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ідбиття підсумків . Оцінювання результат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Домашнє завд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ивчити теоретичний матеріал та підготуватись до практичної робо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17:05:29Z</dcterms:created>
  <dc:creator>User</dc:creator>
  <dc:description/>
  <dc:language>en-US</dc:language>
  <cp:lastModifiedBy>dom</cp:lastModifiedBy>
  <dcterms:modified xsi:type="dcterms:W3CDTF">2011-07-31T11:04:46Z</dcterms:modified>
  <cp:revision>34</cp:revision>
  <dc:subject/>
  <dc:title>Слайд 1</dc:title>
</cp:coreProperties>
</file>