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9E5-7637-43BA-90DD-40E8D58A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D1E-4EA8-4536-A281-95B33848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B64-5D1A-4D83-9B2C-3B87908A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049-CFF4-4716-83C8-7D1712A9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BDA-BD0B-4659-9D2A-F53C27D6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01F-309C-4615-AF42-AA11C679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F85-30CB-4311-A3CA-4D97B586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73E-EABB-4454-A60B-4EBD257E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A85-1552-422B-BB2D-27D958C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0CC-8809-4A96-9E20-5255CD3B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F42-498F-4AAA-929C-FE5029D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A11-4F46-4D84-ADBC-D63C53A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0A1A-520C-4AD5-A1DB-C5B9F0B66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 rot="20772600">
            <a:off x="2626920" y="4105440"/>
            <a:ext cx="597708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азва закріпилася за місяцем у кінці минулого столітт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393400">
            <a:off x="137880" y="457200"/>
            <a:ext cx="44892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Лютий</a:t>
            </a:r>
            <a:endParaRPr b="0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74"/>
          <a:stretch/>
        </p:blipFill>
        <p:spPr>
          <a:xfrm rot="20989800">
            <a:off x="395280" y="4292280"/>
            <a:ext cx="1871640" cy="1162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628200">
            <a:off x="5292720" y="907560"/>
            <a:ext cx="3186000" cy="238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20933400">
            <a:off x="2268000" y="1988640"/>
            <a:ext cx="26100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672800">
            <a:off x="4284360" y="92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377400">
            <a:off x="1332000" y="2852280"/>
            <a:ext cx="327636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20638800">
            <a:off x="2736720" y="3540240"/>
            <a:ext cx="68040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ін люту вдачу має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низливі сніговії, колючі морози, вітри й перемети - все це лют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1079400">
            <a:off x="484200" y="4973400"/>
            <a:ext cx="1582560" cy="119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19599600">
            <a:off x="7524720" y="1267920"/>
            <a:ext cx="1390680" cy="104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20393400">
            <a:off x="137880" y="457200"/>
            <a:ext cx="44892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Лют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0785200">
            <a:off x="684000" y="4652640"/>
            <a:ext cx="2681280" cy="201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76720" y="3500280"/>
            <a:ext cx="58672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ро це свідчать і попередні назви місяця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когрій, громник,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крутень, зимобор, криводоріг, казибрід, межен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(межа між зимою та весною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1485600">
            <a:off x="6084360" y="981000"/>
            <a:ext cx="2826000" cy="211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627600">
            <a:off x="539280" y="28522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9660800">
            <a:off x="3708360" y="1052640"/>
            <a:ext cx="2681280" cy="201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 rot="20393400">
            <a:off x="137880" y="457200"/>
            <a:ext cx="44892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Люти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3:14:41Z</dcterms:created>
  <dc:creator>home</dc:creator>
  <dc:description/>
  <dc:language>en-US</dc:language>
  <cp:lastModifiedBy>home</cp:lastModifiedBy>
  <dcterms:modified xsi:type="dcterms:W3CDTF">2010-02-11T21:12:3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02000000000001024140</vt:lpwstr>
  </property>
</Properties>
</file>