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37E-4DBF-42EC-929D-658FDB7C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27F-B266-4EC4-8EC6-02406BC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27A-CE73-4BB1-BCE3-ABD59A9C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FCA-313A-4F13-A95C-31610DFC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03B-2520-4024-BBBF-3DDC59F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39E-797A-4A50-9DA0-1BBA084E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1C9-54FF-4D97-9087-FACB7EDB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481-80FA-45DB-BA6C-12B6A9C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129-AD61-4FC1-8CBB-262B4524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FDC-26C2-469A-BDFD-696ADFD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A4C-68D9-4B41-856B-A774F76E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9DB-2724-4F5D-B1F6-1BABECF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DA8-67C8-4592-931B-2269D3769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0"/>
            <a:ext cx="8496360" cy="803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2920" y="2420640"/>
            <a:ext cx="424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3300"/>
                </a:solidFill>
                <a:latin typeface="Mistral"/>
              </a:rPr>
              <a:t>До </a:t>
            </a:r>
            <a:br>
              <a:rPr sz="8000"/>
            </a:br>
            <a:r>
              <a:rPr b="0" lang="ru-RU" sz="8000" spc="-1" strike="noStrike">
                <a:solidFill>
                  <a:srgbClr val="cc3300"/>
                </a:solidFill>
                <a:latin typeface="Mistral"/>
              </a:rPr>
              <a:t>дня </a:t>
            </a:r>
            <a:br>
              <a:rPr sz="8000"/>
            </a:br>
            <a:r>
              <a:rPr b="0" lang="ru-RU" sz="8000" spc="-1" strike="noStrike">
                <a:solidFill>
                  <a:srgbClr val="cc3300"/>
                </a:solidFill>
                <a:latin typeface="Mistral"/>
              </a:rPr>
              <a:t>Святого </a:t>
            </a:r>
            <a:br>
              <a:rPr sz="8000"/>
            </a:br>
            <a:r>
              <a:rPr b="0" lang="ru-RU" sz="8000" spc="-1" strike="noStrike">
                <a:solidFill>
                  <a:srgbClr val="cc3300"/>
                </a:solidFill>
                <a:latin typeface="Mistral"/>
              </a:rPr>
              <a:t>Вален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9672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803160"/>
            <a:ext cx="2808360" cy="2338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667640" y="5445000"/>
            <a:ext cx="1193760" cy="123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5429160"/>
            <a:ext cx="119376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Mistral"/>
              </a:rPr>
              <a:t>Романтична легенд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5400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Християнського проповідника Валентина посадили в римську в'язницю за віру і невдовзі засудили до стр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Там він закохався у сліпу дівчину і зцілив її від сліпо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В ніч перед стратою (ніч проти 14 лютого) він прислав їй зворушливий лист, який підписав «Твій Валент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3300"/>
                </a:solidFill>
                <a:latin typeface="Monotype Corsiva"/>
              </a:rPr>
              <a:t>З того часу закохані всього світу в цей день надсилають один одному вітальні листі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56360" y="2060640"/>
            <a:ext cx="2492280" cy="4125960"/>
          </a:xfrm>
          <a:prstGeom prst="rect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06360" cy="11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3068640"/>
            <a:ext cx="4649760" cy="3052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36680" y="5373720"/>
            <a:ext cx="1193760" cy="123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9453800">
            <a:off x="448920" y="1076040"/>
            <a:ext cx="5616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Нехай у Вашім серці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завжди живе любов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19956600">
            <a:off x="628560" y="1319040"/>
            <a:ext cx="608004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Людина, яка люби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не пам’ятає зл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1193760" cy="1239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06360" cy="11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003640" y="3956040"/>
            <a:ext cx="3816360" cy="26398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20305200">
            <a:off x="1403280" y="1125000"/>
            <a:ext cx="525636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Бажаю я Вам також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щоб Вас любили теж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6680" y="5373720"/>
            <a:ext cx="1193760" cy="123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596360" y="260280"/>
            <a:ext cx="12063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2314440" cy="3664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 rot="20619000">
            <a:off x="4787640" y="3860640"/>
            <a:ext cx="1224000" cy="11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3213360" cy="4724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 rot="1371000">
            <a:off x="250560" y="2637000"/>
            <a:ext cx="52560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Без лестощів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всім серцем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відкрито і без меж!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193760" cy="123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1296720" cy="107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596360" y="260280"/>
            <a:ext cx="12063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2:02:28Z</dcterms:created>
  <dc:creator>home</dc:creator>
  <dc:description/>
  <dc:language>en-US</dc:language>
  <cp:lastModifiedBy>www.PHILka.RU</cp:lastModifiedBy>
  <dcterms:modified xsi:type="dcterms:W3CDTF">2010-02-08T21:10:56Z</dcterms:modified>
  <cp:revision>12</cp:revision>
  <dc:subject/>
  <dc:title>До дня Святого Валентина  Нехай у Вашім серці завжди живе любов! Людина, яка любить не пам’ятає зло. Бажаю я Вам також, щоб Вас любили теж. Без лестощів, всім серцем, відкрито і без меж!</dc:title>
</cp:coreProperties>
</file>