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2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43.jpeg" ContentType="image/jpeg"/>
  <Override PartName="/ppt/media/image24.png" ContentType="image/png"/>
  <Override PartName="/ppt/media/image40.jpeg" ContentType="image/jpeg"/>
  <Override PartName="/ppt/media/image44.png" ContentType="image/png"/>
  <Override PartName="/ppt/media/image30.png" ContentType="image/png"/>
  <Override PartName="/ppt/media/image4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4EB4-E8D5-4919-957C-4363538427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F2DC-B01E-4CB1-BEA9-B29288A9B1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961-A12A-4E9D-B0EA-9216EB36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7B3-4EA0-4C7F-A39C-4B47F97C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0A2-C15F-4A11-B394-576E1A6B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68E-2087-4E05-A6C2-476075EB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5B33-2C16-4D81-A6D2-9E4C0791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B61D-123D-43AE-9495-6E0FA697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F6C6-85D3-4A18-A140-56C08230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BCA7-504B-42CA-9641-6ADBBD72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50F4-D727-4647-B2EC-9593F2F5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0325-9AA3-4BF4-891F-C0B4F593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DA3E-D9C2-407C-B990-3146B1BE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984-4356-4CCB-9C88-E0113A74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161E-25B0-48CA-BC3A-E33D8E40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B018-3CBC-4E1E-A482-A8642A6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9EC0-ED3C-43AC-B26B-1D39FD2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E252-4370-4E8A-895B-3649D839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CC3-983E-4EA5-BC81-AC6768EB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2FE-7542-41E7-A924-97135093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F95-4FCE-4708-8DED-07244F83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551-66E2-4BF2-93A0-C98CA5E8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626-2B7A-4ADD-9205-4EF0BE63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A68-1C99-44A6-848B-C63139B4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14E-E14B-4F61-A897-A4E9262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41A-4879-4D77-8E5A-FB259B0C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53D4-71AC-44F8-8EB5-64705D4CFAB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7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B37C-5595-403B-A715-CF595DB6A1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02. Wat Up Gangasta 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9" descr="Seanigh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85840" y="235728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 : “Комп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на схемотехніка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28760" y="350028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іальність : “Обслуговування ком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них систем і мереж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857160" y="1071720"/>
            <a:ext cx="7858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оменський коледж Київського національного економічного університет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3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35712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ифратор з максимально можливим числом виході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=2ⁿ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азивається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ним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Функціонування повного дешифратора описується системою логічних виразів вигляду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2228760" y="2143080"/>
            <a:ext cx="4629240" cy="2071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214200" y="47862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 X1,..., Xn – вхідні двійкові змінні; F0, F1,..., Fm-1 – вихідні логічні функції, що являють собою мінтерми (конституєнти 1) n змінни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928800"/>
            <a:ext cx="9144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хід, на якому з’являється керуючий сигнал, називаєть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им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ійковий код, який вміщує завжди тільки одну одиницю, а інші – нулі, називаєть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нітарним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Тому дешифратор є перетворювачем вхідного позиційного коду в унітарний вихідний код.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85400" indent="-18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іонування повного дешифратора з інверсними виходами представляється системою виду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 L0, L1, ... , Lm-1 – вихідні логічні функції, що є макстермами (конституєнти 0) n змінних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ж двома ви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 вихідних функцій існує простий зв’язок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F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L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000080" y="192888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шифратори класифікують за такими ознаками: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ом структурної організації – одноступеневі (лінійні) і багатоступеневі, в тому числі пірамідальні та прямокутні (матричні)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том вхідного коду – двійкові, двійково-десяткові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рядністю коду, який дешифрується – 2, 3, ..., n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ою подачі вхідного коду – з однофазними і парафазними входами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лькістю виходів – повні й неповні дешифратори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ом вхідних стробуючих сигналів – в прямому або інверсному значеннях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ом використовуваних логічних елементів – І, НЕ, ЧИ, НЕ І, НЕ ЧИ і т.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85880" y="2142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класифікація дешифрато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в) основні характеристики дешифраторів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основних характеристик дешифратора відносять: число ступенів (каскадів) дешифрації, кількість використаних логічних елементів або мікросхем, загальне число входів логічних елементів, час дешифрації і споживану потужність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00006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414324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00040" y="285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2920" y="57168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285840" y="357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овні графічні позначення дешифраторів на електричних схемах показані на рис.1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357120" y="2571840"/>
            <a:ext cx="7786800" cy="32144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428760" y="59292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унок 1- Умовні графічні позначення дешифратора: а - на функціональних схемах; б,в- на принципіальних схе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1362240" y="285840"/>
            <a:ext cx="73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умовні графічні позначення дешифра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3286080" y="278604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ПРЕЗЕНТАЦІЯ НА ТЕМ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000066B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0" y="428760"/>
            <a:ext cx="91440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омп’ютерах дешифратори використовують для виконання таких операцій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ифрації коду операці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ї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творення коду адреси операнд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езпечення візуалізації на зовнішніх пристроях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ізації логічних операцій та побудови мультиплексорів і демультиплексорів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42960" y="0"/>
            <a:ext cx="52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) застосування дешифрато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5" name="Содержимое 3" descr="00006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http://ot.iit.nau.edu.ua/shemotehnika/images/tema1.4_image012.gif"/>
          <p:cNvPicPr/>
          <p:nvPr/>
        </p:nvPicPr>
        <p:blipFill>
          <a:blip r:embed="rId2"/>
          <a:stretch/>
        </p:blipFill>
        <p:spPr>
          <a:xfrm>
            <a:off x="428760" y="357120"/>
            <a:ext cx="821520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0" y="5072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Ілюстрація використання дешифрато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1.1 Питання на закріплення: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35720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о таке дешифратор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іть призначення дешифраторі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якими ознаками класифікують дешифратор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кі операції в ком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і виконує дешифратор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іть основні характеристики дешифратор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00006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6" descr=""/>
          <p:cNvPicPr/>
          <p:nvPr/>
        </p:nvPicPr>
        <p:blipFill>
          <a:blip r:embed="rId2"/>
          <a:stretch/>
        </p:blipFill>
        <p:spPr>
          <a:xfrm>
            <a:off x="950760" y="208080"/>
            <a:ext cx="7491600" cy="17240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"/>
          <p:cNvPicPr/>
          <p:nvPr/>
        </p:nvPicPr>
        <p:blipFill>
          <a:blip r:embed="rId3"/>
          <a:stretch/>
        </p:blipFill>
        <p:spPr>
          <a:xfrm>
            <a:off x="714240" y="2428920"/>
            <a:ext cx="7500960" cy="257184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а) лінійні дешифратори на елементах І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4" name="Содержимое 3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229600" cy="5061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"/>
          <p:cNvPicPr/>
          <p:nvPr/>
        </p:nvPicPr>
        <p:blipFill>
          <a:blip r:embed="rId2"/>
          <a:stretch/>
        </p:blipFill>
        <p:spPr>
          <a:xfrm>
            <a:off x="642960" y="3071880"/>
            <a:ext cx="7358040" cy="6429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285840" y="428616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и лінійних дешифраторів на  основі рівнянь (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(2) показані на рисунку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000080" y="714240"/>
            <a:ext cx="6858000" cy="36435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500040" y="4500720"/>
            <a:ext cx="828684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и лінійних дешифраторів на елементах І: а – з парафазними входами; б – з однофазними входами і стробуванням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785880" y="1428840"/>
            <a:ext cx="72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даними таблиці 2 записується система логічних функцій в ДКН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Рисунок 5" descr=""/>
          <p:cNvPicPr/>
          <p:nvPr/>
        </p:nvPicPr>
        <p:blipFill>
          <a:blip r:embed="rId2"/>
          <a:stretch/>
        </p:blipFill>
        <p:spPr>
          <a:xfrm>
            <a:off x="500040" y="2928960"/>
            <a:ext cx="7572240" cy="928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"/>
          <p:cNvPicPr/>
          <p:nvPr/>
        </p:nvPicPr>
        <p:blipFill>
          <a:blip r:embed="rId3"/>
          <a:stretch/>
        </p:blipFill>
        <p:spPr>
          <a:xfrm>
            <a:off x="571680" y="4500720"/>
            <a:ext cx="7500600" cy="19285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984960" y="571680"/>
            <a:ext cx="77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лінійні дешифратори на елементах 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928800" y="571680"/>
            <a:ext cx="6429240" cy="4662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9"/>
          <p:cNvSpPr/>
          <p:nvPr/>
        </p:nvSpPr>
        <p:spPr>
          <a:xfrm>
            <a:off x="0" y="538020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хема лінійних дешифраторів на елементах 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– з парафазними входами; б – з однофазними входами і стробуванн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2.1 Питання на закріплення: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Назвіть послідовність операцій, які потрібно виконати, щоб побудувати схему дешифратора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В чому полягає різниця між схемами дешифраторів з однофазними та парафазними входам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WordArt 3" descr="ROSE4"/>
          <p:cNvPicPr/>
          <p:nvPr/>
        </p:nvPicPr>
        <p:blipFill>
          <a:blip r:embed="rId2"/>
          <a:stretch/>
        </p:blipFill>
        <p:spPr>
          <a:xfrm>
            <a:off x="554040" y="-6480"/>
            <a:ext cx="8169120" cy="939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http://ot.iit.nau.edu.ua/shemotehnika/images/temp13.gif"/>
          <p:cNvPicPr/>
          <p:nvPr/>
        </p:nvPicPr>
        <p:blipFill>
          <a:blip r:embed="rId3"/>
          <a:stretch/>
        </p:blipFill>
        <p:spPr>
          <a:xfrm>
            <a:off x="1571760" y="857160"/>
            <a:ext cx="5500440" cy="603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4"/>
          <a:stretch/>
        </p:blipFill>
        <p:spPr>
          <a:xfrm>
            <a:off x="1071720" y="1714680"/>
            <a:ext cx="6858000" cy="478620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6" descr="Waterf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214200" y="2428920"/>
            <a:ext cx="835848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3307ef">
                      <a:alpha val="70000"/>
                    </a:srgbClr>
                  </a:outerShdw>
                </a:effectLst>
                <a:latin typeface="Arial Black"/>
              </a:rPr>
              <a:t>Дешифратори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3307e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wheel spokes="1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3.1 Питання на закріплення: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35728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о таке пірамідальний дешифратор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д чого залежить число ступенів у пірамідальному дешифраторі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Тестові завдання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результатами тесту, перевіряємо як група засвоїла новий матеріа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вірних відповідей – високий рівень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-5 вірних відповідей – на достатньому рівні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вірні відповіді – на середньому рівні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ше 4-х вірних відповідей – низький рівен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іант№1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іант№2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іант№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б;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– в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– 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г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г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б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г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б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в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г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в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г.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а.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г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084760" y="714240"/>
            <a:ext cx="37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рні відповіді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4" descr="UL0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1285920" y="78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928800" y="571680"/>
            <a:ext cx="792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9aaf2"/>
                </a:solidFill>
                <a:latin typeface="Tahoma"/>
                <a:ea typeface="Tahoma"/>
              </a:rPr>
              <a:t> </a:t>
            </a:r>
            <a:r>
              <a:rPr b="1" i="1" lang="uk-UA" sz="2800" spc="-1" strike="noStrike">
                <a:solidFill>
                  <a:srgbClr val="59aaf2"/>
                </a:solidFill>
                <a:latin typeface="Tahoma"/>
                <a:ea typeface="Tahoma"/>
              </a:rPr>
              <a:t>Завдання. Розробити і побудувати схему дешифратора, принцип дії якого представлений таблицею істиннос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00040" y="2357280"/>
          <a:ext cx="7643880" cy="3571920"/>
        </p:xfrm>
        <a:graphic>
          <a:graphicData uri="http://schemas.openxmlformats.org/drawingml/2006/table">
            <a:tbl>
              <a:tblPr/>
              <a:tblGrid>
                <a:gridCol w="500040"/>
                <a:gridCol w="542880"/>
                <a:gridCol w="486000"/>
                <a:gridCol w="763560"/>
                <a:gridCol w="765000"/>
                <a:gridCol w="763560"/>
                <a:gridCol w="765360"/>
                <a:gridCol w="763560"/>
                <a:gridCol w="765000"/>
                <a:gridCol w="763560"/>
                <a:gridCol w="765360"/>
              </a:tblGrid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Х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Х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Х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advTm="16000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Содержимое 3" descr="000069B.JPG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4" descr=""/>
          <p:cNvPicPr/>
          <p:nvPr/>
        </p:nvPicPr>
        <p:blipFill>
          <a:blip r:embed="rId2"/>
          <a:stretch/>
        </p:blipFill>
        <p:spPr>
          <a:xfrm>
            <a:off x="1163520" y="347760"/>
            <a:ext cx="7437600" cy="25844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"/>
          <p:cNvSpPr/>
          <p:nvPr/>
        </p:nvSpPr>
        <p:spPr>
          <a:xfrm>
            <a:off x="785880" y="278604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вчити тему “Дешифратори” Л1 Ст.132-13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вчити та законспектувати теми на самостійне вивче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“Прямокутні дешифратори”  Л1 Ст.136-137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“Багатоступеневі дешифратори. Каскадування дешифраторів”  Л1 Ст.137-13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готуватися до лабораторної роботи №6. Вивчення принципу побудови та роботи дешифратор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ирочк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442520" y="428760"/>
            <a:ext cx="625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кутні дешифрато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5" descr="http://ot.iit.nau.edu.ua/shemotehnika/images/tema1.4_image044.gif"/>
          <p:cNvPicPr/>
          <p:nvPr/>
        </p:nvPicPr>
        <p:blipFill>
          <a:blip r:embed="rId2"/>
          <a:stretch/>
        </p:blipFill>
        <p:spPr>
          <a:xfrm>
            <a:off x="1571760" y="1571760"/>
            <a:ext cx="5643360" cy="2286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http://ot.iit.nau.edu.ua/shemotehnika/images/tema1.4_image050.gif"/>
          <p:cNvPicPr/>
          <p:nvPr/>
        </p:nvPicPr>
        <p:blipFill>
          <a:blip r:embed="rId3"/>
          <a:stretch/>
        </p:blipFill>
        <p:spPr>
          <a:xfrm>
            <a:off x="1928880" y="4214880"/>
            <a:ext cx="4643280" cy="150012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3716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ирочк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http://ot.iit.nau.edu.ua/shemotehnika/images/tema1.4_image052.gif"/>
          <p:cNvPicPr/>
          <p:nvPr/>
        </p:nvPicPr>
        <p:blipFill>
          <a:blip r:embed="rId2"/>
          <a:stretch/>
        </p:blipFill>
        <p:spPr>
          <a:xfrm>
            <a:off x="1500120" y="1000080"/>
            <a:ext cx="6286680" cy="3929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0" y="514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унок 6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хема прямокутного дешифратор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716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" descr="Мир будущего 2 036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571680" y="3571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гатоступеневі дешифратори. Каскадування дешифраторі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5" descr="http://ot.iit.nau.edu.ua/shemotehnika/images/tema1.4_image054.gif"/>
          <p:cNvPicPr/>
          <p:nvPr/>
        </p:nvPicPr>
        <p:blipFill>
          <a:blip r:embed="rId2"/>
          <a:stretch/>
        </p:blipFill>
        <p:spPr>
          <a:xfrm>
            <a:off x="1285920" y="1857240"/>
            <a:ext cx="6215040" cy="2286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142920" y="464328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озбиття вхідного коду, який дешифрується на групи: а – при n=10; б – при n=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9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Мир будущего 2 036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2"/>
          <a:stretch/>
        </p:blipFill>
        <p:spPr>
          <a:xfrm>
            <a:off x="2714760" y="428760"/>
            <a:ext cx="3786120" cy="585792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1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07" dur="5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3" descr="000094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4" descr=""/>
          <p:cNvPicPr/>
          <p:nvPr/>
        </p:nvPicPr>
        <p:blipFill>
          <a:blip r:embed="rId2"/>
          <a:stretch/>
        </p:blipFill>
        <p:spPr>
          <a:xfrm>
            <a:off x="1755720" y="2120760"/>
            <a:ext cx="5840640" cy="176220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1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План уроку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Загальна характеристика дешифраторі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сновні поняття та визначенн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класифікація дешифраторі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основні характеристики дешифраторі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умовні графічні позначення дешифратора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застосування дешифраторі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Лінійні дешифратори на два входи і чотири виходи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лінійні дешифратори на елементах І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лінійні дешифратори на елементах Ч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Пірамідальні дешифратор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8528040" cy="693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78560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шифратором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азивається функціональний вузол ком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а, призначений для перетворення кожної комбінації вхідного двійкового коду в керуючий сигнал лише на одному із своїх виходів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загальному випадку дешифратор має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нофазних входів (іноді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рафазних) і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=2ⁿ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ходів, д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розрядність (довжина) коду, який дешифрується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948960" y="1143000"/>
            <a:ext cx="57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сновні поняття та визначе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53:51Z</dcterms:created>
  <dc:creator>BalomuT</dc:creator>
  <dc:description/>
  <dc:language>en-US</dc:language>
  <cp:lastModifiedBy>Admin</cp:lastModifiedBy>
  <dcterms:modified xsi:type="dcterms:W3CDTF">2011-03-11T15:07:40Z</dcterms:modified>
  <cp:revision>1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2b000000000001024140</vt:lpwstr>
  </property>
</Properties>
</file>