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2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24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262F-4F64-4BEE-852D-F8B329AF7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ECA-852B-4B57-8CB3-597C72BA21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54B-06E1-42FA-BE4D-FB7C92C0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6E6-7624-4EC5-9682-30965E04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11B-857C-4CEB-88A1-3ACFA913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325-FAE3-43D4-B226-592EB38C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F981-9833-474B-A08D-DF10BEC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3EE-DC4F-479F-B27F-BB9D1B4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89B0-6648-41A6-AF9A-572C5DB3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163B-CCA1-47B0-99CB-531CBDC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C796-F78A-4094-A386-FD281F5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146-3916-4AEF-967C-C74CD707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B833-3927-4951-A12F-93477F7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195-5E74-4F99-BB73-D63E6F7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2EA-C351-4C40-91F1-1495FB2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727-E6FE-4C55-90E9-E8D86EC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0B8D-0905-459D-9337-BD2A46D7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45A0-8CE8-4B7C-A97F-E85D6040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32EA-A74B-4070-A42B-441ED6C9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104-27AA-46F0-885F-56F676E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0BA-77B4-4182-A965-7E35EE31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659-13FE-4DF9-8BFE-FA53F5F6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D8D-54D1-421C-8D62-A8C0290E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0BE-6970-4689-A57D-C6FFF0D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8F7-D8B8-4C25-AC19-245A609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9AF-BE4B-4904-9AE7-3F496DFA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7302-EB83-4CFA-8AD0-0EAF65C1496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0953-942D-48E1-A6D3-C288128981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2. Wat Up Gangasta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Sean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85840" y="23572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: “Комп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а схемотехніка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28760" y="350028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іальність : “Обслуговування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них систем і мереж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57160" y="1071720"/>
            <a:ext cx="785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оменський коледж Київського національного економічного університет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3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тор з максимально можливим числом виході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ним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Функціонування повного дешифратора описується системою логічних виразів вигляду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2228760" y="2143080"/>
            <a:ext cx="4629240" cy="2071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214200" y="47862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X1,..., Xn – вхідні двійкові змінні; F0, F1,..., Fm-1 – вихідні логічні функції, що являють собою мінтерми (конституєнти 1) n змінни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92880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хід, на якому з’являється керуючий сигнал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ійковий код, який вміщує завжди тільки одну одиницю, а інші – нулі, називаєть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ітарним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Тому дешифратор є перетворювачем вхідного позиційного коду в унітарний вихідний код.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8584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іонування повного дешифратора з інверсними виходами представляється системою вид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 L0, L1, ... , Lm-1 – вихідні логічні функції, що є макстермами (конституєнти 0) n змінних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ж двома ви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 вихідних функцій існує простий зв’язок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L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85400" indent="-1854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и класифікують за такими ознаками: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ом структурної організації – одноступеневі (лінійні) і багатоступеневі, в тому числі пірамідальні та прямокутні (матричні)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том вхідного коду – двійкові, двійково-десяткові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рядністю коду, який дешифрується – 2, 3, ..., n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ою подачі вхідного коду – з однофазними і парафазними входам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лькістю виходів – повні й неповні дешифратори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ом вхідних стробуючих сигналів – в прямому або інверсному значеннях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м використовуваних логічних елементів – І, НЕ, ЧИ, НЕ І, НЕ ЧИ і т.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785880" y="2142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в) основні характеристики дешифраторів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основних характеристик дешифратора відносять: число ступенів (каскадів) дешифрації, кількість використаних логічних елементів або мікросхем, загальне число входів логічних елементів, час дешифрації і споживану потужність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414324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2920" y="57168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85840" y="357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овні графічні позначення дешифраторів на електричних схемах показані на рис.1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57120" y="2571840"/>
            <a:ext cx="7786800" cy="32144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428760" y="59292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1- Умовні графічні позначення дешифратора: а - на функціональних схемах; б,в- на принципіальних схем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1362240" y="285840"/>
            <a:ext cx="73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умовні графічні позначення дешифра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3286080" y="2786040"/>
            <a:ext cx="27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ПРЕЗЕНТАЦІЯ НА ТЕМ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heel spokes="1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000066B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0" y="428760"/>
            <a:ext cx="9144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омп’ютерах дешифратори використовують для виконання таких операці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ифрації коду операці</a:t>
            </a: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творення коду адреси операнд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езпечення візуалізації на зовнішніх пристроях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ізації логічних операцій та побудови мультиплексорів і демультиплексорів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642960" y="0"/>
            <a:ext cx="52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) застосув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5" name="Содержимое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http://ot.iit.nau.edu.ua/shemotehnika/images/tema1.4_image012.gif"/>
          <p:cNvPicPr/>
          <p:nvPr/>
        </p:nvPicPr>
        <p:blipFill>
          <a:blip r:embed="rId2"/>
          <a:stretch/>
        </p:blipFill>
        <p:spPr>
          <a:xfrm>
            <a:off x="428760" y="357120"/>
            <a:ext cx="821520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/>
          <p:cNvSpPr/>
          <p:nvPr/>
        </p:nvSpPr>
        <p:spPr>
          <a:xfrm>
            <a:off x="0" y="5072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Ілюстрація використання дешифратор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1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35720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призначення дешифратор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якими ознаками класифікують дешифратор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кі операції в ком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і виконує дешифратор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іть основні характеристики дешифратор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00006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6" descr=""/>
          <p:cNvPicPr/>
          <p:nvPr/>
        </p:nvPicPr>
        <p:blipFill>
          <a:blip r:embed="rId2"/>
          <a:stretch/>
        </p:blipFill>
        <p:spPr>
          <a:xfrm>
            <a:off x="950760" y="208080"/>
            <a:ext cx="7491600" cy="17240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714240" y="2428920"/>
            <a:ext cx="7500960" cy="257184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а) лінійні дешифратори на елементах І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4" name="Содержимое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229600" cy="506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4" descr=""/>
          <p:cNvPicPr/>
          <p:nvPr/>
        </p:nvPicPr>
        <p:blipFill>
          <a:blip r:embed="rId2"/>
          <a:stretch/>
        </p:blipFill>
        <p:spPr>
          <a:xfrm>
            <a:off x="642960" y="3071880"/>
            <a:ext cx="7358040" cy="6429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85840" y="42861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 основі рівнянь (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 (2) показані на рисунку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000080" y="714240"/>
            <a:ext cx="6858000" cy="36435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500040" y="4500720"/>
            <a:ext cx="828684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и лінійних дешифраторів на елементах І: а – з парафазними входами; б – з однофазними входами і стробуванням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785880" y="1428840"/>
            <a:ext cx="72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даними таблиці 2 записується система логічних функцій в ДКНФ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Рисунок 5" descr=""/>
          <p:cNvPicPr/>
          <p:nvPr/>
        </p:nvPicPr>
        <p:blipFill>
          <a:blip r:embed="rId2"/>
          <a:stretch/>
        </p:blipFill>
        <p:spPr>
          <a:xfrm>
            <a:off x="500040" y="2928960"/>
            <a:ext cx="7572240" cy="928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"/>
          <p:cNvPicPr/>
          <p:nvPr/>
        </p:nvPicPr>
        <p:blipFill>
          <a:blip r:embed="rId3"/>
          <a:stretch/>
        </p:blipFill>
        <p:spPr>
          <a:xfrm>
            <a:off x="571680" y="4500720"/>
            <a:ext cx="7500600" cy="1928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984960" y="571680"/>
            <a:ext cx="77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928800" y="571680"/>
            <a:ext cx="6429240" cy="4662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"/>
          <p:cNvSpPr/>
          <p:nvPr/>
        </p:nvSpPr>
        <p:spPr>
          <a:xfrm>
            <a:off x="0" y="538020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лінійних дешифраторів на елементах 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– з парафазними входами; б – з однофазними входами і стробуванн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2.1 Питання на закріплення: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азвіть послідовність операцій, які потрібно виконати, щоб побудувати схему дешифратора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В чому полягає різниця між схемами дешифраторів з однофазними та парафазними входами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00007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WordArt 3" descr="ROSE4"/>
          <p:cNvPicPr/>
          <p:nvPr/>
        </p:nvPicPr>
        <p:blipFill>
          <a:blip r:embed="rId2"/>
          <a:stretch/>
        </p:blipFill>
        <p:spPr>
          <a:xfrm>
            <a:off x="554040" y="-6480"/>
            <a:ext cx="8169120" cy="93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5" descr="http://ot.iit.nau.edu.ua/shemotehnika/images/temp13.gif"/>
          <p:cNvPicPr/>
          <p:nvPr/>
        </p:nvPicPr>
        <p:blipFill>
          <a:blip r:embed="rId3"/>
          <a:stretch/>
        </p:blipFill>
        <p:spPr>
          <a:xfrm>
            <a:off x="1571760" y="857160"/>
            <a:ext cx="5500440" cy="603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/>
          <p:cNvPicPr/>
          <p:nvPr/>
        </p:nvPicPr>
        <p:blipFill>
          <a:blip r:embed="rId4"/>
          <a:stretch/>
        </p:blipFill>
        <p:spPr>
          <a:xfrm>
            <a:off x="1071720" y="171468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6" descr="Waterf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214200" y="2428920"/>
            <a:ext cx="835848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3307ef">
                      <a:alpha val="70000"/>
                    </a:srgbClr>
                  </a:outerShdw>
                </a:effectLst>
                <a:latin typeface="Arial Black"/>
              </a:rPr>
              <a:t>Дешифратори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3307e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0000">
    <p:wheel spokes="1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3.1 Питання на закріплення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3572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Що таке пірамідальний дешифратор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 чого залежить число ступенів у пірамідальному дешифраторі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Тестові завдання</a:t>
            </a:r>
            <a:endParaRPr b="0" lang="en-US" sz="5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результатами тесту, перевіряємо як група засвоїла новий матеріа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вірних відповідей – високий рівень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-5 вірних відповідей – на достат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вірні відповіді – на середньому рівні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ше 4-х вірних відповідей – низький рівень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1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1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2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іант№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б;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б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г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б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г;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в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г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084760" y="714240"/>
            <a:ext cx="37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рні відповіді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4" descr="UL0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1285920" y="78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928800" y="571680"/>
            <a:ext cx="792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 </a:t>
            </a:r>
            <a:r>
              <a:rPr b="1" i="1" lang="uk-UA" sz="2800" spc="-1" strike="noStrike">
                <a:solidFill>
                  <a:srgbClr val="59aaf2"/>
                </a:solidFill>
                <a:latin typeface="Tahoma"/>
                <a:ea typeface="Tahoma"/>
              </a:rPr>
              <a:t>Завдання. Розробити і побудувати схему дешифратора, принцип дії якого представлений таблицею істинност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0040" y="2357280"/>
          <a:ext cx="7643880" cy="3571920"/>
        </p:xfrm>
        <a:graphic>
          <a:graphicData uri="http://schemas.openxmlformats.org/drawingml/2006/table">
            <a:tbl>
              <a:tblPr/>
              <a:tblGrid>
                <a:gridCol w="500040"/>
                <a:gridCol w="542880"/>
                <a:gridCol w="486000"/>
                <a:gridCol w="763560"/>
                <a:gridCol w="765000"/>
                <a:gridCol w="763560"/>
                <a:gridCol w="765360"/>
                <a:gridCol w="763560"/>
                <a:gridCol w="765000"/>
                <a:gridCol w="763560"/>
                <a:gridCol w="765360"/>
              </a:tblGrid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Х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16000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000069B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2"/>
          <a:stretch/>
        </p:blipFill>
        <p:spPr>
          <a:xfrm>
            <a:off x="1163520" y="347760"/>
            <a:ext cx="7437600" cy="25844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785880" y="278604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ему “Дешифратори” Л1 Ст.132-13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чити та законспектувати теми на самостійне вив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“Прямокутні дешифратори”  Л1 Ст.136-137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“Багатоступеневі дешифратори. Каскадування дешифраторів”  Л1 Ст.137-13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готуватися до лабораторної роботи №6. Вивчення принципу побудови та роботи дешифратор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4"/>
          <p:cNvSpPr/>
          <p:nvPr/>
        </p:nvSpPr>
        <p:spPr>
          <a:xfrm>
            <a:off x="1442520" y="428760"/>
            <a:ext cx="625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ямокутні дешифрат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http://ot.iit.nau.edu.ua/shemotehnika/images/tema1.4_image044.gif"/>
          <p:cNvPicPr/>
          <p:nvPr/>
        </p:nvPicPr>
        <p:blipFill>
          <a:blip r:embed="rId2"/>
          <a:stretch/>
        </p:blipFill>
        <p:spPr>
          <a:xfrm>
            <a:off x="1571760" y="1571760"/>
            <a:ext cx="5643360" cy="2286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http://ot.iit.nau.edu.ua/shemotehnika/images/tema1.4_image050.gif"/>
          <p:cNvPicPr/>
          <p:nvPr/>
        </p:nvPicPr>
        <p:blipFill>
          <a:blip r:embed="rId3"/>
          <a:stretch/>
        </p:blipFill>
        <p:spPr>
          <a:xfrm>
            <a:off x="1928880" y="4214880"/>
            <a:ext cx="4643280" cy="15001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716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ироч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http://ot.iit.nau.edu.ua/shemotehnika/images/tema1.4_image052.gif"/>
          <p:cNvPicPr/>
          <p:nvPr/>
        </p:nvPicPr>
        <p:blipFill>
          <a:blip r:embed="rId2"/>
          <a:stretch/>
        </p:blipFill>
        <p:spPr>
          <a:xfrm>
            <a:off x="1500120" y="100008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5"/>
          <p:cNvSpPr/>
          <p:nvPr/>
        </p:nvSpPr>
        <p:spPr>
          <a:xfrm>
            <a:off x="0" y="514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унок 6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хема прямокутного дешифратор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8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3716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571680" y="3571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агатоступеневі дешифратори. Каскадування дешифратор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5" descr="http://ot.iit.nau.edu.ua/shemotehnika/images/tema1.4_image054.gif"/>
          <p:cNvPicPr/>
          <p:nvPr/>
        </p:nvPicPr>
        <p:blipFill>
          <a:blip r:embed="rId2"/>
          <a:stretch/>
        </p:blipFill>
        <p:spPr>
          <a:xfrm>
            <a:off x="1285920" y="1857240"/>
            <a:ext cx="6215040" cy="2286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142920" y="464328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к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збиття вхідного коду, який дешифрується на групи: а – при n=10; б – при n=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90" dur="5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Мир будущего 2 036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2714760" y="428760"/>
            <a:ext cx="3786120" cy="5857920"/>
          </a:xfrm>
          <a:prstGeom prst="rect">
            <a:avLst/>
          </a:prstGeom>
          <a:ln w="0">
            <a:noFill/>
          </a:ln>
        </p:spPr>
      </p:pic>
    </p:spTree>
  </p:cSld>
  <p:transition advTm="16000">
    <p:wheel spokes="1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07" dur="5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3" descr="000094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1755720" y="2120760"/>
            <a:ext cx="5840640" cy="17622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1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План уроку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Загальна характеристика дешифраторі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ласифікація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сновні характеристики дешифраторів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умовні графічні позначення дешифратора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застосування дешифратор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Лінійні дешифратори на два входи і чотири виходи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лінійні дешифратори на елементах І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лінійні дешифратори на елементах Ч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Пірамідальні дешифратор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1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53880" y="208080"/>
            <a:ext cx="852804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7856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шифратором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зивається функціональний вузол ком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тера, призначений для перетворення кожної комбінації вхідного двійкового коду в керуючий сигнал лише на одному із своїх виходів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загальному випадку дешифратор має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днофазних входів (іноді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арафазних) і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=2ⁿ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иходів, д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розрядність (довжина) коду, який дешифрується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948960" y="1143000"/>
            <a:ext cx="57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сновні поняття та визначе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53:51Z</dcterms:created>
  <dc:creator>BalomuT</dc:creator>
  <dc:description/>
  <dc:language>en-US</dc:language>
  <cp:lastModifiedBy>Admin</cp:lastModifiedBy>
  <dcterms:modified xsi:type="dcterms:W3CDTF">2011-03-11T15:07:40Z</dcterms:modified>
  <cp:revision>1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2b000000000001024140</vt:lpwstr>
  </property>
</Properties>
</file>