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CF3-05BB-4391-A55E-7BF30D79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F3D-AEA3-4032-B46A-31363C1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E81-4FA6-4C5F-8078-EFA7B840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EA9-2EF5-4418-B71C-AF9777B1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3B9-D715-491D-8791-4085252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BAAB-DEA7-472F-9B36-5E8F948F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A59-0E09-4D04-A26A-E0C22D46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4EE-CB87-460A-996B-D9B586C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0B24-3644-49FD-924B-56917418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3C85-C2BE-4036-BF20-4E1E5D5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243-9295-4A46-8E1F-EEF19C4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602-F8F6-4BCB-BFA5-A57BC81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A006-E988-4B0E-9A65-4929EBD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F40-C32D-4405-8E23-3396E84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97E1-C556-4D57-AE60-6F3CCB8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A977-6A66-4715-BA35-6DCDDF0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A4C-3692-4495-8C67-BA66C14B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0AC-0F95-4FCC-B129-6617EDD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17E-A027-4ED1-BDC0-8C4DF629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6DB-9FEB-44C1-85D7-05533596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691-C97A-4FE7-BB16-9A975BE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3EE-7C14-4F58-96FD-3F69B35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CC0-E7C2-44DE-B295-AFEC4D1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766-6E70-41FF-916E-7E9850A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718-58E1-4D83-A259-A7ACF539DD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B81-E671-454F-AD59-0E3989689D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Графические операци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565360"/>
            <a:ext cx="8064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вать и реализовывать простейш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инейные, разветвленные, циклическ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лгоритмы на обработку графическ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остоятельное составление програм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55736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строить семейство разноцветных, случайным образом расположенных окруж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068640"/>
            <a:ext cx="8209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ешении этой задачи нам поможет функция определения случайного чис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DO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ледующие два оператора позволяют случайным образом вычислить координаты центра окружности Х и 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:=RANDOM(GETMAX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:=RANDOM(GETMAX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кружность, например салатовую, нужно операторо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указанием координат центра и цвет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(X,Y,10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операто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ашивает эту окружность случайным образ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(RANDOM(1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II – IV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ровень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бразить график функц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cos(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16280"/>
            <a:ext cx="7921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изображении графика функции необходимо иметь ввиду, что начало графических координат находится в левом верхнем углу экрана и что графические координаты принимают целые неотрицательные значения в диапазоне (0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,maxy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Знач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ля каждого режима можно определить, используя соответствующие функции. Таким образом, для получения «хорошего» графика необходимо выполнить поворот и масштабирова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,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х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0,y0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центра  - точки (0,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g,yg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точки (х,у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сштаб по оси х, т.е. величин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((xg-x0)/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333360"/>
            <a:ext cx="511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Пример 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Нужный фрагмент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060640"/>
            <a:ext cx="7705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GraphResult = 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Magenta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сирене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изонтальный отрезо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Cya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циано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320,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Gree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- зелен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320,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Что надо знать, прежде чем приступить к программированию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язык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urbo Pascal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меется значительное количество графических процедур и функций. Нам понадобиться лишь некоторые из них. Для того, чтобы компилятор «узнавал» их названия, мы должны после заголовка программы разместить строчку следующего вида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рисования прямых, окружностей и пр. необходимо перевести экран в графический режим. Для включения графического режима используется процедур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ткое описание процедур и функций в ПРИЛОЖ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1880" y="914400"/>
            <a:ext cx="609840" cy="1676520"/>
          </a:xfrm>
          <a:custGeom>
            <a:avLst/>
            <a:gdLst>
              <a:gd name="textAreaLeft" fmla="*/ 81720 w 609840"/>
              <a:gd name="textAreaRight" fmla="*/ 528120 w 6098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14400"/>
            <a:ext cx="609840" cy="1752480"/>
          </a:xfrm>
          <a:custGeom>
            <a:avLst/>
            <a:gdLst>
              <a:gd name="textAreaLeft" fmla="*/ 81720 w 609840"/>
              <a:gd name="textAreaRight" fmla="*/ 528120 w 60984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1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:=VGA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адаптер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m:=VGAHi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режи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Hi (640x480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Graph (Gd,Gm,;..\bgi’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ить графический режи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n 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режим включился успеш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трезок прям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 (0,0,639,479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1143000"/>
            <a:ext cx="2667240" cy="25909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143000"/>
            <a:ext cx="198144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того, чтобы мы могли что-либо нарисовать на экране, нам нужно уметь задавать положение на экране того, что мы рисуем. Для этого с экраном связывается система координат следующего ви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2971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438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828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0,0)                                          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точка на экране на самом деле представляет собой очень маленький прямоугольник («пиксел»). Количество точек (пикселов), умещающихся на экране по вертикали и горизонтали, называют разрешающей способностью. Разрешающая способность экрана в режим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GAHi 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40х480. Это означает, что по горизонтали на экране умещается 640 точек, а по вертикали – 480. Точка в левом верхнем углу экрана имеет координаты (0,0). Координата Х любой точки экрана лежит в пределах от 0 до 639, а координата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в пределах от 0 до 479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2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520,210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ризонтальный отрезок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320,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Ле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320,10,520,2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а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0666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зить треугольник с вершинами (320,10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120,210), (520,210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920" y="2743200"/>
            <a:ext cx="2666880" cy="2590920"/>
            <a:chOff x="6019920" y="2743200"/>
            <a:chExt cx="2666880" cy="2590920"/>
          </a:xfrm>
        </p:grpSpPr>
        <p:sp>
          <p:nvSpPr>
            <p:cNvPr id="124" name=""/>
            <p:cNvSpPr/>
            <p:nvPr/>
          </p:nvSpPr>
          <p:spPr>
            <a:xfrm>
              <a:off x="6019920" y="2743200"/>
              <a:ext cx="2666880" cy="2590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886200"/>
              <a:ext cx="83808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886200"/>
              <a:ext cx="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724280"/>
              <a:ext cx="83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Довольно обидно работать на цветном мониторе только с черно-белыми изображениями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205000"/>
          <a:ext cx="8064720" cy="4380120"/>
        </p:xfrm>
        <a:graphic>
          <a:graphicData uri="http://schemas.openxmlformats.org/drawingml/2006/table">
            <a:tbl>
              <a:tblPr/>
              <a:tblGrid>
                <a:gridCol w="2016360"/>
                <a:gridCol w="2028600"/>
                <a:gridCol w="2292480"/>
                <a:gridCol w="17272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BLUE =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UE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EEN =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ла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EEN =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CYAN =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AN =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RED =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D =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MAGENTA = 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GENTA =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LLOW = 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 =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=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AY =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INK = 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цание сим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GRAY =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51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1471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3.</a:t>
            </a:r>
            <a:br>
              <a:rPr sz="44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(Самостоятельное решение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916280"/>
            <a:ext cx="80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образить тот же треугольник, что и в примере 2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 сделать стороны треугольника разноцве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66ff"/>
                </a:solidFill>
                <a:uFillTx/>
                <a:latin typeface="Times New Roman"/>
                <a:hlinkClick r:id="rId1" action="ppaction://hlinksldjump"/>
              </a:rPr>
              <a:t>Нужный фрагмент програм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6000" y="3213000"/>
            <a:ext cx="2592360" cy="2376720"/>
            <a:chOff x="5796000" y="3213000"/>
            <a:chExt cx="2592360" cy="2376720"/>
          </a:xfrm>
        </p:grpSpPr>
        <p:sp>
          <p:nvSpPr>
            <p:cNvPr id="138" name=""/>
            <p:cNvSpPr/>
            <p:nvPr/>
          </p:nvSpPr>
          <p:spPr>
            <a:xfrm>
              <a:off x="5796000" y="3213000"/>
              <a:ext cx="2592360" cy="23767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2800" y="5080320"/>
              <a:ext cx="10368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2800" y="4231440"/>
              <a:ext cx="0" cy="84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2800" y="4231440"/>
              <a:ext cx="1036800" cy="848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3101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4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549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Концентрические окруж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219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gram Primer_4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t CenterX=32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nter Y=24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 Gd,Gm:Integer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:intege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 i:=0 to 23 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ircle (Centerx,CenterY,i*10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98100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рисования окружностей используется процедура 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r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 тремя целочисленными параметрами, задающими координаты центра окружности и ради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292640"/>
            <a:ext cx="2057400" cy="1714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13560" y="4635360"/>
            <a:ext cx="1143000" cy="1143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4863960"/>
            <a:ext cx="685800" cy="685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86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gram Primer_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var grDriver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Mode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,x,y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CEDURE Rect (x,y,x1,y1:Integer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Рисует прямоуггольник, у которого левый нижний угол имеет координаты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(х, у), а правый верхний – (х1, у1)</a:t>
            </a: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1,y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1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1,y)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Driver:=VGA; GrMode:=VGAHi; InitGraph (Gd,Gm,;..\bgi’);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or i:=1 to 15 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x:=i*30;y:=i*25;SetColor(i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ct (x,y,x+50,y+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084720" y="1628640"/>
            <a:ext cx="2158920" cy="4464360"/>
            <a:chOff x="6084720" y="1628640"/>
            <a:chExt cx="2158920" cy="4464360"/>
          </a:xfrm>
        </p:grpSpPr>
        <p:sp>
          <p:nvSpPr>
            <p:cNvPr id="155" name=""/>
            <p:cNvSpPr/>
            <p:nvPr/>
          </p:nvSpPr>
          <p:spPr>
            <a:xfrm>
              <a:off x="6084720" y="162864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760" y="26557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8360" y="265572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16360" y="299952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48360" y="36871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80000" y="3687120"/>
              <a:ext cx="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403056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80000" y="471816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12000" y="471816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0000" y="506196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9:48:21Z</dcterms:created>
  <dc:creator>comp1 - лох!</dc:creator>
  <dc:description/>
  <dc:language>en-US</dc:language>
  <cp:lastModifiedBy>comp5</cp:lastModifiedBy>
  <dcterms:modified xsi:type="dcterms:W3CDTF">2011-03-03T06:34:38Z</dcterms:modified>
  <cp:revision>3</cp:revision>
  <dc:subject/>
  <dc:title>Использование графики в Turbo Pascal</dc:title>
</cp:coreProperties>
</file>