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C8F-B259-48E1-B498-190E4797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115-0FF6-4B4A-8416-C2826009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768-556C-4044-A5AC-76DB7BAA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D50-5068-4168-A4F3-8D549303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32EF-C236-4FB5-872D-C4474FB4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208F-2E6A-4C05-AD43-E367E02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595-B29F-4829-AE5A-8BF52E7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F0E4-6585-4E1F-A541-D799E47A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AAF0-156B-439D-B96A-5B5259E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936E-5408-44F9-A0D0-9CE7789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392B-79D9-4D8D-B4EE-86997665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D0D-46E3-4AD2-8BB8-6B217EC9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4FB2-7451-4EAF-9356-49A769C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F030-E43D-4009-B28C-1F1E565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C67E-CEE7-4F61-BF75-830DD727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52A4-6BDA-4BD1-8F0A-8D449384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4A2F-D205-40E4-B0C7-05DC0ECA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CC1-61D7-49A4-899F-BAEEFA6F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9A0-B3F4-4708-B106-C8913B48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82D-F474-4CEC-A09B-5F2905B9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EFB-2473-40EA-8C4E-413A5D90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E06-0279-4672-A429-68CA5B0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93F-D0B8-402A-A95B-B116001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6AE-B300-4B11-A9DB-57DFC19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9A9-EA61-4B10-A3E6-1A6BFFC16A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4646-A05B-4F93-84DA-BE161C8E1C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Графические операции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565360"/>
            <a:ext cx="8064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здавать и реализовывать простейш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инейные, разветвленные, циклическ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лгоритмы на обработку графическ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Самостоятельное составление програм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557360"/>
            <a:ext cx="81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остроить семейство разноцветных, случайным образом расположенных окруж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3068640"/>
            <a:ext cx="82090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ешении этой задачи нам поможет функция определения случайного числ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DOM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ледующие два оператора позволяют случайным образом вычислить координаты центра окружности Х и 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:=RANDOM(GETMAX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:=RANDOM(GETMAX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кружность, например салатовую, нужно операторо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указанием координат центра и цвет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(X,Y,10);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операто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ашивает эту окружность случайным образ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(RANDOM(16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II – IV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уровень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бразить график функц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cos(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16280"/>
            <a:ext cx="79218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изображении графика функции необходимо иметь ввиду, что начало графических координат находится в левом верхнем углу экрана и что графические координаты принимают целые неотрицательные значения в диапазоне (0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0,maxy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Знач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для каждого режима можно определить, используя соответствующие функции. Таким образом, для получения «хорошего» графика необходимо выполнить поворот и масштабирован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,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х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0,y0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центра  - точки (0,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g,yg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точки (х,у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сштаб по оси х, т.е. величин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((xg-x0)/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333360"/>
            <a:ext cx="511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Пример 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Нужный фрагмент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060640"/>
            <a:ext cx="7705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GraphResult = 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Magenta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сирене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изонтальный отрезо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Cya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циано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320,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Gree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- зелен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320,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Что надо знать, прежде чем приступить к программированию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язык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urbo Pascal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меется значительное количество графических процедур и функций. Нам понадобиться лишь некоторые из них. Для того, чтобы компилятор «узнавал» их названия, мы должны после заголовка программы разместить строчку следующего вида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рисования прямых, окружностей и пр. необходимо перевести экран в графический режим. Для включения графического режима используется процедур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Gra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ткое описание процедур и функций в ПРИЛОЖ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1880" y="914400"/>
            <a:ext cx="609840" cy="1676520"/>
          </a:xfrm>
          <a:custGeom>
            <a:avLst/>
            <a:gdLst>
              <a:gd name="textAreaLeft" fmla="*/ 81720 w 609840"/>
              <a:gd name="textAreaRight" fmla="*/ 528120 w 6098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914400"/>
            <a:ext cx="609840" cy="1752480"/>
          </a:xfrm>
          <a:custGeom>
            <a:avLst/>
            <a:gdLst>
              <a:gd name="textAreaLeft" fmla="*/ 81720 w 609840"/>
              <a:gd name="textAreaRight" fmla="*/ 528120 w 60984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1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:=VGA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адаптер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m:=VGAHi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режи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Hi (640x480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Graph (Gd,Gm,;..\bgi’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ючить графический режи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n 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режим включился успешн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трезок прямо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 (0,0,639,479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1143000"/>
            <a:ext cx="2667240" cy="25909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143000"/>
            <a:ext cx="198144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228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того, чтобы мы могли что-либо нарисовать на экране, нам нужно уметь задавать положение на экране того, что мы рисуем. Для этого с экраном связывается система координат следующего вид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29718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43828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8288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0,0)                                          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815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ая точка на экране на самом деле представляет собой очень маленький прямоугольник («пиксел»). Количество точек (пикселов), умещающихся на экране по вертикали и горизонтали, называют разрешающей способностью. Разрешающая способность экрана в режим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GAHi 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40х480. Это означает, что по горизонтали на экране умещается 640 точек, а по вертикали – 480. Точка в левом верхнем углу экрана имеет координаты (0,0). Координата Х любой точки экрана лежит в пределах от 0 до 639, а координата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 в пределах от 0 до 479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2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520,210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ризонтальный отрезок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320,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Ле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320,10,520,2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ра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066680"/>
            <a:ext cx="36576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бразить треугольник с вершинами (320,10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120,210), (520,210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19920" y="2743200"/>
            <a:ext cx="2666880" cy="2590920"/>
            <a:chOff x="6019920" y="2743200"/>
            <a:chExt cx="2666880" cy="2590920"/>
          </a:xfrm>
        </p:grpSpPr>
        <p:sp>
          <p:nvSpPr>
            <p:cNvPr id="124" name=""/>
            <p:cNvSpPr/>
            <p:nvPr/>
          </p:nvSpPr>
          <p:spPr>
            <a:xfrm>
              <a:off x="6019920" y="2743200"/>
              <a:ext cx="2666880" cy="25909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3886200"/>
              <a:ext cx="83808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3886200"/>
              <a:ext cx="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4724280"/>
              <a:ext cx="83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Довольно обидно работать на цветном мониторе только с черно-белыми изображениями!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6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2205000"/>
          <a:ext cx="8064720" cy="4380120"/>
        </p:xfrm>
        <a:graphic>
          <a:graphicData uri="http://schemas.openxmlformats.org/drawingml/2006/table">
            <a:tbl>
              <a:tblPr/>
              <a:tblGrid>
                <a:gridCol w="2016360"/>
                <a:gridCol w="2028600"/>
                <a:gridCol w="2292480"/>
                <a:gridCol w="17272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CK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BLUE =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UE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EEN =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ла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EEN =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CYAN = 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AN =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RED =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D =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MAGENTA = 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ин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GENTA =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LLOW = 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 =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TE =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AY =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INK = 1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цание симв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GRAY =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51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14716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3.</a:t>
            </a:r>
            <a:br>
              <a:rPr sz="44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(Самостоятельное решение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916280"/>
            <a:ext cx="801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образить тот же треугольник, что и в примере 2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 сделать стороны треугольника разноцвет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24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66ff"/>
                </a:solidFill>
                <a:uFillTx/>
                <a:latin typeface="Times New Roman"/>
                <a:hlinkClick r:id="rId1" action="ppaction://hlinksldjump"/>
              </a:rPr>
              <a:t>Нужный фрагмент програм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6000" y="3213000"/>
            <a:ext cx="2592360" cy="2376720"/>
            <a:chOff x="5796000" y="3213000"/>
            <a:chExt cx="2592360" cy="2376720"/>
          </a:xfrm>
        </p:grpSpPr>
        <p:sp>
          <p:nvSpPr>
            <p:cNvPr id="138" name=""/>
            <p:cNvSpPr/>
            <p:nvPr/>
          </p:nvSpPr>
          <p:spPr>
            <a:xfrm>
              <a:off x="5796000" y="3213000"/>
              <a:ext cx="2592360" cy="23767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2800" y="5080320"/>
              <a:ext cx="10368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2800" y="4231440"/>
              <a:ext cx="0" cy="84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32800" y="4231440"/>
              <a:ext cx="1036800" cy="8488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3101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4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549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Концентрические окруж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219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gram Primer_4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st CenterX=32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nter Y=24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 Gd,Gm:Integer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:integer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r i:=0 to 23 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ircle (Centerx,CenterY,i*10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98100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рисования окружностей используется процедура С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r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 тремя целочисленными параметрами, задающими координаты центра окружности и ради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4292640"/>
            <a:ext cx="2057400" cy="17143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13560" y="4635360"/>
            <a:ext cx="1143000" cy="1143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2160" y="4863960"/>
            <a:ext cx="685800" cy="685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486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gram Primer_5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var grDriver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Mode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,x,y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CEDURE Rect (x,y,x1,y1:Integer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Рисует прямоуггольник, у которого левый нижний угол имеет координаты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(х, у), а правый верхний – (х1, у1)</a:t>
            </a: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1,y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1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1,y)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Driver:=VGA; GrMode:=VGAHi; InitGraph (Gd,Gm,;..\bgi’);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or i:=1 to 15 d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x:=i*30;y:=i*25;SetColor(i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ct (x,y,x+50,y+6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084720" y="1628640"/>
            <a:ext cx="2158920" cy="4464360"/>
            <a:chOff x="6084720" y="1628640"/>
            <a:chExt cx="2158920" cy="4464360"/>
          </a:xfrm>
        </p:grpSpPr>
        <p:sp>
          <p:nvSpPr>
            <p:cNvPr id="155" name=""/>
            <p:cNvSpPr/>
            <p:nvPr/>
          </p:nvSpPr>
          <p:spPr>
            <a:xfrm>
              <a:off x="6084720" y="162864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12760" y="26557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48360" y="265572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16360" y="299952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48360" y="36871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80000" y="3687120"/>
              <a:ext cx="0" cy="34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48360" y="403056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80000" y="471816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12000" y="471816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80000" y="506196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9:48:21Z</dcterms:created>
  <dc:creator>comp1 - лох!</dc:creator>
  <dc:description/>
  <dc:language>en-US</dc:language>
  <cp:lastModifiedBy>comp5</cp:lastModifiedBy>
  <dcterms:modified xsi:type="dcterms:W3CDTF">2011-03-03T06:34:38Z</dcterms:modified>
  <cp:revision>3</cp:revision>
  <dc:subject/>
  <dc:title>Использование графики в Turbo Pascal</dc:title>
</cp:coreProperties>
</file>