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FD92-97CA-46CA-B09A-267DC4AE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F9CD-073D-4CB6-ADAA-195DE328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73F-E847-41CD-8352-2BA6E711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0EB-D6E3-4115-A569-CEAED390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06AE-8962-4532-A1DD-07DADE28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6B2B-D923-4BF0-9BC3-D34E85A8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5A65-131D-4674-BE5D-0645F7D0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235B-1E24-4243-949E-0A2BB122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9986-6B13-4C38-A5DC-EC1D31F3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9F4F-35C5-4EEC-BC5A-6125A173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A737-07CE-4DB1-A2E5-89D91D92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517-D0DE-4A11-8DF9-F1309051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E817-2303-4035-AC5D-F41C60A2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2F98-5642-44EA-B59C-C2021959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CF7A-BA15-4557-8C9B-F052F778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ECA6-5417-4198-90F5-47CFC520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E499-3C22-4315-A98C-2B8859E2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3FC-CD9E-4EC3-ABEB-CAE9BAAD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44E-2EB9-4EB1-8945-E45D5F88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42FF-B819-4743-ADBE-1494ABBA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B23D-6BF1-45FD-B74E-C8AB4F42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3428-67FD-40F4-A008-4E83BF9B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91CD-D4FA-4E16-B50A-38024987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B54-C97A-4C2E-A359-EC05C0E1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F61C-2920-41E2-B0E2-D55AFB38E0D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D218-E300-44D9-ADB9-8FFF2345D9B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Графические операции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565360"/>
            <a:ext cx="806436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оздавать и реализовывать простейш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линейные, разветвленные, циклическ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лгоритмы на обработку графическ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нформ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Самостоятельное составление программ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557360"/>
            <a:ext cx="8137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Построить семейство разноцветных, случайным образом расположенных окружност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3068640"/>
            <a:ext cx="82090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решении этой задачи нам поможет функция определения случайного числ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NDOM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ледующие два оператора позволяют случайным образом вычислить координаты центра окружности Х и У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:=RANDOM(GETMAXX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:=RANDOM(GETMAXY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рисовать окружность, например салатовую, нужно оператором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RCLE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указанием координат центра и цвета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RCLE(X,Y,10);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 оператор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COLOR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крашивает эту окружность случайным образом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COLOR(RANDOM(16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II – IV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уровень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образить график функци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=cos(x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916280"/>
            <a:ext cx="792180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изображении графика функции необходимо иметь ввиду, что начало графических координат находится в левом верхнем углу экрана и что графические координаты принимают целые неотрицательные значения в диапазоне (0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x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0,maxy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Значения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x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y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для каждого режима можно определить, используя соответствующие функции. Таким образом, для получения «хорошего» графика необходимо выполнить поворот и масштабировани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сть, 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ксимальное значение по оси х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max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ксимальное значение по оси у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x0,y0)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афические координаты центра  - точки (0,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xg,yg)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афические координаты точки (х,у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x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сштаб по оси х, т.е. величин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s((xg-x0)/x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195640" y="333360"/>
            <a:ext cx="511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oper Black"/>
              </a:rPr>
              <a:t>Пример 3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oper Black"/>
              </a:rPr>
              <a:t>Нужный фрагмент програм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2060640"/>
            <a:ext cx="770544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GraphResult = gr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n beg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Color(LightMagenta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вет – светло-сиреневы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ne (120,210,520,210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изонтальный отрезок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Color(LightCyan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вет – светло-циановы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ne (120,210,320,10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вый кат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Color(Green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вет - зелены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ne (320,10,520,210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авый кат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dl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Что надо знать, прежде чем приступить к программированию?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языке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urbo Pascal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меется значительное количество графических процедур и функций. Нам понадобиться лишь некоторые из них. Для того, чтобы компилятор «узнавал» их названия, мы должны после заголовка программы разместить строчку следующего вида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s Graph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ля рисования прямых, окружностей и пр. необходимо перевести экран в графический режим. Для включения графического режима используется процедур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itGrap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раткое описание процедур и функций в ПРИЛОЖЕН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1880" y="914400"/>
            <a:ext cx="609840" cy="1676520"/>
          </a:xfrm>
          <a:custGeom>
            <a:avLst/>
            <a:gdLst>
              <a:gd name="textAreaLeft" fmla="*/ 81720 w 609840"/>
              <a:gd name="textAreaRight" fmla="*/ 528120 w 6098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914400"/>
            <a:ext cx="609840" cy="1752480"/>
          </a:xfrm>
          <a:custGeom>
            <a:avLst/>
            <a:gdLst>
              <a:gd name="textAreaLeft" fmla="*/ 81720 w 609840"/>
              <a:gd name="textAreaRight" fmla="*/ 528120 w 609840"/>
              <a:gd name="textAreaTop" fmla="*/ 306720 h 1752480"/>
              <a:gd name="textAreaBottom" fmla="*/ 127080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ример 1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gram Primer_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s Graph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r Gd,Gm:Integ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d:=VGA;{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афический адаптер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GA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m:=VGAHi;{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афический режим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GAHi (640x480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itGraph (Gd,Gm,;..\bgi’);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ключить графический режи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GraphResult=gr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n {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режим включился успешн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рисовать отрезок прямой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e (0,0,639,479);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l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1143000"/>
            <a:ext cx="205740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1143000"/>
            <a:ext cx="2667240" cy="2590920"/>
          </a:xfrm>
          <a:prstGeom prst="rect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1143000"/>
            <a:ext cx="1981440" cy="19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2286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того, чтобы мы могли что-либо нарисовать на экране, нам нужно уметь задавать положение на экране того, что мы рисуем. Для этого с экраном связывается система координат следующего вид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209680"/>
            <a:ext cx="29718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438280"/>
            <a:ext cx="0" cy="8384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18288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0,0)                                          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505320"/>
            <a:ext cx="8153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аждая точка на экране на самом деле представляет собой очень маленький прямоугольник («пиксел»). Количество точек (пикселов), умещающихся на экране по вертикали и горизонтали, называют разрешающей способностью. Разрешающая способность экрана в режиме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VGAHi 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640х480. Это означает, что по горизонтали на экране умещается 640 точек, а по вертикали – 480. Точка в левом верхнем углу экрана имеет координаты (0,0). Координата Х любой точки экрана лежит в пределах от 0 до 639, а координата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– в пределах от 0 до 479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ример 2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gram Primer_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s Graph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r Gd,Gm: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d:=VGA; Gm:=VGAHi; InitGraph (Gd,Gm,;..\bgi’)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GraphResult=gr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n beg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ne (120,210,520,210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Горизонтальный отрезок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ne (120,210,320,10);{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Левый катет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ne (320,10,520,210);{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Правый катет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l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1143000"/>
            <a:ext cx="205740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1066680"/>
            <a:ext cx="36576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образить треугольник с вершинами (320,10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120,210), (520,210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019920" y="2743200"/>
            <a:ext cx="2666880" cy="2590920"/>
            <a:chOff x="6019920" y="2743200"/>
            <a:chExt cx="2666880" cy="2590920"/>
          </a:xfrm>
        </p:grpSpPr>
        <p:sp>
          <p:nvSpPr>
            <p:cNvPr id="124" name=""/>
            <p:cNvSpPr/>
            <p:nvPr/>
          </p:nvSpPr>
          <p:spPr>
            <a:xfrm>
              <a:off x="6019920" y="2743200"/>
              <a:ext cx="2666880" cy="259092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62920" y="3886200"/>
              <a:ext cx="838080" cy="838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62920" y="3886200"/>
              <a:ext cx="0" cy="838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62920" y="4724280"/>
              <a:ext cx="838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Довольно обидно работать на цветном мониторе только с черно-белыми изображениями!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6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28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73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2205000"/>
          <a:ext cx="8064720" cy="4380120"/>
        </p:xfrm>
        <a:graphic>
          <a:graphicData uri="http://schemas.openxmlformats.org/drawingml/2006/table">
            <a:tbl>
              <a:tblPr/>
              <a:tblGrid>
                <a:gridCol w="2016360"/>
                <a:gridCol w="2028600"/>
                <a:gridCol w="2292480"/>
                <a:gridCol w="17272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CK = 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BLUE = 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UE =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но-си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GREEN = 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лат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REEN =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но-зеле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CYAN = 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етло-бирюз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YAN = 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рюз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RED = 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з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D =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с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MAGENTA = 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лин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GENTA =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олет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LLOW = 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елт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 = 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ричне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HITE = 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л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GRAY = 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етло-сер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INK = 1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цание симво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RKGRAY = 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но-сер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0" y="511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814716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Пример 3.</a:t>
            </a:r>
            <a:br>
              <a:rPr sz="4400"/>
            </a:b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(Самостоятельное решение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1916280"/>
            <a:ext cx="8015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зобразить тот же треугольник, что и в примере 2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 сделать стороны треугольника разноцветны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72428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3366ff"/>
                </a:solidFill>
                <a:uFillTx/>
                <a:latin typeface="Times New Roman"/>
                <a:hlinkClick r:id="rId1" action="ppaction://hlinksldjump"/>
              </a:rPr>
              <a:t>Нужный фрагмент программ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796000" y="3213000"/>
            <a:ext cx="2592360" cy="2376720"/>
            <a:chOff x="5796000" y="3213000"/>
            <a:chExt cx="2592360" cy="2376720"/>
          </a:xfrm>
        </p:grpSpPr>
        <p:sp>
          <p:nvSpPr>
            <p:cNvPr id="138" name=""/>
            <p:cNvSpPr/>
            <p:nvPr/>
          </p:nvSpPr>
          <p:spPr>
            <a:xfrm>
              <a:off x="5796000" y="3213000"/>
              <a:ext cx="2592360" cy="237672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32800" y="5080320"/>
              <a:ext cx="1036800" cy="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32800" y="4231440"/>
              <a:ext cx="0" cy="848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32800" y="4231440"/>
              <a:ext cx="1036800" cy="8488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3101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Пример 4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95640" y="54936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Концентрические окруж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7219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ogram Primer_4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ses Graph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st CenterX=320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enter Y=240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var Gd,Gm:Integer;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:integer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d:=VGA; Gm:=VGAHi; InitGraph (Gd,Gm,;..\bgi’);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f GraphResult=grO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n beg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or i:=0 to 23 d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ircle (Centerx,CenterY,i*10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adl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981000"/>
            <a:ext cx="38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Для рисования окружностей используется процедура С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ir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 тремя целочисленными параметрами, задающими координаты центра окружности и радиу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4292640"/>
            <a:ext cx="2057400" cy="1714320"/>
          </a:xfrm>
          <a:prstGeom prst="rect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13560" y="4635360"/>
            <a:ext cx="1143000" cy="11430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42160" y="4863960"/>
            <a:ext cx="685800" cy="685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26240" y="4749840"/>
            <a:ext cx="914400" cy="9144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26240" y="4749840"/>
            <a:ext cx="914400" cy="9144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26240" y="4749840"/>
            <a:ext cx="914400" cy="9144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5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5486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Program Primer_5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uses Graph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var grDriver:Integer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grMode:Integer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I,x,y:Integer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PROCEDURE Rect (x,y,x1,y1:Integer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</a:rPr>
              <a:t>Рисует прямоуггольник, у которого левый нижний угол имеет координаты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</a:rPr>
              <a:t>(х, у), а правый верхний – (х1, у1)</a:t>
            </a:r>
            <a:r>
              <a:rPr b="0" i="1" lang="en-US" sz="1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Line (x,y,x,y1); {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Line (x1,y,x1,y1); {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Line (x,y1,x1,y1); {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Line (x,y,x1,y) {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GrDriver:=VGA; GrMode:=VGAHi; InitGraph (Gd,Gm,;..\bgi’);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If GraphResult=grOk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then beg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For i:=1 to 15 d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x:=i*30;y:=i*25;SetColor(i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Rect (x,y,x+50,y+60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Readl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084720" y="1628640"/>
            <a:ext cx="2158920" cy="4464360"/>
            <a:chOff x="6084720" y="1628640"/>
            <a:chExt cx="2158920" cy="4464360"/>
          </a:xfrm>
        </p:grpSpPr>
        <p:sp>
          <p:nvSpPr>
            <p:cNvPr id="155" name=""/>
            <p:cNvSpPr/>
            <p:nvPr/>
          </p:nvSpPr>
          <p:spPr>
            <a:xfrm>
              <a:off x="6084720" y="1628640"/>
              <a:ext cx="863640" cy="137484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12760" y="2655720"/>
              <a:ext cx="863640" cy="137484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48360" y="2655720"/>
              <a:ext cx="0" cy="343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16360" y="2999520"/>
              <a:ext cx="432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48360" y="3687120"/>
              <a:ext cx="863640" cy="137484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80000" y="3687120"/>
              <a:ext cx="0" cy="343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48360" y="4030560"/>
              <a:ext cx="431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80000" y="4718160"/>
              <a:ext cx="863640" cy="137484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12000" y="4718160"/>
              <a:ext cx="0" cy="343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80000" y="5061960"/>
              <a:ext cx="432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9:48:21Z</dcterms:created>
  <dc:creator>comp1 - лох!</dc:creator>
  <dc:description/>
  <dc:language>en-US</dc:language>
  <cp:lastModifiedBy>comp5</cp:lastModifiedBy>
  <dcterms:modified xsi:type="dcterms:W3CDTF">2011-03-03T06:34:38Z</dcterms:modified>
  <cp:revision>3</cp:revision>
  <dc:subject/>
  <dc:title>Использование графики в Turbo Pascal</dc:title>
</cp:coreProperties>
</file>