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AA8-1293-4588-948D-2A774C5F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8C4-E7AC-44A7-ACDB-345A98E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EE8-7803-4D09-8793-CF7566E1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ED8-936D-47B3-9C15-EFDF622D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24F-B0A9-4B02-B952-3AE5A62F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E9B-8E65-4B7D-B883-78C4D5C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0EE6-A963-4F2F-9B5B-E93C6BCB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892C-BB3E-40F3-977C-D0803E7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079-E607-48D7-B83C-A42CA66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D2F-1EB9-4695-883D-B9EB8E3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34DC-E0A2-451D-BC41-E3C7E73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57A-68B4-46A4-A141-E64A8C0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0A4-D5CE-424C-A27A-6BBDDB0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9A0F-7147-4AAD-8FC1-87C01B1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371-B860-4C32-83F6-19EE07B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5FB-08DE-42E1-8342-87ACAE20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D04-E059-420C-9CA5-275C6A19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36F3-341D-48E6-9183-90388448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6A7E-0448-4AF8-8CBB-D6CB4C2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D3BD-A26D-414B-ABA3-5FD0C11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1C3D-AAF1-446C-BD59-D39188A3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AE0F-A8B7-4225-B3BF-68138AF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91C-D9B5-4698-9A2D-2476821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D7E3-FBE3-4176-B5A2-DDCB43B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8AD5-15AF-437B-991E-6A6697D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9852-F7B3-4E98-A450-AD9ADDD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4783-E66D-4EE2-A88C-4265659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70F2-2608-45C6-BC11-9D79C72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3FEF-A141-4C7A-A0DB-0AE037E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64F7-1B9D-4037-A7D4-B29A994B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14FB-D7F8-4CB9-BE18-15C45CE3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C249-55FF-4FEF-B6F0-7CB7C37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F486-AFF1-4BD4-9204-BEA995C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102-0162-4A96-9437-D41B243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C6BF-9C8D-43B5-B034-2398EAD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94F6-E086-46F7-9C99-0EE22180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4093-2D16-49CB-940A-7FAC8AED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BA60-229D-46A6-A9A4-BB74A9D9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5EDE-B2ED-4A10-A250-1E0A7936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1B8C-C711-4CD3-A912-F2EE59C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CDB2-39D9-4F90-9D3F-71555C06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E3F7-B774-4031-B6B9-65D49BE5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3A10-5903-413D-9A0F-901D1B36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00B-06F7-404A-A38F-569223C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9E6-D665-4F21-827D-1DA3CAC0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CDA-473D-4EFE-BA7E-AA715B6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D4A-C4FC-4670-9D77-C6C680A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471-17AB-4AD4-AB73-8924C75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AC4-6CEF-4E88-B30C-9D43D6ECAF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BD9-DAC0-4B10-B36E-49990AB6DC7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DA3-A300-4629-977E-3037B92E92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AEB-7823-4A04-B038-0D6D322267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Опанувати технологію і методи створення форм в HTML-документ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ег т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араметри, що призначені для створе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сніть призначення параметр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method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а які значення він може приймати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еги елементів керува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ипи елементів керуванн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ля чого призначені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та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maxlength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тег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INPUT&gt;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пишіть структуру тег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озкажіть призначення 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hecked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 які значенні може приймати та в 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стосовує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користовую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ols, rows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 створити приховані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Що собою являє ф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нкц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мент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 керуванн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и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submit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 створенні форми використати наступні елементи та параметр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>
            <a:lum contrast="20000"/>
          </a:blip>
          <a:srcRect l="13014" t="31414" r="11265" b="20673"/>
          <a:stretch/>
        </p:blipFill>
        <p:spPr>
          <a:xfrm>
            <a:off x="85680" y="1571760"/>
            <a:ext cx="884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формити звіт до лабораторної роботи №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вторити та підготуватися до самостійної роботи з тем: «Додавання мультимедія», «Фрейми», «Конструювання форм» за вказаною літератур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Методи та засоби Інтернет-технологій: навч. посібник/ В.В. Самсонов, А.Л. Єрохін. - Х., 2008. - 264с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-91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А. Кириленко Самоучитель HTML - Спб.: Питер; Киев: Издательская группа BHV, 2006 - 272 c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2-111,128-14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Квинт И. HTML и CSS на 100%. – Спб.: Питер, 2008. – 352 с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106-16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иблизний перелік питань до самостійної робо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 елемент та атрибути за допомогою якого створюють форми.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тег використовується для створення текстового поля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 створити велике текстове поле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ведіть приклад створення кноп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0:17Z</dcterms:created>
  <dc:creator>VATus</dc:creator>
  <dc:description/>
  <dc:language>en-US</dc:language>
  <cp:lastModifiedBy>VATus</cp:lastModifiedBy>
  <dcterms:modified xsi:type="dcterms:W3CDTF">2011-02-02T21:29:37Z</dcterms:modified>
  <cp:revision>29</cp:revision>
  <dc:subject/>
  <dc:title>Створення форм у  HTML-сторінках</dc:title>
</cp:coreProperties>
</file>