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567-CA8D-4914-B7FF-B1829EA9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83B-2A92-4AA0-8269-5333A66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933-0D15-437F-ACD8-5DA7A8D9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C6C-E4A8-4AD2-B16F-FC3BA8A6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0F2-3493-40BA-A3F1-B2EDCB0C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9785-31A8-4367-835D-A083538A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C2F8-B920-46AA-9242-83ED7E3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8AC5-BE90-46B7-97A8-D18BD8E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C73-4D4D-4B46-8ECE-89BA33C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2E74-1D90-40CF-AFD2-A12BE50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B77-9B9A-4BA9-92F4-057E0DE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E05-7BAB-4EBC-BECC-15CDE42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9188-DE52-4411-BACD-6321B6F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F989-3313-498D-A8AE-46000F9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FD4-3EF1-4C74-8BD1-A7BD3638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16FA-5503-46F1-B432-6871496F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D813-F17E-4581-8849-BFDB7163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CE46-4978-4B54-94E4-5814A062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D076-11D5-4347-94D6-9EB3AEA6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C9E5-48B6-46BF-B5A0-E7B3AC0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C397-2404-43F4-B5ED-9680148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AD0C-41AA-4073-91CD-098BCAF9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5CC-DCAC-4C16-A312-0E9ABBD7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334F-83A8-40A3-B9F8-9D258745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CF70-61E7-402F-B132-1A45445B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2AE9-755C-47F7-AA21-57DE498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C23C-9710-4852-B540-2658F00C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2B3A-338F-419D-B89C-EB94567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6EA6-A081-4FBC-91CA-5DBE6EC3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55D6-F410-44A0-ACC2-292FFA53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8ED95-3A35-45C7-A6D4-20AC2A48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8B1E-10A6-409A-94A4-9438940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BF06-C32B-4B9A-94CC-E404F326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1BE-60F5-4F77-980D-78E01187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0664-8CD1-425E-B45E-D26107D1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7312-703B-4D93-9234-0C4603E8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8DD8-A96C-420E-8579-BD3B091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32E2-F8D4-4E7E-83E4-9FAD6D6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1961-7D3B-4856-928C-7C8AFF8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BA65-72F6-4510-9267-22D6161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D194-0E28-4515-8957-00B00676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72D9-15A6-4AE9-85D5-F18E6357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B225-5C9E-4898-9366-C6886ECA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960-6137-4D7E-894E-B1EF64C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D71-C548-4EB9-8AA1-9862AE25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6B6-6353-4538-A550-1A1CD20E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37F-6B7E-4E0D-AD44-D2A546B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01D-136B-428A-A192-28FA0FB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B52-E416-4BC4-8833-9626F9AB6A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49C6-582A-4657-93E5-B07C3E0FCB9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D3C5-207D-492B-8D33-2CE66F56ED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4E0F-5208-444D-8C95-4A8A41D123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Опанувати технологію і методи створення форм в HTML-документ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ЗАПИТАННЯ З ТЕМИ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«Конструювання форм”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чого призначені фор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звіт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ег т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араметри, що призначені для створенн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фор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сніть призначення параметр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method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та які значення він може приймати?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рахуйте теги елементів керуванн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рахуйте типи елементів керуванн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ЗАПИТАННЯ З ТЕМИ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«Конструювання форм”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ля чого призначені параметр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size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та параметр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maxlength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тег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INPUT&gt;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пишіть структуру тег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озкажіть призначення п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аметр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checked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, які значенні може приймати та в 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х тегах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стосовує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х тегах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користовую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араметр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cols, rows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 створити приховані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Що собою являє ф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нкц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мент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 керуванн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ип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submit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 створенні форми використати наступні елементи та параметр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>
            <a:lum contrast="20000"/>
          </a:blip>
          <a:srcRect l="13014" t="31414" r="11265" b="20673"/>
          <a:stretch/>
        </p:blipFill>
        <p:spPr>
          <a:xfrm>
            <a:off x="85680" y="1571760"/>
            <a:ext cx="884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формити звіт до лабораторної роботи №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вторити та підготуватися до самостійної роботи з тем: «Додавання мультимедія», «Фрейми», «Конструювання форм» за вказаною літератур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Методи та засоби Інтернет-технологій: навч. посібник/ В.В. Самсонов, А.Л. Єрохін. - Х., 2008. - 264с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8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-91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А. Кириленко Самоучитель HTML - Спб.: Питер; Киев: Издательская группа BHV, 2006 - 272 c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82-111,128-140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Квинт И. HTML и CSS на 100%. – Спб.: Питер, 2008. – 352 с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106-160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иблизний перелік питань до самостійної робо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чого призначені форм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звіть елемент та атрибути за допомогою якого створюють форми.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ий тег використовується для створення текстового поля?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 створити велике текстове поле?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ведіть приклад створення кноп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0:17Z</dcterms:created>
  <dc:creator>VATus</dc:creator>
  <dc:description/>
  <dc:language>en-US</dc:language>
  <cp:lastModifiedBy>VATus</cp:lastModifiedBy>
  <dcterms:modified xsi:type="dcterms:W3CDTF">2011-02-02T21:29:37Z</dcterms:modified>
  <cp:revision>29</cp:revision>
  <dc:subject/>
  <dc:title>Створення форм у  HTML-сторінках</dc:title>
</cp:coreProperties>
</file>