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56F-75F9-4DE7-A083-B27A29FB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80D-DAFF-4437-95DD-8AFB6728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08C-C1F2-43CC-88E7-C9239339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E4C-EDD5-4D5E-87AC-E2D0EBFB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E950-3D44-4177-913D-695E6F77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C96E-8772-4845-8518-0C4A570F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8D76-7930-492E-9913-44CF00A4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C2B7-E842-4C7E-B832-1EBA6A80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4D81-9FD6-4D5F-9E3F-1A1180AE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95B9-541D-4888-ACC1-E48BE421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2F18-A31C-4E6D-8733-AB8CFCF5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C96C-0817-4B8B-9804-6B771E49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5E80-8F34-490F-9C93-7F368B35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132F-E97F-4FDD-B81C-A18A451F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1AF7-02BB-45F9-B5BB-8F72CC90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385E-A81C-45CD-BDCB-E112B844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4A44-7043-4CD2-B68C-8C73316F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B0604-4570-489E-9490-8C549B06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EECE3-79A9-46CC-A663-4413C9F8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AC6BB-D7D4-4643-895E-F97E8080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D4A1D-E356-4218-9D94-2A6BFD18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AA06B-0348-4CE5-B44F-1B566CBB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C3AE-8F30-419B-9757-BE508E9D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4A3CF-9171-45E7-9DAD-1E60AAB6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61590-AC9E-4C81-AD5A-BB441328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31D6A-477A-43B7-BF4D-3BD3E826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B2472-9F12-4F44-858D-A02DE9FD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515B4-3D88-4DCF-B038-C4D51F21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3D09E-D86D-4B85-9189-FFCCBA7A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6E636-428D-46E1-AE09-C2890864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DF1E8-3248-4B92-9BF2-BA1FFD84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EDF0D-329C-411E-B4DC-4F1E9814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F7AE8-B257-46B1-95B4-949D0209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67A4-29A5-47C6-B84A-E063D381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5680F-F9F1-4112-AEEB-0F19A9DB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5AF24-40B3-4739-9C79-EAA9EDE3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36247-511E-428C-A59C-837C8383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E28A6-8DB8-4C2C-82F7-6ECAB1E8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895FD-6F2F-4D4B-B868-EA946D0D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C0BE7-1E84-4D7A-9F57-DBE649B4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29353-5B2A-4877-821B-AC3E5A6D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8EF02-EB22-4128-9BDE-9E418067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863E9-F0B2-4331-BD7A-93D61A35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243-B854-4885-8107-6EADF774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0F0-EF92-4D7F-AD5C-E87F6339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0255-DC48-45B3-A73C-DADA981C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7489-C8A2-4053-AB75-850EE3DA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750-DB1C-4CEA-85A5-0E4F4524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8DC0-43F7-4F2C-833F-F91D9193DE3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D7A3-EF86-4B61-B6D1-FFFE937A8CF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2742-BFFA-41D1-95F9-CB734F701BE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59CC-52FC-4C3D-9220-7BBD1CF17C5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ffffff"/>
                </a:solidFill>
                <a:latin typeface="Constantia"/>
              </a:rPr>
              <a:t>Опанувати технологію і методи створення форм в HTML-документа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ЗАПИТАННЯ З ТЕМИ  </a:t>
            </a:r>
            <a:br>
              <a:rPr sz="4500"/>
            </a:b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«Конструювання форм”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чого призначені форм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азвіть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тег та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араметри, що призначені для створення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ML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форм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ясніть призначення параметру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method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та які значення він може приймати?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рахуйте теги елементів керування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ML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фор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ерахуйте типи елементів керуванн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INPUT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ЗАПИТАННЯ З ТЕМИ  </a:t>
            </a:r>
            <a:br>
              <a:rPr sz="4500"/>
            </a:b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«Конструювання форм”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ля чого призначені параметр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size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та параметр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maxlength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 тег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&lt;INPUT&gt;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Опишіть структуру тег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Розкажіть призначення п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раметр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checked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, які значенні може приймати та в 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их тегах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і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стосовуєтьс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их тегах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икористовуютьс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параметр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cols, rows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Як створити приховані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л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Що собою являє ф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нкц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і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емент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 керуванн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тип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submit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ри створенні форми використати наступні елементи та параметр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>
            <a:lum contrast="20000"/>
          </a:blip>
          <a:srcRect l="13014" t="31414" r="11265" b="20673"/>
          <a:stretch/>
        </p:blipFill>
        <p:spPr>
          <a:xfrm>
            <a:off x="85680" y="1571760"/>
            <a:ext cx="8844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домашнє завданн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Оформити звіт до лабораторної роботи №1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вторити та підготуватися до самостійної роботи з тем: «Додавання мультимедія», «Фрейми», «Конструювання форм» за вказаною літературою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Методи та засоби Інтернет-технологій: навч. посібник/ В.В. Самсонов, А.Л. Єрохін. - Х., 2008. - 264с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[8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-91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2.А. Кириленко Самоучитель HTML - Спб.: Питер; Киев: Издательская группа BHV, 2006 - 272 c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[82-111,128-140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 Квинт И. HTML и CSS на 100%. – Спб.: Питер, 2008. – 352 с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[106-160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иблизний перелік питань до самостійної робо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ля чого призначені форми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азвіть елемент та атрибути за допомогою якого створюють форми. Наведіть прикла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кий тег використовується для створення текстового поля? Наведіть прикла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к створити велике текстове поле? Наведіть прикла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аведіть приклад створення кноп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5:20:17Z</dcterms:created>
  <dc:creator>VATus</dc:creator>
  <dc:description/>
  <dc:language>en-US</dc:language>
  <cp:lastModifiedBy>VATus</cp:lastModifiedBy>
  <dcterms:modified xsi:type="dcterms:W3CDTF">2011-02-02T21:29:37Z</dcterms:modified>
  <cp:revision>29</cp:revision>
  <dc:subject/>
  <dc:title>Створення форм у  HTML-сторінках</dc:title>
</cp:coreProperties>
</file>