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53FE-378D-468B-8F45-DA1E0B38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A635-43A4-4DF9-95DA-C378F52B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2720-29A3-48C1-BC60-FB0A7D7D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7B12-8EBD-413A-B9D1-99885605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A85DE-CF5B-4B33-8340-65E120FB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29067-322B-429D-840D-4AFB4E84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7FC9E-4867-4A10-B619-DD4BAFA0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61721-B6AF-4438-8D0C-EC6D08A5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72C86-BAFF-4ECF-8777-BF8C8F70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8EE30-C981-4A04-B63B-68BA232C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7F8D7-3DEE-4654-BA28-B899D6DF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73E8-3034-44B3-8B76-4571862C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7B8C5-6254-4B2E-885F-2C74F93C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9A6A1-25CA-4AC4-A88D-83B1E3B2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E26CB-85AE-43E6-857E-58405F71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740B0-1308-4D5E-8A3A-635CE5D4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7F6A5-014F-4361-AFE6-C9685350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93695-792D-42DD-94B0-5A243D2C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D5047-6E4D-42BD-90B3-E9CE1499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54D94-873B-4903-AF28-0292D693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D102C-D3C7-4821-B4F2-D733F6C5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A55DA-CC08-4BFC-B6CB-436AF398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AE2E-D651-4101-B7F5-0E9AA962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97955-3873-44B7-A51D-38585EED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F224D-BC3D-4A82-BE94-429C4F10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AE969-5D03-451F-A5FB-ECFC7082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F27EF-43D4-47A3-9831-DABC403D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32393-E8B6-4FCE-A255-2802B55A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C8F06-EE4A-47D7-9F9F-9444D0A1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821A1-7741-4EFF-A4EC-CD6ED351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236F88-5ED3-40D8-B117-512007CB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C26FD6-BD6C-4ADD-8CD9-6996CD3E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C0AFAE-D36A-4EDA-A710-F5CA48D6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13BC-5336-4612-BE8E-7D03B3AD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FDB796-E690-4020-8541-F6286CBF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C96AA7-49AD-485A-9B61-8B217819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96B12A-9597-44CB-999F-074F42B9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919BE8-FB09-426B-A8A4-0B2A2519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075713-5E8A-43B9-B3A7-CC5CCB61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EBD07A-B81A-4039-B7BD-6DF69048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31E1AD-142B-4CC7-8EED-393B3937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839173-4C2B-49F5-A7AA-5A28A194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431140-36A0-4771-B8D9-6096A295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FE7F-DC0C-40BF-9B45-F9429FDB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D76A-A792-432E-9884-C4F387BE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4F15-C7DD-4650-B972-E31DC956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00E0-4923-428C-B3D6-C7CC81A6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1062-B99D-4947-8F2E-7FB9BEA7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33A4-614D-49AC-A80E-81A25A728F4A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2702-F934-4043-BA9A-EE9E02E03B40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2075-C96B-484E-8ED0-8854DCC8D1F6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5531-08E1-42E5-8E24-FE44B7A4D775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85840" y="7858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1.            Які числа відносяться  до типу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Integer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Real 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2.            Виправ помилки в програмі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Program 2 pr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Var b,s: real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Begin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Writeln ('Уведіть числа b і с')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Readln( b,c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A=b+c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Write ln ( 'a=',a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End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3.    Запиши мовою програмування  математичний вираз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х</a:t>
            </a:r>
            <a:r>
              <a:rPr b="1" lang="uk-UA" sz="18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+2 ху-в</a:t>
            </a:r>
            <a:r>
              <a:rPr b="1" lang="uk-UA" sz="1800" spc="-1" strike="noStrike" baseline="30000">
                <a:solidFill>
                  <a:srgbClr val="000000"/>
                </a:solidFill>
                <a:latin typeface="Constantia"/>
              </a:rPr>
              <a:t>2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4. Переведіть  запис  із мови програмування Паскаль  на математичну мову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Sqrt(x)*3 - (a+2)/b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4" descr=""/>
          <p:cNvPicPr/>
          <p:nvPr/>
        </p:nvPicPr>
        <p:blipFill>
          <a:blip r:embed="rId1"/>
          <a:stretch/>
        </p:blipFill>
        <p:spPr>
          <a:xfrm>
            <a:off x="450720" y="-237960"/>
            <a:ext cx="8242560" cy="1109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Рисунок4"/>
          <p:cNvPicPr/>
          <p:nvPr/>
        </p:nvPicPr>
        <p:blipFill>
          <a:blip r:embed="rId2"/>
          <a:stretch/>
        </p:blipFill>
        <p:spPr>
          <a:xfrm>
            <a:off x="4429080" y="857160"/>
            <a:ext cx="407196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апишіть програму , яка б підраховувала суму тільки додатних чисел з трьох наданих чисе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Дано трьохзначне число. Напишіть програму яка б визначала чи є дане число “ПОЛІНДРОМОМ” (“ПЕРЕВЕРТНЕМ”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Заголовок 7" descr=""/>
          <p:cNvPicPr/>
          <p:nvPr/>
        </p:nvPicPr>
        <p:blipFill>
          <a:blip r:embed="rId1"/>
          <a:stretch/>
        </p:blipFill>
        <p:spPr>
          <a:xfrm>
            <a:off x="244440" y="55440"/>
            <a:ext cx="88758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14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Program 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Var a,b,c,x,y: real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Begi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Writeln (‘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числа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a, b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’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Readln( a,b,c)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:=sqr(b)-4*a*c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x:=(-b+sqrt(d))-2*a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y:=(-b-sqrt(d))-2*a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Write ln ( ‘x=’,x, ‘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=’,y)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nd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4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8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Рисунок4"/>
          <p:cNvPicPr/>
          <p:nvPr/>
        </p:nvPicPr>
        <p:blipFill>
          <a:blip r:embed="rId2"/>
          <a:stretch/>
        </p:blipFill>
        <p:spPr>
          <a:xfrm>
            <a:off x="4753080" y="1785960"/>
            <a:ext cx="43909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28400" y="1856880"/>
            <a:ext cx="8329320" cy="33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5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ffffff"/>
                </a:solidFill>
                <a:uFillTx/>
                <a:latin typeface="Constantia"/>
              </a:rPr>
              <a:t>Розробка алгоритмів з розгалуженням у середовищі програмування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Constantia"/>
              </a:rPr>
              <a:t> Turbo Pascal</a:t>
            </a:r>
            <a:r>
              <a:rPr b="1" lang="uk-UA" sz="4400" spc="-1" strike="noStrike" u="sng">
                <a:solidFill>
                  <a:srgbClr val="ffffff"/>
                </a:solidFill>
                <a:uFillTx/>
                <a:latin typeface="Constanti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5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Прямоугольник 3"/>
          <p:cNvSpPr/>
          <p:nvPr/>
        </p:nvSpPr>
        <p:spPr>
          <a:xfrm>
            <a:off x="2357280" y="642960"/>
            <a:ext cx="4143600" cy="71424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Тема  уроку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642680"/>
            <a:ext cx="604368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onstantia"/>
              </a:rPr>
              <a:t>дозволяють вибирати  ті  чи  інші частини  програми в залежності  від  умови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Заголовок 2" descr=""/>
          <p:cNvPicPr/>
          <p:nvPr/>
        </p:nvPicPr>
        <p:blipFill>
          <a:blip r:embed="rId1"/>
          <a:stretch/>
        </p:blipFill>
        <p:spPr>
          <a:xfrm>
            <a:off x="133200" y="-189000"/>
            <a:ext cx="9017280" cy="1712880"/>
          </a:xfrm>
          <a:prstGeom prst="rect">
            <a:avLst/>
          </a:prstGeom>
          <a:ln w="0">
            <a:noFill/>
          </a:ln>
        </p:spPr>
      </p:pic>
      <p:grpSp>
        <p:nvGrpSpPr>
          <p:cNvPr id="180" name="Группа 3"/>
          <p:cNvGrpSpPr/>
          <p:nvPr/>
        </p:nvGrpSpPr>
        <p:grpSpPr>
          <a:xfrm>
            <a:off x="4357800" y="3571920"/>
            <a:ext cx="4321080" cy="2378160"/>
            <a:chOff x="4357800" y="3571920"/>
            <a:chExt cx="4321080" cy="2378160"/>
          </a:xfrm>
        </p:grpSpPr>
        <p:grpSp>
          <p:nvGrpSpPr>
            <p:cNvPr id="181" name="Rectangle 9"/>
            <p:cNvGrpSpPr/>
            <p:nvPr/>
          </p:nvGrpSpPr>
          <p:grpSpPr>
            <a:xfrm>
              <a:off x="4357800" y="5128200"/>
              <a:ext cx="1744560" cy="821880"/>
              <a:chOff x="4357800" y="5128200"/>
              <a:chExt cx="1744560" cy="821880"/>
            </a:xfrm>
          </p:grpSpPr>
          <p:pic>
            <p:nvPicPr>
              <p:cNvPr id="182" name="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4357800" y="5128200"/>
                <a:ext cx="1744560" cy="82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4483080" y="5245920"/>
                <a:ext cx="1491480" cy="58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</a:rPr>
                  <a:t>Z:= 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4" name="Rectangle 13"/>
            <p:cNvGrpSpPr/>
            <p:nvPr/>
          </p:nvGrpSpPr>
          <p:grpSpPr>
            <a:xfrm>
              <a:off x="6934320" y="5128200"/>
              <a:ext cx="1744560" cy="821880"/>
              <a:chOff x="6934320" y="5128200"/>
              <a:chExt cx="1744560" cy="821880"/>
            </a:xfrm>
          </p:grpSpPr>
          <p:pic>
            <p:nvPicPr>
              <p:cNvPr id="185" name="Rectangl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934320" y="5128200"/>
                <a:ext cx="1744560" cy="82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"/>
              <p:cNvSpPr/>
              <p:nvPr/>
            </p:nvSpPr>
            <p:spPr>
              <a:xfrm>
                <a:off x="7059240" y="5245920"/>
                <a:ext cx="1491480" cy="58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</a:rPr>
                  <a:t>Z:= 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AutoShape 17"/>
            <p:cNvGrpSpPr/>
            <p:nvPr/>
          </p:nvGrpSpPr>
          <p:grpSpPr>
            <a:xfrm>
              <a:off x="5373360" y="3571920"/>
              <a:ext cx="2283840" cy="1145160"/>
              <a:chOff x="5373360" y="3571920"/>
              <a:chExt cx="2283840" cy="1145160"/>
            </a:xfrm>
          </p:grpSpPr>
          <p:pic>
            <p:nvPicPr>
              <p:cNvPr id="188" name="AutoShap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5373360" y="3571920"/>
                <a:ext cx="2283840" cy="114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6007680" y="3918600"/>
                <a:ext cx="1017000" cy="45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</a:rPr>
                  <a:t>X&gt;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0" name="Line 18"/>
            <p:cNvSpPr/>
            <p:nvPr/>
          </p:nvSpPr>
          <p:spPr>
            <a:xfrm flipH="1">
              <a:off x="5092560" y="4145760"/>
              <a:ext cx="4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19"/>
            <p:cNvSpPr/>
            <p:nvPr/>
          </p:nvSpPr>
          <p:spPr>
            <a:xfrm flipH="1">
              <a:off x="7533000" y="4145760"/>
              <a:ext cx="4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20"/>
            <p:cNvSpPr/>
            <p:nvPr/>
          </p:nvSpPr>
          <p:spPr>
            <a:xfrm>
              <a:off x="5092920" y="4145760"/>
              <a:ext cx="0" cy="110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21"/>
            <p:cNvSpPr/>
            <p:nvPr/>
          </p:nvSpPr>
          <p:spPr>
            <a:xfrm>
              <a:off x="7939800" y="4145760"/>
              <a:ext cx="0" cy="110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f 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nstantia"/>
              </a:rPr>
              <a:t>&lt; </a:t>
            </a:r>
            <a:r>
              <a:rPr b="1" lang="ru-RU" sz="2400" spc="-1" strike="noStrike">
                <a:solidFill>
                  <a:srgbClr val="ff3300"/>
                </a:solidFill>
                <a:latin typeface="Constantia"/>
              </a:rPr>
              <a:t>умова</a:t>
            </a:r>
            <a:r>
              <a:rPr b="1" lang="en-US" sz="2400" spc="-1" strike="noStrike">
                <a:solidFill>
                  <a:srgbClr val="ff33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n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&lt;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оператор 1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&gt;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      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lse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&lt;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оператор 2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&gt;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ogram My2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ar x,y: integer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riteln (‘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ведіть два числа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’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adln(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х, у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f x&gt;y Then Writeln(x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lse  Writeln(y)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nd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Заголовок 2" descr=""/>
          <p:cNvPicPr/>
          <p:nvPr/>
        </p:nvPicPr>
        <p:blipFill>
          <a:blip r:embed="rId1"/>
          <a:stretch/>
        </p:blipFill>
        <p:spPr>
          <a:xfrm>
            <a:off x="-225360" y="146160"/>
            <a:ext cx="9644040" cy="1238040"/>
          </a:xfrm>
          <a:prstGeom prst="rect">
            <a:avLst/>
          </a:prstGeom>
          <a:ln w="0">
            <a:noFill/>
          </a:ln>
        </p:spPr>
      </p:pic>
      <p:grpSp>
        <p:nvGrpSpPr>
          <p:cNvPr id="196" name="Rectangle 7"/>
          <p:cNvGrpSpPr/>
          <p:nvPr/>
        </p:nvGrpSpPr>
        <p:grpSpPr>
          <a:xfrm>
            <a:off x="5500800" y="1643040"/>
            <a:ext cx="3241080" cy="1690200"/>
            <a:chOff x="5500800" y="1643040"/>
            <a:chExt cx="3241080" cy="1690200"/>
          </a:xfrm>
        </p:grpSpPr>
        <p:pic>
          <p:nvPicPr>
            <p:cNvPr id="197" name="Rectangle 7" descr=""/>
            <p:cNvPicPr/>
            <p:nvPr/>
          </p:nvPicPr>
          <p:blipFill>
            <a:blip r:embed="rId2"/>
            <a:stretch/>
          </p:blipFill>
          <p:spPr>
            <a:xfrm>
              <a:off x="5500800" y="1677240"/>
              <a:ext cx="3241080" cy="16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5"/>
            <p:cNvSpPr/>
            <p:nvPr/>
          </p:nvSpPr>
          <p:spPr>
            <a:xfrm>
              <a:off x="5665320" y="1643040"/>
              <a:ext cx="2925000" cy="15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</a:rPr>
                <a:t>Що з’являєтьс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</a:rPr>
                <a:t>на екрані монітор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</a:rPr>
                <a:t>після виконанн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</a:rPr>
                <a:t>даної програми</a:t>
              </a: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Rectangle 8"/>
          <p:cNvGrpSpPr/>
          <p:nvPr/>
        </p:nvGrpSpPr>
        <p:grpSpPr>
          <a:xfrm>
            <a:off x="5681520" y="4395960"/>
            <a:ext cx="3206880" cy="1157040"/>
            <a:chOff x="5681520" y="4395960"/>
            <a:chExt cx="3206880" cy="1157040"/>
          </a:xfrm>
        </p:grpSpPr>
        <p:pic>
          <p:nvPicPr>
            <p:cNvPr id="200" name="Rectangle 8" descr=""/>
            <p:cNvPicPr/>
            <p:nvPr/>
          </p:nvPicPr>
          <p:blipFill>
            <a:blip r:embed="rId3"/>
            <a:stretch/>
          </p:blipFill>
          <p:spPr>
            <a:xfrm>
              <a:off x="5681520" y="4395960"/>
              <a:ext cx="320688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8"/>
            <p:cNvSpPr/>
            <p:nvPr/>
          </p:nvSpPr>
          <p:spPr>
            <a:xfrm>
              <a:off x="5867280" y="4508640"/>
              <a:ext cx="284328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</a:rPr>
                <a:t>Підкресліт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</a:rPr>
                <a:t>умовуний оператор</a:t>
              </a: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428720" y="1571760"/>
            <a:ext cx="4714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Program My3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var</a:t>
            </a: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x, y: real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Begi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writeln (‘</a:t>
            </a: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Введіть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х і у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’)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readln (x,y)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If abs(x) &gt;abs(y) Then x:=x/5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Write(‘x=‘, x,  ‘y=‘, y)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nd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Заголовок 2" descr=""/>
          <p:cNvPicPr/>
          <p:nvPr/>
        </p:nvPicPr>
        <p:blipFill>
          <a:blip r:embed="rId1"/>
          <a:stretch/>
        </p:blipFill>
        <p:spPr>
          <a:xfrm>
            <a:off x="-201600" y="146160"/>
            <a:ext cx="9717120" cy="12380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3"/>
          <p:cNvSpPr/>
          <p:nvPr/>
        </p:nvSpPr>
        <p:spPr>
          <a:xfrm>
            <a:off x="285840" y="1357200"/>
            <a:ext cx="433044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f 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ff3300"/>
                </a:solidFill>
                <a:latin typeface="Constantia"/>
              </a:rPr>
              <a:t>&lt;</a:t>
            </a:r>
            <a:r>
              <a:rPr b="1" lang="uk-UA" sz="2600" spc="-1" strike="noStrike">
                <a:solidFill>
                  <a:srgbClr val="ff3300"/>
                </a:solidFill>
                <a:latin typeface="Constantia"/>
              </a:rPr>
              <a:t>умова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&gt;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n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оператор  1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uk-UA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хай дано два числа. Якщо перше число більше другого, то необхідно перше зменшити в п’ять разів. Інакше число залишити без змін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285840" y="1523880"/>
            <a:ext cx="428616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26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у якого значення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змінної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 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обчислюється за формулою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+b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,  </a:t>
            </a: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якщо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а –</a:t>
            </a: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непарне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*b, </a:t>
            </a: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якщо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а –</a:t>
            </a: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парне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Заголовок 2" descr=""/>
          <p:cNvPicPr/>
          <p:nvPr/>
        </p:nvPicPr>
        <p:blipFill>
          <a:blip r:embed="rId1"/>
          <a:stretch/>
        </p:blipFill>
        <p:spPr>
          <a:xfrm>
            <a:off x="281160" y="146160"/>
            <a:ext cx="8631000" cy="1238040"/>
          </a:xfrm>
          <a:prstGeom prst="rect">
            <a:avLst/>
          </a:prstGeom>
          <a:ln w="0">
            <a:noFill/>
          </a:ln>
        </p:spPr>
      </p:pic>
      <p:sp>
        <p:nvSpPr>
          <p:cNvPr id="207" name="Скругленный прямоугольник 3"/>
          <p:cNvSpPr/>
          <p:nvPr/>
        </p:nvSpPr>
        <p:spPr>
          <a:xfrm>
            <a:off x="4572000" y="1357200"/>
            <a:ext cx="4143240" cy="278604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If  a  mod  2 =0 then Write (‘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Число </a:t>
            </a: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непарне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’)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else  write (‘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Число </a:t>
            </a: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парне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’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4286160" y="4272120"/>
            <a:ext cx="464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gram My</a:t>
            </a:r>
            <a:r>
              <a:rPr b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ar  a, y: integ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riteln (‘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ведіть число а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adln (a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 (a mod 2)=0 then Write (‘</a:t>
            </a:r>
            <a:r>
              <a:rPr b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 парне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lse  write (‘</a:t>
            </a:r>
            <a:r>
              <a:rPr b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арне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071680" y="1500120"/>
            <a:ext cx="378612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166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Які вираховуються за формулою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0" name="Заголовок 2" descr=""/>
          <p:cNvPicPr/>
          <p:nvPr/>
        </p:nvPicPr>
        <p:blipFill>
          <a:blip r:embed="rId1"/>
          <a:stretch/>
        </p:blipFill>
        <p:spPr>
          <a:xfrm>
            <a:off x="-304920" y="146160"/>
            <a:ext cx="9802800" cy="1238040"/>
          </a:xfrm>
          <a:prstGeom prst="rect">
            <a:avLst/>
          </a:prstGeom>
          <a:ln w="0">
            <a:noFill/>
          </a:ln>
        </p:spPr>
      </p:pic>
      <p:sp>
        <p:nvSpPr>
          <p:cNvPr id="211" name="Скругленный прямоугольник 3"/>
          <p:cNvSpPr/>
          <p:nvPr/>
        </p:nvSpPr>
        <p:spPr>
          <a:xfrm>
            <a:off x="285840" y="2500200"/>
            <a:ext cx="5214960" cy="164304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If a &gt;3  then y:=sqr(x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else  y:=x- 8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8"/>
              <p:cNvSpPr txBox="1"/>
              <p:nvPr/>
            </p:nvSpPr>
            <p:spPr>
              <a:xfrm>
                <a:off x="4643280" y="4286160"/>
                <a:ext cx="417852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х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якщо</m:t>
                              </m:r>
                              <m:r>
                                <m:t xml:space="preserve"> </m:t>
                              </m:r>
                              <m:r>
                                <m:t xml:space="preserve">х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3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якщо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85840" y="1285920"/>
            <a:ext cx="85010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Program 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Var a,b,c,x,y: real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Begi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Writeln (‘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Введіть коефіцієнти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a, b 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і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’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Readln( a,b,c)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:=sqr(b)-4*a*c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If d&gt;= 0 then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begi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x:=(-b+sqrt(d))-2*a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y:=(-b-sqrt(d))-2*a; Write ln ( ‘x=’,x, ‘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=’,y)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nd;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lse write (‘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Рівняння коренів не має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’)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nd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4" name="Заголовок 2" descr=""/>
          <p:cNvPicPr/>
          <p:nvPr/>
        </p:nvPicPr>
        <p:blipFill>
          <a:blip r:embed="rId1"/>
          <a:stretch/>
        </p:blipFill>
        <p:spPr>
          <a:xfrm>
            <a:off x="-6480" y="12600"/>
            <a:ext cx="894240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05:19:27Z</dcterms:created>
  <dc:creator>я</dc:creator>
  <dc:description/>
  <dc:language>en-US</dc:language>
  <cp:lastModifiedBy>ALEX-TANY</cp:lastModifiedBy>
  <dcterms:modified xsi:type="dcterms:W3CDTF">2010-03-04T20:44:16Z</dcterms:modified>
  <cp:revision>42</cp:revision>
  <dc:subject/>
  <dc:title>Разработка алгоритмов с ветвлением в среде программирования Турбо  Паскаль</dc:title>
</cp:coreProperties>
</file>