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6A36-CC2D-46DC-A232-A6E81887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1797-5DF5-464D-ACE3-5EF6143A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B068-BBB9-43A5-ACD5-E74D7F6F1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C41D-6926-4022-8DB4-971CCCC09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CC6A6-ACB9-48C3-9E75-0D21B28D3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C3580-BCD8-4CFD-A8A4-D3B14FEA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1CCE9-524D-439B-A9E9-5E08CBAA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610AC-5271-4D3C-8D36-E4DA2ECF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211B1-E57C-4554-A3ED-11C00BFD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53941-8634-44A2-B1CA-BCFBDC09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F95BC-9143-4490-9D69-29B6417F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3627-9B85-4CFB-A593-FC5ABC02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FBCDA-0662-4B03-A67B-91F64620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197BF3-37F3-491B-BF9B-AD86137E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9FB09-D277-45CF-8FED-A52A6002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8CD74-C832-44BF-8998-BD2ACC265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7321B-2D70-419A-9BFD-75DF1ECF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BF12E-9609-40AA-AA38-BC854FE91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E19D3-8ADC-4252-8CCC-5512F4CA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83DAA-FE7C-4DDD-826B-28B6AB85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BFF91-CA93-4266-AE3B-403C4234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319A2-C802-4774-AF25-E510696C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E0F7-807C-45E8-9EB9-54CF5604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E3C05-5423-4A61-971E-83EA3E43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58A24-44B8-452C-B123-59ACFBA6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3F872-C54F-4F6B-AA22-26912F91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763E0-0708-4247-A503-3297CBF6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27DFE-65B1-40CF-8D9F-FD953C15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9B203-8AA9-4B4A-98C8-73BBF9F1E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CFE49-B696-4CD7-A693-7DE97AD3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500EB2-050C-4554-AB17-E315F332B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E9023B-3232-42E4-99E1-0F529A32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3AA195-16C6-462B-845D-779408FF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67EF-D41A-4E6F-8CBD-E315B469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27A5E7-8DF9-4A21-AEBB-B5301DA3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EEF2F9-E52D-42EB-94BE-BB3ADC08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37DCAD-1445-4238-A563-0C0BFAF6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B537F9-5F1A-496B-8B71-B64D9406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DC9FC9-79FE-4CF3-B616-A4399074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ECCDC3-0C7E-4C7F-8973-7D8BDE76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200F10-B24F-4611-A1C0-57016F00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7B808B-337B-442D-8FDB-E42AF3837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9BF76C-1159-4240-9D81-47FC67122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8AD1-3E9F-4C63-BA4E-40E731DF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009A-A2A0-48ED-9BBC-3C55810F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28E7-96C2-4660-A421-FE543A39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C088-5F10-4744-9D28-641560F1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D849-84C7-48A7-93D8-41158469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CF2F-E76A-4EFF-99C9-34B5BCD62DE4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90B7-DBA9-4E9F-B20B-8283747184BF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0C0F-4E36-4C2E-B95C-85AC30C372AA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7886-D155-45C7-AA3F-841C467D9C44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85840" y="7858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1.            Які числа відносяться  до типу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Integer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Real 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2.            Виправ помилки в програмі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Program 2 pr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Var b,s: real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Begin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Writeln ('Уведіть числа b і с')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Readln( b,c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A=b+c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Write ln ( 'a=',a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End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3.    Запиши мовою програмування  математичний вираз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х</a:t>
            </a:r>
            <a:r>
              <a:rPr b="1" lang="uk-UA" sz="18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+2 ху-в</a:t>
            </a:r>
            <a:r>
              <a:rPr b="1" lang="uk-UA" sz="1800" spc="-1" strike="noStrike" baseline="30000">
                <a:solidFill>
                  <a:srgbClr val="000000"/>
                </a:solidFill>
                <a:latin typeface="Constantia"/>
              </a:rPr>
              <a:t>2 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4. Переведіть  запис  із мови програмування Паскаль  на математичну мову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Sqrt(x)*3 - (a+2)/b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4" descr=""/>
          <p:cNvPicPr/>
          <p:nvPr/>
        </p:nvPicPr>
        <p:blipFill>
          <a:blip r:embed="rId1"/>
          <a:stretch/>
        </p:blipFill>
        <p:spPr>
          <a:xfrm>
            <a:off x="450720" y="-237960"/>
            <a:ext cx="8242560" cy="1109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Рисунок4"/>
          <p:cNvPicPr/>
          <p:nvPr/>
        </p:nvPicPr>
        <p:blipFill>
          <a:blip r:embed="rId2"/>
          <a:stretch/>
        </p:blipFill>
        <p:spPr>
          <a:xfrm>
            <a:off x="4429080" y="857160"/>
            <a:ext cx="407196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Напишіть програму , яка б підраховувала суму тільки додатних чисел з трьох наданих чисел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Дано трьохзначне число. Напишіть програму яка б визначала чи є дане число “ПОЛІНДРОМОМ” (“ПЕРЕВЕРТНЕМ”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Заголовок 7" descr=""/>
          <p:cNvPicPr/>
          <p:nvPr/>
        </p:nvPicPr>
        <p:blipFill>
          <a:blip r:embed="rId1"/>
          <a:stretch/>
        </p:blipFill>
        <p:spPr>
          <a:xfrm>
            <a:off x="244440" y="55440"/>
            <a:ext cx="887580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14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Program 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Var a,b,c,x,y: real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Begi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Writeln (‘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ведите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числа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a, b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’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Readln( a,b,c)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:=sqr(b)-4*a*c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x:=(-b+sqrt(d))-2*a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y:=(-b-sqrt(d))-2*a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Write ln ( ‘x=’,x, ‘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у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=’,y)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nd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4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80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Рисунок4"/>
          <p:cNvPicPr/>
          <p:nvPr/>
        </p:nvPicPr>
        <p:blipFill>
          <a:blip r:embed="rId2"/>
          <a:stretch/>
        </p:blipFill>
        <p:spPr>
          <a:xfrm>
            <a:off x="4753080" y="1785960"/>
            <a:ext cx="43909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28400" y="1856880"/>
            <a:ext cx="8329320" cy="33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5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 u="sng">
                <a:solidFill>
                  <a:srgbClr val="ffffff"/>
                </a:solidFill>
                <a:uFillTx/>
                <a:latin typeface="Constantia"/>
              </a:rPr>
              <a:t>Розробка алгоритмів з розгалуженням у середовищі програмування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Constantia"/>
              </a:rPr>
              <a:t> Turbo Pascal</a:t>
            </a:r>
            <a:r>
              <a:rPr b="1" lang="uk-UA" sz="4400" spc="-1" strike="noStrike" u="sng">
                <a:solidFill>
                  <a:srgbClr val="ffffff"/>
                </a:solidFill>
                <a:uFillTx/>
                <a:latin typeface="Constanti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5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Прямоугольник 3"/>
          <p:cNvSpPr/>
          <p:nvPr/>
        </p:nvSpPr>
        <p:spPr>
          <a:xfrm>
            <a:off x="2357280" y="642960"/>
            <a:ext cx="4143600" cy="71424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Тема  уроку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642680"/>
            <a:ext cx="604368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onstantia"/>
              </a:rPr>
              <a:t>дозволяють вибирати  ті  чи  інші частини  програми в залежності  від  умови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Заголовок 2" descr=""/>
          <p:cNvPicPr/>
          <p:nvPr/>
        </p:nvPicPr>
        <p:blipFill>
          <a:blip r:embed="rId1"/>
          <a:stretch/>
        </p:blipFill>
        <p:spPr>
          <a:xfrm>
            <a:off x="133200" y="-189000"/>
            <a:ext cx="9017280" cy="1712880"/>
          </a:xfrm>
          <a:prstGeom prst="rect">
            <a:avLst/>
          </a:prstGeom>
          <a:ln w="0">
            <a:noFill/>
          </a:ln>
        </p:spPr>
      </p:pic>
      <p:grpSp>
        <p:nvGrpSpPr>
          <p:cNvPr id="180" name="Группа 3"/>
          <p:cNvGrpSpPr/>
          <p:nvPr/>
        </p:nvGrpSpPr>
        <p:grpSpPr>
          <a:xfrm>
            <a:off x="4357800" y="3571920"/>
            <a:ext cx="4321080" cy="2378160"/>
            <a:chOff x="4357800" y="3571920"/>
            <a:chExt cx="4321080" cy="2378160"/>
          </a:xfrm>
        </p:grpSpPr>
        <p:grpSp>
          <p:nvGrpSpPr>
            <p:cNvPr id="181" name="Rectangle 9"/>
            <p:cNvGrpSpPr/>
            <p:nvPr/>
          </p:nvGrpSpPr>
          <p:grpSpPr>
            <a:xfrm>
              <a:off x="4357800" y="5128200"/>
              <a:ext cx="1744560" cy="821880"/>
              <a:chOff x="4357800" y="5128200"/>
              <a:chExt cx="1744560" cy="821880"/>
            </a:xfrm>
          </p:grpSpPr>
          <p:pic>
            <p:nvPicPr>
              <p:cNvPr id="182" name="Rectangl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4357800" y="5128200"/>
                <a:ext cx="1744560" cy="82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>
                <a:off x="4483080" y="5245920"/>
                <a:ext cx="1491480" cy="58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nstantia"/>
                  </a:rPr>
                  <a:t>Z:= 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4" name="Rectangle 13"/>
            <p:cNvGrpSpPr/>
            <p:nvPr/>
          </p:nvGrpSpPr>
          <p:grpSpPr>
            <a:xfrm>
              <a:off x="6934320" y="5128200"/>
              <a:ext cx="1744560" cy="821880"/>
              <a:chOff x="6934320" y="5128200"/>
              <a:chExt cx="1744560" cy="821880"/>
            </a:xfrm>
          </p:grpSpPr>
          <p:pic>
            <p:nvPicPr>
              <p:cNvPr id="185" name="Rectangl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6934320" y="5128200"/>
                <a:ext cx="1744560" cy="82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"/>
              <p:cNvSpPr/>
              <p:nvPr/>
            </p:nvSpPr>
            <p:spPr>
              <a:xfrm>
                <a:off x="7059240" y="5245920"/>
                <a:ext cx="1491480" cy="58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nstantia"/>
                  </a:rPr>
                  <a:t>Z:= Y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7" name="AutoShape 17"/>
            <p:cNvGrpSpPr/>
            <p:nvPr/>
          </p:nvGrpSpPr>
          <p:grpSpPr>
            <a:xfrm>
              <a:off x="5373360" y="3571920"/>
              <a:ext cx="2283840" cy="1145160"/>
              <a:chOff x="5373360" y="3571920"/>
              <a:chExt cx="2283840" cy="1145160"/>
            </a:xfrm>
          </p:grpSpPr>
          <p:pic>
            <p:nvPicPr>
              <p:cNvPr id="188" name="AutoShap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5373360" y="3571920"/>
                <a:ext cx="2283840" cy="114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6007680" y="3918600"/>
                <a:ext cx="1017000" cy="45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nstantia"/>
                  </a:rPr>
                  <a:t>X&gt;Y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0" name="Line 18"/>
            <p:cNvSpPr/>
            <p:nvPr/>
          </p:nvSpPr>
          <p:spPr>
            <a:xfrm flipH="1">
              <a:off x="5092560" y="4145760"/>
              <a:ext cx="40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19"/>
            <p:cNvSpPr/>
            <p:nvPr/>
          </p:nvSpPr>
          <p:spPr>
            <a:xfrm flipH="1">
              <a:off x="7533000" y="4145760"/>
              <a:ext cx="40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20"/>
            <p:cNvSpPr/>
            <p:nvPr/>
          </p:nvSpPr>
          <p:spPr>
            <a:xfrm>
              <a:off x="5092920" y="4145760"/>
              <a:ext cx="0" cy="110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21"/>
            <p:cNvSpPr/>
            <p:nvPr/>
          </p:nvSpPr>
          <p:spPr>
            <a:xfrm>
              <a:off x="7939800" y="4145760"/>
              <a:ext cx="0" cy="110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f  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onstantia"/>
              </a:rPr>
              <a:t>&lt; </a:t>
            </a:r>
            <a:r>
              <a:rPr b="1" lang="ru-RU" sz="2400" spc="-1" strike="noStrike">
                <a:solidFill>
                  <a:srgbClr val="ff3300"/>
                </a:solidFill>
                <a:latin typeface="Constantia"/>
              </a:rPr>
              <a:t>умова</a:t>
            </a:r>
            <a:r>
              <a:rPr b="1" lang="en-US" sz="2400" spc="-1" strike="noStrike">
                <a:solidFill>
                  <a:srgbClr val="ff33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n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&lt;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</a:rPr>
              <a:t>оператор 1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&gt;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             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lse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&lt;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</a:rPr>
              <a:t>оператор 2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&gt;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rogram My2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Var x,y: integer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egi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riteln (‘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ведіть два числа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’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eadln(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х, у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f x&gt;y Then Writeln(x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lse  Writeln(y)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        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nd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Заголовок 2" descr=""/>
          <p:cNvPicPr/>
          <p:nvPr/>
        </p:nvPicPr>
        <p:blipFill>
          <a:blip r:embed="rId1"/>
          <a:stretch/>
        </p:blipFill>
        <p:spPr>
          <a:xfrm>
            <a:off x="-225360" y="146160"/>
            <a:ext cx="9644040" cy="1238040"/>
          </a:xfrm>
          <a:prstGeom prst="rect">
            <a:avLst/>
          </a:prstGeom>
          <a:ln w="0">
            <a:noFill/>
          </a:ln>
        </p:spPr>
      </p:pic>
      <p:grpSp>
        <p:nvGrpSpPr>
          <p:cNvPr id="196" name="Rectangle 7"/>
          <p:cNvGrpSpPr/>
          <p:nvPr/>
        </p:nvGrpSpPr>
        <p:grpSpPr>
          <a:xfrm>
            <a:off x="5500800" y="1643040"/>
            <a:ext cx="3241080" cy="1690200"/>
            <a:chOff x="5500800" y="1643040"/>
            <a:chExt cx="3241080" cy="1690200"/>
          </a:xfrm>
        </p:grpSpPr>
        <p:pic>
          <p:nvPicPr>
            <p:cNvPr id="197" name="Rectangle 7" descr=""/>
            <p:cNvPicPr/>
            <p:nvPr/>
          </p:nvPicPr>
          <p:blipFill>
            <a:blip r:embed="rId2"/>
            <a:stretch/>
          </p:blipFill>
          <p:spPr>
            <a:xfrm>
              <a:off x="5500800" y="1677240"/>
              <a:ext cx="3241080" cy="16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5"/>
            <p:cNvSpPr/>
            <p:nvPr/>
          </p:nvSpPr>
          <p:spPr>
            <a:xfrm>
              <a:off x="5665320" y="1643040"/>
              <a:ext cx="2925000" cy="15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</a:rPr>
                <a:t>Що з’являється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</a:rPr>
                <a:t>на екрані монітор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</a:rPr>
                <a:t>після виконанн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</a:rPr>
                <a:t>даної програми</a:t>
              </a:r>
              <a:r>
                <a:rPr b="1" lang="ru-RU" sz="1800" spc="-1" strike="noStrike">
                  <a:solidFill>
                    <a:srgbClr val="000000"/>
                  </a:solidFill>
                  <a:latin typeface="Constantia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Rectangle 8"/>
          <p:cNvGrpSpPr/>
          <p:nvPr/>
        </p:nvGrpSpPr>
        <p:grpSpPr>
          <a:xfrm>
            <a:off x="5681520" y="4395960"/>
            <a:ext cx="3206880" cy="1157040"/>
            <a:chOff x="5681520" y="4395960"/>
            <a:chExt cx="3206880" cy="1157040"/>
          </a:xfrm>
        </p:grpSpPr>
        <p:pic>
          <p:nvPicPr>
            <p:cNvPr id="200" name="Rectangle 8" descr=""/>
            <p:cNvPicPr/>
            <p:nvPr/>
          </p:nvPicPr>
          <p:blipFill>
            <a:blip r:embed="rId3"/>
            <a:stretch/>
          </p:blipFill>
          <p:spPr>
            <a:xfrm>
              <a:off x="5681520" y="4395960"/>
              <a:ext cx="3206880" cy="11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8"/>
            <p:cNvSpPr/>
            <p:nvPr/>
          </p:nvSpPr>
          <p:spPr>
            <a:xfrm>
              <a:off x="5867280" y="4508640"/>
              <a:ext cx="284328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</a:rPr>
                <a:t>Підкресліть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</a:rPr>
                <a:t>умовуний оператор</a:t>
              </a:r>
              <a:r>
                <a:rPr b="1" lang="ru-RU" sz="1800" spc="-1" strike="noStrike">
                  <a:solidFill>
                    <a:srgbClr val="000000"/>
                  </a:solidFill>
                  <a:latin typeface="Constantia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428720" y="1571760"/>
            <a:ext cx="4714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Program My3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var</a:t>
            </a: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x, y: real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Begi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writeln (‘</a:t>
            </a: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Введіть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х і у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’)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readln (x,y)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If abs(x) &gt;abs(y) Then x:=x/5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Write(‘x=‘, x,  ‘y=‘, y)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nd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3" name="Заголовок 2" descr=""/>
          <p:cNvPicPr/>
          <p:nvPr/>
        </p:nvPicPr>
        <p:blipFill>
          <a:blip r:embed="rId1"/>
          <a:stretch/>
        </p:blipFill>
        <p:spPr>
          <a:xfrm>
            <a:off x="-201600" y="146160"/>
            <a:ext cx="9717120" cy="12380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3"/>
          <p:cNvSpPr/>
          <p:nvPr/>
        </p:nvSpPr>
        <p:spPr>
          <a:xfrm>
            <a:off x="285840" y="1357200"/>
            <a:ext cx="433044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f  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ff3300"/>
                </a:solidFill>
                <a:latin typeface="Constantia"/>
              </a:rPr>
              <a:t>&lt;</a:t>
            </a:r>
            <a:r>
              <a:rPr b="1" lang="uk-UA" sz="2600" spc="-1" strike="noStrike">
                <a:solidFill>
                  <a:srgbClr val="ff3300"/>
                </a:solidFill>
                <a:latin typeface="Constantia"/>
              </a:rPr>
              <a:t>умова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&gt;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n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оператор  1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1" lang="uk-UA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хай дано два числа. Якщо перше число більше другого, то необхідно перше зменшити в п’ять разів. Інакше число залишити без змін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285840" y="1523880"/>
            <a:ext cx="428616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260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onstantia"/>
              </a:rPr>
              <a:t>у якого значення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onstantia"/>
              </a:rPr>
              <a:t>змінної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 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onstantia"/>
              </a:rPr>
              <a:t>обчислюється за формулою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a+b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,  </a:t>
            </a:r>
            <a:r>
              <a:rPr b="1" lang="uk-UA" sz="3200" spc="-1" strike="noStrike">
                <a:solidFill>
                  <a:srgbClr val="000000"/>
                </a:solidFill>
                <a:latin typeface="Constantia"/>
              </a:rPr>
              <a:t>якщо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а –</a:t>
            </a:r>
            <a:r>
              <a:rPr b="1" lang="uk-UA" sz="3200" spc="-1" strike="noStrike">
                <a:solidFill>
                  <a:srgbClr val="000000"/>
                </a:solidFill>
                <a:latin typeface="Constantia"/>
              </a:rPr>
              <a:t>непарне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a*b, </a:t>
            </a:r>
            <a:r>
              <a:rPr b="1" lang="uk-UA" sz="3200" spc="-1" strike="noStrike">
                <a:solidFill>
                  <a:srgbClr val="000000"/>
                </a:solidFill>
                <a:latin typeface="Constantia"/>
              </a:rPr>
              <a:t>якщо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а –</a:t>
            </a:r>
            <a:r>
              <a:rPr b="1" lang="uk-UA" sz="3200" spc="-1" strike="noStrike">
                <a:solidFill>
                  <a:srgbClr val="000000"/>
                </a:solidFill>
                <a:latin typeface="Constantia"/>
              </a:rPr>
              <a:t>парне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Заголовок 2" descr=""/>
          <p:cNvPicPr/>
          <p:nvPr/>
        </p:nvPicPr>
        <p:blipFill>
          <a:blip r:embed="rId1"/>
          <a:stretch/>
        </p:blipFill>
        <p:spPr>
          <a:xfrm>
            <a:off x="281160" y="146160"/>
            <a:ext cx="8631000" cy="1238040"/>
          </a:xfrm>
          <a:prstGeom prst="rect">
            <a:avLst/>
          </a:prstGeom>
          <a:ln w="0">
            <a:noFill/>
          </a:ln>
        </p:spPr>
      </p:pic>
      <p:sp>
        <p:nvSpPr>
          <p:cNvPr id="207" name="Скругленный прямоугольник 3"/>
          <p:cNvSpPr/>
          <p:nvPr/>
        </p:nvSpPr>
        <p:spPr>
          <a:xfrm>
            <a:off x="4572000" y="1357200"/>
            <a:ext cx="4143240" cy="278604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If  a  mod  2 =0 then Write (‘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Число </a:t>
            </a:r>
            <a:r>
              <a:rPr b="1" lang="uk-UA" sz="3200" spc="-1" strike="noStrike">
                <a:solidFill>
                  <a:srgbClr val="000000"/>
                </a:solidFill>
                <a:latin typeface="Constantia"/>
              </a:rPr>
              <a:t>непарне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’)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else  write (‘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Число </a:t>
            </a:r>
            <a:r>
              <a:rPr b="1" lang="uk-UA" sz="3200" spc="-1" strike="noStrike">
                <a:solidFill>
                  <a:srgbClr val="000000"/>
                </a:solidFill>
                <a:latin typeface="Constantia"/>
              </a:rPr>
              <a:t>парне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’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4286160" y="4272120"/>
            <a:ext cx="4643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gram My</a:t>
            </a:r>
            <a:r>
              <a:rPr b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ar  a, y: integ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riteln (‘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ведіть число а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adln (a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  (a mod 2)=0 then Write (‘</a:t>
            </a:r>
            <a:r>
              <a:rPr b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 парне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lse  write (‘</a:t>
            </a:r>
            <a:r>
              <a:rPr b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арне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5071680" y="1500120"/>
            <a:ext cx="3786120" cy="13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166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Які вираховуються за формулою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0" name="Заголовок 2" descr=""/>
          <p:cNvPicPr/>
          <p:nvPr/>
        </p:nvPicPr>
        <p:blipFill>
          <a:blip r:embed="rId1"/>
          <a:stretch/>
        </p:blipFill>
        <p:spPr>
          <a:xfrm>
            <a:off x="-304920" y="146160"/>
            <a:ext cx="9802800" cy="1238040"/>
          </a:xfrm>
          <a:prstGeom prst="rect">
            <a:avLst/>
          </a:prstGeom>
          <a:ln w="0">
            <a:noFill/>
          </a:ln>
        </p:spPr>
      </p:pic>
      <p:sp>
        <p:nvSpPr>
          <p:cNvPr id="211" name="Скругленный прямоугольник 3"/>
          <p:cNvSpPr/>
          <p:nvPr/>
        </p:nvSpPr>
        <p:spPr>
          <a:xfrm>
            <a:off x="285840" y="2500200"/>
            <a:ext cx="5214960" cy="164304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If a &gt;3  then y:=sqr(x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nstantia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else  y:=x- 8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8"/>
              <p:cNvSpPr txBox="1"/>
              <p:nvPr/>
            </p:nvSpPr>
            <p:spPr>
              <a:xfrm>
                <a:off x="4643280" y="4286160"/>
                <a:ext cx="417852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х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5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якщо</m:t>
                              </m:r>
                              <m:r>
                                <m:t xml:space="preserve"> </m:t>
                              </m:r>
                              <m:r>
                                <m:t xml:space="preserve">х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3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якщо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≤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85840" y="1285920"/>
            <a:ext cx="85010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Program 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Var a,b,c,x,y: real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Begi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Writeln (‘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Введіть коефіцієнти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a, b 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і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’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Readln( a,b,c)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:=sqr(b)-4*a*c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If d&gt;= 0 then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begi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x:=(-b+sqrt(d))-2*a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y:=(-b-sqrt(d))-2*a; Write ln ( ‘x=’,x, ‘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у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=’,y)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nd;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lse write (‘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Рівняння коренів не має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’)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nd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4" name="Заголовок 2" descr=""/>
          <p:cNvPicPr/>
          <p:nvPr/>
        </p:nvPicPr>
        <p:blipFill>
          <a:blip r:embed="rId1"/>
          <a:stretch/>
        </p:blipFill>
        <p:spPr>
          <a:xfrm>
            <a:off x="-6480" y="12600"/>
            <a:ext cx="894240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05:19:27Z</dcterms:created>
  <dc:creator>я</dc:creator>
  <dc:description/>
  <dc:language>en-US</dc:language>
  <cp:lastModifiedBy>ALEX-TANY</cp:lastModifiedBy>
  <dcterms:modified xsi:type="dcterms:W3CDTF">2010-03-04T20:44:16Z</dcterms:modified>
  <cp:revision>42</cp:revision>
  <dc:subject/>
  <dc:title>Разработка алгоритмов с ветвлением в среде программирования Турбо  Паскаль</dc:title>
</cp:coreProperties>
</file>