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0E5-FF0B-4724-B48A-872ACDA2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B3B0-B8ED-4082-8BB2-7951912F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5D7-F48F-4D89-B0BA-AFE91EC8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3D7B-7062-429F-A034-385F1051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9548F-66B7-4198-8128-39552DF3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5294F-DE32-48F4-BBDF-68E6CE84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9A0F1-395F-4E7B-A20F-71AB8C45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9ADDB-B643-4FB7-B06D-B1FA091B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6987C-C5D7-4135-B6D7-5B810048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2CE15-2AF0-4312-BCD8-1D9CC6A2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65413-4500-4DF3-9BC3-B058CF82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D94-2C6E-4D29-9741-BC9EAB2C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EB86F-6D38-4D5D-B82B-44F13E2B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33B17-7C56-480C-979B-C6F9F242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95ABB-A190-4A38-920C-96AE9CAD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D2703-366A-4BE1-ADC0-0AEE0C9E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4EC6C-48FE-4921-806C-1AB0071D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A0F3B-C697-45A1-B3D7-642AC30A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C1A02-FBAC-4173-9AF3-20CF5F21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2B94F-AE38-4B23-B601-FB53ABCC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81CED-F93A-4915-A556-D0D11BAF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5DD68-28C6-42EB-AF85-4C74AE7E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B3E-8C30-4CBA-AA75-E53D0D17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125D3-6AD7-4BB1-9CBB-69D08D4B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2B63F-0327-43FD-9512-14126C33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D025F-00E3-44E1-9AA4-C32B60B4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73B72-791A-43EF-B962-22C9025D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9A0EC-992F-4652-8C0A-AC40C719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43F82-CCDC-4963-AA98-157524B6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E5A09-ED16-4F7D-BB23-51B3BFD0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D9F570-4D83-4464-A209-90E85199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D00E7E-4D11-4B06-ABAA-16AF6B35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A658A4-49DC-45B2-A04D-5EE24089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AF7-45E0-4FAA-9ECC-B92936E3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9F4C73-BD2D-47CA-93EF-757B4908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997C5F-D0C9-493A-B590-05FBE3F5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907858-0AE9-488E-B7D2-33FBFC91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8CB16F-D361-45D4-A7CF-8536C773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CCE2ED-FFE6-4894-9C1C-EBC393BB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B17A9E-27F9-4D63-AA3E-E9B8C51A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113F7A-BBCA-4CE6-8CC9-EB3AE430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DF4E7D-76BC-4331-BAF0-20225985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34A5B5-7FEC-4EDD-AD7B-FF4FC81C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2EC-0E46-4A0B-A9E4-4E84A352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FF0-10BF-40D6-B8B3-AB108545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E87-D25A-4981-843B-0E087739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DB8C-5AC4-41CA-82DE-CDC50DA9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B02-D6D8-40AD-ACB2-FEB85E99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5623-B161-458D-A817-7D091AF97B58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D702-8DDA-4EE5-8584-630006E578FD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03AC-B325-48B2-BDD6-AD6029A001C5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0A4D-8526-46CF-A59C-DF91359EB3FC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8584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1.            Які числа відносяться  до типу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Integer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Real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2.            Виправ помилки в програмі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Program 2 pr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Var b,s: real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Begin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Writeln ('Уведіть числа b і с')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Readln( b,c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A=b+c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Write ln ( 'a=',a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End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3.    Запиши мовою програмування  математичний вираз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1" lang="uk-UA" sz="18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+2 ху-в</a:t>
            </a:r>
            <a:r>
              <a:rPr b="1" lang="uk-UA" sz="1800" spc="-1" strike="noStrike" baseline="30000">
                <a:solidFill>
                  <a:srgbClr val="000000"/>
                </a:solidFill>
                <a:latin typeface="Constantia"/>
              </a:rPr>
              <a:t>2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4. Переведіть  запис  із мови програмування Паскаль  на математичну мову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Sqrt(x)*3 - (a+2)/b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4" descr=""/>
          <p:cNvPicPr/>
          <p:nvPr/>
        </p:nvPicPr>
        <p:blipFill>
          <a:blip r:embed="rId1"/>
          <a:stretch/>
        </p:blipFill>
        <p:spPr>
          <a:xfrm>
            <a:off x="450720" y="-237960"/>
            <a:ext cx="8242560" cy="1109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Рисунок4"/>
          <p:cNvPicPr/>
          <p:nvPr/>
        </p:nvPicPr>
        <p:blipFill>
          <a:blip r:embed="rId2"/>
          <a:stretch/>
        </p:blipFill>
        <p:spPr>
          <a:xfrm>
            <a:off x="4429080" y="857160"/>
            <a:ext cx="407196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Напишіть програму , яка б підраховувала суму тільки додатних чисел з трьох наданих чисе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Дано трьохзначне число. Напишіть програму яка б визначала чи є дане число “ПОЛІНДРОМОМ” (“ПЕРЕВЕРТНЕМ”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Заголовок 7" descr=""/>
          <p:cNvPicPr/>
          <p:nvPr/>
        </p:nvPicPr>
        <p:blipFill>
          <a:blip r:embed="rId1"/>
          <a:stretch/>
        </p:blipFill>
        <p:spPr>
          <a:xfrm>
            <a:off x="244440" y="55440"/>
            <a:ext cx="88758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14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Program 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Var a,b,c,x,y: real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egi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riteln (‘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числа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a, b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’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Readln( a,b,c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:=sqr(b)-4*a*c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x:=(-b+sqrt(d))-2*a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y:=(-b-sqrt(d))-2*a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rite ln ( ‘x=’,x, ‘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=’,y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nd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8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Рисунок4"/>
          <p:cNvPicPr/>
          <p:nvPr/>
        </p:nvPicPr>
        <p:blipFill>
          <a:blip r:embed="rId2"/>
          <a:stretch/>
        </p:blipFill>
        <p:spPr>
          <a:xfrm>
            <a:off x="4753080" y="1785960"/>
            <a:ext cx="4390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28400" y="1856880"/>
            <a:ext cx="8329320" cy="33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5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ffffff"/>
                </a:solidFill>
                <a:uFillTx/>
                <a:latin typeface="Constantia"/>
              </a:rPr>
              <a:t>Розробка алгоритмів з розгалуженням у середовищі програмування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Constantia"/>
              </a:rPr>
              <a:t> Turbo Pascal</a:t>
            </a:r>
            <a:r>
              <a:rPr b="1" lang="uk-UA" sz="44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5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2357280" y="642960"/>
            <a:ext cx="4143600" cy="71424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Тема  уроку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642680"/>
            <a:ext cx="604368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onstantia"/>
              </a:rPr>
              <a:t>дозволяють вибирати  ті  чи  інші частини  програми в залежності  від  умови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Заголовок 2" descr=""/>
          <p:cNvPicPr/>
          <p:nvPr/>
        </p:nvPicPr>
        <p:blipFill>
          <a:blip r:embed="rId1"/>
          <a:stretch/>
        </p:blipFill>
        <p:spPr>
          <a:xfrm>
            <a:off x="133200" y="-189000"/>
            <a:ext cx="9017280" cy="1712880"/>
          </a:xfrm>
          <a:prstGeom prst="rect">
            <a:avLst/>
          </a:prstGeom>
          <a:ln w="0">
            <a:noFill/>
          </a:ln>
        </p:spPr>
      </p:pic>
      <p:grpSp>
        <p:nvGrpSpPr>
          <p:cNvPr id="180" name="Группа 3"/>
          <p:cNvGrpSpPr/>
          <p:nvPr/>
        </p:nvGrpSpPr>
        <p:grpSpPr>
          <a:xfrm>
            <a:off x="4357800" y="3571920"/>
            <a:ext cx="4321080" cy="2378160"/>
            <a:chOff x="4357800" y="3571920"/>
            <a:chExt cx="4321080" cy="2378160"/>
          </a:xfrm>
        </p:grpSpPr>
        <p:grpSp>
          <p:nvGrpSpPr>
            <p:cNvPr id="181" name="Rectangle 9"/>
            <p:cNvGrpSpPr/>
            <p:nvPr/>
          </p:nvGrpSpPr>
          <p:grpSpPr>
            <a:xfrm>
              <a:off x="4357800" y="5128200"/>
              <a:ext cx="1744560" cy="821880"/>
              <a:chOff x="4357800" y="5128200"/>
              <a:chExt cx="1744560" cy="821880"/>
            </a:xfrm>
          </p:grpSpPr>
          <p:pic>
            <p:nvPicPr>
              <p:cNvPr id="182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4357800" y="5128200"/>
                <a:ext cx="1744560" cy="82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4483080" y="5245920"/>
                <a:ext cx="1491480" cy="58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Z:= 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4" name="Rectangle 13"/>
            <p:cNvGrpSpPr/>
            <p:nvPr/>
          </p:nvGrpSpPr>
          <p:grpSpPr>
            <a:xfrm>
              <a:off x="6934320" y="5128200"/>
              <a:ext cx="1744560" cy="821880"/>
              <a:chOff x="6934320" y="5128200"/>
              <a:chExt cx="1744560" cy="821880"/>
            </a:xfrm>
          </p:grpSpPr>
          <p:pic>
            <p:nvPicPr>
              <p:cNvPr id="185" name="Rectangl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934320" y="5128200"/>
                <a:ext cx="1744560" cy="82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7059240" y="5245920"/>
                <a:ext cx="1491480" cy="58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Z:= 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AutoShape 17"/>
            <p:cNvGrpSpPr/>
            <p:nvPr/>
          </p:nvGrpSpPr>
          <p:grpSpPr>
            <a:xfrm>
              <a:off x="5373360" y="3571920"/>
              <a:ext cx="2283840" cy="1145160"/>
              <a:chOff x="5373360" y="3571920"/>
              <a:chExt cx="2283840" cy="1145160"/>
            </a:xfrm>
          </p:grpSpPr>
          <p:pic>
            <p:nvPicPr>
              <p:cNvPr id="188" name="AutoShap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5373360" y="3571920"/>
                <a:ext cx="2283840" cy="11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6007680" y="3918600"/>
                <a:ext cx="1017000" cy="45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</a:rPr>
                  <a:t>X&gt;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0" name="Line 18"/>
            <p:cNvSpPr/>
            <p:nvPr/>
          </p:nvSpPr>
          <p:spPr>
            <a:xfrm flipH="1">
              <a:off x="5092560" y="414576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9"/>
            <p:cNvSpPr/>
            <p:nvPr/>
          </p:nvSpPr>
          <p:spPr>
            <a:xfrm flipH="1">
              <a:off x="7533000" y="414576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>
              <a:off x="5092920" y="4145760"/>
              <a:ext cx="0" cy="110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>
              <a:off x="7939800" y="4145760"/>
              <a:ext cx="0" cy="110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f 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nstantia"/>
              </a:rPr>
              <a:t>&lt; </a:t>
            </a:r>
            <a:r>
              <a:rPr b="1" lang="ru-RU" sz="2400" spc="-1" strike="noStrike">
                <a:solidFill>
                  <a:srgbClr val="ff3300"/>
                </a:solidFill>
                <a:latin typeface="Constantia"/>
              </a:rPr>
              <a:t>умова</a:t>
            </a:r>
            <a:r>
              <a:rPr b="1" lang="en-US" sz="2400" spc="-1" strike="noStrike">
                <a:solidFill>
                  <a:srgbClr val="ff33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n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&lt;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оператор 1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&gt;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  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lse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&lt;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оператор 2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 &gt;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gram My2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ar x,y: integer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riteln (‘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ведіть два числа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’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adln(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, у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f x&gt;y Then Writeln(x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lse  Writeln(y)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nd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-225360" y="146160"/>
            <a:ext cx="9644040" cy="1238040"/>
          </a:xfrm>
          <a:prstGeom prst="rect">
            <a:avLst/>
          </a:prstGeom>
          <a:ln w="0">
            <a:noFill/>
          </a:ln>
        </p:spPr>
      </p:pic>
      <p:grpSp>
        <p:nvGrpSpPr>
          <p:cNvPr id="196" name="Rectangle 7"/>
          <p:cNvGrpSpPr/>
          <p:nvPr/>
        </p:nvGrpSpPr>
        <p:grpSpPr>
          <a:xfrm>
            <a:off x="5500800" y="1643040"/>
            <a:ext cx="3241080" cy="1690200"/>
            <a:chOff x="5500800" y="1643040"/>
            <a:chExt cx="3241080" cy="1690200"/>
          </a:xfrm>
        </p:grpSpPr>
        <p:pic>
          <p:nvPicPr>
            <p:cNvPr id="197" name="Rectangle 7" descr=""/>
            <p:cNvPicPr/>
            <p:nvPr/>
          </p:nvPicPr>
          <p:blipFill>
            <a:blip r:embed="rId2"/>
            <a:stretch/>
          </p:blipFill>
          <p:spPr>
            <a:xfrm>
              <a:off x="5500800" y="1677240"/>
              <a:ext cx="324108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5"/>
            <p:cNvSpPr/>
            <p:nvPr/>
          </p:nvSpPr>
          <p:spPr>
            <a:xfrm>
              <a:off x="5665320" y="1643040"/>
              <a:ext cx="292500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Що з’являєтьс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на екрані монітор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після виконанн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даної програми</a:t>
              </a: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Rectangle 8"/>
          <p:cNvGrpSpPr/>
          <p:nvPr/>
        </p:nvGrpSpPr>
        <p:grpSpPr>
          <a:xfrm>
            <a:off x="5681520" y="4395960"/>
            <a:ext cx="3206880" cy="1157040"/>
            <a:chOff x="5681520" y="4395960"/>
            <a:chExt cx="3206880" cy="1157040"/>
          </a:xfrm>
        </p:grpSpPr>
        <p:pic>
          <p:nvPicPr>
            <p:cNvPr id="200" name="Rectangle 8" descr=""/>
            <p:cNvPicPr/>
            <p:nvPr/>
          </p:nvPicPr>
          <p:blipFill>
            <a:blip r:embed="rId3"/>
            <a:stretch/>
          </p:blipFill>
          <p:spPr>
            <a:xfrm>
              <a:off x="5681520" y="4395960"/>
              <a:ext cx="320688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8"/>
            <p:cNvSpPr/>
            <p:nvPr/>
          </p:nvSpPr>
          <p:spPr>
            <a:xfrm>
              <a:off x="5867280" y="4508640"/>
              <a:ext cx="284328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Підкресліт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nstantia"/>
                </a:rPr>
                <a:t>умовуний оператор</a:t>
              </a: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428720" y="1571760"/>
            <a:ext cx="4714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Program My3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var</a:t>
            </a: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x, y: real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egi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riteln (‘</a:t>
            </a: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Введіть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х і у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’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readln (x,y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f abs(x) &gt;abs(y) Then x:=x/5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rite(‘x=‘, x,  ‘y=‘, y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nd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Заголовок 2" descr=""/>
          <p:cNvPicPr/>
          <p:nvPr/>
        </p:nvPicPr>
        <p:blipFill>
          <a:blip r:embed="rId1"/>
          <a:stretch/>
        </p:blipFill>
        <p:spPr>
          <a:xfrm>
            <a:off x="-201600" y="146160"/>
            <a:ext cx="9717120" cy="12380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3"/>
          <p:cNvSpPr/>
          <p:nvPr/>
        </p:nvSpPr>
        <p:spPr>
          <a:xfrm>
            <a:off x="285840" y="1357200"/>
            <a:ext cx="43304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f 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&lt;</a:t>
            </a:r>
            <a:r>
              <a:rPr b="1" lang="uk-UA" sz="2600" spc="-1" strike="noStrike">
                <a:solidFill>
                  <a:srgbClr val="ff3300"/>
                </a:solidFill>
                <a:latin typeface="Constantia"/>
              </a:rPr>
              <a:t>умова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&gt;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n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оператор  1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uk-UA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хай дано два числа. Якщо перше число більше другого, то необхідно перше зменшити в п’ять разів. Інакше число залишити без змін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85840" y="1523880"/>
            <a:ext cx="428616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26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у якого значення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змінної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обчислюється за формулою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+b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,  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якщо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а –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непарне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*b, 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якщо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а –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парне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Заголовок 2" descr=""/>
          <p:cNvPicPr/>
          <p:nvPr/>
        </p:nvPicPr>
        <p:blipFill>
          <a:blip r:embed="rId1"/>
          <a:stretch/>
        </p:blipFill>
        <p:spPr>
          <a:xfrm>
            <a:off x="281160" y="146160"/>
            <a:ext cx="8631000" cy="1238040"/>
          </a:xfrm>
          <a:prstGeom prst="rect">
            <a:avLst/>
          </a:prstGeom>
          <a:ln w="0">
            <a:noFill/>
          </a:ln>
        </p:spPr>
      </p:pic>
      <p:sp>
        <p:nvSpPr>
          <p:cNvPr id="207" name="Скругленный прямоугольник 3"/>
          <p:cNvSpPr/>
          <p:nvPr/>
        </p:nvSpPr>
        <p:spPr>
          <a:xfrm>
            <a:off x="4572000" y="1357200"/>
            <a:ext cx="4143240" cy="278604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If  a  mod  2 =0 then Write (‘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Число 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непарне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’)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else  write (‘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Число </a:t>
            </a: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парне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’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4286160" y="4272120"/>
            <a:ext cx="464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gram My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ar  a, y: integ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riteln (‘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ведіть число а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adln (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 (a mod 2)=0 then Write (‘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парне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lse  write (‘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арне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071680" y="1500120"/>
            <a:ext cx="378612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166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Які вираховуються за формулою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Заголовок 2" descr=""/>
          <p:cNvPicPr/>
          <p:nvPr/>
        </p:nvPicPr>
        <p:blipFill>
          <a:blip r:embed="rId1"/>
          <a:stretch/>
        </p:blipFill>
        <p:spPr>
          <a:xfrm>
            <a:off x="-304920" y="146160"/>
            <a:ext cx="9802800" cy="1238040"/>
          </a:xfrm>
          <a:prstGeom prst="rect">
            <a:avLst/>
          </a:prstGeom>
          <a:ln w="0">
            <a:noFill/>
          </a:ln>
        </p:spPr>
      </p:pic>
      <p:sp>
        <p:nvSpPr>
          <p:cNvPr id="211" name="Скругленный прямоугольник 3"/>
          <p:cNvSpPr/>
          <p:nvPr/>
        </p:nvSpPr>
        <p:spPr>
          <a:xfrm>
            <a:off x="285840" y="2500200"/>
            <a:ext cx="5214960" cy="164304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If a &gt;3  then y:=sqr(x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else  y:=x- 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8"/>
              <p:cNvSpPr txBox="1"/>
              <p:nvPr/>
            </p:nvSpPr>
            <p:spPr>
              <a:xfrm>
                <a:off x="4643280" y="4286160"/>
                <a:ext cx="417852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якщо</m:t>
                              </m:r>
                              <m:r>
                                <m:t xml:space="preserve"> </m:t>
                              </m:r>
                              <m:r>
                                <m:t xml:space="preserve">х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3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якщо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85840" y="1285920"/>
            <a:ext cx="85010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Program 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Var a,b,c,x,y: real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egi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riteln (‘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Введіть коефіцієнти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a, b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і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’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Readln( a,b,c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D:=sqr(b)-4*a*c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f d&gt;= 0 then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egi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x:=(-b+sqrt(d))-2*a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y:=(-b-sqrt(d))-2*a; Write ln ( ‘x=’,x, ‘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=’,y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nd;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lse write (‘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Рівняння коренів не має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’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nd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Заголовок 2" descr=""/>
          <p:cNvPicPr/>
          <p:nvPr/>
        </p:nvPicPr>
        <p:blipFill>
          <a:blip r:embed="rId1"/>
          <a:stretch/>
        </p:blipFill>
        <p:spPr>
          <a:xfrm>
            <a:off x="-6480" y="12600"/>
            <a:ext cx="894240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5:19:27Z</dcterms:created>
  <dc:creator>я</dc:creator>
  <dc:description/>
  <dc:language>en-US</dc:language>
  <cp:lastModifiedBy>ALEX-TANY</cp:lastModifiedBy>
  <dcterms:modified xsi:type="dcterms:W3CDTF">2010-03-04T20:44:16Z</dcterms:modified>
  <cp:revision>42</cp:revision>
  <dc:subject/>
  <dc:title>Разработка алгоритмов с ветвлением в среде программирования Турбо  Паскаль</dc:title>
</cp:coreProperties>
</file>