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4BE-30B2-478C-9744-A72862C2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29F-6FD4-4512-8453-64F90D5F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F97-B21C-47AC-BB5B-50EE7A04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856-8CC9-4505-8FDC-5A28A74D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66E4-2F89-4901-9356-C4C59249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4052-5078-428C-B5CB-EB02BA81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B673-ABBD-4BF8-B369-919CBE0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4A2B-15D6-4D74-B6D2-D0E6F9F9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5785-A78C-4A64-A1ED-BF3B0116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3A86-98B2-4928-9CAA-5EB075CF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93A-5682-4B85-BF89-7862A6E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12F-BABE-4639-9C95-9C0C4FA6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F79F-FD6B-45B7-94D6-B92A4BF1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C188-11F8-4D7D-A585-621336F1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14C5-7D41-4D0A-A55B-1808CE0A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CAF7-2B64-4B0D-B580-FF2379A9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D590-F88B-463F-B148-20D0F22C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FAD-AE23-41CF-BCB4-D5E75B90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328-0265-4892-8A16-C004C64A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079-F375-4258-8EB7-BA5838FD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E0D-F556-4739-84B8-27DBE2FB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A58-720B-4424-BC33-3327F2A2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D92-AC94-4BB0-8BEA-FBD11ECA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48D-7C08-4169-A655-250FB425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0f6f6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F1BA-B41B-4337-9128-D0CD907399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0f6f6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5188-E4C6-47EE-925D-4CB60D71A73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psychics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8"/>
          <p:cNvSpPr txBox="1"/>
          <p:nvPr/>
        </p:nvSpPr>
        <p:spPr>
          <a:xfrm rot="277800">
            <a:off x="684360" y="549000"/>
            <a:ext cx="7416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24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24000"/>
                </a:gradFill>
                <a:latin typeface="Impact"/>
              </a:rPr>
              <a:t>Князі  Київської  Русі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24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2 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70-016"/>
          <p:cNvPicPr/>
          <p:nvPr/>
        </p:nvPicPr>
        <p:blipFill>
          <a:blip r:embed="rId1"/>
          <a:stretch/>
        </p:blipFill>
        <p:spPr>
          <a:xfrm>
            <a:off x="2843280" y="476280"/>
            <a:ext cx="3529080" cy="3889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4142520" y="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Ольга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09640" y="1884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945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806160" y="1844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957 р</a:t>
            </a: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90880" y="4287960"/>
            <a:ext cx="896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елика київська княжна, 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жина князя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Ігоря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Керувала Київською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ержавою в пору неповноліття свого сина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а Ігоровича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Жорстоко розправилася з деревлянами,які під час повстання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45р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били ії чоловіка. Підтримувала політичні й торговельні з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зки з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зантією. У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57р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їздила в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Константинопол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де прийняла християн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во. Налагодила політичні з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зки з німецьким королем Оттоном І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ереконала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а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е здійснювати після її смерті язическої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ризни. Канонізована православною церквою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/>
          <p:cNvSpPr/>
          <p:nvPr/>
        </p:nvSpPr>
        <p:spPr>
          <a:xfrm>
            <a:off x="971640" y="0"/>
            <a:ext cx="7416720" cy="765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5a500"/>
              </a:gs>
              <a:gs pos="50000">
                <a:srgbClr val="ffff00"/>
              </a:gs>
              <a:gs pos="100000">
                <a:srgbClr val="a5a5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03440" y="108000"/>
            <a:ext cx="47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Політика княгині Ольги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69080" y="7650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Внутрішня: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48200" y="71136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овнішня: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50920" y="1268280"/>
            <a:ext cx="4176720" cy="5256360"/>
          </a:xfrm>
          <a:prstGeom prst="rect">
            <a:avLst/>
          </a:prstGeom>
          <a:gradFill rotWithShape="0">
            <a:gsLst>
              <a:gs pos="0">
                <a:srgbClr val="b99db9"/>
              </a:gs>
              <a:gs pos="50000">
                <a:srgbClr val="ffd9ff"/>
              </a:gs>
              <a:gs pos="100000">
                <a:srgbClr val="b99db9"/>
              </a:gs>
            </a:gsLst>
            <a:lin ang="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572000" y="1268280"/>
            <a:ext cx="4321080" cy="5256360"/>
          </a:xfrm>
          <a:prstGeom prst="rect">
            <a:avLst/>
          </a:prstGeom>
          <a:gradFill rotWithShape="0">
            <a:gsLst>
              <a:gs pos="0">
                <a:srgbClr val="af95af"/>
              </a:gs>
              <a:gs pos="50000">
                <a:srgbClr val="ffd9ff"/>
              </a:gs>
              <a:gs pos="100000">
                <a:srgbClr val="af95af"/>
              </a:gs>
            </a:gsLst>
            <a:lin ang="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24000" y="1335240"/>
            <a:ext cx="4103640" cy="5031720"/>
          </a:xfrm>
          <a:prstGeom prst="rect">
            <a:avLst/>
          </a:prstGeom>
          <a:gradFill rotWithShape="0">
            <a:gsLst>
              <a:gs pos="0">
                <a:srgbClr val="bfa3bf"/>
              </a:gs>
              <a:gs pos="50000">
                <a:srgbClr val="ffd9ff"/>
              </a:gs>
              <a:gs pos="100000">
                <a:srgbClr val="bfa3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-Придушила  деревлянське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встання та помстилася ім ;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-сприяла розвитку господарства;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-Провела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реформ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системи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збору данин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точно встановлювались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орми данини,податків,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винностей, 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”уроків”,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оброкі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встановлювався новий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рядок стягнення данини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 податків через представ-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иків князя;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засновані центри збору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анини-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--ПОГОСТИ;погости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орні пункти верховної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лади на місцях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4690800" y="1263600"/>
            <a:ext cx="435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-Використовувала якісно нові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ходи у зміцненні міжнарод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ого авторитету Київської Русі,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давала перевагу мирним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пособам перед воєнними: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-у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46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та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57р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дійснила два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пломатичних візити до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Константинопол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уклала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годи з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Візантією;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- з метою встановлення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ирних і дружніх відносин з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ерманським імператором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Оттоном І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відправила до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ього послів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300px-Lebedev_Svyatoslavs_meeting_with_Emperor_John"/>
          <p:cNvPicPr/>
          <p:nvPr/>
        </p:nvPicPr>
        <p:blipFill>
          <a:blip r:embed="rId1"/>
          <a:stretch/>
        </p:blipFill>
        <p:spPr>
          <a:xfrm>
            <a:off x="0" y="0"/>
            <a:ext cx="4427640" cy="393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svatoslav"/>
          <p:cNvPicPr/>
          <p:nvPr/>
        </p:nvPicPr>
        <p:blipFill>
          <a:blip r:embed="rId2"/>
          <a:stretch/>
        </p:blipFill>
        <p:spPr>
          <a:xfrm>
            <a:off x="4859280" y="0"/>
            <a:ext cx="4105440" cy="3933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250920" y="3933720"/>
            <a:ext cx="8712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                           </a:t>
            </a: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Візантійський історик про Святослава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Був Святослав помірний на зріст, не дуже низький, і не дуже високий, із кошлатими бровами та світло-синіми очима, кирпатий, безбородий, із густим довгим волоссям над верхньою губою. Голова була в нього зовсім гола, але з одного її боку звисало пасмо волосся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— </a:t>
            </a: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ознака знатності роду. Міцна потилиця, широкі груди і всі інші частини тіла цілком пропорційні. Виглядав він суворим і диким. Одне вухо його прикрашала золота сережка, оздоблена золотим карбункулом і двома перлинами. Одяг на, ньому був білий і вирізнявся лише чистотою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61-004"/>
          <p:cNvPicPr/>
          <p:nvPr/>
        </p:nvPicPr>
        <p:blipFill>
          <a:blip r:embed="rId1"/>
          <a:stretch/>
        </p:blipFill>
        <p:spPr>
          <a:xfrm>
            <a:off x="3059280" y="404640"/>
            <a:ext cx="3097080" cy="3095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784680" y="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Святослав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334160" y="177336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964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498360" y="1668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97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45440" y="3422520"/>
            <a:ext cx="909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64 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вся повнота влади зосередилась в руках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а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Але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69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державою переважно керувала княгиня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Ольг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тому що він 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ільшу частину часу проводив у військових походах.За роки свого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авління він пройшов походами зі Сходу на Захід,від Каспійського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ря до Балкан,щонайменш 8000-8500 км,він мечем перекроїв карту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віту і вписав молоду Давньоруську державу в геополітичний прос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ір Євразії. Навесні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72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,повертаючись до Київа,після походу на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зантію, дружина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а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трапила в засідку,організовану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іля Дніпровських порогів печенігами,яких підмовили візантійці.У хо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і бою князь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агинув.Печенізький хан </a:t>
            </a:r>
            <a:r>
              <a:rPr b="1" lang="uk-UA" sz="2000" spc="-1" strike="noStrike">
                <a:solidFill>
                  <a:srgbClr val="663300"/>
                </a:solidFill>
                <a:latin typeface="Arial"/>
              </a:rPr>
              <a:t>Кур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наказав виго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овити з черепа Святослава чашу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7"/>
          <p:cNvSpPr/>
          <p:nvPr/>
        </p:nvSpPr>
        <p:spPr>
          <a:xfrm>
            <a:off x="1714680" y="428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ВОЛОДИМИР  ВЕЛИКИЙ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815400" y="18842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980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812640" y="18446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1015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428920" y="1138320"/>
            <a:ext cx="42861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925640" y="0"/>
            <a:ext cx="51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7"/>
          <p:cNvSpPr/>
          <p:nvPr/>
        </p:nvSpPr>
        <p:spPr>
          <a:xfrm>
            <a:off x="1714680" y="428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ЯРОСЛАВ МУДРИЙ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816480" y="188424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1019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812640" y="18446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1054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500200" y="1000080"/>
            <a:ext cx="41752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4444920" cy="6221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4511520" y="142920"/>
            <a:ext cx="4632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66"/>
                </a:solidFill>
                <a:latin typeface="Arial"/>
              </a:rPr>
              <a:t>ВОЛОДИМИР МОНОМА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Владимир Мономах.avi" descr=""/>
          <p:cNvPicPr/>
          <p:nvPr/>
        </p:nvPicPr>
        <p:blipFill>
          <a:blip r:embed="rId1"/>
          <a:stretch/>
        </p:blipFill>
        <p:spPr>
          <a:xfrm>
            <a:off x="1403280" y="1500120"/>
            <a:ext cx="65264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1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7"/>
          <p:cNvSpPr/>
          <p:nvPr/>
        </p:nvSpPr>
        <p:spPr>
          <a:xfrm>
            <a:off x="2643120" y="4287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Аскольд і Дір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13600" y="1884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ІХ ст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811560" y="1844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88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2" descr="C:\Users\Валентин\Desktop\image.jpeg"/>
          <p:cNvPicPr/>
          <p:nvPr/>
        </p:nvPicPr>
        <p:blipFill>
          <a:blip r:embed="rId1"/>
          <a:stretch/>
        </p:blipFill>
        <p:spPr>
          <a:xfrm>
            <a:off x="2143080" y="1357200"/>
            <a:ext cx="4633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Валентин\Desktop\map_862_912.jpg"/>
          <p:cNvPicPr/>
          <p:nvPr/>
        </p:nvPicPr>
        <p:blipFill>
          <a:blip r:embed="rId1"/>
          <a:stretch/>
        </p:blipFill>
        <p:spPr>
          <a:xfrm>
            <a:off x="1714680" y="0"/>
            <a:ext cx="53575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2643120" y="4287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ВІЩИЙ ОЛЕГ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15400" y="18842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88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811560" y="1844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91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2" descr="C:\Users\Валентин\Desktop\09659.jpg"/>
          <p:cNvPicPr/>
          <p:nvPr/>
        </p:nvPicPr>
        <p:blipFill>
          <a:blip r:embed="rId1"/>
          <a:stretch/>
        </p:blipFill>
        <p:spPr>
          <a:xfrm>
            <a:off x="2714760" y="928800"/>
            <a:ext cx="344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700" spc="-1" strike="noStrike">
                <a:solidFill>
                  <a:srgbClr val="cc0066"/>
                </a:solidFill>
                <a:latin typeface="Arial"/>
              </a:rPr>
              <a:t>Князювання  Олега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42960" y="2571840"/>
            <a:ext cx="778680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Заснував державу Київську Русь, об'єднавши Київську і Новгородську землі зі столицею Киї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Розширив території держав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Зміцнив князівську влад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Здійснив переможні походи на Візантію у </a:t>
            </a:r>
            <a:r>
              <a:rPr b="0" lang="uk-UA" sz="2000" spc="-1" strike="noStrike">
                <a:solidFill>
                  <a:srgbClr val="0000ff"/>
                </a:solidFill>
                <a:latin typeface="Verdana"/>
              </a:rPr>
              <a:t>907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р., </a:t>
            </a:r>
            <a:r>
              <a:rPr b="0" lang="uk-UA" sz="2000" spc="-1" strike="noStrike">
                <a:solidFill>
                  <a:srgbClr val="0000ff"/>
                </a:solidFill>
                <a:latin typeface="Verdana"/>
              </a:rPr>
              <a:t>911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Валентин\Desktop\russian_konung_oleg_by_vasnetsov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643120" y="4287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КНЯЗЬ ІГОР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08200" y="1884240"/>
            <a:ext cx="139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91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811560" y="1844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945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500200" y="1214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7"/>
          <p:cNvSpPr/>
          <p:nvPr/>
        </p:nvSpPr>
        <p:spPr>
          <a:xfrm>
            <a:off x="2643120" y="42876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КНЯЗЮВАННЯ ІГОРЯ 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57880" y="1143000"/>
            <a:ext cx="3500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вищив міжнародний авторитет держави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дійснив походи на Візантію у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 941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. та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44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в боротьбу з печенігами. 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корив племена деревлян і уличів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стійно збільшував данину для утримання війська, що призвело до його загибелі у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4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57120" y="996840"/>
            <a:ext cx="49482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knyagina-olga"/>
          <p:cNvPicPr/>
          <p:nvPr/>
        </p:nvPicPr>
        <p:blipFill>
          <a:blip r:embed="rId1"/>
          <a:stretch/>
        </p:blipFill>
        <p:spPr>
          <a:xfrm>
            <a:off x="642960" y="214200"/>
            <a:ext cx="3743280" cy="57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svyatoslav"/>
          <p:cNvPicPr/>
          <p:nvPr/>
        </p:nvPicPr>
        <p:blipFill>
          <a:blip r:embed="rId2"/>
          <a:stretch/>
        </p:blipFill>
        <p:spPr>
          <a:xfrm>
            <a:off x="5214960" y="214200"/>
            <a:ext cx="3386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2:56:48Z</dcterms:created>
  <dc:creator>Ярик</dc:creator>
  <dc:description/>
  <dc:language>en-US</dc:language>
  <cp:lastModifiedBy>Валентин</cp:lastModifiedBy>
  <dcterms:modified xsi:type="dcterms:W3CDTF">2011-02-20T14:45:59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15000000000001024140</vt:lpwstr>
  </property>
</Properties>
</file>