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0DF-F3EC-4163-9754-95F847CD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F36-63E9-48C5-996D-43C59B4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B40-27A1-4B5B-AD7B-07A372C3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F19-D597-469C-A567-0B241D1D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1014-7F1E-4CB5-90D9-DBC0DEB0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10F-1555-4906-9FE8-850674C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E3E1-8122-4FE8-B990-EBDDF52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087-7222-48E3-AFCE-1F54890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067D-2B16-4A82-BCC5-E0D918D8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F5CF-60F2-407E-9CF9-9FBCCF90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459D-4F80-415E-B249-7F2DEB2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713-4D38-4DF4-A1ED-CE38B9E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C36-28A9-4A10-8F54-D580F1D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E79-5986-4C45-96BB-28C9EFC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762E-10BC-4D90-A3DE-E207999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066-9FCC-4173-B7C7-4E30564C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D8C2-F43B-4C23-A254-501CAF91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5C9-F1FA-407D-BFB9-0AD1AFF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688-C2A6-4620-899C-D479365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C32-3409-4185-839A-CB78EB23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A43-B4F4-4D70-8395-C006041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46-F30A-4A9B-AD05-7E1CEBD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FC0-A1D4-4E00-81CE-EE9F6BB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391-0AB0-4D65-AD73-B03EB18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0f6f6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24E8-414E-42EA-87F9-37717B6C85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0f6f6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0E79-46F1-457B-A7D0-BFC8B30334E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sychics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 rot="277800">
            <a:off x="684360" y="549000"/>
            <a:ext cx="741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Impact"/>
              </a:rPr>
              <a:t>Князі  Київської  Русі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2 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70-016"/>
          <p:cNvPicPr/>
          <p:nvPr/>
        </p:nvPicPr>
        <p:blipFill>
          <a:blip r:embed="rId1"/>
          <a:stretch/>
        </p:blipFill>
        <p:spPr>
          <a:xfrm>
            <a:off x="2843280" y="476280"/>
            <a:ext cx="3529080" cy="388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4142520" y="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Ольга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09640" y="188424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94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8061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57 р</a:t>
            </a: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90880" y="4287960"/>
            <a:ext cx="896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лика київська княжна, 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жина князя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Ігоря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ерувала Київською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жавою в пору неповноліття свого син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Ігоровича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Жорстоко розправилася з деревлянами,які під час повстання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5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били ії чоловіка. Підтримувала політичні й торговельні з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зки з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зантією. 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57р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здила в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Константинопо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де прийняла християн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во. Налагодила політичні з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зки з німецьким королем Оттоном І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реконал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е здійснювати після її смерті язическої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ризни. Канонізована православною церквою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/>
          <p:cNvSpPr/>
          <p:nvPr/>
        </p:nvSpPr>
        <p:spPr>
          <a:xfrm>
            <a:off x="971640" y="0"/>
            <a:ext cx="7416720" cy="765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5a500"/>
              </a:gs>
              <a:gs pos="50000">
                <a:srgbClr val="ffff00"/>
              </a:gs>
              <a:gs pos="100000">
                <a:srgbClr val="a5a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03440" y="1080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Політика княгині Ольги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69080" y="7650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Внутрішня: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48200" y="71136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Зовнішня: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50920" y="1268280"/>
            <a:ext cx="4176720" cy="5256360"/>
          </a:xfrm>
          <a:prstGeom prst="rect">
            <a:avLst/>
          </a:prstGeom>
          <a:gradFill rotWithShape="0">
            <a:gsLst>
              <a:gs pos="0">
                <a:srgbClr val="b99db9"/>
              </a:gs>
              <a:gs pos="50000">
                <a:srgbClr val="ffd9ff"/>
              </a:gs>
              <a:gs pos="100000">
                <a:srgbClr val="b99db9"/>
              </a:gs>
            </a:gsLst>
            <a:lin ang="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572000" y="1268280"/>
            <a:ext cx="4321080" cy="5256360"/>
          </a:xfrm>
          <a:prstGeom prst="rect">
            <a:avLst/>
          </a:prstGeom>
          <a:gradFill rotWithShape="0">
            <a:gsLst>
              <a:gs pos="0">
                <a:srgbClr val="af95af"/>
              </a:gs>
              <a:gs pos="50000">
                <a:srgbClr val="ffd9ff"/>
              </a:gs>
              <a:gs pos="100000">
                <a:srgbClr val="af95af"/>
              </a:gs>
            </a:gsLst>
            <a:lin ang="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24000" y="1335240"/>
            <a:ext cx="4103640" cy="5031720"/>
          </a:xfrm>
          <a:prstGeom prst="rect">
            <a:avLst/>
          </a:prstGeom>
          <a:gradFill rotWithShape="0">
            <a:gsLst>
              <a:gs pos="0">
                <a:srgbClr val="bfa3bf"/>
              </a:gs>
              <a:gs pos="50000">
                <a:srgbClr val="ffd9ff"/>
              </a:gs>
              <a:gs pos="100000">
                <a:srgbClr val="bfa3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Придушила  деревлянське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стання та помстилася ім 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сприяла розвитку господарства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-Провела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реформ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систем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збору данин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точно встановлювались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орми данини,податків,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инностей,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”уроків”,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663300"/>
                </a:solidFill>
                <a:latin typeface="Arial"/>
              </a:rPr>
              <a:t>оброкі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встановлювався новий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рядок стягнення данин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 податків через представ-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иків князя;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засновані центри збору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анини-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--ПОГОСТИ;погости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орні пункти верховної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ади на місцях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690800" y="1263600"/>
            <a:ext cx="435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Використовувала якісно нові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ходи у зміцненні міжнарод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ого авторитету Київської Русі,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давала перевагу мирним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особам перед воєнними: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6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та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57р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дійснила дв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атичних візити д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Константинопол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уклал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годи з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Візантією;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- з метою встановлення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ирних і дружніх відносин з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ерманським імператором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Оттоном І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ідправила д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ього послів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300px-Lebedev_Svyatoslavs_meeting_with_Emperor_John"/>
          <p:cNvPicPr/>
          <p:nvPr/>
        </p:nvPicPr>
        <p:blipFill>
          <a:blip r:embed="rId1"/>
          <a:stretch/>
        </p:blipFill>
        <p:spPr>
          <a:xfrm>
            <a:off x="0" y="0"/>
            <a:ext cx="4427640" cy="39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vatoslav"/>
          <p:cNvPicPr/>
          <p:nvPr/>
        </p:nvPicPr>
        <p:blipFill>
          <a:blip r:embed="rId2"/>
          <a:stretch/>
        </p:blipFill>
        <p:spPr>
          <a:xfrm>
            <a:off x="4859280" y="0"/>
            <a:ext cx="4105440" cy="3933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250920" y="3933720"/>
            <a:ext cx="8712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                           </a:t>
            </a: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Візантійський історик про Святослава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Був Святослав помірний на зріст, не дуже низький, і не дуже високий, із кошлатими бровами та світло-синіми очима, кирпатий, безбородий, із густим довгим волоссям над верхньою губою. Голова була в нього зовсім гола, але з одного її боку звисало пасмо волосся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— </a:t>
            </a: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ознака знатності роду. Міцна потилиця, широкі груди і всі інші частини тіла цілком пропорційні. Виглядав він суворим і диким. Одне вухо його прикрашала золота сережка, оздоблена золотим карбункулом і двома перлинами. Одяг на, ньому був білий і вирізнявся лише чистотою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61-004"/>
          <p:cNvPicPr/>
          <p:nvPr/>
        </p:nvPicPr>
        <p:blipFill>
          <a:blip r:embed="rId1"/>
          <a:stretch/>
        </p:blipFill>
        <p:spPr>
          <a:xfrm>
            <a:off x="3059280" y="404640"/>
            <a:ext cx="3097080" cy="3095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784680" y="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Святослав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334160" y="177336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964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498360" y="1668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97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45440" y="3422520"/>
            <a:ext cx="90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64 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вся повнота влади зосередилась в руках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Але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69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державою переважно керувала княгиня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Оль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тому що він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у частину часу проводив у військових походах.За роки свог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вління він пройшов походами зі Сходу на Захід,від Каспійського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ря до Балкан,щонайменш 8000-8500 км,він мечем перекроїв карту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віту і вписав молоду Давньоруську державу в геополітичний прос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ір Євразії. Навесні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72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,повертаючись до Київа,після походу на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зантію, дружина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трапила в засідку,організовану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я Дніпровських порогів печенігами,яких підмовили візантійці.У хо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і бою князь </a:t>
            </a:r>
            <a:r>
              <a:rPr b="1" lang="uk-UA" sz="2000" spc="-1" strike="noStrike">
                <a:solidFill>
                  <a:srgbClr val="cc0066"/>
                </a:solidFill>
                <a:latin typeface="Arial"/>
              </a:rPr>
              <a:t>Святослав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агинув.Печенізький хан </a:t>
            </a:r>
            <a:r>
              <a:rPr b="1" lang="uk-UA" sz="2000" spc="-1" strike="noStrike">
                <a:solidFill>
                  <a:srgbClr val="663300"/>
                </a:solidFill>
                <a:latin typeface="Arial"/>
              </a:rPr>
              <a:t>Кур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наказав виго-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овити з черепа Святослава чашу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1714680" y="428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ВОЛОДИМИР  ВЕЛИКИЙ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15400" y="18842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980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812640" y="1844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101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428920" y="1138320"/>
            <a:ext cx="42861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925640" y="0"/>
            <a:ext cx="51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>
            <a:off x="1714680" y="428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ЯРОСЛАВ МУДРИЙ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816480" y="188424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1019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812640" y="1844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1054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500200" y="1000080"/>
            <a:ext cx="4175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444920" cy="6221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4511520" y="142920"/>
            <a:ext cx="4632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Arial"/>
              </a:rPr>
              <a:t>ВОЛОДИМИР МОНОМА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Владимир Мономах.avi" descr=""/>
          <p:cNvPicPr/>
          <p:nvPr/>
        </p:nvPicPr>
        <p:blipFill>
          <a:blip r:embed="rId1"/>
          <a:stretch/>
        </p:blipFill>
        <p:spPr>
          <a:xfrm>
            <a:off x="1403280" y="1500120"/>
            <a:ext cx="65264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1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Аскольд і Дір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13600" y="1884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ІХ ст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88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2" descr="C:\Users\Валентин\Desktop\image.jpeg"/>
          <p:cNvPicPr/>
          <p:nvPr/>
        </p:nvPicPr>
        <p:blipFill>
          <a:blip r:embed="rId1"/>
          <a:stretch/>
        </p:blipFill>
        <p:spPr>
          <a:xfrm>
            <a:off x="2143080" y="1357200"/>
            <a:ext cx="4633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Валентин\Desktop\map_862_912.jpg"/>
          <p:cNvPicPr/>
          <p:nvPr/>
        </p:nvPicPr>
        <p:blipFill>
          <a:blip r:embed="rId1"/>
          <a:stretch/>
        </p:blipFill>
        <p:spPr>
          <a:xfrm>
            <a:off x="1714680" y="0"/>
            <a:ext cx="53575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ВІЩИЙ ОЛЕГ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15400" y="18842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88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1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2" descr="C:\Users\Валентин\Desktop\09659.jpg"/>
          <p:cNvPicPr/>
          <p:nvPr/>
        </p:nvPicPr>
        <p:blipFill>
          <a:blip r:embed="rId1"/>
          <a:stretch/>
        </p:blipFill>
        <p:spPr>
          <a:xfrm>
            <a:off x="2714760" y="928800"/>
            <a:ext cx="34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cc0066"/>
                </a:solidFill>
                <a:latin typeface="Arial"/>
              </a:rPr>
              <a:t>Князювання  Олег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42960" y="2571840"/>
            <a:ext cx="77868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аснував державу Київську Русь, об'єднавши Київську і Новгородську землі зі столицею Киї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озширив території держав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міцнив князівську влад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Здійснив переможні походи на Візантію у </a:t>
            </a:r>
            <a:r>
              <a:rPr b="0" lang="uk-UA" sz="2000" spc="-1" strike="noStrike">
                <a:solidFill>
                  <a:srgbClr val="0000ff"/>
                </a:solidFill>
                <a:latin typeface="Verdana"/>
              </a:rPr>
              <a:t>907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., </a:t>
            </a:r>
            <a:r>
              <a:rPr b="0" lang="uk-UA" sz="2000" spc="-1" strike="noStrike">
                <a:solidFill>
                  <a:srgbClr val="0000ff"/>
                </a:solidFill>
                <a:latin typeface="Verdana"/>
              </a:rPr>
              <a:t>911</a:t>
            </a:r>
            <a:r>
              <a:rPr b="0" lang="uk-UA" sz="2000" spc="-1" strike="noStrike">
                <a:solidFill>
                  <a:srgbClr val="171717"/>
                </a:solidFill>
                <a:latin typeface="Verdana"/>
              </a:rPr>
              <a:t>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Валентин\Desktop\russian_konung_oleg_by_vasnetsov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643120" y="42876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КНЯЗЬ ІГОР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08200" y="1884240"/>
            <a:ext cx="13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912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811560" y="1844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945 р.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500200" y="1214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2643120" y="4287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c0066"/>
                </a:solidFill>
                <a:latin typeface="Arial"/>
              </a:rPr>
              <a:t>КНЯЗЮВАННЯ ІГОРЯ 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57880" y="1143000"/>
            <a:ext cx="3500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вищив міжнародний авторитет держави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дійснив походи на Візантію у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941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. та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в боротьбу з печенігами. 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корив племена деревлян і уличів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стійно збільшував данину для утримання війська, що призвело до його загибелі у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94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57120" y="996840"/>
            <a:ext cx="49482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knyagina-olga"/>
          <p:cNvPicPr/>
          <p:nvPr/>
        </p:nvPicPr>
        <p:blipFill>
          <a:blip r:embed="rId1"/>
          <a:stretch/>
        </p:blipFill>
        <p:spPr>
          <a:xfrm>
            <a:off x="642960" y="214200"/>
            <a:ext cx="3743280" cy="57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svyatoslav"/>
          <p:cNvPicPr/>
          <p:nvPr/>
        </p:nvPicPr>
        <p:blipFill>
          <a:blip r:embed="rId2"/>
          <a:stretch/>
        </p:blipFill>
        <p:spPr>
          <a:xfrm>
            <a:off x="5214960" y="214200"/>
            <a:ext cx="3386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2:56:48Z</dcterms:created>
  <dc:creator>Ярик</dc:creator>
  <dc:description/>
  <dc:language>en-US</dc:language>
  <cp:lastModifiedBy>Валентин</cp:lastModifiedBy>
  <dcterms:modified xsi:type="dcterms:W3CDTF">2011-02-20T14:45:59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5000000000001024140</vt:lpwstr>
  </property>
</Properties>
</file>