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78F-6B16-42E1-887B-BBB9D7E1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EF1-72A5-40BE-BDAC-133F755C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222-B57E-481A-A5F6-DB5C3FBE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1631-6391-4D79-A3BD-B2A31006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03AB-B380-43C8-9142-68DB7E15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7901-01DA-4BF0-964B-79AA8A1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1A2C-449B-4AC0-8438-1AE4BDF1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AB9F-F49D-4050-860E-F93404C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06ED-F132-4A3F-8D59-BC611883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6D06-F22C-425A-87B9-B7F30B64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DC7C-F918-4D69-9AE2-A6064FA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8C64-89F2-457E-A5EA-8ABEA828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0335-12C0-4139-8FC5-F41D32E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11B6-F3FF-41FE-8752-93892D7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161D-FD96-4CF1-BD01-7CCDCB2D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3AB9-DA77-4C13-A962-A65FDCCA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B3DF-E43A-486E-89D7-744B4396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BC5E-C795-4CF2-82E8-BDA87D06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F9DEA-39A7-4E62-B029-A2E95615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A9AF-805A-49ED-A878-B5943C55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6528-BED0-42D7-837F-43EB8B08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F823-7A7A-473A-89A1-E83EAC4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7F7-09F8-4AC5-8916-D4154EBD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6579-2745-4694-A016-4801BBE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B007-FE1F-4D9E-83D9-24D7D5C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8F89-1371-4430-A822-4CB75AD4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A288-E03B-43D1-A234-A37EF357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A4AE-E8F2-4DFA-B89E-22B23FC6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0183-B017-4803-91E2-E0BFA272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7C7D-7FA1-492D-BC67-75524344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975EF-C43A-4631-81D2-FBFFF6F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A70D-386A-4796-A5D6-47727879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DBF61-BE06-433B-8B28-E912D73E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BCB-8A31-40A4-B9E1-36F6E8EF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41B9D-52F0-45C4-901E-5226837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EBFD-46E6-4CBB-A37B-B963E341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AD0CC-293C-41AC-82D8-A756671A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8FCC-DB6A-4D6F-8AD6-1606CC00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2A33A-5A73-477C-9893-EE4841F3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222D-97C3-4CA8-9DD1-60652FA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1D05-7604-4AC8-9874-D51B9D93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E552F-7065-459D-907B-249AF307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1AA52-B067-4B6A-A768-06B3F86B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FC73-57F1-40BE-A4C9-E9370602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C04-7E25-4E23-8061-0DA6409D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794F-5FF7-41D9-B499-CBC44826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2E9E1-34D1-4827-9256-CE6E80D6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5D78-DDFE-474D-9A7D-DE3B0C8E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1750E-8D9F-409C-A416-EDF87A56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7F7C-0E75-497D-AC39-86E9E98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AA30-89D1-44DA-9CA8-1B08F2D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968EA-DE7E-4D72-AB44-225DF482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BDBCC-58E1-4B26-953A-F3FEA598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7334-48D8-48A3-8695-C7F76A4B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F681-F0F6-4EA9-A856-35192B49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2C1-4F13-47F0-BD4D-8FDB199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4EE9-89FF-4D70-B86E-BD7CB577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E0C5-2CA1-40E9-9E78-DD823858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2A30F-C8ED-4032-BEBD-4D22EE1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2F310-8D32-411B-909D-E45FB88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CF75-0100-4C9C-BB40-3260890D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1134-3CC4-40E3-A61E-87122CF3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F03C8-6D94-4041-B09A-D94A57EF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AB119-0A49-49F4-ACAA-954566EC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CC788-C064-464B-ACF6-71F95104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06B5F-E8DE-4EBD-BD80-9408F373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B58-A882-4C2A-BBD9-5450C240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04206-8F73-44F1-9C8B-6721587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77FC8-81FD-4E7A-BB44-DDE1653D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5079-CE3E-4974-B83B-21C3147E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A76A4-D706-42BF-AA6F-9BA64178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0543-104A-4410-9E7B-82A22726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4F7EF-2C59-47B9-8CCC-7A9AB11E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4484-2421-4F47-AB01-3F103C57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CEFB5-EC1B-4001-BFCD-768B7439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FE69-0565-4D21-8C93-00AFFB5C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44760-21BE-4BB5-84EF-BF7D480E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298-5305-40CC-B956-FB60A68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BAA72-1639-4B21-8DE6-61D579A9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2AAE7-CD8F-4F22-A365-C93427A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F7F1-4AE0-4993-8E77-9738C07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81FA1-19B2-46AC-8BA9-6C206473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C94F6-1265-4247-990E-682760DC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C0F-0761-4BE8-B34E-ED5C922B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77D3-3316-4122-808A-533937DF6F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AD0E-1F1F-4F81-8590-DFB8BBD13F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C90A-B04F-4E61-97D6-5BB7F19A4B7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9844-F07C-486C-8BF0-C7B6E98492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BA99-AE8A-44BC-9BFE-1EFB1B4ADB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CEAC-B260-48F9-A631-A1BCD234CC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6CCF-133D-42BF-9EC7-AAD239180ED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КУЛЬТУРА   УКРАЇНИ  В  ПЕРШІЙ  ПОЛОВИНІ  </a:t>
            </a:r>
            <a:r>
              <a:rPr b="0" lang="en-US" sz="6000" spc="-1" strike="noStrike">
                <a:solidFill>
                  <a:srgbClr val="002060"/>
                </a:solidFill>
                <a:latin typeface="Gill Sans MT"/>
              </a:rPr>
              <a:t>XVII</a:t>
            </a:r>
            <a:r>
              <a:rPr b="0" lang="uk-UA" sz="6000" spc="-1" strike="noStrike">
                <a:solidFill>
                  <a:srgbClr val="002060"/>
                </a:solidFill>
                <a:latin typeface="Corbel"/>
              </a:rPr>
              <a:t> ст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4210200" cy="280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3"/>
          <a:stretch/>
        </p:blipFill>
        <p:spPr>
          <a:xfrm>
            <a:off x="5508720" y="1989000"/>
            <a:ext cx="3443040" cy="46515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5"/>
          <p:cNvSpPr/>
          <p:nvPr/>
        </p:nvSpPr>
        <p:spPr>
          <a:xfrm>
            <a:off x="1476360" y="443700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Троїцький монастир с.Межирич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оугольник 6"/>
          <p:cNvSpPr/>
          <p:nvPr/>
        </p:nvSpPr>
        <p:spPr>
          <a:xfrm>
            <a:off x="5292720" y="134136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П</a:t>
            </a:r>
            <a:r>
              <a:rPr b="0" lang="en-US" sz="2400" spc="-1" strike="noStrike">
                <a:solidFill>
                  <a:srgbClr val="7030a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7030a0"/>
                </a:solidFill>
                <a:latin typeface="Corbel"/>
              </a:rPr>
              <a:t>ятницька церква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977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32000" y="4581360"/>
            <a:ext cx="3711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 П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ятницької 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3168720" cy="42213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5508720" y="134136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Іконостас Успенської церкви у Льво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76720" y="2491920"/>
            <a:ext cx="385776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Ікона Свят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Миколай з київської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церкви св. Микола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Corbel"/>
              </a:rPr>
              <a:t>Набережно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816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Прямоугольник 3"/>
          <p:cNvSpPr/>
          <p:nvPr/>
        </p:nvSpPr>
        <p:spPr>
          <a:xfrm>
            <a:off x="6380280" y="4869000"/>
            <a:ext cx="27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Яна Данилович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2374920" cy="287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347920" cy="2986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4"/>
          <a:stretch/>
        </p:blipFill>
        <p:spPr>
          <a:xfrm>
            <a:off x="3995640" y="1341360"/>
            <a:ext cx="2070360" cy="3514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8"/>
          <p:cNvSpPr/>
          <p:nvPr/>
        </p:nvSpPr>
        <p:spPr>
          <a:xfrm>
            <a:off x="3780000" y="515772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Портрет Криштофа Збаразьког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оугольник 9"/>
          <p:cNvSpPr/>
          <p:nvPr/>
        </p:nvSpPr>
        <p:spPr>
          <a:xfrm>
            <a:off x="971640" y="4869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Невідомий у червоній шубі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187280" y="4221000"/>
            <a:ext cx="2448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кош під Сандомиром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4897440" cy="3052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460760" y="3747960"/>
            <a:ext cx="4683240" cy="31100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5"/>
          <p:cNvSpPr/>
          <p:nvPr/>
        </p:nvSpPr>
        <p:spPr>
          <a:xfrm>
            <a:off x="6012000" y="299736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Битва під Клушино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cc00cc"/>
                </a:solidFill>
                <a:latin typeface="Corbel"/>
              </a:rPr>
              <a:t>Образотворче 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508720" y="4365720"/>
            <a:ext cx="2347920" cy="2492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6994440" y="1197000"/>
            <a:ext cx="1949400" cy="30240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3924360" y="1197000"/>
            <a:ext cx="2160360" cy="3095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"/>
          <p:cNvPicPr/>
          <p:nvPr/>
        </p:nvPicPr>
        <p:blipFill>
          <a:blip r:embed="rId5"/>
          <a:stretch/>
        </p:blipFill>
        <p:spPr>
          <a:xfrm>
            <a:off x="1187280" y="1700280"/>
            <a:ext cx="2521080" cy="364500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7"/>
          <p:cNvSpPr/>
          <p:nvPr/>
        </p:nvSpPr>
        <p:spPr>
          <a:xfrm>
            <a:off x="1979640" y="5516640"/>
            <a:ext cx="28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Corbel"/>
              </a:rPr>
              <a:t>Роботи гравера Іллі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848040" cy="3330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886200" cy="3024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3635280" y="4502160"/>
            <a:ext cx="3141720" cy="235584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6"/>
          <p:cNvSpPr/>
          <p:nvPr/>
        </p:nvSpPr>
        <p:spPr>
          <a:xfrm>
            <a:off x="1835280" y="486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Банд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оугольник 7"/>
          <p:cNvSpPr/>
          <p:nvPr/>
        </p:nvSpPr>
        <p:spPr>
          <a:xfrm>
            <a:off x="7421040" y="45813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і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оугольник 8"/>
          <p:cNvSpPr/>
          <p:nvPr/>
        </p:nvSpPr>
        <p:spPr>
          <a:xfrm>
            <a:off x="6948360" y="602136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Кобз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70c0"/>
                </a:solidFill>
                <a:latin typeface="Corbel"/>
              </a:rPr>
              <a:t>Музичне мистецтв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3371760" cy="2303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867040" cy="370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4"/>
          <a:stretch/>
        </p:blipFill>
        <p:spPr>
          <a:xfrm>
            <a:off x="2771640" y="43657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6"/>
          <p:cNvSpPr/>
          <p:nvPr/>
        </p:nvSpPr>
        <p:spPr>
          <a:xfrm>
            <a:off x="2268360" y="37162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руб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Прямоугольник 7"/>
          <p:cNvSpPr/>
          <p:nvPr/>
        </p:nvSpPr>
        <p:spPr>
          <a:xfrm>
            <a:off x="1253160" y="580536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Торбан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оугольник 8"/>
          <p:cNvSpPr/>
          <p:nvPr/>
        </p:nvSpPr>
        <p:spPr>
          <a:xfrm>
            <a:off x="6730920" y="5445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Corbel"/>
              </a:rPr>
              <a:t>Литавр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31640" y="1447560"/>
            <a:ext cx="6840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713204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713204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Домашнє завд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Опрацювати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9 – 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Підготуватися до контрольної робо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31640" y="360000"/>
            <a:ext cx="750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“</a:t>
            </a: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Впізнай   героя”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843280" y="1052640"/>
            <a:ext cx="4321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Відповіді:</a:t>
            </a:r>
            <a:br>
              <a:rPr sz="3900"/>
            </a:b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1.так                   7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2.ні                     8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3.ні                     9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4.так                  10.так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5.ні                     11.ні</a:t>
            </a:r>
            <a:br>
              <a:rPr sz="3900"/>
            </a:br>
            <a:r>
              <a:rPr b="0" lang="uk-UA" sz="3900" spc="-1" strike="noStrike">
                <a:solidFill>
                  <a:srgbClr val="7030a0"/>
                </a:solidFill>
                <a:latin typeface="Arial"/>
                <a:ea typeface="Arial"/>
              </a:rPr>
              <a:t>6.ні                     12.так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572314"/>
                </a:solidFill>
                <a:latin typeface="Corbel"/>
              </a:rPr>
              <a:t>ВІДЕО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123mp3.avi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b050"/>
                </a:solidFill>
                <a:latin typeface="Arial"/>
                <a:ea typeface="Arial"/>
              </a:rPr>
              <a:t>ПЛАН:</a:t>
            </a:r>
            <a:br>
              <a:rPr sz="4800"/>
            </a:b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1. Архітектура та містобудування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2.Образотворче мистецтво</a:t>
            </a:r>
            <a:br>
              <a:rPr sz="4800"/>
            </a:br>
            <a:r>
              <a:rPr b="0" lang="uk-UA" sz="4800" spc="-1" strike="noStrike">
                <a:solidFill>
                  <a:srgbClr val="00b0f0"/>
                </a:solidFill>
                <a:latin typeface="Arial"/>
                <a:ea typeface="Arial"/>
              </a:rPr>
              <a:t>3. Музичне мистецтво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637f26"/>
                </a:solidFill>
                <a:latin typeface="Corbel"/>
              </a:rPr>
              <a:t>ПРОБЛЕМНЕ  ПИТ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03280" y="1412640"/>
            <a:ext cx="6840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іод друг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–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першої половини </a:t>
            </a:r>
            <a:r>
              <a:rPr b="0" lang="en-US" sz="4000" spc="-1" strike="noStrike">
                <a:solidFill>
                  <a:srgbClr val="1c4853"/>
                </a:solidFill>
                <a:latin typeface="Gill Sans MT"/>
              </a:rPr>
              <a:t>XVII</a:t>
            </a: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 століть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зивають періодо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національно-культурног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відродження в Україні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c4853"/>
                </a:solidFill>
                <a:latin typeface="Corbel"/>
              </a:rPr>
              <a:t>Чи згодні ви з цим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9628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  </a:t>
            </a: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3960720" cy="2944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6"/>
          <p:cNvSpPr/>
          <p:nvPr/>
        </p:nvSpPr>
        <p:spPr>
          <a:xfrm>
            <a:off x="5219640" y="2781360"/>
            <a:ext cx="33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БРОД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8"/>
          <p:cNvSpPr/>
          <p:nvPr/>
        </p:nvSpPr>
        <p:spPr>
          <a:xfrm>
            <a:off x="1403280" y="43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ЖОВКВ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4535640" cy="2737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tretch/>
        </p:blipFill>
        <p:spPr>
          <a:xfrm>
            <a:off x="5148360" y="3716280"/>
            <a:ext cx="3813120" cy="290196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268360" y="42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ЗБАРАЖ</a:t>
            </a:r>
            <a:r>
              <a:rPr b="0" lang="uk-UA" sz="18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6012000" y="31417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00"/>
                </a:solidFill>
                <a:latin typeface="Corbel"/>
              </a:rPr>
              <a:t>ПІДГІРЦ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0000"/>
                </a:solidFill>
                <a:latin typeface="Corbel"/>
              </a:rPr>
              <a:t>Архітектура та містобудуванн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3568680" cy="42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722760" cy="431964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5"/>
          <p:cNvSpPr/>
          <p:nvPr/>
        </p:nvSpPr>
        <p:spPr>
          <a:xfrm>
            <a:off x="2077200" y="587700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Г.Л. де Боплан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5841000" y="580536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Corbel"/>
              </a:rPr>
              <a:t>А. дель Акв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8:15:58Z</dcterms:created>
  <dc:creator>Андрей</dc:creator>
  <dc:description/>
  <dc:language>en-US</dc:language>
  <cp:lastModifiedBy>Admin</cp:lastModifiedBy>
  <dcterms:modified xsi:type="dcterms:W3CDTF">2014-12-24T14:56:17Z</dcterms:modified>
  <cp:revision>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10000000000001024140</vt:lpwstr>
  </property>
</Properties>
</file>