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31E-C4F4-49E2-9D0D-D44BC26B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6ED-E8A4-46F1-A001-31478462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4D0-D26C-4F31-AD9C-704DA717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B8C-4D59-45D4-B666-D9B838AE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5D42-D407-40B5-86A2-7A4DEF09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58BA-F413-4F50-AA10-2DF176D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81DB-BC24-4219-B219-905E264F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EA89-F2BD-4A01-A6DC-BFCC73BA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E2E-A4F1-454F-BFAC-AD39894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D02-538D-482B-8708-06C636C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84DC-2133-4E99-998F-136173A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42D-0902-4D1B-AA45-B2844D9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0CB-39F5-43B5-8853-E59CDB0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A3C8-33C5-47E3-AFA2-70BAFFD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0174-EF8A-4459-BFE4-D0D6AB9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5A1-9EF6-443A-BDE2-7247C0E7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EDA-30F0-43C4-B07A-9762DF9A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9E86-8B9E-400E-AD80-F06BA58F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3467-C891-41BE-9BC4-B8479A0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7131-4570-436E-9CAC-315491D2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F257-D0A2-4AAE-A174-4A786C2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6A06-B95F-41FE-A6F1-FA2D0DE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3F7-C9FB-4CC2-87AF-5AE9C62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1425-CAF5-4371-AE1F-E0A2C091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19E0-352D-4BC0-968A-F1F2BA0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B6AC-6A27-4368-A42F-9980F24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E479-3258-47AB-ACA8-FBE3E06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729C-5D3F-4629-8FDD-50244DA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3A36-C6DF-4AEB-A5B1-9A3A9BB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156A-2454-45F0-A3A8-3A80F66E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2073-AEB6-4444-86BB-19212F1E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E4B8-E1CB-4220-8817-393571C1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F46A-8765-424B-980D-F0D2B8E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419-4F6E-494A-A68B-F610116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4C87-BB5A-46AC-9D6B-178875E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6956-C0C2-40A6-B903-438CAE6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57BB-83EC-4A40-A9DA-8187D517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97E2-946F-42D6-A798-471978B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FF4E-6BC5-4901-828F-ABCCFE1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149E-45FF-4AB3-A160-DD277BD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7B3B-45EC-4448-85F5-EBF5DA0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0BA1-9B66-4864-8369-DE7E0AAB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F118-CA88-4D36-9F1E-C4B37DB7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DA17-8D25-4F45-A8AE-1D70E486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4C1-2FC6-4978-BEA7-B33093E1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314C-064E-450C-B2F8-3B76355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D0D0-DCDE-4DE5-A5AD-774F1A5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4A5D-B29D-40FA-B293-EE55247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6CC3-2C2A-4337-B6F2-CF0291F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3744E-8A51-4D50-90D8-A390CA8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937E-2DE9-449C-8DFD-DAF8E16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3D9C-1948-4258-AD8B-9FF8FBB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3726-07C0-4890-A971-65FF5FD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86CB-F6CB-42E3-A33A-D04641E3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FC87-8CFF-4991-A978-74B23CE9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43F-1D04-4B5A-8C62-8782C17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0BD9-FD3B-4ACC-BD11-ABF45DD3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E540-89F5-4ED6-A7B9-AB26A536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11D1-4072-4B5F-955B-733DE64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3889-1EBF-466A-9BC3-A96AD126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F1D26-22F4-4632-8BC9-BC597298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39EF-3434-4ACE-9623-0569AB2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AB68-D993-4999-800B-AFDE64E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46CF-0B09-45BF-9190-5FB1BCA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D370-5A85-4DE2-9B3B-30E499A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BC1E-21C6-42CF-920A-B5300B2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D45-B066-430B-A8AC-590DF52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8735-5BE5-4119-87ED-FBC41AB4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C57A-DF41-4AD9-B2F0-71D1FF5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734C-57F0-45FA-A32C-41242C4B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24F7-63C0-4263-8068-29BB3F3A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4ED5F-F58D-4623-B728-936FEA6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1D712-FE1F-4445-B868-05DD980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D06D-B414-4E24-ABC1-674B568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10D7-3BE2-4755-89AD-8EAB9B2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B88E-EF68-45E5-B852-26C496E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7346-A892-49CD-B1F4-D4AB566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A8C-26C3-4655-86F2-C907BE7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394C-477B-4E78-A8C2-FB5FCE9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1FC8E-1C13-41FD-9FFC-2621FC3A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D18F-BB49-4EFA-8E5B-3A19A949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40EA6-08D2-4F25-AAF5-6EC6D193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BD38-E58B-40A1-A3B0-B13BCD81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71C-F2FB-4857-8694-9354907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7DF0-7187-4F03-A97F-B9C193C12A6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012-85A6-415F-8A3A-EA2CB6DB19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4BA-0DB5-4FA6-A3BD-F19BC95581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A28-2BBF-4460-8D1F-CB8D80396E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36D2-7A50-4BF6-802A-7BF6601574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F3E-FDED-41AD-A5B3-BBB0714831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F60-1CA0-4EBE-AFBE-F67B109EF2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КУЛЬТУРА   УКРАЇНИ  В  ПЕРШІЙ  ПОЛОВИНІ  </a:t>
            </a:r>
            <a:r>
              <a:rPr b="0" lang="en-US" sz="6000" spc="-1" strike="noStrike">
                <a:solidFill>
                  <a:srgbClr val="002060"/>
                </a:solidFill>
                <a:latin typeface="Gill Sans MT"/>
              </a:rPr>
              <a:t>XVII</a:t>
            </a: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 с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210200" cy="280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5508720" y="1989000"/>
            <a:ext cx="3443040" cy="46515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5"/>
          <p:cNvSpPr/>
          <p:nvPr/>
        </p:nvSpPr>
        <p:spPr>
          <a:xfrm>
            <a:off x="1476360" y="443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Троїцький монастир с.Межири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5292720" y="1341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П</a:t>
            </a:r>
            <a:r>
              <a:rPr b="0" lang="en-US" sz="2400" spc="-1" strike="noStrike">
                <a:solidFill>
                  <a:srgbClr val="7030a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ятницька церква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97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2000" y="4581360"/>
            <a:ext cx="3711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 П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ятницької 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168720" cy="4221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5508720" y="1341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Успенської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76720" y="2491920"/>
            <a:ext cx="38577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Ікона Свят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Миколай з київсько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церкви св. Микол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Набереж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816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6380280" y="48690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Яна Данил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74920" cy="287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47920" cy="29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070360" cy="3514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8"/>
          <p:cNvSpPr/>
          <p:nvPr/>
        </p:nvSpPr>
        <p:spPr>
          <a:xfrm>
            <a:off x="3780000" y="515772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Криштофа Збараз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971640" y="486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Невідомий у червоній шубі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4221000"/>
            <a:ext cx="2448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кош під Сандомиром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4897440" cy="305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460760" y="3747960"/>
            <a:ext cx="4683240" cy="3110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5"/>
          <p:cNvSpPr/>
          <p:nvPr/>
        </p:nvSpPr>
        <p:spPr>
          <a:xfrm>
            <a:off x="6012000" y="299736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Битва під Клушино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994440" y="1197000"/>
            <a:ext cx="1949400" cy="3024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3924360" y="1197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5"/>
          <a:stretch/>
        </p:blipFill>
        <p:spPr>
          <a:xfrm>
            <a:off x="1187280" y="1700280"/>
            <a:ext cx="2521080" cy="3645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7"/>
          <p:cNvSpPr/>
          <p:nvPr/>
        </p:nvSpPr>
        <p:spPr>
          <a:xfrm>
            <a:off x="1979640" y="5516640"/>
            <a:ext cx="28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боти гравера Іллі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848040" cy="3330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886200" cy="3024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3635280" y="4502160"/>
            <a:ext cx="3141720" cy="23558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835280" y="486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Банд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7421040" y="4581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і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6948360" y="60213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Коб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371760" cy="2303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867040" cy="37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2268360" y="371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руб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253160" y="580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орба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6730920" y="5445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итав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31640" y="1447560"/>
            <a:ext cx="6840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Опрацюва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9 –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ідготуватися до контрольної робо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1640" y="360000"/>
            <a:ext cx="750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Впізнай   героя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Відповіді:</a:t>
            </a:r>
            <a:br>
              <a:rPr sz="3900"/>
            </a:b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1.так                   7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2.ні                     8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3.ні                     9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4.так                  10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5.ні                     11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6.ні                     12.так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572314"/>
                </a:solidFill>
                <a:latin typeface="Corbel"/>
              </a:rPr>
              <a:t>ВІДЕО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123mp3.av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b05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1. Архітектура та містобудування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2.Образотворче мистецтво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3. Музичне мистецтво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03280" y="1412640"/>
            <a:ext cx="684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3960720" cy="294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5219640" y="278136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БРО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140328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ЖОВК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4535640" cy="2737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813120" cy="29019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268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ЗБАРАЖ</a:t>
            </a:r>
            <a:r>
              <a:rPr b="0" lang="uk-UA" sz="1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6012000" y="31417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ПІДГІРЦ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3568680" cy="42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722760" cy="43196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2077200" y="5877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Г.Л. де Бопла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5841000" y="5805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А. дель Акв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8:15:58Z</dcterms:created>
  <dc:creator>Андрей</dc:creator>
  <dc:description/>
  <dc:language>en-US</dc:language>
  <cp:lastModifiedBy>Admin</cp:lastModifiedBy>
  <dcterms:modified xsi:type="dcterms:W3CDTF">2014-12-24T14:56:17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0000000000001024140</vt:lpwstr>
  </property>
</Properties>
</file>