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331-CC4F-4353-B192-6F884623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2D8-4024-4A7A-8666-E94E3CE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625-B147-4AF3-A123-80439D53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662-8A4F-44AD-807C-ADCE12F6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9F36-F0B5-456B-9F32-8D0D0372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9AB5-8B7B-4884-8663-F92B76F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F44-754B-4254-90C1-F6BAE20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1062-CFA3-4F5B-AC58-6728D03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201B-AE51-40C1-8A44-79BD7C6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1C0-E206-4CB8-9270-8713E027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8624-AECD-4752-A72A-0862ED5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F4E-5A9C-4631-BEDB-9A5B0E2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135A-8CE5-4B87-8CF9-DD18325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15E1-4863-4673-AD7C-CEAA08E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BC0C-388E-42D5-9156-02A3FBC4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0044-48E0-4CF6-92A9-C3F039C1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371-BCE6-4394-8F52-2C056D31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CF46-D6CF-4A71-8B9E-2C3E48C7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F637-9F2E-4018-8569-1E3CD52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4B16-3B4C-432C-8706-5832FA8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48BC-50AE-41EF-BAD2-24D265D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B992-1D1A-463D-9DCE-675DD832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975-F680-4F62-A4A7-53905B2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C9F1-2C38-40F7-BE09-28EC882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D7C0-0812-4A0B-B09F-F08BC97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ABB7-6986-4DAE-A47E-360A778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2C4A-4186-4673-8181-6DDA2648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E251-C6B3-4050-B54C-1909CDD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45FC-37AD-4D5F-838E-6B88E827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2AEE-8533-4EE8-8F98-749B6BFD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DF07-BCF3-439E-8C40-D5A7D30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B040E-8C28-4C93-8D39-3E37013E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0E86-2E57-496B-A13E-90126B1B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FB4-314F-4F39-9FF1-8D7DBB8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B1A0-9718-4190-98AC-3682A5F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B0C1-07F6-4995-B192-EF799DB4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AD24-DB83-49F9-8AD3-C2EE3C5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7E70-4A70-4925-9FBF-F729ACD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A5FC-C17A-4F2A-8AA3-36B904CF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B393-6B65-458C-81C1-91411A2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CBC9-A1F1-482E-AF0D-CBBF769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1056-8A54-4102-B6F7-3515BDC0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4F4A-7355-4B75-B423-933E2F4E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34AD-F702-4D20-8B26-7378460F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5EA-6E7A-41C6-A21F-E21BB1C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7A11C-BCB5-4DCE-90F3-F099C609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D1A3-2693-4148-AE0F-BA671697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54858-F48C-4C79-9CDD-1B9B33B2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CC98-0E90-46E4-A86F-62DDA62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082C5-A3FB-4154-8783-03FC53AC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08C7-2EC2-4432-9F65-0F59C62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40E8-F449-4AE2-920D-0AC8691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4CC7-ADDE-4713-B2D2-F521C2F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6460-EB82-41B2-8EE9-3DBB44A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0130-EBAC-414B-B065-CB54CC32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9C2-A678-4146-BC41-561BD0D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E58D-D6C9-4BB2-8132-67C78FA9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E077-95FC-4589-8553-9C7180B2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CF3E-EC6B-497B-8AF4-C847B945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DDC11-0723-40D4-831C-21BEF96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5061-A897-451A-B9F5-9F9C94F9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D03A-A525-42D9-BE6E-E13E0AD0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29C9-CA9C-40D5-89D5-3EC5FAE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1419-DB6D-45D6-A464-E7D803C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3B86-C8E5-4CA1-BEFF-5DB82CA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676A-33E9-431F-A231-0413749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902-49E3-40C8-8919-0B9A1B8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3E3FD-E161-48D0-90BF-FAF8C65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1759-C684-417B-ACD2-025BBD8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6D11-2AFC-4CFC-AB6F-03C5A07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B98D-6C7C-4FBC-857C-389B01CC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A849-07C8-46BE-BB73-ABCC545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E53DD-F772-4B2E-9AB3-9860920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1F3F-E2AA-48E2-886C-3C4BACC4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4148-D72B-4819-8686-ABE285C6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7B20-FA0E-4946-9CBD-CB968E6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96056-6990-4010-8CB1-70968BA9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C56-79DE-4E49-898A-DEDC2ED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3EB5-2208-4641-BBBA-3A383A5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1745-9568-46EC-B832-44ED02C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E0F1A-2525-420B-9594-9A8EBB6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81B80-E3A4-48A9-80D3-B32DC97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C8DA-17F8-489A-9BE0-562D7EE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5C9-5C0F-42E5-A643-7EAB912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E719-AC92-4A3F-9836-86C3224A3D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28E7-4ECE-4A05-85FF-55BC766787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2F0-5F7F-4D1B-839B-56C669484C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CA62-1075-4E60-BFA0-DD05169D19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1EE-D6C9-4613-8B73-E255FBD458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61F-98A1-4EAA-A31D-2892E7D69B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9B7-9562-4807-8AE9-47B9AE18F6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КУЛЬТУРА   УКРАЇНИ  В  ПЕРШІЙ  ПОЛОВИНІ  </a:t>
            </a:r>
            <a:r>
              <a:rPr b="0" lang="en-US" sz="6000" spc="-1" strike="noStrike">
                <a:solidFill>
                  <a:srgbClr val="002060"/>
                </a:solidFill>
                <a:latin typeface="Gill Sans MT"/>
              </a:rPr>
              <a:t>XVII</a:t>
            </a: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 с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210200" cy="280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5508720" y="1989000"/>
            <a:ext cx="3443040" cy="46515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5"/>
          <p:cNvSpPr/>
          <p:nvPr/>
        </p:nvSpPr>
        <p:spPr>
          <a:xfrm>
            <a:off x="1476360" y="443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Троїцький монастир с.Межири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5292720" y="1341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П</a:t>
            </a:r>
            <a:r>
              <a:rPr b="0" lang="en-US" sz="2400" spc="-1" strike="noStrike">
                <a:solidFill>
                  <a:srgbClr val="7030a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ятницька церква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97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2000" y="4581360"/>
            <a:ext cx="3711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 П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ятницької 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168720" cy="4221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5508720" y="1341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Успенської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76720" y="2491920"/>
            <a:ext cx="38577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Ікона Свят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Миколай з київсько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церкви св. Микол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Набереж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816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6380280" y="48690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Яна Данил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74920" cy="287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47920" cy="29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070360" cy="3514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8"/>
          <p:cNvSpPr/>
          <p:nvPr/>
        </p:nvSpPr>
        <p:spPr>
          <a:xfrm>
            <a:off x="3780000" y="515772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Криштофа Збараз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971640" y="486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Невідомий у червоній шубі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4221000"/>
            <a:ext cx="2448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кош під Сандомиром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4897440" cy="305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460760" y="3747960"/>
            <a:ext cx="4683240" cy="3110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5"/>
          <p:cNvSpPr/>
          <p:nvPr/>
        </p:nvSpPr>
        <p:spPr>
          <a:xfrm>
            <a:off x="6012000" y="299736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Битва під Клушино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994440" y="1197000"/>
            <a:ext cx="1949400" cy="3024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3924360" y="1197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5"/>
          <a:stretch/>
        </p:blipFill>
        <p:spPr>
          <a:xfrm>
            <a:off x="1187280" y="1700280"/>
            <a:ext cx="2521080" cy="3645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7"/>
          <p:cNvSpPr/>
          <p:nvPr/>
        </p:nvSpPr>
        <p:spPr>
          <a:xfrm>
            <a:off x="1979640" y="5516640"/>
            <a:ext cx="28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боти гравера Іллі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848040" cy="3330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886200" cy="3024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3635280" y="4502160"/>
            <a:ext cx="3141720" cy="23558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835280" y="486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Банд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7421040" y="4581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і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6948360" y="60213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Коб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371760" cy="2303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867040" cy="37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2268360" y="371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руб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253160" y="580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орба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6730920" y="5445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итав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31640" y="1447560"/>
            <a:ext cx="6840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Опрацюва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9 –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ідготуватися до контрольної робо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1640" y="360000"/>
            <a:ext cx="750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Впізнай   героя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Відповіді:</a:t>
            </a:r>
            <a:br>
              <a:rPr sz="3900"/>
            </a:b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1.так                   7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2.ні                     8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3.ні                     9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4.так                  10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5.ні                     11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6.ні                     12.так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572314"/>
                </a:solidFill>
                <a:latin typeface="Corbel"/>
              </a:rPr>
              <a:t>ВІДЕО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123mp3.av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b05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1. Архітектура та містобудування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2.Образотворче мистецтво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3. Музичне мистецтво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03280" y="1412640"/>
            <a:ext cx="684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3960720" cy="294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5219640" y="278136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БРО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140328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ЖОВК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4535640" cy="2737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813120" cy="29019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268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ЗБАРАЖ</a:t>
            </a:r>
            <a:r>
              <a:rPr b="0" lang="uk-UA" sz="1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6012000" y="31417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ПІДГІРЦ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3568680" cy="42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722760" cy="43196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2077200" y="5877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Г.Л. де Бопла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5841000" y="5805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А. дель Акв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8:15:58Z</dcterms:created>
  <dc:creator>Андрей</dc:creator>
  <dc:description/>
  <dc:language>en-US</dc:language>
  <cp:lastModifiedBy>Admin</cp:lastModifiedBy>
  <dcterms:modified xsi:type="dcterms:W3CDTF">2014-12-24T14:56:17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0000000000001024140</vt:lpwstr>
  </property>
</Properties>
</file>