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15F-A926-49FE-ABC2-2827BCB1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F64-5F2A-4FB8-8336-5B370C75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318-ED59-4396-9A18-C21CD2D2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63B-D09D-4CF3-904D-F0E6766A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B844-0919-4CD3-8200-5F2942E7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AF70-245B-42AF-AA2C-A0D4C8F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FAA-6A59-400E-9991-D43B12F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73C6-F4B1-49FA-932C-48D6A24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C071-F821-44D3-848A-37DCD59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06B-5F5B-490F-865A-71E0127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15FB-C2BA-47C3-8767-E975C64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381-B36D-4177-B6D7-E0ACB03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4641-661D-4A46-ABB1-8DFFC57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1FE-159F-41B1-87E2-C574DB1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B835-D011-4FD5-9C10-8632974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C8F4-CD17-4BEC-9D5D-2A512DF5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0F3B-33F0-43C8-BD19-AD9D06C2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A8C-7C77-4E88-A422-6AE8F181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459-D22E-4524-8736-0D4FD69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C1C-36AE-440C-82F9-A7849F1D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E2F-5DBC-4EFB-9749-E67B08C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8E9-7030-4C15-9798-8189EFD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9A1-978F-4209-AC3F-EC8AFA5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244-408D-4D63-B060-8F3B55E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0F71-F1BA-4C7F-8752-66B03CBB8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D12F-516B-49EF-8166-F17F9CB60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а загальноосвітня школа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І – ІІІ ступенів № 36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міської ради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області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нспект уроку з історії України для 5 класу за програмою «Історія України. Вступ до історії» (К., Перун.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Тема уроку : Культура України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37bc"/>
                </a:solidFill>
                <a:latin typeface="Arial"/>
              </a:rPr>
              <a:t>Автор:</a:t>
            </a: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 Олійникова Світлана Петрівна, учитель істо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Кваліфікаційна категорія - вчитель вищої категорії, звання - старший вчитель, стаж роботи – 28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Герб.jpg"/>
          <p:cNvPicPr/>
          <p:nvPr/>
        </p:nvPicPr>
        <p:blipFill>
          <a:blip r:embed="rId1"/>
          <a:stretch/>
        </p:blipFill>
        <p:spPr>
          <a:xfrm>
            <a:off x="714240" y="35712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52280" y="153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Турецько-татарські напади на українські земл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С И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571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Н И Ч А 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6922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 П У С Т О Ш Е Н Н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Е М Е Л Ь  Т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 У Й Н А Ц І 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АРЕМ,  СЛУЖ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143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 А Т О Р Г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0" y="4286160"/>
            <a:ext cx="3357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З А Г Р О З 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І С Н У В А Н Н Ю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У К Р А Ї Н С Ь К О Г 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Н А Р О Д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429000" y="857160"/>
            <a:ext cx="54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гарем5"/>
          <p:cNvPicPr/>
          <p:nvPr/>
        </p:nvPicPr>
        <p:blipFill>
          <a:blip r:embed="rId2"/>
          <a:stretch/>
        </p:blipFill>
        <p:spPr>
          <a:xfrm>
            <a:off x="3429000" y="857160"/>
            <a:ext cx="546264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альтійська галера"/>
          <p:cNvPicPr/>
          <p:nvPr/>
        </p:nvPicPr>
        <p:blipFill>
          <a:blip r:embed="rId3"/>
          <a:stretch/>
        </p:blipFill>
        <p:spPr>
          <a:xfrm>
            <a:off x="3429000" y="857160"/>
            <a:ext cx="5500800" cy="514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3429000" y="857160"/>
            <a:ext cx="5470560" cy="514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султан Мурад4 с яничарами"/>
          <p:cNvPicPr/>
          <p:nvPr/>
        </p:nvPicPr>
        <p:blipFill>
          <a:blip r:embed="rId5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6"/>
          <a:srcRect l="0" t="0" r="-49" b="188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37bc"/>
                </a:solidFill>
                <a:latin typeface="Arial Black"/>
              </a:rPr>
              <a:t>Умови розвитку культури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З А Г Р О З А  І С Н У В А Н Н Ю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У К Р А Ї Н С Ь К О Г О  Н А Р О Д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92360" y="4149720"/>
            <a:ext cx="5976720" cy="22096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Яке завдання вирішували діяч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української куль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28880" indent="-1028880">
              <a:lnSpc>
                <a:spcPct val="95000"/>
              </a:lnSpc>
              <a:buClr>
                <a:srgbClr val="0837b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Розвиток освіти. § 17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. 130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.</a:t>
            </a:r>
            <a:br>
              <a:rPr sz="2800"/>
            </a:br>
            <a:br>
              <a:rPr sz="28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формулюйте 2 – 3 запитання до тексту та дайте відповіді на них.</a:t>
            </a:r>
            <a:br>
              <a:rPr sz="2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4653000"/>
            <a:ext cx="7777080" cy="14907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 зробили освіту досяж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ля багатьох україн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24000" y="20606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116000" y="3068640"/>
            <a:ext cx="6913440" cy="11523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ли братські школи? 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80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ображений на портреті?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чому полягає просвітницька діяльність цієї людини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6204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716360" y="2781000"/>
            <a:ext cx="4200480" cy="368604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txBody>
          <a:bodyPr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своєму маєтку в Острозі заснував друкарню, академ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строзька академія не поступалася європейським університ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89000"/>
            <a:ext cx="41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ища осві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179280" y="1052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5013000"/>
            <a:ext cx="7850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виникла Київська колегія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Києво-Могилянська академія)? Яке значення мала Київська колегія для розвитку освіти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Рисунок 4" descr="kiyevo-mogilyanska-akademiya_1.jpg"/>
          <p:cNvPicPr/>
          <p:nvPr/>
        </p:nvPicPr>
        <p:blipFill>
          <a:blip r:embed="rId1"/>
          <a:stretch/>
        </p:blipFill>
        <p:spPr>
          <a:xfrm>
            <a:off x="4716360" y="584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Києво-Могилянська академія"/>
          <p:cNvPicPr/>
          <p:nvPr/>
        </p:nvPicPr>
        <p:blipFill>
          <a:blip r:embed="rId2"/>
          <a:stretch/>
        </p:blipFill>
        <p:spPr>
          <a:xfrm>
            <a:off x="250920" y="620640"/>
            <a:ext cx="4270320" cy="37450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179280" y="4941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20px-Petro_Mohyla-_big"/>
          <p:cNvPicPr/>
          <p:nvPr/>
        </p:nvPicPr>
        <p:blipFill>
          <a:blip r:embed="rId1"/>
          <a:stretch/>
        </p:blipFill>
        <p:spPr>
          <a:xfrm>
            <a:off x="250920" y="765000"/>
            <a:ext cx="3109680" cy="4681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5450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етро Могила (1596 – 1647) -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настоятель Києво -Печерської лаври, митрополит Київський і Галицький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1632 р.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564000" y="2133720"/>
            <a:ext cx="1800000" cy="1366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ратс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77080" y="2205000"/>
            <a:ext cx="1800360" cy="136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є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черськ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ав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932360" y="4076640"/>
            <a:ext cx="2376360" cy="10587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егія (академ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7"/>
          <p:cNvCxnSpPr>
            <a:stCxn id="159" idx="1"/>
            <a:endCxn id="159" idx="1"/>
          </p:cNvCxnSpPr>
          <p:nvPr/>
        </p:nvCxnSpPr>
        <p:spPr>
          <a:xfrm>
            <a:off x="3419280" y="2998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Line 13"/>
          <p:cNvSpPr/>
          <p:nvPr/>
        </p:nvSpPr>
        <p:spPr>
          <a:xfrm>
            <a:off x="536400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364000" y="335772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6300360" y="335772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1403280" y="5661000"/>
            <a:ext cx="6840720" cy="9144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иєво – Могилянська академія була подібн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вропейського університ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2. Самійло Величко ( 1670 – 1728 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Закінчив Києво-Могилянську академію, де вивчив латину й чотири іноземні мови.</a:t>
            </a:r>
            <a:br>
              <a:rPr sz="2400"/>
            </a:br>
            <a:r>
              <a:rPr b="1" lang="ru-RU" sz="40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2421000"/>
            <a:ext cx="396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16400" y="2205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им уславив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.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SC_0678.jpg"/>
          <p:cNvPicPr/>
          <p:nvPr/>
        </p:nvPicPr>
        <p:blipFill>
          <a:blip r:embed="rId1"/>
          <a:stretch/>
        </p:blipFill>
        <p:spPr>
          <a:xfrm>
            <a:off x="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4572000" y="2276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40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 –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автор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зацького літопису, що охоплює період з 1648 до 1700 року.</a:t>
            </a:r>
            <a:r>
              <a:rPr b="0" lang="ru-RU" sz="2800" spc="-1" strike="noStrike">
                <a:solidFill>
                  <a:srgbClr val="0837bc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(Літопис Величка написаний українською літературною мовою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ІІІ ст.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з елементами народної мови. </a:t>
            </a:r>
            <a:br>
              <a:rPr sz="20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Складається з 4 частин. Надрукований у ХІХ ст.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7" descr="185-8-1"/>
          <p:cNvPicPr/>
          <p:nvPr/>
        </p:nvPicPr>
        <p:blipFill>
          <a:blip r:embed="rId1"/>
          <a:stretch/>
        </p:blipFill>
        <p:spPr>
          <a:xfrm>
            <a:off x="2268360" y="2349360"/>
            <a:ext cx="1851120" cy="26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3880" y="5285880"/>
            <a:ext cx="821556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рацюючи в парах, запропонуйте 2 події, про які обов</a:t>
            </a:r>
            <a:r>
              <a:rPr b="1" lang="en-US" sz="2400" spc="-1" strike="noStrike">
                <a:solidFill>
                  <a:srgbClr val="0837bc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зково треба було б розповісти в літописі. Чому обрали саме ці події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litopys_velychka"/>
          <p:cNvPicPr/>
          <p:nvPr/>
        </p:nvPicPr>
        <p:blipFill>
          <a:blip r:embed="rId2"/>
          <a:stretch/>
        </p:blipFill>
        <p:spPr>
          <a:xfrm>
            <a:off x="324000" y="2349360"/>
            <a:ext cx="190008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image003"/>
          <p:cNvPicPr/>
          <p:nvPr/>
        </p:nvPicPr>
        <p:blipFill>
          <a:blip r:embed="rId3"/>
          <a:stretch/>
        </p:blipFill>
        <p:spPr>
          <a:xfrm>
            <a:off x="4211640" y="2349360"/>
            <a:ext cx="1751040" cy="2665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6012000" y="2492280"/>
            <a:ext cx="2952720" cy="1873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 припущення, щ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літоп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закінчується поді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1720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0" y="501336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714240" y="5357880"/>
            <a:ext cx="8282160" cy="120168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в козацький літоп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а Вели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4360" y="2923920"/>
            <a:ext cx="446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6" descr="Файл:Григорий Сковорода.jpg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24000" y="4941720"/>
            <a:ext cx="8569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(1722 - 1794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омпозитор, поет, науковець, філосо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837bc"/>
                </a:solidFill>
                <a:latin typeface="Arial"/>
              </a:rPr>
              <a:t>(філософія в перекладі з грецької означає любов до мудр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[Trohimenko-009.jpg]"/>
          <p:cNvPicPr/>
          <p:nvPr/>
        </p:nvPicPr>
        <p:blipFill>
          <a:blip r:embed="rId2"/>
          <a:stretch/>
        </p:blipFill>
        <p:spPr>
          <a:xfrm>
            <a:off x="179280" y="189000"/>
            <a:ext cx="5761080" cy="4103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5796000" y="333360"/>
            <a:ext cx="334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Роздивіться       ілюстр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ому Г.Сковороду  називали “мандрів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філософо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929200" y="30718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орівняйте свою відповідь з інформацією в підручнику. С.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6084720" y="189000"/>
            <a:ext cx="432000" cy="755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55640"/>
              <a:gd name="textAreaBottom" fmla="*/ 727920 h 755640"/>
            </a:gdLst>
            <a:ahLst/>
            <a:rect l="textAreaLeft" t="textAreaTop" r="textAreaRight" b="textAreaBottom"/>
            <a:pathLst>
              <a:path w="21600" h="37769">
                <a:moveTo>
                  <a:pt x="0" y="0"/>
                </a:moveTo>
                <a:lnTo>
                  <a:pt x="21600" y="0"/>
                </a:lnTo>
                <a:lnTo>
                  <a:pt x="21600" y="37769"/>
                </a:lnTo>
                <a:lnTo>
                  <a:pt x="0" y="37769"/>
                </a:lnTo>
                <a:close/>
              </a:path>
              <a:path fill="lightenLess" w="21600" h="3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69">
                <a:moveTo>
                  <a:pt x="21600" y="0"/>
                </a:moveTo>
                <a:lnTo>
                  <a:pt x="21600" y="37769"/>
                </a:lnTo>
                <a:lnTo>
                  <a:pt x="20200" y="36369"/>
                </a:lnTo>
                <a:lnTo>
                  <a:pt x="20200" y="1400"/>
                </a:lnTo>
                <a:close/>
              </a:path>
              <a:path fill="darkenLess" w="21600" h="37769">
                <a:moveTo>
                  <a:pt x="21600" y="37769"/>
                </a:moveTo>
                <a:lnTo>
                  <a:pt x="0" y="37769"/>
                </a:lnTo>
                <a:lnTo>
                  <a:pt x="1400" y="36369"/>
                </a:lnTo>
                <a:lnTo>
                  <a:pt x="20200" y="36369"/>
                </a:lnTo>
                <a:close/>
              </a:path>
              <a:path fill="lighten" w="21600" h="37769">
                <a:moveTo>
                  <a:pt x="0" y="3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69"/>
                </a:lnTo>
                <a:close/>
              </a:path>
              <a:path fill="darken" w="21600" h="37769">
                <a:moveTo>
                  <a:pt x="10800" y="2288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769">
                <a:moveTo>
                  <a:pt x="11905" y="22366"/>
                </a:moveTo>
                <a:lnTo>
                  <a:pt x="11905" y="20407"/>
                </a:lnTo>
                <a:cubicBezTo>
                  <a:pt x="11905" y="19581"/>
                  <a:pt x="12236" y="18884"/>
                  <a:pt x="12837" y="18884"/>
                </a:cubicBezTo>
                <a:cubicBezTo>
                  <a:pt x="13968" y="18884"/>
                  <a:pt x="14865" y="17518"/>
                  <a:pt x="14865" y="15934"/>
                </a:cubicBezTo>
                <a:cubicBezTo>
                  <a:pt x="14865" y="13619"/>
                  <a:pt x="13011" y="11878"/>
                  <a:pt x="10800" y="11878"/>
                </a:cubicBezTo>
                <a:cubicBezTo>
                  <a:pt x="8589" y="11878"/>
                  <a:pt x="6918" y="13619"/>
                  <a:pt x="6918" y="15934"/>
                </a:cubicBezTo>
                <a:lnTo>
                  <a:pt x="8772" y="15934"/>
                </a:lnTo>
                <a:cubicBezTo>
                  <a:pt x="8772" y="14794"/>
                  <a:pt x="9695" y="13906"/>
                  <a:pt x="10800" y="13906"/>
                </a:cubicBezTo>
                <a:cubicBezTo>
                  <a:pt x="11905" y="13906"/>
                  <a:pt x="12837" y="14794"/>
                  <a:pt x="12837" y="15934"/>
                </a:cubicBezTo>
                <a:cubicBezTo>
                  <a:pt x="12837" y="16674"/>
                  <a:pt x="12367" y="17405"/>
                  <a:pt x="11905" y="17405"/>
                </a:cubicBezTo>
                <a:cubicBezTo>
                  <a:pt x="10800" y="17405"/>
                  <a:pt x="9695" y="18884"/>
                  <a:pt x="9695" y="20407"/>
                </a:cubicBezTo>
                <a:lnTo>
                  <a:pt x="9695" y="2236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714240"/>
            <a:ext cx="8534520" cy="408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дин із сучасників філософа так згадував про нього: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“ Не стяжав він ні золота, ані срібла, але народ не зате приймав його під свої покрівлі…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Мешканці… слобід та хуторів, де він зупинявся, любили його, як рідног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Він віддавав їм усе, що мав: не золото й срібло, а добрі поради, настанови, дружні докори…Утішався,  що труд його мандрівного життя не безплідний”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971640" y="5373720"/>
            <a:ext cx="7561080" cy="94716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 український народ люб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Г. Сковород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79280" y="5157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1500120" y="857160"/>
            <a:ext cx="621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Тема уроку:</a:t>
            </a:r>
            <a:br>
              <a:rPr sz="3200"/>
            </a:b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ультура Україн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28840" y="3429000"/>
            <a:ext cx="6215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ультура – духовне життя  на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81439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ов виникає з любовi; коли хочу, щоб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мене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или, я сам перший люблю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іба не любов усе єднає, будує, творить, подібно до того, як ворожість руйнує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042920" y="3429000"/>
            <a:ext cx="78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співвідносяться ці вислови з “золотим правилом моралі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85840" y="400068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85880" y="2858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643040" y="357120"/>
            <a:ext cx="7000920" cy="914400"/>
          </a:xfrm>
          <a:prstGeom prst="rect">
            <a:avLst/>
          </a:prstGeom>
          <a:solidFill>
            <a:srgbClr val="f5f272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bc"/>
                </a:solidFill>
                <a:latin typeface="Arial Black"/>
              </a:rPr>
              <a:t>Як ви розумієте вислови Г.Сковоро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22478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ли не зможу нічим любій Вітчизні прислужитись,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в усякому разі з усієї сили намагатимуся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іколи ні в чому не шкодити.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360" y="3141720"/>
            <a:ext cx="81612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Г.Сковорода ставився до Батьківщини? Чи вчив він українців бути патріотами? Чи можна са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Г. Сковороду назвати патріотом Украї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4. Архітектура 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63640" y="4357440"/>
            <a:ext cx="33512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ли і ким була    збудована церква? У чому її особливос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роїцька соборна церква у Новомосковсь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запорізькому місті Сама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Яким Погребняк. Троицкий собор в Новомосковске. Фасад и план."/>
          <p:cNvPicPr/>
          <p:nvPr/>
        </p:nvPicPr>
        <p:blipFill>
          <a:blip r:embed="rId1"/>
          <a:srcRect l="-699" t="0" r="87" b="-108"/>
          <a:stretch/>
        </p:blipFill>
        <p:spPr>
          <a:xfrm>
            <a:off x="5292720" y="98100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2007060901"/>
          <p:cNvPicPr/>
          <p:nvPr/>
        </p:nvPicPr>
        <p:blipFill>
          <a:blip r:embed="rId2"/>
          <a:stretch/>
        </p:blipFill>
        <p:spPr>
          <a:xfrm>
            <a:off x="324000" y="765000"/>
            <a:ext cx="4535280" cy="3843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5143680" y="4071960"/>
            <a:ext cx="3819240" cy="25002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Збу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1773 - 1781 р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ародни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майстром-будівничим</a:t>
            </a:r>
            <a:r>
              <a:rPr b="0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имом Погребня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Архітектура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Церква Всіх Святих зі сторони Економічної вулиці Верхньої лаври."/>
          <p:cNvPicPr/>
          <p:nvPr/>
        </p:nvPicPr>
        <p:blipFill>
          <a:blip r:embed="rId1"/>
          <a:stretch/>
        </p:blipFill>
        <p:spPr>
          <a:xfrm>
            <a:off x="3348000" y="404640"/>
            <a:ext cx="5634000" cy="626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3284640"/>
            <a:ext cx="34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Церква Всіх Святих Києво-Печерської лаври, збудована коштом гетьмана Івана Маз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422100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Георгіївська церква Видубицького монастиря в Києві, збудована коштом стародубського полковника М.Миклашевс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558972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Свято-Преображенський собор у Великих Сорочинцях на Полтавщині, збудований коштом гетьмана Д.Апо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209052870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3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900000" y="126828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Доберіть прикметники,якими можна описати ці х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79280" y="141300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348000" y="404640"/>
            <a:ext cx="5796000" cy="6264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Церква Всіх Святих зі сторони Економічної вулиці Верхньої лаври."/>
          <p:cNvPicPr/>
          <p:nvPr/>
        </p:nvPicPr>
        <p:blipFill>
          <a:blip r:embed="rId4"/>
          <a:stretch/>
        </p:blipFill>
        <p:spPr>
          <a:xfrm>
            <a:off x="3635280" y="549360"/>
            <a:ext cx="2051280" cy="295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209052870"/>
          <p:cNvPicPr/>
          <p:nvPr/>
        </p:nvPicPr>
        <p:blipFill>
          <a:blip r:embed="rId5"/>
          <a:stretch/>
        </p:blipFill>
        <p:spPr>
          <a:xfrm>
            <a:off x="6443640" y="549360"/>
            <a:ext cx="2060640" cy="29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6"/>
          <a:stretch/>
        </p:blipFill>
        <p:spPr>
          <a:xfrm>
            <a:off x="3564000" y="364500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"/>
          <p:cNvSpPr/>
          <p:nvPr/>
        </p:nvSpPr>
        <p:spPr>
          <a:xfrm>
            <a:off x="6012000" y="4005360"/>
            <a:ext cx="2881080" cy="18716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тілювали м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вої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ворців п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майбутнє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928800" y="1285920"/>
            <a:ext cx="2303280" cy="19429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Як ці спору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утверджув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умку про вел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зацьк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ерж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ро які події культурно – освітнього життя ви дізналис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14200" y="1643040"/>
            <a:ext cx="8785440" cy="14191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 діячів української культури враз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ас найбі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428760" y="31431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Яке завдання вирішували діячі української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68360" y="4221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50920" y="4221000"/>
            <a:ext cx="8713800" cy="23050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іячі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захищали українсь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ід впливу чужоземц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71640" y="256536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працювати матеріал підручника В. Власова та О. Данилевсько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§17, с.130 – 1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ідповісти на запитання с.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42920" y="1413000"/>
            <a:ext cx="712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57200" y="1000080"/>
            <a:ext cx="63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лан: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1. Розвиток освіти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2. Видатний козацький літописець Самійло Величк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– великий український філософ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4. Архітек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00000" y="558972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781360"/>
          <a:ext cx="8280360" cy="3024000"/>
        </p:xfrm>
        <a:graphic>
          <a:graphicData uri="http://schemas.openxmlformats.org/drawingml/2006/table">
            <a:tbl>
              <a:tblPr/>
              <a:tblGrid>
                <a:gridCol w="1451160"/>
                <a:gridCol w="1450800"/>
                <a:gridCol w="2903760"/>
                <a:gridCol w="247464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6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, 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ч Поспол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 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і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, католиц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ко – католиц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ніатсь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3"/>
          <p:cNvSpPr/>
          <p:nvPr/>
        </p:nvSpPr>
        <p:spPr>
          <a:xfrm>
            <a:off x="1000080" y="571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иберіть відповідні дати, назви, історичні події та складіть правильні твердж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50920" y="620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Українські землі в </a:t>
            </a:r>
            <a:r>
              <a:rPr b="1" lang="en-US" sz="2800" spc="-1" strike="noStrike">
                <a:solidFill>
                  <a:srgbClr val="0837bc"/>
                </a:solidFill>
                <a:latin typeface="Arial Black"/>
              </a:rPr>
              <a:t>XVI – XVII </a:t>
            </a: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ст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-47" b="78"/>
          <a:stretch/>
        </p:blipFill>
        <p:spPr>
          <a:xfrm>
            <a:off x="0" y="104472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244080"/>
            <a:ext cx="785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беріть правильні твердження та схарактеризуйте становище українських земель у складі Речі Посполитої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35728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берігалося правосл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саджувалися католицька та греко- католицька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яли закони “Руської Правд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оронялася українська 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повсюджувалися українські звичаї та тради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ипинялася діяльність українського законода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332000" y="1773360"/>
            <a:ext cx="64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значте, яку подію характеризує ця схема.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76720" y="2133720"/>
            <a:ext cx="2663640" cy="13460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6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03280" y="4437000"/>
            <a:ext cx="273708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4437000"/>
            <a:ext cx="2735280" cy="936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тьман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716360" y="35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3058920" y="350028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333360"/>
            <a:ext cx="7893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За опорними словами укажіть наслідки Андрусівського договору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йн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я, Польща, обмеження  прав України, Поділ  України на Лівобережну та Правобережну, Руї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54:17Z</dcterms:created>
  <dc:creator>User</dc:creator>
  <dc:description/>
  <dc:language>en-US</dc:language>
  <cp:lastModifiedBy>User</cp:lastModifiedBy>
  <dcterms:modified xsi:type="dcterms:W3CDTF">2015-01-27T19:26:46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3000000000001024140</vt:lpwstr>
  </property>
</Properties>
</file>