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5B36-6DA9-47AB-BA1A-33B5C62F0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0D04-BE17-42E9-B924-0CF95659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91CC-5C19-41C5-A58C-74AA56DFD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5D19-60EE-41EA-9BAA-CD1593E9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0E48-7D16-40FC-BD7C-A1B0B315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E938-E32C-4500-8848-CBDAB61B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9990-963E-4A69-BAF2-49494C17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5C88-C85F-4048-9336-DEA66646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5636-E1AF-4F91-8D25-008E4ADC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B2FA-F536-4CB0-8794-DCDBDE12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0AE1-B90E-4BDC-BB4A-30736782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87F6-9B71-4275-A90A-D5CE805D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3FB4-C0CB-42F3-8304-451F4282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601A-71CB-458A-8FA1-EA4972A1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5232-8C92-4F62-BF9D-E1B056D2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1C01-20D5-4C65-9484-DC1BF9D1A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A8B3-FB51-4B5E-9FBB-337255A7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CC57-379E-4E9C-B2CC-DF12F913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8F2A-FF93-4D06-B3CB-1353139D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723C-72A8-4AEA-9B8D-33E7ED6E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C5A3-7C3D-4B03-B400-5C52E8BE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0666-A28A-4651-9DC3-2E98E945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454B-2CEC-4EBA-9E1D-DF7D52E9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95EB-F375-430C-A3A6-4E1B5397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500D-70F1-4FC1-AB5B-C42B17F43E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C869-C831-41D4-8697-50A8BF7EE1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837bc"/>
                </a:solidFill>
                <a:latin typeface="Arial Black"/>
                <a:ea typeface="Times New Roman"/>
              </a:rPr>
              <a:t>Миколаївська загальноосвітня школа</a:t>
            </a:r>
            <a:br>
              <a:rPr sz="1400"/>
            </a:br>
            <a:r>
              <a:rPr b="1" i="1" lang="uk-UA" sz="1400" spc="-1" strike="noStrike">
                <a:solidFill>
                  <a:srgbClr val="0837bc"/>
                </a:solidFill>
                <a:latin typeface="Arial Black"/>
                <a:ea typeface="Times New Roman"/>
              </a:rPr>
              <a:t>І – ІІІ ступенів № 36</a:t>
            </a:r>
            <a:br>
              <a:rPr sz="1400"/>
            </a:br>
            <a:r>
              <a:rPr b="1" i="1" lang="uk-UA" sz="1400" spc="-1" strike="noStrike">
                <a:solidFill>
                  <a:srgbClr val="0837bc"/>
                </a:solidFill>
                <a:latin typeface="Arial Black"/>
                <a:ea typeface="Times New Roman"/>
              </a:rPr>
              <a:t>Миколаївської міської ради</a:t>
            </a:r>
            <a:br>
              <a:rPr sz="1400"/>
            </a:br>
            <a:r>
              <a:rPr b="1" i="1" lang="uk-UA" sz="1400" spc="-1" strike="noStrike">
                <a:solidFill>
                  <a:srgbClr val="0837bc"/>
                </a:solidFill>
                <a:latin typeface="Arial Black"/>
                <a:ea typeface="Times New Roman"/>
              </a:rPr>
              <a:t>Миколаївської області</a:t>
            </a: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Конспект уроку з історії України для 5 класу за програмою «Історія України. Вступ до історії» (К., Перун. 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Тема уроку : Культура України </a:t>
            </a:r>
            <a:r>
              <a:rPr b="1" lang="en-US" sz="2000" spc="-1" strike="noStrike">
                <a:solidFill>
                  <a:srgbClr val="0837bc"/>
                </a:solidFill>
                <a:latin typeface="Arial"/>
              </a:rPr>
              <a:t>XVI</a:t>
            </a:r>
            <a:r>
              <a:rPr b="1" lang="ru-RU" sz="2000" spc="-1" strike="noStrike">
                <a:solidFill>
                  <a:srgbClr val="0837bc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837bc"/>
                </a:solidFill>
                <a:latin typeface="Arial"/>
              </a:rPr>
              <a:t>XVIII </a:t>
            </a: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837bc"/>
                </a:solidFill>
                <a:latin typeface="Arial"/>
              </a:rPr>
              <a:t>Автор:</a:t>
            </a:r>
            <a:r>
              <a:rPr b="0" lang="uk-UA" sz="1800" spc="-1" strike="noStrike">
                <a:solidFill>
                  <a:srgbClr val="0837bc"/>
                </a:solidFill>
                <a:latin typeface="Arial"/>
              </a:rPr>
              <a:t> Олійникова Світлана Петрівна, учитель істор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37bc"/>
                </a:solidFill>
                <a:latin typeface="Arial"/>
              </a:rPr>
              <a:t>Кваліфікаційна категорія - вчитель вищої категорії, звання - старший вчитель, стаж роботи – 28 рок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2" descr="Герб.jpg"/>
          <p:cNvPicPr/>
          <p:nvPr/>
        </p:nvPicPr>
        <p:blipFill>
          <a:blip r:embed="rId1"/>
          <a:stretch/>
        </p:blipFill>
        <p:spPr>
          <a:xfrm>
            <a:off x="714240" y="357120"/>
            <a:ext cx="1285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152280" y="15336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 Black"/>
              </a:rPr>
              <a:t>Турецько-татарські напади на українські земл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0" y="20574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Я С И 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0" y="35719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Я Н И Ч А 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0" y="69228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 П У С Т О Ш Е Н Н 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 Е М Е Л Ь  ТА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 У Й Н А Ц І 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0" y="27432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ГАРЕМ,  СЛУЖНИЦ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0" y="314316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 А Т О Р Г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0" y="4286160"/>
            <a:ext cx="3357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0000"/>
                </a:solidFill>
                <a:uFillTx/>
                <a:latin typeface="Arial Black"/>
              </a:rPr>
              <a:t>З А Г Р О З А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0000"/>
                </a:solidFill>
                <a:uFillTx/>
                <a:latin typeface="Arial Black"/>
              </a:rPr>
              <a:t>І С Н У В А Н Н Ю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0000"/>
                </a:solidFill>
                <a:uFillTx/>
                <a:latin typeface="Arial Black"/>
              </a:rPr>
              <a:t>У К Р А Ї Н С Ь К О Г 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0000"/>
                </a:solidFill>
                <a:uFillTx/>
                <a:latin typeface="Arial Black"/>
              </a:rPr>
              <a:t>Н А Р О Д 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1"/>
          <a:stretch/>
        </p:blipFill>
        <p:spPr>
          <a:xfrm>
            <a:off x="3429000" y="857160"/>
            <a:ext cx="5440320" cy="5143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гарем5"/>
          <p:cNvPicPr/>
          <p:nvPr/>
        </p:nvPicPr>
        <p:blipFill>
          <a:blip r:embed="rId2"/>
          <a:stretch/>
        </p:blipFill>
        <p:spPr>
          <a:xfrm>
            <a:off x="3429000" y="857160"/>
            <a:ext cx="5462640" cy="5143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мальтійська галера"/>
          <p:cNvPicPr/>
          <p:nvPr/>
        </p:nvPicPr>
        <p:blipFill>
          <a:blip r:embed="rId3"/>
          <a:stretch/>
        </p:blipFill>
        <p:spPr>
          <a:xfrm>
            <a:off x="3429000" y="857160"/>
            <a:ext cx="5500800" cy="5143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"/>
          <p:cNvPicPr/>
          <p:nvPr/>
        </p:nvPicPr>
        <p:blipFill>
          <a:blip r:embed="rId4"/>
          <a:stretch/>
        </p:blipFill>
        <p:spPr>
          <a:xfrm>
            <a:off x="3429000" y="857160"/>
            <a:ext cx="5470560" cy="5143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султан Мурад4 с яничарами"/>
          <p:cNvPicPr/>
          <p:nvPr/>
        </p:nvPicPr>
        <p:blipFill>
          <a:blip r:embed="rId5"/>
          <a:stretch/>
        </p:blipFill>
        <p:spPr>
          <a:xfrm>
            <a:off x="3357720" y="857160"/>
            <a:ext cx="5572080" cy="5143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"/>
          <p:cNvPicPr/>
          <p:nvPr/>
        </p:nvPicPr>
        <p:blipFill>
          <a:blip r:embed="rId6"/>
          <a:srcRect l="0" t="0" r="-49" b="188"/>
          <a:stretch/>
        </p:blipFill>
        <p:spPr>
          <a:xfrm>
            <a:off x="3357720" y="857160"/>
            <a:ext cx="55720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837bc"/>
                </a:solidFill>
                <a:latin typeface="Arial Black"/>
              </a:rPr>
              <a:t>Умови розвитку культури: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4920" y="1904760"/>
            <a:ext cx="8450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З А Г Р О З А  І С Н У В А Н Н Ю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У К Р А Ї Н С Ь К О Г О  Н А Р О Д 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692360" y="4149720"/>
            <a:ext cx="5976720" cy="2209680"/>
          </a:xfrm>
          <a:prstGeom prst="rect">
            <a:avLst/>
          </a:prstGeom>
          <a:solidFill>
            <a:srgbClr val="f5f2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Яке завдання вирішували діяч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української культу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в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VI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VIII </a:t>
            </a: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ст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28880" indent="-1028880">
              <a:lnSpc>
                <a:spcPct val="95000"/>
              </a:lnSpc>
              <a:buClr>
                <a:srgbClr val="0837b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Розвиток освіти. § 17</a:t>
            </a:r>
            <a:r>
              <a:rPr b="1" lang="ru-RU" sz="2800" spc="-1" strike="noStrike">
                <a:solidFill>
                  <a:srgbClr val="0837bc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С. 130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Братські школи.</a:t>
            </a:r>
            <a:br>
              <a:rPr sz="2800"/>
            </a:br>
            <a:br>
              <a:rPr sz="2800"/>
            </a:b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Сформулюйте 2 – 3 запитання до тексту та дайте відповіді на них.</a:t>
            </a:r>
            <a:br>
              <a:rPr sz="2400"/>
            </a:b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84360" y="4653000"/>
            <a:ext cx="7777080" cy="1490760"/>
          </a:xfrm>
          <a:prstGeom prst="rect">
            <a:avLst/>
          </a:prstGeom>
          <a:solidFill>
            <a:srgbClr val="f5f2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Братські школи зробили освіту досяжно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для багатьох українц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324000" y="2060640"/>
            <a:ext cx="649080" cy="82692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826920"/>
              <a:gd name="textAreaBottom" fmla="*/ 785160 h 826920"/>
            </a:gdLst>
            <a:ahLst/>
            <a:rect l="textAreaLeft" t="textAreaTop" r="textAreaRight" b="textAreaBottom"/>
            <a:pathLst>
              <a:path w="21600" h="27515">
                <a:moveTo>
                  <a:pt x="0" y="0"/>
                </a:moveTo>
                <a:lnTo>
                  <a:pt x="21600" y="0"/>
                </a:lnTo>
                <a:lnTo>
                  <a:pt x="21600" y="27515"/>
                </a:lnTo>
                <a:lnTo>
                  <a:pt x="0" y="27515"/>
                </a:lnTo>
                <a:close/>
              </a:path>
              <a:path fill="lightenLess" w="21600" h="275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15">
                <a:moveTo>
                  <a:pt x="21600" y="0"/>
                </a:moveTo>
                <a:lnTo>
                  <a:pt x="21600" y="27515"/>
                </a:lnTo>
                <a:lnTo>
                  <a:pt x="20200" y="26115"/>
                </a:lnTo>
                <a:lnTo>
                  <a:pt x="20200" y="1400"/>
                </a:lnTo>
                <a:close/>
              </a:path>
              <a:path fill="darkenLess" w="21600" h="27515">
                <a:moveTo>
                  <a:pt x="21600" y="27515"/>
                </a:moveTo>
                <a:lnTo>
                  <a:pt x="0" y="27515"/>
                </a:lnTo>
                <a:lnTo>
                  <a:pt x="1400" y="26115"/>
                </a:lnTo>
                <a:lnTo>
                  <a:pt x="20200" y="26115"/>
                </a:lnTo>
                <a:close/>
              </a:path>
              <a:path fill="lighten" w="21600" h="27515">
                <a:moveTo>
                  <a:pt x="0" y="275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15"/>
                </a:lnTo>
                <a:close/>
              </a:path>
              <a:path fill="darken" w="21600" h="27515">
                <a:moveTo>
                  <a:pt x="10800" y="1776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15">
                <a:moveTo>
                  <a:pt x="11905" y="17239"/>
                </a:moveTo>
                <a:lnTo>
                  <a:pt x="11905" y="15281"/>
                </a:lnTo>
                <a:cubicBezTo>
                  <a:pt x="11905" y="14454"/>
                  <a:pt x="12236" y="13757"/>
                  <a:pt x="12837" y="13757"/>
                </a:cubicBezTo>
                <a:cubicBezTo>
                  <a:pt x="13968" y="13757"/>
                  <a:pt x="14865" y="12391"/>
                  <a:pt x="14865" y="10807"/>
                </a:cubicBezTo>
                <a:cubicBezTo>
                  <a:pt x="14865" y="8492"/>
                  <a:pt x="13011" y="6751"/>
                  <a:pt x="10800" y="6751"/>
                </a:cubicBezTo>
                <a:cubicBezTo>
                  <a:pt x="8589" y="6751"/>
                  <a:pt x="6918" y="8492"/>
                  <a:pt x="6918" y="10807"/>
                </a:cubicBezTo>
                <a:lnTo>
                  <a:pt x="8772" y="10807"/>
                </a:lnTo>
                <a:cubicBezTo>
                  <a:pt x="8772" y="9667"/>
                  <a:pt x="9695" y="8779"/>
                  <a:pt x="10800" y="8779"/>
                </a:cubicBezTo>
                <a:cubicBezTo>
                  <a:pt x="11905" y="8779"/>
                  <a:pt x="12837" y="9667"/>
                  <a:pt x="12837" y="10807"/>
                </a:cubicBezTo>
                <a:cubicBezTo>
                  <a:pt x="12837" y="11547"/>
                  <a:pt x="12367" y="12278"/>
                  <a:pt x="11905" y="12278"/>
                </a:cubicBezTo>
                <a:cubicBezTo>
                  <a:pt x="10800" y="12278"/>
                  <a:pt x="9695" y="13757"/>
                  <a:pt x="9695" y="15281"/>
                </a:cubicBezTo>
                <a:lnTo>
                  <a:pt x="9695" y="17239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116000" y="3068640"/>
            <a:ext cx="6913440" cy="1152360"/>
          </a:xfrm>
          <a:prstGeom prst="rect">
            <a:avLst/>
          </a:prstGeom>
          <a:solidFill>
            <a:srgbClr val="f5f2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Яке значення мали братські школи? </a:t>
            </a:r>
            <a:br>
              <a:rPr sz="24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99640" y="1052280"/>
            <a:ext cx="8015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Хто зображений на портреті?</a:t>
            </a: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У чому полягає просвітницька діяльність цієї людини?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3362040" cy="4176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716360" y="2781000"/>
            <a:ext cx="4200480" cy="3686040"/>
          </a:xfrm>
          <a:prstGeom prst="rect">
            <a:avLst/>
          </a:prstGeom>
          <a:solidFill>
            <a:srgbClr val="f5f272"/>
          </a:solidFill>
          <a:ln w="0">
            <a:noFill/>
          </a:ln>
        </p:spPr>
        <p:txBody>
          <a:bodyPr anchor="t">
            <a:normAutofit/>
          </a:bodyPr>
          <a:p>
            <a:pPr marL="9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У своєму маєтку в Острозі заснував друкарню, академі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Острозька академія не поступалася європейським університет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250920" y="189000"/>
            <a:ext cx="41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Вища осві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179280" y="1052640"/>
            <a:ext cx="649440" cy="82692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826920"/>
              <a:gd name="textAreaBottom" fmla="*/ 785160 h 826920"/>
            </a:gdLst>
            <a:ahLst/>
            <a:rect l="textAreaLeft" t="textAreaTop" r="textAreaRight" b="textAreaBottom"/>
            <a:pathLst>
              <a:path w="21600" h="27500">
                <a:moveTo>
                  <a:pt x="0" y="0"/>
                </a:moveTo>
                <a:lnTo>
                  <a:pt x="21600" y="0"/>
                </a:lnTo>
                <a:lnTo>
                  <a:pt x="21600" y="27500"/>
                </a:lnTo>
                <a:lnTo>
                  <a:pt x="0" y="27500"/>
                </a:lnTo>
                <a:close/>
              </a:path>
              <a:path fill="lightenLess" w="21600" h="275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00">
                <a:moveTo>
                  <a:pt x="21600" y="0"/>
                </a:moveTo>
                <a:lnTo>
                  <a:pt x="21600" y="27500"/>
                </a:lnTo>
                <a:lnTo>
                  <a:pt x="20200" y="26100"/>
                </a:lnTo>
                <a:lnTo>
                  <a:pt x="20200" y="1400"/>
                </a:lnTo>
                <a:close/>
              </a:path>
              <a:path fill="darkenLess" w="21600" h="27500">
                <a:moveTo>
                  <a:pt x="21600" y="27500"/>
                </a:moveTo>
                <a:lnTo>
                  <a:pt x="0" y="27500"/>
                </a:lnTo>
                <a:lnTo>
                  <a:pt x="1400" y="26100"/>
                </a:lnTo>
                <a:lnTo>
                  <a:pt x="20200" y="26100"/>
                </a:lnTo>
                <a:close/>
              </a:path>
              <a:path fill="lighten" w="21600" h="27500">
                <a:moveTo>
                  <a:pt x="0" y="275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00"/>
                </a:lnTo>
                <a:close/>
              </a:path>
              <a:path fill="darken" w="21600" h="27500">
                <a:moveTo>
                  <a:pt x="10800" y="1775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00">
                <a:moveTo>
                  <a:pt x="11905" y="17231"/>
                </a:moveTo>
                <a:lnTo>
                  <a:pt x="11905" y="15273"/>
                </a:lnTo>
                <a:cubicBezTo>
                  <a:pt x="11905" y="14446"/>
                  <a:pt x="12236" y="13750"/>
                  <a:pt x="12837" y="13750"/>
                </a:cubicBezTo>
                <a:cubicBezTo>
                  <a:pt x="13968" y="13750"/>
                  <a:pt x="14865" y="12383"/>
                  <a:pt x="14865" y="10799"/>
                </a:cubicBezTo>
                <a:cubicBezTo>
                  <a:pt x="14865" y="8484"/>
                  <a:pt x="13011" y="6743"/>
                  <a:pt x="10800" y="6743"/>
                </a:cubicBezTo>
                <a:cubicBezTo>
                  <a:pt x="8589" y="6743"/>
                  <a:pt x="6918" y="8484"/>
                  <a:pt x="6918" y="10799"/>
                </a:cubicBezTo>
                <a:lnTo>
                  <a:pt x="8772" y="10799"/>
                </a:lnTo>
                <a:cubicBezTo>
                  <a:pt x="8772" y="9659"/>
                  <a:pt x="9695" y="8771"/>
                  <a:pt x="10800" y="8771"/>
                </a:cubicBezTo>
                <a:cubicBezTo>
                  <a:pt x="11905" y="8771"/>
                  <a:pt x="12837" y="9659"/>
                  <a:pt x="12837" y="10799"/>
                </a:cubicBezTo>
                <a:cubicBezTo>
                  <a:pt x="12837" y="11539"/>
                  <a:pt x="12367" y="12270"/>
                  <a:pt x="11905" y="12270"/>
                </a:cubicBezTo>
                <a:cubicBezTo>
                  <a:pt x="10800" y="12270"/>
                  <a:pt x="9695" y="13750"/>
                  <a:pt x="9695" y="15273"/>
                </a:cubicBezTo>
                <a:lnTo>
                  <a:pt x="9695" y="17231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2920" y="5013000"/>
            <a:ext cx="78501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Як виникла Київська колегія</a:t>
            </a:r>
            <a:r>
              <a:rPr b="1" lang="uk-UA" sz="2400" spc="-1" strike="noStrike">
                <a:solidFill>
                  <a:srgbClr val="0837bc"/>
                </a:solidFill>
                <a:latin typeface="Arial Black"/>
              </a:rPr>
              <a:t> </a:t>
            </a: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(Києво-Могилянська академія)? Яке значення мала Київська колегія для розвитку освіти?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Рисунок 4" descr="kiyevo-mogilyanska-akademiya_1.jpg"/>
          <p:cNvPicPr/>
          <p:nvPr/>
        </p:nvPicPr>
        <p:blipFill>
          <a:blip r:embed="rId1"/>
          <a:stretch/>
        </p:blipFill>
        <p:spPr>
          <a:xfrm>
            <a:off x="4716360" y="584280"/>
            <a:ext cx="4176720" cy="3852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Києво-Могилянська академія"/>
          <p:cNvPicPr/>
          <p:nvPr/>
        </p:nvPicPr>
        <p:blipFill>
          <a:blip r:embed="rId2"/>
          <a:stretch/>
        </p:blipFill>
        <p:spPr>
          <a:xfrm>
            <a:off x="250920" y="620640"/>
            <a:ext cx="4270320" cy="374508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10"/>
          <p:cNvSpPr/>
          <p:nvPr/>
        </p:nvSpPr>
        <p:spPr>
          <a:xfrm>
            <a:off x="179280" y="4941720"/>
            <a:ext cx="649440" cy="82728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827280"/>
              <a:gd name="textAreaBottom" fmla="*/ 785520 h 827280"/>
            </a:gdLst>
            <a:ahLst/>
            <a:rect l="textAreaLeft" t="textAreaTop" r="textAreaRight" b="textAreaBottom"/>
            <a:pathLst>
              <a:path w="21600" h="27512">
                <a:moveTo>
                  <a:pt x="0" y="0"/>
                </a:moveTo>
                <a:lnTo>
                  <a:pt x="21600" y="0"/>
                </a:lnTo>
                <a:lnTo>
                  <a:pt x="21600" y="27512"/>
                </a:lnTo>
                <a:lnTo>
                  <a:pt x="0" y="27512"/>
                </a:lnTo>
                <a:close/>
              </a:path>
              <a:path fill="lightenLess" w="21600" h="275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12">
                <a:moveTo>
                  <a:pt x="21600" y="0"/>
                </a:moveTo>
                <a:lnTo>
                  <a:pt x="21600" y="27512"/>
                </a:lnTo>
                <a:lnTo>
                  <a:pt x="20200" y="26112"/>
                </a:lnTo>
                <a:lnTo>
                  <a:pt x="20200" y="1400"/>
                </a:lnTo>
                <a:close/>
              </a:path>
              <a:path fill="darkenLess" w="21600" h="27512">
                <a:moveTo>
                  <a:pt x="21600" y="27512"/>
                </a:moveTo>
                <a:lnTo>
                  <a:pt x="0" y="27512"/>
                </a:lnTo>
                <a:lnTo>
                  <a:pt x="1400" y="26112"/>
                </a:lnTo>
                <a:lnTo>
                  <a:pt x="20200" y="26112"/>
                </a:lnTo>
                <a:close/>
              </a:path>
              <a:path fill="lighten" w="21600" h="27512">
                <a:moveTo>
                  <a:pt x="0" y="275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12"/>
                </a:lnTo>
                <a:close/>
              </a:path>
              <a:path fill="darken" w="21600" h="27512">
                <a:moveTo>
                  <a:pt x="10800" y="1775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12">
                <a:moveTo>
                  <a:pt x="11905" y="17237"/>
                </a:moveTo>
                <a:lnTo>
                  <a:pt x="11905" y="15279"/>
                </a:lnTo>
                <a:cubicBezTo>
                  <a:pt x="11905" y="14452"/>
                  <a:pt x="12236" y="13756"/>
                  <a:pt x="12837" y="13756"/>
                </a:cubicBezTo>
                <a:cubicBezTo>
                  <a:pt x="13968" y="13756"/>
                  <a:pt x="14865" y="12389"/>
                  <a:pt x="14865" y="10805"/>
                </a:cubicBezTo>
                <a:cubicBezTo>
                  <a:pt x="14865" y="8490"/>
                  <a:pt x="13011" y="6749"/>
                  <a:pt x="10800" y="6749"/>
                </a:cubicBezTo>
                <a:cubicBezTo>
                  <a:pt x="8589" y="6749"/>
                  <a:pt x="6918" y="8490"/>
                  <a:pt x="6918" y="10805"/>
                </a:cubicBezTo>
                <a:lnTo>
                  <a:pt x="8772" y="10805"/>
                </a:lnTo>
                <a:cubicBezTo>
                  <a:pt x="8772" y="9665"/>
                  <a:pt x="9695" y="8777"/>
                  <a:pt x="10800" y="8777"/>
                </a:cubicBezTo>
                <a:cubicBezTo>
                  <a:pt x="11905" y="8777"/>
                  <a:pt x="12837" y="9665"/>
                  <a:pt x="12837" y="10805"/>
                </a:cubicBezTo>
                <a:cubicBezTo>
                  <a:pt x="12837" y="11545"/>
                  <a:pt x="12367" y="12276"/>
                  <a:pt x="11905" y="12276"/>
                </a:cubicBezTo>
                <a:cubicBezTo>
                  <a:pt x="10800" y="12276"/>
                  <a:pt x="9695" y="13756"/>
                  <a:pt x="9695" y="15279"/>
                </a:cubicBezTo>
                <a:lnTo>
                  <a:pt x="9695" y="17237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220px-Petro_Mohyla-_big"/>
          <p:cNvPicPr/>
          <p:nvPr/>
        </p:nvPicPr>
        <p:blipFill>
          <a:blip r:embed="rId1"/>
          <a:stretch/>
        </p:blipFill>
        <p:spPr>
          <a:xfrm>
            <a:off x="250920" y="765000"/>
            <a:ext cx="3109680" cy="46818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19280" y="333000"/>
            <a:ext cx="5545080" cy="53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Петро Могила (1596 – 1647) - </a:t>
            </a:r>
            <a:br>
              <a:rPr sz="2400"/>
            </a:b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настоятель Києво -Печерської лаври, митрополит Київський і Галицький.</a:t>
            </a:r>
            <a:br>
              <a:rPr sz="2400"/>
            </a:br>
            <a:br>
              <a:rPr sz="2400"/>
            </a:b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 Black"/>
              </a:rPr>
              <a:t>               </a:t>
            </a:r>
            <a:r>
              <a:rPr b="1" lang="uk-UA" sz="2400" spc="-1" strike="noStrike">
                <a:solidFill>
                  <a:srgbClr val="0837bc"/>
                </a:solidFill>
                <a:latin typeface="Arial Black"/>
              </a:rPr>
              <a:t>1632 р.</a:t>
            </a:r>
            <a:br>
              <a:rPr sz="2800"/>
            </a:br>
            <a:br>
              <a:rPr sz="3600"/>
            </a:br>
            <a:br>
              <a:rPr sz="3600"/>
            </a:br>
            <a:br>
              <a:rPr sz="3600"/>
            </a:b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3564000" y="2133720"/>
            <a:ext cx="1800000" cy="136656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иївсь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братсь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6877080" y="2205000"/>
            <a:ext cx="1800360" cy="136836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иєво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ечерсько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лав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4932360" y="4076640"/>
            <a:ext cx="2376360" cy="105876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иївсь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олегія (академі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AutoShape 7"/>
          <p:cNvCxnSpPr>
            <a:stCxn id="159" idx="1"/>
            <a:endCxn id="159" idx="1"/>
          </p:cNvCxnSpPr>
          <p:nvPr/>
        </p:nvCxnSpPr>
        <p:spPr>
          <a:xfrm>
            <a:off x="3419280" y="29984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4" name="Line 13"/>
          <p:cNvSpPr/>
          <p:nvPr/>
        </p:nvSpPr>
        <p:spPr>
          <a:xfrm>
            <a:off x="5364000" y="335772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7"/>
          <p:cNvSpPr/>
          <p:nvPr/>
        </p:nvSpPr>
        <p:spPr>
          <a:xfrm>
            <a:off x="5364000" y="3357720"/>
            <a:ext cx="72072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8"/>
          <p:cNvSpPr/>
          <p:nvPr/>
        </p:nvSpPr>
        <p:spPr>
          <a:xfrm flipH="1">
            <a:off x="6300360" y="3357720"/>
            <a:ext cx="57636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0"/>
          <p:cNvSpPr/>
          <p:nvPr/>
        </p:nvSpPr>
        <p:spPr>
          <a:xfrm>
            <a:off x="1403280" y="5661000"/>
            <a:ext cx="6840720" cy="914400"/>
          </a:xfrm>
          <a:prstGeom prst="rect">
            <a:avLst/>
          </a:prstGeom>
          <a:solidFill>
            <a:srgbClr val="f5f2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Києво – Могилянська академія була подібна д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європейського університе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2. Самійло Величко ( 1670 – 1728 )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Закінчив Києво-Могилянську академію, де вивчив латину й чотири іноземні мови.</a:t>
            </a:r>
            <a:br>
              <a:rPr sz="2400"/>
            </a:br>
            <a:r>
              <a:rPr b="1" lang="ru-RU" sz="4000" spc="-1" strike="noStrike">
                <a:solidFill>
                  <a:srgbClr val="0837bc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0920" y="2421000"/>
            <a:ext cx="3960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216400" y="220500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Чим уславив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Самійло Величк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С.1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DSC_0678.jpg"/>
          <p:cNvPicPr/>
          <p:nvPr/>
        </p:nvPicPr>
        <p:blipFill>
          <a:blip r:embed="rId1"/>
          <a:stretch/>
        </p:blipFill>
        <p:spPr>
          <a:xfrm>
            <a:off x="0" y="2349360"/>
            <a:ext cx="4321080" cy="431964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8"/>
          <p:cNvSpPr/>
          <p:nvPr/>
        </p:nvSpPr>
        <p:spPr>
          <a:xfrm>
            <a:off x="4572000" y="2276640"/>
            <a:ext cx="649440" cy="82692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826920"/>
              <a:gd name="textAreaBottom" fmla="*/ 785160 h 826920"/>
            </a:gdLst>
            <a:ahLst/>
            <a:rect l="textAreaLeft" t="textAreaTop" r="textAreaRight" b="textAreaBottom"/>
            <a:pathLst>
              <a:path w="21600" h="27500">
                <a:moveTo>
                  <a:pt x="0" y="0"/>
                </a:moveTo>
                <a:lnTo>
                  <a:pt x="21600" y="0"/>
                </a:lnTo>
                <a:lnTo>
                  <a:pt x="21600" y="27500"/>
                </a:lnTo>
                <a:lnTo>
                  <a:pt x="0" y="27500"/>
                </a:lnTo>
                <a:close/>
              </a:path>
              <a:path fill="lightenLess" w="21600" h="275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00">
                <a:moveTo>
                  <a:pt x="21600" y="0"/>
                </a:moveTo>
                <a:lnTo>
                  <a:pt x="21600" y="27500"/>
                </a:lnTo>
                <a:lnTo>
                  <a:pt x="20200" y="26100"/>
                </a:lnTo>
                <a:lnTo>
                  <a:pt x="20200" y="1400"/>
                </a:lnTo>
                <a:close/>
              </a:path>
              <a:path fill="darkenLess" w="21600" h="27500">
                <a:moveTo>
                  <a:pt x="21600" y="27500"/>
                </a:moveTo>
                <a:lnTo>
                  <a:pt x="0" y="27500"/>
                </a:lnTo>
                <a:lnTo>
                  <a:pt x="1400" y="26100"/>
                </a:lnTo>
                <a:lnTo>
                  <a:pt x="20200" y="26100"/>
                </a:lnTo>
                <a:close/>
              </a:path>
              <a:path fill="lighten" w="21600" h="27500">
                <a:moveTo>
                  <a:pt x="0" y="275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00"/>
                </a:lnTo>
                <a:close/>
              </a:path>
              <a:path fill="darken" w="21600" h="27500">
                <a:moveTo>
                  <a:pt x="10800" y="1775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00">
                <a:moveTo>
                  <a:pt x="11905" y="17231"/>
                </a:moveTo>
                <a:lnTo>
                  <a:pt x="11905" y="15273"/>
                </a:lnTo>
                <a:cubicBezTo>
                  <a:pt x="11905" y="14446"/>
                  <a:pt x="12236" y="13750"/>
                  <a:pt x="12837" y="13750"/>
                </a:cubicBezTo>
                <a:cubicBezTo>
                  <a:pt x="13968" y="13750"/>
                  <a:pt x="14865" y="12383"/>
                  <a:pt x="14865" y="10799"/>
                </a:cubicBezTo>
                <a:cubicBezTo>
                  <a:pt x="14865" y="8484"/>
                  <a:pt x="13011" y="6743"/>
                  <a:pt x="10800" y="6743"/>
                </a:cubicBezTo>
                <a:cubicBezTo>
                  <a:pt x="8589" y="6743"/>
                  <a:pt x="6918" y="8484"/>
                  <a:pt x="6918" y="10799"/>
                </a:cubicBezTo>
                <a:lnTo>
                  <a:pt x="8772" y="10799"/>
                </a:lnTo>
                <a:cubicBezTo>
                  <a:pt x="8772" y="9659"/>
                  <a:pt x="9695" y="8771"/>
                  <a:pt x="10800" y="8771"/>
                </a:cubicBezTo>
                <a:cubicBezTo>
                  <a:pt x="11905" y="8771"/>
                  <a:pt x="12837" y="9659"/>
                  <a:pt x="12837" y="10799"/>
                </a:cubicBezTo>
                <a:cubicBezTo>
                  <a:pt x="12837" y="11539"/>
                  <a:pt x="12367" y="12270"/>
                  <a:pt x="11905" y="12270"/>
                </a:cubicBezTo>
                <a:cubicBezTo>
                  <a:pt x="10800" y="12270"/>
                  <a:pt x="9695" y="13750"/>
                  <a:pt x="9695" y="15273"/>
                </a:cubicBezTo>
                <a:lnTo>
                  <a:pt x="9695" y="17231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244080"/>
            <a:ext cx="8640720" cy="13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Самійло Величко – </a:t>
            </a: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автор</a:t>
            </a: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козацького літопису, що охоплює період з 1648 до 1700 року.</a:t>
            </a:r>
            <a:r>
              <a:rPr b="0" lang="ru-RU" sz="2800" spc="-1" strike="noStrike">
                <a:solidFill>
                  <a:srgbClr val="0837bc"/>
                </a:solidFill>
                <a:latin typeface="Arial Black"/>
              </a:rPr>
              <a:t> </a:t>
            </a:r>
            <a:br>
              <a:rPr sz="2800"/>
            </a:br>
            <a:r>
              <a:rPr b="1" lang="ru-RU" sz="2000" spc="-1" strike="noStrike">
                <a:solidFill>
                  <a:srgbClr val="0837bc"/>
                </a:solidFill>
                <a:latin typeface="Arial"/>
              </a:rPr>
              <a:t>(Літопис Величка написаний українською літературною мовою </a:t>
            </a:r>
            <a:r>
              <a:rPr b="1" lang="en-US" sz="2000" spc="-1" strike="noStrike">
                <a:solidFill>
                  <a:srgbClr val="0837bc"/>
                </a:solidFill>
                <a:latin typeface="Arial"/>
              </a:rPr>
              <a:t>XV</a:t>
            </a: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ІІІ ст.</a:t>
            </a:r>
            <a:r>
              <a:rPr b="1" lang="ru-RU" sz="2000" spc="-1" strike="noStrike">
                <a:solidFill>
                  <a:srgbClr val="0837bc"/>
                </a:solidFill>
                <a:latin typeface="Arial"/>
              </a:rPr>
              <a:t> з елементами народної мови. </a:t>
            </a:r>
            <a:br>
              <a:rPr sz="2000"/>
            </a:br>
            <a:r>
              <a:rPr b="1" lang="ru-RU" sz="2000" spc="-1" strike="noStrike">
                <a:solidFill>
                  <a:srgbClr val="0837bc"/>
                </a:solidFill>
                <a:latin typeface="Arial"/>
              </a:rPr>
              <a:t>Складається з 4 частин. Надрукований у ХІХ ст.)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4" name="Picture 7" descr="185-8-1"/>
          <p:cNvPicPr/>
          <p:nvPr/>
        </p:nvPicPr>
        <p:blipFill>
          <a:blip r:embed="rId1"/>
          <a:stretch/>
        </p:blipFill>
        <p:spPr>
          <a:xfrm>
            <a:off x="2268360" y="2349360"/>
            <a:ext cx="1851120" cy="26654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713880" y="5285880"/>
            <a:ext cx="821556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Працюючи в парах, запропонуйте 2 події, про які обов</a:t>
            </a:r>
            <a:r>
              <a:rPr b="1" lang="en-US" sz="2400" spc="-1" strike="noStrike">
                <a:solidFill>
                  <a:srgbClr val="0837bc"/>
                </a:solidFill>
                <a:latin typeface="Arial"/>
              </a:rPr>
              <a:t>`</a:t>
            </a: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язково треба було б розповісти в літописі. Чому обрали саме ці події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litopys_velychka"/>
          <p:cNvPicPr/>
          <p:nvPr/>
        </p:nvPicPr>
        <p:blipFill>
          <a:blip r:embed="rId2"/>
          <a:stretch/>
        </p:blipFill>
        <p:spPr>
          <a:xfrm>
            <a:off x="324000" y="2349360"/>
            <a:ext cx="1900080" cy="2665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image003"/>
          <p:cNvPicPr/>
          <p:nvPr/>
        </p:nvPicPr>
        <p:blipFill>
          <a:blip r:embed="rId3"/>
          <a:stretch/>
        </p:blipFill>
        <p:spPr>
          <a:xfrm>
            <a:off x="4211640" y="2349360"/>
            <a:ext cx="1751040" cy="26654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1"/>
          <p:cNvSpPr/>
          <p:nvPr/>
        </p:nvSpPr>
        <p:spPr>
          <a:xfrm>
            <a:off x="6012000" y="2492280"/>
            <a:ext cx="2952720" cy="187344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Є припущення, щ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літопи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закінчується подія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1720 ро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0" y="5013360"/>
            <a:ext cx="649440" cy="82692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826920"/>
              <a:gd name="textAreaBottom" fmla="*/ 785160 h 826920"/>
            </a:gdLst>
            <a:ahLst/>
            <a:rect l="textAreaLeft" t="textAreaTop" r="textAreaRight" b="textAreaBottom"/>
            <a:pathLst>
              <a:path w="21600" h="27500">
                <a:moveTo>
                  <a:pt x="0" y="0"/>
                </a:moveTo>
                <a:lnTo>
                  <a:pt x="21600" y="0"/>
                </a:lnTo>
                <a:lnTo>
                  <a:pt x="21600" y="27500"/>
                </a:lnTo>
                <a:lnTo>
                  <a:pt x="0" y="27500"/>
                </a:lnTo>
                <a:close/>
              </a:path>
              <a:path fill="lightenLess" w="21600" h="275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00">
                <a:moveTo>
                  <a:pt x="21600" y="0"/>
                </a:moveTo>
                <a:lnTo>
                  <a:pt x="21600" y="27500"/>
                </a:lnTo>
                <a:lnTo>
                  <a:pt x="20200" y="26100"/>
                </a:lnTo>
                <a:lnTo>
                  <a:pt x="20200" y="1400"/>
                </a:lnTo>
                <a:close/>
              </a:path>
              <a:path fill="darkenLess" w="21600" h="27500">
                <a:moveTo>
                  <a:pt x="21600" y="27500"/>
                </a:moveTo>
                <a:lnTo>
                  <a:pt x="0" y="27500"/>
                </a:lnTo>
                <a:lnTo>
                  <a:pt x="1400" y="26100"/>
                </a:lnTo>
                <a:lnTo>
                  <a:pt x="20200" y="26100"/>
                </a:lnTo>
                <a:close/>
              </a:path>
              <a:path fill="lighten" w="21600" h="27500">
                <a:moveTo>
                  <a:pt x="0" y="275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00"/>
                </a:lnTo>
                <a:close/>
              </a:path>
              <a:path fill="darken" w="21600" h="27500">
                <a:moveTo>
                  <a:pt x="10800" y="1775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00">
                <a:moveTo>
                  <a:pt x="11905" y="17231"/>
                </a:moveTo>
                <a:lnTo>
                  <a:pt x="11905" y="15273"/>
                </a:lnTo>
                <a:cubicBezTo>
                  <a:pt x="11905" y="14446"/>
                  <a:pt x="12236" y="13750"/>
                  <a:pt x="12837" y="13750"/>
                </a:cubicBezTo>
                <a:cubicBezTo>
                  <a:pt x="13968" y="13750"/>
                  <a:pt x="14865" y="12383"/>
                  <a:pt x="14865" y="10799"/>
                </a:cubicBezTo>
                <a:cubicBezTo>
                  <a:pt x="14865" y="8484"/>
                  <a:pt x="13011" y="6743"/>
                  <a:pt x="10800" y="6743"/>
                </a:cubicBezTo>
                <a:cubicBezTo>
                  <a:pt x="8589" y="6743"/>
                  <a:pt x="6918" y="8484"/>
                  <a:pt x="6918" y="10799"/>
                </a:cubicBezTo>
                <a:lnTo>
                  <a:pt x="8772" y="10799"/>
                </a:lnTo>
                <a:cubicBezTo>
                  <a:pt x="8772" y="9659"/>
                  <a:pt x="9695" y="8771"/>
                  <a:pt x="10800" y="8771"/>
                </a:cubicBezTo>
                <a:cubicBezTo>
                  <a:pt x="11905" y="8771"/>
                  <a:pt x="12837" y="9659"/>
                  <a:pt x="12837" y="10799"/>
                </a:cubicBezTo>
                <a:cubicBezTo>
                  <a:pt x="12837" y="11539"/>
                  <a:pt x="12367" y="12270"/>
                  <a:pt x="11905" y="12270"/>
                </a:cubicBezTo>
                <a:cubicBezTo>
                  <a:pt x="10800" y="12270"/>
                  <a:pt x="9695" y="13750"/>
                  <a:pt x="9695" y="15273"/>
                </a:cubicBezTo>
                <a:lnTo>
                  <a:pt x="9695" y="17231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714240" y="5357880"/>
            <a:ext cx="8282160" cy="1201680"/>
          </a:xfrm>
          <a:prstGeom prst="rect">
            <a:avLst/>
          </a:prstGeom>
          <a:solidFill>
            <a:srgbClr val="f5f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Яке значення мав козацький літопи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Самійла Велич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24360" y="2923920"/>
            <a:ext cx="44640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2" name="Picture 6" descr="Файл:Григорий Сковорода.jpg"/>
          <p:cNvPicPr/>
          <p:nvPr/>
        </p:nvPicPr>
        <p:blipFill>
          <a:blip r:embed="rId1"/>
          <a:stretch/>
        </p:blipFill>
        <p:spPr>
          <a:xfrm>
            <a:off x="684360" y="260280"/>
            <a:ext cx="3744720" cy="40323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7"/>
          <p:cNvSpPr/>
          <p:nvPr/>
        </p:nvSpPr>
        <p:spPr>
          <a:xfrm>
            <a:off x="324000" y="4941720"/>
            <a:ext cx="85690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3. Григорій Сковорода (1722 - 1794)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композитор, поет, науковець, філософ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837bc"/>
                </a:solidFill>
                <a:latin typeface="Arial"/>
              </a:rPr>
              <a:t>(філософія в перекладі з грецької означає любов до мудрості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[Trohimenko-009.jpg]"/>
          <p:cNvPicPr/>
          <p:nvPr/>
        </p:nvPicPr>
        <p:blipFill>
          <a:blip r:embed="rId2"/>
          <a:stretch/>
        </p:blipFill>
        <p:spPr>
          <a:xfrm>
            <a:off x="179280" y="189000"/>
            <a:ext cx="5761080" cy="41036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2"/>
          <p:cNvSpPr/>
          <p:nvPr/>
        </p:nvSpPr>
        <p:spPr>
          <a:xfrm>
            <a:off x="5796000" y="333360"/>
            <a:ext cx="33480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72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Роздивіться       ілюстраці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Чому Г.Сковороду  називали “мандрів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філософом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5929200" y="3071880"/>
            <a:ext cx="32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Порівняйте свою відповідь з інформацією в підручнику. С.13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4"/>
          <p:cNvSpPr/>
          <p:nvPr/>
        </p:nvSpPr>
        <p:spPr>
          <a:xfrm>
            <a:off x="6084720" y="189000"/>
            <a:ext cx="432000" cy="755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755640"/>
              <a:gd name="textAreaBottom" fmla="*/ 727920 h 755640"/>
            </a:gdLst>
            <a:ahLst/>
            <a:rect l="textAreaLeft" t="textAreaTop" r="textAreaRight" b="textAreaBottom"/>
            <a:pathLst>
              <a:path w="21600" h="37769">
                <a:moveTo>
                  <a:pt x="0" y="0"/>
                </a:moveTo>
                <a:lnTo>
                  <a:pt x="21600" y="0"/>
                </a:lnTo>
                <a:lnTo>
                  <a:pt x="21600" y="37769"/>
                </a:lnTo>
                <a:lnTo>
                  <a:pt x="0" y="37769"/>
                </a:lnTo>
                <a:close/>
              </a:path>
              <a:path fill="lightenLess" w="21600" h="377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69">
                <a:moveTo>
                  <a:pt x="21600" y="0"/>
                </a:moveTo>
                <a:lnTo>
                  <a:pt x="21600" y="37769"/>
                </a:lnTo>
                <a:lnTo>
                  <a:pt x="20200" y="36369"/>
                </a:lnTo>
                <a:lnTo>
                  <a:pt x="20200" y="1400"/>
                </a:lnTo>
                <a:close/>
              </a:path>
              <a:path fill="darkenLess" w="21600" h="37769">
                <a:moveTo>
                  <a:pt x="21600" y="37769"/>
                </a:moveTo>
                <a:lnTo>
                  <a:pt x="0" y="37769"/>
                </a:lnTo>
                <a:lnTo>
                  <a:pt x="1400" y="36369"/>
                </a:lnTo>
                <a:lnTo>
                  <a:pt x="20200" y="36369"/>
                </a:lnTo>
                <a:close/>
              </a:path>
              <a:path fill="lighten" w="21600" h="37769">
                <a:moveTo>
                  <a:pt x="0" y="37769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69"/>
                </a:lnTo>
                <a:close/>
              </a:path>
              <a:path fill="darken" w="21600" h="37769">
                <a:moveTo>
                  <a:pt x="10800" y="2288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7769">
                <a:moveTo>
                  <a:pt x="11905" y="22366"/>
                </a:moveTo>
                <a:lnTo>
                  <a:pt x="11905" y="20407"/>
                </a:lnTo>
                <a:cubicBezTo>
                  <a:pt x="11905" y="19581"/>
                  <a:pt x="12236" y="18884"/>
                  <a:pt x="12837" y="18884"/>
                </a:cubicBezTo>
                <a:cubicBezTo>
                  <a:pt x="13968" y="18884"/>
                  <a:pt x="14865" y="17518"/>
                  <a:pt x="14865" y="15934"/>
                </a:cubicBezTo>
                <a:cubicBezTo>
                  <a:pt x="14865" y="13619"/>
                  <a:pt x="13011" y="11878"/>
                  <a:pt x="10800" y="11878"/>
                </a:cubicBezTo>
                <a:cubicBezTo>
                  <a:pt x="8589" y="11878"/>
                  <a:pt x="6918" y="13619"/>
                  <a:pt x="6918" y="15934"/>
                </a:cubicBezTo>
                <a:lnTo>
                  <a:pt x="8772" y="15934"/>
                </a:lnTo>
                <a:cubicBezTo>
                  <a:pt x="8772" y="14794"/>
                  <a:pt x="9695" y="13906"/>
                  <a:pt x="10800" y="13906"/>
                </a:cubicBezTo>
                <a:cubicBezTo>
                  <a:pt x="11905" y="13906"/>
                  <a:pt x="12837" y="14794"/>
                  <a:pt x="12837" y="15934"/>
                </a:cubicBezTo>
                <a:cubicBezTo>
                  <a:pt x="12837" y="16674"/>
                  <a:pt x="12367" y="17405"/>
                  <a:pt x="11905" y="17405"/>
                </a:cubicBezTo>
                <a:cubicBezTo>
                  <a:pt x="10800" y="17405"/>
                  <a:pt x="9695" y="18884"/>
                  <a:pt x="9695" y="20407"/>
                </a:cubicBezTo>
                <a:lnTo>
                  <a:pt x="9695" y="22366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4920" y="714240"/>
            <a:ext cx="8534520" cy="408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Один із сучасників філософа так згадував про нього: </a:t>
            </a: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     “ Не стяжав він ні золота, ані срібла, але народ не зате приймав його під свої покрівлі…</a:t>
            </a: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      Мешканці… слобід та хуторів, де він зупинявся, любили його, як рідного. </a:t>
            </a: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      Він віддавав їм усе, що мав: не золото й срібло, а добрі поради, настанови, дружні докори…Утішався,  що труд його мандрівного життя не безплідний”.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971640" y="5373720"/>
            <a:ext cx="7561080" cy="947160"/>
          </a:xfrm>
          <a:prstGeom prst="rect">
            <a:avLst/>
          </a:prstGeom>
          <a:solidFill>
            <a:srgbClr val="f5f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Чому український народ люби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Г. Сковород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"/>
          <p:cNvSpPr/>
          <p:nvPr/>
        </p:nvSpPr>
        <p:spPr>
          <a:xfrm>
            <a:off x="179280" y="5157720"/>
            <a:ext cx="649440" cy="82728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827280"/>
              <a:gd name="textAreaBottom" fmla="*/ 785520 h 827280"/>
            </a:gdLst>
            <a:ahLst/>
            <a:rect l="textAreaLeft" t="textAreaTop" r="textAreaRight" b="textAreaBottom"/>
            <a:pathLst>
              <a:path w="21600" h="27512">
                <a:moveTo>
                  <a:pt x="0" y="0"/>
                </a:moveTo>
                <a:lnTo>
                  <a:pt x="21600" y="0"/>
                </a:lnTo>
                <a:lnTo>
                  <a:pt x="21600" y="27512"/>
                </a:lnTo>
                <a:lnTo>
                  <a:pt x="0" y="27512"/>
                </a:lnTo>
                <a:close/>
              </a:path>
              <a:path fill="lightenLess" w="21600" h="275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12">
                <a:moveTo>
                  <a:pt x="21600" y="0"/>
                </a:moveTo>
                <a:lnTo>
                  <a:pt x="21600" y="27512"/>
                </a:lnTo>
                <a:lnTo>
                  <a:pt x="20200" y="26112"/>
                </a:lnTo>
                <a:lnTo>
                  <a:pt x="20200" y="1400"/>
                </a:lnTo>
                <a:close/>
              </a:path>
              <a:path fill="darkenLess" w="21600" h="27512">
                <a:moveTo>
                  <a:pt x="21600" y="27512"/>
                </a:moveTo>
                <a:lnTo>
                  <a:pt x="0" y="27512"/>
                </a:lnTo>
                <a:lnTo>
                  <a:pt x="1400" y="26112"/>
                </a:lnTo>
                <a:lnTo>
                  <a:pt x="20200" y="26112"/>
                </a:lnTo>
                <a:close/>
              </a:path>
              <a:path fill="lighten" w="21600" h="27512">
                <a:moveTo>
                  <a:pt x="0" y="275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12"/>
                </a:lnTo>
                <a:close/>
              </a:path>
              <a:path fill="darken" w="21600" h="27512">
                <a:moveTo>
                  <a:pt x="10800" y="1775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12">
                <a:moveTo>
                  <a:pt x="11905" y="17237"/>
                </a:moveTo>
                <a:lnTo>
                  <a:pt x="11905" y="15279"/>
                </a:lnTo>
                <a:cubicBezTo>
                  <a:pt x="11905" y="14452"/>
                  <a:pt x="12236" y="13756"/>
                  <a:pt x="12837" y="13756"/>
                </a:cubicBezTo>
                <a:cubicBezTo>
                  <a:pt x="13968" y="13756"/>
                  <a:pt x="14865" y="12389"/>
                  <a:pt x="14865" y="10805"/>
                </a:cubicBezTo>
                <a:cubicBezTo>
                  <a:pt x="14865" y="8490"/>
                  <a:pt x="13011" y="6749"/>
                  <a:pt x="10800" y="6749"/>
                </a:cubicBezTo>
                <a:cubicBezTo>
                  <a:pt x="8589" y="6749"/>
                  <a:pt x="6918" y="8490"/>
                  <a:pt x="6918" y="10805"/>
                </a:cubicBezTo>
                <a:lnTo>
                  <a:pt x="8772" y="10805"/>
                </a:lnTo>
                <a:cubicBezTo>
                  <a:pt x="8772" y="9665"/>
                  <a:pt x="9695" y="8777"/>
                  <a:pt x="10800" y="8777"/>
                </a:cubicBezTo>
                <a:cubicBezTo>
                  <a:pt x="11905" y="8777"/>
                  <a:pt x="12837" y="9665"/>
                  <a:pt x="12837" y="10805"/>
                </a:cubicBezTo>
                <a:cubicBezTo>
                  <a:pt x="12837" y="11545"/>
                  <a:pt x="12367" y="12276"/>
                  <a:pt x="11905" y="12276"/>
                </a:cubicBezTo>
                <a:cubicBezTo>
                  <a:pt x="10800" y="12276"/>
                  <a:pt x="9695" y="13756"/>
                  <a:pt x="9695" y="15279"/>
                </a:cubicBezTo>
                <a:lnTo>
                  <a:pt x="9695" y="17237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4"/>
          <p:cNvSpPr/>
          <p:nvPr/>
        </p:nvSpPr>
        <p:spPr>
          <a:xfrm>
            <a:off x="1500120" y="857160"/>
            <a:ext cx="6215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Тема уроку:</a:t>
            </a:r>
            <a:br>
              <a:rPr sz="3200"/>
            </a:b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Культура України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VI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VIII </a:t>
            </a: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ст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428840" y="3429000"/>
            <a:ext cx="621504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Культура – духовне життя  нар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14240" y="1500120"/>
            <a:ext cx="814392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sz="2800" spc="-1" strike="noStrike">
                <a:solidFill>
                  <a:srgbClr val="0837bc"/>
                </a:solidFill>
                <a:latin typeface="Arial"/>
              </a:rPr>
              <a:t>Любов виникає з любовi; коли хочу, щоб</a:t>
            </a: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 </a:t>
            </a:r>
            <a:r>
              <a:rPr b="1" sz="2800" spc="-1" strike="noStrike">
                <a:solidFill>
                  <a:srgbClr val="0837bc"/>
                </a:solidFill>
                <a:latin typeface="Arial"/>
              </a:rPr>
              <a:t>мене</a:t>
            </a: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 </a:t>
            </a:r>
            <a:r>
              <a:rPr b="1" sz="2800" spc="-1" strike="noStrike">
                <a:solidFill>
                  <a:srgbClr val="0837bc"/>
                </a:solidFill>
                <a:latin typeface="Arial"/>
              </a:rPr>
              <a:t>любили, я сам перший люблю.</a:t>
            </a: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Хіба не любов усе єднає, будує, творить, подібно до того, як ворожість руйнує?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1042920" y="3429000"/>
            <a:ext cx="78868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Як співвідносяться ці вислови з “золотим правилом моралі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285840" y="4000680"/>
            <a:ext cx="649080" cy="82692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826920"/>
              <a:gd name="textAreaBottom" fmla="*/ 785160 h 826920"/>
            </a:gdLst>
            <a:ahLst/>
            <a:rect l="textAreaLeft" t="textAreaTop" r="textAreaRight" b="textAreaBottom"/>
            <a:pathLst>
              <a:path w="21600" h="27515">
                <a:moveTo>
                  <a:pt x="0" y="0"/>
                </a:moveTo>
                <a:lnTo>
                  <a:pt x="21600" y="0"/>
                </a:lnTo>
                <a:lnTo>
                  <a:pt x="21600" y="27515"/>
                </a:lnTo>
                <a:lnTo>
                  <a:pt x="0" y="27515"/>
                </a:lnTo>
                <a:close/>
              </a:path>
              <a:path fill="lightenLess" w="21600" h="275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15">
                <a:moveTo>
                  <a:pt x="21600" y="0"/>
                </a:moveTo>
                <a:lnTo>
                  <a:pt x="21600" y="27515"/>
                </a:lnTo>
                <a:lnTo>
                  <a:pt x="20200" y="26115"/>
                </a:lnTo>
                <a:lnTo>
                  <a:pt x="20200" y="1400"/>
                </a:lnTo>
                <a:close/>
              </a:path>
              <a:path fill="darkenLess" w="21600" h="27515">
                <a:moveTo>
                  <a:pt x="21600" y="27515"/>
                </a:moveTo>
                <a:lnTo>
                  <a:pt x="0" y="27515"/>
                </a:lnTo>
                <a:lnTo>
                  <a:pt x="1400" y="26115"/>
                </a:lnTo>
                <a:lnTo>
                  <a:pt x="20200" y="26115"/>
                </a:lnTo>
                <a:close/>
              </a:path>
              <a:path fill="lighten" w="21600" h="27515">
                <a:moveTo>
                  <a:pt x="0" y="275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15"/>
                </a:lnTo>
                <a:close/>
              </a:path>
              <a:path fill="darken" w="21600" h="27515">
                <a:moveTo>
                  <a:pt x="10800" y="1776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15">
                <a:moveTo>
                  <a:pt x="11905" y="17239"/>
                </a:moveTo>
                <a:lnTo>
                  <a:pt x="11905" y="15281"/>
                </a:lnTo>
                <a:cubicBezTo>
                  <a:pt x="11905" y="14454"/>
                  <a:pt x="12236" y="13757"/>
                  <a:pt x="12837" y="13757"/>
                </a:cubicBezTo>
                <a:cubicBezTo>
                  <a:pt x="13968" y="13757"/>
                  <a:pt x="14865" y="12391"/>
                  <a:pt x="14865" y="10807"/>
                </a:cubicBezTo>
                <a:cubicBezTo>
                  <a:pt x="14865" y="8492"/>
                  <a:pt x="13011" y="6751"/>
                  <a:pt x="10800" y="6751"/>
                </a:cubicBezTo>
                <a:cubicBezTo>
                  <a:pt x="8589" y="6751"/>
                  <a:pt x="6918" y="8492"/>
                  <a:pt x="6918" y="10807"/>
                </a:cubicBezTo>
                <a:lnTo>
                  <a:pt x="8772" y="10807"/>
                </a:lnTo>
                <a:cubicBezTo>
                  <a:pt x="8772" y="9667"/>
                  <a:pt x="9695" y="8779"/>
                  <a:pt x="10800" y="8779"/>
                </a:cubicBezTo>
                <a:cubicBezTo>
                  <a:pt x="11905" y="8779"/>
                  <a:pt x="12837" y="9667"/>
                  <a:pt x="12837" y="10807"/>
                </a:cubicBezTo>
                <a:cubicBezTo>
                  <a:pt x="12837" y="11547"/>
                  <a:pt x="12367" y="12278"/>
                  <a:pt x="11905" y="12278"/>
                </a:cubicBezTo>
                <a:cubicBezTo>
                  <a:pt x="10800" y="12278"/>
                  <a:pt x="9695" y="13757"/>
                  <a:pt x="9695" y="15281"/>
                </a:cubicBezTo>
                <a:lnTo>
                  <a:pt x="9695" y="17239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8"/>
          <p:cNvSpPr/>
          <p:nvPr/>
        </p:nvSpPr>
        <p:spPr>
          <a:xfrm>
            <a:off x="785880" y="285840"/>
            <a:ext cx="649080" cy="82692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826920"/>
              <a:gd name="textAreaBottom" fmla="*/ 785160 h 826920"/>
            </a:gdLst>
            <a:ahLst/>
            <a:rect l="textAreaLeft" t="textAreaTop" r="textAreaRight" b="textAreaBottom"/>
            <a:pathLst>
              <a:path w="21600" h="27515">
                <a:moveTo>
                  <a:pt x="0" y="0"/>
                </a:moveTo>
                <a:lnTo>
                  <a:pt x="21600" y="0"/>
                </a:lnTo>
                <a:lnTo>
                  <a:pt x="21600" y="27515"/>
                </a:lnTo>
                <a:lnTo>
                  <a:pt x="0" y="27515"/>
                </a:lnTo>
                <a:close/>
              </a:path>
              <a:path fill="lightenLess" w="21600" h="275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15">
                <a:moveTo>
                  <a:pt x="21600" y="0"/>
                </a:moveTo>
                <a:lnTo>
                  <a:pt x="21600" y="27515"/>
                </a:lnTo>
                <a:lnTo>
                  <a:pt x="20200" y="26115"/>
                </a:lnTo>
                <a:lnTo>
                  <a:pt x="20200" y="1400"/>
                </a:lnTo>
                <a:close/>
              </a:path>
              <a:path fill="darkenLess" w="21600" h="27515">
                <a:moveTo>
                  <a:pt x="21600" y="27515"/>
                </a:moveTo>
                <a:lnTo>
                  <a:pt x="0" y="27515"/>
                </a:lnTo>
                <a:lnTo>
                  <a:pt x="1400" y="26115"/>
                </a:lnTo>
                <a:lnTo>
                  <a:pt x="20200" y="26115"/>
                </a:lnTo>
                <a:close/>
              </a:path>
              <a:path fill="lighten" w="21600" h="27515">
                <a:moveTo>
                  <a:pt x="0" y="275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15"/>
                </a:lnTo>
                <a:close/>
              </a:path>
              <a:path fill="darken" w="21600" h="27515">
                <a:moveTo>
                  <a:pt x="10800" y="1776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15">
                <a:moveTo>
                  <a:pt x="11905" y="17239"/>
                </a:moveTo>
                <a:lnTo>
                  <a:pt x="11905" y="15281"/>
                </a:lnTo>
                <a:cubicBezTo>
                  <a:pt x="11905" y="14454"/>
                  <a:pt x="12236" y="13757"/>
                  <a:pt x="12837" y="13757"/>
                </a:cubicBezTo>
                <a:cubicBezTo>
                  <a:pt x="13968" y="13757"/>
                  <a:pt x="14865" y="12391"/>
                  <a:pt x="14865" y="10807"/>
                </a:cubicBezTo>
                <a:cubicBezTo>
                  <a:pt x="14865" y="8492"/>
                  <a:pt x="13011" y="6751"/>
                  <a:pt x="10800" y="6751"/>
                </a:cubicBezTo>
                <a:cubicBezTo>
                  <a:pt x="8589" y="6751"/>
                  <a:pt x="6918" y="8492"/>
                  <a:pt x="6918" y="10807"/>
                </a:cubicBezTo>
                <a:lnTo>
                  <a:pt x="8772" y="10807"/>
                </a:lnTo>
                <a:cubicBezTo>
                  <a:pt x="8772" y="9667"/>
                  <a:pt x="9695" y="8779"/>
                  <a:pt x="10800" y="8779"/>
                </a:cubicBezTo>
                <a:cubicBezTo>
                  <a:pt x="11905" y="8779"/>
                  <a:pt x="12837" y="9667"/>
                  <a:pt x="12837" y="10807"/>
                </a:cubicBezTo>
                <a:cubicBezTo>
                  <a:pt x="12837" y="11547"/>
                  <a:pt x="12367" y="12278"/>
                  <a:pt x="11905" y="12278"/>
                </a:cubicBezTo>
                <a:cubicBezTo>
                  <a:pt x="10800" y="12278"/>
                  <a:pt x="9695" y="13757"/>
                  <a:pt x="9695" y="15281"/>
                </a:cubicBezTo>
                <a:lnTo>
                  <a:pt x="9695" y="17239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5"/>
          <p:cNvSpPr/>
          <p:nvPr/>
        </p:nvSpPr>
        <p:spPr>
          <a:xfrm>
            <a:off x="1643040" y="357120"/>
            <a:ext cx="7000920" cy="914400"/>
          </a:xfrm>
          <a:prstGeom prst="rect">
            <a:avLst/>
          </a:prstGeom>
          <a:solidFill>
            <a:srgbClr val="f5f272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837bc"/>
                </a:solidFill>
                <a:latin typeface="Arial Black"/>
              </a:rPr>
              <a:t>Як ви розумієте вислови Г.Сковород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507520" cy="2247840"/>
          </a:xfrm>
          <a:prstGeom prst="rect">
            <a:avLst/>
          </a:prstGeom>
          <a:solidFill>
            <a:srgbClr val="f5f272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Коли не зможу нічим любій Вітчизні прислужитись, </a:t>
            </a:r>
            <a:br>
              <a:rPr sz="2400"/>
            </a:b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в усякому разі з усієї сили намагатимуся </a:t>
            </a:r>
            <a:br>
              <a:rPr sz="2400"/>
            </a:b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ніколи ні в чому не шкодити.</a:t>
            </a:r>
            <a:br>
              <a:rPr sz="2400"/>
            </a:b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 </a:t>
            </a:r>
            <a:r>
              <a:rPr b="1" lang="ru-RU" sz="4400" spc="-1" strike="noStrike">
                <a:solidFill>
                  <a:srgbClr val="0837bc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4360" y="3141720"/>
            <a:ext cx="8161200" cy="29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Як Г.Сковорода ставився до Батьківщини? Чи вчив він українців бути патріотами? Чи можна сам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Г. Сковороду назвати патріотом Україн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4. Архітектура козацької доби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363640" y="4357440"/>
            <a:ext cx="335124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Коли і ким була    збудована церква? У чому її особливості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179280" y="494172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Троїцька соборна церква у Новомосковсь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(запорізькому місті Сама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2" descr="Яким Погребняк. Троицкий собор в Новомосковске. Фасад и план."/>
          <p:cNvPicPr/>
          <p:nvPr/>
        </p:nvPicPr>
        <p:blipFill>
          <a:blip r:embed="rId1"/>
          <a:srcRect l="-699" t="0" r="87" b="-108"/>
          <a:stretch/>
        </p:blipFill>
        <p:spPr>
          <a:xfrm>
            <a:off x="5292720" y="981000"/>
            <a:ext cx="3313080" cy="2808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2007060901"/>
          <p:cNvPicPr/>
          <p:nvPr/>
        </p:nvPicPr>
        <p:blipFill>
          <a:blip r:embed="rId2"/>
          <a:stretch/>
        </p:blipFill>
        <p:spPr>
          <a:xfrm>
            <a:off x="324000" y="765000"/>
            <a:ext cx="4535280" cy="384336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4"/>
          <p:cNvSpPr/>
          <p:nvPr/>
        </p:nvSpPr>
        <p:spPr>
          <a:xfrm>
            <a:off x="5143680" y="4071960"/>
            <a:ext cx="3819240" cy="2500200"/>
          </a:xfrm>
          <a:prstGeom prst="rect">
            <a:avLst/>
          </a:prstGeom>
          <a:solidFill>
            <a:srgbClr val="f5f2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Збудована 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1773 - 1781 р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народним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майстром-будівничим</a:t>
            </a:r>
            <a:r>
              <a:rPr b="0" lang="ru-RU" sz="2400" spc="-1" strike="noStrike">
                <a:solidFill>
                  <a:srgbClr val="0837b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Якимом Погребня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88423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Архітектура </a:t>
            </a:r>
            <a:br>
              <a:rPr sz="2400"/>
            </a:b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козацької доби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5" name="Picture 4" descr="Церква Всіх Святих зі сторони Економічної вулиці Верхньої лаври."/>
          <p:cNvPicPr/>
          <p:nvPr/>
        </p:nvPicPr>
        <p:blipFill>
          <a:blip r:embed="rId1"/>
          <a:stretch/>
        </p:blipFill>
        <p:spPr>
          <a:xfrm>
            <a:off x="3348000" y="404640"/>
            <a:ext cx="5634000" cy="626436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"/>
          <p:cNvSpPr/>
          <p:nvPr/>
        </p:nvSpPr>
        <p:spPr>
          <a:xfrm>
            <a:off x="0" y="3284640"/>
            <a:ext cx="341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837bc"/>
                </a:solidFill>
                <a:latin typeface="Arial"/>
              </a:rPr>
              <a:t>Церква Всіх Святих Києво-Печерської лаври, збудована коштом гетьмана Івана Мазеп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0" y="4221000"/>
            <a:ext cx="3240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837bc"/>
                </a:solidFill>
                <a:latin typeface="Arial"/>
              </a:rPr>
              <a:t>Георгіївська церква Видубицького монастиря в Києві, збудована коштом стародубського полковника М.Миклашевсь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0" y="558972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837bc"/>
                </a:solidFill>
                <a:latin typeface="Arial"/>
              </a:rPr>
              <a:t>Свято-Преображенський собор у Великих Сорочинцях на Полтавщині, збудований коштом гетьмана Д.Апост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0" descr="209052870"/>
          <p:cNvPicPr/>
          <p:nvPr/>
        </p:nvPicPr>
        <p:blipFill>
          <a:blip r:embed="rId2"/>
          <a:stretch/>
        </p:blipFill>
        <p:spPr>
          <a:xfrm>
            <a:off x="3348000" y="404640"/>
            <a:ext cx="5616720" cy="6264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Спасо-Преображенська церква у Великих Сорочинцях. Гетьманська усипальниця Данила Апостола"/>
          <p:cNvPicPr/>
          <p:nvPr/>
        </p:nvPicPr>
        <p:blipFill>
          <a:blip r:embed="rId3"/>
          <a:stretch/>
        </p:blipFill>
        <p:spPr>
          <a:xfrm>
            <a:off x="3348000" y="404640"/>
            <a:ext cx="5616720" cy="62643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2"/>
          <p:cNvSpPr/>
          <p:nvPr/>
        </p:nvSpPr>
        <p:spPr>
          <a:xfrm>
            <a:off x="900000" y="1268280"/>
            <a:ext cx="238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Доберіть прикметники,якими можна описати ці х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3"/>
          <p:cNvSpPr/>
          <p:nvPr/>
        </p:nvSpPr>
        <p:spPr>
          <a:xfrm>
            <a:off x="179280" y="1413000"/>
            <a:ext cx="649440" cy="82692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826920"/>
              <a:gd name="textAreaBottom" fmla="*/ 785160 h 826920"/>
            </a:gdLst>
            <a:ahLst/>
            <a:rect l="textAreaLeft" t="textAreaTop" r="textAreaRight" b="textAreaBottom"/>
            <a:pathLst>
              <a:path w="21600" h="27500">
                <a:moveTo>
                  <a:pt x="0" y="0"/>
                </a:moveTo>
                <a:lnTo>
                  <a:pt x="21600" y="0"/>
                </a:lnTo>
                <a:lnTo>
                  <a:pt x="21600" y="27500"/>
                </a:lnTo>
                <a:lnTo>
                  <a:pt x="0" y="27500"/>
                </a:lnTo>
                <a:close/>
              </a:path>
              <a:path fill="lightenLess" w="21600" h="275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00">
                <a:moveTo>
                  <a:pt x="21600" y="0"/>
                </a:moveTo>
                <a:lnTo>
                  <a:pt x="21600" y="27500"/>
                </a:lnTo>
                <a:lnTo>
                  <a:pt x="20200" y="26100"/>
                </a:lnTo>
                <a:lnTo>
                  <a:pt x="20200" y="1400"/>
                </a:lnTo>
                <a:close/>
              </a:path>
              <a:path fill="darkenLess" w="21600" h="27500">
                <a:moveTo>
                  <a:pt x="21600" y="27500"/>
                </a:moveTo>
                <a:lnTo>
                  <a:pt x="0" y="27500"/>
                </a:lnTo>
                <a:lnTo>
                  <a:pt x="1400" y="26100"/>
                </a:lnTo>
                <a:lnTo>
                  <a:pt x="20200" y="26100"/>
                </a:lnTo>
                <a:close/>
              </a:path>
              <a:path fill="lighten" w="21600" h="27500">
                <a:moveTo>
                  <a:pt x="0" y="275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00"/>
                </a:lnTo>
                <a:close/>
              </a:path>
              <a:path fill="darken" w="21600" h="27500">
                <a:moveTo>
                  <a:pt x="10800" y="1775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00">
                <a:moveTo>
                  <a:pt x="11905" y="17231"/>
                </a:moveTo>
                <a:lnTo>
                  <a:pt x="11905" y="15273"/>
                </a:lnTo>
                <a:cubicBezTo>
                  <a:pt x="11905" y="14446"/>
                  <a:pt x="12236" y="13750"/>
                  <a:pt x="12837" y="13750"/>
                </a:cubicBezTo>
                <a:cubicBezTo>
                  <a:pt x="13968" y="13750"/>
                  <a:pt x="14865" y="12383"/>
                  <a:pt x="14865" y="10799"/>
                </a:cubicBezTo>
                <a:cubicBezTo>
                  <a:pt x="14865" y="8484"/>
                  <a:pt x="13011" y="6743"/>
                  <a:pt x="10800" y="6743"/>
                </a:cubicBezTo>
                <a:cubicBezTo>
                  <a:pt x="8589" y="6743"/>
                  <a:pt x="6918" y="8484"/>
                  <a:pt x="6918" y="10799"/>
                </a:cubicBezTo>
                <a:lnTo>
                  <a:pt x="8772" y="10799"/>
                </a:lnTo>
                <a:cubicBezTo>
                  <a:pt x="8772" y="9659"/>
                  <a:pt x="9695" y="8771"/>
                  <a:pt x="10800" y="8771"/>
                </a:cubicBezTo>
                <a:cubicBezTo>
                  <a:pt x="11905" y="8771"/>
                  <a:pt x="12837" y="9659"/>
                  <a:pt x="12837" y="10799"/>
                </a:cubicBezTo>
                <a:cubicBezTo>
                  <a:pt x="12837" y="11539"/>
                  <a:pt x="12367" y="12270"/>
                  <a:pt x="11905" y="12270"/>
                </a:cubicBezTo>
                <a:cubicBezTo>
                  <a:pt x="10800" y="12270"/>
                  <a:pt x="9695" y="13750"/>
                  <a:pt x="9695" y="15273"/>
                </a:cubicBezTo>
                <a:lnTo>
                  <a:pt x="9695" y="17231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3348000" y="404640"/>
            <a:ext cx="5796000" cy="626436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5" descr="Церква Всіх Святих зі сторони Економічної вулиці Верхньої лаври."/>
          <p:cNvPicPr/>
          <p:nvPr/>
        </p:nvPicPr>
        <p:blipFill>
          <a:blip r:embed="rId4"/>
          <a:stretch/>
        </p:blipFill>
        <p:spPr>
          <a:xfrm>
            <a:off x="3635280" y="549360"/>
            <a:ext cx="2051280" cy="2954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6" descr="209052870"/>
          <p:cNvPicPr/>
          <p:nvPr/>
        </p:nvPicPr>
        <p:blipFill>
          <a:blip r:embed="rId5"/>
          <a:stretch/>
        </p:blipFill>
        <p:spPr>
          <a:xfrm>
            <a:off x="6443640" y="549360"/>
            <a:ext cx="2060640" cy="2950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7" descr="Спасо-Преображенська церква у Великих Сорочинцях. Гетьманська усипальниця Данила Апостола"/>
          <p:cNvPicPr/>
          <p:nvPr/>
        </p:nvPicPr>
        <p:blipFill>
          <a:blip r:embed="rId6"/>
          <a:stretch/>
        </p:blipFill>
        <p:spPr>
          <a:xfrm>
            <a:off x="3564000" y="3645000"/>
            <a:ext cx="2158920" cy="28083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9"/>
          <p:cNvSpPr/>
          <p:nvPr/>
        </p:nvSpPr>
        <p:spPr>
          <a:xfrm>
            <a:off x="6012000" y="4005360"/>
            <a:ext cx="2881080" cy="1871640"/>
          </a:xfrm>
          <a:prstGeom prst="rect">
            <a:avLst/>
          </a:prstGeom>
          <a:solidFill>
            <a:srgbClr val="f5f2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Втілювали мрі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свої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творців пр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майбутнє Украї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0"/>
          <p:cNvSpPr/>
          <p:nvPr/>
        </p:nvSpPr>
        <p:spPr>
          <a:xfrm>
            <a:off x="928800" y="1285920"/>
            <a:ext cx="2303280" cy="1942920"/>
          </a:xfrm>
          <a:prstGeom prst="rect">
            <a:avLst/>
          </a:prstGeom>
          <a:solidFill>
            <a:srgbClr val="f5f2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Як ці споруд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утверджува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думку про вели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козацької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держав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Про які події культурно – освітнього життя ви дізналися?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214200" y="1643040"/>
            <a:ext cx="8785440" cy="1419120"/>
          </a:xfrm>
          <a:prstGeom prst="rect">
            <a:avLst/>
          </a:prstGeom>
          <a:solidFill>
            <a:srgbClr val="f5f2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Хто з діячів української культури врази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вас найбільш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Чо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2"/>
          <p:cNvSpPr/>
          <p:nvPr/>
        </p:nvSpPr>
        <p:spPr>
          <a:xfrm>
            <a:off x="428760" y="3143160"/>
            <a:ext cx="850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Яке завдання вирішували діячі української культури в  </a:t>
            </a:r>
            <a:r>
              <a:rPr b="1" lang="en-US" sz="2800" spc="-1" strike="noStrike">
                <a:solidFill>
                  <a:srgbClr val="0837bc"/>
                </a:solidFill>
                <a:latin typeface="Arial"/>
              </a:rPr>
              <a:t>XVI</a:t>
            </a:r>
            <a:r>
              <a:rPr b="1" lang="ru-RU" sz="2800" spc="-1" strike="noStrike">
                <a:solidFill>
                  <a:srgbClr val="0837bc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837bc"/>
                </a:solidFill>
                <a:latin typeface="Arial"/>
              </a:rPr>
              <a:t>XVIII </a:t>
            </a: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ст.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468360" y="4221000"/>
            <a:ext cx="8007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250920" y="4221000"/>
            <a:ext cx="8713800" cy="2305080"/>
          </a:xfrm>
          <a:prstGeom prst="rect">
            <a:avLst/>
          </a:prstGeom>
          <a:solidFill>
            <a:srgbClr val="f5f2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Діячі культури в  </a:t>
            </a:r>
            <a:r>
              <a:rPr b="1" lang="en-US" sz="2800" spc="-1" strike="noStrike">
                <a:solidFill>
                  <a:srgbClr val="0837bc"/>
                </a:solidFill>
                <a:latin typeface="Arial"/>
              </a:rPr>
              <a:t>XVI</a:t>
            </a:r>
            <a:r>
              <a:rPr b="1" lang="ru-RU" sz="2800" spc="-1" strike="noStrike">
                <a:solidFill>
                  <a:srgbClr val="0837bc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837bc"/>
                </a:solidFill>
                <a:latin typeface="Arial"/>
              </a:rPr>
              <a:t>XVIII </a:t>
            </a: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с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захищали український на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від впливу чужоземці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971640" y="2565360"/>
            <a:ext cx="727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Опрацювати матеріал підручника В. Власова та О. Данилевської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§17, с.130 – 133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відповісти на запитання с.1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1042920" y="1413000"/>
            <a:ext cx="7129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6600"/>
                </a:solidFill>
                <a:latin typeface="Arial"/>
              </a:rPr>
              <a:t>Домашнє завдання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2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4"/>
          <p:cNvSpPr/>
          <p:nvPr/>
        </p:nvSpPr>
        <p:spPr>
          <a:xfrm>
            <a:off x="1357200" y="1000080"/>
            <a:ext cx="6357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План:</a:t>
            </a: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1. Розвиток освіти.</a:t>
            </a: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2. Видатний козацький літописець Самійло Величко. </a:t>
            </a: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3. Григорій Сковорода – великий український філософ.</a:t>
            </a: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4. Архітекту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0080" y="5713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endParaRPr b="1" lang="en-US" sz="39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900000" y="5589720"/>
            <a:ext cx="73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9640" y="2781360"/>
          <a:ext cx="8280360" cy="3024000"/>
        </p:xfrm>
        <a:graphic>
          <a:graphicData uri="http://schemas.openxmlformats.org/drawingml/2006/table">
            <a:tbl>
              <a:tblPr/>
              <a:tblGrid>
                <a:gridCol w="1451160"/>
                <a:gridCol w="1450800"/>
                <a:gridCol w="2903760"/>
                <a:gridCol w="2474640"/>
              </a:tblGrid>
              <a:tr h="14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6 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е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ва, Польщ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іч Посполи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9 р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лі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ослав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`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, католицтв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еко – католиць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ніатськ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Rectangle 33"/>
          <p:cNvSpPr/>
          <p:nvPr/>
        </p:nvSpPr>
        <p:spPr>
          <a:xfrm>
            <a:off x="1000080" y="571680"/>
            <a:ext cx="785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Виберіть відповідні дати, назви, історичні події та складіть правильні тверджен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4"/>
          <p:cNvSpPr/>
          <p:nvPr/>
        </p:nvSpPr>
        <p:spPr>
          <a:xfrm>
            <a:off x="250920" y="620640"/>
            <a:ext cx="649080" cy="82728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827280"/>
              <a:gd name="textAreaBottom" fmla="*/ 785520 h 827280"/>
            </a:gdLst>
            <a:ahLst/>
            <a:rect l="textAreaLeft" t="textAreaTop" r="textAreaRight" b="textAreaBottom"/>
            <a:pathLst>
              <a:path w="21600" h="27527">
                <a:moveTo>
                  <a:pt x="0" y="0"/>
                </a:moveTo>
                <a:lnTo>
                  <a:pt x="21600" y="0"/>
                </a:lnTo>
                <a:lnTo>
                  <a:pt x="21600" y="27527"/>
                </a:lnTo>
                <a:lnTo>
                  <a:pt x="0" y="27527"/>
                </a:lnTo>
                <a:close/>
              </a:path>
              <a:path fill="lightenLess" w="21600" h="275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27">
                <a:moveTo>
                  <a:pt x="21600" y="0"/>
                </a:moveTo>
                <a:lnTo>
                  <a:pt x="21600" y="27527"/>
                </a:lnTo>
                <a:lnTo>
                  <a:pt x="20200" y="26127"/>
                </a:lnTo>
                <a:lnTo>
                  <a:pt x="20200" y="1400"/>
                </a:lnTo>
                <a:close/>
              </a:path>
              <a:path fill="darkenLess" w="21600" h="27527">
                <a:moveTo>
                  <a:pt x="21600" y="27527"/>
                </a:moveTo>
                <a:lnTo>
                  <a:pt x="0" y="27527"/>
                </a:lnTo>
                <a:lnTo>
                  <a:pt x="1400" y="26127"/>
                </a:lnTo>
                <a:lnTo>
                  <a:pt x="20200" y="26127"/>
                </a:lnTo>
                <a:close/>
              </a:path>
              <a:path fill="lighten" w="21600" h="27527">
                <a:moveTo>
                  <a:pt x="0" y="275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27"/>
                </a:lnTo>
                <a:close/>
              </a:path>
              <a:path fill="darken" w="21600" h="27527">
                <a:moveTo>
                  <a:pt x="10800" y="1776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27">
                <a:moveTo>
                  <a:pt x="11905" y="17245"/>
                </a:moveTo>
                <a:lnTo>
                  <a:pt x="11905" y="15287"/>
                </a:lnTo>
                <a:cubicBezTo>
                  <a:pt x="11905" y="14460"/>
                  <a:pt x="12236" y="13763"/>
                  <a:pt x="12837" y="13763"/>
                </a:cubicBezTo>
                <a:cubicBezTo>
                  <a:pt x="13968" y="13763"/>
                  <a:pt x="14865" y="12397"/>
                  <a:pt x="14865" y="10813"/>
                </a:cubicBezTo>
                <a:cubicBezTo>
                  <a:pt x="14865" y="8498"/>
                  <a:pt x="13011" y="6757"/>
                  <a:pt x="10800" y="6757"/>
                </a:cubicBezTo>
                <a:cubicBezTo>
                  <a:pt x="8589" y="6757"/>
                  <a:pt x="6918" y="8498"/>
                  <a:pt x="6918" y="10813"/>
                </a:cubicBezTo>
                <a:lnTo>
                  <a:pt x="8772" y="10813"/>
                </a:lnTo>
                <a:cubicBezTo>
                  <a:pt x="8772" y="9673"/>
                  <a:pt x="9695" y="8785"/>
                  <a:pt x="10800" y="8785"/>
                </a:cubicBezTo>
                <a:cubicBezTo>
                  <a:pt x="11905" y="8785"/>
                  <a:pt x="12837" y="9673"/>
                  <a:pt x="12837" y="10813"/>
                </a:cubicBezTo>
                <a:cubicBezTo>
                  <a:pt x="12837" y="11553"/>
                  <a:pt x="12367" y="12284"/>
                  <a:pt x="11905" y="12284"/>
                </a:cubicBezTo>
                <a:cubicBezTo>
                  <a:pt x="10800" y="12284"/>
                  <a:pt x="9695" y="13763"/>
                  <a:pt x="9695" y="15287"/>
                </a:cubicBezTo>
                <a:lnTo>
                  <a:pt x="9695" y="17245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244080"/>
            <a:ext cx="83739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 Black"/>
              </a:rPr>
              <a:t>Українські землі в </a:t>
            </a:r>
            <a:r>
              <a:rPr b="1" lang="en-US" sz="2800" spc="-1" strike="noStrike">
                <a:solidFill>
                  <a:srgbClr val="0837bc"/>
                </a:solidFill>
                <a:latin typeface="Arial Black"/>
              </a:rPr>
              <a:t>XVI – XVII </a:t>
            </a:r>
            <a:r>
              <a:rPr b="1" lang="uk-UA" sz="2800" spc="-1" strike="noStrike">
                <a:solidFill>
                  <a:srgbClr val="0837bc"/>
                </a:solidFill>
                <a:latin typeface="Arial Black"/>
              </a:rPr>
              <a:t>ст.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rcRect l="0" t="0" r="-47" b="78"/>
          <a:stretch/>
        </p:blipFill>
        <p:spPr>
          <a:xfrm>
            <a:off x="0" y="1044720"/>
            <a:ext cx="9144000" cy="58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0080" y="244080"/>
            <a:ext cx="785808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uk-UA" sz="2400" spc="-1" strike="noStrike">
                <a:solidFill>
                  <a:srgbClr val="0837bc"/>
                </a:solidFill>
                <a:latin typeface="Arial Black"/>
              </a:rPr>
              <a:t>Виберіть правильні твердження та схарактеризуйте становище українських земель у складі Речі Посполитої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8760" y="2357280"/>
            <a:ext cx="8424720" cy="39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берігалося правосла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асаджувалися католицька та греко- католицька церк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іяли закони “Руської Правди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боронялася українська м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озповсюджувалися українські звичаї та традиц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рипинялася діяльність українського законодав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332000" y="1773360"/>
            <a:ext cx="64087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250920" y="404640"/>
            <a:ext cx="649080" cy="82728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827280"/>
              <a:gd name="textAreaBottom" fmla="*/ 785520 h 827280"/>
            </a:gdLst>
            <a:ahLst/>
            <a:rect l="textAreaLeft" t="textAreaTop" r="textAreaRight" b="textAreaBottom"/>
            <a:pathLst>
              <a:path w="21600" h="27527">
                <a:moveTo>
                  <a:pt x="0" y="0"/>
                </a:moveTo>
                <a:lnTo>
                  <a:pt x="21600" y="0"/>
                </a:lnTo>
                <a:lnTo>
                  <a:pt x="21600" y="27527"/>
                </a:lnTo>
                <a:lnTo>
                  <a:pt x="0" y="27527"/>
                </a:lnTo>
                <a:close/>
              </a:path>
              <a:path fill="lightenLess" w="21600" h="275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27">
                <a:moveTo>
                  <a:pt x="21600" y="0"/>
                </a:moveTo>
                <a:lnTo>
                  <a:pt x="21600" y="27527"/>
                </a:lnTo>
                <a:lnTo>
                  <a:pt x="20200" y="26127"/>
                </a:lnTo>
                <a:lnTo>
                  <a:pt x="20200" y="1400"/>
                </a:lnTo>
                <a:close/>
              </a:path>
              <a:path fill="darkenLess" w="21600" h="27527">
                <a:moveTo>
                  <a:pt x="21600" y="27527"/>
                </a:moveTo>
                <a:lnTo>
                  <a:pt x="0" y="27527"/>
                </a:lnTo>
                <a:lnTo>
                  <a:pt x="1400" y="26127"/>
                </a:lnTo>
                <a:lnTo>
                  <a:pt x="20200" y="26127"/>
                </a:lnTo>
                <a:close/>
              </a:path>
              <a:path fill="lighten" w="21600" h="27527">
                <a:moveTo>
                  <a:pt x="0" y="275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27"/>
                </a:lnTo>
                <a:close/>
              </a:path>
              <a:path fill="darken" w="21600" h="27527">
                <a:moveTo>
                  <a:pt x="10800" y="1776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27">
                <a:moveTo>
                  <a:pt x="11905" y="17245"/>
                </a:moveTo>
                <a:lnTo>
                  <a:pt x="11905" y="15287"/>
                </a:lnTo>
                <a:cubicBezTo>
                  <a:pt x="11905" y="14460"/>
                  <a:pt x="12236" y="13763"/>
                  <a:pt x="12837" y="13763"/>
                </a:cubicBezTo>
                <a:cubicBezTo>
                  <a:pt x="13968" y="13763"/>
                  <a:pt x="14865" y="12397"/>
                  <a:pt x="14865" y="10813"/>
                </a:cubicBezTo>
                <a:cubicBezTo>
                  <a:pt x="14865" y="8498"/>
                  <a:pt x="13011" y="6757"/>
                  <a:pt x="10800" y="6757"/>
                </a:cubicBezTo>
                <a:cubicBezTo>
                  <a:pt x="8589" y="6757"/>
                  <a:pt x="6918" y="8498"/>
                  <a:pt x="6918" y="10813"/>
                </a:cubicBezTo>
                <a:lnTo>
                  <a:pt x="8772" y="10813"/>
                </a:lnTo>
                <a:cubicBezTo>
                  <a:pt x="8772" y="9673"/>
                  <a:pt x="9695" y="8785"/>
                  <a:pt x="10800" y="8785"/>
                </a:cubicBezTo>
                <a:cubicBezTo>
                  <a:pt x="11905" y="8785"/>
                  <a:pt x="12837" y="9673"/>
                  <a:pt x="12837" y="10813"/>
                </a:cubicBezTo>
                <a:cubicBezTo>
                  <a:pt x="12837" y="11553"/>
                  <a:pt x="12367" y="12284"/>
                  <a:pt x="11905" y="12284"/>
                </a:cubicBezTo>
                <a:cubicBezTo>
                  <a:pt x="10800" y="12284"/>
                  <a:pt x="9695" y="13763"/>
                  <a:pt x="9695" y="15287"/>
                </a:cubicBezTo>
                <a:lnTo>
                  <a:pt x="9695" y="17245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9720" y="356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 Black"/>
              </a:rPr>
              <a:t>Визначте, яку подію характеризує ця схема. </a:t>
            </a:r>
            <a:br>
              <a:rPr sz="2800"/>
            </a:b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3276720" y="2133720"/>
            <a:ext cx="2663640" cy="134604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краї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667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1403280" y="4437000"/>
            <a:ext cx="2737080" cy="91440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авобереж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5724360" y="4437000"/>
            <a:ext cx="2735280" cy="93672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Лівобереж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Гетьманщ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7"/>
          <p:cNvSpPr/>
          <p:nvPr/>
        </p:nvSpPr>
        <p:spPr>
          <a:xfrm>
            <a:off x="4716360" y="3500280"/>
            <a:ext cx="2016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 flipH="1">
            <a:off x="3058920" y="3500280"/>
            <a:ext cx="16570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9"/>
          <p:cNvSpPr/>
          <p:nvPr/>
        </p:nvSpPr>
        <p:spPr>
          <a:xfrm>
            <a:off x="250920" y="404640"/>
            <a:ext cx="649080" cy="82728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827280"/>
              <a:gd name="textAreaBottom" fmla="*/ 785520 h 827280"/>
            </a:gdLst>
            <a:ahLst/>
            <a:rect l="textAreaLeft" t="textAreaTop" r="textAreaRight" b="textAreaBottom"/>
            <a:pathLst>
              <a:path w="21600" h="27527">
                <a:moveTo>
                  <a:pt x="0" y="0"/>
                </a:moveTo>
                <a:lnTo>
                  <a:pt x="21600" y="0"/>
                </a:lnTo>
                <a:lnTo>
                  <a:pt x="21600" y="27527"/>
                </a:lnTo>
                <a:lnTo>
                  <a:pt x="0" y="27527"/>
                </a:lnTo>
                <a:close/>
              </a:path>
              <a:path fill="lightenLess" w="21600" h="275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27">
                <a:moveTo>
                  <a:pt x="21600" y="0"/>
                </a:moveTo>
                <a:lnTo>
                  <a:pt x="21600" y="27527"/>
                </a:lnTo>
                <a:lnTo>
                  <a:pt x="20200" y="26127"/>
                </a:lnTo>
                <a:lnTo>
                  <a:pt x="20200" y="1400"/>
                </a:lnTo>
                <a:close/>
              </a:path>
              <a:path fill="darkenLess" w="21600" h="27527">
                <a:moveTo>
                  <a:pt x="21600" y="27527"/>
                </a:moveTo>
                <a:lnTo>
                  <a:pt x="0" y="27527"/>
                </a:lnTo>
                <a:lnTo>
                  <a:pt x="1400" y="26127"/>
                </a:lnTo>
                <a:lnTo>
                  <a:pt x="20200" y="26127"/>
                </a:lnTo>
                <a:close/>
              </a:path>
              <a:path fill="lighten" w="21600" h="27527">
                <a:moveTo>
                  <a:pt x="0" y="275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27"/>
                </a:lnTo>
                <a:close/>
              </a:path>
              <a:path fill="darken" w="21600" h="27527">
                <a:moveTo>
                  <a:pt x="10800" y="1776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27">
                <a:moveTo>
                  <a:pt x="11905" y="17245"/>
                </a:moveTo>
                <a:lnTo>
                  <a:pt x="11905" y="15287"/>
                </a:lnTo>
                <a:cubicBezTo>
                  <a:pt x="11905" y="14460"/>
                  <a:pt x="12236" y="13763"/>
                  <a:pt x="12837" y="13763"/>
                </a:cubicBezTo>
                <a:cubicBezTo>
                  <a:pt x="13968" y="13763"/>
                  <a:pt x="14865" y="12397"/>
                  <a:pt x="14865" y="10813"/>
                </a:cubicBezTo>
                <a:cubicBezTo>
                  <a:pt x="14865" y="8498"/>
                  <a:pt x="13011" y="6757"/>
                  <a:pt x="10800" y="6757"/>
                </a:cubicBezTo>
                <a:cubicBezTo>
                  <a:pt x="8589" y="6757"/>
                  <a:pt x="6918" y="8498"/>
                  <a:pt x="6918" y="10813"/>
                </a:cubicBezTo>
                <a:lnTo>
                  <a:pt x="8772" y="10813"/>
                </a:lnTo>
                <a:cubicBezTo>
                  <a:pt x="8772" y="9673"/>
                  <a:pt x="9695" y="8785"/>
                  <a:pt x="10800" y="8785"/>
                </a:cubicBezTo>
                <a:cubicBezTo>
                  <a:pt x="11905" y="8785"/>
                  <a:pt x="12837" y="9673"/>
                  <a:pt x="12837" y="10813"/>
                </a:cubicBezTo>
                <a:cubicBezTo>
                  <a:pt x="12837" y="11553"/>
                  <a:pt x="12367" y="12284"/>
                  <a:pt x="11905" y="12284"/>
                </a:cubicBezTo>
                <a:cubicBezTo>
                  <a:pt x="10800" y="12284"/>
                  <a:pt x="9695" y="13763"/>
                  <a:pt x="9695" y="15287"/>
                </a:cubicBezTo>
                <a:lnTo>
                  <a:pt x="9695" y="17245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9720" y="333360"/>
            <a:ext cx="789300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 Black"/>
              </a:rPr>
              <a:t>За опорними словами укажіть наслідки Андрусівського договору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йна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сія, Польща, обмеження  прав України, Поділ  України на Лівобережну та Правобережну, Руї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50920" y="404640"/>
            <a:ext cx="649080" cy="82728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827280"/>
              <a:gd name="textAreaBottom" fmla="*/ 785520 h 827280"/>
            </a:gdLst>
            <a:ahLst/>
            <a:rect l="textAreaLeft" t="textAreaTop" r="textAreaRight" b="textAreaBottom"/>
            <a:pathLst>
              <a:path w="21600" h="27527">
                <a:moveTo>
                  <a:pt x="0" y="0"/>
                </a:moveTo>
                <a:lnTo>
                  <a:pt x="21600" y="0"/>
                </a:lnTo>
                <a:lnTo>
                  <a:pt x="21600" y="27527"/>
                </a:lnTo>
                <a:lnTo>
                  <a:pt x="0" y="27527"/>
                </a:lnTo>
                <a:close/>
              </a:path>
              <a:path fill="lightenLess" w="21600" h="275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27">
                <a:moveTo>
                  <a:pt x="21600" y="0"/>
                </a:moveTo>
                <a:lnTo>
                  <a:pt x="21600" y="27527"/>
                </a:lnTo>
                <a:lnTo>
                  <a:pt x="20200" y="26127"/>
                </a:lnTo>
                <a:lnTo>
                  <a:pt x="20200" y="1400"/>
                </a:lnTo>
                <a:close/>
              </a:path>
              <a:path fill="darkenLess" w="21600" h="27527">
                <a:moveTo>
                  <a:pt x="21600" y="27527"/>
                </a:moveTo>
                <a:lnTo>
                  <a:pt x="0" y="27527"/>
                </a:lnTo>
                <a:lnTo>
                  <a:pt x="1400" y="26127"/>
                </a:lnTo>
                <a:lnTo>
                  <a:pt x="20200" y="26127"/>
                </a:lnTo>
                <a:close/>
              </a:path>
              <a:path fill="lighten" w="21600" h="27527">
                <a:moveTo>
                  <a:pt x="0" y="275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27"/>
                </a:lnTo>
                <a:close/>
              </a:path>
              <a:path fill="darken" w="21600" h="27527">
                <a:moveTo>
                  <a:pt x="10800" y="1776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27">
                <a:moveTo>
                  <a:pt x="11905" y="17245"/>
                </a:moveTo>
                <a:lnTo>
                  <a:pt x="11905" y="15287"/>
                </a:lnTo>
                <a:cubicBezTo>
                  <a:pt x="11905" y="14460"/>
                  <a:pt x="12236" y="13763"/>
                  <a:pt x="12837" y="13763"/>
                </a:cubicBezTo>
                <a:cubicBezTo>
                  <a:pt x="13968" y="13763"/>
                  <a:pt x="14865" y="12397"/>
                  <a:pt x="14865" y="10813"/>
                </a:cubicBezTo>
                <a:cubicBezTo>
                  <a:pt x="14865" y="8498"/>
                  <a:pt x="13011" y="6757"/>
                  <a:pt x="10800" y="6757"/>
                </a:cubicBezTo>
                <a:cubicBezTo>
                  <a:pt x="8589" y="6757"/>
                  <a:pt x="6918" y="8498"/>
                  <a:pt x="6918" y="10813"/>
                </a:cubicBezTo>
                <a:lnTo>
                  <a:pt x="8772" y="10813"/>
                </a:lnTo>
                <a:cubicBezTo>
                  <a:pt x="8772" y="9673"/>
                  <a:pt x="9695" y="8785"/>
                  <a:pt x="10800" y="8785"/>
                </a:cubicBezTo>
                <a:cubicBezTo>
                  <a:pt x="11905" y="8785"/>
                  <a:pt x="12837" y="9673"/>
                  <a:pt x="12837" y="10813"/>
                </a:cubicBezTo>
                <a:cubicBezTo>
                  <a:pt x="12837" y="11553"/>
                  <a:pt x="12367" y="12284"/>
                  <a:pt x="11905" y="12284"/>
                </a:cubicBezTo>
                <a:cubicBezTo>
                  <a:pt x="10800" y="12284"/>
                  <a:pt x="9695" y="13763"/>
                  <a:pt x="9695" y="15287"/>
                </a:cubicBezTo>
                <a:lnTo>
                  <a:pt x="9695" y="17245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6:54:17Z</dcterms:created>
  <dc:creator>User</dc:creator>
  <dc:description/>
  <dc:language>en-US</dc:language>
  <cp:lastModifiedBy>User</cp:lastModifiedBy>
  <dcterms:modified xsi:type="dcterms:W3CDTF">2015-01-27T19:26:46Z</dcterms:modified>
  <cp:revision>15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013000000000001024140</vt:lpwstr>
  </property>
</Properties>
</file>