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765-8FF8-4816-9531-457B053A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7DE-AD52-4A8C-AD93-4C93B107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258-AA9B-431C-A439-8FD12184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93C-A987-4EB1-BF59-89B21C05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530A-6D5F-4156-BFB4-57267B35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79B6-0B7C-4283-99A3-4A3A672A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5404-8209-4289-BCA5-6041A20C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D8D1-8C4F-4ECF-8C12-129F1E16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E633-6702-4530-895A-57E7BBD9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258E-4541-45A3-9C66-9E4EF707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A3E7-E737-4D5B-A0C7-736405FB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A72-C990-444D-8A32-83A4E2D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C11A-F3FB-4DE6-8532-A07752F5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43E1-6B04-4411-AEE4-B26E91E5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01AE-9CA5-4323-84EF-6AC0B35B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6D79-CC46-4A07-9524-3C86C068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93D8-641D-4EDB-B791-56CBF1CB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05063-435A-4D94-BF9F-90CCE20D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17394-A9CD-4306-824F-4CF9C515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CCD95-1D2D-4587-99F9-08238A2D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EDD10-0E90-486A-91D9-A838809D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EB75B-5196-4B22-8B2E-FDE5A6F7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248-A8F2-44DE-9248-115FDCD6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CDD7C-2E78-4F28-AA5C-983DEE55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CDFEA-476F-4B19-A23F-61ABFC63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D0924-A8B2-449A-BB8A-E03BD57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0F00F-922D-4A96-98FA-307A7B5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3EC25-3C6A-413F-9768-923AE372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8663E-A9A2-435A-BBDA-BE6CEFDF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0F7FF-86E0-497D-8E3A-C8BA5F5D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7B2D-742B-46D9-B2E0-E04209EC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0ED1B-02B2-41DF-801E-AF0CCCEF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A323-1586-441E-B2B9-ECE87D4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803-B4BE-44B0-8850-3E2C807F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84CB-BCE6-43C5-BDE6-10F17881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7AA9-2268-4799-9485-6C3E7C78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A5AC-0EDB-401A-9DED-0FA8DBF2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F63C-8664-4759-AB83-226FF2AE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B5F3-8B69-430E-A684-B1E6C3F2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BF0AE-5D5B-4F39-825F-C53F7C1D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70B4-808F-4BF1-A9E6-D1C8A1CF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8F57-BC69-402F-B05C-E6CA971A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C27A-5594-4179-9128-3A6E939B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A92B9-9E5D-43A0-900C-E533FF2B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428-50ED-4630-92BF-45D5BF40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21923-B0D5-4D66-BD09-1C1576C1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E1CAF-B99B-4217-8687-FE86C855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4C3A1-A277-4BAC-871E-00422F54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49E5B-EDF9-4F5A-A467-7BBDA98D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84F55-B0A8-42AF-AFC9-1573181F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03FEE-67BD-4EB9-9BD1-DB56364E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0915E-D8B6-462E-A470-530D3A24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7D9BC-E8D1-4A29-9606-49796AE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618F8-6B65-4D56-A158-575B90B8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52BE2-9848-461F-A235-1F33705C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2F9-7180-49F8-BA62-1E7B5FF5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9031C-EC34-4CAA-A072-168B80DA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70856-14BA-4428-AE54-8B2D69BD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798C7-5E6C-4EB1-B509-FEAD3B1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0B281-8A40-42C9-8523-9FBC307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F3F7E-629F-490E-8605-4BC52B8A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79F3C-7A12-4A1E-B531-BE5AA6E4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604B5-4881-44B4-AAEC-8D8CB799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7E26D-4682-495D-B9AF-AB3D4B2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E122C-8040-49DE-92BC-6FB2A6B7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0D5A7-DFBF-4336-A138-449A6010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E39-280D-457C-A997-948ACE5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5F847-D8FB-44C7-BC51-15CA6696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7148B-987D-45B0-AEE0-690AE027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B1DBE-B9CE-4EA6-A7DD-BCC35776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7B1F5-0CF2-472C-94C1-48C66B47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459D8-B928-4AC1-BA9D-20678EF6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4FCE5-B3B0-407A-B95B-0D10D00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6B56B-C333-493D-B964-0016B5C8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E1115-874B-46F9-A76B-A7742A65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6E5DD-31EC-4248-A88C-DCAEF4FA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23750-6827-41AE-9699-40F28585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755-4D00-4FB3-A7E5-0F794DAE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E257E-37FD-497A-84BF-6F32B37C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017C9-BB7A-4614-8C8C-895871D2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54E7BC-DA8A-4666-A4CB-8BB08444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BFD23-68BF-47F3-B866-3545101F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1FEA2-0E86-4AC6-90CC-583A0577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305-6F9B-4882-B751-143E3D6E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20E8-5C7C-485D-BD95-7489B6D0C4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294C-EA4A-4F3C-BB78-3A808B58F6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2636-E275-4673-9D8C-B732E094BF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9AAE-937F-477E-B6F5-589F738C9D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1526-65CC-46D0-934B-2591FC3594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B86A-0AF0-4DE7-9AA0-4B940720FB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467E-31B9-4FF3-ABDC-6D7003F0559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603360" y="1852560"/>
            <a:ext cx="4406760" cy="4608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5508720" y="404640"/>
            <a:ext cx="3421080" cy="46771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900000" y="404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Дмитро Вишневец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ХОДИ КОЗАКІВ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6197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ЗАЦЬКІ ЧАЙКИ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5048280" cy="247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5148360" y="333360"/>
            <a:ext cx="3790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5114880" cy="339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3810240" cy="2324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5138640" y="109440"/>
            <a:ext cx="4011840" cy="2962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4"/>
          <a:stretch/>
        </p:blipFill>
        <p:spPr>
          <a:xfrm>
            <a:off x="4059360" y="3352680"/>
            <a:ext cx="46339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ЗАКИ НА ЧАЙКАХ АТАКУЮТЬ ТУРЕЦЬКІ ГАЛЕРИ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486240" cy="2571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3815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ЗАКИ ГЕТЬМАНА САГАЙДАЧНОГО ЗДОБУВАЮТЬ КАФУ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143000" y="1946160"/>
            <a:ext cx="609588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3-04-16T09:12:00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35000000000001024140</vt:lpwstr>
  </property>
</Properties>
</file>