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ABD-3DF3-4D83-B666-9A5C4D53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FC0-DAC7-47AA-BB9E-59D1C75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1D8-8680-4F08-AAFC-AB5B8753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387-B6F1-4A28-A013-28EC6330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8491-2D57-4F42-8149-758D3E02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92AF-D604-4AFD-958B-C9E1166A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1EA0-60CF-4964-93D8-22342E4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1BC6-2F0B-4F51-BC4A-ABEEEB4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A1BC-31A6-4778-90F8-E17B623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4DC7-B7E6-46C2-92A0-1445392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34AD-59D4-4E18-B133-1A5422B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97D-0716-4AA0-AD5F-0E82558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C2F7-C26C-4212-BBC1-A3EC05B2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947-AB67-453B-ADF6-81B36BF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90FE-7C85-4DD5-A61B-2A5448B3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1793-151D-461E-B97C-969BB492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15D-7F4C-4807-9F83-BED4BB5B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5BB6C-158F-4CBD-870C-49E8178A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C332B-20DD-43F9-8B3A-21A6DDB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FCC41-9032-4BC2-AF96-78C577A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C1300-5F38-4BA5-B132-80793A3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352C5-E69C-49DB-9C76-C8DE2955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D5B-108E-4693-90FE-7084356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BEBCD-A513-4199-A89A-896A7843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925A6-6C52-455E-B4E6-F01554C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ACD06-4B11-4C7A-BFA3-55DD3DF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7ACE7-C76D-4DA7-A788-2BE9B2E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F00D8-AEC0-41E4-ABD0-392D6A1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E5024-C44B-4A6E-98DA-4A5E8F8D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9311F-571F-41FA-BB7C-441F010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91FC-EAF1-4307-809B-740372CC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702A-9678-4247-9169-7ABE027D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F1C2-1703-46AD-8EAC-7385D12E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AA9-65A3-47A3-BB58-4E83F18A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CD9D-5B97-44EB-AEB6-C1457E22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5720-5495-452F-B0E3-3452232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BE24-6BCD-4C4F-A842-415A01D0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FBDA0-CCB3-4D22-B967-9793B0D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0A89-406F-474B-8548-1A5C326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9F4B-C1B0-4E5F-97CB-B612825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73F1-1CB2-4CA7-935D-D1E2263E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8D0C-C05B-4A4D-982F-A155AB98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A6C4-62CC-43F8-ABDC-512E261E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7AFE1-A854-4835-A3AD-D20B2304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CA5-AFF1-4BDE-BE36-4B208EF0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38F8D-9242-46C1-85C6-6AEB670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2730F-3971-45AF-A0DA-4F75C6A6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DB47C-A4B8-4C00-BCA0-00BF467C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2A722-D28B-478A-AC49-5C290FA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48D76-EE8C-4B6C-B41F-8052F5AB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F50D2-562A-4F5B-A71B-E3384F17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40402-62C2-4A67-A1C8-A0BF6F4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A8B35-A33A-4CE4-B6AE-A0AFE3C8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39461-85B7-40D2-91A3-4F810C5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C85C4-AB36-4AF7-BB29-C5D95F81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C79-0390-40E9-BC63-5F615A5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AFE72-827E-47E2-AD44-DF14A034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C8F14-719D-4EDD-94B4-95E154B1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0B1E8-3D48-48CB-B29A-410131EE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2BDC2-AC95-44F2-AE39-AFF3149E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9051B-0C01-422B-9D54-77D2FDA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9F097-2401-4ED9-A372-287CFF4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2D2A0-A8A8-4508-B257-6A8E0047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D4637-AEF1-43CF-B83E-213F5F5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90E1A-1ABE-41C4-AB6F-A52E1CC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CE0B8-1159-4CB6-879E-A04574C3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597-C22C-4291-92F4-5C1F883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21352-CDBC-40F3-B461-F85A5B3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B08F6-3A14-43AC-B716-81883BE1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A8D9A-A011-4E3D-B5CA-C709F08A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056D2-5476-40E1-95C5-4F0B2BD8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1C9B2-C141-4ED6-8E59-6344D56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55DFD-4C8B-4712-89F2-B9E8FD98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194BA-6128-4AAB-83DA-77B9E0D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7D58A-A6E3-4F37-B791-A8C9145B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C0403-D18D-40FE-A119-91A890B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AF192-075B-4FB3-8628-1A0F4F4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3BB-EF2C-42EA-A5C3-03395FB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320B2-ACB0-47AC-8F40-471F0FC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16DC0-6D1A-4784-B67A-B6599F6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8C2A4-8CCE-47AA-9A6D-D3D5427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50C3B-B393-43A2-AD40-384807BE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3F78A-2FBE-448B-B929-B9B90E6A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07B-8B0B-4D69-BF28-FB024FA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5514-83E2-4ADA-A3E8-04309B5F79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9934-D6A4-421E-ACAD-D9CF8F2199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CEE4-83F6-4BFF-8501-C7317EE8D4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16C-7F07-4227-AE82-0238E09D67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01A-AF2D-4F4D-9262-B9DD27FF3C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973-4B36-424A-A6AF-88D225D221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C03C-4A2A-4792-AA98-3D75DDF1FB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603360" y="1852560"/>
            <a:ext cx="4406760" cy="4608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3421080" cy="46771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00000" y="404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Дмитро Вишневе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ОХОДИ КОЗАКІВ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197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ЗАЦЬКІ ЧАЙКИ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504828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790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5114880" cy="339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3810240" cy="232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5138640" y="109440"/>
            <a:ext cx="4011840" cy="296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4059360" y="3352680"/>
            <a:ext cx="46339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ЗАКИ НА ЧАЙКАХ АТАКУЮТЬ ТУРЕЦЬКІ ГАЛЕРИ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486240" cy="2571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3815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ЗАКИ ГЕТЬМАНА САГАЙДАЧНОГО ЗДОБУВАЮТЬ КАФУ 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143000" y="1946160"/>
            <a:ext cx="60958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3-04-16T09:12:00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35000000000001024140</vt:lpwstr>
  </property>
</Properties>
</file>