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49C-2AB9-4B28-8CAC-036F435D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DA4-24B9-4FD9-8F48-CDA7469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E1F-2DC5-4676-8F9B-14DD77E0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576-FD89-4A0B-B5AA-7B482173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223-942A-44C6-825E-B4F0D917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765B-3DB8-46ED-972C-308AA1AE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3B60-D5B3-4DE2-9297-F9E74CE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CD96-0A05-466A-BC58-FC71024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3DD-C828-4CC9-8F9C-A171C6E8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CE3-6007-4232-9DF5-2AA3DC39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5154-EDC2-44C3-B96C-85A5EE2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20F-7FAF-4CA9-9F6C-F4F9311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3688-7453-4E4E-8855-D1243F7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063-3BDE-472B-AC1D-F58B5D0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FB1-C30D-42EE-AF3E-5AD6A3F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3639-2942-4BF5-BE5B-D605FBAF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5FF3-ECED-46DD-AD89-771FDFBA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635AD-6EE4-48B1-A379-AA533A1E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344B4-9423-4C9B-AD1E-F8E0F91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D1EFC-BB45-4BD1-9123-B36849E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7D191-4E6F-4116-B698-E8DFE7A8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9C8D4-91DD-4485-9FCB-B8E8A26D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6AC-C3B1-422C-8147-8F0C0F21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29630-9700-4D34-BE51-420FBAF6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F0B06-D5FB-48B7-A6A1-78C69D2C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64CCD-9150-4E0E-95A2-2EF7A4C4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BFE18-16B4-46D6-9710-85082AC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5A49F-3D2E-4E2D-93A6-447B405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D2915-2722-46CD-BAAB-66DDE001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9E8E6-ADFE-44D6-9384-C17F4129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A6DD-9637-4D96-9CB0-EB6727F8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33C7-B70F-48FB-9371-4B27A640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1D74-A5A8-4C34-9FB3-9CF7C49B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AC0-0B05-498D-8CC9-60C1E9FC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B9F8-8EB9-4CDF-8128-E5872C8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A365-37DC-4462-8DC3-5019A820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91EC-0495-4004-BB5F-59A0E153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0053-7443-4E64-A33D-CACF58C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BF19-3521-40EF-B8E1-B45F8C0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F4FE-3DD8-44BE-ADC4-AD7EA95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9FD0-CDA2-45D6-A88D-971C8006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8555-2E29-49A8-B532-DE181145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40AA7-3751-4245-837F-6521A232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9AACE-DD4F-4960-9FDE-47C176CC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ACF-1878-484F-8425-67C0BF4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6D164-CEF7-4907-9767-75FF025F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C4196-B908-4F06-B658-BA270D3A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E55EE-23A8-470A-898A-DC4E511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5205B-9CA3-40FF-958A-3EA192F6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B34DF-2B8E-4CB8-A696-670730D7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76F73-67CF-4DEA-81EE-E635E22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108BB-63F3-4515-803C-31FAE1A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D5C14-4B61-4A0A-867F-F1A50EA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5D41D-4C54-4B90-9B65-5ED0E481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F19C8-243B-4143-87EF-E4CA914C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E51-4BDD-4D98-BFC0-64A647C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C4618-C326-426D-AF36-0A1F3B85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7765D-91B9-426C-932D-C4C4B164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EDD25-C1E4-4093-8546-3C0B6CBC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885DA4-94AC-4246-AA21-518DCCE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DDACF-4F90-4507-A244-95662DD7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8330A-059C-47ED-9CD5-D2279316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198B3-24E7-469A-AA93-19AEC08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05EE8-4815-40CD-BE0D-BE7AB324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3C6A0-A6D6-4CCD-B869-BF68F60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6ED1F-FD28-48EF-95CA-1083513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3CD-2506-442E-A078-3E71FA2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965EB-ABE6-4497-BD59-F22D524D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B4808-E56F-4A75-AA60-B946A4A0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045C8-8261-4113-B9C4-0CD3891D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24D8A-36DB-408A-8B10-BEE9B991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D3D06-72E3-4221-A01C-4993366C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CF53E-1C60-4312-ADC3-24A73E50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DB3B1-F1E4-4109-B58F-56B57998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51BF7-D696-441D-9283-741C316C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1E52C-E9FC-4DEB-999B-C8D0893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B9F21-E300-4463-8A2D-15035C3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049-82C2-4D17-BA46-18BCE642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8699B-ED0B-45C5-833D-15C74BC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F7D84-359D-4A8A-B7EB-A9C5612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0380D-81D9-4495-A920-96E733C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F9973-EF67-44AF-AD7B-35962C15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43BD0-49D1-4775-93F8-FF9C1484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D2E-B7BB-4011-ADE3-0C942360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71C-1EC0-4BF9-8D92-62C1DA36A3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6C87-EE04-4952-B87B-2BF81E9F15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FF6-3B1B-4014-B24F-69C5A79042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9452-BD78-4C5B-92F8-70A820B5DD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CF79-5089-40F6-86B1-89CC262F4C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D16-555D-4344-80B3-7336724536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CAFD-D407-4B8A-8C02-0178C488E5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03360" y="1852560"/>
            <a:ext cx="4406760" cy="4608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3421080" cy="46771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00000" y="40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Дмитро Вишневе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ХОДИ КОЗАКІВ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197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ЗАЦЬКІ ЧАЙКИ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504828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790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5114880" cy="339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3810240" cy="232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5138640" y="109440"/>
            <a:ext cx="4011840" cy="296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4059360" y="3352680"/>
            <a:ext cx="46339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ЗАКИ НА ЧАЙКАХ АТАКУЮТЬ ТУРЕЦЬКІ ГАЛЕРИ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486240" cy="2571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3815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ЗАКИ ГЕТЬМАНА САГАЙДАЧНОГО ЗДОБУВАЮТЬ КАФУ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143000" y="1946160"/>
            <a:ext cx="60958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3-04-16T09:12:00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35000000000001024140</vt:lpwstr>
  </property>
</Properties>
</file>