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D3F-4755-4840-91EC-1DA71786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799-62DA-45BE-85F8-E164C621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6D3-0EA7-4196-9CA3-B2BCB0FD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91E-F940-49CB-A476-96EBC18C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EA30-F909-4FFE-BC66-1C604E19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5CB8-D6F3-4698-A4BF-1BDE1D14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54DA-6222-4809-ACE7-FFDA0340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6853-A9C3-417F-8426-78FC551E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6B48-27C2-40D9-B093-4BF3EFCC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605D-DA20-49F1-B5E0-654C4371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9422-FCB3-4888-8516-A9381C6C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463-CEB9-4508-8CBE-DD36D721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FFCD-30FB-4A59-A556-2DA01880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FC39-82DE-4834-8EE7-B1631967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4A57-0915-4485-8AAA-F0C1F6BB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7F8A-EEE8-4270-9A8D-77C2A346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1AD1-710E-4A9A-AD65-73BEBF89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63FC-3A3A-418E-B93B-5EFF1854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B292-3297-4D6E-826F-34B71B7A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2B72B-7A2B-4463-8710-2C630679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F60E-BCE5-4587-9A00-ADF8FBF4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AF25-CE72-4062-9C15-BC5993C2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8D2-860E-445B-B00F-2FCC6EEF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E99E-72A3-47E1-B9C3-FCAA87BD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66663-5060-4E5D-8C4F-254B8237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388C-5FAF-48C7-9FC1-B5DD0FAB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2F65-B8B7-4C3C-8891-BE6A1234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C78C-8BB1-4CF7-9A05-4DE5463E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E58C-4200-4D01-B1DB-476262D6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16B5-EA75-4973-8729-FEFAF83D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D1CF4-5DF6-4F4E-8F66-0577AB81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D99F6-D437-4BCE-9FF3-538F43F3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785AC-0453-4FB5-8D14-6573B3BF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5B9-421F-4D47-8C89-ECC056D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E1DBA-4210-4324-9934-3DD8FB97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1E542-CAE2-4652-A805-6BE8A0DA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9863A-E0DB-4A82-B62E-F85B09FA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5F638-58C5-49A3-92D4-C9675451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B54C7-BD8B-4E11-A5B0-B2775825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05C2A-86D0-4BE5-B3DD-22956852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54973-5262-4DBF-A2C6-B943BBD5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255EC-3891-49AD-B509-4136FEEB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E3C4-A730-422F-857B-A652EABB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90554-57C1-4D29-BD8D-18BDB25E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FA3-E09E-48DD-BB8A-C1872AC2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9F78-70BB-4DCE-A4FB-26471C51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822B0-FDE7-43DD-AEDF-D7155D88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910A3-DF4A-4BEE-B1FE-C321F3E1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F32B6-0A4E-4930-B573-6337E478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CB3C4-713F-43D2-AC8A-9D52946F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85688-F785-47DF-BA57-EDC8918E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5E360-86D8-4EF1-8592-08BC5E7B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41ABB-5B0F-4C80-A8CB-CABB68C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47ED5-5CF3-4BCB-970B-B895C4B4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AC1B7-0FE0-45EA-A3D5-A24AC7A9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A81-900B-4AC1-B480-B533BE2B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6E871-D504-4B22-B149-784BB02C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24D83-FFC9-4499-97FA-93D0078B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B90C7-1CAF-4811-9E19-FE4DDFD4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34975-F1E8-422C-BDC6-94226366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528A-A673-4226-B144-6F3FCF5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389B6-987A-4548-975C-EDCC012A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B24E-A712-4CA0-8A17-1608D7A5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9AF42-073C-44CA-81D8-909643D4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F256-BED4-4B70-97A4-9F48B7B4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6CEC8-E463-49DA-B0C0-A34CB001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AB6-056C-40DC-B93B-E2FC794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4A043-1E6A-46F9-9B4D-A6277ABB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F32B9-77AA-41E8-8F6D-3D3F5206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5CEF8-F403-4A2C-9745-E23708CD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C783A-5C40-4ED9-BAA8-516E5758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6C098-375D-4E08-B5CF-E761AB1B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71969-F84D-422D-9590-9420C893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C9D4F-2468-4812-9D9F-372C04A6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80CDC-A745-46AA-A632-115DB103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14FD1-451F-46B9-BFDB-5E3F6ED4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4A549-2B5F-45FC-BB1F-83DEA325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E4A-06A5-400E-936A-3E6A892B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80F5F-CBDF-4F08-9B70-9430F23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2EA2C-B9F9-4253-BA65-34937101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78E6E-6EBE-4154-A9DD-56B48F14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C9DD5-10C4-46CA-94C7-BFCE129C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5D7A1-D77D-4F39-BE86-D4B8AE2D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7D638-871B-412D-AA71-900CB990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B0D12-D729-4442-B2A9-6FD05880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94F09-85CA-4F90-96F9-2FA55297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659C6-15CC-40EC-AB4B-9FE3E9C9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9E24F-9A1A-4734-8D5C-88958335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2D3-8788-45EE-8CD7-C09ADB9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2DCD1-4EFA-4F9E-8B05-6A46A552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52F0C-F177-4FEC-9E87-A445EDDA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75AF3-BC8B-4899-9CE5-654A6CCE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67242-B857-458F-A1CD-4C46445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71B60-E897-41AE-B693-9AC948DF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E5866-635C-4805-AA22-E0C1F4AB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A4931-596D-4720-98C4-B408FC59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DB33-1129-4186-809D-BA88AA63731B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-6480" y="27986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BB2E-C103-4220-B8AF-2D06D765CF06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970A-A54A-40B4-891F-F757F4CC9628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B88A-954B-48AF-B04B-10951175D295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A4FF-3342-4740-BCC4-4283F870A23D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81A4-640D-4D92-B2CC-2F88A1C3A166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91A2-5C7E-4CB5-814A-C8583B4655B5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b13f9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1794-0FB9-4B0A-BF20-3B6FA1CD3352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311640" cy="374508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1"/>
          <p:cNvSpPr/>
          <p:nvPr/>
        </p:nvSpPr>
        <p:spPr>
          <a:xfrm>
            <a:off x="2050920" y="4869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Життєвий шлях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араса Григоровича Шевченк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042560" y="1096920"/>
            <a:ext cx="3816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23 квітня 1850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Шевченка заарештували за порушення царської заборони писати й малювати. Після слідства, з Орської фортеці його перевели до Новопетровського укріплення на півострові Мангишлак, куди він прибув у середині жовтня 1850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Сім років перебування в Новопетровському укріпленні — чи не найтяжчих у житті поет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1 травня 1857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було дано дозвіл звільнити Шевченка з військової служби зі встановленням за ним нагляду і забороною жити в столицях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2" name="Picture 4" descr="0039"/>
          <p:cNvPicPr/>
          <p:nvPr/>
        </p:nvPicPr>
        <p:blipFill>
          <a:blip r:embed="rId1"/>
          <a:stretch/>
        </p:blipFill>
        <p:spPr>
          <a:xfrm>
            <a:off x="4932360" y="692280"/>
            <a:ext cx="3871800" cy="53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1116000" y="141300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літку 185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Шевченко відвідав Україну. Зустрівся в Кирилівці з братами й сестрою. Мав намір оселитися на Україні. Шукав ділянку, щоб збудувати хату. Та 13 липня біля с. Прохорівка його заарештували. Звільнили через місяць і запропонували виїхати до Петербурга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ці роки Шевченко багато працював як художник, майже цілком присвятивши себе мистецтву офорта (186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ада Академії мистецтв надала йому звання академіка гравірування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січні 1860р. під назвою “Кобзар” вийшла збірка, яка складалася з 17 написаних до заслання поезі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1042920" y="1444680"/>
            <a:ext cx="698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26 лютого (10 березня) 1861 року Шевченко помер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На кошти друзів 1 (13 березня) його поховано спочатку на Смоленському православному кладовищі в Петербурзі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Після того як п'ятдесят вісім днів прах Т. Г. Шевченка перебував у Петербурзі, його домовину, згідно із заповітом, за клопотанням Михайла Лазаревського, після отримання ним дозвілу у квітні того ж року, перевезено в Україну і перепоховано на Чернечій горі біля Канев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621240" y="3024360"/>
            <a:ext cx="1828800" cy="263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258920" y="1628640"/>
            <a:ext cx="655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Тарас Григорович Шевченко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країнський поет, письменник (драматург, прозаїк), художник (живописець, гравер), громадський та політичний діяч, фольклорист, етнограф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971640" y="1125360"/>
            <a:ext cx="406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родився 25 лютого (9 березня) 1814 у селі Моринці Звенигородського повіту Київської губернії (нині село Звенигородського району Черкаської області) в закріпаченій селянській родині Григорія Івановича Шевченка та Катерини Якимівни Бойко козацького походженн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2787840" cy="388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>
            <a:lum contrast="12000"/>
          </a:blip>
          <a:srcRect l="0" t="-2167" r="-48" b="0"/>
          <a:stretch/>
        </p:blipFill>
        <p:spPr>
          <a:xfrm>
            <a:off x="2411280" y="2637000"/>
            <a:ext cx="3924360" cy="2644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781080" y="530028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тьківська хата в с.Кирилівк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.Шевченкo. Олівець. Вересень 184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/>
          <p:nvPr/>
        </p:nvSpPr>
        <p:spPr>
          <a:xfrm>
            <a:off x="1042920" y="10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тьки Шевченка були кріпаками магната генерал-лейтенанта Василя Васильовича Енгельгардта - поміщика, що володів 50 тис. кріпаків і був власником близько 160 тис. десятин землі. До володінь Енгельгардта належали також села Моринц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і Кирилівка, де проходило дитинство малого Тарас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1042920" y="1197000"/>
            <a:ext cx="7058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сени 1822 року Тарас Шевченко починає вчитися грамоти у місцевого дяка Совгиря. Знайомиться з творами Г. Сковороди. В період 1822–1828 років намалював «Коні. Солдати» (картина не знайдена)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ід час навчання Шевченко ознайомився з деякими творами української літератури. Відчуваючи великий потяг до живопису, кілька днів наймитує і «вчиться» малярства в диякона Єфрем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арасові минуло 14 років, помер В. Енгельгардт, і село Кирилівка стало власністю його сина П. Енгельгардта, Шевченка ж зробили дворовим слугою нового поміщика в маєтку Вільшані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продовж майже 2,5 років — з осені 1828 року до початку 1831 р. — Шевченко пробув зі своїм паном у Вільні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16000" y="821520"/>
            <a:ext cx="7056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1831 році сімнадцятирічний Шевченко приїздить до Петербурга, куди було переведено Енгельгардта. У 1832 році Енгельгардт законтрактував Шевченка на чотири роки Ширяєву - різних живописних справ майстр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ізніше відбувається знайомство художника-кріпака з Гребінкою, Григоровичем, Венеціановим, Жуковським, Брюллови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43280" y="1465200"/>
            <a:ext cx="345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квітні 1837 року Брюллов створює портрет Жуковського, який був розіграний у лотереї за 2500 карбованці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ці гроші було викуплено Тараса Шевченка з кріпацтва. 25 квітня 1838 року на квартирі Брюллова йому була вручена Жуковським відпускна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3448080" cy="45370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1280" y="5445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.А.Жуковськи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35280" y="1036440"/>
            <a:ext cx="439416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“      “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Художника Шевченка за складання бунтівничих і надзвичайно зухвалих віршів, як обдарованого міцною будовою тіла,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призначили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рядовим в Оренбузький Окремий корпус, доручивши начальству найсуворіше наглядати, щоб від нього ніяким способом не могли виходити бунтівничі і пасквільні твори…”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З вироку царського суд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8 червня 1847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 Шевченка привезли до Оренбурга, звідти до Орської кріпості, де він мав відбувати солдатську службу. В Орську він порушив царську заборону писати. Свої нові твори він потай записував до саморобних “захалявних” зошитків. В Орській кріпості поет написав 21 твір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8" name="Picture 4" descr="0_28685_3740c7b_XL"/>
          <p:cNvPicPr/>
          <p:nvPr/>
        </p:nvPicPr>
        <p:blipFill>
          <a:blip r:embed="rId1"/>
          <a:stretch/>
        </p:blipFill>
        <p:spPr>
          <a:xfrm>
            <a:off x="250920" y="1125360"/>
            <a:ext cx="3309840" cy="43340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115640" y="119664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У 1848р. на клопотання Шевченкових друзів його включили як художника до складу Аральської описової експедиції, очолюваної О. Бутаковим. З жовтня 1848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 до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травня 1849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експедиція зимувала на острові Кос-арал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0" name="Picture 4" descr="0035"/>
          <p:cNvPicPr/>
          <p:nvPr/>
        </p:nvPicPr>
        <p:blipFill>
          <a:blip r:embed="rId1"/>
          <a:stretch/>
        </p:blipFill>
        <p:spPr>
          <a:xfrm>
            <a:off x="900000" y="2133720"/>
            <a:ext cx="7620120" cy="453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7:23:47Z</dcterms:created>
  <dc:creator>Аллювий</dc:creator>
  <dc:description/>
  <dc:language>en-US</dc:language>
  <cp:lastModifiedBy>Полтавський</cp:lastModifiedBy>
  <dcterms:modified xsi:type="dcterms:W3CDTF">2013-12-23T19:21:09Z</dcterms:modified>
  <cp:revision>9</cp:revision>
  <dc:subject/>
  <dc:title>Тарас Григорович Шевченк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35000000000001024140</vt:lpwstr>
  </property>
</Properties>
</file>