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EF0-04AA-4691-BDD4-301E1D42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9CD-71C7-4534-9E45-2435AD4B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0548-C80E-47D6-8CB2-00CA84D1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260-22D9-4831-A7F8-28C7EA4A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4586-5F68-4932-A17E-7738FA8E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675D-ADEE-4F47-B396-83D9887F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4A6B-30C5-4A37-8A2F-5D3CD0D8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1251-0F09-4D46-9823-356F06A6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7043-592C-4F64-8264-0C986663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F732-1E9C-4D1F-9E15-B2B1AC8E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734F-8822-4831-94B4-B00342EB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423-BE1C-47B7-B542-E844B913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DC8E-552F-4B2A-9A97-DC99BBEE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4CF6-86AF-45CD-830D-9918B5AA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31B1-619A-4C66-B7C7-590BF6BC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03F4-327B-4CBF-B275-FF4980B8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5A72-88F1-42CD-B9ED-F2DEDA74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307C5-A93F-48DD-9590-C5DA33E5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BF975-FDC0-423D-B2BF-7E2E8591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F515-57B4-4EE7-AE15-1F36EFF0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169D7-2BAA-4E8F-8A7C-ABFDE21E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67A0D-29BB-416B-B474-BF1DAD4F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402-C46C-4C2C-9025-63D71A90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C51E3-CF62-45D1-9984-356F0CD6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A9F58-1BC3-406E-9EE4-CC8689F7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027B-F968-470B-AA7A-6A03B971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A81A-B3C8-4A50-8DE2-B5E9FDDE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56B93-9C3C-4FC2-A64D-C8587187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2219-03C6-44B4-98FC-208B2A36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CFAE0-D6FC-4EE2-83D7-8E2B9BDB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E219D-FFDB-4C78-84F9-E68C8E9F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8D458-07AD-47C2-8FF6-2E6D4846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579EE-564A-4A77-869A-6F803361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858-C078-424F-B632-73B6DBAC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CAAAC-3C17-42FC-BF1A-FC24A507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940FE-088E-470E-A0E5-B5D0BEA8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D2015-F221-4346-BC63-EA895A6B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3F25C-EDF6-4D79-9FDC-79DD7763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D3CE0-D69E-4D0C-AE41-EA6C5F42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A0A0D-D46A-4F84-86C6-700FCB3C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77C08-2CB7-47C1-9FCB-F115DE77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4E502-E5AA-4D93-B032-BFA99CF3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90068-90AE-4C3B-A0DF-06D7107A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614F9-10BA-4AD1-9047-DA4740B8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6A1-DDB5-4511-B02F-7EDC86B0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ED0F8-3C2B-4E19-A87F-E9F7EDF9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D1CB1-CD25-4A63-B24A-EE6575AF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00483-CF4A-47AC-A41F-E8EECF7C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E90E3-477A-4E4E-9ACA-D44F3700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48131-A1F3-4E6A-B320-84211A1E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B0FC3-FD11-41F5-BA00-2BCDC141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7E3D7-67D4-4727-9341-4764A1AD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59D7C-D92C-488E-9186-27480E55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828F1-DE21-4ED6-B85C-31173196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32741-A63C-4F1D-AE55-FDB8B69E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9FA-F74B-43CE-A235-A575EC3A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80CE8-8036-4D23-A298-2B8CBC9D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94ABF-DA76-40C0-AE4C-F6EAE777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BE358-EA4B-48C5-9A74-821E7B91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FA8DB-4AF3-413C-BA30-4157519A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4DF08-EC3D-4206-9156-BB3ABCC0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0E15F-B871-46B7-990C-4B328A30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903D6-34B6-4A53-A0E2-560FAA65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10F66-A158-4F2F-85F1-B19FB13A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641E4-34F6-4B7C-9CA2-F675A090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9939A-44E4-45ED-898A-15290F0E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1F7-E28B-4B28-A4BC-DE1F41DF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DE949-7E8F-437E-8E13-B48B7059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D6D11-B143-483C-B0FD-AD028061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5CC15-2323-49D9-BC78-599B5491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53A76-F021-46D0-8E20-7C1C8A43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291F8-CFFF-4437-86FF-FCA4110D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A8800-99CD-49CD-9800-FF0A33CC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B55A2-A3FE-42C4-AF29-7393A9F3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4CC50-B487-4A01-A471-7ED1020B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7B37E-D150-433A-AE00-07F63BB0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D9125-3F0C-4EB5-9346-6AE38EDE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1B0-7FEA-4701-BF6B-7F4F0797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AFD1A-2D6F-4804-849D-06157321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A455B-19E6-4E92-8103-B5F8AF00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4015B-1E11-4964-BB60-6D3AA01E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DBA2E-6093-4886-8F2E-3F7CE9A6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2D57E-7D8F-4A78-A123-4416001D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439C9-802A-4AD0-A6FA-C8DAD448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6E796-C725-42B0-B9D5-E4B61F4E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8FF57-74C0-4407-90DE-CA933B86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8453E-B8DD-4D9F-B758-60D3D74B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C6DA6-EBC8-40E6-9E2D-9E55B085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FEE-5A13-4BDA-AE25-58E466F4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9F9D7-2657-4F2F-8BD9-C50A192E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3C92D-C42A-4539-B4F8-8C92B9C0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08267-B2AC-4147-A9AC-A5B4963F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0F966-5424-4552-814F-6ADF4EE1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C3FE8-21DF-4577-8C51-AA34E71C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B411D-5FD7-4FB9-896B-98407C7B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C7977-6B11-433B-8200-D108B81F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BD33-826F-4F1D-BBF1-61AC5443024D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-6480" y="27986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557E-648D-410F-A325-45FD6318E869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80CE-F25B-4ACF-BF2E-BAE219D585CC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flourish2.png"/>
          <p:cNvPicPr/>
          <p:nvPr/>
        </p:nvPicPr>
        <p:blipFill>
          <a:blip r:embed="rId3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lourish2.png"/>
          <p:cNvPicPr/>
          <p:nvPr/>
        </p:nvPicPr>
        <p:blipFill>
          <a:blip r:embed="rId4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0B7D-976F-4943-B985-366F6FBECF3B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8A80-3119-4234-89F6-52724544B1D7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3FAF-0FA9-4B5D-B8D9-F2B3D873C621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BB14-9F7D-4C2E-8575-5067C7F96D4C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9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b13f9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9385-948E-4FE5-A43C-6022AF152046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311640" cy="374508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1"/>
          <p:cNvSpPr/>
          <p:nvPr/>
        </p:nvSpPr>
        <p:spPr>
          <a:xfrm>
            <a:off x="2050920" y="4869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Життєвий шлях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араса Григоровича Шевченк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042560" y="1096920"/>
            <a:ext cx="3816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23 квітня 1850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Шевченка заарештували за порушення царської заборони писати й малювати. Після слідства, з Орської фортеці його перевели до Новопетровського укріплення на півострові Мангишлак, куди він прибув у середині жовтня 1850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Сім років перебування в Новопетровському укріпленні — чи не найтяжчих у житті поет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1 травня 1857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було дано дозвіл звільнити Шевченка з військової служби зі встановленням за ним нагляду і забороною жити в столицях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2" name="Picture 4" descr="0039"/>
          <p:cNvPicPr/>
          <p:nvPr/>
        </p:nvPicPr>
        <p:blipFill>
          <a:blip r:embed="rId1"/>
          <a:stretch/>
        </p:blipFill>
        <p:spPr>
          <a:xfrm>
            <a:off x="4932360" y="692280"/>
            <a:ext cx="3871800" cy="53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1"/>
          <p:cNvSpPr/>
          <p:nvPr/>
        </p:nvSpPr>
        <p:spPr>
          <a:xfrm>
            <a:off x="1116000" y="1413000"/>
            <a:ext cx="69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літку 185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Шевченко відвідав Україну. Зустрівся в Кирилівці з братами й сестрою. Мав намір оселитися на Україні. Шукав ділянку, щоб збудувати хату. Та 13 липня біля с. Прохорівка його заарештували. Звільнили через місяць і запропонували виїхати до Петербурга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ці роки Шевченко багато працював як художник, майже цілком присвятивши себе мистецтву офорта (186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Рада Академії мистецтв надала йому звання академіка гравірування)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січні 1860р. під назвою “Кобзар” вийшла збірка, яка складалася з 17 написаних до заслання поезі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1042920" y="1444680"/>
            <a:ext cx="698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26 лютого (10 березня) 1861 року Шевченко помер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На кошти друзів 1 (13 березня) його поховано спочатку на Смоленському православному кладовищі в Петербурзі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Після того як п'ятдесят вісім днів прах Т. Г. Шевченка перебував у Петербурзі, його домовину, згідно із заповітом, за клопотанням Михайла Лазаревського, після отримання ним дозвілу у квітні того ж року, перевезено в Україну і перепоховано на Чернечій горі біля Канев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3621240" y="3024360"/>
            <a:ext cx="1828800" cy="263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258920" y="1628640"/>
            <a:ext cx="655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Тарас Григорович Шевченко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країнський поет, письменник (драматург, прозаїк), художник (живописець, гравер), громадський та політичний діяч, фольклорист, етнограф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971640" y="1125360"/>
            <a:ext cx="4065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родився 25 лютого (9 березня) 1814 у селі Моринці Звенигородського повіту Київської губернії (нині село Звенигородського району Черкаської області) в закріпаченій селянській родині Григорія Івановича Шевченка та Катерини Якимівни Бойко козацького походженн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5219640" y="1268280"/>
            <a:ext cx="2787840" cy="388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>
            <a:lum contrast="12000"/>
          </a:blip>
          <a:srcRect l="0" t="-2167" r="-48" b="0"/>
          <a:stretch/>
        </p:blipFill>
        <p:spPr>
          <a:xfrm>
            <a:off x="2411280" y="2637000"/>
            <a:ext cx="3924360" cy="26445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781080" y="5300280"/>
            <a:ext cx="42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тьківська хата в с.Кирилівк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.Шевченкo. Олівець. Вересень 184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"/>
          <p:cNvSpPr/>
          <p:nvPr/>
        </p:nvSpPr>
        <p:spPr>
          <a:xfrm>
            <a:off x="1042920" y="1052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тьки Шевченка були кріпаками магната генерал-лейтенанта Василя Васильовича Енгельгардта - поміщика, що володів 50 тис. кріпаків і був власником близько 160 тис. десятин землі. До володінь Енгельгардта належали також села Моринц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і Кирилівка, де проходило дитинство малого Тарас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1042920" y="1197000"/>
            <a:ext cx="7058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сени 1822 року Тарас Шевченко починає вчитися грамоти у місцевого дяка Совгиря. Знайомиться з творами Г. Сковороди. В період 1822–1828 років намалював «Коні. Солдати» (картина не знайдена)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ід час навчання Шевченко ознайомився з деякими творами української літератури. Відчуваючи великий потяг до живопису, кілька днів наймитує і «вчиться» малярства в диякона Єфрем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арасові минуло 14 років, помер В. Енгельгардт, і село Кирилівка стало власністю його сина П. Енгельгардта, Шевченка ж зробили дворовим слугою нового поміщика в маєтку Вільшані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продовж майже 2,5 років — з осені 1828 року до початку 1831 р. — Шевченко пробув зі своїм паном у Вільні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16000" y="821520"/>
            <a:ext cx="7056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1831 році сімнадцятирічний Шевченко приїздить до Петербурга, куди було переведено Енгельгардта. У 1832 році Енгельгардт законтрактував Шевченка на чотири роки Ширяєву - різних живописних справ майстр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ізніше відбувається знайомство художника-кріпака з Гребінкою, Григоровичем, Венеціановим, Жуковським, Брюлловим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43280" y="1465200"/>
            <a:ext cx="345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квітні 1837 року Брюллов створює портрет Жуковського, який був розіграний у лотереї за 2500 карбованці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ці гроші було викуплено Тараса Шевченка з кріпацтва. 25 квітня 1838 року на квартирі Брюллова йому була вручена Жуковським відпускна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3448080" cy="45370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11280" y="5445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.А.Жуковськи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635280" y="1036440"/>
            <a:ext cx="439416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“      “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Художника Шевченка за складання бунтівничих і надзвичайно зухвалих віршів, як обдарованого міцною будовою тіла,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призначили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рядовим в Оренбузький Окремий корпус, доручивши начальству найсуворіше наглядати, щоб від нього ніяким способом не могли виходити бунтівничі і пасквільні твори…”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З вироку царського суду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8 червня 1847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 Шевченка привезли до Оренбурга, звідти до Орської кріпості, де він мав відбувати солдатську службу. В Орську він порушив царську заборону писати. Свої нові твори він потай записував до саморобних “захалявних” зошитків. В Орській кріпості поет написав 21 твір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8" name="Picture 4" descr="0_28685_3740c7b_XL"/>
          <p:cNvPicPr/>
          <p:nvPr/>
        </p:nvPicPr>
        <p:blipFill>
          <a:blip r:embed="rId1"/>
          <a:stretch/>
        </p:blipFill>
        <p:spPr>
          <a:xfrm>
            <a:off x="250920" y="1125360"/>
            <a:ext cx="3309840" cy="43340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115640" y="119664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У 1848р. на клопотання Шевченкових друзів його включили як художника до складу Аральської описової експедиції, очолюваної О. Бутаковим. З жовтня 1848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 до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травня 1849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експедиція зимувала на острові Кос-арал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0" name="Picture 4" descr="0035"/>
          <p:cNvPicPr/>
          <p:nvPr/>
        </p:nvPicPr>
        <p:blipFill>
          <a:blip r:embed="rId1"/>
          <a:stretch/>
        </p:blipFill>
        <p:spPr>
          <a:xfrm>
            <a:off x="900000" y="2133720"/>
            <a:ext cx="7620120" cy="453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17:23:47Z</dcterms:created>
  <dc:creator>Аллювий</dc:creator>
  <dc:description/>
  <dc:language>en-US</dc:language>
  <cp:lastModifiedBy>Полтавський</cp:lastModifiedBy>
  <dcterms:modified xsi:type="dcterms:W3CDTF">2013-12-23T19:21:09Z</dcterms:modified>
  <cp:revision>9</cp:revision>
  <dc:subject/>
  <dc:title>Тарас Григорович Шевченк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35000000000001024140</vt:lpwstr>
  </property>
</Properties>
</file>