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115-84B5-42FD-8415-1B2F3FE1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F52-9F67-4A1B-A0C2-F545BE00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19D-E142-4C38-9B21-558F4B38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AA0-FE68-464C-9589-E7833529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6DA-7208-4157-A303-716F22CC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79B-4AB4-489A-8D08-2BFF89EA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A10-EF33-494B-A499-8B78A98A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C61-C38A-42BF-B976-14E31B3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C76-A7B3-4948-ADAB-8B55021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E38-9409-4394-BD03-0777660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F64-36EE-4082-922B-C53E033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631-3F90-4F66-AF7B-2A3760D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3DA1-13FC-4D76-A82E-9252E220F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95748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1280" y="2698560"/>
            <a:ext cx="52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ворчість Т.Г. Шевч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27280" y="3499920"/>
            <a:ext cx="409716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ховайте та вставай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дани порві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 вражою злою кров'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ю окропіт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333399"/>
                </a:solidFill>
                <a:uFillTx/>
                <a:latin typeface="Arial"/>
              </a:rPr>
              <a:t>Шевченко - поет, прозаїк, драматург, дослі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4720" y="14810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 смійтеся, чужі лю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Церков-дом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Розвалиться... і з-під не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Встане Украї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розвіє тьму невол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Світ правди засві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помоляться на во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вольничі діт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247320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96064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23388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0" y="3506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378000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405288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72000" y="4325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9640" y="692280"/>
            <a:ext cx="378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43280" y="1131120"/>
            <a:ext cx="418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ати вірші Тарас Шевченко почав ще до звільнення з кріпацтва. Перша згадка про один із його ранніх віршів, що дійшла до нас, датована 31 березня 1837 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33880" cy="523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8080" y="6020640"/>
            <a:ext cx="63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ПОЛЯХ РУКОПИСУ ВІРША «РУСАЛК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1839 рі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0868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терина», «Тарасова ніч», «Іван Підкова», балада «Тополя», послання «До Основ'яненка», вірші «Перебендя», «Нащо мені чорні брови... ». Вони й склали першу його поетичну збірку - «Кобзар», яка побачила світ у 1840 ро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4968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9421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.Г. Шевченко. Ілюстрація до поезії “Катерин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Arial"/>
              </a:rPr>
              <a:t>1840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640"/>
            <a:ext cx="77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2 березня 1840 року, був поданий до цензури Є. Гребінкою альманах «Ластівка», до якого він долучив і перший розділ з нового твору Т. Шевченка ,-поеми «Гайдамаки» (розділ «Галайда»). За короткий час «Кобзар» і «Гайдамаки» набули широкої популярн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8360" y="971280"/>
            <a:ext cx="363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           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Час виняткової творчої продуктивності для поета. Протягом жовтня - грудня він написав поеми «Єретик», «Сліпий», «Наймичка», вогненну інвективу «Кавказ», послання «І мертвим, і живим...», цикл переспівів «Давидові псалми», вірші «Холодний Яр», «Минають дні, минають ночі...», «Як умру, то поховайте...» («Заповіт») та інші твор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1845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320" y="5733720"/>
            <a:ext cx="50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ЕРКИ НА ЛИСТІ ДО БРАТА, М.Г. ШЕВЧ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981000"/>
            <a:ext cx="3767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19640" y="1269720"/>
            <a:ext cx="3395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Шевченко звів усі свої твори у велику рукописну збірку під назвою «Три Літа». Були написані балади «Лілея» й «Русалка», на початку наступного року - поема «Відьма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18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080" y="476280"/>
            <a:ext cx="4708440" cy="612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360" y="6490440"/>
            <a:ext cx="70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СТОРІНКАХ РУКОПИСНОЇ ЗБІРКИ «ТРИ ЛІТ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00720" y="185256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'являються поеми «Княжна» та «Варнак», історична поема «Чернець» і ряд ліричних віршів: «Не гріє сонце на чужині…», «Сон» («Гори мої високії…»), «Самому чудно, а де ж дітись?»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8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" y="649044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471600"/>
            <a:ext cx="417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д час переходу з Орської фортеці до укріплення Раім у складі Аральської описової експедиції Т. Шевченко написав вірш «У бога за дверми лежала сокира...», а під час зимівлі 1848-1849 років на Косаралі - «Царі», «Марина» і великий цикл ліричних поез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333360"/>
            <a:ext cx="4249800" cy="619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405080" y="6490440"/>
            <a:ext cx="89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59280" y="2241720"/>
            <a:ext cx="374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енко зазначав, що повістей у нього «десятків коло двох набереться», нині відомі тексти лише дев'яти: «Наймичка», «Варнак», «Княгиня», «Музикант», «Несчастный», «Капитанша», «Близнецы», «Художник», «Прогулка с удовольствием и не без мор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Arial"/>
              </a:rPr>
              <a:t>Про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700280"/>
            <a:ext cx="4076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5640" y="1029960"/>
            <a:ext cx="49690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рас Шевченко- не лише поет і прозаїк, а 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амату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сав він кілька п'єс, але повністю збереглися лише драма "Назар Стодоля" та уривок з історічної драми «Микита Гайдай»                   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357720"/>
            <a:ext cx="3816360" cy="2928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781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Микита Гайдай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216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Назар Стодо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03280" y="14482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 з маловідомих сторінок біографії великого Kобзаря - участь в Аральскій географічній експедиції 1848-1849 років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3304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„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Я тепер веселий йду на оте нікчемне море Аральське. Не знаю, чи вернувся тілько!.. А йду, їй-богу веселий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46753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333399"/>
                </a:solidFill>
                <a:uFillTx/>
                <a:latin typeface="Arial"/>
              </a:rPr>
              <a:t>Діяльність Шевченка на засл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25600" y="278136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днією із заслуг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Шевченка стало те, що він вивів із тривалого занепаду нашу мову, а українську літературу підніс до європейськ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0"/>
            <a:ext cx="4103640" cy="2052720"/>
          </a:xfrm>
          <a:prstGeom prst="rect">
            <a:avLst/>
          </a:prstGeom>
          <a:ln w="0">
            <a:noFill/>
          </a:ln>
          <a:effectLst>
            <a:outerShdw dist="117181" dir="13761632" blurRad="0" rotWithShape="0">
              <a:srgbClr val="ffff0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766880" y="2711160"/>
            <a:ext cx="52563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Значе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Шевченко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2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81960" y="0"/>
            <a:ext cx="156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912680"/>
            <a:ext cx="3673440" cy="30801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    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 першого ж дня волі він стає учнем Академії мистецтв, увесь поринає у світ навчання і творчої праці, як художник  і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191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92640"/>
            <a:ext cx="3419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удожні твори Шевченка Академія мистецтв відзначає срібними меда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54684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      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арас ночами ходив у Літній сад малювати із статуй. На той час він уже досить вдало малював портрети акваре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6440" cy="46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Т. Шевченко. Автопортрет.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51400" y="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2" b="-60"/>
          <a:stretch/>
        </p:blipFill>
        <p:spPr>
          <a:xfrm>
            <a:off x="1763640" y="2924280"/>
            <a:ext cx="3268800" cy="39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rcRect l="0" t="0" r="-887" b="-44"/>
          <a:stretch/>
        </p:blipFill>
        <p:spPr>
          <a:xfrm>
            <a:off x="4788000" y="2997360"/>
            <a:ext cx="3384360" cy="38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-604" b="22"/>
          <a:stretch/>
        </p:blipFill>
        <p:spPr>
          <a:xfrm>
            <a:off x="3059280" y="0"/>
            <a:ext cx="309708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35200">
            <a:off x="-360" y="53737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Автопорт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06:30Z</dcterms:created>
  <dc:creator>Алекс</dc:creator>
  <dc:description/>
  <dc:language>en-US</dc:language>
  <cp:lastModifiedBy>Полтавський</cp:lastModifiedBy>
  <dcterms:modified xsi:type="dcterms:W3CDTF">2013-12-23T18:18:30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e000000000001024140</vt:lpwstr>
  </property>
</Properties>
</file>