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BA4-A38E-4ACE-84A2-0BA646C1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A4E-BF43-444F-87C9-487F0F8B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42C-B99B-4EC1-8367-A6564A91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F31-EA0C-425F-9A8F-758B7AC7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D06A-AD19-4055-B79E-0DCB33F2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71D-12D5-45FA-B7BE-4EDC1158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E6F2-2317-4672-8270-E2DE76E0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DF55-1A8C-41C5-8DCA-738A733C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FB0D-E8FF-4F66-972D-FA4DE219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D2F3-16FA-47B2-91B7-FC2D7337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139A-59A0-4F28-A6C2-C78A997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50C-F9E8-4644-8378-6D941036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031B-9BC5-451E-8B4A-306C5C6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AB02-5C15-4128-9E10-3F9ACB33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2443-FEEF-44A2-81AA-4032F7BB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7464-A330-420F-893E-94A8443C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7B0E-E44D-45C9-B88C-DD62D351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3800-CA41-4720-ACBD-65FB6C0D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2D5E-2290-46C2-BA1D-F7A38F17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AED3-2D41-4658-BDCE-ABC91A15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F88D-4085-4A9A-B779-23694A73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1867-02A0-46E6-9977-33652238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621-4FA1-4C0E-B217-1BD5A0A3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D324-8EF8-4C78-BBB2-4425E30D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1FF1-95F7-4EBE-A79A-141EB7E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413B-BA60-4360-9545-96FC743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3DD8-43E4-4F8D-8A99-CA40E67C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2560-D1B0-48D7-BFC5-3E51933E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FA71-5310-489C-8364-2A3AA604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627C-3DF3-4D57-B47E-8A75A278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4C3C-5935-4AF2-B763-7D23782E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378D-B2BA-4ACB-8FDC-220F583D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5A19-1493-43A1-8ACB-1FF0FEF3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290-4BD3-4E93-9499-210C0F2F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7359-315D-45BA-A733-6597A6B0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FEBB-099A-4833-8073-66128C84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0CDCB-7C53-44C6-8C63-6D253784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37E0-4DD3-4FAD-8F4E-D9135D95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8DFC-909A-46B3-8AE7-715878F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1214C-AA6A-40FD-99D8-FD9BD498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95CAF-1134-4859-9B82-83515933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A2E6-1537-4963-9E3A-BB212128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D58E8-0216-4397-9F9C-745B4F55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BFE6-333F-441F-9A6D-E50CD75D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1E8-F456-44BD-9D24-7CAF7310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41934-3469-45A4-B692-8712D98F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9BEB9-CC74-4E37-BFE0-0A72F75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9540-B25B-4188-978D-15017CF2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0BCD-F344-4C7C-AD8F-F82CF7DA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03BB-491F-4214-9D35-620FC983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0248C-56F1-41EE-B426-7CD2D39B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46902-112C-490F-9044-28175E4E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CBE6-646B-40E2-A0D6-58A6D4DB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E351C-FF8E-4F65-9296-2E715E4C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39DD1-26BC-4D5C-83B7-61232570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2B0-6146-4FB0-9C3E-4782AC66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B96DF-346E-4F05-B1E7-BA471CE6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AB43-0026-4762-87AF-B3D4DF33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845BF-5C91-4E95-A7A5-8E9F22FA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AD44E-3D46-4107-AA1E-C52A74C0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6922-BE70-48E6-90C3-9C392C05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BC0C2-E5C1-4F3B-88AE-8379BD00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B6259-B599-4FE1-894F-FFEACA11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BBFD6-7485-4426-8004-83E94547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1E0B7-4222-470B-AC0C-47C0CCA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C8F3C-9DC0-4B9B-8B34-F0CA811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9D0-2255-4BA1-837D-F411A0A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4374-0441-4A21-9812-02D4DC97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EE6CB-5CE1-4DFD-82FD-884328B6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C1D36-7447-4752-A9B3-8291445F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E9E96-F456-43A6-8330-3CAD91CC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567C2-84BC-40C8-BD38-B561288B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D10D5-79CE-4D7B-B947-A93C5CC6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DA2BD-8591-4641-B471-3A35F435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CB2E9-0A99-4037-818D-9ED3B239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F413-7E73-4FB4-ACA9-30C146C7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800B6-D8EC-45A5-A58E-6562A8D6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50D-F2D5-4991-B682-6926600A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2B2D-4A42-44CB-AEA9-02241A5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75B63-178F-4DB8-B299-62D39AB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16690-56BD-432D-ACBA-C268A535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8F7EE-2CA5-4A2A-B5F6-D1CA0083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1BFC-33D0-4C1C-98EA-2F16C985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D6800-056D-4700-9FC2-CD8AF527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ED1FD-B62E-4D64-8424-3AC7C550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6B433-D304-4A93-8383-8BAFFD80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7661B-784F-4DBF-AB51-D314CB83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2A6CB-64D7-4F6A-9A0A-8369B216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F63-516B-4FF5-B7F7-848488A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BA2EB-C900-4E0C-B0C6-007A832C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5D532-E83F-4FAD-8592-254DB71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4AE9A-B391-448D-B514-37472BD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B663-AF05-4DCB-B907-7A613A36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BB24D-C7FF-4CBB-9976-CD7989A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30E9D-75BF-4CB5-8083-70A153BF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CC105-FC6E-40EE-95E8-759B8C7C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E985-6A78-417D-8AB1-089BAFE81947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-6480" y="27986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65AB-1224-4FEF-87ED-77BBDEF7E80C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AB43-5255-4219-A616-755A45B3606F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3323-C371-44D1-A3DE-DDD64672F42B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9CA1-57BA-4960-9A74-8C8978A63F14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B393-D197-4FF4-AEBD-6F393154B46D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FAAA-97E2-4E1D-8536-0747DFAF65EE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b13f9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4859-F6F9-4B23-9571-CDF7029305E5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311640" cy="37450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1"/>
          <p:cNvSpPr/>
          <p:nvPr/>
        </p:nvSpPr>
        <p:spPr>
          <a:xfrm>
            <a:off x="2050920" y="486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Життєвий шлях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а Григоровича Шевченк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042560" y="1096920"/>
            <a:ext cx="381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23 кві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Шевченка заарештували за порушення царської заборони писати й малювати. Після слідства, з Орської фортеці його перевели до Новопетровського укріплення на півострові Мангишлак, куди він прибув у середині жов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Сім років перебування в Новопетровському укріпленні — чи не найтяжчих у житті поет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 травня 1857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було дано дозвіл звільнити Шевченка з військової служби зі встановленням за ним нагляду і забороною жити в столицях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Picture 4" descr="0039"/>
          <p:cNvPicPr/>
          <p:nvPr/>
        </p:nvPicPr>
        <p:blipFill>
          <a:blip r:embed="rId1"/>
          <a:stretch/>
        </p:blipFill>
        <p:spPr>
          <a:xfrm>
            <a:off x="4932360" y="692280"/>
            <a:ext cx="3871800" cy="53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1116000" y="141300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літку 185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Шевченко відвідав Україну. Зустрівся в Кирилівці з братами й сестрою. Мав намір оселитися на Україні. Шукав ділянку, щоб збудувати хату. Та 13 липня біля с. Прохорівка його заарештували. Звільнили через місяць і запропонували виїхати до Петербурга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ці роки Шевченко багато працював як художник, майже цілком присвятивши себе мистецтву офорта (186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ада Академії мистецтв надала йому звання академіка гравірування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ічні 1860р. під назвою “Кобзар” вийшла збірка, яка складалася з 17 написаних до заслання поезі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1042920" y="1444680"/>
            <a:ext cx="698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6 лютого (10 березня) 1861 року Шевченко помер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 кошти друзів 1 (13 березня) його поховано спочатку на Смоленському православному кладовищі в Петербурзі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ісля того як п'ятдесят вісім днів прах Т. Г. Шевченка перебував у Петербурзі, його домовину, згідно із заповітом, за клопотанням Михайла Лазаревського, після отримання ним дозвілу у квітні того ж року, перевезено в Україну і перепоховано на Чернечій горі біля Канев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621240" y="3024360"/>
            <a:ext cx="1828800" cy="26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258920" y="162864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Тарас Григорович Шевченк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країнський поет, письменник (драматург, прозаїк), художник (живописець, гравер), громадський та політичний діяч, фольклорист, етнограф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971640" y="1125360"/>
            <a:ext cx="406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родився 25 лютого (9 березня) 1814 у селі Моринці Звенигородського повіту Київської губернії (нині село Звенигородського району Черкаської області) в закріпаченій селянській родині Григорія Івановича Шевченка та Катерини Якимівни Бойко козацького походженн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2787840" cy="38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>
            <a:lum contrast="12000"/>
          </a:blip>
          <a:srcRect l="0" t="-2167" r="-48" b="0"/>
          <a:stretch/>
        </p:blipFill>
        <p:spPr>
          <a:xfrm>
            <a:off x="2411280" y="2637000"/>
            <a:ext cx="3924360" cy="2644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781080" y="530028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тьківська хата в с.Кирилів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.Шевченкo. Олівець. Вересень 184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10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тьки Шевченка були кріпаками магната генерал-лейтенанта Василя Васильовича Енгельгардта - поміщика, що володів 50 тис. кріпаків і був власником близько 160 тис. десятин землі. До володінь Енгельгардта належали також села Моринц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 Кирилівка, де проходило дитинство малого Тарас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042920" y="1197000"/>
            <a:ext cx="705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ени 1822 року Тарас Шевченко починає вчитися грамоти у місцевого дяка Совгиря. Знайомиться з творами Г. Сковороди. В період 1822–1828 років намалював «Коні. Солдати» (картина не знайдена)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д час навчання Шевченко ознайомився з деякими творами української літератури. Відчуваючи великий потяг до живопису, кілька днів наймитує і «вчиться» малярства в диякона Єфрем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ові минуло 14 років, помер В. Енгельгардт, і село Кирилівка стало власністю його сина П. Енгельгардта, Шевченка ж зробили дворовим слугою нового поміщика в маєтку Вільша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продовж майже 2,5 років — з осені 1828 року до початку 1831 р. — Шевченко пробув зі своїм паном у Віль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16000" y="821520"/>
            <a:ext cx="7056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1831 році сімнадцятирічний Шевченко приїздить до Петербурга, куди було переведено Енгельгардта. У 1832 році Енгельгардт законтрактував Шевченка на чотири роки Ширяєву - різних живописних справ майстр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зніше відбувається знайомство художника-кріпака з Гребінкою, Григоровичем, Венеціановим, Жуковським, Брюллови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43280" y="1465200"/>
            <a:ext cx="345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квітні 1837 року Брюллов створює портрет Жуковського, який був розіграний у лотереї за 2500 карбованці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ці гроші було викуплено Тараса Шевченка з кріпацтва. 25 квітня 1838 року на квартирі Брюллова йому була вручена Жуковським відпуск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448080" cy="45370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1280" y="5445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.А.Жуковськи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5280" y="1036440"/>
            <a:ext cx="439416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“      “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Художника Шевченка за складання бунтівничих і надзвичайно зухвалих віршів, як обдарованого міцною будовою тіла,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изначил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рядовим в Оренбузький Окремий корпус, доручивши начальству найсуворіше наглядати, щоб від нього ніяким способом не могли виходити бунтівничі і пасквільні твори…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 вироку царського суд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8 червня 1847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 Шевченка привезли до Оренбурга, звідти до Орської кріпості, де він мав відбувати солдатську службу. В Орську він порушив царську заборону писати. Свої нові твори він потай записував до саморобних “захалявних” зошитків. В Орській кріпості поет написав 21 твір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8" name="Picture 4" descr="0_28685_3740c7b_XL"/>
          <p:cNvPicPr/>
          <p:nvPr/>
        </p:nvPicPr>
        <p:blipFill>
          <a:blip r:embed="rId1"/>
          <a:stretch/>
        </p:blipFill>
        <p:spPr>
          <a:xfrm>
            <a:off x="250920" y="1125360"/>
            <a:ext cx="3309840" cy="43340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115640" y="1196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У 1848р. на клопотання Шевченкових друзів його включили як художника до складу Аральської описової експедиції, очолюваної О. Бутаковим. З жовтня 1848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до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травня 1849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експедиція зимувала на острові Кос-арал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0" name="Picture 4" descr="0035"/>
          <p:cNvPicPr/>
          <p:nvPr/>
        </p:nvPicPr>
        <p:blipFill>
          <a:blip r:embed="rId1"/>
          <a:stretch/>
        </p:blipFill>
        <p:spPr>
          <a:xfrm>
            <a:off x="900000" y="2133720"/>
            <a:ext cx="7620120" cy="45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7:23:47Z</dcterms:created>
  <dc:creator>Аллювий</dc:creator>
  <dc:description/>
  <dc:language>en-US</dc:language>
  <cp:lastModifiedBy>Полтавський</cp:lastModifiedBy>
  <dcterms:modified xsi:type="dcterms:W3CDTF">2013-12-23T19:21:09Z</dcterms:modified>
  <cp:revision>9</cp:revision>
  <dc:subject/>
  <dc:title>Тарас Григорович Шевчен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35000000000001024140</vt:lpwstr>
  </property>
</Properties>
</file>