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27.jpeg" ContentType="image/jpeg"/>
  <Override PartName="/ppt/media/image6.jpeg" ContentType="image/jpeg"/>
  <Override PartName="/ppt/media/image33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35.png" ContentType="image/png"/>
  <Override PartName="/ppt/media/image5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4F15-7DB5-478A-9B01-E90F67F2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9E97-C1FC-425E-9912-043A7119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31D4-1440-4D5A-A6D6-01212138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D27F-932D-4C2C-911E-36EB442A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25DD-E9EB-4A06-80DB-EADA8EF2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4F7-F23F-49BD-8ABD-7CBFFBD3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0196-2341-44C6-A4E8-D46F05D9F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CB9B-88A1-469D-8310-384055DB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45BF-A3DD-492B-B49A-9B527760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B146-214A-485E-B5B3-8402C3A1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337A-57C3-4C79-B51A-95470351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285-47AC-4B0D-A96D-FEC74E6B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70D1-F99E-4B8F-9B3E-D86865BC02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3957480" cy="544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51280" y="2698560"/>
            <a:ext cx="5292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9280" y="260280"/>
            <a:ext cx="7164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ворчість Т.Г. Шевч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427280" y="3499920"/>
            <a:ext cx="4097160" cy="29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оховайте та вставай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йдани порві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І вражою злою кров'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лю окропіт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280" y="1916280"/>
            <a:ext cx="619308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 u="sng">
                <a:solidFill>
                  <a:srgbClr val="333399"/>
                </a:solidFill>
                <a:uFillTx/>
                <a:latin typeface="Arial"/>
              </a:rPr>
              <a:t>Шевченко - поет, прозаїк, драматург, дослід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284720" y="1481040"/>
            <a:ext cx="4390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Не смійтеся, чужі люд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Церков-домо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Розвалиться... і з-під не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Встане Украї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І розвіє тьму невол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Світ правди засвіт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І помоляться на вол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LazurskiCTT"/>
              </a:rPr>
              <a:t>Невольничі діти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0" y="247320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296064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572000" y="3233880"/>
            <a:ext cx="9360" cy="75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572000" y="350676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4572000" y="3780000"/>
            <a:ext cx="9360" cy="75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4572000" y="405288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4572000" y="4325760"/>
            <a:ext cx="9360" cy="76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539640" y="692280"/>
            <a:ext cx="378324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8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385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38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643280" y="1131120"/>
            <a:ext cx="4186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сати вірші Тарас Шевченко почав ще до звільнення з кріпацтва. Перша згадка про один із його ранніх віршів, що дійшла до нас, датована 31 березня 1837 ро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4133880" cy="5239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88080" y="6020640"/>
            <a:ext cx="63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ЕРКИ НА ПОЛЯХ РУКОПИСУ ВІРША «РУСАЛКА». Олівец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Arial"/>
              </a:rPr>
              <a:t>1839 рі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00720" y="1408680"/>
            <a:ext cx="3960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Катерина», «Тарасова ніч», «Іван Підкова», балада «Тополя», послання «До Основ'яненка», вірші «Перебендя», «Нащо мені чорні брови... ». Вони й склали першу його поетичну збірку - «Кобзар», яка побачила світ у 1840 роц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649680" cy="4824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00000" y="5942160"/>
            <a:ext cx="25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.Г. Шевченко. Ілюстрація до поезії “Катерина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6633"/>
                </a:solidFill>
                <a:latin typeface="Arial"/>
              </a:rPr>
              <a:t>1840 рі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916640"/>
            <a:ext cx="7704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2 березня 1840 року, був поданий до цензури Є. Гребінкою альманах «Ластівка», до якого він долучив і перший розділ з нового твору Т. Шевченка ,-поеми «Гайдамаки» (розділ «Галайда»). За короткий час «Кобзар» і «Гайдамаки» набули широкої популярност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48360" y="971280"/>
            <a:ext cx="3638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            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Час виняткової творчої продуктивності для поета. Протягом жовтня - грудня він написав поеми «Єретик», «Сліпий», «Наймичка», вогненну інвективу «Кавказ», послання «І мертвим, і живим...», цикл переспівів «Давидові псалми», вірші «Холодний Яр», «Минають дні, минають ночі...», «Як умру, то поховайте...» («Заповіт») та інші твори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Arial"/>
              </a:rPr>
              <a:t>1845 рі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0320" y="5733720"/>
            <a:ext cx="500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ЧЕРКИ НА ЛИСТІ ДО БРАТА, М.Г. ШЕВЧЕН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95280" y="981000"/>
            <a:ext cx="37670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219640" y="1269720"/>
            <a:ext cx="3395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. Шевченко звів усі свої твори у велику рукописну збірку під назвою «Три Літа». Були написані балади «Лілея» й «Русалка», на початку наступного року - поема «Відьма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184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080" y="476280"/>
            <a:ext cx="4708440" cy="6121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360" y="6490440"/>
            <a:ext cx="70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ЕРКИ НА СТОРІНКАХ РУКОПИСНОЇ ЗБІРКИ «ТРИ ЛІТА». Олівец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00720" y="1852560"/>
            <a:ext cx="464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'являються поеми «Княжна» та «Варнак», історична поема «Чернець» і ряд ліричних віршів: «Не гріє сонце на чужині…», «Сон» («Гори мої високії…»), «Самому чудно, а де ж дітись?»…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627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18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" y="6490440"/>
            <a:ext cx="58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ЕРКИ НА ПОЛЯХ РУКОПИСУ ПОЕМИ «МАР'ЯНА-ЧЕРНИЦЯ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8163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0" y="471600"/>
            <a:ext cx="4179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ід час переходу з Орської фортеці до укріплення Раім у складі Аральської описової експедиції Т. Шевченко написав вірш «У бога за дверми лежала сокира...», а під час зимівлі 1848-1849 років на Косаралі - «Царі», «Марина» і великий цикл ліричних поезі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333360"/>
            <a:ext cx="4249800" cy="6191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-1405080" y="6490440"/>
            <a:ext cx="89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ЧЕРКИ НА ПОЛЯХ РУКОПИСУ ПОЕМИ «МАР'ЯНА-ЧЕРНИЦЯ»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859280" y="2241720"/>
            <a:ext cx="3745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евченко зазначав, що повістей у нього «десятків коло двох набереться», нині відомі тексти лише дев'яти: «Наймичка», «Варнак», «Княгиня», «Музикант», «Несчастный», «Капитанша», «Близнецы», «Художник», «Прогулка с удовольствием и не без морал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0000"/>
                </a:solidFill>
                <a:latin typeface="Arial"/>
              </a:rPr>
              <a:t>Проз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1700280"/>
            <a:ext cx="4076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995640" y="1029960"/>
            <a:ext cx="496908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рас Шевченко- не лише поет і прозаїк, а й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раматург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исав він кілька п'єс, але повністю збереглися лише драма "Назар Стодоля" та уривок з історічної драми «Микита Гайдай»                                        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                        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                    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736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3357720"/>
            <a:ext cx="3816360" cy="2928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278136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люстрації до драм. твору “Микита Гайдай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62164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люстрації до драм. твору “Назар Стодол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03280" y="1448280"/>
            <a:ext cx="66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дна з маловідомих сторінок біографії великого Kобзаря - участь в Аральскій географічній експедиції 1848-1849 років.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77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3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5" dur="77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95280" y="330480"/>
            <a:ext cx="33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„</a:t>
            </a: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Я тепер веселий йду на оте нікчемне море Аральське. Не знаю, чи вернувся тілько!.. А йду, їй-богу веселий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468680" y="765000"/>
            <a:ext cx="46753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7280" y="1916280"/>
            <a:ext cx="619308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 u="sng">
                <a:solidFill>
                  <a:srgbClr val="333399"/>
                </a:solidFill>
                <a:uFillTx/>
                <a:latin typeface="Arial"/>
              </a:rPr>
              <a:t>Діяльність Шевченка на засланн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32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67640" y="0"/>
            <a:ext cx="147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25600" y="2781360"/>
            <a:ext cx="771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Однією із заслуг</a:t>
            </a:r>
            <a:r>
              <a:rPr b="1" i="1" lang="uk-UA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Шевченка стало те, що він вивів із тривалого занепаду нашу мову, а українську літературу підніс до європейського рів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059280" y="0"/>
            <a:ext cx="4103640" cy="2052720"/>
          </a:xfrm>
          <a:prstGeom prst="rect">
            <a:avLst/>
          </a:prstGeom>
          <a:ln w="0">
            <a:noFill/>
          </a:ln>
          <a:effectLst>
            <a:outerShdw dist="117181" dir="13761632" blurRad="0" rotWithShape="0">
              <a:srgbClr val="ffff00">
                <a:alpha val="50000"/>
              </a:srgbClr>
            </a:outerShdw>
          </a:effectLst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6200000">
            <a:off x="-1766880" y="2711160"/>
            <a:ext cx="5256360" cy="6426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c3300"/>
                </a:solidFill>
                <a:latin typeface="Arial"/>
              </a:rPr>
              <a:t>Значе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Шевченко-худ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620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581960" y="0"/>
            <a:ext cx="156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219640" y="1912680"/>
            <a:ext cx="3673440" cy="3080160"/>
          </a:xfrm>
          <a:prstGeom prst="rect">
            <a:avLst/>
          </a:pr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    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З першого ж дня волі він стає учнем Академії мистецтв, увесь поринає у світ навчання і творчої праці, як художник  і по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419112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4292640"/>
            <a:ext cx="341964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   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удожні твори Шевченка Академія мистецтв відзначає срібними меда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546840"/>
            <a:ext cx="633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      </a:t>
            </a:r>
            <a:r>
              <a:rPr b="1" lang="ru-RU" sz="2400" spc="-1" strike="noStrike">
                <a:solidFill>
                  <a:srgbClr val="cc0066"/>
                </a:solidFill>
                <a:latin typeface="Arial"/>
              </a:rPr>
              <a:t>Тарас ночами ходив у Літній сад малювати із статуй. На той час він уже досить вдало малював портрети акварел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                                       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46440" cy="460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Т. Шевченко. Автопортрет.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351400" y="0"/>
            <a:ext cx="3792600" cy="4032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rcRect l="0" t="0" r="62" b="-60"/>
          <a:stretch/>
        </p:blipFill>
        <p:spPr>
          <a:xfrm>
            <a:off x="1763640" y="2924280"/>
            <a:ext cx="3268800" cy="3933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>
            <a:lum contrast="18000"/>
          </a:blip>
          <a:srcRect l="0" t="0" r="-887" b="-44"/>
          <a:stretch/>
        </p:blipFill>
        <p:spPr>
          <a:xfrm>
            <a:off x="4788000" y="2997360"/>
            <a:ext cx="3384360" cy="3860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rcRect l="0" t="0" r="-604" b="22"/>
          <a:stretch/>
        </p:blipFill>
        <p:spPr>
          <a:xfrm>
            <a:off x="3059280" y="0"/>
            <a:ext cx="3097080" cy="3141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2035200">
            <a:off x="-360" y="5373720"/>
            <a:ext cx="26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Arial"/>
              </a:rPr>
              <a:t>Автопортр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16:06:30Z</dcterms:created>
  <dc:creator>Алекс</dc:creator>
  <dc:description/>
  <dc:language>en-US</dc:language>
  <cp:lastModifiedBy>Полтавський</cp:lastModifiedBy>
  <dcterms:modified xsi:type="dcterms:W3CDTF">2013-12-23T18:18:30Z</dcterms:modified>
  <cp:revision>1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1e000000000001024140</vt:lpwstr>
  </property>
</Properties>
</file>