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62D-7462-4FC8-8A46-9194C3B2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5CD-8042-4AED-82AE-A3153450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3314-D552-4859-9B45-422E90F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E4C-A3AF-4A4F-8126-556E1F33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5F18-D947-4FA2-9F80-AA04F735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8168-1070-4F1A-862F-C57D6A0B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3D86-3AEB-41CC-B492-43339326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99E-6858-4205-AB4C-CF0FC9D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68B-51CF-4901-B994-44B1E10B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6C682-1123-4C47-9FA5-F7D758AC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8CB1-FCF9-4B67-A92C-EA060FD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C581-17B4-48B7-AB1A-7511158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43ADD-D348-4C13-98B5-3D48697F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97C5-07C9-4F35-8BDA-200D198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B2BB-A45F-46E4-9B07-01E76B8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89E7-081A-45D7-A5A9-0489F87C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6C01-4FE7-48D6-AE08-BF6D6A5B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38528-4C84-4BE8-BFB5-49BA2C10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9EAE1-7BB5-4703-BF49-9D715CEC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63688-82CB-45C3-A92D-E1EF84B8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AD30-2D46-4F0D-AB96-AAB7EA3C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5E953-845E-42B6-9A13-28D1E79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28A8-EF4F-4709-92C5-5E987C7A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E0E3-A36F-44A5-B204-2D8057F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E711-76A7-4093-8DC7-B771C685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D40DD-D95E-4124-A591-DD5C025F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C8E6-B91E-4DEF-BF1F-51209F34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BC14-D90D-4C94-BE74-3369EA18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7A131-75C5-49D8-BB77-F493CC1D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991D6-34EC-4179-BDC8-31490E28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26A11-BF63-43C2-9A2B-17AFBBE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DF2F0-5F31-4FFD-8CF3-1FB078FF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ACB70-211A-4D6A-9C6B-6924E804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0F2-B77F-4CB0-8A09-E6716BF2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1594-A828-40D3-87BD-1F7248E0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F758-7425-4550-BB79-F12ED4B4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46661-3457-41DF-A8FC-DB49FEC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8FF72-5D94-4819-A27A-71C6B65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F5EC-AD77-4E94-99A6-77546358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D1A78-4300-4912-B175-23B1138F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93941-CA77-4B7B-AD4E-B8B6B39E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645FD-AD24-4140-A1EB-D9F522DE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5086-4372-41AB-BC69-99AD4F14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CCC5C-7043-4445-BEEC-5F7C1B1A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66F-48AD-4AE6-88A3-AE59AC4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C69B9-F121-45AF-A6EE-47C4E26D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9E585-A6FE-4C37-BFE0-92FCAE6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4826D-D3C0-45E0-B8AB-D2A37EEC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F040-30DF-429D-A4EB-6DD777E2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697AC-2C6F-4A63-933A-EAE0E22A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8E162-5131-4E21-B5C8-4A4C9186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78F3A-FFC4-48ED-AB1E-ED7FFA7CC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7C52A-9D42-4D82-95DC-AD32A6BD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73E14-A89A-466C-9702-B1B58646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B46C-CA70-4777-8978-BB6100C4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A6D-5978-4008-B1A9-B41A9167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7AF3-6243-4211-B9C0-7D3318F3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9FA45-5468-4FE9-A4B6-D2565B2D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4E14C-07A6-4D91-957B-D09F9B9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7328-468D-4FA3-AB85-267668D7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80D0F-936F-41CC-8B16-04C38107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863F8-F7CF-4D25-A50C-6326456C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4FD88-490D-4F9D-A907-8879D7E0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31A40-1FA4-4B1B-878E-6F0F2DA4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42B6-C69A-47A7-933C-C1EFB10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8DE3-EBFD-4DE7-A903-E566A9E3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EC9-897A-4388-9D47-EB1C5019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E3757-36FC-4855-AAC6-C225B822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D527D-B2FD-4D98-932F-C39B0F13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BF889-BCC0-44A6-843B-D12ADA54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D42F-5F84-4F59-B907-19DF04EB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5AAC-46F1-48F2-BA6C-9AD9452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27C2D-BEA1-4DCC-B497-1BBCBE3D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396E3-8AF1-4402-A04D-8AD8826C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97210-B2D3-42A6-AB0B-BAB284EB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3DAD9-2B27-4B91-8A59-6B8E3726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D2D35-0540-40D7-A156-8C39C1F6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E6B-D0FB-4D11-990B-EBF9E12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D091-1E7D-4976-A896-C32FDD41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8DA83-4AC7-4134-A3D4-36889655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483A-F587-47B7-A4E9-B6D5A021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0ED82-1539-4351-882E-F6387973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81359-897B-4053-A451-4B70617C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3A50B-0D0C-441F-AE55-7852DD0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29CD3-399D-4640-BB5D-F7574D13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3DF39-5AB2-4758-A7D2-7C987F82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23743-0C15-4BE7-AD1D-D43CAE5A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473D9-41CA-49FD-97DE-1EA4ED7D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558-DD47-4452-A949-6A977B4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214E5-FC7E-4569-9FF7-BA308CD8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D249C-C817-495D-86A4-7C421AD5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67B36-5C3A-41EB-97E6-EAEADA3C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00B02-D91A-47EE-8AA1-8A113C15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770C7-FB26-47C0-9FC6-BE5B0E40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721A8-7E9B-4FC3-AA03-43B7FAC1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FD3EC-6630-4E9A-B2CE-AD1AB3E2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D46-0A6D-4154-8011-25CD9A717093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-6480" y="27986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2F58-FB70-4D44-824D-EB2E5993BF5E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5417-6DB6-4CFA-B92A-DA1ADB4D6341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flourish2.png"/>
          <p:cNvPicPr/>
          <p:nvPr/>
        </p:nvPicPr>
        <p:blipFill>
          <a:blip r:embed="rId3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flourish2.png"/>
          <p:cNvPicPr/>
          <p:nvPr/>
        </p:nvPicPr>
        <p:blipFill>
          <a:blip r:embed="rId4"/>
          <a:stretch/>
        </p:blipFill>
        <p:spPr>
          <a:xfrm>
            <a:off x="-6480" y="267660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7C88-3AC5-46E5-83BD-2F6DC37BAF0C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EE48-64E9-457D-9301-A977A6BDF75F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4B09-4E5C-4E80-88EA-BDE6066B366B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flourish2.png"/>
          <p:cNvPicPr/>
          <p:nvPr/>
        </p:nvPicPr>
        <p:blipFill>
          <a:blip r:embed="rId3"/>
          <a:stretch/>
        </p:blipFill>
        <p:spPr>
          <a:xfrm>
            <a:off x="-6480" y="1616040"/>
            <a:ext cx="9156960" cy="9446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A4ED-C9FA-4A95-98AD-352B5E520B9E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9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b13f9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788a3"/>
                </a:solidFill>
                <a:latin typeface="Cambria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788a3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128A-4792-43BB-B249-DAE62496E01E}" type="slidenum">
              <a:rPr b="1" lang="ru-RU" sz="1200" spc="-1" strike="noStrike">
                <a:solidFill>
                  <a:srgbClr val="d788a3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700360" y="1125360"/>
            <a:ext cx="3311640" cy="374508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1"/>
          <p:cNvSpPr/>
          <p:nvPr/>
        </p:nvSpPr>
        <p:spPr>
          <a:xfrm>
            <a:off x="2050920" y="4869000"/>
            <a:ext cx="45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Життєвий шлях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а Григоровича Шевченка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042560" y="1096920"/>
            <a:ext cx="3816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23 кві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Шевченка заарештували за порушення царської заборони писати й малювати. Після слідства, з Орської фортеці його перевели до Новопетровського укріплення на півострові Мангишлак, куди він прибув у середині жовтня 1850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Сім років перебування в Новопетровському укріпленні — чи не найтяжчих у житті поета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1 травня 1857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було дано дозвіл звільнити Шевченка з військової служби зі встановленням за ним нагляду і забороною жити в столицях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2" name="Picture 4" descr="0039"/>
          <p:cNvPicPr/>
          <p:nvPr/>
        </p:nvPicPr>
        <p:blipFill>
          <a:blip r:embed="rId1"/>
          <a:stretch/>
        </p:blipFill>
        <p:spPr>
          <a:xfrm>
            <a:off x="4932360" y="692280"/>
            <a:ext cx="3871800" cy="532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1"/>
          <p:cNvSpPr/>
          <p:nvPr/>
        </p:nvSpPr>
        <p:spPr>
          <a:xfrm>
            <a:off x="1116000" y="141300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літку 1859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Шевченко відвідав Україну. Зустрівся в Кирилівці з братами й сестрою. Мав намір оселитися на Україні. Шукав ділянку, щоб збудувати хату. Та 13 липня біля с. Прохорівка його заарештували. Звільнили через місяць і запропонували виїхати до Петербурга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ці роки Шевченко багато працював як художник, майже цілком присвятивши себе мистецтву офорта (186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ада Академії мистецтв надала йому звання академіка гравірування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 січні 1860р. під назвою “Кобзар” вийшла збірка, яка складалася з 17 написаних до заслання поезі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Прямоугольник 1"/>
          <p:cNvSpPr/>
          <p:nvPr/>
        </p:nvSpPr>
        <p:spPr>
          <a:xfrm>
            <a:off x="1042920" y="1444680"/>
            <a:ext cx="698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26 лютого (10 березня) 1861 року Шевченко помер. 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На кошти друзів 1 (13 березня) його поховано спочатку на Смоленському православному кладовищі в Петербурзі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mbria"/>
              </a:rPr>
              <a:t>Після того як п'ятдесят вісім днів прах Т. Г. Шевченка перебував у Петербурзі, його домовину, згідно із заповітом, за клопотанням Михайла Лазаревського, після отримання ним дозвілу у квітні того ж року, перевезено в Україну і перепоховано на Чернечій горі біля Канева.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621240" y="3024360"/>
            <a:ext cx="1828800" cy="263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258920" y="1628640"/>
            <a:ext cx="655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Тарас Григорович Шевченко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український поет, письменник (драматург, прозаїк), художник (живописець, гравер), громадський та політичний діяч, фольклорист, етнограф.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971640" y="1125360"/>
            <a:ext cx="4065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родився 25 лютого (9 березня) 1814 у селі Моринці Звенигородського повіту Київської губернії (нині село Звенигородського району Черкаської області) в закріпаченій селянській родині Григорія Івановича Шевченка та Катерини Якимівни Бойко козацького походженн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5219640" y="1268280"/>
            <a:ext cx="2787840" cy="388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contrast="12000"/>
          </a:blip>
          <a:srcRect l="0" t="-2167" r="-48" b="0"/>
          <a:stretch/>
        </p:blipFill>
        <p:spPr>
          <a:xfrm>
            <a:off x="2411280" y="2637000"/>
            <a:ext cx="3924360" cy="264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3781080" y="5300280"/>
            <a:ext cx="42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тьківська хата в с.Кирилівка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.Шевченкo. Олівець. Вересень 184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0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ьки Шевченка були кріпаками магната генерал-лейтенанта Василя Васильовича Енгельгардта - поміщика, що володів 50 тис. кріпаків і був власником близько 160 тис. десятин землі. До володінь Енгельгардта належали також села Моринц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і Кирилівка, де проходило дитинство малого Тарас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ик 1"/>
          <p:cNvSpPr/>
          <p:nvPr/>
        </p:nvSpPr>
        <p:spPr>
          <a:xfrm>
            <a:off x="1042920" y="1197000"/>
            <a:ext cx="7058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осени 1822 року Тарас Шевченко починає вчитися грамоти у місцевого дяка Совгиря. Знайомиться з творами Г. Сковороди. В період 1822–1828 років намалював «Коні. Солдати» (картина не знайдена)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 час навчання Шевченко ознайомився з деякими творами української літератури. Відчуваючи великий потяг до живопису, кілька днів наймитує і «вчиться» малярства в диякона Єфрема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арасові минуло 14 років, помер В. Енгельгардт, і село Кирилівка стало власністю його сина П. Енгельгардта, Шевченка ж зробили дворовим слугою нового поміщика в маєтку Вільша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Упродовж майже 2,5 років — з осені 1828 року до початку 1831 р. — Шевченко пробув зі своїм паном у Вільні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1116000" y="821520"/>
            <a:ext cx="7056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1831 році сімнадцятирічний Шевченко приїздить до Петербурга, куди було переведено Енгельгардта. У 1832 році Енгельгардт законтрактував Шевченка на чотири роки Ширяєву - різних живописних справ майстр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ізніше відбувається знайомство художника-кріпака з Гребінкою, Григоровичем, Венеціановим, Жуковським, Брюлловим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643280" y="1465200"/>
            <a:ext cx="34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квітні 1837 року Брюллов створює портрет Жуковського, який був розіграний у лотереї за 2500 карбованці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ці гроші було викуплено Тараса Шевченка з кріпацтва. 25 квітня 1838 року на квартирі Брюллова йому була вручена Жуковським відпускна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042920" y="907920"/>
            <a:ext cx="3448080" cy="45370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11280" y="5445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.А.Жуковськи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635280" y="1036440"/>
            <a:ext cx="4394160" cy="51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“      “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Художника Шевченка за складання бунтівничих і надзвичайно зухвалих віршів, як обдарованого міцною будовою тіла,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значили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ядовим в Оренбузький Окремий корпус, доручивши начальству найсуворіше наглядати, щоб від нього ніяким способом не могли виходити бунтівничі і пасквільні твори…”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 вироку царського суд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     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8 червня 1847</a:t>
            </a:r>
            <a:r>
              <a:rPr b="1" lang="ru-RU" sz="18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800" spc="-1" strike="noStrike">
                <a:solidFill>
                  <a:srgbClr val="000000"/>
                </a:solidFill>
                <a:latin typeface="Garamond"/>
              </a:rPr>
              <a:t> Шевченка привезли до Оренбурга, звідти до Орської кріпості, де він мав відбувати солдатську службу. В Орську він порушив царську заборону писати. Свої нові твори він потай записував до саморобних “захалявних” зошитків. В Орській кріпості поет написав 21 твір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58" name="Picture 4" descr="0_28685_3740c7b_XL"/>
          <p:cNvPicPr/>
          <p:nvPr/>
        </p:nvPicPr>
        <p:blipFill>
          <a:blip r:embed="rId1"/>
          <a:stretch/>
        </p:blipFill>
        <p:spPr>
          <a:xfrm>
            <a:off x="250920" y="1125360"/>
            <a:ext cx="3309840" cy="43340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115640" y="1196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У 1848р. на клопотання Шевченкових друзів його включили як художника до складу Аральської описової експедиції, очолюваної О. Бутаковим. З жовтня 1848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 до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травня 1849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р.</a:t>
            </a:r>
            <a:r>
              <a:rPr b="1" lang="uk-UA" sz="1600" spc="-1" strike="noStrike">
                <a:solidFill>
                  <a:srgbClr val="000000"/>
                </a:solidFill>
                <a:latin typeface="Garamond"/>
              </a:rPr>
              <a:t> експедиція зимувала на острові Кос-арал. 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60" name="Picture 4" descr="0035"/>
          <p:cNvPicPr/>
          <p:nvPr/>
        </p:nvPicPr>
        <p:blipFill>
          <a:blip r:embed="rId1"/>
          <a:stretch/>
        </p:blipFill>
        <p:spPr>
          <a:xfrm>
            <a:off x="900000" y="2133720"/>
            <a:ext cx="7620120" cy="4533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7T17:23:47Z</dcterms:created>
  <dc:creator>Аллювий</dc:creator>
  <dc:description/>
  <dc:language>en-US</dc:language>
  <cp:lastModifiedBy>Полтавський</cp:lastModifiedBy>
  <dcterms:modified xsi:type="dcterms:W3CDTF">2013-12-23T19:21:09Z</dcterms:modified>
  <cp:revision>9</cp:revision>
  <dc:subject/>
  <dc:title>Тарас Григорович Шевченк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35000000000001024140</vt:lpwstr>
  </property>
</Properties>
</file>