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F6B-07FD-44DC-99A4-3676535F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764-85C1-43B6-A567-D15573A6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692-5851-4E5A-8476-1DABFF03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EB4-632B-4F42-9204-68748F5B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89EA-EA41-4AD0-8049-47057093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9CE3-2F27-41EA-A3DA-D686277E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F184-518A-4DAD-8F5E-2BDF5A1A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B7C-E1B3-4D15-B87E-0271C2CA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D47D-DEB9-4391-94AC-823B117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5B38-3627-498A-A8A8-F716AF45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9573-6547-4DE8-BC81-D4A39A34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AE9-5098-4CFE-9B27-C9D51318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F86F-4CD4-46BF-BED7-2AC8962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BDFD-681A-454F-88E7-95D189DC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890F-BA0A-45F9-95BC-D5FD3AC6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08E5-5617-42E1-B883-7B321A3B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B63C-B547-4463-9D2A-AB76EEF0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E243-5F94-4228-8255-65651450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FF3A-5FBA-4837-8260-660EBCF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6208-5CA2-4A16-A1B6-4EB9703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3D5D-53DD-4253-A3DF-69D96084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0E36-30D8-40C3-88D9-1C2A65F9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AC8-5D74-468E-B407-3225A2AC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8F2E-8C04-4BE2-BAEF-95D6AE0E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9993-D24A-4CE7-B802-041FE70E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4449-9FE6-4A09-A9C4-7AF3E865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D299-68C2-4166-9E85-2C7B215D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8D204-B510-44D9-A0E6-44E61C92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F449-0905-46BB-BCE4-FF2A0B89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98EE-9C31-4578-958A-41085181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F9B8D-34DE-48E7-913F-7727AD29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B8A39-2044-4CB1-B0DF-DD02E6EE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ACECA-158B-4511-83F3-48FB3B02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DA6-8B44-40F5-A7A9-D3C5DC27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12186-DF62-4DB0-932D-1A6A082E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95EF-7B42-4BDA-8E8A-AE60D449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9E62-BC4C-421A-93CA-1A8A8253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16B7-8CA6-45D7-AAB3-1F14D3C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A9D7-2F12-4C21-91BF-2B727BCC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2578-31BC-4955-A3E7-458A61C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D6F51-C5C8-40F7-A796-E1B66A49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22457-F297-44C9-93B9-189AC6E0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6C16-C010-4320-AB56-C729730B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9829E-E9A3-417F-A603-84A616E2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E63-9E35-4F21-BFAE-52CB5077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B2CF4-AF18-47E9-B966-4192F79C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3D45-5623-46AD-A778-3423A3FD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64A95-E0CB-4B9D-9B10-8221693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2722-1995-496B-A763-2C5D61D3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4CAD-E1ED-4902-9CE8-8F4B94C6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B5E05-0919-40A2-996D-36769C36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D63BF-7417-400E-B2DB-08EACD4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89B5-9692-4D23-B3BE-11291A8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E004C-A1EE-41F6-BD8E-E812C2C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AAC90-14F1-4A0C-94F8-DA6BD0CF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C70-3993-46E6-A347-6439F7E6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AEBD-6139-4805-8B70-776CF09E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20BC-8D86-4412-BC56-C5003A5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56502-4AF0-4C69-8C37-BF8CA055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0DC7-1029-4E60-B0CA-A17BF6D4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9191E-44C5-4D6C-98AE-54BD7479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756AA-09FA-46AE-A658-EE10C6A0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B6BA9-0E34-41F5-AC3A-2A0AA54F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B9FCA-1296-4CBE-9473-53B0417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82A0-68B4-46EA-851C-AE01D3E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CB41-2702-4C26-B1FC-871F305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42D-5288-4CBC-A82B-257CCD77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0F0CA-DE88-48E9-AC73-E4488DB3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8E652-EB15-43D3-B248-C48EE1B4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63028-92B7-4003-8D59-ED68E456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34936-B5C2-4487-838C-0FE2FDF7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10FF1-0DBD-4D01-9B68-9F1B8AC7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AB8A-D679-478C-9C75-A6A4915E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3E2A-C235-413E-93C2-77AE6FD9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2194-AFAF-4007-B339-3D5BEEAF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E7928-B175-47E2-ABAC-7BE66AEF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C9C05-231A-4DAE-B05B-3B6681A9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5BE-15D5-4E48-8852-FFB9FD1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79D77-C310-4318-8919-959F046E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24568-064A-4322-96D4-ABE28B4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B479-2D5A-46E0-9D32-E959B824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9C407-3287-4693-9F48-41A46A50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6FE95-7733-4394-AF9E-60A5A1E1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03F09-8078-47E5-BC20-2C704317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7C289-639E-4EFA-9F10-71AFCB5F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CAD4D-FD83-4FC5-86D7-238839F2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5B07E-5EF4-4E93-9218-56EF0BA7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D94FB-B0BA-494F-9040-7CBAC734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8C7-4B3E-49DB-A7B2-E53617FA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5A80C-4CE5-4782-9BAC-7D809E7A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7A2EC-0E75-454D-9F16-29CF538C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D2A3E-EC40-4F49-981D-61B108E1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275BA-DF9A-484B-AF75-3E34703A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9639D-17EF-4A32-802B-DE5E7597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4E6C7-6EA6-4C22-9302-8C1E3AAC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0F7BA-B111-4081-AC54-054463EC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15BF-FCA9-43A2-A148-5E4D1EF4D4EA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-6480" y="27986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599F-001E-41E1-9C1F-A35601EFDC5C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454-D248-4A2D-BF24-A3A7D73121A7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7220-71CD-4379-9F4F-F431C8BEF85F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26DC-F6B8-4200-8F33-3691F2FDC4D1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FA85-E9FD-4A9C-8CC8-6E871217A050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930-D364-496A-8A58-C71797A82959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b13f9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5CD-5C1A-40B1-B4C8-A57CF701C901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311640" cy="37450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1"/>
          <p:cNvSpPr/>
          <p:nvPr/>
        </p:nvSpPr>
        <p:spPr>
          <a:xfrm>
            <a:off x="2050920" y="486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Життєвий шлях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а Григоровича Шевченк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042560" y="1096920"/>
            <a:ext cx="381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23 кві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Шевченка заарештували за порушення царської заборони писати й малювати. Після слідства, з Орської фортеці його перевели до Новопетровського укріплення на півострові Мангишлак, куди він прибув у середині жов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Сім років перебування в Новопетровському укріпленні — чи не найтяжчих у житті поет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 травня 1857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було дано дозвіл звільнити Шевченка з військової служби зі встановленням за ним нагляду і забороною жити в столицях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Picture 4" descr="0039"/>
          <p:cNvPicPr/>
          <p:nvPr/>
        </p:nvPicPr>
        <p:blipFill>
          <a:blip r:embed="rId1"/>
          <a:stretch/>
        </p:blipFill>
        <p:spPr>
          <a:xfrm>
            <a:off x="4932360" y="692280"/>
            <a:ext cx="3871800" cy="53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1116000" y="141300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літку 185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Шевченко відвідав Україну. Зустрівся в Кирилівці з братами й сестрою. Мав намір оселитися на Україні. Шукав ділянку, щоб збудувати хату. Та 13 липня біля с. Прохорівка його заарештували. Звільнили через місяць і запропонували виїхати до Петербурга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ці роки Шевченко багато працював як художник, майже цілком присвятивши себе мистецтву офорта (186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ада Академії мистецтв надала йому звання академіка гравірування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ічні 1860р. під назвою “Кобзар” вийшла збірка, яка складалася з 17 написаних до заслання поезі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1042920" y="1444680"/>
            <a:ext cx="698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6 лютого (10 березня) 1861 року Шевченко помер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 кошти друзів 1 (13 березня) його поховано спочатку на Смоленському православному кладовищі в Петербурзі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ісля того як п'ятдесят вісім днів прах Т. Г. Шевченка перебував у Петербурзі, його домовину, згідно із заповітом, за клопотанням Михайла Лазаревського, після отримання ним дозвілу у квітні того ж року, перевезено в Україну і перепоховано на Чернечій горі біля Канев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621240" y="3024360"/>
            <a:ext cx="1828800" cy="26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258920" y="162864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Тарас Григорович Шевченк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країнський поет, письменник (драматург, прозаїк), художник (живописець, гравер), громадський та політичний діяч, фольклорист, етнограф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971640" y="1125360"/>
            <a:ext cx="406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родився 25 лютого (9 березня) 1814 у селі Моринці Звенигородського повіту Київської губернії (нині село Звенигородського району Черкаської області) в закріпаченій селянській родині Григорія Івановича Шевченка та Катерини Якимівни Бойко козацького походженн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2787840" cy="38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>
            <a:lum contrast="12000"/>
          </a:blip>
          <a:srcRect l="0" t="-2167" r="-48" b="0"/>
          <a:stretch/>
        </p:blipFill>
        <p:spPr>
          <a:xfrm>
            <a:off x="2411280" y="2637000"/>
            <a:ext cx="3924360" cy="2644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781080" y="530028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тьківська хата в с.Кирилів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.Шевченкo. Олівець. Вересень 184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10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тьки Шевченка були кріпаками магната генерал-лейтенанта Василя Васильовича Енгельгардта - поміщика, що володів 50 тис. кріпаків і був власником близько 160 тис. десятин землі. До володінь Енгельгардта належали також села Моринц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 Кирилівка, де проходило дитинство малого Тарас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042920" y="1197000"/>
            <a:ext cx="705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ени 1822 року Тарас Шевченко починає вчитися грамоти у місцевого дяка Совгиря. Знайомиться з творами Г. Сковороди. В період 1822–1828 років намалював «Коні. Солдати» (картина не знайдена)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д час навчання Шевченко ознайомився з деякими творами української літератури. Відчуваючи великий потяг до живопису, кілька днів наймитує і «вчиться» малярства в диякона Єфрем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ові минуло 14 років, помер В. Енгельгардт, і село Кирилівка стало власністю його сина П. Енгельгардта, Шевченка ж зробили дворовим слугою нового поміщика в маєтку Вільша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продовж майже 2,5 років — з осені 1828 року до початку 1831 р. — Шевченко пробув зі своїм паном у Віль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16000" y="821520"/>
            <a:ext cx="7056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1831 році сімнадцятирічний Шевченко приїздить до Петербурга, куди було переведено Енгельгардта. У 1832 році Енгельгардт законтрактував Шевченка на чотири роки Ширяєву - різних живописних справ майстр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зніше відбувається знайомство художника-кріпака з Гребінкою, Григоровичем, Венеціановим, Жуковським, Брюллови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43280" y="1465200"/>
            <a:ext cx="345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квітні 1837 року Брюллов створює портрет Жуковського, який був розіграний у лотереї за 2500 карбованці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ці гроші було викуплено Тараса Шевченка з кріпацтва. 25 квітня 1838 року на квартирі Брюллова йому була вручена Жуковським відпуск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448080" cy="45370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1280" y="5445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.А.Жуковськи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5280" y="1036440"/>
            <a:ext cx="439416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“      “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Художника Шевченка за складання бунтівничих і надзвичайно зухвалих віршів, як обдарованого міцною будовою тіла,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изначил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рядовим в Оренбузький Окремий корпус, доручивши начальству найсуворіше наглядати, щоб від нього ніяким способом не могли виходити бунтівничі і пасквільні твори…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 вироку царського суд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8 червня 1847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 Шевченка привезли до Оренбурга, звідти до Орської кріпості, де він мав відбувати солдатську службу. В Орську він порушив царську заборону писати. Свої нові твори він потай записував до саморобних “захалявних” зошитків. В Орській кріпості поет написав 21 твір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8" name="Picture 4" descr="0_28685_3740c7b_XL"/>
          <p:cNvPicPr/>
          <p:nvPr/>
        </p:nvPicPr>
        <p:blipFill>
          <a:blip r:embed="rId1"/>
          <a:stretch/>
        </p:blipFill>
        <p:spPr>
          <a:xfrm>
            <a:off x="250920" y="1125360"/>
            <a:ext cx="3309840" cy="43340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115640" y="1196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У 1848р. на клопотання Шевченкових друзів його включили як художника до складу Аральської описової експедиції, очолюваної О. Бутаковим. З жовтня 1848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до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травня 1849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експедиція зимувала на острові Кос-арал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0" name="Picture 4" descr="0035"/>
          <p:cNvPicPr/>
          <p:nvPr/>
        </p:nvPicPr>
        <p:blipFill>
          <a:blip r:embed="rId1"/>
          <a:stretch/>
        </p:blipFill>
        <p:spPr>
          <a:xfrm>
            <a:off x="900000" y="2133720"/>
            <a:ext cx="7620120" cy="45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7:23:47Z</dcterms:created>
  <dc:creator>Аллювий</dc:creator>
  <dc:description/>
  <dc:language>en-US</dc:language>
  <cp:lastModifiedBy>Полтавський</cp:lastModifiedBy>
  <dcterms:modified xsi:type="dcterms:W3CDTF">2013-12-23T19:21:09Z</dcterms:modified>
  <cp:revision>9</cp:revision>
  <dc:subject/>
  <dc:title>Тарас Григорович Шевчен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35000000000001024140</vt:lpwstr>
  </property>
</Properties>
</file>