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96B-055E-4857-962B-B5950578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C09-A375-40E1-AC8B-649CBD0C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14A-9E5E-4493-A308-5BCE58A9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2FA-8F22-4D95-AF97-8CCE0881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A213-E90C-4C65-9FD2-0E430A92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8F8A-0F52-4C81-9CA5-2A959C19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12E4-3F9A-4ABA-9B98-A04F21B0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29F0-E0CF-4DBD-94A3-FCCDED59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0D47-836D-46FC-9494-D86C37D7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6876-64D6-4415-BA73-D446AE59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4055-DE1A-475D-B616-3B791677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456-C5E6-4690-B906-6773430E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E16F-0821-4316-8E4B-141F912D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C2DB-6C97-4A82-914B-002F5F68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D5D6-861C-4FF1-9D05-B893868A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FD53-E28B-4AF6-BAE7-273B7C23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7305-4896-4ADD-B61E-25AA1A70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97C93-1BC7-445B-9124-0D3A7A12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7EA9B-9603-4C8E-AF1D-E299335A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B76B-C3DB-4112-8AA1-9DA12BF9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5C9DE-31FE-4801-9483-54E0411A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54EB-2EF7-4210-AFF1-02486B65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B19-7D22-43FC-A7F5-8A897DAC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3B661-CE53-425A-9C99-A410046D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7A1D3-1CB6-4ACE-BE1E-57DD93C1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9B280-9678-42C1-9AA6-8BD2F222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F1D3-264F-45DF-9173-EC547DF3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D033D-5B0B-4B57-A3E2-DEF415B6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BA680-BF57-4DEE-A72B-3F807D5B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689B8-42D6-49B8-BB97-A66FE647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DC624-CCB0-4F94-8AB2-6011A375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2705E-5CE6-465A-8151-9F604A2E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2170F-6947-486B-8210-A10435DA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91C-A6BB-4940-8AC7-C57751EB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AEC97-2006-4D9F-BA8D-6B7B4817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9010-7DE0-420B-A486-94458A4D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60496-2DE3-4923-82EB-974168EC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9BC64-C9D1-4B77-9510-967BB6D8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29D3E-7290-4D8D-A394-5E42CF91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152AF-9CCE-4B8C-8A2D-37613D00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F318C-E5B5-45EE-AAE0-989F3CEB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25A08-FF7B-4515-BA8A-7EB3DDEA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388D2-BCC4-42D7-A14D-37AA345B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89B85-25A6-4AA8-8F46-45F45B0F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000-E249-458E-8CAC-91C4D607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08A87-2E19-4509-83A6-252096B1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DA95A-6A30-45C3-A8FD-2B46510E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6B22A-6074-485E-BD21-B5D4EE30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6689A-9405-4999-BE27-CA2F324D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DA568-494A-4B20-AE5D-97965B33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972D7-65A9-4153-A439-14E8610D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C22AE-175A-4FEE-B6E0-863BCFBC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FBBF9-A8EA-491E-97CE-5BD0C624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AE060-3FE5-4A24-8764-1AE8E6F0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18BF0-9130-41C0-8E39-336C9B0E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B43C-BBEA-45D4-B19B-FD734AB7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63337-7C54-499E-8943-A4095B76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0C981-4CFF-48F8-BC36-24FBF4BB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7EDBC-77F2-483B-AA0E-099A0141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D3C74-9603-4F42-AA66-5B2C4037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2246C-7024-4F15-A4F2-A31464C3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847DA-F9BE-4651-A801-C062046B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1651F-A272-4C96-9D2F-FB9E3F1D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D704D-CC2E-4419-A807-93E81C9C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1AC61-F050-4526-96EE-522E6842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FD592-D212-48A6-86FF-4D19F3CE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50D-AA19-4030-B130-FE8D3E0E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F5D9A-3940-43C0-81F4-C2D21740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4CF70-48C9-4A34-AEC9-96B7815B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29094-DCB5-48A7-AC12-7076041C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E2A7F-399A-4D92-8F8E-A868DCF8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92169-F8A0-4D5E-969A-91E9C387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37CB7-992D-4423-8C59-D9BEA08D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6254D-6AE7-4D70-84C1-AC7B1BF2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97393-C3C3-4536-85DE-E9A85BD3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D53A4-CBBD-4A8D-8872-06D3741B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B84EF-83AB-4969-A216-88DEA83D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E37-3AFB-4839-AABF-C9E7F2E1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53FF4-DFBD-468F-A25D-42DE190C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56709-554D-4C73-9CC5-903929A0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8567E-055E-4432-B583-68D68FDB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E7D0A-9337-4222-A034-FDA0FED6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C0867-7239-4194-8AD2-9EA0706E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DD047-E716-4882-9F98-D48ED7CF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A74EA-743B-40C8-8220-1012598C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84183-2DA1-4FCA-B3FE-849DB4B4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F54E7-B204-4406-8E01-18766D5A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318C8-C18E-43B4-8477-DE2A68FF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F2E-3BD7-450A-941A-02D18C0B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A3F9A-6576-4EE8-A508-AA78466C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7E5C9-A0D4-466B-A679-7508F4AB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2D97C-954A-41CC-AE4F-89CDA5F8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F4AAA-A723-4C2D-B072-4078148D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9B0E8-2724-4EAB-B84E-266B2377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B18ED-5433-4B20-A50B-20F40755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AC2E8-C192-4CD7-9C39-9175E0D5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AEE8-1FD9-4AB9-9962-5B1B80273587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-6480" y="27986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1829-5767-4F78-882B-08794FD5E6ED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327D-F4DF-4643-9484-3BE805115636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flourish2.png"/>
          <p:cNvPicPr/>
          <p:nvPr/>
        </p:nvPicPr>
        <p:blipFill>
          <a:blip r:embed="rId3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lourish2.png"/>
          <p:cNvPicPr/>
          <p:nvPr/>
        </p:nvPicPr>
        <p:blipFill>
          <a:blip r:embed="rId4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BAD1-D54B-4E16-BE09-AC388FDA1C96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9EC9-6185-4B69-89EA-1C1AE06509CE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0C32-0211-44E4-AF68-BC53D974D71C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5301-39C9-4C77-8DEC-6224310763C0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9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b13f9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11E9-6453-40F2-B03E-F4E971946CE2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311640" cy="374508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1"/>
          <p:cNvSpPr/>
          <p:nvPr/>
        </p:nvSpPr>
        <p:spPr>
          <a:xfrm>
            <a:off x="2050920" y="4869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Життєвий шлях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араса Григоровича Шевченк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042560" y="1096920"/>
            <a:ext cx="3816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23 квітня 1850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Шевченка заарештували за порушення царської заборони писати й малювати. Після слідства, з Орської фортеці його перевели до Новопетровського укріплення на півострові Мангишлак, куди він прибув у середині жовтня 1850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Сім років перебування в Новопетровському укріпленні — чи не найтяжчих у житті поет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1 травня 1857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було дано дозвіл звільнити Шевченка з військової служби зі встановленням за ним нагляду і забороною жити в столицях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2" name="Picture 4" descr="0039"/>
          <p:cNvPicPr/>
          <p:nvPr/>
        </p:nvPicPr>
        <p:blipFill>
          <a:blip r:embed="rId1"/>
          <a:stretch/>
        </p:blipFill>
        <p:spPr>
          <a:xfrm>
            <a:off x="4932360" y="692280"/>
            <a:ext cx="3871800" cy="53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1"/>
          <p:cNvSpPr/>
          <p:nvPr/>
        </p:nvSpPr>
        <p:spPr>
          <a:xfrm>
            <a:off x="1116000" y="1413000"/>
            <a:ext cx="69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літку 185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Шевченко відвідав Україну. Зустрівся в Кирилівці з братами й сестрою. Мав намір оселитися на Україні. Шукав ділянку, щоб збудувати хату. Та 13 липня біля с. Прохорівка його заарештували. Звільнили через місяць і запропонували виїхати до Петербурга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ці роки Шевченко багато працював як художник, майже цілком присвятивши себе мистецтву офорта (186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Рада Академії мистецтв надала йому звання академіка гравірування)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січні 1860р. під назвою “Кобзар” вийшла збірка, яка складалася з 17 написаних до заслання поезі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1042920" y="1444680"/>
            <a:ext cx="698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26 лютого (10 березня) 1861 року Шевченко помер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На кошти друзів 1 (13 березня) його поховано спочатку на Смоленському православному кладовищі в Петербурзі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Після того як п'ятдесят вісім днів прах Т. Г. Шевченка перебував у Петербурзі, його домовину, згідно із заповітом, за клопотанням Михайла Лазаревського, після отримання ним дозвілу у квітні того ж року, перевезено в Україну і перепоховано на Чернечій горі біля Канев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3621240" y="3024360"/>
            <a:ext cx="1828800" cy="263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258920" y="1628640"/>
            <a:ext cx="655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Тарас Григорович Шевченко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країнський поет, письменник (драматург, прозаїк), художник (живописець, гравер), громадський та політичний діяч, фольклорист, етнограф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971640" y="1125360"/>
            <a:ext cx="4065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родився 25 лютого (9 березня) 1814 у селі Моринці Звенигородського повіту Київської губернії (нині село Звенигородського району Черкаської області) в закріпаченій селянській родині Григорія Івановича Шевченка та Катерини Якимівни Бойко козацького походженн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5219640" y="1268280"/>
            <a:ext cx="2787840" cy="388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>
            <a:lum contrast="12000"/>
          </a:blip>
          <a:srcRect l="0" t="-2167" r="-48" b="0"/>
          <a:stretch/>
        </p:blipFill>
        <p:spPr>
          <a:xfrm>
            <a:off x="2411280" y="2637000"/>
            <a:ext cx="3924360" cy="26445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781080" y="5300280"/>
            <a:ext cx="42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тьківська хата в с.Кирилівк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.Шевченкo. Олівець. Вересень 184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"/>
          <p:cNvSpPr/>
          <p:nvPr/>
        </p:nvSpPr>
        <p:spPr>
          <a:xfrm>
            <a:off x="1042920" y="1052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тьки Шевченка були кріпаками магната генерал-лейтенанта Василя Васильовича Енгельгардта - поміщика, що володів 50 тис. кріпаків і був власником близько 160 тис. десятин землі. До володінь Енгельгардта належали також села Моринц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і Кирилівка, де проходило дитинство малого Тарас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1042920" y="1197000"/>
            <a:ext cx="7058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сени 1822 року Тарас Шевченко починає вчитися грамоти у місцевого дяка Совгиря. Знайомиться з творами Г. Сковороди. В період 1822–1828 років намалював «Коні. Солдати» (картина не знайдена)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ід час навчання Шевченко ознайомився з деякими творами української літератури. Відчуваючи великий потяг до живопису, кілька днів наймитує і «вчиться» малярства в диякона Єфрем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арасові минуло 14 років, помер В. Енгельгардт, і село Кирилівка стало власністю його сина П. Енгельгардта, Шевченка ж зробили дворовим слугою нового поміщика в маєтку Вільшані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продовж майже 2,5 років — з осені 1828 року до початку 1831 р. — Шевченко пробув зі своїм паном у Вільні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16000" y="821520"/>
            <a:ext cx="7056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1831 році сімнадцятирічний Шевченко приїздить до Петербурга, куди було переведено Енгельгардта. У 1832 році Енгельгардт законтрактував Шевченка на чотири роки Ширяєву - різних живописних справ майстр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ізніше відбувається знайомство художника-кріпака з Гребінкою, Григоровичем, Венеціановим, Жуковським, Брюлловим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43280" y="1465200"/>
            <a:ext cx="345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квітні 1837 року Брюллов створює портрет Жуковського, який був розіграний у лотереї за 2500 карбованці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ці гроші було викуплено Тараса Шевченка з кріпацтва. 25 квітня 1838 року на квартирі Брюллова йому була вручена Жуковським відпускна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3448080" cy="45370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11280" y="5445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.А.Жуковськи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635280" y="1036440"/>
            <a:ext cx="439416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“      “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Художника Шевченка за складання бунтівничих і надзвичайно зухвалих віршів, як обдарованого міцною будовою тіла,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призначили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рядовим в Оренбузький Окремий корпус, доручивши начальству найсуворіше наглядати, щоб від нього ніяким способом не могли виходити бунтівничі і пасквільні твори…”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З вироку царського суду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8 червня 1847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 Шевченка привезли до Оренбурга, звідти до Орської кріпості, де він мав відбувати солдатську службу. В Орську він порушив царську заборону писати. Свої нові твори він потай записував до саморобних “захалявних” зошитків. В Орській кріпості поет написав 21 твір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8" name="Picture 4" descr="0_28685_3740c7b_XL"/>
          <p:cNvPicPr/>
          <p:nvPr/>
        </p:nvPicPr>
        <p:blipFill>
          <a:blip r:embed="rId1"/>
          <a:stretch/>
        </p:blipFill>
        <p:spPr>
          <a:xfrm>
            <a:off x="250920" y="1125360"/>
            <a:ext cx="3309840" cy="43340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115640" y="119664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У 1848р. на клопотання Шевченкових друзів його включили як художника до складу Аральської описової експедиції, очолюваної О. Бутаковим. З жовтня 1848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 до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травня 1849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експедиція зимувала на острові Кос-арал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0" name="Picture 4" descr="0035"/>
          <p:cNvPicPr/>
          <p:nvPr/>
        </p:nvPicPr>
        <p:blipFill>
          <a:blip r:embed="rId1"/>
          <a:stretch/>
        </p:blipFill>
        <p:spPr>
          <a:xfrm>
            <a:off x="900000" y="2133720"/>
            <a:ext cx="7620120" cy="453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17:23:47Z</dcterms:created>
  <dc:creator>Аллювий</dc:creator>
  <dc:description/>
  <dc:language>en-US</dc:language>
  <cp:lastModifiedBy>Полтавський</cp:lastModifiedBy>
  <dcterms:modified xsi:type="dcterms:W3CDTF">2013-12-23T19:21:09Z</dcterms:modified>
  <cp:revision>9</cp:revision>
  <dc:subject/>
  <dc:title>Тарас Григорович Шевченк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35000000000001024140</vt:lpwstr>
  </property>
</Properties>
</file>