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5.png" ContentType="image/png"/>
  <Override PartName="/ppt/media/image5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3AA-163A-41E0-98AC-017ABD9B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947-B848-4126-9FFF-08B76C49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3B2-3970-480E-BE81-82D3BB5D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223-15B1-47DD-93E5-48660731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FA6-B843-454B-B602-7AEA139D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048-E711-49FA-9DAC-C5E0B34F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2B9-3715-4A16-A2C9-1BD146F5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87F-106F-49A5-9063-35BF7F0A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1B9-E96A-4171-87B2-6BC2FEE1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705-426A-49B9-950D-BBA70D9B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194-4849-4E60-BB3A-41068399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A58-5170-4AA3-9C00-4D5DE5ED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019E-52AF-4BC4-9C40-02EECE98D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957480" cy="544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51280" y="2698560"/>
            <a:ext cx="52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71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ворчість Т.Г. Шевч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427280" y="3499920"/>
            <a:ext cx="409716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ховайте та вставай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дани порві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І вражою злою кров'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ю окропіт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333399"/>
                </a:solidFill>
                <a:uFillTx/>
                <a:latin typeface="Arial"/>
              </a:rPr>
              <a:t>Шевченко - поет, прозаїк, драматург, дослі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84720" y="1481040"/>
            <a:ext cx="43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 смійтеся, чужі лю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Церков-дом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Розвалиться... і з-під не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Встане Украї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розвіє тьму невол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Світ правди засвіт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помоляться на во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вольничі діти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247320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296064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323388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72000" y="3506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72000" y="378000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572000" y="405288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572000" y="4325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9640" y="692280"/>
            <a:ext cx="378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43280" y="1131120"/>
            <a:ext cx="418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сати вірші Тарас Шевченко почав ще до звільнення з кріпацтва. Перша згадка про один із його ранніх віршів, що дійшла до нас, датована 31 березня 1837 ро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133880" cy="5239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8080" y="6020640"/>
            <a:ext cx="63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ПОЛЯХ РУКОПИСУ ВІРША «РУСАЛК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1839 рі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140868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атерина», «Тарасова ніч», «Іван Підкова», балада «Тополя», послання «До Основ'яненка», вірші «Перебендя», «Нащо мені чорні брови... ». Вони й склали першу його поетичну збірку - «Кобзар», яка побачила світ у 1840 роц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49680" cy="482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9421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.Г. Шевченко. Ілюстрація до поезії “Катерин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33"/>
                </a:solidFill>
                <a:latin typeface="Arial"/>
              </a:rPr>
              <a:t>1840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640"/>
            <a:ext cx="770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2 березня 1840 року, був поданий до цензури Є. Гребінкою альманах «Ластівка», до якого він долучив і перший розділ з нового твору Т. Шевченка ,-поеми «Гайдамаки» (розділ «Галайда»). За короткий час «Кобзар» і «Гайдамаки» набули широкої популярнос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48360" y="971280"/>
            <a:ext cx="3638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           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Час виняткової творчої продуктивності для поета. Протягом жовтня - грудня він написав поеми «Єретик», «Сліпий», «Наймичка», вогненну інвективу «Кавказ», послання «І мертвим, і живим...», цикл переспівів «Давидові псалми», вірші «Холодний Яр», «Минають дні, минають ночі...», «Як умру, то поховайте...» («Заповіт») та інші твор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1845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0320" y="5733720"/>
            <a:ext cx="50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ЧЕРКИ НА ЛИСТІ ДО БРАТА, М.Г. ШЕВЧ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981000"/>
            <a:ext cx="37670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219640" y="1269720"/>
            <a:ext cx="3395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Шевченко звів усі свої твори у велику рукописну збірку під назвою «Три Літа». Були написані балади «Лілея» й «Русалка», на початку наступного року - поема «Відьма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184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080" y="476280"/>
            <a:ext cx="4708440" cy="6121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360" y="6490440"/>
            <a:ext cx="70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СТОРІНКАХ РУКОПИСНОЇ ЗБІРКИ «ТРИ ЛІТ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00720" y="1852560"/>
            <a:ext cx="464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'являються поеми «Княжна» та «Варнак», історична поема «Чернець» і ряд ліричних віршів: «Не гріє сонце на чужині…», «Сон» («Гори мої високії…»), «Самому чудно, а де ж дітись?»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8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" y="6490440"/>
            <a:ext cx="58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0" y="471600"/>
            <a:ext cx="417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д час переходу з Орської фортеці до укріплення Раім у складі Аральської описової експедиції Т. Шевченко написав вірш «У бога за дверми лежала сокира...», а під час зимівлі 1848-1849 років на Косаралі - «Царі», «Марина» і великий цикл ліричних поез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333360"/>
            <a:ext cx="4249800" cy="619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1405080" y="6490440"/>
            <a:ext cx="89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859280" y="2241720"/>
            <a:ext cx="3745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вченко зазначав, що повістей у нього «десятків коло двох набереться», нині відомі тексти лише дев'яти: «Наймичка», «Варнак», «Княгиня», «Музикант», «Несчастный», «Капитанша», «Близнецы», «Художник», «Прогулка с удовольствием и не без мора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Arial"/>
              </a:rPr>
              <a:t>Про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1700280"/>
            <a:ext cx="4076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95640" y="1029960"/>
            <a:ext cx="496908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рас Шевченко- не лише поет і прозаїк, а 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раматур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исав він кілька п'єс, але повністю збереглися лише драма "Назар Стодоля" та уривок з історічної драми «Микита Гайдай»                               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73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3357720"/>
            <a:ext cx="3816360" cy="2928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7813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Микита Гайдай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2164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Назар Стодол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03280" y="144828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на з маловідомих сторінок біографії великого Kобзаря - участь в Аральскій географічній експедиції 1848-1849 років.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33048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„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Я тепер веселий йду на оте нікчемне море Аральське. Не знаю, чи вернувся тілько!.. А йду, їй-богу веселий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68680" y="765000"/>
            <a:ext cx="46753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333399"/>
                </a:solidFill>
                <a:uFillTx/>
                <a:latin typeface="Arial"/>
              </a:rPr>
              <a:t>Діяльність Шевченка на заслан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25600" y="2781360"/>
            <a:ext cx="771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днією із заслуг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Шевченка стало те, що він вивів із тривалого занепаду нашу мову, а українську літературу підніс до європейськ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59280" y="0"/>
            <a:ext cx="4103640" cy="2052720"/>
          </a:xfrm>
          <a:prstGeom prst="rect">
            <a:avLst/>
          </a:prstGeom>
          <a:ln w="0">
            <a:noFill/>
          </a:ln>
          <a:effectLst>
            <a:outerShdw dist="117181" dir="13761632" blurRad="0" rotWithShape="0">
              <a:srgbClr val="ffff00">
                <a:alpha val="50000"/>
              </a:srgbClr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766880" y="2711160"/>
            <a:ext cx="52563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3300"/>
                </a:solidFill>
                <a:latin typeface="Arial"/>
              </a:rPr>
              <a:t>Значе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Шевченко-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62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81960" y="0"/>
            <a:ext cx="156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19640" y="1912680"/>
            <a:ext cx="3673440" cy="308016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    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 першого ж дня волі він стає учнем Академії мистецтв, увесь поринає у світ навчання і творчої праці, як художник  і по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1911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292640"/>
            <a:ext cx="3419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   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удожні твори Шевченка Академія мистецтв відзначає срібними меда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546840"/>
            <a:ext cx="63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      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Тарас ночами ходив у Літній сад малювати із статуй. На той час він уже досить вдало малював портрети акварел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46440" cy="46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Т. Шевченко. Автопортрет.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51400" y="0"/>
            <a:ext cx="379260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62" b="-60"/>
          <a:stretch/>
        </p:blipFill>
        <p:spPr>
          <a:xfrm>
            <a:off x="1763640" y="2924280"/>
            <a:ext cx="3268800" cy="39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>
            <a:lum contrast="18000"/>
          </a:blip>
          <a:srcRect l="0" t="0" r="-887" b="-44"/>
          <a:stretch/>
        </p:blipFill>
        <p:spPr>
          <a:xfrm>
            <a:off x="4788000" y="2997360"/>
            <a:ext cx="3384360" cy="38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0" r="-604" b="22"/>
          <a:stretch/>
        </p:blipFill>
        <p:spPr>
          <a:xfrm>
            <a:off x="3059280" y="0"/>
            <a:ext cx="3097080" cy="3141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035200">
            <a:off x="-360" y="537372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Автопортр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06:30Z</dcterms:created>
  <dc:creator>Алекс</dc:creator>
  <dc:description/>
  <dc:language>en-US</dc:language>
  <cp:lastModifiedBy>Полтавський</cp:lastModifiedBy>
  <dcterms:modified xsi:type="dcterms:W3CDTF">2013-12-23T18:18:30Z</dcterms:modified>
  <cp:revision>1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e000000000001024140</vt:lpwstr>
  </property>
</Properties>
</file>