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5AA4-970E-428C-BE3E-E35F8C907E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F6DF-80B6-49D1-9C2C-50AFC3690DB1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DA8-CBE2-418B-B8D5-389F4D50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067-7BA7-4B32-8A2F-5F8800CA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11B44-1008-496E-A80D-0501F77C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48759-0AB7-49E4-B0C2-5AF34956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ECBA3-5637-429E-97C0-CD7B402A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86765-B001-4C3B-B799-287CCC7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67253-3BEC-45A6-ADF2-82EB081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FCA2F-0CAC-47B9-A63E-CC09114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63BD3-308D-4458-B113-A4BD9C45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A4E21-4D8C-4302-BB1C-9F83C85F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FD5E7-BCC9-4BA6-BFE1-5717875D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C61-A0D2-434F-A1EB-BA0F212E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6EB-D559-4854-B57A-0E37928B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F374-1B59-4661-89A4-BCC45FDF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BD31-DBAC-489C-A79F-AF73F4B3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77F7-99BF-4206-904E-FB855CC1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7E04-FEF3-4561-900A-98339680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E45D-3B66-4C10-B161-0FC64268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B54-125D-478E-A1F8-3EA5E55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ED7D-4B37-4CDE-8677-7C953E71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FB4-9D1C-4C85-B284-D931A4BD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F7E4-9FC1-4F38-95F8-11B9159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8C89-074A-4BD9-9D7F-193FA59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2F79-67C9-43D8-9C77-64249770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48EE-B17F-42CA-A9FA-64BB2389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06FD-0375-4937-8D2D-E8B57A90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5100-324C-426E-B6DB-A7817518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D324-3AE9-4E57-917B-FDB7951D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5E2A-F7C5-42AE-B8FA-DA6BCC01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8050-3269-4819-8A31-3A17AEBB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77F4-911A-4758-89E0-5CA72AF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834-2553-46C9-890B-209ED6CE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1DB1-4D85-48A9-B908-237BCBA7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5856-414F-4EE9-973D-B91AD86E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9527-44F3-460E-A994-13FB896D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D454-F4A4-450A-B8F6-2C619658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C380-FB97-48EA-BDCE-5FB9D1A7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A92B-570E-4E37-B040-D2BF4715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1421-3CB9-4784-A89E-C10F5E7F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289E-7A7F-44E0-8EDD-A2AAEE9A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73800-24C7-4CF1-AA37-084128BF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124D-8FCC-4B0C-A6EB-FE5FE2C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2AB-86E7-4214-BD0C-4D4B4606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8E36-C029-4D34-89F8-33B80C72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F142-B864-4042-84A5-9849986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90A6-0EFA-40C0-A584-27784A65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CF0E-713E-4E28-B203-375494C9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A01A-BDC6-4E53-A8F5-E051827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6A98-ED82-4909-B568-23CE05B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A4026-7AE5-4528-96CF-77A979EE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4DA7-4126-405D-B189-95F2C608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1B6D-3C84-42F1-B0E1-B4A27FFA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CEB9-5EF5-45E9-85BC-87297D26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5F0-2284-47FD-A0F2-43E55252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41D1B-2FF7-4633-B563-CB20799C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25FE1-866B-41C9-974A-F024EF5A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0FE5-CA56-43C9-99C7-4DD816FE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98303-9DC4-489C-8D68-B1FA7075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2A55-E94F-4872-A7A5-C9433950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9EE3B-4713-4BE9-A74C-4065C5F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3FC34-5464-480B-AF6F-9E7F25F3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4D0D9-217E-4685-BC97-A9E11E5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FF938-19E4-48D8-93AE-8B7A55A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5C5C-3A1F-4EF2-BD2B-DF4D6BD9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35F-F885-4790-947B-CE338162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48BB1-AAB3-49C4-8505-6E135405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572C3-4B2D-4501-BD05-D4675078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053A5-DA18-42D9-9E24-0D140C37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E71B-1AA2-4A49-AA41-AE11913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91C0-CB03-46A4-8D3E-562B61D6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9175-207A-4226-8125-56ADC8CB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C10C-6D15-4581-9980-F8D23DC4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A717B-1B9D-418D-A989-BC8B39BC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CB21D-FFED-4C0C-82F3-C83FF3C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62555-69A8-4DCD-A40A-6875293E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6B2-985A-4817-85B4-579BCCC2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2C38-8E2D-4E66-80BC-990EE942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4E7E-82B6-4CAB-9D6E-1A25C514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8685-593F-44EF-AE7B-69F13007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688BE-FA62-41AE-9320-58D20FE8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7B603-CF51-4105-9B61-DE65C507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ED8DD-EFAB-412A-82C6-0C0437BD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05E1C-53CA-4867-BB2C-197EC5D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2B10-27F6-48BB-B311-0CFA98F4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C991B-6792-42D9-B8FE-DA4E9AF4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5AB21-9227-4534-A929-3BD9F3F9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3B9-99D7-44C4-B917-5520648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60FF1-A3E0-4A04-90D6-4F35D9B7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95C03-5F98-4479-B32C-B8BB215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1E7CF-C314-4E5E-9D0F-997515A1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22A67-4FA6-4465-81A6-0699782B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FB85-43D0-4CC2-A597-D9E7299D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C7C86-99C6-4987-8C39-E38039F1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7205-307B-410B-B43B-35B8A7D1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8333-F00B-45CE-B9AF-7FE2E475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E163-A441-4AFC-8772-A2A3B1ED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9529A-B22D-45FC-9671-37B127EF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218-B07B-4D8F-BDDB-74B7D9DB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D265B-8D8C-4DD5-A458-ACC55016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09D6-0A38-4C57-BF20-7BE139CF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62267-CB9B-4F73-A60B-BD3B1DA6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84C1B-CD8E-47CF-BDF2-C0D021C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B2EEA-F79A-4DFA-BD9E-F11F6F2E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1A405-A51B-4F34-BF79-3039244D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B3F63-6BFD-4352-840B-B71AE7FF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6EA3C-54D1-4549-ADF5-8D1E7BA0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90442-A8E5-43BB-9C25-1CDCD3D9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34B21-39CB-48EB-8E2B-A7BE654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CB7E-A230-4BD3-915C-1058029CAC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4BE6-3031-4491-9A7A-34145528A7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3BE7-0001-4617-A7AD-EA7556B717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899C-666B-4135-B682-25BFEC32A9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E682-F3F3-40EA-80FE-40D797A203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5CD2-7C02-43CA-B349-54977F8071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6C12-11D0-4211-98D2-BD389F49B5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6CBE-DD5C-4C3C-AE6C-659610F927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D3EF-4779-4D28-B19F-1DB4AD3E72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ЮліЯ\Презентації\шаблони\фон\фон_сторінки\1239212070_book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675320" y="1682640"/>
            <a:ext cx="3719520" cy="38642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 rot="359400">
            <a:off x="1573200" y="2717640"/>
            <a:ext cx="29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Тема уроку: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68680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24000" y="155700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вдання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горі,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д шафою, напишіть імя того, кого представляєт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полички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шафи впишіть свої асоціації з портретом Б.Хмельницького, який він: чи то риси характеру, чи то зовнішні рис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изу,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 шафою запишіть виснов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365040" y="1006560"/>
            <a:ext cx="2487600" cy="3833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3"/>
          <a:stretch/>
        </p:blipFill>
        <p:spPr>
          <a:xfrm>
            <a:off x="3097080" y="1517760"/>
            <a:ext cx="2492640" cy="4200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4"/>
          <a:stretch/>
        </p:blipFill>
        <p:spPr>
          <a:xfrm>
            <a:off x="5979960" y="2023920"/>
            <a:ext cx="2487600" cy="399276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9" descr=""/>
          <p:cNvPicPr/>
          <p:nvPr/>
        </p:nvPicPr>
        <p:blipFill>
          <a:blip r:embed="rId5"/>
          <a:stretch/>
        </p:blipFill>
        <p:spPr>
          <a:xfrm>
            <a:off x="-353880" y="4370400"/>
            <a:ext cx="3305160" cy="182232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0" descr=""/>
          <p:cNvPicPr/>
          <p:nvPr/>
        </p:nvPicPr>
        <p:blipFill>
          <a:blip r:embed="rId6"/>
          <a:stretch/>
        </p:blipFill>
        <p:spPr>
          <a:xfrm>
            <a:off x="1676520" y="5200560"/>
            <a:ext cx="4591080" cy="205920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1" descr=""/>
          <p:cNvPicPr/>
          <p:nvPr/>
        </p:nvPicPr>
        <p:blipFill>
          <a:blip r:embed="rId7"/>
          <a:stretch/>
        </p:blipFill>
        <p:spPr>
          <a:xfrm>
            <a:off x="5194440" y="5364000"/>
            <a:ext cx="4321080" cy="2000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77600" cy="1000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а подія стала приводом для початку війни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Що відбулося в 1647 році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Що передувало відкритим збройним виступам Б.Хмельницького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якому році, як і з яким проханням звернувся Хмельницький до народу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у за чисельністю армію зібрав Б.Хмельницький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:\Users\валэра\Pictures\Picasa\Записанные видео\Обличчя української історії. Богдан Хмельницький-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Прямоугольник 4"/>
          <p:cNvGrpSpPr/>
          <p:nvPr/>
        </p:nvGrpSpPr>
        <p:grpSpPr>
          <a:xfrm>
            <a:off x="4127400" y="182520"/>
            <a:ext cx="4595760" cy="2378160"/>
            <a:chOff x="4127400" y="182520"/>
            <a:chExt cx="4595760" cy="2378160"/>
          </a:xfrm>
        </p:grpSpPr>
        <p:pic>
          <p:nvPicPr>
            <p:cNvPr id="45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127400" y="182520"/>
              <a:ext cx="459576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4140360" y="193680"/>
              <a:ext cx="4572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34b38"/>
                  </a:solidFill>
                  <a:latin typeface="Arial"/>
                </a:rPr>
                <a:t>Б. Хмельницький став лідером повстанців і разом зі своїми сподвижниками згуртував український народ для боротьби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34b38"/>
                  </a:solidFill>
                  <a:latin typeface="Arial"/>
                </a:rPr>
                <a:t>за свої права та свободи.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Users\валэра\Pictures\Picasa\Записанные видео\Обличчя української історії. Богдан Хмельницький-019.jpg"/>
          <p:cNvPicPr/>
          <p:nvPr/>
        </p:nvPicPr>
        <p:blipFill>
          <a:blip r:embed="rId1"/>
          <a:srcRect l="0" t="0" r="0" b="-33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37960" y="152280"/>
            <a:ext cx="8710920" cy="1536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24000" y="1699920"/>
            <a:ext cx="8604000" cy="108108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Давайте пригадаємо становище України на початку та в середин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VІІ с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Содержимое 2"/>
          <p:cNvSpPr/>
          <p:nvPr/>
        </p:nvSpPr>
        <p:spPr>
          <a:xfrm>
            <a:off x="395280" y="56768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324000" y="2924280"/>
            <a:ext cx="8604000" cy="108108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Якими були причини козацьких виступів у 20—30-х рр. XVII ст.?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766000" cy="13399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) посилення національно-релігійного гніту на українських землях під владою Речі Посполитої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) погіршення становища селян та міща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) обмеження прав козацтв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Горизонтальный свиток 4"/>
          <p:cNvSpPr/>
          <p:nvPr/>
        </p:nvSpPr>
        <p:spPr>
          <a:xfrm>
            <a:off x="250920" y="1052640"/>
            <a:ext cx="8569080" cy="5805360"/>
          </a:xfrm>
          <a:prstGeom prst="horizontalScroll">
            <a:avLst>
              <a:gd name="adj" fmla="val 12500"/>
            </a:avLst>
          </a:prstGeom>
          <a:solidFill>
            <a:srgbClr val="c17529"/>
          </a:solidFill>
          <a:ln w="25560">
            <a:solidFill>
              <a:srgbClr val="8d5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посилення національно-релігійного гніту на українських землях під владою Речі Посполитої;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обмеження прав козацтва;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погіршення становища селян та міщан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49120" y="55440"/>
            <a:ext cx="8894880" cy="1541520"/>
          </a:xfrm>
          <a:prstGeom prst="rect">
            <a:avLst/>
          </a:prstGeom>
          <a:ln w="0">
            <a:noFill/>
          </a:ln>
        </p:spPr>
      </p:pic>
      <p:sp>
        <p:nvSpPr>
          <p:cNvPr id="419" name="Заголовок 1"/>
          <p:cNvSpPr/>
          <p:nvPr/>
        </p:nvSpPr>
        <p:spPr>
          <a:xfrm>
            <a:off x="484200" y="24922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ЮліЯ\Презентації\шаблони\фон\31978739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000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6"/>
          <p:cNvSpPr/>
          <p:nvPr/>
        </p:nvSpPr>
        <p:spPr>
          <a:xfrm>
            <a:off x="468360" y="1197000"/>
            <a:ext cx="8496360" cy="2775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Національно-визвольна боротьба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— рухи поневолених народів за повалення чужоземного панування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3" descr="C:\Users\валэра\Pictures\Picasa\Записанные видео\Обличчя української історії. Богдан Хмельницький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4"/>
          <p:cNvSpPr/>
          <p:nvPr/>
        </p:nvSpPr>
        <p:spPr>
          <a:xfrm>
            <a:off x="1547640" y="6093000"/>
            <a:ext cx="601200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олив боротьбу Б. Хмельницький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25" name="Прямоугольник 5"/>
          <p:cNvGrpSpPr/>
          <p:nvPr/>
        </p:nvGrpSpPr>
        <p:grpSpPr>
          <a:xfrm>
            <a:off x="-96840" y="-66600"/>
            <a:ext cx="9337680" cy="1530360"/>
            <a:chOff x="-96840" y="-66600"/>
            <a:chExt cx="9337680" cy="1530360"/>
          </a:xfrm>
        </p:grpSpPr>
        <p:pic>
          <p:nvPicPr>
            <p:cNvPr id="42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-96840" y="-66600"/>
              <a:ext cx="9337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0" y="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аціонально-визвольна війна українського народу середини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VII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т. тривала від лютого 1648 р. до серпня 1657 р. 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8" name="Прямоугольник 6"/>
          <p:cNvSpPr/>
          <p:nvPr/>
        </p:nvSpPr>
        <p:spPr>
          <a:xfrm>
            <a:off x="250920" y="1700280"/>
            <a:ext cx="288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на мала національно-визвольний, релігійний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 соціальний характер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оугольник 7"/>
          <p:cNvSpPr/>
          <p:nvPr/>
        </p:nvSpPr>
        <p:spPr>
          <a:xfrm>
            <a:off x="6443640" y="14842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Її рушійною силою були козаки, міщани, селяни, православне духівництво, частина дрібної української шляхт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Лента лицом вниз 6"/>
          <p:cNvSpPr/>
          <p:nvPr/>
        </p:nvSpPr>
        <p:spPr>
          <a:xfrm>
            <a:off x="2916360" y="1197000"/>
            <a:ext cx="6227640" cy="1152360"/>
          </a:xfrm>
          <a:custGeom>
            <a:avLst/>
            <a:gdLst>
              <a:gd name="textAreaLeft" fmla="*/ 1557000 w 6227640"/>
              <a:gd name="textAreaRight" fmla="*/ 4671000 w 6227640"/>
              <a:gd name="textAreaTop" fmla="*/ 19188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8686800" cy="10731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-231840" y="1542960"/>
            <a:ext cx="5211720" cy="58690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5249520" y="19162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(1595—1657)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Прямоугольник 5"/>
          <p:cNvSpPr/>
          <p:nvPr/>
        </p:nvSpPr>
        <p:spPr>
          <a:xfrm>
            <a:off x="4963680" y="134136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Богдан (Зиновій)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Хмельницький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Прямоугольник 7"/>
          <p:cNvSpPr/>
          <p:nvPr/>
        </p:nvSpPr>
        <p:spPr>
          <a:xfrm>
            <a:off x="4449600" y="3284640"/>
            <a:ext cx="4857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тьман України, творець Української козацької держав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C:\Users\валэра\Pictures\Picasa\Записанные видео\Обличчя української історії. Богдан Хмельницький-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1:00:45Z</dcterms:created>
  <dc:creator>валэра</dc:creator>
  <dc:description/>
  <dc:language>en-US</dc:language>
  <cp:lastModifiedBy>USER</cp:lastModifiedBy>
  <dcterms:modified xsi:type="dcterms:W3CDTF">2013-11-11T13:57:28Z</dcterms:modified>
  <cp:revision>51</cp:revision>
  <dc:subject/>
  <dc:title>«Національно-визвольна війна українського народу середини ХVІІ ст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44000000000001024140</vt:lpwstr>
  </property>
</Properties>
</file>