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76F-843D-4E8E-B797-3EB718AA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C51-258C-4E8F-84EF-CC935CC8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F9A-87CC-4652-A5AA-CF5A9F12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6DB-1809-49DE-B3D4-8F393786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3797-C756-4AD2-8FEE-CA65BFEE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09E1-2C73-438D-986B-0AC9BA37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87C0-8DB1-4E2A-B6EC-20092AFC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8F50-BEF3-4C5B-81B5-7D078B08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3DA5-39FC-4EA4-B1C0-465F2784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E408-8176-4B05-ACED-6D13C1FE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361-667F-4DC6-86C5-44AC3E6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DF9-80E6-44A4-BBF7-AC8C1427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E655-DFD7-4C3C-BE9E-9AD28E9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6BB-137D-48E8-8568-30CB8255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A2AE-D40C-4EB5-BE56-0C93942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1AEE-2754-4752-810C-418FAE7A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ADE4-1C45-48DE-81CF-0B8A10DC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527-8102-4BA5-B08B-8DC93011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2D3-3C83-41FC-99ED-38B1D517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2B1-D1D5-4B6B-9AE8-7762D71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316-3EE9-440B-AB7A-3E93D4CB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55A-250C-4ABE-B7FC-B6F4B6D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965-22BE-4FAF-A68D-4DD84AD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AF5-5CEE-475B-B403-89BBA45F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0B50-6FC1-424B-845C-1D77A53B8E8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7D8-2602-4EB1-9652-C7DF1AA5BFF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hyperlink" Target="http://ru.wikipedia.org/wiki/&#1055;&#1088;&#1080;&#1076;&#1085;&#1077;&#1089;&#1090;&#1088;&#1086;&#1074;&#1089;&#1082;&#1080;&#1081;_&#1088;&#1091;&#1073;&#1083;&#1100;" TargetMode="External"/><Relationship Id="rId4" Type="http://schemas.openxmlformats.org/officeDocument/2006/relationships/hyperlink" Target="http://ru.wikipedia.org/wiki/1995_&#1075;&#1086;&#1076;" TargetMode="External"/><Relationship Id="rId5" Type="http://schemas.openxmlformats.org/officeDocument/2006/relationships/hyperlink" Target="http://ru.wikipedia.org/wiki/1995_&#1075;&#1086;&#1076;" TargetMode="External"/><Relationship Id="rId6" Type="http://schemas.openxmlformats.org/officeDocument/2006/relationships/hyperlink" Target="http://ru.wikipedia.org/wiki/1995_&#1075;&#1086;&#1076;" TargetMode="External"/><Relationship Id="rId7" Type="http://schemas.openxmlformats.org/officeDocument/2006/relationships/image" Target="../media/image33.jpeg"/><Relationship Id="rId8" Type="http://schemas.openxmlformats.org/officeDocument/2006/relationships/hyperlink" Target="http://ru.wikipedia.org/wiki/&#1059;&#1082;&#1088;&#1072;&#1080;&#1085;&#1072;" TargetMode="External"/><Relationship Id="rId9" Type="http://schemas.openxmlformats.org/officeDocument/2006/relationships/hyperlink" Target="http://ru.wikipedia.org/wiki/&#1059;&#1082;&#1088;&#1072;&#1080;&#1085;&#1072;" TargetMode="External"/><Relationship Id="rId10" Type="http://schemas.openxmlformats.org/officeDocument/2006/relationships/hyperlink" Target="http://ru.wikipedia.org/wiki/&#1059;&#1082;&#1088;&#1072;&#1080;&#1085;&#1072;" TargetMode="External"/><Relationship Id="rId11" Type="http://schemas.openxmlformats.org/officeDocument/2006/relationships/hyperlink" Target="http://ru.wikipedia.org/wiki/&#1059;&#1082;&#1088;&#1072;&#1080;&#1085;&#1072;" TargetMode="External"/><Relationship Id="rId12" Type="http://schemas.openxmlformats.org/officeDocument/2006/relationships/hyperlink" Target="http://ru.wikipedia.org/wiki/&#1059;&#1082;&#1088;&#1072;&#1080;&#1085;&#1072;" TargetMode="External"/><Relationship Id="rId13" Type="http://schemas.openxmlformats.org/officeDocument/2006/relationships/hyperlink" Target="http://ru.wikipedia.org/wiki/&#1043;&#1088;&#1080;&#1074;&#1085;&#1072;" TargetMode="External"/><Relationship Id="rId14" Type="http://schemas.openxmlformats.org/officeDocument/2006/relationships/hyperlink" Target="http://ru.wikipedia.org/wiki/1992_&#1075;&#1086;&#1076;" TargetMode="External"/><Relationship Id="rId15" Type="http://schemas.openxmlformats.org/officeDocument/2006/relationships/hyperlink" Target="http://ru.wikipedia.org/wiki/1992_&#1075;&#1086;&#1076;" TargetMode="External"/><Relationship Id="rId16" Type="http://schemas.openxmlformats.org/officeDocument/2006/relationships/image" Target="../media/image34.jpeg"/><Relationship Id="rId17" Type="http://schemas.openxmlformats.org/officeDocument/2006/relationships/hyperlink" Target="http://ru.wikipedia.org/wiki/&#1043;&#1088;&#1080;&#1074;&#1085;&#1072;" TargetMode="External"/><Relationship Id="rId18" Type="http://schemas.openxmlformats.org/officeDocument/2006/relationships/hyperlink" Target="http://ru.wikipedia.org/wiki/2001_&#1075;&#1086;&#1076;" TargetMode="External"/><Relationship Id="rId19" Type="http://schemas.openxmlformats.org/officeDocument/2006/relationships/hyperlink" Target="http://ru.wikipedia.org/wiki/2001_&#1075;&#1086;&#1076;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ru.wikipedia.org/wiki/&#1043;&#1088;&#1080;&#1074;&#1085;&#1072;" TargetMode="External"/><Relationship Id="rId22" Type="http://schemas.openxmlformats.org/officeDocument/2006/relationships/hyperlink" Target="http://ru.wikipedia.org/wiki/2004_&#1075;&#1086;&#1076;" TargetMode="External"/><Relationship Id="rId23" Type="http://schemas.openxmlformats.org/officeDocument/2006/relationships/hyperlink" Target="http://ru.wikipedia.org/wiki/2004_&#1075;&#1086;&#1076;" TargetMode="External"/><Relationship Id="rId2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95_&#1075;&#1086;&#1076;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hyperlink" Target="http://ru.wikipedia.org/wiki/&#1055;&#1086;&#1095;&#1090;&#1086;&#1074;&#1072;&#1103;_&#1084;&#1072;&#1088;&#1082;&#1072;" TargetMode="External"/><Relationship Id="rId4" Type="http://schemas.openxmlformats.org/officeDocument/2006/relationships/hyperlink" Target="http://ru.wikipedia.org/wiki/1995_&#1075;&#1086;&#1076;" TargetMode="External"/><Relationship Id="rId5" Type="http://schemas.openxmlformats.org/officeDocument/2006/relationships/image" Target="../media/image38.jpeg"/><Relationship Id="rId6" Type="http://schemas.openxmlformats.org/officeDocument/2006/relationships/hyperlink" Target="http://ru.wikipedia.org/wiki/&#1055;&#1086;&#1095;&#1090;&#1086;&#1074;&#1072;&#1103;_&#1084;&#1072;&#1088;&#1082;&#1072;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ru.wikipedia.org/wiki/&#1055;&#1086;&#1095;&#1090;&#1086;&#1074;&#1072;&#1103;_&#1084;&#1072;&#1088;&#1082;&#1072;" TargetMode="External"/><Relationship Id="rId9" Type="http://schemas.openxmlformats.org/officeDocument/2006/relationships/image" Target="../media/image40.jpeg"/><Relationship Id="rId10" Type="http://schemas.openxmlformats.org/officeDocument/2006/relationships/hyperlink" Target="http://ru.wikipedia.org/wiki/&#1055;&#1086;&#1095;&#1090;&#1086;&#1074;&#1072;&#1103;_&#1084;&#1072;&#1088;&#1082;&#1072;" TargetMode="External"/><Relationship Id="rId11" Type="http://schemas.openxmlformats.org/officeDocument/2006/relationships/hyperlink" Target="http://ru.wikipedia.org/wiki/1995_&#1075;&#1086;&#1076;" TargetMode="External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hyperlink" Target="http://ru.wikipedia.org/wiki/&#1055;&#1086;&#1095;&#1090;&#1086;&#1074;&#1072;&#1103;_&#1084;&#1072;&#1088;&#1082;&#1072;" TargetMode="External"/><Relationship Id="rId4" Type="http://schemas.openxmlformats.org/officeDocument/2006/relationships/hyperlink" Target="http://ru.wikipedia.org/wiki/&#1057;&#1057;&#1057;&#1056;" TargetMode="External"/><Relationship Id="rId5" Type="http://schemas.openxmlformats.org/officeDocument/2006/relationships/hyperlink" Target="http://ru.wikipedia.org/wiki/1954_&#1075;&#1086;&#1076;" TargetMode="External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hyperlink" Target="http://ru.wikipedia.org/wiki/&#1041;&#1086;&#1075;&#1091;&#1085;,_&#1048;&#1074;&#1072;&#1085;" TargetMode="External"/><Relationship Id="rId5" Type="http://schemas.openxmlformats.org/officeDocument/2006/relationships/hyperlink" Target="http://ru.wikipedia.org/wiki/&#1041;&#1086;&#1075;&#1091;&#1085;,_&#1048;&#1074;&#1072;&#1085;" TargetMode="External"/><Relationship Id="rId6" Type="http://schemas.openxmlformats.org/officeDocument/2006/relationships/hyperlink" Target="http://ru.wikipedia.org/wiki/&#1050;&#1088;&#1080;&#1074;&#1086;&#1085;&#1086;&#1089;,_&#1052;&#1072;&#1082;&#1089;&#1080;&#1084;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320" y="5638320"/>
            <a:ext cx="9139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Найбільш відомий пам</a:t>
            </a: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ятник </a:t>
            </a:r>
            <a:r>
              <a:rPr b="0" lang="ru-RU" sz="30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огдану </a:t>
            </a:r>
            <a:r>
              <a:rPr b="0" lang="ru-RU" sz="30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Хмельницкому</a:t>
            </a: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знаходиться в </a:t>
            </a:r>
            <a:r>
              <a:rPr b="1" lang="ru-RU" sz="3000" spc="-1" strike="noStrike">
                <a:solidFill>
                  <a:srgbClr val="ff0000"/>
                </a:solidFill>
                <a:latin typeface="Palatino Linotype"/>
              </a:rPr>
              <a:t>м. Ки</a:t>
            </a:r>
            <a:r>
              <a:rPr b="1" lang="uk-UA" sz="3000" spc="-1" strike="noStrike">
                <a:solidFill>
                  <a:srgbClr val="ff0000"/>
                </a:solidFill>
                <a:latin typeface="Palatino Linotype"/>
              </a:rPr>
              <a:t>єві</a:t>
            </a: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 на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Софіївській площі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0" name="Picture 2" descr="File:Bohdan.JPG"/>
          <p:cNvPicPr/>
          <p:nvPr/>
        </p:nvPicPr>
        <p:blipFill>
          <a:blip r:embed="rId4"/>
          <a:stretch/>
        </p:blipFill>
        <p:spPr>
          <a:xfrm>
            <a:off x="755640" y="-302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576108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Донецьк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ул. Велика Магістральн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8" name="Picture 4" descr="Файл:Bogdan 02.JPG"/>
          <p:cNvPicPr/>
          <p:nvPr/>
        </p:nvPicPr>
        <p:blipFill>
          <a:blip r:embed="rId3"/>
          <a:stretch/>
        </p:blipFill>
        <p:spPr>
          <a:xfrm>
            <a:off x="2268360" y="14400"/>
            <a:ext cx="50403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5589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онецька обл.,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Українськ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поблизу шахти «Україна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http://www.shukach.com/sites/default/files/imagecache/node-gallery-display/post_images/185/2393-49992.jpg"/>
          <p:cNvPicPr/>
          <p:nvPr/>
        </p:nvPicPr>
        <p:blipFill>
          <a:blip r:embed="rId3"/>
          <a:stretch/>
        </p:blipFill>
        <p:spPr>
          <a:xfrm>
            <a:off x="1979640" y="-1395360"/>
            <a:ext cx="54529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566064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33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entury Gothic"/>
              </a:rPr>
              <a:t>м. Запоріжжя</a:t>
            </a: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, вул. Б.Хмельницького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2" name="Picture 2" descr="http://upload.wikimedia.org/wikipedia/uk/d/da/%D0%97%D0%B0%D0%BF%D0%BE%D1%80%D1%96%D0%B6%D0%B6%D1%8F_%D0%9F%D0%B0%D0%BC'%D1%8F%D1%82%D0%BD%D0%B8%D0%BA_%D0%A5%D0%BC%D0%B5%D0%BB%D1%8C%D0%BD%D0%B8%D1%86%D1%8C%D0%BA%D0%BE%D0%BC%D1%83.jpg"/>
          <p:cNvPicPr/>
          <p:nvPr/>
        </p:nvPicPr>
        <p:blipFill>
          <a:blip r:embed="rId3"/>
          <a:stretch/>
        </p:blipFill>
        <p:spPr>
          <a:xfrm>
            <a:off x="900000" y="0"/>
            <a:ext cx="70707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280" y="5675040"/>
            <a:ext cx="84344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Монумент на честь розгрому запорізькими козаками на чолі з Б.Хмельницьким поляків в січні 1648 рок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entury Gothic"/>
              </a:rPr>
              <a:t>м. Запоріжжя</a:t>
            </a: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., о. Хортиця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4" name="Picture 2" descr="File:На честь розгрому поляків.jpg"/>
          <p:cNvPicPr/>
          <p:nvPr/>
        </p:nvPicPr>
        <p:blipFill>
          <a:blip r:embed="rId2"/>
          <a:stretch/>
        </p:blipFill>
        <p:spPr>
          <a:xfrm>
            <a:off x="1979640" y="0"/>
            <a:ext cx="51134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000" y="5589360"/>
            <a:ext cx="9036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31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Київська обл. </a:t>
            </a:r>
            <a:r>
              <a:rPr b="1" lang="ru-RU" sz="3100" spc="-1" strike="noStrike">
                <a:solidFill>
                  <a:srgbClr val="ff0000"/>
                </a:solidFill>
                <a:latin typeface="Century Gothic"/>
              </a:rPr>
              <a:t>м. Біла Церква</a:t>
            </a: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, вул. Шевченка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2" descr="http://upload.wikimedia.org/wikipedia/uk/a/ad/%D0%9F%D0%B0%D0%BC'%D1%8F%D1%82%D0%BD%D0%B8%D0%BA_%D0%A5%D0%BC%D0%B5%D0%BB%D1%8C%D0%BD%D0%B8%D1%86%D1%8C%D0%BA%D0%BE%D0%BC%D1%83_%D1%83_%D0%91%D1%96%D0%BB%D1%96%D0%B9_%D0%A6%D0%B5%D1%80%D0%BA%D0%B2%D1%96.jpg"/>
          <p:cNvPicPr/>
          <p:nvPr/>
        </p:nvPicPr>
        <p:blipFill>
          <a:blip r:embed="rId3"/>
          <a:stretch/>
        </p:blipFill>
        <p:spPr>
          <a:xfrm>
            <a:off x="2340000" y="28440"/>
            <a:ext cx="41990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8896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70c0"/>
                </a:solidFill>
                <a:uFillTx/>
                <a:latin typeface="Century Gothic"/>
              </a:rPr>
              <a:t>Бюст Б.Хмельницького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Київська обл.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м. Переяслав-Хмельницький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, на площі Б.Хмельницького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2" descr="http://upload.wikimedia.org/wikipedia/uk/0/0b/%D0%91%D0%BE%D0%B3%D0%B4%D0%B0%D0%BD_%D0%A5%D0%BC%D0%B5%D0%BB%D1%8C%D0%BD%D0%B8%D1%86%D1%8C%D0%BA%D0%B8%D0%B9_%D0%9F%D0%B5%D1%80%D0%B5%D1%8F%D1%81%D0%BB%D0%B0%D0%B2.jpg"/>
          <p:cNvPicPr/>
          <p:nvPr/>
        </p:nvPicPr>
        <p:blipFill>
          <a:blip r:embed="rId2"/>
          <a:stretch/>
        </p:blipFill>
        <p:spPr>
          <a:xfrm>
            <a:off x="2050920" y="0"/>
            <a:ext cx="50421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573264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31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Century Gothic"/>
              </a:rPr>
              <a:t>м. Кіровоград</a:t>
            </a: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, площа Б.Хмельницького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266920" y="-603360"/>
            <a:ext cx="4808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5520" y="5589360"/>
            <a:ext cx="829152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9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entury Gothic"/>
              </a:rPr>
              <a:t>м. Львів</a:t>
            </a:r>
            <a:r>
              <a:rPr b="1" lang="ru-RU" sz="2900" spc="-1" strike="noStrike">
                <a:solidFill>
                  <a:srgbClr val="000000"/>
                </a:solidFill>
                <a:latin typeface="Century Gothic"/>
              </a:rPr>
              <a:t>, парк ім. Б.Хмельницького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2409840" y="-316080"/>
            <a:ext cx="4322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9280" y="5950080"/>
            <a:ext cx="83631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умська обл.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Ромн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Московський бульвар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2124000" y="28440"/>
            <a:ext cx="43927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9280" y="5805360"/>
            <a:ext cx="82184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70c0"/>
                </a:solidFill>
                <a:uFillTx/>
                <a:latin typeface="Century Gothic"/>
              </a:rPr>
              <a:t>Бюст Б.Хмельниць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м. Харків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, Салтіське шос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2" descr="File:Памятник Богдану Хмельницкому, Харьков.JPG"/>
          <p:cNvPicPr/>
          <p:nvPr/>
        </p:nvPicPr>
        <p:blipFill>
          <a:blip r:embed="rId2"/>
          <a:stretch/>
        </p:blipFill>
        <p:spPr>
          <a:xfrm>
            <a:off x="1908000" y="-387360"/>
            <a:ext cx="4465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5705280"/>
            <a:ext cx="8578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огдану Хмельницко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м. Києві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на території МАУП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іжрегіональна Академія управління персоналом)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2" name="Picture 2" descr="File:Богдан Хмельницкий г.Киев МАУП.jpg"/>
          <p:cNvPicPr/>
          <p:nvPr/>
        </p:nvPicPr>
        <p:blipFill>
          <a:blip r:embed="rId3"/>
          <a:stretch/>
        </p:blipFill>
        <p:spPr>
          <a:xfrm>
            <a:off x="2627280" y="0"/>
            <a:ext cx="4029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5280" y="5935320"/>
            <a:ext cx="829152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Хмельницький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вул. Архітекторськ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2" descr="File:Khmelnicki.jpg"/>
          <p:cNvPicPr/>
          <p:nvPr/>
        </p:nvPicPr>
        <p:blipFill>
          <a:blip r:embed="rId3"/>
          <a:stretch/>
        </p:blipFill>
        <p:spPr>
          <a:xfrm>
            <a:off x="838080" y="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5805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Хмельницький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Привокзальна площ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1979640" y="-316080"/>
            <a:ext cx="446400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573264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Бюст 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а 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Хмельницко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Century Gothic"/>
              </a:rPr>
              <a:t>го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Хмельницький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вул. Шевченк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2" name="Picture 2" descr="http://upload.wikimedia.org/wikipedia/uk/d/d0/%D0%9F%D0%B0%D0%BC'%D1%8F%D1%82%D0%BD%D0%B8%D0%BA_%D0%91%D0%BE%D0%B3%D0%B4%D0%B0%D0%BD%D1%83_%D0%A5%D0%BC%D0%B5%D0%BB%D1%8C%D0%BD%D0%B8%D1%86%D1%8C%D0%BA%D0%BE%D0%BC%D1%83_%D0%B2_%D0%A5%D0%BC%D0%B5%D0%BB%D1%8C%D0%BD%D0%B8%D1%86%D1%8C%D0%BA%D0%BE%D0%BC%D1%83_(2007).jpg"/>
          <p:cNvPicPr/>
          <p:nvPr/>
        </p:nvPicPr>
        <p:blipFill>
          <a:blip r:embed="rId4"/>
          <a:stretch/>
        </p:blipFill>
        <p:spPr>
          <a:xfrm>
            <a:off x="1979640" y="-1035000"/>
            <a:ext cx="511344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8000" y="5781600"/>
            <a:ext cx="90360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юст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а Хмельницко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entury Gothic"/>
              </a:rPr>
              <a:t>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Черкас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вхід до національного університету  ім. Б.Хмельниць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http://upload.wikimedia.org/wikipedia/uk/6/6c/B.Chmelnytsky-Cherkasy-ChNU.JPG"/>
          <p:cNvPicPr/>
          <p:nvPr/>
        </p:nvPicPr>
        <p:blipFill>
          <a:blip r:embed="rId3"/>
          <a:stretch/>
        </p:blipFill>
        <p:spPr>
          <a:xfrm>
            <a:off x="1692360" y="-1035000"/>
            <a:ext cx="511164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000" y="5805000"/>
            <a:ext cx="82184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Черкаська обл.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Чигирин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Богданова гор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2" descr="File:Памятник-Хмельницькому.jpg"/>
          <p:cNvPicPr/>
          <p:nvPr/>
        </p:nvPicPr>
        <p:blipFill>
          <a:blip r:embed="rId3"/>
          <a:stretch/>
        </p:blipFill>
        <p:spPr>
          <a:xfrm>
            <a:off x="2556000" y="-69840"/>
            <a:ext cx="446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5722560"/>
            <a:ext cx="864072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Чернігівська обл.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Борзн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2" descr="File:Borzna Bogdan-Khmelnitsky 1.JPG"/>
          <p:cNvPicPr/>
          <p:nvPr/>
        </p:nvPicPr>
        <p:blipFill>
          <a:blip r:embed="rId3"/>
          <a:stretch/>
        </p:blipFill>
        <p:spPr>
          <a:xfrm>
            <a:off x="2484360" y="4680"/>
            <a:ext cx="4319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400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Бюст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а Хмельницкого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Чернігівська обл.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Ніжин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2" descr="http://upload.wikimedia.org/wikipedia/uk/0/0a/%D0%9F%D0%BE%D0%B3%D1%80%D1%83%D0%B4%D0%B4%D1%8F_%D0%91%D0%BE%D0%B3%D0%B4%D0%B0%D0%BD%D0%B0_%D0%A5%D0%BC%D0%B5%D0%BB%D1%8C%D0%BD%D0%B8%D1%86%D1%8C%D0%BA%D0%BE%D0%B3%D0%BE_%D0%B2_%D0%9D%D1%96%D0%B6%D0%B8%D0%BD%D1%96_%D0%BD%D0%B0_%D0%A7%D0%B5%D1%80%D0%BD%D1%96%D0%B3%D1%96%D0%B2%D1%89%D0%B8%D0%BD%D1%96.jpg"/>
          <p:cNvPicPr/>
          <p:nvPr/>
        </p:nvPicPr>
        <p:blipFill>
          <a:blip r:embed="rId3"/>
          <a:stretch/>
        </p:blipFill>
        <p:spPr>
          <a:xfrm>
            <a:off x="2411280" y="-536400"/>
            <a:ext cx="44643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5695920"/>
            <a:ext cx="8362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Хмельницком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який не зберіг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Луцьк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2" descr="http://upload.wikimedia.org/wikipedia/uk/4/49/Bogdan_Lutsk.JPG"/>
          <p:cNvPicPr/>
          <p:nvPr/>
        </p:nvPicPr>
        <p:blipFill>
          <a:blip r:embed="rId4"/>
          <a:stretch/>
        </p:blipFill>
        <p:spPr>
          <a:xfrm>
            <a:off x="2195640" y="0"/>
            <a:ext cx="46288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71240" y="5589360"/>
            <a:ext cx="821988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який не зберіг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Тернопі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2" descr="http://tarnopol.te.ua/dovidnyk_1/64.jpg"/>
          <p:cNvPicPr/>
          <p:nvPr/>
        </p:nvPicPr>
        <p:blipFill>
          <a:blip r:embed="rId3"/>
          <a:stretch/>
        </p:blipFill>
        <p:spPr>
          <a:xfrm>
            <a:off x="324000" y="260280"/>
            <a:ext cx="851508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9280" y="5724000"/>
            <a:ext cx="842508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Arial"/>
              </a:rPr>
              <a:t>Богдан Хмельницкий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Памятнике "1000-летие России" в Великом Новгород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Россия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6" name="Picture 2" descr="File:1000 Bogdan.jpg"/>
          <p:cNvPicPr/>
          <p:nvPr/>
        </p:nvPicPr>
        <p:blipFill>
          <a:blip r:embed="rId2"/>
          <a:stretch/>
        </p:blipFill>
        <p:spPr>
          <a:xfrm>
            <a:off x="2268360" y="19080"/>
            <a:ext cx="44643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ile:Памятник Хмельницкому.jpg"/>
          <p:cNvPicPr/>
          <p:nvPr/>
        </p:nvPicPr>
        <p:blipFill>
          <a:blip r:embed="rId2"/>
          <a:stretch/>
        </p:blipFill>
        <p:spPr>
          <a:xfrm>
            <a:off x="2268360" y="0"/>
            <a:ext cx="518328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5714640"/>
            <a:ext cx="8209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юст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Богдана Хмельниц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Сімферополь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ул. Б. Хмельниц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39280" y="58770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Г. Омск (Россия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8" name="Picture 2" descr="http://upload.wikimedia.org/wikipedia/commons/thumb/e/e2/Monument_to_getman_Bohdan_Khmelnytsky_in_Omsk.jpg/150px-Monument_to_getman_Bohdan_Khmelnytsky_in_Omsk.jpg"/>
          <p:cNvPicPr/>
          <p:nvPr/>
        </p:nvPicPr>
        <p:blipFill>
          <a:blip r:embed="rId3"/>
          <a:stretch/>
        </p:blipFill>
        <p:spPr>
          <a:xfrm>
            <a:off x="2700360" y="31680"/>
            <a:ext cx="367200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3240"/>
            <a:ext cx="900900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Зображення Б.Хмельницького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на  грошових одиницях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11" descr="http://upload.wikimedia.org/wikipedia/ru/thumb/b/be/%D0%9F%D1%80%D0%B8%D0%B4%D0%BD%D0%B5%D1%81%D1%82%D1%80%D0%BE%D0%B2%D1%8C%D0%B5_50_%D1%82%D1%8B%D1%81._1995_%D0%B0%D0%B2%D0%B5%D1%80%D1%81.jpg/150px-%D0%9F%D1%80%D0%B8%D0%B4%D0%BD%D0%B5%D1%81%D1%82%D1%80%D0%BE%D0%B2%D1%8C%D0%B5_50_%D1%82%D1%8B%D1%81._1995_%D0%B0%D0%B2%D0%B5%D1%80%D1%81.jpg"/>
          <p:cNvPicPr/>
          <p:nvPr/>
        </p:nvPicPr>
        <p:blipFill>
          <a:blip r:embed="rId2"/>
          <a:stretch/>
        </p:blipFill>
        <p:spPr>
          <a:xfrm>
            <a:off x="579600" y="1341360"/>
            <a:ext cx="3394080" cy="1582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-9360" y="29685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ятьдесят тысяч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приднестровских рублей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,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19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5"/>
              </a:rPr>
              <a:t>8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6"/>
              </a:rPr>
              <a:t>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http://upload.wikimedia.org/wikipedia/commons/thumb/c/c6/5-griven-front.jpg/150px-5-griven-front.jpg"/>
          <p:cNvPicPr/>
          <p:nvPr/>
        </p:nvPicPr>
        <p:blipFill>
          <a:blip r:embed="rId7"/>
          <a:stretch/>
        </p:blipFill>
        <p:spPr>
          <a:xfrm>
            <a:off x="5219640" y="1341360"/>
            <a:ext cx="3157560" cy="16416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6"/>
          <p:cNvSpPr/>
          <p:nvPr/>
        </p:nvSpPr>
        <p:spPr>
          <a:xfrm>
            <a:off x="4356000" y="2990880"/>
            <a:ext cx="457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ять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8"/>
              </a:rPr>
              <a:t>укра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9"/>
              </a:rPr>
              <a:t>ї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0"/>
              </a:rPr>
              <a:t>нс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1"/>
              </a:rPr>
              <a:t>ь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2"/>
              </a:rPr>
              <a:t>ких</a:t>
            </a:r>
            <a:r>
              <a:rPr b="1" lang="ru-RU" sz="1800" spc="-1" strike="noStrike">
                <a:solidFill>
                  <a:srgbClr val="3399ff"/>
                </a:solidFill>
                <a:latin typeface="Palatino Linotype"/>
              </a:rPr>
              <a:t>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3"/>
              </a:rPr>
              <a:t>гриве</a:t>
            </a:r>
            <a:r>
              <a:rPr b="1" lang="ru-RU" sz="1800" spc="-1" strike="noStrike">
                <a:solidFill>
                  <a:srgbClr val="3399ff"/>
                </a:solidFill>
                <a:latin typeface="Arial"/>
              </a:rPr>
              <a:t>н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4"/>
              </a:rPr>
              <a:t>1992 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5"/>
              </a:rPr>
              <a:t>р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6" descr="http://upload.wikimedia.org/wikipedia/ru/thumb/1/1b/5_%D0%B3%D1%80%D0%BD_2001_%D0%B0%D0%B2%D0%B5%D1%80%D1%81.jpg/150px-5_%D0%B3%D1%80%D0%BD_2001_%D0%B0%D0%B2%D0%B5%D1%80%D1%81.jpg"/>
          <p:cNvPicPr/>
          <p:nvPr/>
        </p:nvPicPr>
        <p:blipFill>
          <a:blip r:embed="rId16"/>
          <a:stretch/>
        </p:blipFill>
        <p:spPr>
          <a:xfrm>
            <a:off x="579600" y="3665520"/>
            <a:ext cx="3394080" cy="1674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7"/>
          <p:cNvSpPr/>
          <p:nvPr/>
        </p:nvSpPr>
        <p:spPr>
          <a:xfrm>
            <a:off x="108000" y="5516640"/>
            <a:ext cx="457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ять ук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ких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7"/>
              </a:rPr>
              <a:t>гривен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8"/>
              </a:rPr>
              <a:t>2001 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9"/>
              </a:rPr>
              <a:t>р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8" descr="http://upload.wikimedia.org/wikipedia/commons/thumb/6/6d/5-Hryvnia-2004-front.jpg/150px-5-Hryvnia-2004-front.jpg"/>
          <p:cNvPicPr/>
          <p:nvPr/>
        </p:nvPicPr>
        <p:blipFill>
          <a:blip r:embed="rId20"/>
          <a:stretch/>
        </p:blipFill>
        <p:spPr>
          <a:xfrm>
            <a:off x="5203800" y="3740040"/>
            <a:ext cx="3330720" cy="17766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8"/>
          <p:cNvSpPr/>
          <p:nvPr/>
        </p:nvSpPr>
        <p:spPr>
          <a:xfrm>
            <a:off x="4356000" y="5546880"/>
            <a:ext cx="457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ять ук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ких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21"/>
              </a:rPr>
              <a:t>гривен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ь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22"/>
              </a:rPr>
              <a:t>2004 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23"/>
              </a:rPr>
              <a:t>р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26600" y="5300640"/>
            <a:ext cx="82184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2525"/>
                </a:solidFill>
                <a:latin typeface="Arial"/>
              </a:rPr>
              <a:t>Памятная монета 200 тыс. карбованцев,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1995 год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9" name="Picture 2" descr="http://upload.wikimedia.org/wikipedia/commons/thumb/0/0e/Bogdan_R.jpg/149px-Bogdan_R.jpg"/>
          <p:cNvPicPr/>
          <p:nvPr/>
        </p:nvPicPr>
        <p:blipFill>
          <a:blip r:embed="rId3"/>
          <a:stretch/>
        </p:blipFill>
        <p:spPr>
          <a:xfrm>
            <a:off x="2124000" y="115920"/>
            <a:ext cx="4824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360" y="2880"/>
            <a:ext cx="900900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entury Gothic"/>
              </a:rPr>
              <a:t>Зображення Б.Хмельницького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entury Gothic"/>
              </a:rPr>
              <a:t>на  марках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61" name="Picture 2" descr="http://upload.wikimedia.org/wikipedia/commons/thumb/b/b1/Stamp_of_Ukraine_s86.jpg/160px-Stamp_of_Ukraine_s86.jpg"/>
          <p:cNvPicPr/>
          <p:nvPr/>
        </p:nvPicPr>
        <p:blipFill>
          <a:blip r:embed="rId2"/>
          <a:stretch/>
        </p:blipFill>
        <p:spPr>
          <a:xfrm>
            <a:off x="539640" y="4327560"/>
            <a:ext cx="3500640" cy="17287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712800" y="6211800"/>
            <a:ext cx="3384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1995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upload.wikimedia.org/wikipedia/commons/thumb/e/e5/1100_%D0%BB%D0%B5%D1%82_%D0%9F%D0%B5%D1%80%D0%B5%D1%8F%D1%81%D0%BB%D0%B0%D0%B2-%D0%A5%D0%BC%D0%B5%D0%BB%D1%8C%D0%BD%D0%B8%D1%86%D0%BA%D0%BE%D0%BC%D1%83_2007.jpg/160px-1100_%D0%BB%D0%B5%D1%82_%D0%9F%D0%B5%D1%80%D0%B5%D1%8F%D1%81%D0%BB%D0%B0%D0%B2-%D0%A5%D0%BC%D0%B5%D0%BB%D1%8C%D0%BD%D0%B8%D1%86%D0%BA%D0%BE%D0%BC%D1%83_2007.jpg"/>
          <p:cNvPicPr/>
          <p:nvPr/>
        </p:nvPicPr>
        <p:blipFill>
          <a:blip r:embed="rId5"/>
          <a:stretch/>
        </p:blipFill>
        <p:spPr>
          <a:xfrm>
            <a:off x="5292720" y="1197000"/>
            <a:ext cx="3095640" cy="1751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7"/>
          <p:cNvSpPr/>
          <p:nvPr/>
        </p:nvSpPr>
        <p:spPr>
          <a:xfrm>
            <a:off x="5003640" y="3081240"/>
            <a:ext cx="3384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6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2007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upload.wikimedia.org/wikipedia/commons/thumb/6/60/Ukr_Stamp_Hmelnitsky-2007.jpg/150px-Ukr_Stamp_Hmelnitsky-2007.jpg"/>
          <p:cNvPicPr/>
          <p:nvPr/>
        </p:nvPicPr>
        <p:blipFill>
          <a:blip r:embed="rId7"/>
          <a:stretch/>
        </p:blipFill>
        <p:spPr>
          <a:xfrm>
            <a:off x="712800" y="1176480"/>
            <a:ext cx="2844720" cy="2528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9"/>
          <p:cNvSpPr/>
          <p:nvPr/>
        </p:nvSpPr>
        <p:spPr>
          <a:xfrm>
            <a:off x="419040" y="3727440"/>
            <a:ext cx="3382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8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2007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http://upload.wikimedia.org/wikipedia/commons/thumb/b/b7/Ukr_Stamp_Hmelnitsky-1998.jpg/160px-Ukr_Stamp_Hmelnitsky-1998.jpg"/>
          <p:cNvPicPr/>
          <p:nvPr/>
        </p:nvPicPr>
        <p:blipFill>
          <a:blip r:embed="rId9"/>
          <a:stretch/>
        </p:blipFill>
        <p:spPr>
          <a:xfrm>
            <a:off x="5241960" y="3714840"/>
            <a:ext cx="3137040" cy="21952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1"/>
          <p:cNvSpPr/>
          <p:nvPr/>
        </p:nvSpPr>
        <p:spPr>
          <a:xfrm>
            <a:off x="5072040" y="6078600"/>
            <a:ext cx="3384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0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1"/>
              </a:rPr>
              <a:t>1998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upload.wikimedia.org/wikipedia/commons/thumb/2/24/Stamp_of_USSR_1760.jpg/113px-Stamp_of_USSR_1760.jpg"/>
          <p:cNvPicPr/>
          <p:nvPr/>
        </p:nvPicPr>
        <p:blipFill>
          <a:blip r:embed="rId2"/>
          <a:stretch/>
        </p:blipFill>
        <p:spPr>
          <a:xfrm>
            <a:off x="971640" y="189000"/>
            <a:ext cx="1834920" cy="25984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395280" y="2859120"/>
            <a:ext cx="324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Почтовая марка</a:t>
            </a: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СССР</a:t>
            </a: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5"/>
              </a:rPr>
              <a:t>195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upload.wikimedia.org/wikipedia/commons/thumb/6/66/1989_CPA_6135.jpg/115px-1989_CPA_6135.jpg"/>
          <p:cNvPicPr/>
          <p:nvPr/>
        </p:nvPicPr>
        <p:blipFill>
          <a:blip r:embed="rId6"/>
          <a:stretch/>
        </p:blipFill>
        <p:spPr>
          <a:xfrm>
            <a:off x="5724360" y="189000"/>
            <a:ext cx="1943280" cy="270504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5076720" y="29113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Почтовая марка СССР,</a:t>
            </a:r>
            <a:br>
              <a:rPr sz="1800"/>
            </a:br>
            <a:r>
              <a:rPr b="1" lang="ru-RU" sz="1800" spc="-1" strike="noStrike" u="sng">
                <a:solidFill>
                  <a:srgbClr val="0000ff"/>
                </a:solidFill>
                <a:uFillTx/>
                <a:latin typeface="Palatino Linotype"/>
              </a:rPr>
              <a:t>198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upload.wikimedia.org/wikipedia/commons/thumb/2/2b/1954._300-%D0%BB%D0%B5%D1%82%D0%B8%D0%B5_%D0%B2%D0%BE%D1%81%D1%81%D0%BE%D0%B5%D0%B4%D0%B8%D0%BD%D0%B5%D0%BD%D0%B8%D1%8F_%D0%A3%D0%BA%D1%80%D0%B0%D0%B8%D0%BD%D1%8B_%D1%81_%D0%A0%D0%BE%D1%81%D1%81%D0%B8%D0%B5%D0%B9.jpg/160px-1954._300-%D0%BB%D0%B5%D1%82%D0%B8%D0%B5_%D0%B2%D0%BE%D1%81%D1%81%D0%BE%D0%B5%D0%B4%D0%B8%D0%BD%D0%B5%D0%BD%D0%B8%D1%8F_%D0%A3%D0%BA%D1%80%D0%B0%D0%B8%D0%BD%D1%8B_%D1%81_%D0%A0%D0%BE%D1%81%D1%81%D0%B8%D0%B5%D0%B9.jpg"/>
          <p:cNvPicPr/>
          <p:nvPr/>
        </p:nvPicPr>
        <p:blipFill>
          <a:blip r:embed="rId7"/>
          <a:stretch/>
        </p:blipFill>
        <p:spPr>
          <a:xfrm>
            <a:off x="2806560" y="3357720"/>
            <a:ext cx="3278160" cy="23349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8"/>
          <p:cNvSpPr/>
          <p:nvPr/>
        </p:nvSpPr>
        <p:spPr>
          <a:xfrm>
            <a:off x="2771640" y="580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Почтовая марка СССР,</a:t>
            </a:r>
            <a:br>
              <a:rPr sz="1800"/>
            </a:br>
            <a:r>
              <a:rPr b="1" lang="ru-RU" sz="1800" spc="-1" strike="noStrike" u="sng">
                <a:solidFill>
                  <a:srgbClr val="0000ff"/>
                </a:solidFill>
                <a:uFillTx/>
                <a:latin typeface="Palatino Linotype"/>
              </a:rPr>
              <a:t>195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24000" y="4508640"/>
            <a:ext cx="87120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Іллінська церква у с. Суботів на Черкащині, відома тим, що була родовою усипальницею відомого гетьмана України Богдана Хмельницького. На зворотному боці купюри п’яти гривень –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й зображено Іллінський храм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76" name="Picture 2" descr="http://stezhkamu.com/img/ps/s_410.jpg"/>
          <p:cNvPicPr/>
          <p:nvPr/>
        </p:nvPicPr>
        <p:blipFill>
          <a:blip r:embed="rId2"/>
          <a:stretch/>
        </p:blipFill>
        <p:spPr>
          <a:xfrm>
            <a:off x="1619280" y="38160"/>
            <a:ext cx="61927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ile:Pomnik Bohdana Chmielnickiego w Kowlu.JPG"/>
          <p:cNvPicPr/>
          <p:nvPr/>
        </p:nvPicPr>
        <p:blipFill>
          <a:blip r:embed="rId2"/>
          <a:stretch/>
        </p:blipFill>
        <p:spPr>
          <a:xfrm>
            <a:off x="1042920" y="0"/>
            <a:ext cx="7261200" cy="5445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805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Богдану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Хмельницком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у Вінницькій обл., </a:t>
            </a: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м.Ковель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а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ул Б. Хмельницького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81440" y="5590800"/>
            <a:ext cx="9325080" cy="131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огдану Хмельницко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м. Любомль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л. Почтов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8" name="Picture 2" descr="http://upload.wikimedia.org/wikipedia/uk/4/4b/%D0%9F%D0%B0%D0%BC'%D1%8F%D1%82%D0%BD%D0%B8%D0%BA_%D0%91%D0%BE%D0%B3%D0%B4%D0%B0%D0%BD%D1%83_%D0%A5%D0%BC%D0%B5%D0%BB%D1%8C%D0%BD%D0%B8%D1%86%D1%8C%D0%BA%D0%BE%D0%BC%D1%83_%D0%B2_%D0%9B%D1%8E%D0%B1%D0%BE%D0%BC%D0%BB%D1%96_%D0%BD%D0%B0_%D0%92%D0%BE%D0%BB%D0%B8%D0%BD%D1%96.jpg"/>
          <p:cNvPicPr/>
          <p:nvPr/>
        </p:nvPicPr>
        <p:blipFill>
          <a:blip r:embed="rId3"/>
          <a:stretch/>
        </p:blipFill>
        <p:spPr>
          <a:xfrm>
            <a:off x="2411280" y="17640"/>
            <a:ext cx="460872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ile:Monument of heroes in Zhovti Vody.JPG"/>
          <p:cNvPicPr/>
          <p:nvPr/>
        </p:nvPicPr>
        <p:blipFill>
          <a:blip r:embed="rId2"/>
          <a:stretch/>
        </p:blipFill>
        <p:spPr>
          <a:xfrm>
            <a:off x="905040" y="-531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46280"/>
            <a:ext cx="9036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амятник Героям визвольної війни українського народу 1648-1657 рр.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(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Б. Хмельницкому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 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І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. Богуну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6"/>
              </a:rPr>
              <a:t>М. Кривоносу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 Дн-ській обл., </a:t>
            </a: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м. Жовті Води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Парк Слави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ile:Bohdan kr ur.JPG"/>
          <p:cNvPicPr/>
          <p:nvPr/>
        </p:nvPicPr>
        <p:blipFill>
          <a:blip r:embed="rId2"/>
          <a:stretch/>
        </p:blipFill>
        <p:spPr>
          <a:xfrm>
            <a:off x="1154160" y="0"/>
            <a:ext cx="6991200" cy="570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5246280"/>
            <a:ext cx="9036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Богдану Хмельницком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 </a:t>
            </a: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м. Кривий Ріг</a:t>
            </a: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ул. Урицького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le:Пам’ятник Богдану Хмельницькому.JPG"/>
          <p:cNvPicPr/>
          <p:nvPr/>
        </p:nvPicPr>
        <p:blipFill>
          <a:blip r:embed="rId2"/>
          <a:stretch/>
        </p:blipFill>
        <p:spPr>
          <a:xfrm>
            <a:off x="2195640" y="0"/>
            <a:ext cx="4464000" cy="548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9528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Богдану Хмельницкому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Кривий Ріг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ул. Металургів, в парку Б.Хмельниць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9640" y="58161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Нікополь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рк Перемог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" name="Picture 2" descr="File:Памятник гетману Богдану Хмельницкому.jpg"/>
          <p:cNvPicPr/>
          <p:nvPr/>
        </p:nvPicPr>
        <p:blipFill>
          <a:blip r:embed="rId3"/>
          <a:stretch/>
        </p:blipFill>
        <p:spPr>
          <a:xfrm>
            <a:off x="900000" y="23760"/>
            <a:ext cx="76107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6-06T06:56:58Z</dcterms:modified>
  <cp:revision>1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e000000000001024140</vt:lpwstr>
  </property>
</Properties>
</file>