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30B-052C-497A-B2D6-E71EDA842E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9F1-F71E-48B5-A7AD-758C5F753CED}" type="slidenum"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2C8-0259-452C-96E9-92D44CA3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F44-8AA5-4FC2-A17B-87E9991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8EC5-F93B-4D66-9650-D65473E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39EF3-5EA0-4808-B29D-26555063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2AE5D-3205-4C49-BF04-3021D8E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F2AB4-A1C6-40C0-9CE7-2671E1E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27AFB-6775-43C2-A592-FD471FA5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F5618-665F-4ACC-9672-6A342587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12CF9-92FC-417D-AFB6-20D65ACC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69ECA-9BCD-4451-941B-4B027A4B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912C6-6DF1-4FF0-8E0A-D4ABD927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0B5-1A55-4708-A4A9-C91D6F7D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D51-2B74-41C1-8204-B9CB7D1E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ECC9-830D-468F-BE4B-FD2A1B61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D64C-83FE-4458-A037-607DAF39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1FF0-FBE3-40CB-AF30-BE9B87BF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AC1D-B42D-47D2-8858-5683BE0D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A15D-F3FE-4D39-B9BC-7E0659E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1B2B-AA18-4FE4-9D6C-D87E58FF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EBA3-D900-4180-AE07-E719057B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577-5AF8-429C-99B6-990DD423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F6F9-55A9-4F12-B01C-4BCAC352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DB2-B174-4D2F-B4B0-DA8A1E6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FFF0-445A-4CB5-9C99-86F11D64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A1BD-E0B4-44E8-84C5-54DE849C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5F04-2512-4ADE-9074-24095584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6389-A31D-4E66-83DA-65B94BE1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C18E-5EC3-4024-98E2-4328CDF0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F93D-2200-4B01-8DE1-B9AF2747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D30A-E375-4A34-BA0C-E8865EAF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0300-ECAB-4328-AD13-D0B13FC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FF4-7836-443E-BAA3-9548BD59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EB60-662E-4DD6-A00C-162321E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86CF-E448-4855-88ED-33BF713F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796E-A596-4346-A79D-2871C7F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8B47-1B5A-4FCF-B956-2171107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BECE-3099-4994-AC34-A2AEF14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6685-0624-4C7B-A44A-38C0A5FF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CD38-0D12-49E1-8F6F-BBDFE0B7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E8D7-DE04-4067-BE97-A6264B40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1A78-6C1A-4251-8E6B-5ADD8D99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66650-3AE2-4243-BEE5-39815E21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3F9-F9F4-447C-8AD4-3EFAE720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D31F-53F6-412C-AE04-D1DA051E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CD9D-CB9A-459E-B1F3-43CF2633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4DC5-D360-44FC-B80A-C5E8286B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561C-F091-46B8-990C-C4DAF40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2B4C-350D-4716-99B6-7FD3764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B9CF-38C1-493B-A27B-F55BFA63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541E-1608-4A98-B8B4-091648D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56D9-8A9C-4810-B443-988A0577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A5D5-1308-4229-AAC9-3154DD24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03EA-E90A-4EE9-9836-46B5C332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467-E08C-4452-ADF4-B7D64C53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CCF8-F2EB-4DF8-8C60-10B416A5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073C-6A95-4425-A781-60255C65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72D9-CB0A-4B9B-8B33-6372EC0C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3CC1-8627-42CA-95B2-B5D5E2D9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49A2-2298-4254-BF4A-C494B47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A9BB-1BE6-402D-A2E3-1E2FA474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1303-6A54-467B-A97D-9894BF0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DBF55-D45C-4ABB-8F7F-8EA49F5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F72C-2C7F-4DC6-AD2C-AF368CB3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5075-DDCA-4E47-A70F-E480EEE5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61C-7266-4105-8AD3-ACEA6C06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4A95-487D-4CCD-ABFE-AA396AA8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A3DA6-7E01-4D8B-8789-2D638425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103ED-415F-4A3C-836B-40DA8DE0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4720-62D2-440C-AC3D-3C4E2A5C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445C-AD4C-4ED3-A517-3EFF07CA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40889-F80C-4DD1-8399-F56A683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7A123-C2C4-4F97-850D-BBC5EA9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497CB-CC0B-41D7-9537-492A4AC8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7E1A-A21D-4F80-B134-3A1F8267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07BA-24C4-44B4-B53F-2EB2C53E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B51-3C46-42EC-A599-FC7E7C2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6373-1EEE-4114-ACFA-C296B37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CA4A9-655B-42A9-8167-FC9D3B78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CCB7-77E8-4309-899C-259A867E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0EE7E-8F9E-4617-9A71-46B14CF4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97755-3AE6-449F-B299-2098EC9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4BE0C-B12D-4A05-9CE3-58114EB4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688C4-74D2-4044-A686-7C0F3691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E508-93BF-4620-B80B-F34D2789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A8C8-8E22-42F8-B0FF-BA6992D2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7E771-71D0-4061-BD87-9835CE2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3F5-EEC3-43B1-AAE3-BA5802C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FD543-6ED6-4291-A0E4-6EE8EC0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2527-38F8-4D7A-8C4A-765325B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ECEEC-B141-4695-AF42-EEEE78D5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D0D6-9CD6-4E66-BF5E-DF882CC7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8716-EEB6-48C8-A7DF-3586C8B1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56796-274A-4A86-9B4A-B71E0E7F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C9630-8A13-4D4B-952A-F5C9784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3809-F518-4FAE-89EB-F30FB846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69244-B151-47F5-BAA5-75715650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BBA4-4E8B-4D67-97A8-F0CB482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E2A-732D-48AA-A75C-D2DFB4A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12CAA-9850-474B-807F-3D4815E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B4EE-BBC8-42FA-976F-A352237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6A5F1-CFF7-47F5-B8E4-5986E21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C5D1-AC56-4371-88ED-38FD986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B92C-1247-4F5A-9B31-2AF67C1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13049-E74D-4DDC-AAE1-B9E4036A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5C10-E770-4B30-AA86-26774CE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AEFD-69D0-47D7-86A4-BE7A0140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74187-C50B-4FA6-84B0-379D2AA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33827-2137-4BE1-90F2-2D26458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F920-CCD4-48BB-B4D7-9A532AE277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1DE-2263-4D94-B6DA-E83B42C6C5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2F37-41C3-47A2-A893-70FCFCE807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DFD-9496-4753-97E3-DAA20AC1A2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EFF-A010-4A20-8460-7AA7D98F34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3D9-92BD-4BE3-826B-5C3A9701DD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DE0-5537-441F-BC4E-24403876EC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9F0-E0AF-4907-B250-79B07D8923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FFB2-6376-4665-8B8C-3ECD8D740B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C:\ЮліЯ\Презентації\шаблони\фон\фон_сторінки\1239212070_book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675320" y="1682640"/>
            <a:ext cx="3719520" cy="38642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3"/>
          <p:cNvSpPr/>
          <p:nvPr/>
        </p:nvSpPr>
        <p:spPr>
          <a:xfrm rot="359400">
            <a:off x="1573200" y="2717640"/>
            <a:ext cx="29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ема уроку: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68680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24000" y="1557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вдання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горі,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д шафою, напишіть імя того, кого представляєт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полички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шафи впишіть свої асоціації з портретом Б.Хмельницького, який він: чи то риси характеру, чи то зовнішні рис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изу,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 шафою запишіть виснов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49120" y="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365040" y="1006560"/>
            <a:ext cx="2487600" cy="3833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3"/>
          <a:stretch/>
        </p:blipFill>
        <p:spPr>
          <a:xfrm>
            <a:off x="3097080" y="1517760"/>
            <a:ext cx="2492640" cy="42004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4"/>
          <a:stretch/>
        </p:blipFill>
        <p:spPr>
          <a:xfrm>
            <a:off x="5979960" y="2023920"/>
            <a:ext cx="2487600" cy="39927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9" descr=""/>
          <p:cNvPicPr/>
          <p:nvPr/>
        </p:nvPicPr>
        <p:blipFill>
          <a:blip r:embed="rId5"/>
          <a:stretch/>
        </p:blipFill>
        <p:spPr>
          <a:xfrm>
            <a:off x="-353880" y="4370400"/>
            <a:ext cx="3305160" cy="182232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0" descr=""/>
          <p:cNvPicPr/>
          <p:nvPr/>
        </p:nvPicPr>
        <p:blipFill>
          <a:blip r:embed="rId6"/>
          <a:stretch/>
        </p:blipFill>
        <p:spPr>
          <a:xfrm>
            <a:off x="1676520" y="5200560"/>
            <a:ext cx="4591080" cy="205920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1" descr=""/>
          <p:cNvPicPr/>
          <p:nvPr/>
        </p:nvPicPr>
        <p:blipFill>
          <a:blip r:embed="rId7"/>
          <a:stretch/>
        </p:blipFill>
        <p:spPr>
          <a:xfrm>
            <a:off x="5194440" y="5364000"/>
            <a:ext cx="4321080" cy="2000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77600" cy="1000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а подія стала приводом для початку війни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Що відбулося в 1647 році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Що передувало відкритим збройним виступам Б.Хмельницького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якому році, як і з яким проханням звернувся Хмельницький до народу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у за чисельністю армію зібрав Б.Хмельницький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:\Users\валэра\Pictures\Picasa\Записанные видео\Обличчя української історії. Богдан Хмельницький-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Прямоугольник 4"/>
          <p:cNvGrpSpPr/>
          <p:nvPr/>
        </p:nvGrpSpPr>
        <p:grpSpPr>
          <a:xfrm>
            <a:off x="4127400" y="182520"/>
            <a:ext cx="4595760" cy="2378160"/>
            <a:chOff x="4127400" y="182520"/>
            <a:chExt cx="4595760" cy="2378160"/>
          </a:xfrm>
        </p:grpSpPr>
        <p:pic>
          <p:nvPicPr>
            <p:cNvPr id="45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127400" y="182520"/>
              <a:ext cx="459576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4140360" y="193680"/>
              <a:ext cx="4572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34b38"/>
                  </a:solidFill>
                  <a:latin typeface="Arial"/>
                </a:rPr>
                <a:t>Б. Хмельницький став лідером повстанців і разом зі своїми сподвижниками згуртував український народ для боротьби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34b38"/>
                  </a:solidFill>
                  <a:latin typeface="Arial"/>
                </a:rPr>
                <a:t>за свої права та свободи. 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Users\валэра\Pictures\Picasa\Записанные видео\Обличчя української історії. Богдан Хмельницький-019.jpg"/>
          <p:cNvPicPr/>
          <p:nvPr/>
        </p:nvPicPr>
        <p:blipFill>
          <a:blip r:embed="rId1"/>
          <a:srcRect l="0" t="0" r="0" b="-33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237960" y="152280"/>
            <a:ext cx="8710920" cy="1536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24000" y="1699920"/>
            <a:ext cx="8604000" cy="108108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Franklin Gothic Book"/>
              </a:rPr>
              <a:t>Давайте пригадаємо становище України на початку та в середин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VІІ 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Содержимое 2"/>
          <p:cNvSpPr/>
          <p:nvPr/>
        </p:nvSpPr>
        <p:spPr>
          <a:xfrm>
            <a:off x="395280" y="56768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Прямоугольник 6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324000" y="2924280"/>
            <a:ext cx="8604000" cy="108108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Якими були причини козацьких виступів у 20—30-х рр. XVII ст.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12600"/>
            <a:ext cx="8766000" cy="13399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) посилення національно-релігійного гніту на українських землях під владою Речі Посполитої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) погіршення становища селян та міщ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) обмеження прав козацтв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Горизонтальный свиток 4"/>
          <p:cNvSpPr/>
          <p:nvPr/>
        </p:nvSpPr>
        <p:spPr>
          <a:xfrm>
            <a:off x="250920" y="1052640"/>
            <a:ext cx="8569080" cy="5805360"/>
          </a:xfrm>
          <a:prstGeom prst="horizontalScroll">
            <a:avLst>
              <a:gd name="adj" fmla="val 12500"/>
            </a:avLst>
          </a:prstGeom>
          <a:solidFill>
            <a:srgbClr val="c17529"/>
          </a:solidFill>
          <a:ln w="25560">
            <a:solidFill>
              <a:srgbClr val="8d5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посилення національно-релігійного гніту на українських землях під владою Речі Посполитої;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обмеження прав козацтва;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погіршення становища селян та міщан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249120" y="55440"/>
            <a:ext cx="8894880" cy="1541520"/>
          </a:xfrm>
          <a:prstGeom prst="rect">
            <a:avLst/>
          </a:prstGeom>
          <a:ln w="0">
            <a:noFill/>
          </a:ln>
        </p:spPr>
      </p:pic>
      <p:sp>
        <p:nvSpPr>
          <p:cNvPr id="419" name="Заголовок 1"/>
          <p:cNvSpPr/>
          <p:nvPr/>
        </p:nvSpPr>
        <p:spPr>
          <a:xfrm>
            <a:off x="484200" y="249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ЮліЯ\Презентації\шаблони\фон\31978739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0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6"/>
          <p:cNvSpPr/>
          <p:nvPr/>
        </p:nvSpPr>
        <p:spPr>
          <a:xfrm>
            <a:off x="468360" y="1197000"/>
            <a:ext cx="8496360" cy="2775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аціонально-визвольна боротьба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— рухи поневолених народів за повалення чужоземного панування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Users\валэра\Pictures\Picasa\Записанные видео\Обличчя української історії. Богдан Хмельницький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4"/>
          <p:cNvSpPr/>
          <p:nvPr/>
        </p:nvSpPr>
        <p:spPr>
          <a:xfrm>
            <a:off x="1547640" y="6093000"/>
            <a:ext cx="601200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олив боротьбу Б. Хмельницький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5" name="Прямоугольник 5"/>
          <p:cNvGrpSpPr/>
          <p:nvPr/>
        </p:nvGrpSpPr>
        <p:grpSpPr>
          <a:xfrm>
            <a:off x="-96840" y="-66600"/>
            <a:ext cx="9337680" cy="1530360"/>
            <a:chOff x="-96840" y="-66600"/>
            <a:chExt cx="9337680" cy="1530360"/>
          </a:xfrm>
        </p:grpSpPr>
        <p:pic>
          <p:nvPicPr>
            <p:cNvPr id="42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-96840" y="-66600"/>
              <a:ext cx="93376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0" y="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Національно-визвольна війна українського народу середини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VII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ст. тривала від лютого 1648 р. до серпня 1657 р. </a:t>
              </a: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8" name="Прямоугольник 6"/>
          <p:cNvSpPr/>
          <p:nvPr/>
        </p:nvSpPr>
        <p:spPr>
          <a:xfrm>
            <a:off x="250920" y="1700280"/>
            <a:ext cx="288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на мала національно-визвольний, релігійни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 соціальний характер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7"/>
          <p:cNvSpPr/>
          <p:nvPr/>
        </p:nvSpPr>
        <p:spPr>
          <a:xfrm>
            <a:off x="6443640" y="14842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Її рушійною силою були козаки, міщани, селяни, православне духівництво, частина дрібної української шляхт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Лента лицом вниз 6"/>
          <p:cNvSpPr/>
          <p:nvPr/>
        </p:nvSpPr>
        <p:spPr>
          <a:xfrm>
            <a:off x="2916360" y="1197000"/>
            <a:ext cx="6227640" cy="1152360"/>
          </a:xfrm>
          <a:custGeom>
            <a:avLst/>
            <a:gdLst>
              <a:gd name="textAreaLeft" fmla="*/ 1557000 w 6227640"/>
              <a:gd name="textAreaRight" fmla="*/ 4671000 w 6227640"/>
              <a:gd name="textAreaTop" fmla="*/ 19188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8686800" cy="1073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-231840" y="1542960"/>
            <a:ext cx="5211720" cy="58690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5249520" y="19162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(1595—1657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Прямоугольник 5"/>
          <p:cNvSpPr/>
          <p:nvPr/>
        </p:nvSpPr>
        <p:spPr>
          <a:xfrm>
            <a:off x="4963680" y="134136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Богдан (Зиновій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мельницький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Прямоугольник 7"/>
          <p:cNvSpPr/>
          <p:nvPr/>
        </p:nvSpPr>
        <p:spPr>
          <a:xfrm>
            <a:off x="4449600" y="3284640"/>
            <a:ext cx="4857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тьман України, творець Української козацької держави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C:\Users\валэра\Pictures\Picasa\Записанные видео\Обличчя української історії. Богдан Хмельницький-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1:00:45Z</dcterms:created>
  <dc:creator>валэра</dc:creator>
  <dc:description/>
  <dc:language>en-US</dc:language>
  <cp:lastModifiedBy>USER</cp:lastModifiedBy>
  <dcterms:modified xsi:type="dcterms:W3CDTF">2013-11-11T13:57:28Z</dcterms:modified>
  <cp:revision>51</cp:revision>
  <dc:subject/>
  <dc:title>«Національно-визвольна війна українського народу середини ХVІІ ст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44000000000001024140</vt:lpwstr>
  </property>
</Properties>
</file>