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587-74F9-4D9A-8D3F-3129DED9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B42-29BF-4BA7-8DA4-3ADBFA8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6F3-D7FC-4CCA-93EB-A9F8BDC6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D77-4E97-4007-B935-6AACFB06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F81-0EC4-4045-B356-B492C26B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C53-38EF-4B33-8893-7DA9BF7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02CF-EA79-4244-BBC5-67B09862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95F0-F220-4001-BF0E-1BA52AE0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153-93EE-44B0-8010-1093778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92E1-B824-47F5-9F62-EF8F3F8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8B5-205B-42C6-B735-67B6071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02D-6821-4AEE-8096-598B4519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0C67-ED79-46FE-8A6E-70123B6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D51-0B0B-4ED9-B7D7-C09252F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C6BB-4BFC-4AE7-8585-534E981A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652-87B9-4F24-B512-CA00D78B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EDF-CF2F-484B-BC91-E887DDCF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6E98-1EF4-4225-BC81-B3CDD41A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CEBB-E35F-4913-A5D8-BE3141EF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22F2-5A03-4BD1-B525-F51DFFF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ACAA-2A49-42EC-994B-3FA74AAA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6CC0-0458-4427-8F22-EBE082DE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24C-8C1A-4E76-B003-88433101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96E3-8333-4AE7-8F0E-3026ADA7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BF45-ED54-4BD9-90A3-531A63D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C0FB-6556-4D64-90CE-7A97486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457F-DB10-47BE-B753-E2C6D69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C350-2A57-4825-BDB9-10D87B4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A5BE-2801-4383-A894-26B3F177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B373-FFD7-428C-8302-AE4494CA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AE1D-3CE8-4B60-8504-B4661E93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C7AD-FB01-4F31-B975-4B70B23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E78C-49C8-40D9-AB39-B83D853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915-CE18-46AE-84F7-F7E28F9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818C-B373-4A3D-BBCA-800CA0C3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0DC0-3917-4C45-96D0-4387997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DC40-C8FD-4F4C-A05B-B6F9B8E4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3263-82D8-44DF-A897-D6D61FA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C71D-0AF9-444D-AF1D-3ADAB20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80E3-D64E-4444-AB26-C023A27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A9FD-3578-4309-8DDF-536C9E0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57AA-1A30-48D8-9AD7-696EC9B6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6AE6-C541-41E2-807F-2D2B6DD2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E91B-221F-4274-9E3B-728CD7B5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F8D-45CF-4CB5-A2FA-061321A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F17B-20D9-4483-BF6E-BA0BF53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1158-0992-4AA3-A17B-178CFDD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FE72-64C5-4A47-9074-A436D5DD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A306-E5C5-4F94-BC90-980FCDE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88D3-9D77-4FE9-8FA9-94084B1D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89E7-387E-4474-B45B-955B7CA9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5C48-51C5-49FF-81A0-D536B4F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BD11-BD6F-4FE7-8DA2-25B1E35C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12AB-D469-4D20-9DE3-05D6DE0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51F1-05F3-4A96-8718-D6D120BD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46F-CA49-4EFA-9E76-A8134F2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B467-15CA-44E3-82BC-13CDFD57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63BB-849C-4C28-AD07-8A11C731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7123-6168-4482-878B-2669E90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20BD-D199-483F-B30F-1268D0B2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EC5F-D022-4D92-8EA6-0E3ADEE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83E7-6449-411D-8B98-4D6B15E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34F18-BA2A-4DE5-ADEC-23530BA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DFC9-B939-4534-8C40-B7A83B2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D3BA-0BF4-42ED-AE67-9A283E9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4F2F-2743-4F37-BD7D-E0E2256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762-89A7-4CD2-AC12-7CAC37E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DE7B-DAE9-4C2F-9F15-5826C915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5A8A-ADC3-4A9B-B1B9-9ED5CDE4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EC0B-9255-49AF-8640-73AD6C59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415-704E-4CA0-A720-3A57801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EC7-BCCE-47CC-B4B9-0D5903D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2560-A856-4F50-B251-2F92962A759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5117-7F70-475C-A0DB-B5B560927F5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0970-5033-48F2-9792-BEE900833E9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18D-6D0E-45C7-81AF-9F63DAF88B5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71E-F857-4B0A-8D39-C81226B5065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B2B-1465-41E5-A824-188B4D20CB5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k.wikipedia.org/wiki/&#1064;&#1083;&#1103;&#1093;&#1090;&#1072;" TargetMode="External"/><Relationship Id="rId3" Type="http://schemas.openxmlformats.org/officeDocument/2006/relationships/hyperlink" Target="http://uk.wikipedia.org/wiki/&#1040;&#1079;&#1086;&#1074;&#1089;&#1100;&#1082;&#1077;_&#1089;&#1080;&#1076;&#1110;&#1085;&#1085;&#1103;" TargetMode="External"/><Relationship Id="rId4" Type="http://schemas.openxmlformats.org/officeDocument/2006/relationships/hyperlink" Target="http://uk.wikipedia.org/wiki/&#1057;&#1110;&#1074;&#1077;&#1088;&#1089;&#1100;&#1082;&#1080;&#1081;_&#1044;&#1086;&#1085;&#1077;&#1094;&#1100;" TargetMode="External"/><Relationship Id="rId5" Type="http://schemas.openxmlformats.org/officeDocument/2006/relationships/hyperlink" Target="http://uk.wikipedia.org/wiki/XVII_&#1089;&#1090;&#1086;&#1083;&#1110;&#1090;&#1090;&#1103;" TargetMode="External"/><Relationship Id="rId6" Type="http://schemas.openxmlformats.org/officeDocument/2006/relationships/hyperlink" Target="http://uk.wikipedia.org/wiki/&#1056;&#1077;&#1108;&#1089;&#1090;&#1088;&#1086;&#1074;&#1077;_&#1082;&#1086;&#1079;&#1072;&#1094;&#1090;&#1074;&#1086;" TargetMode="External"/><Relationship Id="rId7" Type="http://schemas.openxmlformats.org/officeDocument/2006/relationships/hyperlink" Target="http://uk.wikipedia.org/wiki/&#1050;&#1088;&#1080;&#1084;&#1089;&#1100;&#1082;&#1110;_&#1090;&#1072;&#1090;&#1072;&#1088;&#1080;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k.wikipedia.org/wiki/1653" TargetMode="External"/><Relationship Id="rId3" Type="http://schemas.openxmlformats.org/officeDocument/2006/relationships/hyperlink" Target="http://uk.wikipedia.org/wiki/&#1063;&#1072;&#1088;&#1085;&#1077;&#1094;&#1100;&#1082;&#1080;&#1081;_&#1057;&#1090;&#1077;&#1092;&#1072;&#1085;" TargetMode="External"/><Relationship Id="rId4" Type="http://schemas.openxmlformats.org/officeDocument/2006/relationships/hyperlink" Target="http://uk.wikipedia.org/wiki/&#1051;&#1080;&#1087;&#1086;&#1074;&#1077;&#1094;&#1100;_(&#1084;&#1110;&#1089;&#1090;&#1086;)" TargetMode="External"/><Relationship Id="rId5" Type="http://schemas.openxmlformats.org/officeDocument/2006/relationships/hyperlink" Target="http://uk.wikipedia.org/wiki/&#1055;&#1086;&#1075;&#1088;&#1077;&#1073;&#1080;&#1097;&#1077;" TargetMode="External"/><Relationship Id="rId6" Type="http://schemas.openxmlformats.org/officeDocument/2006/relationships/hyperlink" Target="http://uk.wikipedia.org/wiki/&#1052;&#1086;&#1085;&#1072;&#1089;&#1090;&#1080;&#1088;&#1080;&#1097;&#1077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k.wikipedia.org/wiki/&#1041;&#1077;&#1088;&#1077;&#1089;&#1090;&#1077;&#1094;&#1100;&#1082;&#1072;_&#1073;&#1080;&#1090;&#1074;&#1072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k.wikipedia.org/wiki/&#1061;&#1084;&#1077;&#1083;&#1100;&#1085;&#1080;&#1094;&#1100;&#1082;&#1080;&#1081;_&#1058;&#1080;&#1084;&#1086;&#1096;" TargetMode="External"/><Relationship Id="rId3" Type="http://schemas.openxmlformats.org/officeDocument/2006/relationships/hyperlink" Target="http://uk.wikipedia.org/wiki/&#1052;&#1086;&#1083;&#1076;&#1072;&#1074;&#1110;&#1103;" TargetMode="External"/><Relationship Id="rId4" Type="http://schemas.openxmlformats.org/officeDocument/2006/relationships/hyperlink" Target="http://uk.wikipedia.org/wiki/1654" TargetMode="External"/><Relationship Id="rId5" Type="http://schemas.openxmlformats.org/officeDocument/2006/relationships/hyperlink" Target="http://uk.wikipedia.org/wiki/1655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uk.wikipedia.org/wiki/27_&#1083;&#1080;&#1087;&#1085;&#1103;" TargetMode="External"/><Relationship Id="rId3" Type="http://schemas.openxmlformats.org/officeDocument/2006/relationships/hyperlink" Target="http://uk.wikipedia.org/wiki/1657" TargetMode="External"/><Relationship Id="rId4" Type="http://schemas.openxmlformats.org/officeDocument/2006/relationships/hyperlink" Target="http://uk.wikipedia.org/wiki/&#1042;&#1080;&#1075;&#1086;&#1074;&#1089;&#1100;&#1082;&#1080;&#1081;_&#1030;&#1074;&#1072;&#1085;" TargetMode="External"/><Relationship Id="rId5" Type="http://schemas.openxmlformats.org/officeDocument/2006/relationships/hyperlink" Target="http://uk.wikipedia.org/wiki/&#1061;&#1084;&#1077;&#1083;&#1100;&#1085;&#1080;&#1094;&#1100;&#1082;&#1080;&#1081;_&#1070;&#1088;&#1110;&#1081;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uk.wikipedia.org/wiki/1662" TargetMode="External"/><Relationship Id="rId3" Type="http://schemas.openxmlformats.org/officeDocument/2006/relationships/hyperlink" Target="http://uk.wikipedia.org/wiki/&#1052;&#1072;&#1083;&#1100;&#1073;&#1086;&#1088;&#1082;" TargetMode="External"/><Relationship Id="rId4" Type="http://schemas.openxmlformats.org/officeDocument/2006/relationships/hyperlink" Target="http://uk.wikipedia.org/wiki/&#1071;&#1085;_II_&#1050;&#1072;&#1079;&#1080;&#1084;&#1080;&#1088;" TargetMode="External"/><Relationship Id="rId5" Type="http://schemas.openxmlformats.org/officeDocument/2006/relationships/hyperlink" Target="http://uk.wikipedia.org/wiki/&#1051;&#1110;&#1074;&#1086;&#1073;&#1077;&#1088;&#1077;&#1078;&#1085;&#1072;_&#1059;&#1082;&#1088;&#1072;&#1111;&#1085;&#1072;" TargetMode="External"/><Relationship Id="rId6" Type="http://schemas.openxmlformats.org/officeDocument/2006/relationships/hyperlink" Target="http://uk.wikipedia.org/wiki/&#1041;&#1088;&#1102;&#1093;&#1086;&#1074;&#1077;&#1094;&#1100;&#1082;&#1080;&#1081;_&#1030;&#1074;&#1072;&#1085;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9515160" cy="56516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220px-Bohun.jpg"/>
          <p:cNvPicPr/>
          <p:nvPr/>
        </p:nvPicPr>
        <p:blipFill>
          <a:blip r:embed="rId2"/>
          <a:stretch/>
        </p:blipFill>
        <p:spPr>
          <a:xfrm>
            <a:off x="285840" y="500040"/>
            <a:ext cx="4929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uk_u.php.jpeg"/>
          <p:cNvPicPr/>
          <p:nvPr/>
        </p:nvPicPr>
        <p:blipFill>
          <a:blip r:embed="rId1"/>
          <a:stretch/>
        </p:blipFill>
        <p:spPr>
          <a:xfrm>
            <a:off x="17859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bohun.jpg"/>
          <p:cNvPicPr/>
          <p:nvPr/>
        </p:nvPicPr>
        <p:blipFill>
          <a:blip r:embed="rId1"/>
          <a:stretch/>
        </p:blipFill>
        <p:spPr>
          <a:xfrm>
            <a:off x="2643120" y="214200"/>
            <a:ext cx="375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857160" y="500040"/>
            <a:ext cx="5572080" cy="3600000"/>
          </a:xfrm>
          <a:prstGeom prst="rect">
            <a:avLst/>
          </a:prstGeom>
          <a:solidFill>
            <a:srgbClr val="3f4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Ім'я при народженн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Іван Федорович Бог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одив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.16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цлав, Річ Поспол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 лютого 16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город-Сіверський, Гетьман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Інші іме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Іван Федорович, Іван Федор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ту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ковник подільський, кальницький і паволоц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рмі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50 - 16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іросповідан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і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горій Бог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ть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ір Бог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Рисунок 6" descr="1203530037_bogun3.jpg"/>
          <p:cNvPicPr/>
          <p:nvPr/>
        </p:nvPicPr>
        <p:blipFill>
          <a:blip r:embed="rId1"/>
          <a:stretch/>
        </p:blipFill>
        <p:spPr>
          <a:xfrm>
            <a:off x="5000760" y="2714760"/>
            <a:ext cx="3643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artlib_gallery-117539-b.jpg"/>
          <p:cNvPicPr/>
          <p:nvPr/>
        </p:nvPicPr>
        <p:blipFill>
          <a:blip r:embed="rId1"/>
          <a:stretch/>
        </p:blipFill>
        <p:spPr>
          <a:xfrm>
            <a:off x="357120" y="571680"/>
            <a:ext cx="4071960" cy="52146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4500720" y="45468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ван Богун походив з української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2"/>
              </a:rPr>
              <a:t>шлях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часник визвольних повстань у 1637-38 років. Брав участь у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3"/>
              </a:rPr>
              <a:t>Азовському сидінн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зокрема, керував тоді одним із козацьких загонів, який прикривав Борівський перевіз через річку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4"/>
              </a:rPr>
              <a:t>Сіверський Донец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отягом 40-х років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5"/>
              </a:rPr>
              <a:t>XVII столітт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огун вів звичайне для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6"/>
              </a:rPr>
              <a:t>реєстрового коза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життя, брав участь у військових походах проти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7"/>
              </a:rPr>
              <a:t>кримських тата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і обороняв українські землі від набігів останні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Іван_Богун_-_полковник_Вінницький.jpg"/>
          <p:cNvPicPr/>
          <p:nvPr/>
        </p:nvPicPr>
        <p:blipFill>
          <a:blip r:embed="rId1"/>
          <a:stretch/>
        </p:blipFill>
        <p:spPr>
          <a:xfrm>
            <a:off x="4286160" y="428760"/>
            <a:ext cx="4643640" cy="45003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357120" y="42876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добрі організаторські здібності та військовий талант Богуна було призначено кальницьким полковник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250px-Bohun_vs_Czernecki_battle.jpg"/>
          <p:cNvPicPr/>
          <p:nvPr/>
        </p:nvPicPr>
        <p:blipFill>
          <a:blip r:embed="rId1"/>
          <a:stretch/>
        </p:blipFill>
        <p:spPr>
          <a:xfrm>
            <a:off x="4071960" y="428760"/>
            <a:ext cx="4857840" cy="59292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0" y="29160"/>
            <a:ext cx="4000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ерезні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2"/>
              </a:rPr>
              <a:t>165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року загони Богуна виступили проти армії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3"/>
              </a:rPr>
              <a:t>Стефана Чарнецько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який, захопивши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4"/>
              </a:rPr>
              <a:t>Липовец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5"/>
              </a:rPr>
              <a:t>Погребищ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а інші міста, рухався вглиб України. Зайнявши оборону в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6"/>
              </a:rPr>
              <a:t>Монастирищ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огун тривалий час відбивав атаки значно переважаючих сил коронної армії та робив дошкульні вилазки з міста. Так і не досягши успіху, війська Чарнецького, який під Монастирищем сам зазнав поранення, змушені були відступи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250px-Bohun_k.jpg"/>
          <p:cNvPicPr/>
          <p:nvPr/>
        </p:nvPicPr>
        <p:blipFill>
          <a:blip r:embed="rId1"/>
          <a:stretch/>
        </p:blipFill>
        <p:spPr>
          <a:xfrm>
            <a:off x="4786200" y="642960"/>
            <a:ext cx="4214880" cy="52149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285840" y="214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ливою сторінкою кальницького полковника стала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Берестецька би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якій Іван Богун проявив себе розсудливим полководцем в найтрагічніший момент бою. Саме його було обрано наказним гетьманом в оточеному поляками козацькому таборі. Богун виправдав покладені на нього сподівання, вивів із оточення основні сили українського війсь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berest14.jpg"/>
          <p:cNvPicPr/>
          <p:nvPr/>
        </p:nvPicPr>
        <p:blipFill>
          <a:blip r:embed="rId1"/>
          <a:stretch/>
        </p:blipFill>
        <p:spPr>
          <a:xfrm>
            <a:off x="4572000" y="714240"/>
            <a:ext cx="435780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214200" y="21420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ун разом із </a:t>
            </a:r>
            <a:r>
              <a:rPr b="0" lang="ru-RU" sz="28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Тимошем Хмельницьки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в козацькі полки в похід на </a:t>
            </a:r>
            <a:r>
              <a:rPr b="0" lang="ru-RU" sz="28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Молдаві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де було розгромлено армію Георгіци та його союзників. протягом </a:t>
            </a:r>
            <a:r>
              <a:rPr b="0" lang="ru-RU" sz="28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165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165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оків кальницький полковник практично безперервно вів бойові дії проти коронної армії та татарських загонів на Брацлавщині та Уманщин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fc40de9cf78f648d9303851410e05daa.jpg"/>
          <p:cNvPicPr/>
          <p:nvPr/>
        </p:nvPicPr>
        <p:blipFill>
          <a:blip r:embed="rId1"/>
          <a:stretch/>
        </p:blipFill>
        <p:spPr>
          <a:xfrm>
            <a:off x="4786200" y="642960"/>
            <a:ext cx="4071960" cy="49291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285840" y="35712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сля смерті Б. Хмельницького (</a:t>
            </a: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27 лип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165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ку) Іван Богун підтримував курс </a:t>
            </a: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Івана Виговс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а </a:t>
            </a: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Юрія Хмельниц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 унезалежнення від Москви української зовнішньої та внутрішньої полі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" descr="RTEmagicC_Bohun_Inside.jpg.jpg"/>
          <p:cNvPicPr/>
          <p:nvPr/>
        </p:nvPicPr>
        <p:blipFill>
          <a:blip r:embed="rId1"/>
          <a:stretch/>
        </p:blipFill>
        <p:spPr>
          <a:xfrm>
            <a:off x="3929040" y="500040"/>
            <a:ext cx="4857840" cy="585792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142920" y="142920"/>
            <a:ext cx="3786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166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оці кальницький полковник Богун був ув'язнений поляками і відправлений до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Мальбор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ін був звільнений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Яном Казими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обмін на участь у поході на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Лівобережну Украї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Але згодом Богун був звинувачений у зносинах з москалями та урядом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Івана Брюховецьк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і вбитий поблизу Новгород-Сіверського 17 лютого 1664 р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17:13Z</dcterms:created>
  <dc:creator>user-1</dc:creator>
  <dc:description/>
  <dc:language>en-US</dc:language>
  <cp:lastModifiedBy>Admin</cp:lastModifiedBy>
  <dcterms:modified xsi:type="dcterms:W3CDTF">2014-04-17T13:52:42Z</dcterms:modified>
  <cp:revision>6</cp:revision>
  <dc:subject/>
  <dc:title>Іван Богу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9000000000001024140</vt:lpwstr>
  </property>
</Properties>
</file>