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6D4-4D8B-4BBF-8F55-9D42E473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8CD-9FD6-438F-AC23-F8EAB33A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C05-2224-4815-901C-CF32351A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756-15A5-4801-BE99-C27F3D70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790A-D16F-4EC8-B31A-847A067F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803C-2FE8-427A-9224-ED526B9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75D5-9FA3-418D-A780-8118BAC1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7690-61D3-40CF-8E30-169E79AB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2336-CEFF-40F1-8B21-AFBE806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9230-2FCC-446D-AA36-14C041C1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959F-58AC-4B80-A442-351057B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CBA-E45C-4DFA-8712-5E36DFE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AA30-FF52-42AB-9207-E84CC565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4903-B6A0-4E10-8ACB-35032B12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709B-72FA-4217-BF5E-A3E4505A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B63F-5A0F-45DC-976D-BD8EE8C2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C9BD-66D4-4363-8562-68DD6983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8C0F-183B-4C79-84A1-BE55FD54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5419-4FEA-4059-ABA7-BCC64509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A730-8A7C-437B-B0AC-56E2F220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C641-192C-4789-840A-E2E97977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9400-7FEC-4B60-8BC3-957956A2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370-84F5-4C20-A4F9-8D8F3F6E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2A26-F1AA-4595-9670-3303DFE0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EA92-DEDA-44D1-900C-97C75330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D85B-F6BB-453D-93C9-8D4BCDB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3F5F-5D36-40BA-8A2F-B1145EDB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CE287-3ADC-4A01-B096-3B16E9FF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75E2-4910-4F40-88BC-43B0B9C7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F814-56C6-41A2-8712-9D8717DE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1B01C-3F12-4C7A-AB54-83D63109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83B0-C986-43A0-9677-3102B823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B59D-4CE6-4983-BEE6-9CB07124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972-5F89-47C4-8B91-D14BF38E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97FB-9219-42A4-94AF-62D3E925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37FCE-6C5F-485D-B719-052C3244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0842-90CC-492B-AEEB-E7A56FEF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208A-B981-4DF3-804E-E79EC26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EB24-D375-4559-8008-9134286D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4A27-7695-4740-A395-DB64B341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0453F-F6F6-49B2-8984-493C371D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151C-D846-410B-A767-D1B842F6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65C55-12C2-4E8D-94C6-B5678F52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E95-8E2B-4990-A685-1020FBB5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8E3-7691-4739-87EC-EB7C8BBC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4AA-29FC-4466-95C1-6F9D80A9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043-0D5B-4536-B68C-C077570D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B98-77EF-4049-A2A5-8E236EC9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8F63-7AE0-4703-B1ED-E3EDA6F0F3A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FEF0-98D7-45AA-A62D-A69DED73AA7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0D99-C61C-4574-96D1-E83F7C50A05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8C26-EF95-4112-BA2C-7D9B0E7667C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7868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947412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523800" y="49320"/>
            <a:ext cx="7785000" cy="1157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0280" y="135720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6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Визначити причини та передумови національно-визвольної війни українського народу проти польського панування і дати характеристику історичної постаті Богдана Хмельницького та його сподвижників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530280" y="-49320"/>
            <a:ext cx="7864560" cy="1036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3160" y="857160"/>
            <a:ext cx="7854840" cy="5786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Monotype Corsiva"/>
              </a:rPr>
              <a:t>1. Застосовувати та пояснювати на прикладах поняття  “ Національно-визвольна війна ”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Monotype Corsiva"/>
              </a:rPr>
              <a:t>2. Визначити причини та передумови Національно-визвольної війни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Monotype Corsiva"/>
              </a:rPr>
              <a:t>3. Створювати учнівські презентації про Богдана Хмельницького і його сподвижникі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Monotype Corsiva"/>
              </a:rPr>
              <a:t>4. Презентувати створені проекти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Monotype Corsiva"/>
              </a:rPr>
              <a:t>5. Скласти таблицю: “ Причини та передумови Національно-визвольної війни ”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Monotype Corsiva"/>
              </a:rPr>
              <a:t>6. Працювати в гетерогенних групах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28760"/>
            <a:ext cx="7854840" cy="6000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6600" spc="-1" strike="noStrike">
                <a:solidFill>
                  <a:srgbClr val="ffff00"/>
                </a:solidFill>
                <a:latin typeface="Monotype Corsiva"/>
              </a:rPr>
              <a:t>Національно-визвольна війна –  війна народу проти іноземного панування за створення незалежної держави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192880" cy="15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357120" y="1714680"/>
          <a:ext cx="8358120" cy="470520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ич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едумов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Загострення національно-релігійних утисків українського населення під владою Польщ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Перетворення козацтва на провідну політичну силу українського суспіль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Посилення соціально-економічного гніту селян, міщан, козакі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Засилля в Україні польських магнатів і шлях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Нехтування польською владою станових інтересів українського козац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Початок формування української нації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66640" y="-262080"/>
            <a:ext cx="7864560" cy="10368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2920" y="713880"/>
            <a:ext cx="8858160" cy="5929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Monotype Corsiva"/>
              </a:rPr>
              <a:t>Про яку важливу історичну подію йшла мова на сьогоднішньому уроці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Monotype Corsiva"/>
              </a:rPr>
              <a:t>Дайте визначення поняття “ Національно-визвольна війна ”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Monotype Corsiva"/>
              </a:rPr>
              <a:t>Назвіть основну причину Національно-визвольної війн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Monotype Corsiva"/>
              </a:rPr>
              <a:t>Назвіть факти біографії Богдана Хмельницького, що свідчать про те, що на початку Національно-визвольної війни він мав великий досвід воєначальника та дипломата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Monotype Corsiva"/>
              </a:rPr>
              <a:t>Назвіть сподвижників Богдана Хмельницького.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Рисунок 3" descr="220px-Bohun.jpg"/>
          <p:cNvPicPr/>
          <p:nvPr/>
        </p:nvPicPr>
        <p:blipFill>
          <a:blip r:embed="rId2"/>
          <a:stretch/>
        </p:blipFill>
        <p:spPr>
          <a:xfrm>
            <a:off x="642960" y="4000680"/>
            <a:ext cx="2000160" cy="20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Кривоніс.jpg"/>
          <p:cNvPicPr/>
          <p:nvPr/>
        </p:nvPicPr>
        <p:blipFill>
          <a:blip r:embed="rId3"/>
          <a:stretch/>
        </p:blipFill>
        <p:spPr>
          <a:xfrm>
            <a:off x="3286080" y="40006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153009_4"/>
          <p:cNvPicPr/>
          <p:nvPr/>
        </p:nvPicPr>
        <p:blipFill>
          <a:blip r:embed="rId4"/>
          <a:stretch/>
        </p:blipFill>
        <p:spPr>
          <a:xfrm>
            <a:off x="5572080" y="4000680"/>
            <a:ext cx="165564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33440" y="-212760"/>
            <a:ext cx="8435880" cy="1359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13840" y="114264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§15, ст. 101 -104, п.п. 1-3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Скласти історичний портрет Богдана Хмельницького згідно “ Пам</a:t>
            </a: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’</a:t>
            </a: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ятки для характеристики історичного діяча”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Заповнити таблицю “ Причини та передумови Національно-визвольної війни ”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8:38:29Z</dcterms:created>
  <dc:creator>laborant</dc:creator>
  <dc:description/>
  <dc:language>en-US</dc:language>
  <cp:lastModifiedBy>laborant</cp:lastModifiedBy>
  <dcterms:modified xsi:type="dcterms:W3CDTF">2009-12-07T06:17:11Z</dcterms:modified>
  <cp:revision>25</cp:revision>
  <dc:subject/>
  <dc:title>Передумови Національно-визвольної війни. Богдан Хмельницький, його сподвижник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0000000000001024140</vt:lpwstr>
  </property>
</Properties>
</file>