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F99-178E-4BAE-B32C-6AF24132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E1D-8410-4BC9-BD11-86753165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B33-76DB-4186-BA39-83B7DDB2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B70-C777-47EA-9793-49DD691A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BD1B-8530-4A9B-9D21-7280D1BE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3F17-5521-4285-BEFD-5DD9C738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5137-72C6-40B0-B9F0-6E8133D7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7FA4-1D5B-4857-A612-024D555D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A29C-30C4-4738-B90C-3D7777FA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C7B7-5798-4601-B499-5E8691E3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E113-7851-48D3-9531-153948ED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99B0-7E8E-4F7B-9531-21F8B6D8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9F6C-C186-48F8-9C1A-C2ACB9F0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1592-498F-4CA0-8B26-84E95D33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D33E-2107-4CF5-8E02-B9C37B5D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C6E9-700A-48B2-B2C1-4045F2C1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0EA4-6EBC-4F4F-97EB-02EE1709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9E6-6DFA-4EB6-8950-0DB683A2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A1B-8DE9-4A4D-B87F-8AC36ADB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218-BBB0-4971-ABEE-DB25B93B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6BB-E06B-4EF0-A14A-0418A3D6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A88-019D-4D4D-AF20-E93D8040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99A5-4491-4EB1-817F-E7A06AEB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378-8CD4-4E75-B0D6-C36F2665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79C5-E558-42DF-9A74-FB1BF1C304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E021-F4AC-455F-81A4-C3F1A9BAF32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83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95934b"/>
                </a:solidFill>
                <a:latin typeface="Tahoma"/>
              </a:rPr>
              <a:t>Золотаренко Іван Никифорович</a:t>
            </a:r>
            <a:br>
              <a:rPr sz="4000"/>
            </a:b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667640" y="4437000"/>
            <a:ext cx="1152360" cy="20671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916360" y="1916280"/>
            <a:ext cx="3441600" cy="415764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46836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3794"/>
                </a:moveTo>
                <a:lnTo>
                  <a:pt x="18526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0" y="6462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95934b"/>
                </a:solidFill>
                <a:latin typeface="Tahoma"/>
              </a:rPr>
              <a:t>Золотаренко Іван Никифорович</a:t>
            </a:r>
            <a:br>
              <a:rPr sz="4000"/>
            </a:b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23587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Іва́н Ники́форович Золотаре́нк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Помер 17 жовтня 1655)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н корсунського міщанина. Мав брата Василя та сестру Ганн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ув одружений на Іванівні(ім'я невідоме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812000" y="5711760"/>
            <a:ext cx="1182600" cy="101124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" action="ppaction://hlinkshowjump?jump=nextslide"/>
          </p:cNvPr>
          <p:cNvSpPr/>
          <p:nvPr/>
        </p:nvSpPr>
        <p:spPr>
          <a:xfrm>
            <a:off x="53964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" action="ppaction://hlinkshowjump?jump=previousslide"/>
          </p:cNvPr>
          <p:cNvSpPr/>
          <p:nvPr/>
        </p:nvSpPr>
        <p:spPr>
          <a:xfrm>
            <a:off x="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10800"/>
                </a:moveTo>
                <a:lnTo>
                  <a:pt x="18526" y="3794"/>
                </a:lnTo>
                <a:lnTo>
                  <a:pt x="18526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5934b"/>
                </a:solidFill>
                <a:latin typeface="Tahoma"/>
              </a:rPr>
              <a:t>Ганна Золотаренко 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654120" y="1817640"/>
            <a:ext cx="3489120" cy="40640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анна Золотаренк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? — після 1671) — руська міщанка, третя дружина гетьмана Богдана Хмельницького, сестра полковників Івана та Василя Золотаренкі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11056"/>
                </a:moveTo>
                <a:lnTo>
                  <a:pt x="17806" y="4049"/>
                </a:lnTo>
                <a:lnTo>
                  <a:pt x="17806" y="18062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46836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3794"/>
                </a:moveTo>
                <a:lnTo>
                  <a:pt x="18526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5934b"/>
                </a:solidFill>
                <a:latin typeface="Tahoma"/>
              </a:rPr>
              <a:t>Церква Різдва Христового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Коштом Івана Никифоровича у Корсуні побудували церкву Різдва  Христового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228680" y="1413000"/>
            <a:ext cx="2249640" cy="24476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655560" y="3925800"/>
            <a:ext cx="3486240" cy="25988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6877080" y="4869000"/>
            <a:ext cx="1790640" cy="159840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324000" y="6524640"/>
            <a:ext cx="358560" cy="333360"/>
          </a:xfrm>
          <a:custGeom>
            <a:avLst/>
            <a:gdLst>
              <a:gd name="textAreaLeft" fmla="*/ 21600 w 358560"/>
              <a:gd name="textAreaRight" fmla="*/ 336960 w 358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231" h="21600">
                <a:moveTo>
                  <a:pt x="0" y="0"/>
                </a:moveTo>
                <a:lnTo>
                  <a:pt x="23231" y="0"/>
                </a:lnTo>
                <a:lnTo>
                  <a:pt x="23231" y="21600"/>
                </a:lnTo>
                <a:lnTo>
                  <a:pt x="0" y="21600"/>
                </a:lnTo>
                <a:close/>
              </a:path>
              <a:path fill="lightenLess" w="23231" h="21600">
                <a:moveTo>
                  <a:pt x="0" y="0"/>
                </a:moveTo>
                <a:lnTo>
                  <a:pt x="23231" y="0"/>
                </a:lnTo>
                <a:lnTo>
                  <a:pt x="21831" y="1400"/>
                </a:lnTo>
                <a:lnTo>
                  <a:pt x="1400" y="1400"/>
                </a:lnTo>
                <a:close/>
              </a:path>
              <a:path fill="darken" w="23231" h="21600">
                <a:moveTo>
                  <a:pt x="23231" y="0"/>
                </a:moveTo>
                <a:lnTo>
                  <a:pt x="23231" y="21600"/>
                </a:lnTo>
                <a:lnTo>
                  <a:pt x="21831" y="20200"/>
                </a:lnTo>
                <a:lnTo>
                  <a:pt x="21831" y="1400"/>
                </a:lnTo>
                <a:close/>
              </a:path>
              <a:path fill="darkenLess" w="23231" h="21600">
                <a:moveTo>
                  <a:pt x="23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1" y="20200"/>
                </a:lnTo>
                <a:close/>
              </a:path>
              <a:path fill="lighten" w="23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1" h="21600">
                <a:moveTo>
                  <a:pt x="4609" y="3794"/>
                </a:moveTo>
                <a:lnTo>
                  <a:pt x="18622" y="10800"/>
                </a:lnTo>
                <a:lnTo>
                  <a:pt x="4609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5934b"/>
                </a:solidFill>
                <a:latin typeface="Tahoma"/>
              </a:rPr>
              <a:t>20-тисячне військо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 травні 1654 Іван Никифорович  призначений Хмельницьким наказним отаманом війська, яке підпорядковувалося російському командуванню.Під час війни 1654-1667 р.р. — як наказний гетьман очолив 20-тисячне українське військо в поході на Білорус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824360" cy="369720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53964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0" y="6462720"/>
            <a:ext cx="431640" cy="395280"/>
          </a:xfrm>
          <a:custGeom>
            <a:avLst/>
            <a:gdLst>
              <a:gd name="textAreaLeft" fmla="*/ 25560 w 431640"/>
              <a:gd name="textAreaRight" fmla="*/ 406080 w 43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3585" h="21600">
                <a:moveTo>
                  <a:pt x="0" y="0"/>
                </a:moveTo>
                <a:lnTo>
                  <a:pt x="23585" y="0"/>
                </a:lnTo>
                <a:lnTo>
                  <a:pt x="23585" y="21600"/>
                </a:lnTo>
                <a:lnTo>
                  <a:pt x="0" y="21600"/>
                </a:lnTo>
                <a:close/>
              </a:path>
              <a:path fill="lightenLess" w="23585" h="21600">
                <a:moveTo>
                  <a:pt x="0" y="0"/>
                </a:moveTo>
                <a:lnTo>
                  <a:pt x="23585" y="0"/>
                </a:lnTo>
                <a:lnTo>
                  <a:pt x="22185" y="1400"/>
                </a:lnTo>
                <a:lnTo>
                  <a:pt x="1400" y="1400"/>
                </a:lnTo>
                <a:close/>
              </a:path>
              <a:path fill="darken" w="23585" h="21600">
                <a:moveTo>
                  <a:pt x="23585" y="0"/>
                </a:moveTo>
                <a:lnTo>
                  <a:pt x="23585" y="21600"/>
                </a:lnTo>
                <a:lnTo>
                  <a:pt x="22185" y="20200"/>
                </a:lnTo>
                <a:lnTo>
                  <a:pt x="22185" y="1400"/>
                </a:lnTo>
                <a:close/>
              </a:path>
              <a:path fill="darkenLess" w="23585" h="21600">
                <a:moveTo>
                  <a:pt x="23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5" y="20200"/>
                </a:lnTo>
                <a:close/>
              </a:path>
              <a:path fill="lighten" w="23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85" h="21600">
                <a:moveTo>
                  <a:pt x="4786" y="10800"/>
                </a:moveTo>
                <a:lnTo>
                  <a:pt x="18799" y="3794"/>
                </a:lnTo>
                <a:lnTo>
                  <a:pt x="18799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Остання нагорода </a:t>
            </a:r>
            <a:r>
              <a:rPr b="0" lang="uk-UA" sz="4000" spc="-1" strike="noStrike">
                <a:solidFill>
                  <a:srgbClr val="95934b"/>
                </a:solidFill>
                <a:latin typeface="Tahoma"/>
              </a:rPr>
              <a:t>Івана Никифоровича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 нагороду заратну службу Золотаренко одержав царську грамоту на місто Глухів. Але це була вже його остання нагорода: у тому ж 1655 він помер від рани, отриманої при облозі Старого Бихова ". В історичній пам'яті білоруського та литовського народів І. Золотаренко залишився палачем, з яким можна порівняти, тільки дії військ фашіской Німеччині під час Другої світової війни в Білорусії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01680" y="1698480"/>
            <a:ext cx="4194000" cy="4178520"/>
          </a:xfrm>
          <a:prstGeom prst="rect">
            <a:avLst/>
          </a:prstGeom>
          <a:ln w="0">
            <a:noFill/>
          </a:ln>
        </p:spPr>
      </p:pic>
      <p:sp>
        <p:nvSpPr>
          <p:cNvPr id="413" name="">
            <a:hlinkClick r:id="" action="ppaction://hlinkshowjump?jump=previousslide"/>
          </p:cNvPr>
          <p:cNvSpPr/>
          <p:nvPr/>
        </p:nvSpPr>
        <p:spPr>
          <a:xfrm>
            <a:off x="0" y="6462720"/>
            <a:ext cx="431640" cy="395280"/>
          </a:xfrm>
          <a:custGeom>
            <a:avLst/>
            <a:gdLst>
              <a:gd name="textAreaLeft" fmla="*/ 25560 w 431640"/>
              <a:gd name="textAreaRight" fmla="*/ 406080 w 43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3585" h="21600">
                <a:moveTo>
                  <a:pt x="0" y="0"/>
                </a:moveTo>
                <a:lnTo>
                  <a:pt x="23585" y="0"/>
                </a:lnTo>
                <a:lnTo>
                  <a:pt x="23585" y="21600"/>
                </a:lnTo>
                <a:lnTo>
                  <a:pt x="0" y="21600"/>
                </a:lnTo>
                <a:close/>
              </a:path>
              <a:path fill="lightenLess" w="23585" h="21600">
                <a:moveTo>
                  <a:pt x="0" y="0"/>
                </a:moveTo>
                <a:lnTo>
                  <a:pt x="23585" y="0"/>
                </a:lnTo>
                <a:lnTo>
                  <a:pt x="22185" y="1400"/>
                </a:lnTo>
                <a:lnTo>
                  <a:pt x="1400" y="1400"/>
                </a:lnTo>
                <a:close/>
              </a:path>
              <a:path fill="darken" w="23585" h="21600">
                <a:moveTo>
                  <a:pt x="23585" y="0"/>
                </a:moveTo>
                <a:lnTo>
                  <a:pt x="23585" y="21600"/>
                </a:lnTo>
                <a:lnTo>
                  <a:pt x="22185" y="20200"/>
                </a:lnTo>
                <a:lnTo>
                  <a:pt x="22185" y="1400"/>
                </a:lnTo>
                <a:close/>
              </a:path>
              <a:path fill="darkenLess" w="23585" h="21600">
                <a:moveTo>
                  <a:pt x="23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5" y="20200"/>
                </a:lnTo>
                <a:close/>
              </a:path>
              <a:path fill="lighten" w="23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85" h="21600">
                <a:moveTo>
                  <a:pt x="4786" y="10800"/>
                </a:moveTo>
                <a:lnTo>
                  <a:pt x="18799" y="3794"/>
                </a:lnTo>
                <a:lnTo>
                  <a:pt x="18799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46836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3794"/>
                </a:moveTo>
                <a:lnTo>
                  <a:pt x="18526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7:23:37Z</dcterms:created>
  <dc:creator>Admin</dc:creator>
  <dc:description/>
  <dc:language>en-US</dc:language>
  <cp:lastModifiedBy>Admin</cp:lastModifiedBy>
  <dcterms:modified xsi:type="dcterms:W3CDTF">2009-12-02T19:37:23Z</dcterms:modified>
  <cp:revision>7</cp:revision>
  <dc:subject/>
  <dc:title> Золотаренко Іван Никифорович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5000000000001024140</vt:lpwstr>
  </property>
</Properties>
</file>