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2AA-9C54-4763-A792-BB0FF3D7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A99-D9FD-4D13-B65C-988C7722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AD9-B077-4F0D-A7C5-2F7FF08D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02A-03C4-4AD9-8C25-8622EB9E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C0CC6-4858-4E90-9D52-B080E288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51D0F-D624-4FBA-B4BF-1B446B37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FD436-C0AD-4747-84BA-7D41B14B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4966D-AA5E-40A5-ABEB-5F6E7E3A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97CB1-34F3-4E41-A7DB-F9F35D98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6464F-4650-48B5-827E-57598558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A9A32-5A9E-4C7A-9002-E28FB20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24D-0E6D-4B09-8505-B7F45995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F4280-1DFA-4F3C-B3AA-CDEFA37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2BA98-774A-42A4-B32F-8A421D6A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2FCD9-0798-4907-9679-847AB2E4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73FDD-0189-409A-B8D7-9C956CB5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4EF8C-3FD1-4733-81EC-94682DB9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915-8847-44A0-A1D4-4C918D15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CEC-7F38-4607-BE40-39C7F14E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5FE-7C20-477B-86CE-8A57DEB9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B55-4FF8-465F-BBC7-48AD933D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DFD-4CA5-408F-9CEA-1795E3A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590-A7D0-4598-8555-3EB1B88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54D-82D4-4500-9038-46E082C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0DD-875E-4E4D-8B31-7BCB5D1C50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090-F4F7-4DC8-B1AC-967281A4BB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99ff"/>
                </a:solidFill>
                <a:latin typeface="Tahoma"/>
              </a:rPr>
              <a:t>Данило Неч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Tahoma"/>
              </a:rPr>
              <a:t>Сподвижники    </a:t>
            </a:r>
            <a:br>
              <a:rPr sz="4000"/>
            </a:br>
            <a:r>
              <a:rPr b="0" lang="uk-UA" sz="4000" spc="-1" strike="noStrike">
                <a:solidFill>
                  <a:srgbClr val="0000ff"/>
                </a:solidFill>
                <a:latin typeface="Tahoma"/>
              </a:rPr>
              <a:t>Б. Хмельницько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У справі будівництва держави Хмельницькому допомагали його сподвижники. Серед них давній реєстровець Філон Джеджалій – спочатку генеральний осавул,а потім полковник кропивнянський, Марко Топига – полковник черкаський; Тиміш Носач – полковник прилуцький. Також до Б. Хмельницького пристала й значна частина української православної шляхти. Особливо відзначилися Іван Виговський, його четверо братів і батько; чотири брати Нечаї, особливо Данило Нечай – полковник брацлавський; та багато інш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accdb"/>
                </a:solidFill>
                <a:latin typeface="Tahoma"/>
              </a:rPr>
              <a:t>Український шляхти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значний військовий і політичний діяч, один з організаторів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ціонально-визвольних змагань українського народу,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їнський шляхтич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– Данило Неча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ходив з родини руського православного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ляхтича, що за одними даними спочатку мешкала в Мстиславському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єводстві, за іншими - на Поділлі, а перед Хмельниччиною перебралася на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иївщину. Наприкінці 40-х р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чаї зблизилися з козацьким станом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тали полковниками Війська Запорозького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тарший з них, Данило був призначений полковником київським і згодом – брацлавсь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 свідченням сучасників, Данило Нечай був людиною дуже заможною, винятково хороброю, надзвичайно гордою та незалежною у поглядах. Серед усіх двадцяти трьох козацьких полковників Нечай був найближчим до Богдана Хмельницького. Він очолював усі операції козацького війська на Поділлі і навіть здобув тодішню столицю Молдови Ясси, примусивши молдовського господаря укласти союз із Хмельниць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dd1b9"/>
                </a:solidFill>
                <a:latin typeface="Tahoma"/>
              </a:rPr>
              <a:t>Виступи Неч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нило Нечай відзначився під Корсунем, під Жовтими Водами, здобув замок у Бродах, його полк облягав Замостя, він відзначився під час Збаразької облоги, а також Зборівської битви 1649 року. Данило Нечай – один з польових командирів Богдана Хмельницького, – виступав проти підписання угоди з Річчю Посполитою і був за те, щоб воювати і надалі з не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Найбільш яскраво Данило Нечай почина виділятися на початку війни з Польщею у 1649 році. Ще з весни цього року він займає позиції під Баром та Брацлавом на Поділлі.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imes New Roman"/>
              </a:rPr>
              <a:t>Смерть  Данила Неч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В умовах загострення українсько-польських стосунків, зростання кількості провокацій в прикордонних районах та інформації щодо приготування королівської армії, з кінця 1650 р. Нечай за наказом Хмельницького проводив заходи по зміцненню оборони порубіжжя, мобілізації козацьких загонів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 (20) лютого 1651 р. польським військам під командою М. Калиновського та С. Лянцкоронського вдалося непоміченими пробратися до містечка Красне, де перебував у той час Нечай. Намагаючись організувати оборону, полковник брацлавський загинув у бою, в якому «боровся так, як доброму молодцеві належало, захищаючись мужнь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имавши повідомлення про смерть полковника, «о том Хмельницькому вельми печаль учинилася». За розпорядженням гетьмана по церквах було відправлено панахиду по Данилу Неча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м'ять про славного сина українського народу увічнює гранітний обеліск, споруджений на його могилі 1954 року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61"/>
                </a:solidFill>
                <a:latin typeface="Tahoma"/>
              </a:rPr>
              <a:t>Виснов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рть Нечая була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великою трагедією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Його рахували після Хмельницького найбільшою фігурою в козацькім війську, що протиставлявся самому гетьманові, і мав спроби йому протистояти. В польських кругах Нечая вважали найбільш завзятим ворогом Польщі і магнатства, дійсним провідником повстання -- більш завзятим ніж сам Хмельницький. Тому до тріумфального почуття першого реваншу козакам,прилучилась іще надія, що тепер, коли не стало сього непримиренного ворога, може і з Хмельницьким і з козацьким військом буде легше договорити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арактеристично це відбилося в народній пісенності. В українськім народнім репертуарі пісні про Нечая незвичайно популярн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його треба признати мабуть найбільш популярною історичною постаттю в уснім репертуарі XIX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47:26Z</dcterms:created>
  <dc:creator>САНЕК</dc:creator>
  <dc:description/>
  <dc:language>en-US</dc:language>
  <cp:lastModifiedBy>САНЕК</cp:lastModifiedBy>
  <dcterms:modified xsi:type="dcterms:W3CDTF">2009-12-02T19:47:55Z</dcterms:modified>
  <cp:revision>1</cp:revision>
  <dc:subject/>
  <dc:title>Данило Неча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1000000000001024140</vt:lpwstr>
  </property>
</Properties>
</file>