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D9E-FF47-42F9-8C6E-52121729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138-CF00-4C6F-B507-9D08478C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B95-AD7A-4785-ABD3-7B803D06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C4C-E8F2-428A-9BF4-44122878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3ED-E775-4759-B6FD-2D86FAB8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FBA-8790-49BB-8B0D-45D73483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FEA-7641-458F-B68E-42D51ADD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D9F-E11F-484A-A4DE-CF028AD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EAF-68E9-41CA-A6F8-3F7B8DB4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A4A-3BE6-4446-8B25-94486DE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886-2FCB-444F-904C-8D233886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039-9EB7-455D-B2D8-7E9D74B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A665-EDA7-454D-87BC-BC6EA8C4A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uk.wikipedia.org/wiki/16_&#1089;&#1090;&#1086;&#1083;&#1110;&#1090;&#1090;&#1103;" TargetMode="External"/><Relationship Id="rId3" Type="http://schemas.openxmlformats.org/officeDocument/2006/relationships/hyperlink" Target="http://uk.wikipedia.org/wiki/6_&#1083;&#1080;&#1087;&#1085;&#1103;" TargetMode="External"/><Relationship Id="rId4" Type="http://schemas.openxmlformats.org/officeDocument/2006/relationships/hyperlink" Target="http://uk.wikipedia.org/wiki/1651" TargetMode="External"/><Relationship Id="rId5" Type="http://schemas.openxmlformats.org/officeDocument/2006/relationships/hyperlink" Target="http://uk.wikipedia.org/wiki/&#1061;&#1084;&#1077;&#1083;&#1100;&#1085;&#1080;&#1095;&#1095;&#1080;&#1085;&#1072;" TargetMode="External"/><Relationship Id="rId6" Type="http://schemas.openxmlformats.org/officeDocument/2006/relationships/hyperlink" Target="http://uk.wikipedia.org/wiki/&#1050;&#1086;&#1088;&#1086;&#1089;&#1090;&#1080;&#1096;&#1110;&#1074;" TargetMode="External"/><Relationship Id="rId7" Type="http://schemas.openxmlformats.org/officeDocument/2006/relationships/hyperlink" Target="http://uk.wikipedia.org/wiki/&#1047;&#1072;&#1087;&#1086;&#1088;&#1086;&#1079;&#1100;&#1082;&#1072;_&#1057;&#1110;&#1095;" TargetMode="External"/><Relationship Id="rId8" Type="http://schemas.openxmlformats.org/officeDocument/2006/relationships/hyperlink" Target="http://uk.wikipedia.org/wiki/&#1054;&#1090;&#1072;&#1084;&#1072;&#1085;" TargetMode="External"/><Relationship Id="rId9" Type="http://schemas.openxmlformats.org/officeDocument/2006/relationships/hyperlink" Target="http://uk.wikipedia.org/wiki/&#1058;&#1088;&#1072;&#1074;&#1077;&#1085;&#1100;" TargetMode="External"/><Relationship Id="rId10" Type="http://schemas.openxmlformats.org/officeDocument/2006/relationships/hyperlink" Target="http://uk.wikipedia.org/wiki/1648" TargetMode="External"/><Relationship Id="rId11" Type="http://schemas.openxmlformats.org/officeDocument/2006/relationships/hyperlink" Target="http://uk.wikipedia.org/wiki/&#1055;&#1086;&#1083;&#1082;&#1086;&#1074;&#1085;&#1080;&#1082;_%28&#1043;&#1077;&#1090;&#1100;&#1084;&#1072;&#1085;&#1097;&#1080;&#1085;&#1072;%29" TargetMode="External"/><Relationship Id="rId12" Type="http://schemas.openxmlformats.org/officeDocument/2006/relationships/hyperlink" Target="http://uk.wikipedia.org/wiki/&#1041;&#1086;&#1088;&#1079;&#1085;&#1103;&#1085;&#1089;&#1100;&#1082;&#1080;&#1081;_&#1087;&#1086;&#1083;&#1082;" TargetMode="External"/><Relationship Id="rId13" Type="http://schemas.openxmlformats.org/officeDocument/2006/relationships/hyperlink" Target="http://uk.wikipedia.org/wiki/1649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uk.wikipedia.org/wiki/&#1051;&#1110;&#1090;&#1086;" TargetMode="External"/><Relationship Id="rId3" Type="http://schemas.openxmlformats.org/officeDocument/2006/relationships/hyperlink" Target="http://uk.wikipedia.org/wiki/1649" TargetMode="External"/><Relationship Id="rId4" Type="http://schemas.openxmlformats.org/officeDocument/2006/relationships/hyperlink" Target="http://uk.wikipedia.org/wiki/&#1061;&#1084;&#1077;&#1083;&#1100;&#1085;&#1080;&#1094;&#1100;&#1082;&#1080;&#1081;_&#1041;&#1086;&#1075;&#1076;&#1072;&#1085;" TargetMode="External"/><Relationship Id="rId5" Type="http://schemas.openxmlformats.org/officeDocument/2006/relationships/hyperlink" Target="http://uk.wikipedia.org/wiki/&#1041;&#1110;&#1083;&#1086;&#1088;&#1091;&#1089;&#1100;" TargetMode="External"/><Relationship Id="rId6" Type="http://schemas.openxmlformats.org/officeDocument/2006/relationships/hyperlink" Target="http://uk.wikipedia.org/wiki/&#1041;&#1080;&#1090;&#1074;&#1072;_&#1087;&#1110;&#1076;_&#1055;&#1080;&#1083;&#1103;&#1074;&#1094;&#1103;&#1084;&#1080;" TargetMode="External"/><Relationship Id="rId7" Type="http://schemas.openxmlformats.org/officeDocument/2006/relationships/hyperlink" Target="http://uk.wikipedia.org/wiki/&#1043;&#1072;&#1083;&#1080;&#1095;&#1080;&#1085;&#1072;" TargetMode="External"/><Relationship Id="rId8" Type="http://schemas.openxmlformats.org/officeDocument/2006/relationships/hyperlink" Target="http://uk.wikipedia.org/wiki/&#1046;&#1086;&#1074;&#1090;&#1077;&#1085;&#1100;" TargetMode="External"/><Relationship Id="rId9" Type="http://schemas.openxmlformats.org/officeDocument/2006/relationships/hyperlink" Target="http://uk.wikipedia.org/wiki/1648" TargetMode="External"/><Relationship Id="rId10" Type="http://schemas.openxmlformats.org/officeDocument/2006/relationships/hyperlink" Target="http://uk.wikipedia.org/wiki/&#1047;&#1072;&#1084;&#1086;&#1089;&#1090;&#1103;" TargetMode="External"/><Relationship Id="rId11" Type="http://schemas.openxmlformats.org/officeDocument/2006/relationships/hyperlink" Target="http://uk.wikipedia.org/wiki/1649" TargetMode="External"/><Relationship Id="rId12" Type="http://schemas.openxmlformats.org/officeDocument/2006/relationships/hyperlink" Target="http://uk.wikipedia.org/wiki/&#1053;&#1072;&#1082;&#1072;&#1079;&#1085;&#1080;&#1081;_&#1075;&#1077;&#1090;&#1100;&#1084;&#1072;&#1085;" TargetMode="External"/><Relationship Id="rId13" Type="http://schemas.openxmlformats.org/officeDocument/2006/relationships/hyperlink" Target="http://uk.wikipedia.org/wiki/&#1047;&#1073;&#1086;&#1088;&#1110;&#1074;&#1089;&#1100;&#1082;&#1072;_&#1073;&#1080;&#1090;&#1074;&#1072;" TargetMode="External"/><Relationship Id="rId14" Type="http://schemas.openxmlformats.org/officeDocument/2006/relationships/hyperlink" Target="http://uk.wikipedia.org/wiki/&#1047;&#1073;&#1086;&#1088;&#1110;&#1074;&#1089;&#1100;&#1082;&#1080;&#1081;_&#1076;&#1086;&#1075;&#1086;&#1074;&#1110;&#1088;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wikipedia.org/wiki/1651" TargetMode="External"/><Relationship Id="rId2" Type="http://schemas.openxmlformats.org/officeDocument/2006/relationships/hyperlink" Target="http://uk.wikipedia.org/w/index.php?title=&#1054;&#1073;&#1083;&#1086;&#1075;&#1072;&amp;action=edit&amp;redlink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Мартин Неба́б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8" descr="http://udec.ntu-kpi.kiev.ua/lspace/History_ukr_8/schedule.nsf/d862e82eafb758368525663c004f385c/7e47488183d76295c225707d004ebf08/Body/0.12F4?OpenElement&amp;FieldElemFormat=gif"/>
          <p:cNvPicPr/>
          <p:nvPr/>
        </p:nvPicPr>
        <p:blipFill>
          <a:blip r:embed="rId1"/>
          <a:stretch/>
        </p:blipFill>
        <p:spPr>
          <a:xfrm>
            <a:off x="3851280" y="3933720"/>
            <a:ext cx="2160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565360"/>
          </a:xfrm>
          <a:prstGeom prst="rect">
            <a:avLst/>
          </a:prstGeom>
          <a:ln w="0">
            <a:noFill/>
          </a:ln>
        </p:spPr>
      </p:pic>
      <p:pic>
        <p:nvPicPr>
          <p:cNvPr id="44" name="s7826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-1143000" y="-52560"/>
            <a:ext cx="11430000" cy="6963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ю родини М. Небаби простежив В. Модзалевський якому також належить чи не перша біограма полковника вміщена в «Русском биографическом словар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3213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76720" y="333360"/>
            <a:ext cx="4751280" cy="5904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иву-сиву давнин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заки йшли на війну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 на рідну Україн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нулися без упин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хи, турки та татари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алі та яничар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об палить сади і хати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об людей в неволю гнат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заки скликають раду 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е буде ворогу пощади !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ірні коні рвуться в битву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ешуть іскри з-під копит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чарівний спів дівоч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спокійні дні та ночі –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і весело дзвеня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ажі голови летять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І на морі, і в степа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ганяли вони страх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 найкращі вояки –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розькі козаки !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І не буде перевод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раїнському народ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и із глибин сторіч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ина козацький кли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1619280" y="274680"/>
            <a:ext cx="5977080" cy="164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ртин Неба́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 кінець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6 столітт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6 лип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65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 військовий діяч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Хмельничч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міщанин з міста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оростише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 молодих літ перебував на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Запоріжж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деякий час був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отаман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У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травн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64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оку очолив народне повстання проти польської шляхти на Чернігово-Сіверщині. Став організатором і першим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полковни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Борзнянського пол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з початку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164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оку полковник чернігівсь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826920" y="274680"/>
            <a:ext cx="7632720" cy="322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літ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6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ку за доручення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огдана Хмельниць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андував українськими військами у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Білорус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часни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илявецької битви 16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 походу козацьких військ у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Галичи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жовтн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6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ку Мартин Небаба очолював авангард української армії під час походу н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Замост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а початку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16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ку 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наказний гетьм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івобережних полків. На чолі свого полку брав участь у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Зборівській облозі 1649 та Зборівській битві 16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иступав проти укладенн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Зборівського мирного договору 16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ітку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65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ку полк під командуванням Небаби взяв 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бл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мель, але внаслідок наступу значних польсько-литовських сил був змушений відступити. Керував обороною Чернігово-Сіверщини від нападу військ князя Януша Радзивілла. Загинув у бою з переважаючими силами ворога під Ріпками поблизу Лоєва (тепер Білорусь). За переказами, Януш Радзивілл, вражений мужністю Небаби, наказав над місцем його захоронения насипати високу моги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7632720" cy="3529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9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759280" cy="4606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11280" y="274680"/>
            <a:ext cx="7345440" cy="3370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тин Неба́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олковник Черниговский, один из видных сподвижников Хмельницкого. С самого начала борьбы гетмана против поляков Небаба встречается в числе усердных его помощников, принимавших участие в главнейших событиях того времени. Небаба настолько выделялся из общей массы казачества, что при первом образовании Хмельницким полков он стал сперва Борзенским, а потом — в 1649 г. — Черниговским" полковником; в этом же году он был начальником особого отряда, взявшего, совместно с отрядами Донца и Головацкого, город Острог на Волы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651 году, когда Хмельницкий отправлялся на Волынь, Небаба был оставлен с полками Черниговским и Нежинским на левом берегу Днепра и стоял в Чернигове, занимаясь, по замечанию современника, пьянством и ссорами с другими предводителями. После победы под Берестечком поляки выслали на левый берег Днепра отряд под начальством Мирского, который напал врасплох на казацкую стражу, состоявшую из трехсот человек, и почти всю ее уничтожил. Несколько уцелевших из этого отряда казаков успели сообщить Небабе о появлении поляков, и тот, по замечанию летописца, "порвавшись неисправно против исправного войска", встретил в июле отряд Мирского под Реп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1476360" y="274680"/>
            <a:ext cx="6983280" cy="3009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42920" y="274680"/>
            <a:ext cx="7345440" cy="4091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бабы было пятнадцать тысяч войска, и Он почитал себя непобедимым, надеясь уничтожить незначительный отряд Мирского; но князь Радзивилл удачно зашел в тыл казацкому войску в то время, когда оно было занято сражением. В этом сражении казаки почти все полегли; Небаба, лишившись коня, побежал, но был, настигнут и убит вместе со своим братом, а поляки разорили Чернигов. После Небабы осталось два сына, потомство которых существует и доны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азка і загибель Небаби гучно й болісно відгукнулися в Україні. Литовське військо таки вийшло в тил армії Б. Хмельницького, який програв битву під Берестечком. Під реальною загрозою опинилися всі здобутки повсталого українського народу. Тим часом Я. Радзівілл рушив до Чернігова, де порядкував соратник і наступник М. Небаби — С. Пободайло. Штурмувати добре укріплене місто Я. Радзівілл не наважився і, повернув назад на Любеч», звідки після перепочинку попрямував на Київ. Війна тривал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590544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7:39:58Z</dcterms:created>
  <dc:creator>User</dc:creator>
  <dc:description/>
  <dc:language>en-US</dc:language>
  <cp:lastModifiedBy>laborant</cp:lastModifiedBy>
  <dcterms:modified xsi:type="dcterms:W3CDTF">2009-12-03T10:54:26Z</dcterms:modified>
  <cp:revision>13</cp:revision>
  <dc:subject/>
  <dc:title>Мартин Неба́б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9000000000001024140</vt:lpwstr>
  </property>
</Properties>
</file>