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841B-3944-425B-B677-4A5C1F790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1BC2-2833-4F1E-B11C-DCEB8B09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50DB-1AEA-4851-AD46-AFE018E3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067F-79CD-4BEF-89CD-9C6AFCF4B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F390-6ECB-4EA7-96F5-702ACD03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2602-D7CD-4898-B2F0-97AB24A1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09F2-ACF3-4344-8522-6201C581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FFEA-8C56-4EFD-969E-CEDD4AC6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1F7A-4018-4491-BED3-845208F5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1CE3-C122-4B3C-AA38-44E268AB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2891-9E23-46D8-A0C2-F541DC79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0D8B-BBAE-4FBC-A07F-0B44AF0C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06E0-805D-4E81-BFD2-546EB6EB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4E13-6DC1-4C49-8CA9-A83D4751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00D8-E391-4891-A477-11209523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9407-3F26-4CF5-AC30-413EEC10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D8FC-FE64-42F0-9186-294D177B8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26D1-C5F5-4E5C-926E-536B9781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8ED9-05BE-447C-9273-BA78D0D5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FF66-5A0E-459E-BA22-E35303FD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4B7D-ED39-45FF-A562-E9A1162D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02CF-EC41-4526-99DA-B67F0C93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32C3-E3C0-448B-B26E-4F17B085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81E5-244B-484B-A18B-A264FC58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D731-5B63-4AFC-BC48-AD765C38E02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AD46-819C-4C6F-943D-6464EADEA70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60480" y="798480"/>
            <a:ext cx="8834400" cy="5694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71320" y="1143000"/>
            <a:ext cx="771516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Содержимое 2" descr=""/>
          <p:cNvPicPr/>
          <p:nvPr/>
        </p:nvPicPr>
        <p:blipFill>
          <a:blip r:embed="rId1"/>
          <a:stretch/>
        </p:blipFill>
        <p:spPr>
          <a:xfrm>
            <a:off x="396720" y="12600"/>
            <a:ext cx="8564760" cy="6120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Содержимое 2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412120" cy="6059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1857240" y="1428840"/>
            <a:ext cx="4857840" cy="5429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1\Downloads\image002.jpg"/>
          <p:cNvPicPr/>
          <p:nvPr/>
        </p:nvPicPr>
        <p:blipFill>
          <a:blip r:embed="rId2"/>
          <a:stretch/>
        </p:blipFill>
        <p:spPr>
          <a:xfrm>
            <a:off x="1928880" y="1449360"/>
            <a:ext cx="5072040" cy="53672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Содержимое 2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72440" cy="6181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1\Downloads\250px-Lenin.jpg"/>
          <p:cNvPicPr/>
          <p:nvPr/>
        </p:nvPicPr>
        <p:blipFill>
          <a:blip r:embed="rId2"/>
          <a:stretch/>
        </p:blipFill>
        <p:spPr>
          <a:xfrm>
            <a:off x="1736640" y="1285920"/>
            <a:ext cx="5275440" cy="5572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Содержимое 2" descr=""/>
          <p:cNvPicPr/>
          <p:nvPr/>
        </p:nvPicPr>
        <p:blipFill>
          <a:blip r:embed="rId1"/>
          <a:stretch/>
        </p:blipFill>
        <p:spPr>
          <a:xfrm>
            <a:off x="139680" y="12600"/>
            <a:ext cx="8943840" cy="6120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Содержимое 2" descr=""/>
          <p:cNvPicPr/>
          <p:nvPr/>
        </p:nvPicPr>
        <p:blipFill>
          <a:blip r:embed="rId1"/>
          <a:stretch/>
        </p:blipFill>
        <p:spPr>
          <a:xfrm>
            <a:off x="420840" y="146160"/>
            <a:ext cx="8272440" cy="59864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Содержимое 2" descr=""/>
          <p:cNvPicPr/>
          <p:nvPr/>
        </p:nvPicPr>
        <p:blipFill>
          <a:blip r:embed="rId1"/>
          <a:stretch/>
        </p:blipFill>
        <p:spPr>
          <a:xfrm>
            <a:off x="420840" y="152280"/>
            <a:ext cx="8272440" cy="649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Содержимое 2" descr=""/>
          <p:cNvPicPr/>
          <p:nvPr/>
        </p:nvPicPr>
        <p:blipFill>
          <a:blip r:embed="rId1"/>
          <a:stretch/>
        </p:blipFill>
        <p:spPr>
          <a:xfrm>
            <a:off x="493560" y="390600"/>
            <a:ext cx="8229600" cy="59007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5T22:08:18Z</dcterms:created>
  <dc:creator>1</dc:creator>
  <dc:description/>
  <dc:language>en-US</dc:language>
  <cp:lastModifiedBy>1</cp:lastModifiedBy>
  <dcterms:modified xsi:type="dcterms:W3CDTF">2014-03-31T11:03:16Z</dcterms:modified>
  <cp:revision>13</cp:revision>
  <dc:subject/>
  <dc:title>Українська революцiя та перші десятиліття більшовицької влад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41d000000000001024140</vt:lpwstr>
  </property>
</Properties>
</file>