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3E2-5A43-45F0-82C2-24F7CFD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07C-1D46-4A05-886A-348CC558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8C5-AEE8-47F3-B593-E73A7F68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1B2-7E5F-4D31-9085-B4EC13CB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06E2-6B06-4E6C-AC07-8B421581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017-6B1C-4E8A-80E9-00A392D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9C2-E6C2-4DB7-AC45-965DA0AA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4EE0-BD3F-457C-86AC-04CB84A9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F362-087D-4235-B5CD-026C868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4CF2-E0C8-43AA-9211-45FBC9FC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4DC0-AABB-47EE-801C-9409215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BE1-0850-40C4-A9A0-A876E7B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843E-F865-4589-B8E1-60A654F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5391-02B6-4C63-A10A-2C5B222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0A0E-CF0A-40AA-87D5-3990397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64E3-363B-42B4-9CD2-15BEA637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CAA-AE4C-4C4F-8A3F-4303F752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84B-298B-43DA-A40B-A564B14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F27-D1F4-4914-996E-C0DD959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97E-AFA8-408F-8456-72E95B3A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4E0-6458-4542-9326-352F2C36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E08-5979-4E53-AA29-1DB7498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7EE-FBA7-41A6-A035-3C894F2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605-600C-4AA2-9D34-BFA43C6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611-07F5-4B9F-A32A-306936A5AAF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165-81CB-4AB3-86E8-D53C951C1D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8834400" cy="569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56476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412120" cy="605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57240" y="142884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1\Downloads\image002.jpg"/>
          <p:cNvPicPr/>
          <p:nvPr/>
        </p:nvPicPr>
        <p:blipFill>
          <a:blip r:embed="rId2"/>
          <a:stretch/>
        </p:blipFill>
        <p:spPr>
          <a:xfrm>
            <a:off x="1928880" y="1449360"/>
            <a:ext cx="5072040" cy="5367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72440" cy="618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ownloads\250px-Lenin.jpg"/>
          <p:cNvPicPr/>
          <p:nvPr/>
        </p:nvPicPr>
        <p:blipFill>
          <a:blip r:embed="rId2"/>
          <a:stretch/>
        </p:blipFill>
        <p:spPr>
          <a:xfrm>
            <a:off x="1736640" y="1285920"/>
            <a:ext cx="527544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139680" y="12600"/>
            <a:ext cx="894384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72440" cy="5986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одержимое 2" descr=""/>
          <p:cNvPicPr/>
          <p:nvPr/>
        </p:nvPicPr>
        <p:blipFill>
          <a:blip r:embed="rId1"/>
          <a:stretch/>
        </p:blipFill>
        <p:spPr>
          <a:xfrm>
            <a:off x="420840" y="152280"/>
            <a:ext cx="8272440" cy="649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2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229600" cy="5900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22:08:18Z</dcterms:created>
  <dc:creator>1</dc:creator>
  <dc:description/>
  <dc:language>en-US</dc:language>
  <cp:lastModifiedBy>1</cp:lastModifiedBy>
  <dcterms:modified xsi:type="dcterms:W3CDTF">2014-03-31T11:03:16Z</dcterms:modified>
  <cp:revision>13</cp:revision>
  <dc:subject/>
  <dc:title>Українська революцiя та перші десятиліття більшовицької вла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d000000000001024140</vt:lpwstr>
  </property>
</Properties>
</file>