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2A11-E960-4406-B7B2-9FF8DCB1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36A-BAE1-44B6-B8F2-9A65F87B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E3BF-DB1B-4341-A115-4F635D51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FF1-7E0C-4241-8C72-CF9382BA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9099-42DD-4A80-8543-DB2E147D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6C16-0D0F-42D0-A3F9-CCEE2D3F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28C4-D655-43BC-A935-95B671E1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1A18-D0DC-4E26-98B2-0049EADA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D917-DE7F-4959-B17A-22C628D2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8214-7024-4E60-852C-A57B8EAE1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F2A2-266A-43A2-9198-D5FBE331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8E63-84DD-49D2-831F-8A702566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D6A7-2CAA-4140-8409-D42FD151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8B539-C19D-4ABB-A62E-012CADAB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8CDB-FDB8-4C7E-B618-C2A1D6E2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B37A-904C-4318-A059-1604C7D87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D4AE-3BA6-47FC-A692-B5376B94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D81-3178-4B0B-8C14-B1BA63F3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200A-8881-4687-A401-9E16A89C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9474-BF2B-4074-B1CF-BD93216F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B974-8843-4592-8B87-2E014595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725-51E1-46B6-B3FF-BFB1F56A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51DC-F8CE-49DB-8902-7C02FDE1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8C73-583B-4078-BA7F-DEA9512A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2359-06C9-4B15-A4F3-E969681F2941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B4BD-948B-4184-B3CC-ACBA7F9AFB9C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60480" y="798480"/>
            <a:ext cx="8834400" cy="5694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71320" y="1143000"/>
            <a:ext cx="77151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Содержимое 2" descr=""/>
          <p:cNvPicPr/>
          <p:nvPr/>
        </p:nvPicPr>
        <p:blipFill>
          <a:blip r:embed="rId1"/>
          <a:stretch/>
        </p:blipFill>
        <p:spPr>
          <a:xfrm>
            <a:off x="396720" y="12600"/>
            <a:ext cx="8564760" cy="6120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Содержимое 2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412120" cy="6059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1857240" y="1428840"/>
            <a:ext cx="4857840" cy="5429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1\Downloads\image002.jpg"/>
          <p:cNvPicPr/>
          <p:nvPr/>
        </p:nvPicPr>
        <p:blipFill>
          <a:blip r:embed="rId2"/>
          <a:stretch/>
        </p:blipFill>
        <p:spPr>
          <a:xfrm>
            <a:off x="1928880" y="1449360"/>
            <a:ext cx="5072040" cy="5367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Содержимое 2" descr=""/>
          <p:cNvPicPr/>
          <p:nvPr/>
        </p:nvPicPr>
        <p:blipFill>
          <a:blip r:embed="rId1"/>
          <a:stretch/>
        </p:blipFill>
        <p:spPr>
          <a:xfrm>
            <a:off x="420840" y="133200"/>
            <a:ext cx="8272440" cy="6181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1\Downloads\250px-Lenin.jpg"/>
          <p:cNvPicPr/>
          <p:nvPr/>
        </p:nvPicPr>
        <p:blipFill>
          <a:blip r:embed="rId2"/>
          <a:stretch/>
        </p:blipFill>
        <p:spPr>
          <a:xfrm>
            <a:off x="1736640" y="1285920"/>
            <a:ext cx="5275440" cy="5572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Содержимое 2" descr=""/>
          <p:cNvPicPr/>
          <p:nvPr/>
        </p:nvPicPr>
        <p:blipFill>
          <a:blip r:embed="rId1"/>
          <a:stretch/>
        </p:blipFill>
        <p:spPr>
          <a:xfrm>
            <a:off x="139680" y="12600"/>
            <a:ext cx="8943840" cy="6120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Содержимое 2" descr=""/>
          <p:cNvPicPr/>
          <p:nvPr/>
        </p:nvPicPr>
        <p:blipFill>
          <a:blip r:embed="rId1"/>
          <a:stretch/>
        </p:blipFill>
        <p:spPr>
          <a:xfrm>
            <a:off x="420840" y="146160"/>
            <a:ext cx="8272440" cy="5986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Содержимое 2" descr=""/>
          <p:cNvPicPr/>
          <p:nvPr/>
        </p:nvPicPr>
        <p:blipFill>
          <a:blip r:embed="rId1"/>
          <a:stretch/>
        </p:blipFill>
        <p:spPr>
          <a:xfrm>
            <a:off x="420840" y="152280"/>
            <a:ext cx="8272440" cy="649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Содержимое 2" descr=""/>
          <p:cNvPicPr/>
          <p:nvPr/>
        </p:nvPicPr>
        <p:blipFill>
          <a:blip r:embed="rId1"/>
          <a:stretch/>
        </p:blipFill>
        <p:spPr>
          <a:xfrm>
            <a:off x="493560" y="390600"/>
            <a:ext cx="8229600" cy="59007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5T22:08:18Z</dcterms:created>
  <dc:creator>1</dc:creator>
  <dc:description/>
  <dc:language>en-US</dc:language>
  <cp:lastModifiedBy>1</cp:lastModifiedBy>
  <dcterms:modified xsi:type="dcterms:W3CDTF">2014-03-31T11:03:16Z</dcterms:modified>
  <cp:revision>13</cp:revision>
  <dc:subject/>
  <dc:title>Українська революцiя та перші десятиліття більшовицької влад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1d000000000001024140</vt:lpwstr>
  </property>
</Properties>
</file>