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AAC8-0C7E-415C-80EA-E4CAB967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232-9356-4E6C-8E77-A84586A3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58D-F389-42E7-AC1B-5FA374E6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231-84DB-42D4-A516-E328FE56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2DE7-BA6F-4F8B-B903-717C461F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2D33-FF23-4664-BE2C-FA18DB99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7393-B834-4AF7-B253-FB2AA7CF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929B-689C-4385-ADD0-F9E167B6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0C36-CA25-4E98-989A-4A91C2EE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CF07-C210-46B5-B00D-5E5820EF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C11C-CE9D-483C-A13A-7DB2400D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0ACC-0370-46AC-946A-2A20F97F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A408-A048-44D9-BD84-51DE8C40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2B18-34FC-412C-B27F-D21E788B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09DB-8927-48AC-B2F6-E7E39FDA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6AE4-7886-4097-B721-A7F9DF28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E721-CF5B-40AE-834F-AE624AB1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D6F9-C724-434A-A3B5-4D1AFB3E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772-85C7-4614-AB15-52AFE65B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174-F169-42E9-B119-D4A1FF3A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1F3E-F042-4B1F-A15F-CC0CC059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C940-E602-4AD1-9B68-2712B956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38C4-B9A7-4938-A83B-F1F24A64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E18-3AB1-4525-A58D-AD7B1AAB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C443-166B-4FCB-AF8E-78302B80757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D949-6369-409B-B107-066ED409A2F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60480" y="798480"/>
            <a:ext cx="8834400" cy="5694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71320" y="1143000"/>
            <a:ext cx="77151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Содержимое 2" descr=""/>
          <p:cNvPicPr/>
          <p:nvPr/>
        </p:nvPicPr>
        <p:blipFill>
          <a:blip r:embed="rId1"/>
          <a:stretch/>
        </p:blipFill>
        <p:spPr>
          <a:xfrm>
            <a:off x="396720" y="12600"/>
            <a:ext cx="8564760" cy="6120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Содержимое 2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412120" cy="6059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857240" y="1428840"/>
            <a:ext cx="4857840" cy="5429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1\Downloads\image002.jpg"/>
          <p:cNvPicPr/>
          <p:nvPr/>
        </p:nvPicPr>
        <p:blipFill>
          <a:blip r:embed="rId2"/>
          <a:stretch/>
        </p:blipFill>
        <p:spPr>
          <a:xfrm>
            <a:off x="1928880" y="1449360"/>
            <a:ext cx="5072040" cy="5367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Содержимое 2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72440" cy="6181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1\Downloads\250px-Lenin.jpg"/>
          <p:cNvPicPr/>
          <p:nvPr/>
        </p:nvPicPr>
        <p:blipFill>
          <a:blip r:embed="rId2"/>
          <a:stretch/>
        </p:blipFill>
        <p:spPr>
          <a:xfrm>
            <a:off x="1736640" y="1285920"/>
            <a:ext cx="5275440" cy="5572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Содержимое 2" descr=""/>
          <p:cNvPicPr/>
          <p:nvPr/>
        </p:nvPicPr>
        <p:blipFill>
          <a:blip r:embed="rId1"/>
          <a:stretch/>
        </p:blipFill>
        <p:spPr>
          <a:xfrm>
            <a:off x="139680" y="12600"/>
            <a:ext cx="8943840" cy="6120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Содержимое 2" descr=""/>
          <p:cNvPicPr/>
          <p:nvPr/>
        </p:nvPicPr>
        <p:blipFill>
          <a:blip r:embed="rId1"/>
          <a:stretch/>
        </p:blipFill>
        <p:spPr>
          <a:xfrm>
            <a:off x="420840" y="146160"/>
            <a:ext cx="8272440" cy="5986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Содержимое 2" descr=""/>
          <p:cNvPicPr/>
          <p:nvPr/>
        </p:nvPicPr>
        <p:blipFill>
          <a:blip r:embed="rId1"/>
          <a:stretch/>
        </p:blipFill>
        <p:spPr>
          <a:xfrm>
            <a:off x="420840" y="152280"/>
            <a:ext cx="8272440" cy="649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2" descr=""/>
          <p:cNvPicPr/>
          <p:nvPr/>
        </p:nvPicPr>
        <p:blipFill>
          <a:blip r:embed="rId1"/>
          <a:stretch/>
        </p:blipFill>
        <p:spPr>
          <a:xfrm>
            <a:off x="493560" y="390600"/>
            <a:ext cx="8229600" cy="59007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5T22:08:18Z</dcterms:created>
  <dc:creator>1</dc:creator>
  <dc:description/>
  <dc:language>en-US</dc:language>
  <cp:lastModifiedBy>1</cp:lastModifiedBy>
  <dcterms:modified xsi:type="dcterms:W3CDTF">2014-03-31T11:03:16Z</dcterms:modified>
  <cp:revision>13</cp:revision>
  <dc:subject/>
  <dc:title>Українська революцiя та перші десятиліття більшовицької влад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1d000000000001024140</vt:lpwstr>
  </property>
</Properties>
</file>