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B9FC-718B-414F-AF55-4916F2A9F2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99A8-36DC-4294-BC18-B4839FA4AD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534-3362-40C8-92C9-2AD40E7F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799-7DAC-4560-B7EE-A7A25722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423-41C4-4278-BAF1-7F7B905E8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991-540B-4769-929F-CA9ABFA2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EA81-47AB-4EAB-93FE-6E8E9221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D51B-3A19-4BBB-AF73-FC092FD3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493D-27AE-431B-9BEC-8EC16A1B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0805-2FD6-44A6-B0AB-FC7AC52E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9A13-B2FE-416A-89F9-8E3D435D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EBEC-0E88-4F35-A0F8-2B569B65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AFAF-4D23-48E8-B3DD-55C9DEDD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3A7-E64D-4906-A697-8C7FEF5E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0190-7E89-4AD6-8DE4-B6A2A03A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EC72-D3D5-4687-B3DB-09BA5C43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64EE-52EA-4F0C-B434-3ABA2113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806D-4FEC-45D6-9543-E4954761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C610-F97D-46DB-BB90-7FD993A6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E8CB4-C626-4B81-959E-733874B0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330AE-61CE-47B3-AAAB-3735A0AF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49BC-E72E-4F43-8AFA-62365A0B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BF64-39D4-4411-8DD0-1AA9EEC7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00DC-F22E-4041-975C-EFC61EC4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B68-FBBA-40CD-8AF4-592368A7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BAC5-6353-4B5A-A69B-410C74AC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C311-E03D-4B28-AAB1-F91B718B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A1F2-DB28-45FD-90E2-674D457C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33B4-A337-4426-B6A5-814EA440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9539-5185-4CE8-A4CD-36BCDFD7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C52F6-BC18-4C76-880B-55FEBEAE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526BB-1BC1-4C71-AC71-8683A81B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7BF8-03F9-4859-84CF-AEE69466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07C84-66A3-4DCA-BAA0-F4BFD8FC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A650C-1F34-4918-B76E-77A047EE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87F-2323-48A0-9C02-FD21600D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1A92-4FAF-45DD-95B7-12EC655D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3102-814A-4345-A763-D7C6B909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1803B-F441-4528-8D84-B74273FA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421C3-1B68-4E80-94CA-A84F0984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978D-84D3-4B94-936F-929D8C67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516B-EC4B-4A6D-84FD-A025E23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697D4-0878-410C-B58D-0E635B3A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1B94-5D61-47EB-9AA1-5F3E2241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E222-6360-4BDC-BF82-5E64779B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FA41-0F68-4714-BDB1-E4A1C219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B27-FA3B-4309-90DB-77F39259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B2552-34EB-4461-B5B8-BFA8830E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66850-31F1-46BD-8406-6E985D3F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DFD26-C5D6-4EA7-AB08-554D3C67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70AB-C352-4E0C-9D68-EC22F7E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F06BA-C35E-4F67-90CB-85F5105D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4A67-C03D-4FD3-8F1F-E16ADBC4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30F8-B396-4D29-BF83-E733007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F6038-4D9A-4846-AC2D-C333B68E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A486-6737-4ECE-B871-03A811AA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7E753-C686-4099-8437-395C7D29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8C3-3225-46A7-8DCA-F0A9AB0D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AD232-8721-4307-90EF-9B344596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8E39B-46A7-4618-87F6-557D02DF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05160-51ED-4CD1-8106-6BAC56A6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E20E3-F55B-4C4D-8AC2-61806CE4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F32B-5DA7-4ED0-88F2-B84C3B53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AE00-7D23-41B1-A110-130E468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D6676-B1A1-4EB1-A920-57199C65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8952F-5DBA-40E0-B44A-5A5BEFA0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4DADE-254A-48BF-B21E-02587FF1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6F28-7C04-426F-A278-DD807E23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43A-0AAC-4D01-BA42-63D3FF4F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0F53-7C3A-452F-A859-39C65BA2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F3FD1-BE3D-4AD3-AD0C-8DEA96F2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153AB-FE8E-4B87-8385-7ED61D59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2A8-275B-4B4F-935C-6523340A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32D-E246-4C0B-BFC2-54C555DF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B67D-6220-45F9-BB90-0883B4294C9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E712-09EF-4AA9-A13F-6563EDBDCB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782E-B822-4A4D-8CC5-464B532C48C1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E624-C63D-4575-89BF-295C43F191C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936-889C-4B3B-A4B1-A3E38D2B8CC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048C-1B2C-4CB5-9F73-2CE176964C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6709-2FE0-4292-B064-A507763BF62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BD9A-8F50-497E-AD3C-00F5E7C83E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4748-8121-4CBC-87F5-F7256847A9D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332D-0507-4956-A13A-06B43ED2F2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29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9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2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09A2-8565-45AB-A87D-68CEA243E18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5B9E-0CDD-4DCB-ACDD-B9C94666F0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uk.wikipedia.org/wiki/1932" TargetMode="External"/><Relationship Id="rId3" Type="http://schemas.openxmlformats.org/officeDocument/2006/relationships/hyperlink" Target="http://uk.wikipedia.org/wiki/1933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4492800" y="360360"/>
            <a:ext cx="4779720" cy="2863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50560" y="3644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a3171e"/>
                </a:solidFill>
                <a:latin typeface="Lucida Sans Unicode"/>
              </a:rPr>
              <a:t>УРОК-СУ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464646"/>
                </a:solidFill>
                <a:latin typeface="Lucida Sans Unicode"/>
              </a:rPr>
              <a:t>Урок з історії України в 10 клас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64646"/>
                </a:solidFill>
                <a:latin typeface="Lucida Sans Unicode"/>
              </a:rPr>
              <a:t>Вчитель історії Сезонова Л.В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392360" cy="3673440"/>
          </a:xfrm>
          <a:prstGeom prst="rect">
            <a:avLst/>
          </a:prstGeom>
          <a:ln w="0">
            <a:noFill/>
          </a:ln>
        </p:spPr>
      </p:pic>
      <p:pic>
        <p:nvPicPr>
          <p:cNvPr id="286" name="hor_ukr.radio_-_rekviem_Mocarta_(iPlayer.fm).mp3" descr=""/>
          <p:cNvPicPr/>
          <p:nvPr/>
        </p:nvPicPr>
        <p:blipFill>
          <a:blip r:embed="rId3"/>
          <a:stretch/>
        </p:blipFill>
        <p:spPr>
          <a:xfrm>
            <a:off x="47520" y="4508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07320" cy="4353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3564000" y="5516640"/>
            <a:ext cx="34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Колгоспники за обідом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8592-186B-4169-AF94-8EA94F24813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951280" cy="324000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"/>
          <p:cNvSpPr/>
          <p:nvPr/>
        </p:nvSpPr>
        <p:spPr>
          <a:xfrm>
            <a:off x="670680" y="42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'ячеслав Молото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(1890-1986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3635280" y="907920"/>
            <a:ext cx="53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 Україні хлібозаготівельну компанію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очолював В.М. Молот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Саме Молотов визначив значно завищений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лан хлібозаготівель для Украї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 розмірі 356 млн. пуді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Очолювана їм комісія розробила надзвичайні заходи для збільшення хлібозаготовель шляхом здійснення адміністративного тиску і проведенн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масових репресивних заходів щодо селянств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1D35-B59A-4A72-8AEC-6AAEAD998E9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097080" cy="2592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3924360" y="981000"/>
            <a:ext cx="48243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Вилучення хліба у селян за всяку ціну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обшук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натуральні штраф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загороджувальні загони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реквізиція насіннєвого  фонду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блокада сіл-боржникі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2952720" cy="23032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611280" y="3860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Тяжка доля українськог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селянства …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B8A0-448E-48F5-A96B-F7F8E5DA9D5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111640" cy="54720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2987640" y="5661000"/>
            <a:ext cx="50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станова РНК УРСР та ЦК КП(б)У про занесення ряду сіл на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«чорні дошки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3778-0258-4613-A6AC-E89726D6AC3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553440" cy="482472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"/>
          <p:cNvSpPr/>
          <p:nvPr/>
        </p:nvSpPr>
        <p:spPr>
          <a:xfrm>
            <a:off x="1116000" y="5516640"/>
            <a:ext cx="84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Їли коней, собак, горобців, траву, коріння…людей…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F99C-0A1A-4FA9-9BC8-553A69E1E60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191280" cy="44863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2"/>
          <p:cNvSpPr/>
          <p:nvPr/>
        </p:nvSpPr>
        <p:spPr>
          <a:xfrm>
            <a:off x="1835280" y="522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Жертви голоду на вулицях Харкова, 1933 рік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9EB9-F6B6-4FB2-A810-A39BF9CE12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183280"/>
          </a:xfrm>
          <a:prstGeom prst="rect">
            <a:avLst/>
          </a:prstGeom>
          <a:ln w="0">
            <a:noFill/>
          </a:ln>
        </p:spPr>
      </p:pic>
      <p:sp>
        <p:nvSpPr>
          <p:cNvPr id="38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C33E-8C50-474B-94F0-93CF5C2EAF7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6_mocart_rekviemm.mp3" descr=""/>
          <p:cNvPicPr/>
          <p:nvPr/>
        </p:nvPicPr>
        <p:blipFill>
          <a:blip r:embed="rId2"/>
          <a:stretch/>
        </p:blipFill>
        <p:spPr>
          <a:xfrm>
            <a:off x="8172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207075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016360" cy="2665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2190600" cy="17175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7020000" y="47628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5867280" y="4365720"/>
            <a:ext cx="2543400" cy="14284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5"/>
          <a:stretch/>
        </p:blipFill>
        <p:spPr>
          <a:xfrm>
            <a:off x="3492360" y="4437000"/>
            <a:ext cx="1648080" cy="142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6"/>
          <a:stretch/>
        </p:blipFill>
        <p:spPr>
          <a:xfrm>
            <a:off x="7164360" y="2421000"/>
            <a:ext cx="1368360" cy="142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7"/>
          <a:stretch/>
        </p:blipFill>
        <p:spPr>
          <a:xfrm>
            <a:off x="3141720" y="2276640"/>
            <a:ext cx="2943000" cy="15732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9"/>
          <p:cNvSpPr/>
          <p:nvPr/>
        </p:nvSpPr>
        <p:spPr>
          <a:xfrm>
            <a:off x="2831400" y="620640"/>
            <a:ext cx="3909960" cy="1068840"/>
          </a:xfrm>
          <a:prstGeom prst="rect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Lucida Sans Unicode"/>
              </a:rPr>
              <a:t>ЖАХЛИВІ 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Lucida Sans Unicode"/>
              </a:rPr>
              <a:t>ФОТОДОКУМЕНТ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Номер слайда 1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8772-CBE1-4045-8D0C-4700515CCFC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6_mocart_rekviemm.mp3" descr=""/>
          <p:cNvPicPr/>
          <p:nvPr/>
        </p:nvPicPr>
        <p:blipFill>
          <a:blip r:embed="rId8"/>
          <a:stretch/>
        </p:blipFill>
        <p:spPr>
          <a:xfrm>
            <a:off x="8317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07075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625920" cy="3384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251240" cy="338472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1763640" y="4005360"/>
            <a:ext cx="61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 u="sng">
                <a:solidFill>
                  <a:srgbClr val="ff0000"/>
                </a:solidFill>
                <a:uFillTx/>
                <a:latin typeface="Lucida Sans Unicode"/>
              </a:rPr>
              <a:t>Голодомо́р 1932–1933 років </a:t>
            </a:r>
            <a:r>
              <a:rPr b="0" lang="vi-VN" sz="2000" spc="-1" strike="noStrike">
                <a:solidFill>
                  <a:srgbClr val="ff0000"/>
                </a:solidFill>
                <a:latin typeface="Lucida Sans Unicode"/>
              </a:rPr>
              <a:t>— масовий, навмисно організований керівництвом ВКП(б) та урядом СРСР голод </a:t>
            </a:r>
            <a:r>
              <a:rPr b="1" lang="vi-VN" sz="2000" spc="-1" strike="noStrike">
                <a:solidFill>
                  <a:srgbClr val="ff0000"/>
                </a:solidFill>
                <a:latin typeface="Lucida Sans Unicode"/>
              </a:rPr>
              <a:t>1932</a:t>
            </a:r>
            <a:r>
              <a:rPr b="0" lang="vi-VN" sz="2000" spc="-1" strike="noStrike">
                <a:solidFill>
                  <a:srgbClr val="ff0000"/>
                </a:solidFill>
                <a:latin typeface="Lucida Sans Unicode"/>
              </a:rPr>
              <a:t>–</a:t>
            </a:r>
            <a:r>
              <a:rPr b="1" lang="vi-VN" sz="2000" spc="-1" strike="noStrike">
                <a:solidFill>
                  <a:srgbClr val="ff0000"/>
                </a:solidFill>
                <a:latin typeface="Lucida Sans Unicode"/>
              </a:rPr>
              <a:t>1933</a:t>
            </a:r>
            <a:r>
              <a:rPr b="0" lang="vi-VN" sz="2000" spc="-1" strike="noStrike">
                <a:solidFill>
                  <a:srgbClr val="ff0000"/>
                </a:solidFill>
                <a:latin typeface="Lucida Sans Unicode"/>
              </a:rPr>
              <a:t> років, що призвів до багатомільйонних людських втрат у сільській місцевості на території Української СР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F5A9-CCE4-4F25-814C-1565B04DE76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6_mocart_rekviemm.mp3" descr=""/>
          <p:cNvPicPr/>
          <p:nvPr/>
        </p:nvPicPr>
        <p:blipFill>
          <a:blip r:embed="rId3"/>
          <a:stretch/>
        </p:blipFill>
        <p:spPr>
          <a:xfrm>
            <a:off x="838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0707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6667560" cy="4695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2"/>
          <p:cNvSpPr/>
          <p:nvPr/>
        </p:nvSpPr>
        <p:spPr>
          <a:xfrm>
            <a:off x="1258920" y="494172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 оцінками Інституту демографії та соціальних досліджень імені М. Птухи НАН України демографічні втрати України внаслідок Голодомору 1932—1933 роках становлять близько від 4,5 до 7 млн. осіб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CF56-C9FB-4F9E-A5DD-507DFFC0760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6_mocart_rekviemm.mp3" descr=""/>
          <p:cNvPicPr/>
          <p:nvPr/>
        </p:nvPicPr>
        <p:blipFill>
          <a:blip r:embed="rId2"/>
          <a:stretch/>
        </p:blipFill>
        <p:spPr>
          <a:xfrm>
            <a:off x="838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207075" fill="hold"/>
                                        <p:tgtEl>
                                          <p:spTgt spid="4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419640" y="1125360"/>
            <a:ext cx="57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А люди бідні у селі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Неначе злякані ягнята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Позамикалися у хата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Та й мруть . .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         </a:t>
            </a:r>
            <a:r>
              <a:rPr b="0" lang="uk-UA" sz="3200" spc="-1" strike="noStrike">
                <a:solidFill>
                  <a:srgbClr val="a3171e"/>
                </a:solidFill>
                <a:latin typeface="Arial Black"/>
              </a:rPr>
              <a:t>Т.Г. Шевченко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025800" cy="3959280"/>
          </a:xfrm>
          <a:prstGeom prst="rect">
            <a:avLst/>
          </a:prstGeom>
          <a:ln w="0">
            <a:noFill/>
          </a:ln>
        </p:spPr>
      </p:pic>
      <p:sp>
        <p:nvSpPr>
          <p:cNvPr id="289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4E40-E4C3-47DA-9A5E-B7B14265EE5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0" name="6_mocart_rekviemm.mp3" descr=""/>
          <p:cNvPicPr/>
          <p:nvPr/>
        </p:nvPicPr>
        <p:blipFill>
          <a:blip r:embed="rId2"/>
          <a:stretch/>
        </p:blipFill>
        <p:spPr>
          <a:xfrm>
            <a:off x="838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7075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305080" cy="424800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"/>
          <p:cNvSpPr/>
          <p:nvPr/>
        </p:nvSpPr>
        <p:spPr>
          <a:xfrm>
            <a:off x="2843280" y="476280"/>
            <a:ext cx="576108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фіційне вшанування пам'яті жертв Голодомору, в тому числі, визнання його геноцидом українського народу, розпочалося за ініціативи української діаспори у США та Канаді. Так, починаючи з 1983 року, в столиці канадської провінції Альберта місті Едмонтоні, в мерії міста щорічно проводиться відзначення річниці Голодомор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 1988 році Конгрес США, а в 1989 році — Міжнародна комісія юристів офіційно визнали голодомор 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1932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33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років актом геноциду проти української нації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0849-7777-48B7-A981-76FDA02B68C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6_mocart_rekviemm.mp3" descr=""/>
          <p:cNvPicPr/>
          <p:nvPr/>
        </p:nvPicPr>
        <p:blipFill>
          <a:blip r:embed="rId4"/>
          <a:stretch/>
        </p:blipFill>
        <p:spPr>
          <a:xfrm>
            <a:off x="824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07075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240000" cy="3168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2"/>
          <a:stretch/>
        </p:blipFill>
        <p:spPr>
          <a:xfrm>
            <a:off x="3276720" y="4437000"/>
            <a:ext cx="4319640" cy="21607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3"/>
          <p:cNvSpPr/>
          <p:nvPr/>
        </p:nvSpPr>
        <p:spPr>
          <a:xfrm>
            <a:off x="4067280" y="549360"/>
            <a:ext cx="396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Біля входу до мерії м. Едмонт встановлений перший у світі пам'ятний знак на вшанування річниці Голодомору «Розірване кільце життя»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4CDA-1548-4D1E-AB76-A1761111EB0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6_mocart_rekviemm.mp3" descr=""/>
          <p:cNvPicPr/>
          <p:nvPr/>
        </p:nvPicPr>
        <p:blipFill>
          <a:blip r:embed="rId3"/>
          <a:stretch/>
        </p:blipFill>
        <p:spPr>
          <a:xfrm>
            <a:off x="8459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207075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3"/>
          <p:cNvSpPr/>
          <p:nvPr/>
        </p:nvSpPr>
        <p:spPr>
          <a:xfrm>
            <a:off x="4284720" y="620640"/>
            <a:ext cx="4427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Четверта субота листопада в Україні визнана </a:t>
            </a:r>
            <a:r>
              <a:rPr b="1" lang="ru-RU" sz="2000" spc="-1" strike="noStrike">
                <a:solidFill>
                  <a:srgbClr val="ff0000"/>
                </a:solidFill>
                <a:latin typeface="Lucida Sans Unicode"/>
              </a:rPr>
              <a:t>Днем пам'яті жертв  голодоморів</a:t>
            </a: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еморіальні заходи проводяться як в Україні, так і поза її межами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Щорічно, в цей день проводиться </a:t>
            </a: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всеукраїнська акція «Запали свічку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392360" cy="244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673440" cy="2724480"/>
          </a:xfrm>
          <a:prstGeom prst="rect">
            <a:avLst/>
          </a:prstGeom>
          <a:ln w="0">
            <a:noFill/>
          </a:ln>
        </p:spPr>
      </p:pic>
      <p:sp>
        <p:nvSpPr>
          <p:cNvPr id="415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04D0-55E9-4911-BA8C-62F8A877B31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6_mocart_rekviemm.mp3" descr=""/>
          <p:cNvPicPr/>
          <p:nvPr/>
        </p:nvPicPr>
        <p:blipFill>
          <a:blip r:embed="rId3"/>
          <a:stretch/>
        </p:blipFill>
        <p:spPr>
          <a:xfrm>
            <a:off x="399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07075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Выноска со стрелкой вниз 1"/>
          <p:cNvSpPr/>
          <p:nvPr/>
        </p:nvSpPr>
        <p:spPr>
          <a:xfrm>
            <a:off x="2700360" y="404640"/>
            <a:ext cx="4464000" cy="1346400"/>
          </a:xfrm>
          <a:prstGeom prst="downArrowCallout">
            <a:avLst>
              <a:gd name="adj1" fmla="val 24991"/>
              <a:gd name="adj2" fmla="val 25004"/>
              <a:gd name="adj3" fmla="val 25000"/>
              <a:gd name="adj4" fmla="val 64977"/>
            </a:avLst>
          </a:prstGeom>
          <a:solidFill>
            <a:srgbClr val="fbe0d1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Lucida Sans Unicode"/>
              </a:rPr>
              <a:t>ПРИЧИНИ ГОЛОДОМОРУ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395280" y="2492280"/>
            <a:ext cx="1274760" cy="86544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ЗАСУХА,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НЕВРОЖАЙ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1932 РОКУ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2411280" y="2492280"/>
            <a:ext cx="136872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Lucida Sans Unicode"/>
              </a:rPr>
              <a:t>КОЛГОСПНО-РАДГОСПНА СИСТЕМА НЕ ВИПРАВДАЛАСЯ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6084720" y="2421000"/>
            <a:ext cx="1295640" cy="86364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Lucida Sans Unicode"/>
              </a:rPr>
              <a:t>ШКІДНИЦТВО СЕЛЯНСТВА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ВРАГОВ НАРОДУ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Прямоугольник 5"/>
          <p:cNvSpPr/>
          <p:nvPr/>
        </p:nvSpPr>
        <p:spPr>
          <a:xfrm>
            <a:off x="7667640" y="2421000"/>
            <a:ext cx="1297080" cy="8427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ВОЛЮТАРИСТСЬКА ПОЛІТИКА СТАЛІНСЬКОГО 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КЕРІВНИЦТВА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Прямоугольник 6"/>
          <p:cNvSpPr/>
          <p:nvPr/>
        </p:nvSpPr>
        <p:spPr>
          <a:xfrm>
            <a:off x="1619280" y="4508640"/>
            <a:ext cx="129708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Lucida Sans Unicode"/>
              </a:rPr>
              <a:t>ВИВЕЗЕННЯ ЗЕРНА ЗА КОРДОН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Прямоугольник 7"/>
          <p:cNvSpPr/>
          <p:nvPr/>
        </p:nvSpPr>
        <p:spPr>
          <a:xfrm>
            <a:off x="4284720" y="4437000"/>
            <a:ext cx="158256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ЗАВИЩЕНИЙ ПЛАН ХЛІБОЗАГОТІВЕЛЬ 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000000"/>
                </a:solidFill>
                <a:latin typeface="Lucida Sans Unicode"/>
              </a:rPr>
              <a:t>ДЛЯ  УКРАЇНИ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Прямоугольник 8"/>
          <p:cNvSpPr/>
          <p:nvPr/>
        </p:nvSpPr>
        <p:spPr>
          <a:xfrm>
            <a:off x="6948360" y="4437000"/>
            <a:ext cx="136872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1" lang="ru-RU" sz="900" spc="-1" strike="noStrike">
                <a:solidFill>
                  <a:srgbClr val="000000"/>
                </a:solidFill>
                <a:latin typeface="Lucida Sans Unicode"/>
              </a:rPr>
              <a:t>НИЗЬКА ПРОДУКТИВНІСТЬ ПРАЦІ КОЛГОСПНИКІВ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25" name="Прямая со стрелкой 10"/>
          <p:cNvCxnSpPr/>
          <p:nvPr/>
        </p:nvCxnSpPr>
        <p:spPr>
          <a:xfrm flipH="1">
            <a:off x="1691640" y="1341000"/>
            <a:ext cx="1585080" cy="864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6" name="Прямая со стрелкой 12"/>
          <p:cNvCxnSpPr/>
          <p:nvPr/>
        </p:nvCxnSpPr>
        <p:spPr>
          <a:xfrm flipH="1">
            <a:off x="3780000" y="1557360"/>
            <a:ext cx="576360" cy="72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7" name="Прямая со стрелкой 14"/>
          <p:cNvCxnSpPr/>
          <p:nvPr/>
        </p:nvCxnSpPr>
        <p:spPr>
          <a:xfrm flipH="1">
            <a:off x="3131280" y="2060640"/>
            <a:ext cx="1585080" cy="2737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8" name="Прямая со стрелкой 18"/>
          <p:cNvCxnSpPr/>
          <p:nvPr/>
        </p:nvCxnSpPr>
        <p:spPr>
          <a:xfrm>
            <a:off x="4932000" y="2205000"/>
            <a:ext cx="1080" cy="2016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9" name="Прямая со стрелкой 20"/>
          <p:cNvCxnSpPr/>
          <p:nvPr/>
        </p:nvCxnSpPr>
        <p:spPr>
          <a:xfrm>
            <a:off x="5148000" y="2060280"/>
            <a:ext cx="1656360" cy="28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0" name="Прямая со стрелкой 22"/>
          <p:cNvCxnSpPr/>
          <p:nvPr/>
        </p:nvCxnSpPr>
        <p:spPr>
          <a:xfrm>
            <a:off x="5651640" y="1483920"/>
            <a:ext cx="576360" cy="7930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31" name="Прямая со стрелкой 26"/>
          <p:cNvCxnSpPr/>
          <p:nvPr/>
        </p:nvCxnSpPr>
        <p:spPr>
          <a:xfrm>
            <a:off x="7093080" y="1413000"/>
            <a:ext cx="1367280" cy="721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32" name="Прямоугольник 16"/>
          <p:cNvSpPr/>
          <p:nvPr/>
        </p:nvSpPr>
        <p:spPr>
          <a:xfrm>
            <a:off x="3492360" y="5661000"/>
            <a:ext cx="3600720" cy="91440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Завдання щодо </a:t>
            </a:r>
            <a:r>
              <a:rPr b="1" lang="uk-UA" sz="1800" spc="-1" strike="noStrike">
                <a:solidFill>
                  <a:srgbClr val="ff0000"/>
                </a:solidFill>
                <a:latin typeface="Lucida Sans Unicode"/>
              </a:rPr>
              <a:t>знищення українського народу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Номер слайда 1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231E-B1C9-4AED-9DC2-6EDC28B7098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3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3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1f2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1f2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1f2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2"/>
          <p:cNvSpPr/>
          <p:nvPr/>
        </p:nvSpPr>
        <p:spPr>
          <a:xfrm>
            <a:off x="3851280" y="1197000"/>
            <a:ext cx="4753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Один з варіантів картини 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«Людина, що біжить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роботи Казимира Малевича, також відомій під назвою 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«Селянин поміж хрестом і мечем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є звинувачувальним актом Великого Голоду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«Образ селянина, який біжить через пустельний пейзаж, є красномовним свідченням катастрофи.»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7E5D-478A-4C67-9BD7-771F2B71924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6_mocart_rekviemm.mp3" descr=""/>
          <p:cNvPicPr/>
          <p:nvPr/>
        </p:nvPicPr>
        <p:blipFill>
          <a:blip r:embed="rId2"/>
          <a:stretch/>
        </p:blipFill>
        <p:spPr>
          <a:xfrm>
            <a:off x="8101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207075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"/>
          <p:cNvSpPr/>
          <p:nvPr/>
        </p:nvSpPr>
        <p:spPr>
          <a:xfrm>
            <a:off x="4356000" y="69228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Із тридцять третім голим рок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Голодно-голим та німи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а тричі пухлим. Хай би з ни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їли б кору і комор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аву і шкуру, цвіль і мі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а мерли б жовті, як з похміл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Без трун понесені із двор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ізащо. Просто. Без вин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Прямоугольник 2"/>
          <p:cNvSpPr/>
          <p:nvPr/>
        </p:nvSpPr>
        <p:spPr>
          <a:xfrm>
            <a:off x="6156360" y="4292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ндрій Малишк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744720" cy="4392360"/>
          </a:xfrm>
          <a:prstGeom prst="rect">
            <a:avLst/>
          </a:prstGeom>
          <a:ln w="0">
            <a:noFill/>
          </a:ln>
        </p:spPr>
      </p:pic>
      <p:sp>
        <p:nvSpPr>
          <p:cNvPr id="441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8A29-C0D4-442F-9E7C-6CA3C0B6F9F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6_mocart_rekviemm.mp3" descr=""/>
          <p:cNvPicPr/>
          <p:nvPr/>
        </p:nvPicPr>
        <p:blipFill>
          <a:blip r:embed="rId2"/>
          <a:stretch/>
        </p:blipFill>
        <p:spPr>
          <a:xfrm>
            <a:off x="8172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707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"/>
          <p:cNvSpPr/>
          <p:nvPr/>
        </p:nvSpPr>
        <p:spPr>
          <a:xfrm>
            <a:off x="395280" y="549360"/>
            <a:ext cx="835344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Домашне завданн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на вибір учнів</a:t>
            </a:r>
            <a:r>
              <a:rPr b="0" lang="uk-UA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1. Написати твір-роздум “Голодомор 1932-1933 рр. – геноцид українського народу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2. Скласти тести для самоконтролю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за темою “Голодомор 1932-1933 рр. в Україні”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3. Скласти порівняльну таблицю “Голод 1921-1922 рр.в Україні” та “Голодомор 1932-1933 рр. в Україні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BA77-3084-4EDF-B72D-9897AD65F68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3"/>
          <p:cNvSpPr/>
          <p:nvPr/>
        </p:nvSpPr>
        <p:spPr>
          <a:xfrm>
            <a:off x="2700360" y="404640"/>
            <a:ext cx="3527280" cy="1274760"/>
          </a:xfrm>
          <a:prstGeom prst="rect">
            <a:avLst/>
          </a:prstGeom>
          <a:solidFill>
            <a:srgbClr val="def5fa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3171e"/>
                </a:solidFill>
                <a:latin typeface="Lucida Sans Unicode"/>
                <a:ea typeface="바탕"/>
              </a:rPr>
              <a:t>АСОЦ</a:t>
            </a:r>
            <a:r>
              <a:rPr b="1" i="1" lang="uk-UA" sz="2800" spc="-1" strike="noStrike">
                <a:solidFill>
                  <a:srgbClr val="a3171e"/>
                </a:solidFill>
                <a:latin typeface="Lucida Sans Unicode"/>
                <a:ea typeface="바탕"/>
              </a:rPr>
              <a:t>ІАТИВНИЙ КУЩ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Овал 4"/>
          <p:cNvSpPr/>
          <p:nvPr/>
        </p:nvSpPr>
        <p:spPr>
          <a:xfrm>
            <a:off x="3132000" y="3068640"/>
            <a:ext cx="3095640" cy="1440000"/>
          </a:xfrm>
          <a:prstGeom prst="ellipse">
            <a:avLst/>
          </a:prstGeom>
          <a:solidFill>
            <a:srgbClr val="f2f2f2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Lucida Sans Unicode"/>
              </a:rPr>
              <a:t>МОДЕРНІЗАЦІ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6156360" y="4005360"/>
            <a:ext cx="151200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4" name="Прямая со стрелкой 15"/>
          <p:cNvCxnSpPr/>
          <p:nvPr/>
        </p:nvCxnSpPr>
        <p:spPr>
          <a:xfrm flipH="1">
            <a:off x="3563640" y="4436640"/>
            <a:ext cx="288000" cy="1080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295" name="Прямая со стрелкой 17"/>
          <p:cNvCxnSpPr/>
          <p:nvPr/>
        </p:nvCxnSpPr>
        <p:spPr>
          <a:xfrm>
            <a:off x="5580000" y="4436640"/>
            <a:ext cx="432720" cy="1080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296" name="TextBox 18"/>
          <p:cNvSpPr/>
          <p:nvPr/>
        </p:nvSpPr>
        <p:spPr>
          <a:xfrm>
            <a:off x="900000" y="2492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ОНОВЛЕНН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324000" y="443700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УДОСКОНАЛЕНН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6659640" y="2349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ЕРЕТВОРЕНН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TextBox 21"/>
          <p:cNvSpPr/>
          <p:nvPr/>
        </p:nvSpPr>
        <p:spPr>
          <a:xfrm>
            <a:off x="2050920" y="5589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РЕКОНСТРУК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6948360" y="45086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МОДІФІКА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TextBox 24"/>
          <p:cNvSpPr/>
          <p:nvPr/>
        </p:nvSpPr>
        <p:spPr>
          <a:xfrm>
            <a:off x="6084720" y="5516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АПГРЕЙ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02" name="Прямая со стрелкой 28"/>
          <p:cNvCxnSpPr>
            <a:stCxn id="292" idx="1"/>
          </p:cNvCxnSpPr>
          <p:nvPr/>
        </p:nvCxnSpPr>
        <p:spPr>
          <a:xfrm flipH="1" flipV="1">
            <a:off x="2771280" y="2565000"/>
            <a:ext cx="813600" cy="7149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3" name="Прямая со стрелкой 32"/>
          <p:cNvCxnSpPr/>
          <p:nvPr/>
        </p:nvCxnSpPr>
        <p:spPr>
          <a:xfrm flipV="1">
            <a:off x="5724000" y="2491560"/>
            <a:ext cx="886680" cy="7167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4" name="Прямая со стрелкой 34"/>
          <p:cNvCxnSpPr/>
          <p:nvPr/>
        </p:nvCxnSpPr>
        <p:spPr>
          <a:xfrm flipH="1">
            <a:off x="1907280" y="4005000"/>
            <a:ext cx="1318680" cy="3546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5" name="Номер слайда 2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89D9-D7E3-4D8D-ADFA-3764B52DC5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155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155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115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15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155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155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115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115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155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1155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115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115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155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1155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1155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1155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155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155" fill="hold"/>
                                        <p:tgtEl>
                                          <p:spTgt spid="2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1155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1155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155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1155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115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115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1"/>
          <p:cNvSpPr/>
          <p:nvPr/>
        </p:nvSpPr>
        <p:spPr>
          <a:xfrm>
            <a:off x="2843280" y="1484280"/>
            <a:ext cx="3673440" cy="1368360"/>
          </a:xfrm>
          <a:prstGeom prst="ellipse">
            <a:avLst/>
          </a:prstGeom>
          <a:gradFill rotWithShape="0">
            <a:gsLst>
              <a:gs pos="0">
                <a:srgbClr val="a6a6a6"/>
              </a:gs>
              <a:gs pos="100000">
                <a:srgbClr val="e3e3e3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3171e"/>
                </a:solidFill>
                <a:latin typeface="Lucida Sans Unicode"/>
              </a:rPr>
              <a:t>РАДЯНСЬК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3171e"/>
                </a:solidFill>
                <a:latin typeface="Lucida Sans Unicode"/>
              </a:rPr>
              <a:t>МОДЕРНІЗА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07" name="Прямая со стрелкой 3"/>
          <p:cNvCxnSpPr/>
          <p:nvPr/>
        </p:nvCxnSpPr>
        <p:spPr>
          <a:xfrm flipH="1">
            <a:off x="1979280" y="2565360"/>
            <a:ext cx="93744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08" name="Прямая со стрелкой 6"/>
          <p:cNvCxnSpPr/>
          <p:nvPr/>
        </p:nvCxnSpPr>
        <p:spPr>
          <a:xfrm>
            <a:off x="6372000" y="2420640"/>
            <a:ext cx="610200" cy="5180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09" name="Овал 10"/>
          <p:cNvSpPr/>
          <p:nvPr/>
        </p:nvSpPr>
        <p:spPr>
          <a:xfrm>
            <a:off x="324000" y="3068640"/>
            <a:ext cx="3743280" cy="1152360"/>
          </a:xfrm>
          <a:prstGeom prst="ellipse">
            <a:avLst/>
          </a:prstGeom>
          <a:gradFill rotWithShape="0">
            <a:gsLst>
              <a:gs pos="0">
                <a:srgbClr val="c4a4a9"/>
              </a:gs>
              <a:gs pos="100000">
                <a:srgbClr val="eee0e2"/>
              </a:gs>
            </a:gsLst>
            <a:lin ang="16200000"/>
          </a:gradFill>
          <a:ln w="9360">
            <a:solidFill>
              <a:srgbClr val="7d3c4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ФОРСОВАН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ІНДУСТРІАЛІЗА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Овал 11"/>
          <p:cNvSpPr/>
          <p:nvPr/>
        </p:nvSpPr>
        <p:spPr>
          <a:xfrm>
            <a:off x="5292720" y="2997360"/>
            <a:ext cx="3456000" cy="1152360"/>
          </a:xfrm>
          <a:prstGeom prst="ellipse">
            <a:avLst/>
          </a:prstGeom>
          <a:solidFill>
            <a:srgbClr val="ead3d8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СУЦІЛЬН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КОЛЕКТИВІЗАЦІ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Скругленный прямоугольник 14"/>
          <p:cNvSpPr/>
          <p:nvPr/>
        </p:nvSpPr>
        <p:spPr>
          <a:xfrm>
            <a:off x="1908000" y="260280"/>
            <a:ext cx="5832720" cy="914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54a10"/>
                </a:solidFill>
                <a:latin typeface="Lucida Sans Unicode"/>
              </a:rPr>
              <a:t>СТАЛІНСЬКА МОДЕЛЬ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54a10"/>
                </a:solidFill>
                <a:latin typeface="Lucida Sans Unicode"/>
              </a:rPr>
              <a:t>СОЦІАЛІСТИЧНОЇ ЕКОНОМІ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Выноска со стрелкой вверх 16"/>
          <p:cNvSpPr/>
          <p:nvPr/>
        </p:nvSpPr>
        <p:spPr>
          <a:xfrm>
            <a:off x="3419640" y="4149720"/>
            <a:ext cx="2520720" cy="1582920"/>
          </a:xfrm>
          <a:prstGeom prst="upArrowCallout">
            <a:avLst>
              <a:gd name="adj1" fmla="val 25024"/>
              <a:gd name="adj2" fmla="val 25022"/>
              <a:gd name="adj3" fmla="val 25000"/>
              <a:gd name="adj4" fmla="val 70041"/>
            </a:avLst>
          </a:prstGeom>
          <a:solidFill>
            <a:srgbClr val="f9d1d3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Lucida Sans Unicode"/>
                <a:ea typeface="Aharoni"/>
              </a:rPr>
              <a:t>ТЕРОР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Номер слайда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3597-78B9-41C6-920A-CF7B6D07CB1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5AC3-AE2D-47E1-8E38-E9D8AFC104A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Пятиугольник 2"/>
          <p:cNvSpPr/>
          <p:nvPr/>
        </p:nvSpPr>
        <p:spPr>
          <a:xfrm>
            <a:off x="179280" y="907920"/>
            <a:ext cx="2059200" cy="865440"/>
          </a:xfrm>
          <a:custGeom>
            <a:avLst/>
            <a:gdLst>
              <a:gd name="textAreaLeft" fmla="*/ 0 w 2059200"/>
              <a:gd name="textAreaRight" fmla="*/ 2059560 w 20592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7" y="0"/>
                </a:lnTo>
                <a:lnTo>
                  <a:pt x="21600" y="10800"/>
                </a:lnTo>
                <a:lnTo>
                  <a:pt x="170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сована індустріалізація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Нашивка 3"/>
          <p:cNvSpPr/>
          <p:nvPr/>
        </p:nvSpPr>
        <p:spPr>
          <a:xfrm>
            <a:off x="2268360" y="907920"/>
            <a:ext cx="2159280" cy="792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0" y="0"/>
                </a:lnTo>
                <a:lnTo>
                  <a:pt x="21600" y="10800"/>
                </a:lnTo>
                <a:lnTo>
                  <a:pt x="17640" y="21600"/>
                </a:lnTo>
                <a:lnTo>
                  <a:pt x="0" y="21600"/>
                </a:lnTo>
                <a:lnTo>
                  <a:pt x="3960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Lucida Sans Unicode"/>
              </a:rPr>
              <a:t>Перекачування коштів з села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Нашивка 4"/>
          <p:cNvSpPr/>
          <p:nvPr/>
        </p:nvSpPr>
        <p:spPr>
          <a:xfrm>
            <a:off x="4284720" y="981000"/>
            <a:ext cx="2374920" cy="79236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lnTo>
                  <a:pt x="3600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Моральне стимулюванн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Нашивка 5"/>
          <p:cNvSpPr/>
          <p:nvPr/>
        </p:nvSpPr>
        <p:spPr>
          <a:xfrm>
            <a:off x="6588000" y="981000"/>
            <a:ext cx="2376720" cy="792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lnTo>
                  <a:pt x="3600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Lucida Sans Unicode"/>
              </a:rPr>
              <a:t>Організація соціалістичного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Lucida Sans Unicode"/>
              </a:rPr>
              <a:t>змагання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Нашивка 6"/>
          <p:cNvSpPr/>
          <p:nvPr/>
        </p:nvSpPr>
        <p:spPr>
          <a:xfrm>
            <a:off x="468360" y="2133720"/>
            <a:ext cx="2284200" cy="93492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75" y="0"/>
                </a:lnTo>
                <a:lnTo>
                  <a:pt x="21600" y="10800"/>
                </a:lnTo>
                <a:lnTo>
                  <a:pt x="17175" y="21600"/>
                </a:lnTo>
                <a:lnTo>
                  <a:pt x="0" y="21600"/>
                </a:lnTo>
                <a:lnTo>
                  <a:pt x="4425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Трудовий ентузіазм народу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Нашивка 7"/>
          <p:cNvSpPr/>
          <p:nvPr/>
        </p:nvSpPr>
        <p:spPr>
          <a:xfrm>
            <a:off x="3419640" y="2205000"/>
            <a:ext cx="2447640" cy="84456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4" y="0"/>
                </a:lnTo>
                <a:lnTo>
                  <a:pt x="21600" y="10800"/>
                </a:lnTo>
                <a:lnTo>
                  <a:pt x="17874" y="21600"/>
                </a:lnTo>
                <a:lnTo>
                  <a:pt x="0" y="21600"/>
                </a:lnTo>
                <a:lnTo>
                  <a:pt x="3726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Штурмівщин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Нашивка 8"/>
          <p:cNvSpPr/>
          <p:nvPr/>
        </p:nvSpPr>
        <p:spPr>
          <a:xfrm>
            <a:off x="6227640" y="2205000"/>
            <a:ext cx="2665440" cy="93672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05" y="0"/>
                </a:lnTo>
                <a:lnTo>
                  <a:pt x="21600" y="10800"/>
                </a:lnTo>
                <a:lnTo>
                  <a:pt x="17805" y="21600"/>
                </a:lnTo>
                <a:lnTo>
                  <a:pt x="0" y="21600"/>
                </a:lnTo>
                <a:lnTo>
                  <a:pt x="3795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Необ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ґ</a:t>
            </a: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рунтоване  зростання виробничих норм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Нашивка 9"/>
          <p:cNvSpPr/>
          <p:nvPr/>
        </p:nvSpPr>
        <p:spPr>
          <a:xfrm>
            <a:off x="468360" y="3860640"/>
            <a:ext cx="2374920" cy="84456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61" y="0"/>
                </a:lnTo>
                <a:lnTo>
                  <a:pt x="21600" y="10800"/>
                </a:lnTo>
                <a:lnTo>
                  <a:pt x="17761" y="21600"/>
                </a:lnTo>
                <a:lnTo>
                  <a:pt x="0" y="21600"/>
                </a:lnTo>
                <a:lnTo>
                  <a:pt x="3839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Важливість ні якості, а кількості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Нашивка 10"/>
          <p:cNvSpPr/>
          <p:nvPr/>
        </p:nvSpPr>
        <p:spPr>
          <a:xfrm>
            <a:off x="3564000" y="3860640"/>
            <a:ext cx="2376360" cy="86364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0" y="21600"/>
                </a:lnTo>
                <a:lnTo>
                  <a:pt x="3927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Lucida Sans Unicode"/>
              </a:rPr>
              <a:t>Зріст травматизму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Нашивка 11"/>
          <p:cNvSpPr/>
          <p:nvPr/>
        </p:nvSpPr>
        <p:spPr>
          <a:xfrm>
            <a:off x="6227640" y="3860640"/>
            <a:ext cx="2448000" cy="93672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71" y="0"/>
                </a:lnTo>
                <a:lnTo>
                  <a:pt x="21600" y="10800"/>
                </a:lnTo>
                <a:lnTo>
                  <a:pt x="17471" y="21600"/>
                </a:lnTo>
                <a:lnTo>
                  <a:pt x="0" y="21600"/>
                </a:lnTo>
                <a:lnTo>
                  <a:pt x="4129" y="108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риписк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Выноска со стрелкой влево 13"/>
          <p:cNvSpPr/>
          <p:nvPr/>
        </p:nvSpPr>
        <p:spPr>
          <a:xfrm>
            <a:off x="2987640" y="5229360"/>
            <a:ext cx="5184720" cy="1439640"/>
          </a:xfrm>
          <a:prstGeom prst="leftArrowCallout">
            <a:avLst>
              <a:gd name="adj1" fmla="val 25002"/>
              <a:gd name="adj2" fmla="val 26537"/>
              <a:gd name="adj3" fmla="val 25010"/>
              <a:gd name="adj4" fmla="val 64983"/>
            </a:avLst>
          </a:prstGeom>
          <a:solidFill>
            <a:srgbClr val="ffffff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Погіршення життєвого рівн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населенн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Блок-схема: знак завершения 14"/>
          <p:cNvSpPr/>
          <p:nvPr/>
        </p:nvSpPr>
        <p:spPr>
          <a:xfrm>
            <a:off x="1258920" y="189000"/>
            <a:ext cx="6121440" cy="503280"/>
          </a:xfrm>
          <a:prstGeom prst="flowChartTerminator">
            <a:avLst/>
          </a:prstGeom>
          <a:solidFill>
            <a:srgbClr val="f9d1d3"/>
          </a:solidFill>
          <a:ln w="550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Lucida Sans Unicode"/>
              </a:rPr>
              <a:t>МЕТОДИ ТА НАСЛІДКИ ІНДУСТРІАЛІЗАЦІЇ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ED0E-31E4-4103-A86F-C575F0BAF19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Блок-схема: знак завершения 2"/>
          <p:cNvSpPr/>
          <p:nvPr/>
        </p:nvSpPr>
        <p:spPr>
          <a:xfrm>
            <a:off x="1835280" y="260280"/>
            <a:ext cx="5329080" cy="720720"/>
          </a:xfrm>
          <a:prstGeom prst="flowChartTerminator">
            <a:avLst/>
          </a:prstGeom>
          <a:solidFill>
            <a:srgbClr val="fbe0d1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МЕТОДИ ТА НАСЛІДКИ КОЛЕКТИВІЗАЦІЇ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Овал 3"/>
          <p:cNvSpPr/>
          <p:nvPr/>
        </p:nvSpPr>
        <p:spPr>
          <a:xfrm>
            <a:off x="684360" y="1268280"/>
            <a:ext cx="2087280" cy="505080"/>
          </a:xfrm>
          <a:prstGeom prst="ellipse">
            <a:avLst/>
          </a:prstGeom>
          <a:solidFill>
            <a:srgbClr val="ead3d8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МЕТОД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Овал 4"/>
          <p:cNvSpPr/>
          <p:nvPr/>
        </p:nvSpPr>
        <p:spPr>
          <a:xfrm>
            <a:off x="5724360" y="1125360"/>
            <a:ext cx="1943280" cy="503280"/>
          </a:xfrm>
          <a:prstGeom prst="ellipse">
            <a:avLst/>
          </a:prstGeom>
          <a:solidFill>
            <a:srgbClr val="ead3d8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НАСЛІДК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Блок-схема: процесс 6"/>
          <p:cNvSpPr/>
          <p:nvPr/>
        </p:nvSpPr>
        <p:spPr>
          <a:xfrm>
            <a:off x="2050920" y="2276640"/>
            <a:ext cx="1368720" cy="86508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Lucida Sans Unicode"/>
              </a:rPr>
              <a:t>НАСИЛЬНИЦЬКЕ СТВОРЕННЯ КОЛГОПІВ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Блок-схема: процесс 7"/>
          <p:cNvSpPr/>
          <p:nvPr/>
        </p:nvSpPr>
        <p:spPr>
          <a:xfrm>
            <a:off x="1116000" y="3645000"/>
            <a:ext cx="1490760" cy="86364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Lucida Sans Unicode"/>
              </a:rPr>
              <a:t>РОЗКУРКУЛЕННЯ СЕЛЯНСТВА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Блок-схема: процесс 8"/>
          <p:cNvSpPr/>
          <p:nvPr/>
        </p:nvSpPr>
        <p:spPr>
          <a:xfrm>
            <a:off x="4140360" y="1916280"/>
            <a:ext cx="1993680" cy="115236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Lucida Sans Unicode"/>
              </a:rPr>
              <a:t>Знищена основа сільського господарства -міцні селянські господарства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Блок-схема: процесс 9"/>
          <p:cNvSpPr/>
          <p:nvPr/>
        </p:nvSpPr>
        <p:spPr>
          <a:xfrm>
            <a:off x="7093080" y="1916280"/>
            <a:ext cx="1800000" cy="115236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Колгоспна система-форма закріпачення селя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Блок-схема: процесс 10"/>
          <p:cNvSpPr/>
          <p:nvPr/>
        </p:nvSpPr>
        <p:spPr>
          <a:xfrm>
            <a:off x="4067280" y="3284640"/>
            <a:ext cx="2089080" cy="122400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Біля 80 тис. люд.вислані у Сибір, на північ,частина загинула в дорозі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Блок-схема: процесс 11"/>
          <p:cNvSpPr/>
          <p:nvPr/>
        </p:nvSpPr>
        <p:spPr>
          <a:xfrm>
            <a:off x="7164360" y="3357720"/>
            <a:ext cx="1800360" cy="115092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Lucida Sans Unicode"/>
              </a:rPr>
              <a:t>Злам устоїв сільського господарств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Блок-схема: процесс 12"/>
          <p:cNvSpPr/>
          <p:nvPr/>
        </p:nvSpPr>
        <p:spPr>
          <a:xfrm>
            <a:off x="4067280" y="4797360"/>
            <a:ext cx="2089080" cy="115272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Lucida Sans Unicode"/>
              </a:rPr>
              <a:t>Держава отримала засоби для індустріалізації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Блок-схема: процесс 13"/>
          <p:cNvSpPr/>
          <p:nvPr/>
        </p:nvSpPr>
        <p:spPr>
          <a:xfrm>
            <a:off x="7093080" y="4797360"/>
            <a:ext cx="1871640" cy="122400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da1f28"/>
                </a:solidFill>
                <a:latin typeface="Lucida Sans Unicode"/>
              </a:rPr>
              <a:t>ГОЛОДОМОР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Блок-схема: процесс 14"/>
          <p:cNvSpPr/>
          <p:nvPr/>
        </p:nvSpPr>
        <p:spPr>
          <a:xfrm>
            <a:off x="179280" y="2276640"/>
            <a:ext cx="1440000" cy="828360"/>
          </a:xfrm>
          <a:prstGeom prst="flowChartProcess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Lucida Sans Unicode"/>
              </a:rPr>
              <a:t>СУЦІЛЬНА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Lucida Sans Unicode"/>
              </a:rPr>
              <a:t>КОЛЕКТИВІЗАЦІЯ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40" name="Прямая со стрелкой 18"/>
          <p:cNvCxnSpPr>
            <a:stCxn id="329" idx="4"/>
          </p:cNvCxnSpPr>
          <p:nvPr/>
        </p:nvCxnSpPr>
        <p:spPr>
          <a:xfrm>
            <a:off x="1726920" y="1773000"/>
            <a:ext cx="37080" cy="1727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1" name="Прямая со стрелкой 22"/>
          <p:cNvCxnSpPr>
            <a:stCxn id="329" idx="4"/>
            <a:endCxn id="339" idx="0"/>
          </p:cNvCxnSpPr>
          <p:nvPr/>
        </p:nvCxnSpPr>
        <p:spPr>
          <a:xfrm flipH="1">
            <a:off x="899640" y="1773360"/>
            <a:ext cx="82800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2" name="Прямая со стрелкой 24"/>
          <p:cNvCxnSpPr>
            <a:stCxn id="329" idx="4"/>
            <a:endCxn id="331" idx="0"/>
          </p:cNvCxnSpPr>
          <p:nvPr/>
        </p:nvCxnSpPr>
        <p:spPr>
          <a:xfrm>
            <a:off x="1727280" y="1773360"/>
            <a:ext cx="100872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3" name="Прямая со стрелкой 26"/>
          <p:cNvCxnSpPr>
            <a:stCxn id="330" idx="4"/>
            <a:endCxn id="337" idx="3"/>
          </p:cNvCxnSpPr>
          <p:nvPr/>
        </p:nvCxnSpPr>
        <p:spPr>
          <a:xfrm flipH="1">
            <a:off x="6155640" y="1628280"/>
            <a:ext cx="540360" cy="3745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4" name="Прямая со стрелкой 28"/>
          <p:cNvCxnSpPr>
            <a:stCxn id="330" idx="4"/>
            <a:endCxn id="338" idx="1"/>
          </p:cNvCxnSpPr>
          <p:nvPr/>
        </p:nvCxnSpPr>
        <p:spPr>
          <a:xfrm>
            <a:off x="6695640" y="1628640"/>
            <a:ext cx="397800" cy="3780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5" name="Прямая со стрелкой 32"/>
          <p:cNvCxnSpPr>
            <a:stCxn id="330" idx="4"/>
            <a:endCxn id="335" idx="3"/>
          </p:cNvCxnSpPr>
          <p:nvPr/>
        </p:nvCxnSpPr>
        <p:spPr>
          <a:xfrm flipH="1">
            <a:off x="6155640" y="1628640"/>
            <a:ext cx="540360" cy="2269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6" name="Прямая со стрелкой 34"/>
          <p:cNvCxnSpPr>
            <a:stCxn id="330" idx="4"/>
            <a:endCxn id="336" idx="1"/>
          </p:cNvCxnSpPr>
          <p:nvPr/>
        </p:nvCxnSpPr>
        <p:spPr>
          <a:xfrm>
            <a:off x="6695640" y="1628280"/>
            <a:ext cx="469080" cy="23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7" name="Прямая со стрелкой 36"/>
          <p:cNvCxnSpPr>
            <a:stCxn id="330" idx="2"/>
            <a:endCxn id="333" idx="0"/>
          </p:cNvCxnSpPr>
          <p:nvPr/>
        </p:nvCxnSpPr>
        <p:spPr>
          <a:xfrm flipH="1">
            <a:off x="5136480" y="1376280"/>
            <a:ext cx="587880" cy="540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48" name="Прямая со стрелкой 38"/>
          <p:cNvCxnSpPr>
            <a:stCxn id="330" idx="6"/>
            <a:endCxn id="334" idx="0"/>
          </p:cNvCxnSpPr>
          <p:nvPr/>
        </p:nvCxnSpPr>
        <p:spPr>
          <a:xfrm>
            <a:off x="7667640" y="1376280"/>
            <a:ext cx="326160" cy="540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32000" cy="38876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4643280" y="119700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ротягом січня – листопада 1930 року в Україні було заготовлено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400 млн. пудів хліб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такий же період 1931 р. державні заготівлі становил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80 млн. пудів хліб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4500720" y="400536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се це було досягнут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 рахунок знекровлення сел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DA4E-2539-4BE3-854E-5B93FB2A43B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5184720" cy="38163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5867280" y="177336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У 1931 році у селя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вилучили все зерно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у тому числі і увесь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посівний фонд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5796000" y="36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зимку 1931-1932 р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«привид» голоду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же стука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двері селянських хат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Номер слайда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B31E-E1FD-4813-9D72-FC71D6BB30F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200720" cy="5185080"/>
          </a:xfrm>
          <a:prstGeom prst="rect">
            <a:avLst/>
          </a:prstGeom>
          <a:ln w="0">
            <a:noFill/>
          </a:ln>
        </p:spPr>
      </p:pic>
      <p:sp>
        <p:nvSpPr>
          <p:cNvPr id="358" name="TextBox 2"/>
          <p:cNvSpPr/>
          <p:nvPr/>
        </p:nvSpPr>
        <p:spPr>
          <a:xfrm>
            <a:off x="3924360" y="59342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Lucida Sans Unicode"/>
              </a:rPr>
              <a:t>Закон від 7 серпня 1932 року – “Закон про п'ять колосків”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F754-E9F8-4C89-856B-C164B34D52B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09:28:30Z</dcterms:created>
  <dc:creator>User</dc:creator>
  <dc:description/>
  <dc:language>en-US</dc:language>
  <cp:lastModifiedBy>Admin</cp:lastModifiedBy>
  <dcterms:modified xsi:type="dcterms:W3CDTF">2014-03-13T12:45:38Z</dcterms:modified>
  <cp:revision>117</cp:revision>
  <dc:subject/>
  <dc:title>ГОЛОДОМОР  В УКРАІНІ  в  1932-1933 ро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4000000000001024140</vt:lpwstr>
  </property>
</Properties>
</file>