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D42E-AE57-4811-B9D5-F8DB39A4D9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3F78-6EE5-4F95-944F-D9DBC0B62F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110-C450-4147-A586-76BE02BF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5FA-C246-4382-80DD-7BE50B3E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1BA-A943-4422-A411-AD3A3BF6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C76-FFEF-4A8C-8605-D1A9B2DA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7114-7261-43D4-A66C-AFBB354B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3B79-1062-406F-842D-1AAB0F6D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81D9-B940-4D05-8117-7C55CB58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1A6C-E6CE-48E2-9A25-505EAB3C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494B-1A71-42D1-8C15-F40369C3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22B7-5D39-4765-93FB-F919DA90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65C7-2FA0-4B53-A258-9E6B331E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ADA-D296-4DAA-BAE7-001561FD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599A-B858-4F32-9B08-92C9DDFE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B3DC-A035-4681-9876-25024353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6C51-41D1-4C79-B894-C278FD3D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74CB-49F4-4563-B36F-5FD68ED0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CB4F-1B8A-4224-9D9F-8E3A939F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853B-B123-4F70-95E7-C2BDD674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7D05-3F8B-4AD0-B084-AF21C70B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25581-EBED-470A-B855-F674F4D5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23FBB-A131-455F-8105-E7615599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05DB4-3F21-4C12-B583-CCA0AE09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120-1A6C-4BA3-8F23-361E3F80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12259-BF60-4465-A526-C667DFA7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CA2F1-0A66-4E00-BF24-AFE417EC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4AE0C-AF8B-4CAC-9829-49559D9E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ABC12-5824-4527-B087-AF5ED41D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0B9B7-DFA6-47B5-970F-10B14904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7DDF3-EB9D-4454-8DF4-1364ED39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59E7F-4DE7-4D15-A90F-CE29C7DF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1124C-60EC-4FAA-808A-38D3AD14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D00B5-E3C4-4C42-9BB0-5426F41B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EA65-44C0-4229-89EA-FB365936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001-787A-4D65-988C-9E61C358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0A7DC-4FAE-449D-A091-098CE16E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61EC7-0613-47CA-882C-E35ADC1C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3D59-77A1-4669-A018-AE3FEDA7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563D5-F9F6-47D0-8115-8CEC9A78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516A3-687F-451A-BD5E-63087C6A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A9B3-0C85-4679-89F3-AC3E03A5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6CF0-8361-4D54-A1A6-6328A3B0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5991D-8C5D-4694-9022-F4DBF706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F0D39-B1FB-425E-BCAF-6CD62FD2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7B67-2ADA-422C-B9E6-244FFC08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921-0394-4C4A-BFB3-631C5299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52602-02A8-4256-8CAB-F77DD198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C138F-CA09-4333-A6FA-8913C4EC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725E7-3E51-45FA-A708-BE19B9C1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269BB-E84F-428A-85B2-28687DCD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08070-3421-4F0A-B6E2-26B75078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3C989-1E90-4614-90E4-5A0901E8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82B98-921B-4089-AA88-F47BFE88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B8BBD-8324-4875-AEA3-F5A4BE24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6E07E-DBFD-41A5-80A9-4BE18265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9E8A2-A79D-43FD-BE91-B94A5FFD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9FA-4271-428B-899C-C439CA2A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7D74D-8717-4FDA-9EFE-48728F94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6F24C-9B8D-4C1F-AD0A-5CE05D04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391B5-47D0-4055-88FF-44BEC72E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1A6B3-AF04-4CB3-98AE-DA09F7D9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623F2-4A6C-4E37-8B3B-B78CB962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0D442-65E9-468E-AB15-1E35333C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72FDD-ACCA-4AC0-B8B2-7F349262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82528-092E-4DD1-88FA-250AF24E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139B1-B0E3-4C68-A5FB-FA4DD018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91CA6-F51F-4974-B0BD-1FEA932D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D9D-02FE-46A6-AF82-F08F38A1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1388E-DFEA-4228-8246-62F10A68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73F33-FA2D-45CF-9818-07679606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0A4B1-F121-4853-97E4-91B850A1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544-E8C3-496F-9B5A-AB002513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407-75E2-4C6C-9265-AD951D96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2081-8CAF-4C25-BE5F-B6E375C224B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62E3-E28E-4F86-9F80-051DA935A0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184E-B98C-483A-809E-56B34EBB1A07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3128-B277-403F-A9E5-8AB4D165105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7CE9-F433-405A-AA95-110C8982A10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04F3-5FEB-4A38-BC3E-8AA0D6CB94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B265-CFF2-4942-91E5-E37565AEC5A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0D24-3468-4678-8FB8-E91C08DAC8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B77D-5A12-4158-B604-6CCD9D535A4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B513-CF29-4123-BEAF-5F57D8BB36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Полилиния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29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9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2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08CD-568C-4BAA-9FC4-0033E65B084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FFCB-3ABB-4801-9BE6-B3ACFEA68C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uk.wikipedia.org/wiki/1932" TargetMode="External"/><Relationship Id="rId3" Type="http://schemas.openxmlformats.org/officeDocument/2006/relationships/hyperlink" Target="http://uk.wikipedia.org/wiki/1933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4492800" y="360360"/>
            <a:ext cx="4779720" cy="28638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50560" y="3644640"/>
            <a:ext cx="8497800" cy="158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a3171e"/>
                </a:solidFill>
                <a:latin typeface="Lucida Sans Unicode"/>
              </a:rPr>
              <a:t>УРОК-СУ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464646"/>
                </a:solidFill>
                <a:latin typeface="Lucida Sans Unicode"/>
              </a:rPr>
              <a:t>Урок з історії України в 10 класі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64646"/>
                </a:solidFill>
                <a:latin typeface="Lucida Sans Unicode"/>
              </a:rPr>
              <a:t>Вчитель історії Сезонова Л.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392360" cy="3673440"/>
          </a:xfrm>
          <a:prstGeom prst="rect">
            <a:avLst/>
          </a:prstGeom>
          <a:ln w="0">
            <a:noFill/>
          </a:ln>
        </p:spPr>
      </p:pic>
      <p:pic>
        <p:nvPicPr>
          <p:cNvPr id="286" name="hor_ukr.radio_-_rekviem_Mocarta_(iPlayer.fm).mp3" descr=""/>
          <p:cNvPicPr/>
          <p:nvPr/>
        </p:nvPicPr>
        <p:blipFill>
          <a:blip r:embed="rId3"/>
          <a:stretch/>
        </p:blipFill>
        <p:spPr>
          <a:xfrm>
            <a:off x="47520" y="45086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007320" cy="4353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2"/>
          <p:cNvSpPr/>
          <p:nvPr/>
        </p:nvSpPr>
        <p:spPr>
          <a:xfrm>
            <a:off x="3564000" y="5516640"/>
            <a:ext cx="34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Колгоспники за обідом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0E51-5CF2-421F-B12D-39096936D1B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951280" cy="3240000"/>
          </a:xfrm>
          <a:prstGeom prst="rect">
            <a:avLst/>
          </a:prstGeom>
          <a:ln w="0">
            <a:noFill/>
          </a:ln>
        </p:spPr>
      </p:pic>
      <p:sp>
        <p:nvSpPr>
          <p:cNvPr id="364" name="TextBox 3"/>
          <p:cNvSpPr/>
          <p:nvPr/>
        </p:nvSpPr>
        <p:spPr>
          <a:xfrm>
            <a:off x="670680" y="4221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В'ячеслав Молото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(1890-1986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3635280" y="907920"/>
            <a:ext cx="532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В Україні хлібозаготівельну компанію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очолював В.М. Молот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Саме Молотов визначив значно завищений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план хлібозаготівель для Україн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в розмірі 356 млн. пуді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Очолювана їм комісія розробила надзвичайні заходи для збільшення хлібозаготовель шляхом здійснення адміністративного тиску і проведення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масових репресивних заходів щодо селянств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D407-826D-48FE-94A6-6D3169AF127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097080" cy="2592360"/>
          </a:xfrm>
          <a:prstGeom prst="rect">
            <a:avLst/>
          </a:prstGeom>
          <a:ln w="0">
            <a:noFill/>
          </a:ln>
        </p:spPr>
      </p:pic>
      <p:sp>
        <p:nvSpPr>
          <p:cNvPr id="368" name="TextBox 2"/>
          <p:cNvSpPr/>
          <p:nvPr/>
        </p:nvSpPr>
        <p:spPr>
          <a:xfrm>
            <a:off x="3924360" y="981000"/>
            <a:ext cx="48243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Вилучення хліба у селян за всяку ціну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обшуки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натуральні штрафи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загороджувальні загони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реквізиція насіннєвого  фонду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блокада сіл-боржникі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4211640" y="4005360"/>
            <a:ext cx="2952720" cy="230328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611280" y="3860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Тяжка доля українськог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селянства …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95F7-0F1E-494E-A3B4-0E35D5505CF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111640" cy="547200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2"/>
          <p:cNvSpPr/>
          <p:nvPr/>
        </p:nvSpPr>
        <p:spPr>
          <a:xfrm>
            <a:off x="2987640" y="5661000"/>
            <a:ext cx="50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станова РНК УРСР та ЦК КП(б)У про занесення ряду сіл на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«чорні дошки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6ABB-3AC2-443B-A7F9-BCC9ACFF856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553440" cy="4824720"/>
          </a:xfrm>
          <a:prstGeom prst="rect">
            <a:avLst/>
          </a:prstGeom>
          <a:ln w="0">
            <a:noFill/>
          </a:ln>
        </p:spPr>
      </p:pic>
      <p:sp>
        <p:nvSpPr>
          <p:cNvPr id="376" name="TextBox 2"/>
          <p:cNvSpPr/>
          <p:nvPr/>
        </p:nvSpPr>
        <p:spPr>
          <a:xfrm>
            <a:off x="1116000" y="5516640"/>
            <a:ext cx="84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Їли коней, собак, горобців, траву, коріння…людей…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C597-0D75-48FA-9E87-7176A4C81AA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6191280" cy="448632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2"/>
          <p:cNvSpPr/>
          <p:nvPr/>
        </p:nvSpPr>
        <p:spPr>
          <a:xfrm>
            <a:off x="1835280" y="5229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Жертви голоду на вулицях Харкова, 1933 рік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A37A-4B07-4BE8-A278-339E6BA0877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5280" cy="5183280"/>
          </a:xfrm>
          <a:prstGeom prst="rect">
            <a:avLst/>
          </a:prstGeom>
          <a:ln w="0">
            <a:noFill/>
          </a:ln>
        </p:spPr>
      </p:pic>
      <p:sp>
        <p:nvSpPr>
          <p:cNvPr id="382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C0D6-F7BF-4BA1-BF99-C5F8918A775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6_mocart_rekviemm.mp3" descr=""/>
          <p:cNvPicPr/>
          <p:nvPr/>
        </p:nvPicPr>
        <p:blipFill>
          <a:blip r:embed="rId2"/>
          <a:stretch/>
        </p:blipFill>
        <p:spPr>
          <a:xfrm>
            <a:off x="8172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207075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016360" cy="2665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2190600" cy="17175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7020000" y="476280"/>
            <a:ext cx="1590480" cy="142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"/>
          <p:cNvPicPr/>
          <p:nvPr/>
        </p:nvPicPr>
        <p:blipFill>
          <a:blip r:embed="rId4"/>
          <a:stretch/>
        </p:blipFill>
        <p:spPr>
          <a:xfrm>
            <a:off x="5867280" y="4365720"/>
            <a:ext cx="2543400" cy="1428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"/>
          <p:cNvPicPr/>
          <p:nvPr/>
        </p:nvPicPr>
        <p:blipFill>
          <a:blip r:embed="rId5"/>
          <a:stretch/>
        </p:blipFill>
        <p:spPr>
          <a:xfrm>
            <a:off x="3492360" y="4437000"/>
            <a:ext cx="1648080" cy="142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6"/>
          <a:stretch/>
        </p:blipFill>
        <p:spPr>
          <a:xfrm>
            <a:off x="7164360" y="2421000"/>
            <a:ext cx="1368360" cy="142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"/>
          <p:cNvPicPr/>
          <p:nvPr/>
        </p:nvPicPr>
        <p:blipFill>
          <a:blip r:embed="rId7"/>
          <a:stretch/>
        </p:blipFill>
        <p:spPr>
          <a:xfrm>
            <a:off x="3141720" y="2276640"/>
            <a:ext cx="2943000" cy="15732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9"/>
          <p:cNvSpPr/>
          <p:nvPr/>
        </p:nvSpPr>
        <p:spPr>
          <a:xfrm>
            <a:off x="2831400" y="620640"/>
            <a:ext cx="3909960" cy="106884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Lucida Sans Unicode"/>
              </a:rPr>
              <a:t>ЖАХЛИВІ </a:t>
            </a:r>
            <a:br>
              <a:rPr sz="3200"/>
            </a:br>
            <a:r>
              <a:rPr b="0" lang="uk-UA" sz="3200" spc="-1" strike="noStrike">
                <a:solidFill>
                  <a:srgbClr val="ffffff"/>
                </a:solidFill>
                <a:latin typeface="Lucida Sans Unicode"/>
              </a:rPr>
              <a:t>ФОТОДОКУМЕНТ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Номер слайда 1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973F-21A9-48E4-B42C-1A6AD1339B7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6_mocart_rekviemm.mp3" descr=""/>
          <p:cNvPicPr/>
          <p:nvPr/>
        </p:nvPicPr>
        <p:blipFill>
          <a:blip r:embed="rId8"/>
          <a:stretch/>
        </p:blipFill>
        <p:spPr>
          <a:xfrm>
            <a:off x="8317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07075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625920" cy="3384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4251240" cy="338472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4"/>
          <p:cNvSpPr/>
          <p:nvPr/>
        </p:nvSpPr>
        <p:spPr>
          <a:xfrm>
            <a:off x="1763640" y="4005360"/>
            <a:ext cx="61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ff0000"/>
                </a:solidFill>
                <a:uFillTx/>
                <a:latin typeface="Lucida Sans Unicode"/>
              </a:rPr>
              <a:t>Голодомо́р 1932–1933 років </a:t>
            </a:r>
            <a:r>
              <a:rPr b="0" lang="vi-VN" sz="2000" spc="-1" strike="noStrike">
                <a:solidFill>
                  <a:srgbClr val="ff0000"/>
                </a:solidFill>
                <a:latin typeface="Lucida Sans Unicode"/>
              </a:rPr>
              <a:t>— масовий, навмисно організований керівництвом ВКП(б) та урядом СРСР голод </a:t>
            </a:r>
            <a:r>
              <a:rPr b="1" lang="vi-VN" sz="2000" spc="-1" strike="noStrike">
                <a:solidFill>
                  <a:srgbClr val="ff0000"/>
                </a:solidFill>
                <a:latin typeface="Lucida Sans Unicode"/>
              </a:rPr>
              <a:t>1932</a:t>
            </a:r>
            <a:r>
              <a:rPr b="0" lang="vi-VN" sz="2000" spc="-1" strike="noStrike">
                <a:solidFill>
                  <a:srgbClr val="ff0000"/>
                </a:solidFill>
                <a:latin typeface="Lucida Sans Unicode"/>
              </a:rPr>
              <a:t>–</a:t>
            </a:r>
            <a:r>
              <a:rPr b="1" lang="vi-VN" sz="2000" spc="-1" strike="noStrike">
                <a:solidFill>
                  <a:srgbClr val="ff0000"/>
                </a:solidFill>
                <a:latin typeface="Lucida Sans Unicode"/>
              </a:rPr>
              <a:t>1933</a:t>
            </a:r>
            <a:r>
              <a:rPr b="0" lang="vi-VN" sz="2000" spc="-1" strike="noStrike">
                <a:solidFill>
                  <a:srgbClr val="ff0000"/>
                </a:solidFill>
                <a:latin typeface="Lucida Sans Unicode"/>
              </a:rPr>
              <a:t> років, що призвів до багатомільйонних людських втрат у сільській місцевості на території Української СР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8FC9-8D59-465E-8959-EA5D0A9AF30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6_mocart_rekviemm.mp3" descr=""/>
          <p:cNvPicPr/>
          <p:nvPr/>
        </p:nvPicPr>
        <p:blipFill>
          <a:blip r:embed="rId3"/>
          <a:stretch/>
        </p:blipFill>
        <p:spPr>
          <a:xfrm>
            <a:off x="838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20707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1042920" y="0"/>
            <a:ext cx="6667560" cy="4695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2"/>
          <p:cNvSpPr/>
          <p:nvPr/>
        </p:nvSpPr>
        <p:spPr>
          <a:xfrm>
            <a:off x="1258920" y="494172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За оцінками Інституту демографії та соціальних досліджень імені М. Птухи НАН України демографічні втрати України внаслідок Голодомору 1932—1933 роках становлять близько від 4,5 до 7 млн. осіб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1041-C3ED-4449-827C-1E28BB96CE4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6_mocart_rekviemm.mp3" descr=""/>
          <p:cNvPicPr/>
          <p:nvPr/>
        </p:nvPicPr>
        <p:blipFill>
          <a:blip r:embed="rId2"/>
          <a:stretch/>
        </p:blipFill>
        <p:spPr>
          <a:xfrm>
            <a:off x="838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207075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419640" y="1125360"/>
            <a:ext cx="572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a3171e"/>
                </a:solidFill>
                <a:latin typeface="Arial Black"/>
              </a:rPr>
              <a:t>А люди бідні у селі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a3171e"/>
                </a:solidFill>
                <a:latin typeface="Arial Black"/>
              </a:rPr>
              <a:t>Неначе злякані ягнята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a3171e"/>
                </a:solidFill>
                <a:latin typeface="Arial Black"/>
              </a:rPr>
              <a:t>Позамикалися у хатах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a3171e"/>
                </a:solidFill>
                <a:latin typeface="Arial Black"/>
              </a:rPr>
              <a:t>Та й мруть . . 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a3171e"/>
                </a:solidFill>
                <a:latin typeface="Arial Black"/>
              </a:rPr>
              <a:t>         </a:t>
            </a:r>
            <a:r>
              <a:rPr b="0" lang="uk-UA" sz="3200" spc="-1" strike="noStrike">
                <a:solidFill>
                  <a:srgbClr val="a3171e"/>
                </a:solidFill>
                <a:latin typeface="Arial Black"/>
              </a:rPr>
              <a:t>Т.Г. Шевченко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025800" cy="3959280"/>
          </a:xfrm>
          <a:prstGeom prst="rect">
            <a:avLst/>
          </a:prstGeom>
          <a:ln w="0">
            <a:noFill/>
          </a:ln>
        </p:spPr>
      </p:pic>
      <p:sp>
        <p:nvSpPr>
          <p:cNvPr id="289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AD3A-A6E1-444E-BBB9-106D06F9644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0" name="6_mocart_rekviemm.mp3" descr=""/>
          <p:cNvPicPr/>
          <p:nvPr/>
        </p:nvPicPr>
        <p:blipFill>
          <a:blip r:embed="rId2"/>
          <a:stretch/>
        </p:blipFill>
        <p:spPr>
          <a:xfrm>
            <a:off x="838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7075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305080" cy="424800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2"/>
          <p:cNvSpPr/>
          <p:nvPr/>
        </p:nvSpPr>
        <p:spPr>
          <a:xfrm>
            <a:off x="2843280" y="476280"/>
            <a:ext cx="576108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фіційне вшанування пам'яті жертв Голодомору, в тому числі, визнання його геноцидом українського народу, розпочалося за ініціативи української діаспори у США та Канаді. Так, починаючи з 1983 року, в столиці канадської провінції Альберта місті Едмонтоні, в мерії міста щорічно проводиться відзначення річниці Голодомор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 1988 році Конгрес США, а в 1989 році — Міжнародна комісія юристів офіційно визнали голодомор </a:t>
            </a:r>
            <a:r>
              <a:rPr b="0" lang="ru-RU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1932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33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років актом геноциду проти української нації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CD73-5D45-4887-856E-7C5FBA698EB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6_mocart_rekviemm.mp3" descr=""/>
          <p:cNvPicPr/>
          <p:nvPr/>
        </p:nvPicPr>
        <p:blipFill>
          <a:blip r:embed="rId4"/>
          <a:stretch/>
        </p:blipFill>
        <p:spPr>
          <a:xfrm>
            <a:off x="824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207075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240000" cy="3168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"/>
          <p:cNvPicPr/>
          <p:nvPr/>
        </p:nvPicPr>
        <p:blipFill>
          <a:blip r:embed="rId2"/>
          <a:stretch/>
        </p:blipFill>
        <p:spPr>
          <a:xfrm>
            <a:off x="3276720" y="4437000"/>
            <a:ext cx="4319640" cy="216072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3"/>
          <p:cNvSpPr/>
          <p:nvPr/>
        </p:nvSpPr>
        <p:spPr>
          <a:xfrm>
            <a:off x="4067280" y="549360"/>
            <a:ext cx="396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Біля входу до мерії м. Едмонт встановлений перший у світі пам'ятний знак на вшанування річниці Голодомору «Розірване кільце життя»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0CB3-DE9A-400A-83CE-E615C2D9850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6_mocart_rekviemm.mp3" descr=""/>
          <p:cNvPicPr/>
          <p:nvPr/>
        </p:nvPicPr>
        <p:blipFill>
          <a:blip r:embed="rId3"/>
          <a:stretch/>
        </p:blipFill>
        <p:spPr>
          <a:xfrm>
            <a:off x="8459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207075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3"/>
          <p:cNvSpPr/>
          <p:nvPr/>
        </p:nvSpPr>
        <p:spPr>
          <a:xfrm>
            <a:off x="4284720" y="620640"/>
            <a:ext cx="4427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Четверта субота листопада в Україні визнана </a:t>
            </a: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Днем пам'яті жертв  голодоморів</a:t>
            </a:r>
            <a:r>
              <a:rPr b="0" lang="ru-RU" sz="20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Меморіальні заходи проводяться як в Україні, так і поза її межами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Щорічно, в цей день проводиться </a:t>
            </a:r>
            <a:r>
              <a:rPr b="0" lang="ru-RU" sz="2000" spc="-1" strike="noStrike">
                <a:solidFill>
                  <a:srgbClr val="ff0000"/>
                </a:solidFill>
                <a:latin typeface="Lucida Sans Unicode"/>
              </a:rPr>
              <a:t>всеукраїнська акція «Запали свічку»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4427640" y="4076640"/>
            <a:ext cx="4392360" cy="244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673440" cy="2724480"/>
          </a:xfrm>
          <a:prstGeom prst="rect">
            <a:avLst/>
          </a:prstGeom>
          <a:ln w="0">
            <a:noFill/>
          </a:ln>
        </p:spPr>
      </p:pic>
      <p:sp>
        <p:nvSpPr>
          <p:cNvPr id="415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D93A-8471-4102-9B32-D26D4F2152A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6_mocart_rekviemm.mp3" descr=""/>
          <p:cNvPicPr/>
          <p:nvPr/>
        </p:nvPicPr>
        <p:blipFill>
          <a:blip r:embed="rId3"/>
          <a:stretch/>
        </p:blipFill>
        <p:spPr>
          <a:xfrm>
            <a:off x="399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07075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Выноска со стрелкой вниз 1"/>
          <p:cNvSpPr/>
          <p:nvPr/>
        </p:nvSpPr>
        <p:spPr>
          <a:xfrm>
            <a:off x="2700360" y="404640"/>
            <a:ext cx="4464000" cy="1346400"/>
          </a:xfrm>
          <a:prstGeom prst="downArrowCallout">
            <a:avLst>
              <a:gd name="adj1" fmla="val 24991"/>
              <a:gd name="adj2" fmla="val 25004"/>
              <a:gd name="adj3" fmla="val 25000"/>
              <a:gd name="adj4" fmla="val 64977"/>
            </a:avLst>
          </a:prstGeom>
          <a:solidFill>
            <a:srgbClr val="fbe0d1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Lucida Sans Unicode"/>
              </a:rPr>
              <a:t>ПРИЧИНИ ГОЛОДОМОРУ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Прямоугольник 2"/>
          <p:cNvSpPr/>
          <p:nvPr/>
        </p:nvSpPr>
        <p:spPr>
          <a:xfrm>
            <a:off x="395280" y="2492280"/>
            <a:ext cx="1274760" cy="86544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ЗАСУХА,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НЕВРОЖАЙ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1932 РОКУ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Прямоугольник 3"/>
          <p:cNvSpPr/>
          <p:nvPr/>
        </p:nvSpPr>
        <p:spPr>
          <a:xfrm>
            <a:off x="2411280" y="2492280"/>
            <a:ext cx="1368720" cy="91440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Lucida Sans Unicode"/>
              </a:rPr>
              <a:t>КОЛГОСПНО-РАДГОСПНА СИСТЕМА НЕ ВИПРАВДАЛАСЯ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Прямоугольник 4"/>
          <p:cNvSpPr/>
          <p:nvPr/>
        </p:nvSpPr>
        <p:spPr>
          <a:xfrm>
            <a:off x="6084720" y="2421000"/>
            <a:ext cx="1295640" cy="86364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Lucida Sans Unicode"/>
              </a:rPr>
              <a:t>ШКІДНИЦТВО СЕЛЯНСТВА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ВРАГОВ НАРОДУ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Прямоугольник 5"/>
          <p:cNvSpPr/>
          <p:nvPr/>
        </p:nvSpPr>
        <p:spPr>
          <a:xfrm>
            <a:off x="7667640" y="2421000"/>
            <a:ext cx="1297080" cy="8427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ВОЛЮТАРИСТСЬКА ПОЛІТИКА СТАЛІНСЬКОГО 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КЕРІВНИЦТВА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Прямоугольник 6"/>
          <p:cNvSpPr/>
          <p:nvPr/>
        </p:nvSpPr>
        <p:spPr>
          <a:xfrm>
            <a:off x="1619280" y="4508640"/>
            <a:ext cx="1297080" cy="91440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Lucida Sans Unicode"/>
              </a:rPr>
              <a:t>ВИВЕЗЕННЯ ЗЕРНА ЗА КОРДОН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Прямоугольник 7"/>
          <p:cNvSpPr/>
          <p:nvPr/>
        </p:nvSpPr>
        <p:spPr>
          <a:xfrm>
            <a:off x="4284720" y="4437000"/>
            <a:ext cx="1582560" cy="91440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ЗАВИЩЕНИЙ ПЛАН ХЛІБОЗАГОТІВЕЛЬ 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ДЛЯ  УКРАЇНИ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Прямоугольник 8"/>
          <p:cNvSpPr/>
          <p:nvPr/>
        </p:nvSpPr>
        <p:spPr>
          <a:xfrm>
            <a:off x="6948360" y="4437000"/>
            <a:ext cx="1368720" cy="91440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lang="ru-RU" sz="900" spc="-1" strike="noStrike">
                <a:solidFill>
                  <a:srgbClr val="000000"/>
                </a:solidFill>
                <a:latin typeface="Lucida Sans Unicode"/>
              </a:rPr>
              <a:t>НИЗЬКА ПРОДУКТИВНІСТЬ ПРАЦІ КОЛГОСПНИКІВ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25" name="Прямая со стрелкой 10"/>
          <p:cNvCxnSpPr/>
          <p:nvPr/>
        </p:nvCxnSpPr>
        <p:spPr>
          <a:xfrm flipH="1">
            <a:off x="1691640" y="1341000"/>
            <a:ext cx="1585080" cy="864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26" name="Прямая со стрелкой 12"/>
          <p:cNvCxnSpPr/>
          <p:nvPr/>
        </p:nvCxnSpPr>
        <p:spPr>
          <a:xfrm flipH="1">
            <a:off x="3780000" y="1557360"/>
            <a:ext cx="576360" cy="72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27" name="Прямая со стрелкой 14"/>
          <p:cNvCxnSpPr/>
          <p:nvPr/>
        </p:nvCxnSpPr>
        <p:spPr>
          <a:xfrm flipH="1">
            <a:off x="3131280" y="2060640"/>
            <a:ext cx="1585080" cy="2737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28" name="Прямая со стрелкой 18"/>
          <p:cNvCxnSpPr/>
          <p:nvPr/>
        </p:nvCxnSpPr>
        <p:spPr>
          <a:xfrm>
            <a:off x="4932000" y="2205000"/>
            <a:ext cx="1080" cy="2016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29" name="Прямая со стрелкой 20"/>
          <p:cNvCxnSpPr/>
          <p:nvPr/>
        </p:nvCxnSpPr>
        <p:spPr>
          <a:xfrm>
            <a:off x="5148000" y="2060280"/>
            <a:ext cx="1656360" cy="28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30" name="Прямая со стрелкой 22"/>
          <p:cNvCxnSpPr/>
          <p:nvPr/>
        </p:nvCxnSpPr>
        <p:spPr>
          <a:xfrm>
            <a:off x="5651640" y="1483920"/>
            <a:ext cx="576360" cy="793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31" name="Прямая со стрелкой 26"/>
          <p:cNvCxnSpPr/>
          <p:nvPr/>
        </p:nvCxnSpPr>
        <p:spPr>
          <a:xfrm>
            <a:off x="7093080" y="1413000"/>
            <a:ext cx="1367280" cy="721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32" name="Прямоугольник 16"/>
          <p:cNvSpPr/>
          <p:nvPr/>
        </p:nvSpPr>
        <p:spPr>
          <a:xfrm>
            <a:off x="3492360" y="5661000"/>
            <a:ext cx="3600720" cy="91440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Завдання щодо </a:t>
            </a:r>
            <a:r>
              <a:rPr b="1" lang="uk-UA" sz="1800" spc="-1" strike="noStrike">
                <a:solidFill>
                  <a:srgbClr val="ff0000"/>
                </a:solidFill>
                <a:latin typeface="Lucida Sans Unicode"/>
              </a:rPr>
              <a:t>знищення українського народу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Номер слайда 19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BF36-95D8-4F35-9BAC-47309A2A58B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3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3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3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1f2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1f2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1f2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2"/>
          <p:cNvSpPr/>
          <p:nvPr/>
        </p:nvSpPr>
        <p:spPr>
          <a:xfrm>
            <a:off x="3851280" y="1197000"/>
            <a:ext cx="47530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Один з варіантів картини 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«Людина, що біжить»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роботи Казимира Малевича, також відомій під назвою 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«Селянин поміж хрестом і мечем»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є звинувачувальним актом Великого Голоду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«Образ селянина, який біжить через пустельний пейзаж, є красномовним свідченням катастрофи.»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0D6B-33DF-4B32-895D-116D0FEEF68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6_mocart_rekviemm.mp3" descr=""/>
          <p:cNvPicPr/>
          <p:nvPr/>
        </p:nvPicPr>
        <p:blipFill>
          <a:blip r:embed="rId2"/>
          <a:stretch/>
        </p:blipFill>
        <p:spPr>
          <a:xfrm>
            <a:off x="8101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207075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4356000" y="692280"/>
            <a:ext cx="403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Із тридцять третім голим рок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Голодно-голим та німи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а тричі пухлим. Хай би з ни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оїли б кору і комору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раву і шкуру, цвіль і міл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а мерли б жовті, як з похміл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Без трун понесені із двор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ізащо. Просто. Без вин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Прямоугольник 2"/>
          <p:cNvSpPr/>
          <p:nvPr/>
        </p:nvSpPr>
        <p:spPr>
          <a:xfrm>
            <a:off x="6156360" y="4292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ндрій Малишк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744720" cy="4392360"/>
          </a:xfrm>
          <a:prstGeom prst="rect">
            <a:avLst/>
          </a:prstGeom>
          <a:ln w="0">
            <a:noFill/>
          </a:ln>
        </p:spPr>
      </p:pic>
      <p:sp>
        <p:nvSpPr>
          <p:cNvPr id="441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0EB5-F14E-4406-BD01-07229A04F77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6_mocart_rekviemm.mp3" descr=""/>
          <p:cNvPicPr/>
          <p:nvPr/>
        </p:nvPicPr>
        <p:blipFill>
          <a:blip r:embed="rId2"/>
          <a:stretch/>
        </p:blipFill>
        <p:spPr>
          <a:xfrm>
            <a:off x="8172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07075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"/>
          <p:cNvSpPr/>
          <p:nvPr/>
        </p:nvSpPr>
        <p:spPr>
          <a:xfrm>
            <a:off x="395280" y="549360"/>
            <a:ext cx="835344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Домашне завданн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на вибір учнів</a:t>
            </a:r>
            <a:r>
              <a:rPr b="0" lang="uk-UA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1. Написати твір-роздум “Голодомор 1932-1933 рр. – геноцид українського народу”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2. Скласти тести для самоконтролю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за темою “Голодомор 1932-1933 рр. в Україні”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3. Скласти порівняльну таблицю “Голод 1921-1922 рр.в Україні” та “Голодомор 1932-1933 рр. в Україні”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0A17-BD4C-450A-932B-4C2B6A0E2F8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3"/>
          <p:cNvSpPr/>
          <p:nvPr/>
        </p:nvSpPr>
        <p:spPr>
          <a:xfrm>
            <a:off x="2700360" y="404640"/>
            <a:ext cx="3527280" cy="1274760"/>
          </a:xfrm>
          <a:prstGeom prst="rect">
            <a:avLst/>
          </a:prstGeom>
          <a:solidFill>
            <a:srgbClr val="def5fa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3171e"/>
                </a:solidFill>
                <a:latin typeface="Lucida Sans Unicode"/>
                <a:ea typeface="바탕"/>
              </a:rPr>
              <a:t>АСОЦ</a:t>
            </a:r>
            <a:r>
              <a:rPr b="1" i="1" lang="uk-UA" sz="2800" spc="-1" strike="noStrike">
                <a:solidFill>
                  <a:srgbClr val="a3171e"/>
                </a:solidFill>
                <a:latin typeface="Lucida Sans Unicode"/>
                <a:ea typeface="바탕"/>
              </a:rPr>
              <a:t>ІАТИВНИЙ КУЩ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Овал 4"/>
          <p:cNvSpPr/>
          <p:nvPr/>
        </p:nvSpPr>
        <p:spPr>
          <a:xfrm>
            <a:off x="3132000" y="3068640"/>
            <a:ext cx="3095640" cy="1440000"/>
          </a:xfrm>
          <a:prstGeom prst="ellipse">
            <a:avLst/>
          </a:prstGeom>
          <a:solidFill>
            <a:srgbClr val="f2f2f2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Lucida Sans Unicode"/>
              </a:rPr>
              <a:t>МОДЕРНІЗАЦІ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6156360" y="4005360"/>
            <a:ext cx="1512000" cy="504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4" name="Прямая со стрелкой 15"/>
          <p:cNvCxnSpPr/>
          <p:nvPr/>
        </p:nvCxnSpPr>
        <p:spPr>
          <a:xfrm flipH="1">
            <a:off x="3563640" y="4436640"/>
            <a:ext cx="288000" cy="1080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5" name="Прямая со стрелкой 17"/>
          <p:cNvCxnSpPr/>
          <p:nvPr/>
        </p:nvCxnSpPr>
        <p:spPr>
          <a:xfrm>
            <a:off x="5580000" y="4436640"/>
            <a:ext cx="432720" cy="1080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96" name="TextBox 18"/>
          <p:cNvSpPr/>
          <p:nvPr/>
        </p:nvSpPr>
        <p:spPr>
          <a:xfrm>
            <a:off x="900000" y="2492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ОНОВЛЕНН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324000" y="443700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УДОСКОНАЛЕНН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6659640" y="23493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ПЕРЕТВОРЕНН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TextBox 21"/>
          <p:cNvSpPr/>
          <p:nvPr/>
        </p:nvSpPr>
        <p:spPr>
          <a:xfrm>
            <a:off x="2050920" y="5589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РЕКОНСТРУКЦІ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TextBox 22"/>
          <p:cNvSpPr/>
          <p:nvPr/>
        </p:nvSpPr>
        <p:spPr>
          <a:xfrm>
            <a:off x="6948360" y="45086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МОДІФІКАЦІ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TextBox 24"/>
          <p:cNvSpPr/>
          <p:nvPr/>
        </p:nvSpPr>
        <p:spPr>
          <a:xfrm>
            <a:off x="6084720" y="5516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АПГРЕЙД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02" name="Прямая со стрелкой 28"/>
          <p:cNvCxnSpPr>
            <a:stCxn id="292" idx="1"/>
          </p:cNvCxnSpPr>
          <p:nvPr/>
        </p:nvCxnSpPr>
        <p:spPr>
          <a:xfrm flipH="1" flipV="1">
            <a:off x="2771280" y="2565000"/>
            <a:ext cx="813600" cy="7149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3" name="Прямая со стрелкой 32"/>
          <p:cNvCxnSpPr/>
          <p:nvPr/>
        </p:nvCxnSpPr>
        <p:spPr>
          <a:xfrm flipV="1">
            <a:off x="5724000" y="2491560"/>
            <a:ext cx="886680" cy="7167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4" name="Прямая со стрелкой 34"/>
          <p:cNvCxnSpPr/>
          <p:nvPr/>
        </p:nvCxnSpPr>
        <p:spPr>
          <a:xfrm flipH="1">
            <a:off x="1907280" y="4005000"/>
            <a:ext cx="1318680" cy="3546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5" name="Номер слайда 2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A0EC-02BB-4B92-832B-F313DF86964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155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1155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115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115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155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1155" fill="hold"/>
                                        <p:tgtEl>
                                          <p:spTgt spid="2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1155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1155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155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1155" fill="hold"/>
                                        <p:tgtEl>
                                          <p:spTgt spid="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1155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1155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155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1155" fill="hold"/>
                                        <p:tgtEl>
                                          <p:spTgt spid="3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1155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1155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155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1155" fill="hold"/>
                                        <p:tgtEl>
                                          <p:spTgt spid="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1155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1155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155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1155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1155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1155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1"/>
          <p:cNvSpPr/>
          <p:nvPr/>
        </p:nvSpPr>
        <p:spPr>
          <a:xfrm>
            <a:off x="2843280" y="1484280"/>
            <a:ext cx="3673440" cy="1368360"/>
          </a:xfrm>
          <a:prstGeom prst="ellipse">
            <a:avLst/>
          </a:prstGeom>
          <a:gradFill rotWithShape="0">
            <a:gsLst>
              <a:gs pos="0">
                <a:srgbClr val="a6a6a6"/>
              </a:gs>
              <a:gs pos="100000">
                <a:srgbClr val="e3e3e3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3171e"/>
                </a:solidFill>
                <a:latin typeface="Lucida Sans Unicode"/>
              </a:rPr>
              <a:t>РАДЯНСЬК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3171e"/>
                </a:solidFill>
                <a:latin typeface="Lucida Sans Unicode"/>
              </a:rPr>
              <a:t>МОДЕРНІЗАЦІ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07" name="Прямая со стрелкой 3"/>
          <p:cNvCxnSpPr/>
          <p:nvPr/>
        </p:nvCxnSpPr>
        <p:spPr>
          <a:xfrm flipH="1">
            <a:off x="1979280" y="2565360"/>
            <a:ext cx="937440" cy="504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8" name="Прямая со стрелкой 6"/>
          <p:cNvCxnSpPr/>
          <p:nvPr/>
        </p:nvCxnSpPr>
        <p:spPr>
          <a:xfrm>
            <a:off x="6372000" y="2420640"/>
            <a:ext cx="610200" cy="5180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9" name="Овал 10"/>
          <p:cNvSpPr/>
          <p:nvPr/>
        </p:nvSpPr>
        <p:spPr>
          <a:xfrm>
            <a:off x="324000" y="3068640"/>
            <a:ext cx="3743280" cy="1152360"/>
          </a:xfrm>
          <a:prstGeom prst="ellipse">
            <a:avLst/>
          </a:prstGeom>
          <a:gradFill rotWithShape="0">
            <a:gsLst>
              <a:gs pos="0">
                <a:srgbClr val="c4a4a9"/>
              </a:gs>
              <a:gs pos="100000">
                <a:srgbClr val="eee0e2"/>
              </a:gs>
            </a:gsLst>
            <a:lin ang="16200000"/>
          </a:gradFill>
          <a:ln w="9360">
            <a:solidFill>
              <a:srgbClr val="7d3c4a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ФОРСОВАН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ІНДУСТРІАЛІЗАЦІ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Овал 11"/>
          <p:cNvSpPr/>
          <p:nvPr/>
        </p:nvSpPr>
        <p:spPr>
          <a:xfrm>
            <a:off x="5292720" y="2997360"/>
            <a:ext cx="3456000" cy="1152360"/>
          </a:xfrm>
          <a:prstGeom prst="ellipse">
            <a:avLst/>
          </a:prstGeom>
          <a:solidFill>
            <a:srgbClr val="ead3d8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СУЦІЛЬН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КОЛЕКТИВІЗАЦІ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Скругленный прямоугольник 14"/>
          <p:cNvSpPr/>
          <p:nvPr/>
        </p:nvSpPr>
        <p:spPr>
          <a:xfrm>
            <a:off x="1908000" y="260280"/>
            <a:ext cx="5832720" cy="9144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b54a10"/>
                </a:solidFill>
                <a:latin typeface="Lucida Sans Unicode"/>
              </a:rPr>
              <a:t>СТАЛІНСЬКА МОДЕЛЬ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b54a10"/>
                </a:solidFill>
                <a:latin typeface="Lucida Sans Unicode"/>
              </a:rPr>
              <a:t>СОЦІАЛІСТИЧНОЇ ЕКОНОМІ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Выноска со стрелкой вверх 16"/>
          <p:cNvSpPr/>
          <p:nvPr/>
        </p:nvSpPr>
        <p:spPr>
          <a:xfrm>
            <a:off x="3419640" y="4149720"/>
            <a:ext cx="2520720" cy="1582920"/>
          </a:xfrm>
          <a:prstGeom prst="upArrowCallout">
            <a:avLst>
              <a:gd name="adj1" fmla="val 25024"/>
              <a:gd name="adj2" fmla="val 25022"/>
              <a:gd name="adj3" fmla="val 25000"/>
              <a:gd name="adj4" fmla="val 70041"/>
            </a:avLst>
          </a:prstGeom>
          <a:solidFill>
            <a:srgbClr val="f9d1d3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Lucida Sans Unicode"/>
                <a:ea typeface="Aharoni"/>
              </a:rPr>
              <a:t>ТЕРОР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Номер слайда 9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1306-44A6-4CB0-BA62-2434A085617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2F4D-06BA-4DDD-BCFC-32705D286A6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Пятиугольник 2"/>
          <p:cNvSpPr/>
          <p:nvPr/>
        </p:nvSpPr>
        <p:spPr>
          <a:xfrm>
            <a:off x="179280" y="907920"/>
            <a:ext cx="2059200" cy="865440"/>
          </a:xfrm>
          <a:custGeom>
            <a:avLst/>
            <a:gdLst>
              <a:gd name="textAreaLeft" fmla="*/ 0 w 2059200"/>
              <a:gd name="textAreaRight" fmla="*/ 2059560 w 20592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7" y="0"/>
                </a:lnTo>
                <a:lnTo>
                  <a:pt x="21600" y="10800"/>
                </a:lnTo>
                <a:lnTo>
                  <a:pt x="170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орсована індустріалізація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Нашивка 3"/>
          <p:cNvSpPr/>
          <p:nvPr/>
        </p:nvSpPr>
        <p:spPr>
          <a:xfrm>
            <a:off x="2268360" y="907920"/>
            <a:ext cx="2159280" cy="79236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40" y="0"/>
                </a:lnTo>
                <a:lnTo>
                  <a:pt x="21600" y="10800"/>
                </a:lnTo>
                <a:lnTo>
                  <a:pt x="17640" y="21600"/>
                </a:lnTo>
                <a:lnTo>
                  <a:pt x="0" y="21600"/>
                </a:lnTo>
                <a:lnTo>
                  <a:pt x="3960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Lucida Sans Unicode"/>
              </a:rPr>
              <a:t>Перекачування коштів з села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Нашивка 4"/>
          <p:cNvSpPr/>
          <p:nvPr/>
        </p:nvSpPr>
        <p:spPr>
          <a:xfrm>
            <a:off x="4284720" y="981000"/>
            <a:ext cx="2374920" cy="79236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0" y="21600"/>
                </a:lnTo>
                <a:lnTo>
                  <a:pt x="3600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Моральне стимулюванн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Нашивка 5"/>
          <p:cNvSpPr/>
          <p:nvPr/>
        </p:nvSpPr>
        <p:spPr>
          <a:xfrm>
            <a:off x="6588000" y="981000"/>
            <a:ext cx="2376720" cy="792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0" y="21600"/>
                </a:lnTo>
                <a:lnTo>
                  <a:pt x="3600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Lucida Sans Unicode"/>
              </a:rPr>
              <a:t>Організація соціалістичного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Lucida Sans Unicode"/>
              </a:rPr>
              <a:t>змагання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Нашивка 6"/>
          <p:cNvSpPr/>
          <p:nvPr/>
        </p:nvSpPr>
        <p:spPr>
          <a:xfrm>
            <a:off x="468360" y="2133720"/>
            <a:ext cx="2284200" cy="934920"/>
          </a:xfrm>
          <a:custGeom>
            <a:avLst/>
            <a:gdLst>
              <a:gd name="textAreaLeft" fmla="*/ 0 w 2284200"/>
              <a:gd name="textAreaRight" fmla="*/ 2284560 w 2284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75" y="0"/>
                </a:lnTo>
                <a:lnTo>
                  <a:pt x="21600" y="10800"/>
                </a:lnTo>
                <a:lnTo>
                  <a:pt x="17175" y="21600"/>
                </a:lnTo>
                <a:lnTo>
                  <a:pt x="0" y="21600"/>
                </a:lnTo>
                <a:lnTo>
                  <a:pt x="4425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Трудовий ентузіазм народу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Нашивка 7"/>
          <p:cNvSpPr/>
          <p:nvPr/>
        </p:nvSpPr>
        <p:spPr>
          <a:xfrm>
            <a:off x="3419640" y="2205000"/>
            <a:ext cx="2447640" cy="84456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4" y="0"/>
                </a:lnTo>
                <a:lnTo>
                  <a:pt x="21600" y="10800"/>
                </a:lnTo>
                <a:lnTo>
                  <a:pt x="17874" y="21600"/>
                </a:lnTo>
                <a:lnTo>
                  <a:pt x="0" y="21600"/>
                </a:lnTo>
                <a:lnTo>
                  <a:pt x="3726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Штурмівщина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Нашивка 8"/>
          <p:cNvSpPr/>
          <p:nvPr/>
        </p:nvSpPr>
        <p:spPr>
          <a:xfrm>
            <a:off x="6227640" y="2205000"/>
            <a:ext cx="2665440" cy="93672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5" y="0"/>
                </a:lnTo>
                <a:lnTo>
                  <a:pt x="21600" y="10800"/>
                </a:lnTo>
                <a:lnTo>
                  <a:pt x="17805" y="21600"/>
                </a:lnTo>
                <a:lnTo>
                  <a:pt x="0" y="21600"/>
                </a:lnTo>
                <a:lnTo>
                  <a:pt x="3795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Необ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ґ</a:t>
            </a: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рунтоване  зростання виробничих норм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Нашивка 9"/>
          <p:cNvSpPr/>
          <p:nvPr/>
        </p:nvSpPr>
        <p:spPr>
          <a:xfrm>
            <a:off x="468360" y="3860640"/>
            <a:ext cx="2374920" cy="84456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61" y="0"/>
                </a:lnTo>
                <a:lnTo>
                  <a:pt x="21600" y="10800"/>
                </a:lnTo>
                <a:lnTo>
                  <a:pt x="17761" y="21600"/>
                </a:lnTo>
                <a:lnTo>
                  <a:pt x="0" y="21600"/>
                </a:lnTo>
                <a:lnTo>
                  <a:pt x="3839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Важливість ні якості, а кількості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Нашивка 10"/>
          <p:cNvSpPr/>
          <p:nvPr/>
        </p:nvSpPr>
        <p:spPr>
          <a:xfrm>
            <a:off x="3564000" y="3860640"/>
            <a:ext cx="2376360" cy="86364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73" y="0"/>
                </a:lnTo>
                <a:lnTo>
                  <a:pt x="21600" y="10800"/>
                </a:lnTo>
                <a:lnTo>
                  <a:pt x="17673" y="21600"/>
                </a:lnTo>
                <a:lnTo>
                  <a:pt x="0" y="21600"/>
                </a:lnTo>
                <a:lnTo>
                  <a:pt x="3927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Lucida Sans Unicode"/>
              </a:rPr>
              <a:t>Зріст травматизму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Нашивка 11"/>
          <p:cNvSpPr/>
          <p:nvPr/>
        </p:nvSpPr>
        <p:spPr>
          <a:xfrm>
            <a:off x="6227640" y="3860640"/>
            <a:ext cx="2448000" cy="93672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71" y="0"/>
                </a:lnTo>
                <a:lnTo>
                  <a:pt x="21600" y="10800"/>
                </a:lnTo>
                <a:lnTo>
                  <a:pt x="17471" y="21600"/>
                </a:lnTo>
                <a:lnTo>
                  <a:pt x="0" y="21600"/>
                </a:lnTo>
                <a:lnTo>
                  <a:pt x="4129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Приписк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Выноска со стрелкой влево 13"/>
          <p:cNvSpPr/>
          <p:nvPr/>
        </p:nvSpPr>
        <p:spPr>
          <a:xfrm>
            <a:off x="2987640" y="5229360"/>
            <a:ext cx="5184720" cy="1439640"/>
          </a:xfrm>
          <a:prstGeom prst="leftArrowCallout">
            <a:avLst>
              <a:gd name="adj1" fmla="val 25002"/>
              <a:gd name="adj2" fmla="val 26537"/>
              <a:gd name="adj3" fmla="val 25010"/>
              <a:gd name="adj4" fmla="val 64983"/>
            </a:avLst>
          </a:pr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Погіршення життєвого рівн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населенн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Блок-схема: знак завершения 14"/>
          <p:cNvSpPr/>
          <p:nvPr/>
        </p:nvSpPr>
        <p:spPr>
          <a:xfrm>
            <a:off x="1258920" y="189000"/>
            <a:ext cx="6121440" cy="503280"/>
          </a:xfrm>
          <a:prstGeom prst="flowChartTerminator">
            <a:avLst/>
          </a:prstGeom>
          <a:solidFill>
            <a:srgbClr val="f9d1d3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Lucida Sans Unicode"/>
              </a:rPr>
              <a:t>МЕТОДИ ТА НАСЛІДКИ ІНДУСТРІАЛІЗАЦІЇ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50D0-CC11-4E02-A5CD-233978C77A7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Блок-схема: знак завершения 2"/>
          <p:cNvSpPr/>
          <p:nvPr/>
        </p:nvSpPr>
        <p:spPr>
          <a:xfrm>
            <a:off x="1835280" y="260280"/>
            <a:ext cx="5329080" cy="720720"/>
          </a:xfrm>
          <a:prstGeom prst="flowChartTerminator">
            <a:avLst/>
          </a:prstGeom>
          <a:solidFill>
            <a:srgbClr val="fbe0d1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МЕТОДИ ТА НАСЛІДКИ КОЛЕКТИВІЗАЦІЇ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Овал 3"/>
          <p:cNvSpPr/>
          <p:nvPr/>
        </p:nvSpPr>
        <p:spPr>
          <a:xfrm>
            <a:off x="684360" y="1268280"/>
            <a:ext cx="2087280" cy="505080"/>
          </a:xfrm>
          <a:prstGeom prst="ellipse">
            <a:avLst/>
          </a:prstGeom>
          <a:solidFill>
            <a:srgbClr val="ead3d8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МЕТОД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Овал 4"/>
          <p:cNvSpPr/>
          <p:nvPr/>
        </p:nvSpPr>
        <p:spPr>
          <a:xfrm>
            <a:off x="5724360" y="1125360"/>
            <a:ext cx="1943280" cy="503280"/>
          </a:xfrm>
          <a:prstGeom prst="ellipse">
            <a:avLst/>
          </a:prstGeom>
          <a:solidFill>
            <a:srgbClr val="ead3d8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НАСЛІДК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Блок-схема: процесс 6"/>
          <p:cNvSpPr/>
          <p:nvPr/>
        </p:nvSpPr>
        <p:spPr>
          <a:xfrm>
            <a:off x="2050920" y="2276640"/>
            <a:ext cx="1368720" cy="86508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Lucida Sans Unicode"/>
              </a:rPr>
              <a:t>НАСИЛЬНИЦЬКЕ СТВОРЕННЯ КОЛГОПІВ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Блок-схема: процесс 7"/>
          <p:cNvSpPr/>
          <p:nvPr/>
        </p:nvSpPr>
        <p:spPr>
          <a:xfrm>
            <a:off x="1116000" y="3645000"/>
            <a:ext cx="1490760" cy="86364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Lucida Sans Unicode"/>
              </a:rPr>
              <a:t>РОЗКУРКУЛЕННЯ СЕЛЯНСТВА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Блок-схема: процесс 8"/>
          <p:cNvSpPr/>
          <p:nvPr/>
        </p:nvSpPr>
        <p:spPr>
          <a:xfrm>
            <a:off x="4140360" y="1916280"/>
            <a:ext cx="1993680" cy="115236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Знищена основа сільського господарства -міцні селянські господарства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Блок-схема: процесс 9"/>
          <p:cNvSpPr/>
          <p:nvPr/>
        </p:nvSpPr>
        <p:spPr>
          <a:xfrm>
            <a:off x="7093080" y="1916280"/>
            <a:ext cx="1800000" cy="115236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Колгоспна система-форма закріпачення селян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Блок-схема: процесс 10"/>
          <p:cNvSpPr/>
          <p:nvPr/>
        </p:nvSpPr>
        <p:spPr>
          <a:xfrm>
            <a:off x="4067280" y="3284640"/>
            <a:ext cx="2089080" cy="122400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Біля 80 тис. люд.вислані у Сибір, на північ,частина загинула в дорозі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Блок-схема: процесс 11"/>
          <p:cNvSpPr/>
          <p:nvPr/>
        </p:nvSpPr>
        <p:spPr>
          <a:xfrm>
            <a:off x="7164360" y="3357720"/>
            <a:ext cx="1800360" cy="115092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Злам устоїв сільського господарства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Блок-схема: процесс 12"/>
          <p:cNvSpPr/>
          <p:nvPr/>
        </p:nvSpPr>
        <p:spPr>
          <a:xfrm>
            <a:off x="4067280" y="4797360"/>
            <a:ext cx="2089080" cy="115272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Lucida Sans Unicode"/>
              </a:rPr>
              <a:t>Держава отримала засоби для індустріалізації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Блок-схема: процесс 13"/>
          <p:cNvSpPr/>
          <p:nvPr/>
        </p:nvSpPr>
        <p:spPr>
          <a:xfrm>
            <a:off x="7093080" y="4797360"/>
            <a:ext cx="1871640" cy="122400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Lucida Sans Unicode"/>
              </a:rPr>
              <a:t>ГОЛОДОМОР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Блок-схема: процесс 14"/>
          <p:cNvSpPr/>
          <p:nvPr/>
        </p:nvSpPr>
        <p:spPr>
          <a:xfrm>
            <a:off x="179280" y="2276640"/>
            <a:ext cx="1440000" cy="82836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Lucida Sans Unicode"/>
              </a:rPr>
              <a:t>СУЦІЛЬНА 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Lucida Sans Unicode"/>
              </a:rPr>
              <a:t>КОЛЕКТИВІЗАЦІЯ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40" name="Прямая со стрелкой 18"/>
          <p:cNvCxnSpPr>
            <a:stCxn id="329" idx="4"/>
          </p:cNvCxnSpPr>
          <p:nvPr/>
        </p:nvCxnSpPr>
        <p:spPr>
          <a:xfrm>
            <a:off x="1726920" y="1773000"/>
            <a:ext cx="37080" cy="17276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41" name="Прямая со стрелкой 22"/>
          <p:cNvCxnSpPr>
            <a:stCxn id="329" idx="4"/>
            <a:endCxn id="339" idx="0"/>
          </p:cNvCxnSpPr>
          <p:nvPr/>
        </p:nvCxnSpPr>
        <p:spPr>
          <a:xfrm flipH="1">
            <a:off x="899640" y="1773360"/>
            <a:ext cx="828000" cy="504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42" name="Прямая со стрелкой 24"/>
          <p:cNvCxnSpPr>
            <a:stCxn id="329" idx="4"/>
            <a:endCxn id="331" idx="0"/>
          </p:cNvCxnSpPr>
          <p:nvPr/>
        </p:nvCxnSpPr>
        <p:spPr>
          <a:xfrm>
            <a:off x="1727280" y="1773360"/>
            <a:ext cx="1008720" cy="504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43" name="Прямая со стрелкой 26"/>
          <p:cNvCxnSpPr>
            <a:stCxn id="330" idx="4"/>
            <a:endCxn id="337" idx="3"/>
          </p:cNvCxnSpPr>
          <p:nvPr/>
        </p:nvCxnSpPr>
        <p:spPr>
          <a:xfrm flipH="1">
            <a:off x="6155640" y="1628280"/>
            <a:ext cx="540360" cy="3745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44" name="Прямая со стрелкой 28"/>
          <p:cNvCxnSpPr>
            <a:stCxn id="330" idx="4"/>
            <a:endCxn id="338" idx="1"/>
          </p:cNvCxnSpPr>
          <p:nvPr/>
        </p:nvCxnSpPr>
        <p:spPr>
          <a:xfrm>
            <a:off x="6695640" y="1628640"/>
            <a:ext cx="397800" cy="3780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45" name="Прямая со стрелкой 32"/>
          <p:cNvCxnSpPr>
            <a:stCxn id="330" idx="4"/>
            <a:endCxn id="335" idx="3"/>
          </p:cNvCxnSpPr>
          <p:nvPr/>
        </p:nvCxnSpPr>
        <p:spPr>
          <a:xfrm flipH="1">
            <a:off x="6155640" y="1628640"/>
            <a:ext cx="540360" cy="2269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46" name="Прямая со стрелкой 34"/>
          <p:cNvCxnSpPr>
            <a:stCxn id="330" idx="4"/>
            <a:endCxn id="336" idx="1"/>
          </p:cNvCxnSpPr>
          <p:nvPr/>
        </p:nvCxnSpPr>
        <p:spPr>
          <a:xfrm>
            <a:off x="6695640" y="1628280"/>
            <a:ext cx="469080" cy="2305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47" name="Прямая со стрелкой 36"/>
          <p:cNvCxnSpPr>
            <a:stCxn id="330" idx="2"/>
            <a:endCxn id="333" idx="0"/>
          </p:cNvCxnSpPr>
          <p:nvPr/>
        </p:nvCxnSpPr>
        <p:spPr>
          <a:xfrm flipH="1">
            <a:off x="5136480" y="1376280"/>
            <a:ext cx="587880" cy="540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48" name="Прямая со стрелкой 38"/>
          <p:cNvCxnSpPr>
            <a:stCxn id="330" idx="6"/>
            <a:endCxn id="334" idx="0"/>
          </p:cNvCxnSpPr>
          <p:nvPr/>
        </p:nvCxnSpPr>
        <p:spPr>
          <a:xfrm>
            <a:off x="7667640" y="1376280"/>
            <a:ext cx="326160" cy="540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32000" cy="3887640"/>
          </a:xfrm>
          <a:prstGeom prst="rect">
            <a:avLst/>
          </a:prstGeom>
          <a:ln w="0">
            <a:noFill/>
          </a:ln>
        </p:spPr>
      </p:pic>
      <p:sp>
        <p:nvSpPr>
          <p:cNvPr id="350" name="TextBox 3"/>
          <p:cNvSpPr/>
          <p:nvPr/>
        </p:nvSpPr>
        <p:spPr>
          <a:xfrm>
            <a:off x="4643280" y="1197000"/>
            <a:ext cx="42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Протягом січня – листопада 1930 року в Україні було заготовлено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400 млн. пудів хліб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такий же період 1931 р. державні заготівлі становили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80 млн. пудів хліб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4500720" y="400536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се це було досягнуто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за рахунок знекровлення сел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8D70-A1AB-4DD2-A343-8B5A362A044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5184720" cy="38163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"/>
          <p:cNvSpPr/>
          <p:nvPr/>
        </p:nvSpPr>
        <p:spPr>
          <a:xfrm>
            <a:off x="5867280" y="177336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У 1931 році у селя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вилучили все зерно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у тому числі і увесь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посівний фонд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5796000" y="3645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зимку 1931-1932 р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«привид» голоду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же стукав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 двері селянських хат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6E65-D38B-4F29-A18C-FC1E52FF9B8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200720" cy="5185080"/>
          </a:xfrm>
          <a:prstGeom prst="rect">
            <a:avLst/>
          </a:prstGeom>
          <a:ln w="0">
            <a:noFill/>
          </a:ln>
        </p:spPr>
      </p:pic>
      <p:sp>
        <p:nvSpPr>
          <p:cNvPr id="358" name="TextBox 2"/>
          <p:cNvSpPr/>
          <p:nvPr/>
        </p:nvSpPr>
        <p:spPr>
          <a:xfrm>
            <a:off x="3924360" y="59342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Закон від 7 серпня 1932 року – “Закон про п'ять колосків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57A3-4CB6-4E47-B2C6-BD7FFEE84D8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09:28:30Z</dcterms:created>
  <dc:creator>User</dc:creator>
  <dc:description/>
  <dc:language>en-US</dc:language>
  <cp:lastModifiedBy>Admin</cp:lastModifiedBy>
  <dcterms:modified xsi:type="dcterms:W3CDTF">2014-03-13T12:45:38Z</dcterms:modified>
  <cp:revision>117</cp:revision>
  <dc:subject/>
  <dc:title>ГОЛОДОМОР  В УКРАІНІ  в  1932-1933 ро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4000000000001024140</vt:lpwstr>
  </property>
</Properties>
</file>