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18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492-1B51-4571-AA0A-C3752E380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676D-69BC-418C-A44B-F36E1F5DA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D0F5-95AC-482F-9F51-367B3C20A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72C-5D5A-4D6F-8A1D-9D97A574F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9B7-4FAE-4432-A443-E26F2F093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1EB-F5EC-46AC-A504-5E5ACED33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902-2C6B-4D0C-B045-7F6620C10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499-A6B4-4DD9-BFA2-87A1D14DA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155-DC71-4F5A-A46A-56D6D694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FE6-E0F5-49E4-82B4-B13B81B3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565-F875-4CA4-82BD-CE10D2E7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06A-D7E9-4727-A74B-C5AA5096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3A2B-942A-4F64-9CCA-43213B90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1356-8E23-421F-83D3-BE880B3C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81BB-1B79-452C-99CB-BFB69FE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DE66-5FBB-4E6D-BF6F-EE124613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46EE-F433-4F8B-85E2-F4C2A3A7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08CA-723D-49B1-AB5C-48F07E07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3BE-B77E-4706-98DA-F71E8D4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002-7248-4F8A-A34F-2873CEF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7537-EDD3-436A-B997-432708B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AAA-7CE8-451D-A799-67531E4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67E2-55E2-445C-B8BE-CBA6536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48DB-15FD-44E7-A8AA-3D7FBE4C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F3C5-C7CA-4CDA-9F2C-FFC2081F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C62-6934-459C-8DC5-0DA014C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BB0-A0C1-4F81-96BA-6B39C5A8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D2F-F482-4D64-BCF8-1FB8E835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63-6AEF-444B-8589-09703DE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BCD-514B-4881-8531-4C89A8F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6CD-5F70-45CB-975B-A0D0367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60B-F57E-4994-B97E-F834EE7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473-660C-4DB4-87E6-26DF2A12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01B-BAEF-4B09-9671-695DE65132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4357800"/>
            <a:ext cx="792144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7650000" cy="601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біблія1"/>
          <p:cNvPicPr/>
          <p:nvPr/>
        </p:nvPicPr>
        <p:blipFill>
          <a:blip r:embed="rId3"/>
          <a:stretch/>
        </p:blipFill>
        <p:spPr>
          <a:xfrm>
            <a:off x="4857840" y="2714760"/>
            <a:ext cx="364644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6"/>
          <p:cNvSpPr/>
          <p:nvPr/>
        </p:nvSpPr>
        <p:spPr>
          <a:xfrm>
            <a:off x="108000" y="571680"/>
            <a:ext cx="8928000" cy="52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пинившись в еміграції, Є. Петрушевич утворив у серпні 1920р. уряд в екзилі і домігся включення галицького питання для розгляду на міжнародній конференції. Однак за рішенням Ради Антанти ці землі відійшли до Польщі. Петрушевич змушений розпустити уряд і переїхав до Берліну, де розповсюджував ноти протесту проти діяльності польських властей, надсилав заяви до Ліги Націй, видавав газету «Український прапор», надавав допомогу інтернованим частинам УГА у Чехословаччи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214200" y="285840"/>
            <a:ext cx="8929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Помер 29</a:t>
            </a:r>
            <a:r>
              <a:rPr b="1" i="1" lang="ru-RU" sz="2400" spc="-1" strike="noStrike">
                <a:solidFill>
                  <a:srgbClr val="660033"/>
                </a:solidFill>
                <a:latin typeface="Arial Narrow"/>
              </a:rPr>
              <a:t>.08.1940р. Похоронений на берлінському цвинтарі римо-католицької катедри св. Ядвіги представниками УНО.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2р. - перепохований у Львові на Личаківському кладови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8р. – у м. Буську на Львівщині відкрито перший монумент президенту ЗУНР – Євгену Петрушеви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У 2008р. Національний Банк України випустив монету на честь Є. Петруш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F:\петрушкаages.jpeg"/>
          <p:cNvPicPr/>
          <p:nvPr/>
        </p:nvPicPr>
        <p:blipFill>
          <a:blip r:embed="rId1"/>
          <a:stretch/>
        </p:blipFill>
        <p:spPr>
          <a:xfrm>
            <a:off x="500040" y="3429000"/>
            <a:ext cx="4116240" cy="307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i12mages.jpeg"/>
          <p:cNvPicPr/>
          <p:nvPr/>
        </p:nvPicPr>
        <p:blipFill>
          <a:blip r:embed="rId2"/>
          <a:stretch/>
        </p:blipFill>
        <p:spPr>
          <a:xfrm rot="406200">
            <a:off x="4538160" y="3957480"/>
            <a:ext cx="4238640" cy="21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3357720" y="1054080"/>
            <a:ext cx="550044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 народжуєтьс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не для того, щоб зникнути безвісною пилин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народжує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щоб лишити по собі слід віч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e636"/>
                </a:solidFill>
                <a:latin typeface="Monotype Corsiva"/>
              </a:rPr>
              <a:t>      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В. 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 flipH="1">
            <a:off x="856440" y="52149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u75_2308prapor"/>
          <p:cNvPicPr/>
          <p:nvPr/>
        </p:nvPicPr>
        <p:blipFill>
          <a:blip r:embed="rId1"/>
          <a:stretch/>
        </p:blipFill>
        <p:spPr>
          <a:xfrm>
            <a:off x="0" y="1785960"/>
            <a:ext cx="3357720" cy="438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2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168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5120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5120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Picture 5" descr="ycf41111020083524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1584000" y="1071720"/>
            <a:ext cx="643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уваг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9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820000" cy="621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Fudjik\AppData\Local\Microsoft\Windows\Temporary Internet Files\Content.IE5\PCK9Z93V\MC900234074[1].wmf"/>
          <p:cNvPicPr/>
          <p:nvPr/>
        </p:nvPicPr>
        <p:blipFill>
          <a:blip r:embed="rId2"/>
          <a:stretch/>
        </p:blipFill>
        <p:spPr>
          <a:xfrm>
            <a:off x="142920" y="214200"/>
            <a:ext cx="2068560" cy="215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222200" y="107172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357720" y="642960"/>
            <a:ext cx="5357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Пошуки шлях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державотворення українського народу на Галичині пов’язані з президентом ЗУНР Євгеном Петрушеви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F:\default.jpeg"/>
          <p:cNvPicPr/>
          <p:nvPr/>
        </p:nvPicPr>
        <p:blipFill>
          <a:blip r:embed="rId2"/>
          <a:stretch/>
        </p:blipFill>
        <p:spPr>
          <a:xfrm>
            <a:off x="428760" y="928800"/>
            <a:ext cx="294300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222200" y="321480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62110"/>
                </a:solidFill>
                <a:latin typeface="Cambri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071960" y="371484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6"/>
          <p:cNvSpPr/>
          <p:nvPr/>
        </p:nvSpPr>
        <p:spPr>
          <a:xfrm>
            <a:off x="0" y="0"/>
            <a:ext cx="8604360" cy="487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З’явився на політичній арені тоді, коли існуванню україн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самобутності загрожувало поглинення іноземними державами, а майбутнє самої  державності було поставлене під знак 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:\iпетрушкаmages.jpeg"/>
          <p:cNvPicPr/>
          <p:nvPr/>
        </p:nvPicPr>
        <p:blipFill>
          <a:blip r:embed="rId2"/>
          <a:stretch/>
        </p:blipFill>
        <p:spPr>
          <a:xfrm rot="343800">
            <a:off x="4260960" y="3895200"/>
            <a:ext cx="3760560" cy="252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500040" y="285840"/>
            <a:ext cx="796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Є.Петрушевич народився у Буську (тепер Львівська обл.) у сім’ї священника. Навчався в Академічній гімназії у Львові та на правничому факультеті Львівського університету. Відкрив власну адвокатську контору у Сокалі. В 1907-18рр. – посол австрійського парламенту, а з 1910р. – депутат галицького сой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:\петрушкаes.jpeg"/>
          <p:cNvPicPr/>
          <p:nvPr/>
        </p:nvPicPr>
        <p:blipFill>
          <a:blip r:embed="rId2"/>
          <a:stretch/>
        </p:blipFill>
        <p:spPr>
          <a:xfrm rot="21230400">
            <a:off x="344520" y="3583080"/>
            <a:ext cx="3000240" cy="2577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3714840" y="331776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Під час Першої світової війни 1914-1918рр. – член Головної Української Ради та Загальної Української ради. В 1917-18рр. – голова Української Парламентарної Репрезентації в австрійському парламен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395280" y="1052640"/>
            <a:ext cx="810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Парламентську діяльність  Є.Петрушевича високо оцінював  К.Левицький: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«Євген Петрушевич виявляв велику енергію у важнійших хвилинах наших визвольних змагань,- писав він у спогадах 1937р. – Поміж послами належав до діячів гострійшого тону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14200" y="285840"/>
            <a:ext cx="8929800" cy="58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Усвідомлюючи розвал імперії Габсбургів, галицькі політики під керівництвом Є. Петрушевича прийняли рішення скликати у Львові Українську конституанту, яка проголосила утворення незалежної держави й обрала УНРаду на чолі з президентом Є. Петрушеви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21 жовтня у Народному домі у присутності митрополита А. Шептицького він виклав план мирного й легального переходу влади до рук українців. Однак мирним шляхом  перебрати владу в Галичині не вдалося</a:t>
            </a: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1 листопада 1918року відбулось переможне повстання  у Львові («Листопадовий чин») й на теренах Галичини і Буковини проголошено утворення Західноукраїнської Народної Республіки, президентом став Є. Петрушевич.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717040" cy="44989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034480" cy="482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Заголовок 6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820000" cy="52434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6"/>
          <p:cNvSpPr/>
          <p:nvPr/>
        </p:nvSpPr>
        <p:spPr>
          <a:xfrm>
            <a:off x="2340000" y="93348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581040" y="560520"/>
            <a:ext cx="7643880" cy="573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дне з найважливіших завдань на етапі творення державності Є. Петрушевич вбачав у формуванні боєздатної армії, спроможної відстояти незалежність республіки. Було створено Українську Галицьку Армію, яка опиралася на офіцерів-галичан, а також офіцерів інших національ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160b"/>
                </a:solidFill>
                <a:latin typeface="Bookman Old Style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лиш</dc:creator>
  <dc:description/>
  <dc:language>en-US</dc:language>
  <cp:lastModifiedBy>ADMIN</cp:lastModifiedBy>
  <dcterms:modified xsi:type="dcterms:W3CDTF">2014-02-11T16:53:38Z</dcterms:modified>
  <cp:revision>223</cp:revision>
  <dc:subject/>
  <dc:title>Презентація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a000000000001024140</vt:lpwstr>
  </property>
  <property fmtid="{D5CDD505-2E9C-101B-9397-08002B2CF9AE}" pid="3" name="_TemplateID">
    <vt:lpwstr>TC019087029991</vt:lpwstr>
  </property>
</Properties>
</file>