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png" ContentType="image/png"/>
  <Override PartName="/ppt/media/image6.wmf" ContentType="image/x-wmf"/>
  <Override PartName="/ppt/media/image18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363D-AFCA-4FBF-BAF0-E560CC0BF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BD38-3020-407F-B70F-56E30F3ED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2AC-3E6F-499C-A366-A625659CA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972-1879-4386-9B32-E952C7A5D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1F68-F4CC-47C5-92BF-1204A354C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925C-52AE-440F-920F-7F28CF2B4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124-9DA9-4384-A020-022D9D9A0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3851-6E43-444F-82D4-E93578EF7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A45-5E62-4D5D-A7A6-918BAA1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7B0-DC0A-4F56-BE1D-E43B432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EC0-326D-4E65-8F19-25E6516E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94C-C2DE-48D2-BBA9-8606330A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E23-7432-459D-BE7A-62DBC85E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BC67-F8B7-4F3F-999C-B15E5771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3491-331E-48AD-9211-5580761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93DA-4377-4C37-9224-E8514A8E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F6A-7903-47BE-83CD-E63AFEE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3695-090D-49E5-A4AF-35E7F1D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88B5-0AF4-46B9-8882-DB20387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239-B2DE-4B04-8134-1B6A2E7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EC4E-D64B-48AB-A766-99E5101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5492-67C8-4926-BE7E-74653D1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1802-98C4-40B3-81C6-D1089795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124-D8C0-4FEC-8147-672C9050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C345-C7CB-4F3F-85E0-0AC8249A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9A1-7566-4947-9F9F-DC6AEE5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F29-87A2-4697-8CE0-C4687B0A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17-5897-462C-B7AF-473590F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61A-A188-4179-AAF1-A39BEC8C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962-3273-4244-A9A0-95CB5A1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364-6C88-491A-BA4B-A1489AC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896-C901-4A2D-8636-A3A0D6C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AFB-DA14-4771-9BAC-95CB87BB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617-C4A4-4EFF-9DF8-D61165F92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4357800"/>
            <a:ext cx="792144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7650000" cy="601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біблія1"/>
          <p:cNvPicPr/>
          <p:nvPr/>
        </p:nvPicPr>
        <p:blipFill>
          <a:blip r:embed="rId3"/>
          <a:stretch/>
        </p:blipFill>
        <p:spPr>
          <a:xfrm>
            <a:off x="4857840" y="2714760"/>
            <a:ext cx="3646440" cy="33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6"/>
          <p:cNvSpPr/>
          <p:nvPr/>
        </p:nvSpPr>
        <p:spPr>
          <a:xfrm>
            <a:off x="108000" y="571680"/>
            <a:ext cx="8928000" cy="52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пинившись в еміграції, Є. Петрушевич утворив у серпні 1920р. уряд в екзилі і домігся включення галицького питання для розгляду на міжнародній конференції. Однак за рішенням Ради Антанти ці землі відійшли до Польщі. Петрушевич змушений розпустити уряд і переїхав до Берліну, де розповсюджував ноти протесту проти діяльності польських властей, надсилав заяви до Ліги Націй, видавав газету «Український прапор», надавав допомогу інтернованим частинам УГА у Чехословаччи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214200" y="285840"/>
            <a:ext cx="8929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Помер 29</a:t>
            </a:r>
            <a:r>
              <a:rPr b="1" i="1" lang="ru-RU" sz="2400" spc="-1" strike="noStrike">
                <a:solidFill>
                  <a:srgbClr val="660033"/>
                </a:solidFill>
                <a:latin typeface="Arial Narrow"/>
              </a:rPr>
              <a:t>.08.1940р. Похоронений на берлінському цвинтарі римо-католицької катедри св. Ядвіги представниками УНО.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2р. - перепохований у Львові на Личаківському кладовищ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1.11.2008р. – у м. Буську на Львівщині відкрито перший монумент президенту ЗУНР – Євгену Петрушеви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        </a:t>
            </a:r>
            <a:r>
              <a:rPr b="1" i="1" lang="uk-UA" sz="2400" spc="-1" strike="noStrike">
                <a:solidFill>
                  <a:srgbClr val="660033"/>
                </a:solidFill>
                <a:latin typeface="Arial Narrow"/>
              </a:rPr>
              <a:t>У 2008р. Національний Банк України випустив монету на честь Є. Петруш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F:\петрушкаages.jpeg"/>
          <p:cNvPicPr/>
          <p:nvPr/>
        </p:nvPicPr>
        <p:blipFill>
          <a:blip r:embed="rId1"/>
          <a:stretch/>
        </p:blipFill>
        <p:spPr>
          <a:xfrm>
            <a:off x="500040" y="3429000"/>
            <a:ext cx="4116240" cy="307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:\i12mages.jpeg"/>
          <p:cNvPicPr/>
          <p:nvPr/>
        </p:nvPicPr>
        <p:blipFill>
          <a:blip r:embed="rId2"/>
          <a:stretch/>
        </p:blipFill>
        <p:spPr>
          <a:xfrm rot="406200">
            <a:off x="4538160" y="3957480"/>
            <a:ext cx="4238640" cy="21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3357720" y="1054080"/>
            <a:ext cx="550044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 народжується 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не для того, щоб зникнути безвісною пилин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Людина народжує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щоб лишити по собі слід віч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e636"/>
                </a:solidFill>
                <a:latin typeface="Monotype Corsiva"/>
              </a:rPr>
              <a:t>      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  </a:t>
            </a:r>
            <a:r>
              <a:rPr b="1" i="1" lang="uk-UA" sz="2800" spc="-1" strike="noStrike">
                <a:solidFill>
                  <a:srgbClr val="ffe636"/>
                </a:solidFill>
                <a:latin typeface="Monotype Corsiva"/>
              </a:rPr>
              <a:t>В. 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 flipH="1">
            <a:off x="856440" y="52149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u75_2308prapor"/>
          <p:cNvPicPr/>
          <p:nvPr/>
        </p:nvPicPr>
        <p:blipFill>
          <a:blip r:embed="rId1"/>
          <a:stretch/>
        </p:blipFill>
        <p:spPr>
          <a:xfrm>
            <a:off x="0" y="1785960"/>
            <a:ext cx="3357720" cy="438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2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168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51200" y="167616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51200" y="3970080"/>
            <a:ext cx="419112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Picture 5" descr="ycf41111020083524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1584000" y="1071720"/>
            <a:ext cx="643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                </a:t>
            </a:r>
            <a:r>
              <a:rPr b="1" i="1" lang="uk-UA" sz="7200" spc="-1" strike="noStrike">
                <a:solidFill>
                  <a:srgbClr val="ffff00"/>
                </a:solidFill>
                <a:latin typeface="Arial Black"/>
              </a:rPr>
              <a:t>уваг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9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820000" cy="621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Fudjik\AppData\Local\Microsoft\Windows\Temporary Internet Files\Content.IE5\PCK9Z93V\MC900234074[1].wmf"/>
          <p:cNvPicPr/>
          <p:nvPr/>
        </p:nvPicPr>
        <p:blipFill>
          <a:blip r:embed="rId2"/>
          <a:stretch/>
        </p:blipFill>
        <p:spPr>
          <a:xfrm>
            <a:off x="142920" y="214200"/>
            <a:ext cx="2068560" cy="215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222200" y="107172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cdfe3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3357720" y="642960"/>
            <a:ext cx="5357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Пошуки шлях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9213a"/>
                </a:solidFill>
                <a:latin typeface="Bookman Old Style"/>
              </a:rPr>
              <a:t>державотворення українського народу на Галичині пов’язані з президентом ЗУНР Євгеном Петрушеви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F:\default.jpeg"/>
          <p:cNvPicPr/>
          <p:nvPr/>
        </p:nvPicPr>
        <p:blipFill>
          <a:blip r:embed="rId2"/>
          <a:stretch/>
        </p:blipFill>
        <p:spPr>
          <a:xfrm>
            <a:off x="428760" y="928800"/>
            <a:ext cx="2943000" cy="414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222200" y="3214800"/>
            <a:ext cx="792180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6"/>
          <p:cNvSpPr/>
          <p:nvPr/>
        </p:nvSpPr>
        <p:spPr>
          <a:xfrm>
            <a:off x="3419640" y="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62110"/>
                </a:solidFill>
                <a:latin typeface="Cambria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071960" y="371484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6"/>
          <p:cNvSpPr/>
          <p:nvPr/>
        </p:nvSpPr>
        <p:spPr>
          <a:xfrm>
            <a:off x="0" y="0"/>
            <a:ext cx="8604360" cy="487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З’явився на політичній арені тоді, коли існуванню україн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a160b"/>
                </a:solidFill>
                <a:latin typeface="Arial"/>
              </a:rPr>
              <a:t>самобутності загрожувало поглинення іноземними державами, а майбутнє самої  державності було поставлене під знак 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:\iпетрушкаmages.jpeg"/>
          <p:cNvPicPr/>
          <p:nvPr/>
        </p:nvPicPr>
        <p:blipFill>
          <a:blip r:embed="rId2"/>
          <a:stretch/>
        </p:blipFill>
        <p:spPr>
          <a:xfrm rot="343800">
            <a:off x="4260960" y="3895200"/>
            <a:ext cx="3760560" cy="252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8"/>
          <p:cNvSpPr/>
          <p:nvPr/>
        </p:nvSpPr>
        <p:spPr>
          <a:xfrm>
            <a:off x="500040" y="285840"/>
            <a:ext cx="796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Є.Петрушевич народився у Буську (тепер Львівська обл.) у сім’ї священника. Навчався в Академічній гімназії у Львові та на правничому факультеті Львівського університету. Відкрив власну адвокатську контору у Сокалі. В 1907-18рр. – посол австрійського парламенту, а з 1910р. – депутат галицького сой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:\петрушкаes.jpeg"/>
          <p:cNvPicPr/>
          <p:nvPr/>
        </p:nvPicPr>
        <p:blipFill>
          <a:blip r:embed="rId2"/>
          <a:stretch/>
        </p:blipFill>
        <p:spPr>
          <a:xfrm rot="21230400">
            <a:off x="344520" y="3583080"/>
            <a:ext cx="3000240" cy="2577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3714840" y="331776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Calibri"/>
                <a:ea typeface="Arial Unicode MS"/>
              </a:rPr>
              <a:t>Під час Першої світової війни 1914-1918рр. – член Головної Української Ради та Загальної Української ради. В 1917-18рр. – голова Української Парламентарної Репрезентації в австрійському парламен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395280" y="1052640"/>
            <a:ext cx="810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Парламентську діяльність  Є.Петрушевича високо оцінював  К.Левицький: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 Narrow"/>
              </a:rPr>
              <a:t>«Євген Петрушевич виявляв велику енергію у важнійших хвилинах наших визвольних змагань,- писав він у спогадах 1937р. – Поміж послами належав до діячів гострійшого тону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14200" y="285840"/>
            <a:ext cx="8929800" cy="58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Усвідомлюючи розвал імперії Габсбургів, галицькі політики під керівництвом Є. Петрушевича прийняли рішення скликати у Львові Українську конституанту, яка проголосила утворення незалежної держави й обрала УНРаду на чолі з президентом Є. Петрушеви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 Narrow"/>
              </a:rPr>
              <a:t>21 жовтня у Народному домі у присутності митрополита А. Шептицького він виклав план мирного й легального переходу влади до рук українців. Однак мирним шляхом  перебрати владу в Галичині не вдалося</a:t>
            </a: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Arial Narrow"/>
              </a:rPr>
              <a:t>1 листопада 1918року відбулось переможне повстання  у Львові («Листопадовий чин») й на теренах Галичини і Буковини проголошено утворення Західноукраїнської Народної Республіки, президентом став Є. Петрушевич.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Заголовок 6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717040" cy="44989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6"/>
          <p:cNvSpPr/>
          <p:nvPr/>
        </p:nvSpPr>
        <p:spPr>
          <a:xfrm>
            <a:off x="3419640" y="1413000"/>
            <a:ext cx="5473440" cy="146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8034480" cy="482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421000"/>
            <a:ext cx="79214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Заголовок 6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820000" cy="52434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6"/>
          <p:cNvSpPr/>
          <p:nvPr/>
        </p:nvSpPr>
        <p:spPr>
          <a:xfrm>
            <a:off x="2340000" y="933480"/>
            <a:ext cx="5724360" cy="242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929040" y="2967120"/>
            <a:ext cx="44686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581040" y="560520"/>
            <a:ext cx="7643880" cy="573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Одне з найважливіших завдань на етапі творення державності Є. Петрушевич вбачав у формуванні боєздатної армії, спроможної відстояти незалежність республіки. Було створено Українську Галицьку Армію, яка опиралася на офіцерів-галичан, а також офіцерів інших національ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a160b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a160b"/>
                </a:solidFill>
                <a:latin typeface="Bookman Old Style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a160b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лиш</dc:creator>
  <dc:description/>
  <dc:language>en-US</dc:language>
  <cp:lastModifiedBy>ADMIN</cp:lastModifiedBy>
  <dcterms:modified xsi:type="dcterms:W3CDTF">2014-02-11T16:53:38Z</dcterms:modified>
  <cp:revision>223</cp:revision>
  <dc:subject/>
  <dc:title>Презентація на тем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a000000000001024140</vt:lpwstr>
  </property>
  <property fmtid="{D5CDD505-2E9C-101B-9397-08002B2CF9AE}" pid="3" name="_TemplateID">
    <vt:lpwstr>TC019087029991</vt:lpwstr>
  </property>
</Properties>
</file>