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C7AA-14AF-42F6-8886-5571A2164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D843-10DE-4080-AD05-89C4897A3B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66B-F942-43FA-A37C-7A12F0C1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EEB-965C-4AD1-845C-DFB84E17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B8DEB-3BB6-4398-8AF8-E986A953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A17A6-E1CD-4382-936A-9D15126C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A5A7C-801C-4033-B880-F9C2F5C6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BFDDD-F3CE-4699-9630-51904BD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FDC9F-EA80-46CC-97C5-1900452B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E8C2-220B-4FF8-814D-272A5676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E8CB-B49B-46BA-AD24-E4CFEC71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0A56C-8082-4A1D-8F2E-5BA59A33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F66F8-4577-4A65-B2F6-199C74C8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EDF-A617-433B-98C5-A6D0419D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2F2-BA02-470C-B7A4-184404E2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67E-D0C4-4D79-8929-AA398968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D5C9-D12F-4647-AEA6-3F7EC3A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626E-BF4B-472F-ABD9-373E1B1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0563-FFF1-4F58-BE41-1A2BB3C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5639-17F5-4E3B-9645-F80D10CD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A027-FDD3-4802-9DA0-E069ADD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5055-7AC8-4397-8BD2-59835AA1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FC5-6AB0-49C3-983E-80E808D9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6B97-2B54-44A7-8D45-45ECAB00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E67F-9DCD-4F53-9F25-9980E6BE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99D2-9BF9-414D-BAAC-E9B6983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5C0D-2922-434B-A23B-FC3D9189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8109-C3BF-4F61-9D48-F96FBDF0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3976-B537-4265-8ACF-6A4D2BF4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887B-C5C1-49A4-80AA-B3E33581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6C41-F8E4-4E34-8974-C8ADDEA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E37E-6545-4C03-A748-C7E662F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2A31E-F6BD-433E-A14F-C870802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6E4-491F-4AC6-A59A-1CC8673C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1C6F-C475-482D-AAC2-DD785FD0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B055-1F5C-4BB9-BE9A-6ECC19E6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95E3-DEE3-4CFB-A2D2-33738B5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68E1-F7F0-4BFE-B0B3-BD8D980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8DEE-45CA-43E4-B308-5EA8F0F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7A41-5EE6-41DF-AA56-4E762136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928C-1372-40D1-BCDD-A5074D12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841C-2700-480A-91D1-8B50C39A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C6E6-F94B-43B6-90D6-659A84E2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B3C4-C081-4ED5-B801-08F7059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598-F6E3-466B-AD8F-EFF2BD0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F2246-A173-4899-B5FF-F85513A6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59123-3528-41D3-A2A9-C0A3906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515F-C53F-48CA-8EC4-334DFB1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2527-277A-448E-8DCA-A987F110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4388-9AB9-4304-8C7B-BAB6F8F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7D4D-0BD1-43F4-BA80-9A91CDBC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F4D1-0844-448C-9B42-3325B3BD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5B33-9C20-4C25-9258-138E93E6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296B-D489-4385-8E59-360455D7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998D-937B-42C2-BF74-77ABC066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23A-BE15-4010-89CF-5169E35E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6A42-08A6-464D-ACE1-623E2CC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FD81-35C8-46BF-978A-B25DAFC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78E5-ABE1-430A-A1EA-80A9910D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973D-F93A-4ABA-B26B-93AADC7A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8E15-56FC-44B4-B379-1BBC3511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696F-6469-4068-BC64-C6566E70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3D32-5484-46E6-A123-C4B1586B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D9F9-D088-43E0-B979-37E5964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8E08-C941-48DD-B474-ECB4C992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061BA-F477-40A5-AB67-75B23823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086-49F7-4303-9DB5-FA90A75A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E9D2-1F07-4428-8C5F-8A879DA0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5365-359E-4B36-8670-6C960124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D64E0-CBAE-4772-8B8A-D21865A8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0018-FB9D-4019-893C-0A9F74EE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54FC-86B1-42AC-A456-98249DF6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E3F0-CC1E-4AE5-AFF6-05B769C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21A1A-61CD-4A15-961A-1CDB603E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E3CF6-BC91-4B91-AD50-9056BD5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8637-A847-4D66-99DA-B18866F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7643-4803-45D0-886C-974A419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EE0-ADA4-4C52-A0D7-9E9A611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66D6-12A2-4C9B-B16B-521763BE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7CB7-731A-41BB-9A1E-FD4CF2DA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9AFD6-5CC4-4C72-A37A-FEE6F9A5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8978E-1605-4768-A430-219A3DD4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DC7A-8163-4E3E-BE52-1067570A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8DA0-5DA5-4FF4-A785-ACA63E16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7D4BA-0A3E-4CB2-A658-A7D7B260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A9828-CD7F-44FA-938D-EE301D91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F02E-500C-48C3-80B1-4724116D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B9B4-F293-45D4-840D-8F47C40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3F0-EB96-4103-9E5D-C3651F51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9EF4-85C2-48C8-993D-84548F21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0BB1-20E5-43BF-9CE7-F868058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65DD0-B2F1-4E05-AE76-F17F19D8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2FE4-9147-437F-94C5-E23CB7A4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D0CE6-C03A-416A-BE60-405EAEC3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6F05-661B-4DE0-962B-79815B1C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65B81-CCD3-49F4-9061-9824E11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913AA-345F-4F7A-8A05-AC6E1776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8E744-2897-483F-B1A7-C3877B96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F5B4F-153E-4962-8B76-7D0E704E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C68-689B-4F33-97FF-B3B2493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4E0C0-05AE-4866-B4A9-F63215EA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A412-F64B-4F42-8232-F2DEEDD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23A26-388C-4FB1-A327-342D8FB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35B3C-F4A8-494B-832D-AAEEC3B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90CC-1414-4BF3-A881-BDB1122E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E0AD1-BF22-4FDD-87FA-373DD83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B8EC3-C155-447F-B5F7-187C102E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28CC1-07CF-4361-B674-97D8B6F9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16CCF-CC29-4EF7-A5D8-F24BB433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163A5-142F-48AF-9623-4B9D483C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F25-ABF9-4BA9-A2A6-1CE6216306F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E723-B721-46EE-8180-8789F294A4B1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BBC7-B9A6-4423-A7A1-0940C57F053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3C93-95EF-4FD8-83D3-7587A497F3E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A01-6AC0-43C9-921C-306275113DC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201C-B5FC-4FD3-807A-6851DE44857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E87E-477C-41B4-9B4F-4A09A45E114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791-8C58-4953-8FC4-EFA41AE697E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DDF-DA10-4FC4-B714-C784150A88D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122400" y="1176480"/>
            <a:ext cx="8515080" cy="1968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11640" y="4724280"/>
            <a:ext cx="39290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Franklin Gothic Book"/>
              </a:rPr>
              <a:t>                      </a:t>
            </a: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9  к л а с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428760" y="857160"/>
            <a:ext cx="49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УРОК 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з 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Franklin Gothic Book"/>
              </a:rPr>
              <a:t>і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торії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 України  на тем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Рисунок 4" descr="iкирил и мефодий.jpg"/>
          <p:cNvPicPr/>
          <p:nvPr/>
        </p:nvPicPr>
        <p:blipFill>
          <a:blip r:embed="rId3"/>
          <a:stretch/>
        </p:blipFill>
        <p:spPr>
          <a:xfrm>
            <a:off x="539640" y="4149720"/>
            <a:ext cx="3384720" cy="23036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5"/>
          <p:cNvSpPr/>
          <p:nvPr/>
        </p:nvSpPr>
        <p:spPr>
          <a:xfrm>
            <a:off x="4284720" y="4797360"/>
            <a:ext cx="34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СЛОВ</a:t>
            </a:r>
            <a:r>
              <a:rPr b="0" lang="en-US" sz="1600" spc="-1" strike="noStrike">
                <a:solidFill>
                  <a:srgbClr val="5a2c64"/>
                </a:solidFill>
                <a:latin typeface="Franklin Gothic Book"/>
              </a:rPr>
              <a:t>`</a:t>
            </a: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ЯНСЬКІ ПРОСВЕТИТЕЛІ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КИРИЛ ТА МЕФОДІ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3" descr="гулак.jpg"/>
          <p:cNvPicPr/>
          <p:nvPr/>
        </p:nvPicPr>
        <p:blipFill>
          <a:blip r:embed="rId2"/>
          <a:stretch/>
        </p:blipFill>
        <p:spPr>
          <a:xfrm>
            <a:off x="324000" y="549360"/>
            <a:ext cx="3816360" cy="5661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4284720" y="1125360"/>
            <a:ext cx="5170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Franklin Gothic Book"/>
              </a:rPr>
              <a:t>Микола  Гулак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Franklin Gothic Book"/>
              </a:rPr>
              <a:t>(1822-1899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Засновник, головний діяч Кирило-Мефодіївського братств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Громадсько - пол</a:t>
            </a: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ітичний дія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педагог, учений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3" name="Рисунок 5" descr="гулак.jpg"/>
          <p:cNvPicPr/>
          <p:nvPr/>
        </p:nvPicPr>
        <p:blipFill>
          <a:blip r:embed="rId3"/>
          <a:stretch/>
        </p:blipFill>
        <p:spPr>
          <a:xfrm>
            <a:off x="324000" y="549360"/>
            <a:ext cx="3816360" cy="566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" descr="C:\Users\graf\Desktop\Кулиш.jpg"/>
          <p:cNvPicPr/>
          <p:nvPr/>
        </p:nvPicPr>
        <p:blipFill>
          <a:blip r:embed="rId2"/>
          <a:stretch/>
        </p:blipFill>
        <p:spPr>
          <a:xfrm>
            <a:off x="324000" y="907920"/>
            <a:ext cx="3606480" cy="5173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140360" y="1052280"/>
            <a:ext cx="4147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Franklin Gothic Book"/>
              </a:rPr>
              <a:t>Пантелеймон Куліш </a:t>
            </a:r>
            <a:r>
              <a:rPr b="1" i="1" lang="ru-RU" sz="4000" spc="-1" strike="noStrike">
                <a:solidFill>
                  <a:srgbClr val="b13f9a"/>
                </a:solidFill>
                <a:latin typeface="Franklin Gothic Book"/>
              </a:rPr>
              <a:t>-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4106520" y="2349360"/>
            <a:ext cx="510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Видатний письменник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України, поет, етнограф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критик, громадськи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дія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4643280" y="2349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(1819 - 1897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3" descr="пан кулиш.jpg"/>
          <p:cNvPicPr/>
          <p:nvPr/>
        </p:nvPicPr>
        <p:blipFill>
          <a:blip r:embed="rId2"/>
          <a:stretch/>
        </p:blipFill>
        <p:spPr>
          <a:xfrm>
            <a:off x="61128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6300720" y="2133720"/>
            <a:ext cx="24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Портрет Пантелемон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Куліш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написаний Тарасом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игоровичем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Шевченк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2"/>
          <a:stretch/>
        </p:blipFill>
        <p:spPr>
          <a:xfrm>
            <a:off x="-201600" y="469800"/>
            <a:ext cx="889488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bilozerskij-vasil.jpg"/>
          <p:cNvPicPr/>
          <p:nvPr/>
        </p:nvPicPr>
        <p:blipFill>
          <a:blip r:embed="rId3"/>
          <a:stretch/>
        </p:blipFill>
        <p:spPr>
          <a:xfrm>
            <a:off x="1332000" y="1557360"/>
            <a:ext cx="2361960" cy="3645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3631680" y="1916280"/>
            <a:ext cx="456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2f74"/>
                </a:solidFill>
                <a:latin typeface="Franklin Gothic Book"/>
              </a:rPr>
              <a:t>Письменник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редактор першог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українського журналу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“</a:t>
            </a: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ОСНОВА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4207320" y="126828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25-1899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1" descr="савич.jpg"/>
          <p:cNvPicPr/>
          <p:nvPr/>
        </p:nvPicPr>
        <p:blipFill>
          <a:blip r:embed="rId2"/>
          <a:stretch/>
        </p:blipFill>
        <p:spPr>
          <a:xfrm>
            <a:off x="250920" y="404640"/>
            <a:ext cx="4681440" cy="5328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2"/>
          <p:cNvSpPr/>
          <p:nvPr/>
        </p:nvSpPr>
        <p:spPr>
          <a:xfrm>
            <a:off x="5003640" y="1197000"/>
            <a:ext cx="3745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Микола  Савич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08-1892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Громадсько-політичний діяч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публіцист, однодумец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Т.Г.Шевченк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2" descr=""/>
          <p:cNvPicPr/>
          <p:nvPr/>
        </p:nvPicPr>
        <p:blipFill>
          <a:blip r:embed="rId2"/>
          <a:stretch/>
        </p:blipFill>
        <p:spPr>
          <a:xfrm>
            <a:off x="49320" y="-6480"/>
            <a:ext cx="8362800" cy="1438560"/>
          </a:xfrm>
          <a:prstGeom prst="rect">
            <a:avLst/>
          </a:prstGeom>
          <a:ln w="0">
            <a:noFill/>
          </a:ln>
        </p:spPr>
      </p:pic>
      <p:pic>
        <p:nvPicPr>
          <p:cNvPr id="457" name="Объект 1" descr=""/>
          <p:cNvPicPr/>
          <p:nvPr/>
        </p:nvPicPr>
        <p:blipFill>
          <a:blip r:embed="rId3"/>
          <a:stretch/>
        </p:blipFill>
        <p:spPr>
          <a:xfrm>
            <a:off x="3919680" y="1620720"/>
            <a:ext cx="4267080" cy="307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graf\Desktop\этнограф-фольклорист Афанасий Маркович.jpg"/>
          <p:cNvPicPr/>
          <p:nvPr/>
        </p:nvPicPr>
        <p:blipFill>
          <a:blip r:embed="rId4"/>
          <a:stretch/>
        </p:blipFill>
        <p:spPr>
          <a:xfrm>
            <a:off x="539640" y="1265400"/>
            <a:ext cx="2986200" cy="43956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421164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22-1862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graf\Desktop\шева.jpg"/>
          <p:cNvPicPr/>
          <p:nvPr/>
        </p:nvPicPr>
        <p:blipFill>
          <a:blip r:embed="rId2"/>
          <a:stretch/>
        </p:blipFill>
        <p:spPr>
          <a:xfrm>
            <a:off x="395280" y="1052640"/>
            <a:ext cx="3178080" cy="48243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5"/>
          <p:cNvSpPr/>
          <p:nvPr/>
        </p:nvSpPr>
        <p:spPr>
          <a:xfrm>
            <a:off x="3851280" y="2637000"/>
            <a:ext cx="502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2f74"/>
                </a:solidFill>
                <a:latin typeface="Franklin Gothic Book"/>
              </a:rPr>
              <a:t>видатний  український  письменник ,  «Кобзар»  українського  народу</a:t>
            </a:r>
            <a:r>
              <a:rPr b="0" lang="ru-RU" sz="3200" spc="-1" strike="noStrike">
                <a:solidFill>
                  <a:srgbClr val="852f74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3635280" y="476280"/>
            <a:ext cx="50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Franklin Gothic Book"/>
              </a:rPr>
              <a:t>Тарас Григорович Шевченко -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57200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(1814 -1861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ИЗОБР ШЕВЧЕНКО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050560" y="-360"/>
            <a:ext cx="6573960" cy="71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52f74"/>
                </a:solidFill>
                <a:latin typeface="Franklin Gothic Book"/>
              </a:rPr>
              <a:t>               </a:t>
            </a:r>
            <a:r>
              <a:rPr b="1" i="1" lang="ru-RU" sz="2000" spc="-1" strike="noStrike">
                <a:solidFill>
                  <a:srgbClr val="852f74"/>
                </a:solidFill>
                <a:latin typeface="Franklin Gothic Book"/>
              </a:rPr>
              <a:t>У Шевченка Т. Г. вже в першій половині 40-х років XIX ст. сформувався  революційно - демократичний  світогляд. У ряді своїх творів, і перш за все в 'I мертвим, i живим, i ненародженім землякам моїм', в 'Заповітi', він закликав народ до боротьби за свою свободу, кінцевою метою якої повинна була стати демократична республіка, (на відміну від М. Костомарова, який вважав за необхідне зберегти монархічну форму правління). У своїх ідеалах великий поет спирався на демократичні засади організації Запорізької Січі, боротьби українського народу за свободу. Та Кобзар дивився не тільки в минуле: зразком демократії державно-політичного устрою в свій час він вважав політичний устрій США, асоціюючи послідовну боротьбу за демократію і незалежність із першим американським президентом. Звертаючись до своїх співвітчизників, він запитував: 'Коли ми дождемося Вашингтона з новим i праведним законом?' І оптимістично стверджував: ‘дождемось таки колись "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66" name="Рисунок 2" descr="шевч.jpg"/>
          <p:cNvPicPr/>
          <p:nvPr/>
        </p:nvPicPr>
        <p:blipFill>
          <a:blip r:embed="rId2"/>
          <a:stretch/>
        </p:blipFill>
        <p:spPr>
          <a:xfrm>
            <a:off x="179280" y="260280"/>
            <a:ext cx="2232000" cy="309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2"/>
          <a:stretch/>
        </p:blipFill>
        <p:spPr>
          <a:xfrm>
            <a:off x="103320" y="96840"/>
            <a:ext cx="889452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304920" y="1554120"/>
          <a:ext cx="8686800" cy="50292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426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                 </a:t>
                      </a: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П р о г р а м о в і   ц і л 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1. Знищення царизму,кріпосного праву, і поділу населення на ста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2.Об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єднання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 у єдину федераці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08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3. Кожний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й народ зберігає свою самостійність і незалежність й утворює власну державу з республіканською формою правління у складі федерації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4. Управління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ою федерацією повинен здійснювати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й собор із представників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5.Проголошення рівності,демократичних прав і свобод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6. Розвиток національної мови та культури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7.Українському народові відводилася місія визволителя та об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єднувача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8.Правове законодавство має грунтуватися на релігійних іде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1779480" y="25560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dec2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Мислі кирило-мефодіївських братчиків зоставили глибокий слід, вони жили далі і будили політичну і соціальну українську мисль…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Від Кирило-Мефодіївського братства веде свою історію весь новий український політичний рух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                           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М.С.Грушевський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2" descr=""/>
          <p:cNvPicPr/>
          <p:nvPr/>
        </p:nvPicPr>
        <p:blipFill>
          <a:blip r:embed="rId2"/>
          <a:stretch/>
        </p:blipFill>
        <p:spPr>
          <a:xfrm>
            <a:off x="-1407960" y="-6480"/>
            <a:ext cx="10186920" cy="13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304920" y="1554120"/>
          <a:ext cx="8686800" cy="39625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068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Помірно -лібераль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      </a:t>
                      </a: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Радикаль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51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Костомаров, Куліш, Бєлозерськ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Марк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Прагнуть досягти поставленої мети шляхом проведення реформ і здійснення поступових перетв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Шевченко ,Навроцький ,Гулак, Пос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Виступають за революційний переворот,встановлення республіки,соціальне й національне звільнення українського наро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2"/>
          <a:stretch/>
        </p:blipFill>
        <p:spPr>
          <a:xfrm>
            <a:off x="237960" y="-6480"/>
            <a:ext cx="8912520" cy="1397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50920" y="1341000"/>
            <a:ext cx="8740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1.Поклало початок переходу від культурницького до політичного етапу боротьби за національний розвиток України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2.Це була спроба передової частини української інтелігенції осмислити та визначити місце і роль українського  народу в тогочасному світі 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3.Спроектували передові західноєвропейські ідеї на український грунт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4. Сформулювали основні засади українського національного відродження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5. Визначили форми і методи досягнення поставленої мети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6. Діяльність товариства – то був початок довгої безупинної  боротьби української інтелігенції з російським царизмом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3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042920" y="148428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Ч</a:t>
            </a: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итати та переказувати параграф 14 підручник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відповісти на питання  стор. 117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2.Творчі завдання на вибір учні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extBox 5" descr=""/>
          <p:cNvPicPr/>
          <p:nvPr/>
        </p:nvPicPr>
        <p:blipFill>
          <a:blip r:embed="rId3"/>
          <a:stretch/>
        </p:blipFill>
        <p:spPr>
          <a:xfrm>
            <a:off x="328680" y="3108240"/>
            <a:ext cx="9291600" cy="320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2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210f17"/>
                </a:solidFill>
                <a:latin typeface="Franklin Gothic Book"/>
              </a:rPr>
              <a:t>        </a:t>
            </a:r>
            <a:r>
              <a:rPr b="0" i="1" lang="ru-RU" sz="1300" spc="-1" strike="noStrike">
                <a:solidFill>
                  <a:srgbClr val="210f17"/>
                </a:solidFill>
                <a:latin typeface="Franklin Gothic Book"/>
              </a:rPr>
              <a:t>1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. Грушевський М. Ілюстрована історія України. – К.:Наукова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думка, 1992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2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Ісаєвич Я. Братства та їхня роль в розвитку української культури XVI-XVIII ст. К., 1966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 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3.Кири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л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ло-Мефодиевское общество. Сборник документов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в 3 томах – Т.1. – К.,1990 – С.150-152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4.. К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ирило-Мефодіївське товариство. 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htt://books/com.ua/35418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5. Субтельний О. Україна: історія:- К.:Либідь, 1994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6.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Струкевич О.К. Історія України: Підручн. для  9 кл.загальноосвіт.навч.закл. – К.:Грамота,2009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 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7.Турченко Ф.Г. Мороко В.М. Історія України.кін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XVIII –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поч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XIX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ст.-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.: Генеза, 2000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r>
              <a:rPr b="0" i="1" lang="uk-UA" sz="8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8" name="TextBox 3"/>
          <p:cNvSpPr/>
          <p:nvPr/>
        </p:nvSpPr>
        <p:spPr>
          <a:xfrm>
            <a:off x="97164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285840" y="438120"/>
            <a:ext cx="8718480" cy="1171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1.Створенння Кирило-Мефодіївського брат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2.Програмні документи –Програма і Статут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3.Тарас Григорович Шевченко в українському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національному відродженні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4.Значення діяльності Кирило-Мефодіївського брат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328680" y="182520"/>
            <a:ext cx="8486640" cy="3110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306828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7" name="Рисунок 3" descr="заседание кириломефод.jpg"/>
          <p:cNvPicPr/>
          <p:nvPr/>
        </p:nvPicPr>
        <p:blipFill>
          <a:blip r:embed="rId3"/>
          <a:stretch/>
        </p:blipFill>
        <p:spPr>
          <a:xfrm>
            <a:off x="324000" y="3357720"/>
            <a:ext cx="4789440" cy="3500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5364000" y="5732640"/>
            <a:ext cx="28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В.І. Штинбер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ирило-Мефодіївськ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братств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-6480"/>
            <a:ext cx="8425080" cy="1438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00000" y="1052280"/>
            <a:ext cx="7570800" cy="63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У 1846 році "заговорщики" створили братство ім. Кирила та Мефодія, члени якого сповідували гуманістичну ідеологію, що базувалась на ідеях христианства - любові до ближнього, щирого прощення людських помилок. Соціальний склад братсва - різночинці, дворяни. Товариство було не лише малочисельним, а й обмеженим у своїй діяльності. Протягом приблизно 14 місяців його існування "браття" збиралися кілька разів на тривалі філософські й політичні дискусії (під час однієї з них і був присутній донощик Петров) та підготували ряд положень </a:t>
            </a:r>
            <a:r>
              <a:rPr b="0" lang="ru-RU" sz="1800" spc="-1" strike="noStrike">
                <a:solidFill>
                  <a:srgbClr val="852f74"/>
                </a:solidFill>
                <a:latin typeface="Franklin Gothic Book"/>
              </a:rPr>
              <a:t>своєї програми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1" name="Рисунок 4" descr="иллюстр кобзаря.jpg"/>
          <p:cNvPicPr/>
          <p:nvPr/>
        </p:nvPicPr>
        <p:blipFill>
          <a:blip r:embed="rId3"/>
          <a:stretch/>
        </p:blipFill>
        <p:spPr>
          <a:xfrm>
            <a:off x="1332000" y="4221000"/>
            <a:ext cx="3384360" cy="2637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859280" y="5661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Ілюстрація до “КОБЗАРЯ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В.Седляр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95280" y="620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       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Товариство складалося всього з десятка активних членів та кількох десятків співчуваючих. Це були молоді українські інтелегенти. 30-річний історик Микола Костомаров незадовго до свого арешту отримав кафедру у Київському університеті. 22-річний Василь Білозерський у дні створення товариства, за спогадами Костомарова, жив у Київі "по окончании курса в университете... в надежде найти себе служебное место", яке й знайшов у Полтаві, де до арешту викладав у кадетському корпусі. Микола Гулак перебував на службі в канцелярії київського генерал-губернатора на посаді перекладача археографічной комісії. Хоч два інших інтелігенти - викладач гімназії та письменник Пантелеймон Куліш і вже добре знаний поет Тарас Шевченко - підтримували з товариством не дуже стійкі зв'язки, їх також заарештувал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900000" y="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СОЦІАЛЬНИЙ СКЛАД БРАТЧИКІВ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Рисунок 3" descr="iКОБЗАР.jpg"/>
          <p:cNvPicPr/>
          <p:nvPr/>
        </p:nvPicPr>
        <p:blipFill>
          <a:blip r:embed="rId2"/>
          <a:stretch/>
        </p:blipFill>
        <p:spPr>
          <a:xfrm>
            <a:off x="900000" y="4724280"/>
            <a:ext cx="4248360" cy="2133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338080" y="602136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“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ОБЗАР”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Т.Г.ШЕВЧ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4000" y="260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Основна  мета </a:t>
            </a:r>
            <a:r>
              <a:rPr b="0" lang="ru-RU" sz="2000" spc="-1" strike="noStrike">
                <a:solidFill>
                  <a:srgbClr val="b13f9a"/>
                </a:solidFill>
                <a:latin typeface="Franklin Gothic Book"/>
              </a:rPr>
              <a:t>- 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об'єднаня  слов'ян  на  засадах федерації при рівності та дотриманні прав і свобод громадян, скасування кріпацтва, та самодержавства, соціальне і національне визволення українського народу. Члени братства ідеалізували козацьку минувщину і в її суспільній організації вбачали майбутній суспільний устріій Україн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148360" y="41497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74396"/>
                </a:solidFill>
                <a:latin typeface="Franklin Gothic Book"/>
              </a:rPr>
              <a:t>,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4788000" y="4797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0" name="Рисунок 5" descr="иллюстр к гайдамаки.jpg"/>
          <p:cNvPicPr/>
          <p:nvPr/>
        </p:nvPicPr>
        <p:blipFill>
          <a:blip r:embed="rId2"/>
          <a:stretch/>
        </p:blipFill>
        <p:spPr>
          <a:xfrm>
            <a:off x="395280" y="2997360"/>
            <a:ext cx="5040360" cy="35272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5594040" y="551664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Ілюстрація до поем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“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ГАЙДАМАКИ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Т.Г.Шевч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539640" y="1484280"/>
          <a:ext cx="4038840" cy="47530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ФОРМИ ТА МЕТ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</a:t>
                      </a: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НЕЛЕГАЛЬСТЬ І КОНСПЕРАЦІ Я     ТА      ПРИЙНЯТТЯ ПРИСЯГ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РОГОЛОШЕННЯ ВЗАЄМОДОПОМОГ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ОШИРЕННЯ ОСВІТИ І ГРАМОТ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СЕРЕД НАСЕЛЕНН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ОШИРЕННЯ СВОЇХ ІДЕЙ 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ВИХОВАННЯ МОЛОДІ ТА РОЗПОВСЮДЖЕННЯ ЛІТЕРА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3280" y="1484280"/>
          <a:ext cx="4038840" cy="475452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Р Е Л І Г І Й Н А СПРЯМОВАН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НАЗВАНА В ЧЕСТЬ СЛОВ</a:t>
                      </a:r>
                      <a:r>
                        <a:rPr b="0" i="1" lang="en-US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ЯНСЬКИХ ПРОСВЕТИТЕЛІВ,КИРИЛА Й МЕФОДІ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ФОРМА ОРГАНІЗАЦІЇ БУЛА ЗАПОЗИЧЕНА В ЦЕРКОВНИХ БРАТСТВА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У ПРОГРАМОВИХ ДОКУМЕНТАХ ДОМІНУЮТЬ СОЦІАЛЬНІ ІДЕЇ ПЕРВІСНОГО ХРИСТІАН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ЧІТКО ПРОСТЕЖУЄТЬСЯ ІДЕЯ СПРАВЕДЛИВОСТІ,СВОБОДИ,РІВНОСТІЙ БРА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35" name="TextBox 6"/>
          <p:cNvSpPr/>
          <p:nvPr/>
        </p:nvSpPr>
        <p:spPr>
          <a:xfrm>
            <a:off x="1116000" y="1773360"/>
            <a:ext cx="21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діяльност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708000" y="1844280"/>
            <a:ext cx="497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Book"/>
              </a:rPr>
              <a:t>Микола Костомаров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591f4d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591f4d"/>
                </a:solidFill>
                <a:latin typeface="Franklin Gothic Book"/>
              </a:rPr>
              <a:t>(1817-1885)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2500" spc="-1" strike="noStrike">
                <a:solidFill>
                  <a:srgbClr val="852f74"/>
                </a:solidFill>
                <a:latin typeface="Franklin Gothic Book"/>
              </a:rPr>
              <a:t>30-річний історик ,завідувач кафедри Київського університету, </a:t>
            </a:r>
            <a:r>
              <a:rPr b="0" lang="uk-UA" sz="2500" spc="-1" strike="noStrike">
                <a:solidFill>
                  <a:srgbClr val="852f74"/>
                </a:solidFill>
                <a:latin typeface="Franklin Gothic Book"/>
              </a:rPr>
              <a:t>один з організаторів  товариства</a:t>
            </a:r>
            <a:endParaRPr b="0" lang="en-US" sz="2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7" name="Picture 2" descr="C:\Users\graf\Desktop\костомаров.jpg"/>
          <p:cNvPicPr/>
          <p:nvPr/>
        </p:nvPicPr>
        <p:blipFill>
          <a:blip r:embed="rId2"/>
          <a:stretch/>
        </p:blipFill>
        <p:spPr>
          <a:xfrm>
            <a:off x="539640" y="1268280"/>
            <a:ext cx="3011760" cy="3384720"/>
          </a:xfrm>
          <a:prstGeom prst="rect">
            <a:avLst/>
          </a:prstGeom>
          <a:ln w="0">
            <a:noFill/>
          </a:ln>
        </p:spPr>
      </p:pic>
      <p:sp>
        <p:nvSpPr>
          <p:cNvPr id="438" name="Объект 1"/>
          <p:cNvSpPr/>
          <p:nvPr/>
        </p:nvSpPr>
        <p:spPr>
          <a:xfrm>
            <a:off x="539640" y="4869000"/>
            <a:ext cx="7920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852f74"/>
                </a:solidFill>
                <a:latin typeface="Franklin Gothic Book"/>
              </a:rPr>
              <a:t>Автор книги </a:t>
            </a:r>
            <a:r>
              <a:rPr b="1" i="1" lang="ru-RU" sz="2600" spc="-1" strike="noStrike">
                <a:solidFill>
                  <a:srgbClr val="852f74"/>
                </a:solidFill>
                <a:latin typeface="Franklin Gothic Book"/>
              </a:rPr>
              <a:t>"Закон Божий (Книга Буття українського народу)"</a:t>
            </a:r>
            <a:r>
              <a:rPr b="1" i="1" lang="uk-UA" sz="2600" spc="-1" strike="noStrike">
                <a:solidFill>
                  <a:srgbClr val="852f74"/>
                </a:solidFill>
                <a:latin typeface="Franklin Gothic Book"/>
              </a:rPr>
              <a:t> , яка стала основоположним твором Статуту товариства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1547640" y="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Активні  член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7"/>
          <p:cNvSpPr/>
          <p:nvPr/>
        </p:nvSpPr>
        <p:spPr>
          <a:xfrm>
            <a:off x="4723560" y="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братства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0:26:00Z</dcterms:created>
  <dc:creator>graf</dc:creator>
  <dc:description/>
  <dc:language>en-US</dc:language>
  <cp:lastModifiedBy>Admin</cp:lastModifiedBy>
  <dcterms:modified xsi:type="dcterms:W3CDTF">2014-01-17T11:10:20Z</dcterms:modified>
  <cp:revision>112</cp:revision>
  <dc:subject/>
  <dc:title>Кирило-Мефодіївське товари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22000000000001024140</vt:lpwstr>
  </property>
</Properties>
</file>