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jpeg" ContentType="image/jpeg"/>
  <Override PartName="/ppt/media/image22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56A8-8375-4287-9A1B-79F493B059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B45C-8F9A-488F-9F5D-9D85B58477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DA6-27B8-41FF-858B-87D9B9C9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C86-834E-4CAA-AF74-8FD1FE84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AC2D-4EB2-4882-9549-F8D54FC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1C337-7C5D-4037-BECD-309078A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40C79-53AD-46D4-A63F-23103D20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1FB01-0120-4F33-A429-0802B93D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1BA07-33FF-4668-A7A8-9BE64781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FA25-F6AE-4F9B-89D8-00122866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DBE3D-0288-4894-938E-0CD1EE92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4D31D-F5DB-4F0C-B19E-000DF946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6F87C-6A85-48E4-8B0D-58318C1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C71-4DB0-482A-AA0C-FCC85E98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16D-D0EA-4ACB-9160-5CC9B4DF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B3F6-2D8D-4F1B-884E-D074C1B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84B7-A19C-4223-A2D1-2B4FE37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5E4-FB3E-499F-9815-942A8DD7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F3D5-0EBB-4E2C-8376-3300C509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6FB-6BE0-42AA-9DE8-64FE348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A11-301F-428F-AB63-DC3F3A41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C901-9F7D-4581-ADE5-8C32FCD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E4A-E24C-47CA-A17C-DA519A97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1727-BD73-430A-A24E-22A02AB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D86A-26C4-4876-909C-37685AB6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8DE-4772-4FF3-8837-1ED6D58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46B-3FF3-48DD-892B-673205E1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CE5-96FF-4C91-82F9-02F2E3E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3A5A-3BF7-474D-A7AD-2B5AD144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27E7-30E1-4775-B532-89E2350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32AB-41BB-40DA-ADAC-7529769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5F747-C384-44DE-8E32-41FB8DE6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B882F-92E2-43D2-B011-190DDE1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49F-2E19-48AC-B238-75783AC5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95F2-A2A9-475B-AF78-2960B6A5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C914-7880-49F6-80B4-CA54EB38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A9C6-FF26-443A-8A29-021D960F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99F3-CA51-499F-A860-CDB1438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3F33-A400-49EF-B7D0-850348C6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DA7D-9167-4D42-A36E-82E20F95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5577-935B-48CA-BEB5-6DAD4E64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5C7C-6F15-4FEA-8979-E2E4E459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FFDC-84AE-4A17-9752-CC8A089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6367-0FE6-4782-81DA-9ECD21F3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1A57-5BDE-4BFA-8922-D75E2AC4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E623-E809-4569-BB06-DCFFEE15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2A64B-3748-4ABF-93FE-E04E9BBA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1D51-5C59-4EFC-BC8F-292533E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BC84-016A-43C8-AD42-2F9A4B7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385F-883E-4C7D-AD60-0661B16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55AB-929B-4909-9F1F-292E6F9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90F21-4F79-4BBA-8505-4378CEE4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E13B5-CAAC-4A39-BB42-4BAB2FF8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707C-DD11-437E-8F38-AE710E00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E276-7962-42C9-8C43-404D5E8A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5FE-21D7-43FE-9B32-E88D5273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F1C2-C08C-44A8-840A-0C8A4D17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5FD4F-288A-4359-BB22-60CA3E4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EFAC-1C16-4AC9-B48C-BC15FC4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1F89-13EE-4C82-B95B-ABE07423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0B96-6BB8-48E2-BD61-868F1354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CB7D-20AC-413B-8F87-E0C33F8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D3743-5AB4-4E32-86A8-7130B19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E0F0-EF93-4CB2-8FE7-C45AE87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E719F-9FE2-48D0-8A6E-22C4E1B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AC0C-1232-4792-A346-B7BDAA8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533-1400-4F40-8298-DF4242E7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7AD5-E364-4F30-B0E5-742D2430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43844-BC62-4C29-8AB5-84963B8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A59D7-CCE6-450B-8523-ECCA6AA0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29AB-24A4-413A-95FB-60BFCDEA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0D01-5D46-4621-BC07-09DA0053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16C44-F913-4F1E-92AE-FF6B7663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7266-AB04-4677-ABDA-B08863DA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5896-000B-449F-A8D3-AED2E56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9355-937D-4ED5-81C9-C359A10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53C4-4069-4C17-B504-4C2BF516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9B4-E387-4A97-BF43-D6412AB9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83CB2-3457-4002-8658-D792D05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BF6D-3C5F-4434-B709-55271887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0B166-741F-4DD4-9FF0-CC4A4DA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F6363-53C9-431A-84E5-43344D3B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4250C-63CD-4B67-9693-8FCE2C1F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3A67-F183-4939-95D1-641C9F9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DE94-ACCC-4D33-A978-3C8BF50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287F4-49FD-43EC-ACFA-1ECB12A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DC23D-329E-4484-8385-B72F1A6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AFE3B-364D-44F4-8DE6-41AD7D5B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C44-DF9E-4353-803B-394DBB8A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1B6E-EFA7-4487-971F-A5486F6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A7ACA-BB2B-4CD3-B813-C07EFC8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5F8DD-2B40-4C0E-A6E7-6D145182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27AAC-78AD-422E-9029-8A569117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390C1-EEF5-4B1A-B87D-DDFB45A4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A62DF-5A2B-4A1A-AD9B-2769EBD4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053D7-7738-4AD3-A893-B2B829E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AA124-1111-469B-A803-06BF23E3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F56D-2CEB-4D2E-8BE0-5F8D68D1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CDE8-6A44-4629-A4C9-B2CE9999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E9D-A52F-4B82-B131-A2FFA56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2697A-7FFC-468D-A433-76433244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5C8F-0177-4DF5-96C4-FCA67D1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A3D7-4E19-4C3F-BEA8-BF29927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17960-BB0D-4F35-AE50-9899FF3C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38790-E7DD-40BD-9F78-82A4DA46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73D34-3540-4EAD-8782-21867461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6225E-7CDA-422B-A213-D04C5B56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DD7A1-93C6-4ECD-8432-DEA31F81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4FCC4-D648-42D8-8D89-7E8B371E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912A8-4BFF-425B-8082-1F843AC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CA1-0677-4131-842A-D07F51766401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9D9-BAE4-40FF-A6D6-8A6921CC931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04C-79E7-49C0-990F-77E21E28BBC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4E11-C6C4-4866-9BDD-01E4390EDA3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8FB-5F36-4993-93EF-771FA4658DC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DEC-D64C-4338-A355-BBC28383F0F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B53-FC11-4E1C-AE01-DEFF5F4D162C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9B0-A25E-4D9A-BA14-4F269F804B7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C618-EFFB-499B-9205-6B8D3C891FD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122400" y="1176480"/>
            <a:ext cx="8515080" cy="19684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211640" y="4724280"/>
            <a:ext cx="39290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9  к л а с</a:t>
            </a:r>
            <a:endParaRPr b="0" lang="en-US" sz="2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428760" y="857160"/>
            <a:ext cx="49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УРОК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з 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Franklin Gothic Book"/>
              </a:rPr>
              <a:t>і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сторії</a:t>
            </a:r>
            <a:r>
              <a:rPr b="0" lang="en-US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 України  на тем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Рисунок 4" descr="iкирил и мефодий.jpg"/>
          <p:cNvPicPr/>
          <p:nvPr/>
        </p:nvPicPr>
        <p:blipFill>
          <a:blip r:embed="rId3"/>
          <a:stretch/>
        </p:blipFill>
        <p:spPr>
          <a:xfrm>
            <a:off x="539640" y="4149720"/>
            <a:ext cx="3384720" cy="23036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5"/>
          <p:cNvSpPr/>
          <p:nvPr/>
        </p:nvSpPr>
        <p:spPr>
          <a:xfrm>
            <a:off x="4284720" y="4797360"/>
            <a:ext cx="34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СЛОВ</a:t>
            </a:r>
            <a:r>
              <a:rPr b="0" lang="en-US" sz="1600" spc="-1" strike="noStrike">
                <a:solidFill>
                  <a:srgbClr val="5a2c64"/>
                </a:solidFill>
                <a:latin typeface="Franklin Gothic Book"/>
              </a:rPr>
              <a:t>`</a:t>
            </a: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ЯНСЬКІ ПРОСВЕТИТЕЛІ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5a2c64"/>
                </a:solidFill>
                <a:latin typeface="Franklin Gothic Book"/>
              </a:rPr>
              <a:t>КИРИЛ ТА МЕФОДІЙ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3" descr="гулак.jpg"/>
          <p:cNvPicPr/>
          <p:nvPr/>
        </p:nvPicPr>
        <p:blipFill>
          <a:blip r:embed="rId2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4"/>
          <p:cNvSpPr/>
          <p:nvPr/>
        </p:nvSpPr>
        <p:spPr>
          <a:xfrm>
            <a:off x="4284720" y="1125360"/>
            <a:ext cx="51703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Franklin Gothic Book"/>
              </a:rPr>
              <a:t>Микола  Гулак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Franklin Gothic Book"/>
              </a:rPr>
              <a:t>(1822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Засновник, головний діяч Кирило-Мефодіївського братства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Громадсько - пол</a:t>
            </a: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ітичний діяч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педагог, учений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3" name="Рисунок 5" descr="гулак.jpg"/>
          <p:cNvPicPr/>
          <p:nvPr/>
        </p:nvPicPr>
        <p:blipFill>
          <a:blip r:embed="rId3"/>
          <a:stretch/>
        </p:blipFill>
        <p:spPr>
          <a:xfrm>
            <a:off x="324000" y="549360"/>
            <a:ext cx="381636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C:\Users\graf\Desktop\Кулиш.jpg"/>
          <p:cNvPicPr/>
          <p:nvPr/>
        </p:nvPicPr>
        <p:blipFill>
          <a:blip r:embed="rId2"/>
          <a:stretch/>
        </p:blipFill>
        <p:spPr>
          <a:xfrm>
            <a:off x="324000" y="907920"/>
            <a:ext cx="3606480" cy="5173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140360" y="1052280"/>
            <a:ext cx="41479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Franklin Gothic Book"/>
              </a:rPr>
              <a:t>Пантелеймон Куліш </a:t>
            </a:r>
            <a:r>
              <a:rPr b="1" i="1" lang="ru-RU" sz="4000" spc="-1" strike="noStrike">
                <a:solidFill>
                  <a:srgbClr val="b13f9a"/>
                </a:solidFill>
                <a:latin typeface="Franklin Gothic Book"/>
              </a:rPr>
              <a:t>-</a:t>
            </a:r>
            <a:endParaRPr b="0" lang="en-US" sz="4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4106520" y="2349360"/>
            <a:ext cx="510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Видатний письменник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и, поет, етнограф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критик, громадський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дія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4643280" y="2349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9 - 1897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3" descr="пан кулиш.jpg"/>
          <p:cNvPicPr/>
          <p:nvPr/>
        </p:nvPicPr>
        <p:blipFill>
          <a:blip r:embed="rId2"/>
          <a:stretch/>
        </p:blipFill>
        <p:spPr>
          <a:xfrm>
            <a:off x="61128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5"/>
          <p:cNvSpPr/>
          <p:nvPr/>
        </p:nvSpPr>
        <p:spPr>
          <a:xfrm>
            <a:off x="6300720" y="2133720"/>
            <a:ext cx="24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Портрет Пантелемон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Куліш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написаний Тарасо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игоровичем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Шевченк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2"/>
          <a:stretch/>
        </p:blipFill>
        <p:spPr>
          <a:xfrm>
            <a:off x="-201600" y="469800"/>
            <a:ext cx="889488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bilozerskij-vasil.jpg"/>
          <p:cNvPicPr/>
          <p:nvPr/>
        </p:nvPicPr>
        <p:blipFill>
          <a:blip r:embed="rId3"/>
          <a:stretch/>
        </p:blipFill>
        <p:spPr>
          <a:xfrm>
            <a:off x="1332000" y="1557360"/>
            <a:ext cx="2361960" cy="3645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3631680" y="1916280"/>
            <a:ext cx="4565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Письменник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редактор першог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українського журналу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“</a:t>
            </a:r>
            <a:r>
              <a:rPr b="0" lang="uk-UA" sz="3200" spc="-1" strike="noStrike">
                <a:solidFill>
                  <a:srgbClr val="852f74"/>
                </a:solidFill>
                <a:latin typeface="Franklin Gothic Book"/>
              </a:rPr>
              <a:t>ОСНОВА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4207320" y="1268280"/>
            <a:ext cx="21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5-1899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Рисунок 1" descr="савич.jpg"/>
          <p:cNvPicPr/>
          <p:nvPr/>
        </p:nvPicPr>
        <p:blipFill>
          <a:blip r:embed="rId2"/>
          <a:stretch/>
        </p:blipFill>
        <p:spPr>
          <a:xfrm>
            <a:off x="250920" y="404640"/>
            <a:ext cx="4681440" cy="5328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2"/>
          <p:cNvSpPr/>
          <p:nvPr/>
        </p:nvSpPr>
        <p:spPr>
          <a:xfrm>
            <a:off x="5003640" y="1197000"/>
            <a:ext cx="374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Микола  Савич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08-189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Громадсько-політичний діяч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публіцист, однодумец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Franklin Gothic Book"/>
              </a:rPr>
              <a:t>Т.Г.Шевченко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2" descr=""/>
          <p:cNvPicPr/>
          <p:nvPr/>
        </p:nvPicPr>
        <p:blipFill>
          <a:blip r:embed="rId2"/>
          <a:stretch/>
        </p:blipFill>
        <p:spPr>
          <a:xfrm>
            <a:off x="49320" y="-6480"/>
            <a:ext cx="8362800" cy="1438560"/>
          </a:xfrm>
          <a:prstGeom prst="rect">
            <a:avLst/>
          </a:prstGeom>
          <a:ln w="0">
            <a:noFill/>
          </a:ln>
        </p:spPr>
      </p:pic>
      <p:pic>
        <p:nvPicPr>
          <p:cNvPr id="457" name="Объект 1" descr=""/>
          <p:cNvPicPr/>
          <p:nvPr/>
        </p:nvPicPr>
        <p:blipFill>
          <a:blip r:embed="rId3"/>
          <a:stretch/>
        </p:blipFill>
        <p:spPr>
          <a:xfrm>
            <a:off x="3919680" y="1620720"/>
            <a:ext cx="4267080" cy="30736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graf\Desktop\этнограф-фольклорист Афанасий Маркович.jpg"/>
          <p:cNvPicPr/>
          <p:nvPr/>
        </p:nvPicPr>
        <p:blipFill>
          <a:blip r:embed="rId4"/>
          <a:stretch/>
        </p:blipFill>
        <p:spPr>
          <a:xfrm>
            <a:off x="539640" y="1265400"/>
            <a:ext cx="2986200" cy="43956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5"/>
          <p:cNvSpPr/>
          <p:nvPr/>
        </p:nvSpPr>
        <p:spPr>
          <a:xfrm>
            <a:off x="4211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Franklin Gothic Book"/>
              </a:rPr>
              <a:t>(1822-1862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graf\Desktop\шева.jpg"/>
          <p:cNvPicPr/>
          <p:nvPr/>
        </p:nvPicPr>
        <p:blipFill>
          <a:blip r:embed="rId2"/>
          <a:stretch/>
        </p:blipFill>
        <p:spPr>
          <a:xfrm>
            <a:off x="395280" y="1052640"/>
            <a:ext cx="3178080" cy="482436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5"/>
          <p:cNvSpPr/>
          <p:nvPr/>
        </p:nvSpPr>
        <p:spPr>
          <a:xfrm>
            <a:off x="3851280" y="2637000"/>
            <a:ext cx="502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2f74"/>
                </a:solidFill>
                <a:latin typeface="Franklin Gothic Book"/>
              </a:rPr>
              <a:t>видатний  український  письменник ,  «Кобзар»  українського  народу</a:t>
            </a:r>
            <a:r>
              <a:rPr b="0" lang="ru-RU" sz="3200" spc="-1" strike="noStrike">
                <a:solidFill>
                  <a:srgbClr val="852f74"/>
                </a:solidFill>
                <a:latin typeface="Franklin Gothic Book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Прямоугольник 7"/>
          <p:cNvSpPr/>
          <p:nvPr/>
        </p:nvSpPr>
        <p:spPr>
          <a:xfrm>
            <a:off x="3635280" y="476280"/>
            <a:ext cx="50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Franklin Gothic Book"/>
              </a:rPr>
              <a:t>Тарас Григорович Шевченко -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TextBox 4"/>
          <p:cNvSpPr/>
          <p:nvPr/>
        </p:nvSpPr>
        <p:spPr>
          <a:xfrm>
            <a:off x="457200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(1814 -1861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ИЗОБР ШЕВЧЕНКО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050560" y="-360"/>
            <a:ext cx="6573960" cy="71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               </a:t>
            </a:r>
            <a:r>
              <a:rPr b="1" i="1" lang="ru-RU" sz="2000" spc="-1" strike="noStrike">
                <a:solidFill>
                  <a:srgbClr val="852f74"/>
                </a:solidFill>
                <a:latin typeface="Franklin Gothic Book"/>
              </a:rPr>
              <a:t>У Шевченка Т. Г. вже в першій половині 40-х років XIX ст. сформувався  революційно - демократичний  світогляд. У ряді своїх творів, і перш за все в 'I мертвим, i живим, i ненародженім землякам моїм', в 'Заповітi', він закликав народ до боротьби за свою свободу, кінцевою метою якої повинна була стати демократична республіка, (на відміну від М. Костомарова, який вважав за необхідне зберегти монархічну форму правління). У своїх ідеалах великий поет спирався на демократичні засади організації Запорізької Січі, боротьби українського народу за свободу. Та Кобзар дивився не тільки в минуле: зразком демократії державно-політичного устрою в свій час він вважав політичний устрій США, асоціюючи послідовну боротьбу за демократію і незалежність із першим американським президентом. Звертаючись до своїх співвітчизників, він запитував: 'Коли ми дождемося Вашингтона з новим i праведним законом?' І оптимістично стверджував: ‘дождемось таки колись "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66" name="Рисунок 2" descr="шевч.jpg"/>
          <p:cNvPicPr/>
          <p:nvPr/>
        </p:nvPicPr>
        <p:blipFill>
          <a:blip r:embed="rId2"/>
          <a:stretch/>
        </p:blipFill>
        <p:spPr>
          <a:xfrm>
            <a:off x="179280" y="260280"/>
            <a:ext cx="2232000" cy="309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2"/>
          <a:stretch/>
        </p:blipFill>
        <p:spPr>
          <a:xfrm>
            <a:off x="103320" y="96840"/>
            <a:ext cx="889452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304920" y="1554120"/>
          <a:ext cx="8686800" cy="50292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426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                 </a:t>
                      </a:r>
                      <a:r>
                        <a:rPr b="1" lang="uk-UA" sz="36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 р о г р а м о в і   ц і л 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1. Знищення царизму,кріпосного праву, і поділу населення на ста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2.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а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 у єдину федераці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08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3. Кожний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народ зберігає свою самостійність і незалежність й утворює власну державу з республіканською формою правління у складі федерації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4. Управління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ою федерацією повинен здійснювати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й собор із представників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5.Проголошення рівності,демократичних прав і свобод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6. Розвиток національної мови та культури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7.Українському народові відводилася місія визволителя та об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єднувача усіх слов</a:t>
                      </a: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янських народі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8.Правове законодавство має грунтуватися на релігійних ідея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1779480" y="255600"/>
            <a:ext cx="889488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dec2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ислі кирило-мефодіївських братчиків зоставили глибокий слід, вони жили далі і будили політичну і соціальну українську мисль…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Від Кирило-Мефодіївського братства веде свою історію весь новий український політичний рух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                                                 </a:t>
            </a:r>
            <a:r>
              <a:rPr b="0" i="1" lang="uk-UA" sz="3200" spc="-1" strike="noStrike">
                <a:solidFill>
                  <a:srgbClr val="c00000"/>
                </a:solidFill>
                <a:latin typeface="Franklin Gothic Book"/>
              </a:rPr>
              <a:t>М.С.Грушевський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2" descr=""/>
          <p:cNvPicPr/>
          <p:nvPr/>
        </p:nvPicPr>
        <p:blipFill>
          <a:blip r:embed="rId2"/>
          <a:stretch/>
        </p:blipFill>
        <p:spPr>
          <a:xfrm>
            <a:off x="-1407960" y="-6480"/>
            <a:ext cx="10186920" cy="13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304920" y="1554120"/>
          <a:ext cx="8686800" cy="39625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068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Помірно -лібер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      </a:t>
                      </a: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адикаль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51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Костомаров, Куліш, Бєлозерський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Марк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956205"/>
                          </a:solidFill>
                          <a:latin typeface="Franklin Gothic Book"/>
                        </a:rPr>
                        <a:t>Прагнуть досягти поставленої мети шляхом проведення реформ і здійснення поступових перетвор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Шевченко ,Навроцький ,Гулак, Пос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Виступають за революційний переворот,встановлення республіки,соціальне й національне звільнення українського наро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237960" y="-6480"/>
            <a:ext cx="8912520" cy="1397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250920" y="1341000"/>
            <a:ext cx="8740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1.Поклало початок переходу від культурницького до політичного етапу боротьби за національний розвиток Україн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Це була спроба передової частини української інтелігенції осмислити та визначити місце і роль українського  народу в тогочасному світі 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3.Спроектували передові західноєвропейські ідеї на український грунт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4. Сформулювали основні засади українського національного відродження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5. Визначили форми і методи досягнення поставленої мети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  <a:p>
            <a:pPr marL="291600" indent="-291600">
              <a:spcBef>
                <a:spcPts val="6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6. Діяльність товариства – то був початок довгої безупинної  боротьби української інтелігенції з російським царизмом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3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TextBox 2"/>
          <p:cNvSpPr/>
          <p:nvPr/>
        </p:nvSpPr>
        <p:spPr>
          <a:xfrm>
            <a:off x="1042920" y="148428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Franklin Gothic Book"/>
              </a:rPr>
              <a:t>Ч</a:t>
            </a: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итати та переказувати параграф 14 підручник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відповісти на питання  стор. 117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Franklin Gothic Book"/>
              </a:rPr>
              <a:t>2.Творчі завдання на вибір учні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5" name="TextBox 5" descr=""/>
          <p:cNvPicPr/>
          <p:nvPr/>
        </p:nvPicPr>
        <p:blipFill>
          <a:blip r:embed="rId3"/>
          <a:stretch/>
        </p:blipFill>
        <p:spPr>
          <a:xfrm>
            <a:off x="328680" y="3108240"/>
            <a:ext cx="9291600" cy="320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2" descr=""/>
          <p:cNvPicPr/>
          <p:nvPr/>
        </p:nvPicPr>
        <p:blipFill>
          <a:blip r:embed="rId2"/>
          <a:stretch/>
        </p:blipFill>
        <p:spPr>
          <a:xfrm>
            <a:off x="298440" y="268200"/>
            <a:ext cx="8699400" cy="10368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        </a:t>
            </a:r>
            <a:r>
              <a:rPr b="0" i="1" lang="ru-RU" sz="1300" spc="-1" strike="noStrike">
                <a:solidFill>
                  <a:srgbClr val="210f17"/>
                </a:solidFill>
                <a:latin typeface="Franklin Gothic Book"/>
              </a:rPr>
              <a:t>1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 Грушевський М. Ілюстрована історія України. – К.:Наукова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думка, 199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2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Ісаєвич Я. Братства та їхня роль в розвитку української культури XVI-XVIII ст. К., 1966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3.Кири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л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ло-Мефодиевское общество. Сборник документов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в 3 томах – Т.1. – К.,1990 – С.150-152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4.. К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ирило-Мефодіївське товариство. 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htt://books/com.ua/35418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5. Субтельний О. Україна: історія:- К.:Либідь, 1994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6.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рукевич О.К. Історія України: Підручн. для  9 кл.загальноосвіт.навч.закл. – К.:Грамота,2009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  </a:t>
            </a: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7.Турченко Ф.Г. Мороко В.М. Історія України.кін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VIII –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поч.</a:t>
            </a:r>
            <a:r>
              <a:rPr b="0" i="1" lang="en-US" sz="1800" spc="-1" strike="noStrike">
                <a:solidFill>
                  <a:srgbClr val="210f17"/>
                </a:solidFill>
                <a:latin typeface="Franklin Gothic Book"/>
              </a:rPr>
              <a:t>XIX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ст.-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      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.: Генеза, 2000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0f17"/>
                </a:solidFill>
                <a:latin typeface="Franklin Gothic Book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r>
              <a:rPr b="0" i="1" lang="ru-RU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  <a:p>
            <a:pPr marL="301680" indent="-301680">
              <a:lnSpc>
                <a:spcPct val="80000"/>
              </a:lnSpc>
              <a:spcBef>
                <a:spcPts val="2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8" name="TextBox 3"/>
          <p:cNvSpPr/>
          <p:nvPr/>
        </p:nvSpPr>
        <p:spPr>
          <a:xfrm>
            <a:off x="971640" y="2924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285840" y="438120"/>
            <a:ext cx="8718480" cy="1171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gradFill rotWithShape="0">
            <a:gsLst>
              <a:gs pos="0">
                <a:srgbClr val="e296a8"/>
              </a:gs>
              <a:gs pos="100000">
                <a:srgbClr val="f5e0e5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1.Створенння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2.Програмні документи –Програма і Статут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3.Тарас Григорович Шевченко в українському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національному відродженн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    </a:t>
            </a:r>
            <a:r>
              <a:rPr b="0" lang="uk-UA" sz="3200" spc="-1" strike="noStrike">
                <a:solidFill>
                  <a:srgbClr val="591f4d"/>
                </a:solidFill>
                <a:latin typeface="Franklin Gothic Book"/>
              </a:rPr>
              <a:t>4.Значення діяльності Кирило-Мефодіївського братства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2"/>
          <a:stretch/>
        </p:blipFill>
        <p:spPr>
          <a:xfrm>
            <a:off x="328680" y="182520"/>
            <a:ext cx="8486640" cy="3110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306828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7" name="Рисунок 3" descr="заседание кириломефод.jpg"/>
          <p:cNvPicPr/>
          <p:nvPr/>
        </p:nvPicPr>
        <p:blipFill>
          <a:blip r:embed="rId3"/>
          <a:stretch/>
        </p:blipFill>
        <p:spPr>
          <a:xfrm>
            <a:off x="324000" y="3357720"/>
            <a:ext cx="4789440" cy="3500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5364000" y="5732640"/>
            <a:ext cx="28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І. Штинбер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ирило-Мефодіївськ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братств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268200" y="-6480"/>
            <a:ext cx="8425080" cy="1438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900000" y="1052280"/>
            <a:ext cx="7570800" cy="63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У 1846 році "заговорщики" створили братство ім. Кирила та Мефодія, члени якого сповідували гуманістичну ідеологію, що базувалась на ідеях христианства - любові до ближнього, щирого прощення людських помилок. Соціальний склад братсва - різночинці, дворяни. Товариство було не лише малочисельним, а й обмеженим у своїй діяльності. Протягом приблизно 14 місяців його існування "браття" збиралися кілька разів на тривалі філософські й політичні дискусії (під час однієї з них і був присутній донощик Петров) та підготували ряд положень </a:t>
            </a:r>
            <a:r>
              <a:rPr b="0" lang="ru-RU" sz="1800" spc="-1" strike="noStrike">
                <a:solidFill>
                  <a:srgbClr val="852f74"/>
                </a:solidFill>
                <a:latin typeface="Franklin Gothic Book"/>
              </a:rPr>
              <a:t>своєї програми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1" name="Рисунок 4" descr="иллюстр кобзаря.jpg"/>
          <p:cNvPicPr/>
          <p:nvPr/>
        </p:nvPicPr>
        <p:blipFill>
          <a:blip r:embed="rId3"/>
          <a:stretch/>
        </p:blipFill>
        <p:spPr>
          <a:xfrm>
            <a:off x="1332000" y="4221000"/>
            <a:ext cx="3384360" cy="2637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859280" y="5661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“КОБЗАРЯ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В.Седляр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9528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      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Товариство складалося всього з десятка активних членів та кількох десятків співчуваючих. Це були молоді українські інтелегенти. 30-річний історик Микола Костомаров незадовго до свого арешту отримав кафедру у Київському університеті. 22-річний Василь Білозерський у дні створення товариства, за спогадами Костомарова, жив у Київі "по окончании курса в университете... в надежде найти себе служебное место", яке й знайшов у Полтаві, де до арешту викладав у кадетському корпусі. Микола Гулак перебував на службі в канцелярії київського генерал-губернатора на посаді перекладача археографічной комісії. Хоч два інших інтелігенти - викладач гімназії та письменник Пантелеймон Куліш і вже добре знаний поет Тарас Шевченко - підтримували з товариством не дуже стійкі зв'язки, їх також заарештувал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900000" y="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СОЦІАЛЬНИЙ СКЛАД БРАТЧИКІВ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Рисунок 3" descr="iКОБЗАР.jpg"/>
          <p:cNvPicPr/>
          <p:nvPr/>
        </p:nvPicPr>
        <p:blipFill>
          <a:blip r:embed="rId2"/>
          <a:stretch/>
        </p:blipFill>
        <p:spPr>
          <a:xfrm>
            <a:off x="900000" y="4724280"/>
            <a:ext cx="4248360" cy="2133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338080" y="602136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КОБЗАР”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4000" y="260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Franklin Gothic Book"/>
              </a:rPr>
              <a:t>Основна  мета </a:t>
            </a:r>
            <a:r>
              <a:rPr b="0" lang="ru-RU" sz="2000" spc="-1" strike="noStrike">
                <a:solidFill>
                  <a:srgbClr val="b13f9a"/>
                </a:solidFill>
                <a:latin typeface="Franklin Gothic Book"/>
              </a:rPr>
              <a:t>-  </a:t>
            </a:r>
            <a:r>
              <a:rPr b="0" lang="ru-RU" sz="2000" spc="-1" strike="noStrike">
                <a:solidFill>
                  <a:srgbClr val="852f74"/>
                </a:solidFill>
                <a:latin typeface="Franklin Gothic Book"/>
              </a:rPr>
              <a:t>об'єднаня  слов'ян  на  засадах федерації при рівності та дотриманні прав і свобод громадян, скасування кріпацтва, та самодержавства, соціальне і національне визволення українського народу. Члени братства ідеалізували козацьку минувщину і в її суспільній організації вбачали майбутній суспільний устріій Украї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148360" y="41497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74396"/>
                </a:solidFill>
                <a:latin typeface="Franklin Gothic Book"/>
              </a:rPr>
              <a:t>,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4788000" y="4797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Рисунок 5" descr="иллюстр к гайдамаки.jpg"/>
          <p:cNvPicPr/>
          <p:nvPr/>
        </p:nvPicPr>
        <p:blipFill>
          <a:blip r:embed="rId2"/>
          <a:stretch/>
        </p:blipFill>
        <p:spPr>
          <a:xfrm>
            <a:off x="395280" y="2997360"/>
            <a:ext cx="5040360" cy="3527280"/>
          </a:xfrm>
          <a:prstGeom prst="rect">
            <a:avLst/>
          </a:prstGeom>
          <a:ln w="0">
            <a:noFill/>
          </a:ln>
        </p:spPr>
      </p:pic>
      <p:sp>
        <p:nvSpPr>
          <p:cNvPr id="431" name="TextBox 6"/>
          <p:cNvSpPr/>
          <p:nvPr/>
        </p:nvSpPr>
        <p:spPr>
          <a:xfrm>
            <a:off x="5594040" y="551664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Ілюстрація до поем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“</a:t>
            </a: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ГАЙДАМАКИ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210f17"/>
                </a:solidFill>
                <a:latin typeface="Franklin Gothic Book"/>
              </a:rPr>
              <a:t>Т.Г.Шевченко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539640" y="1484280"/>
          <a:ext cx="4038840" cy="475308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   </a:t>
                      </a: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ФОРМИ ТА МЕТ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НЕЛЕГАЛЬСТЬ І КОНСПЕРАЦІ Я     ТА      ПРИЙНЯТТЯ ПРИСЯ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РОГОЛОШЕННЯ ВЗАЄМОДОПОМОГ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ОСВІТИ І ГРАМОТ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СЕРЕД НАСЕЛЕНН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ПОШИРЕННЯ СВОЇХ ІДЕЙ 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ВИХОВАННЯ МОЛОДІ ТА РОЗПОВСЮДЖЕННЯ ЛІТЕРАТ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643280" y="1484280"/>
          <a:ext cx="4038840" cy="4754520"/>
        </p:xfrm>
        <a:graphic>
          <a:graphicData uri="http://schemas.openxmlformats.org/drawingml/2006/table">
            <a:tbl>
              <a:tblPr/>
              <a:tblGrid>
                <a:gridCol w="403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Franklin Gothic Book"/>
                        </a:rPr>
                        <a:t>Р Е Л І Г І Й Н А СПРЯМОВАН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НАЗВАНА В ЧЕСТЬ СЛОВ</a:t>
                      </a:r>
                      <a:r>
                        <a:rPr b="0" i="1" lang="en-US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`</a:t>
                      </a: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ЯНСЬКИХ ПРОСВЕТИТЕЛІВ,КИРИЛА Й МЕФОДІ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ФОРМА ОРГАНІЗАЦІЇ БУЛА ЗАПОЗИЧЕНА В ЦЕРКОВНИХ БРАТСТВА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У ПРОГРАМОВИХ ДОКУМЕНТАХ ДОМІНУЮТЬ СОЦІАЛЬНІ ІДЕЇ ПЕРВІСНОГО ХРИСТІАН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772754"/>
                          </a:solidFill>
                          <a:latin typeface="Franklin Gothic Book"/>
                        </a:rPr>
                        <a:t>-ЧІТКО ПРОСТЕЖУЄТЬСЯ ІДЕЯ СПРАВЕДЛИВОСТІ,СВОБОДИ,РІВНОСТІЙ БРАТ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435" name="TextBox 6"/>
          <p:cNvSpPr/>
          <p:nvPr/>
        </p:nvSpPr>
        <p:spPr>
          <a:xfrm>
            <a:off x="1116000" y="1773360"/>
            <a:ext cx="21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діяльност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708000" y="1844280"/>
            <a:ext cx="497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Franklin Gothic Book"/>
              </a:rPr>
              <a:t>Микола Костомаров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        </a:t>
            </a:r>
            <a:r>
              <a:rPr b="0" lang="uk-UA" sz="2600" spc="-1" strike="noStrike">
                <a:solidFill>
                  <a:srgbClr val="591f4d"/>
                </a:solidFill>
                <a:latin typeface="Franklin Gothic Book"/>
              </a:rPr>
              <a:t>(1817-1885)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13f9a"/>
                </a:solidFill>
                <a:latin typeface="Franklin Gothic Book"/>
              </a:rPr>
              <a:t>- </a:t>
            </a:r>
            <a:r>
              <a:rPr b="0" lang="ru-RU" sz="2500" spc="-1" strike="noStrike">
                <a:solidFill>
                  <a:srgbClr val="852f74"/>
                </a:solidFill>
                <a:latin typeface="Franklin Gothic Book"/>
              </a:rPr>
              <a:t>30-річний історик ,завідувач кафедри Київського університету, </a:t>
            </a:r>
            <a:r>
              <a:rPr b="0" lang="uk-UA" sz="2500" spc="-1" strike="noStrike">
                <a:solidFill>
                  <a:srgbClr val="852f74"/>
                </a:solidFill>
                <a:latin typeface="Franklin Gothic Book"/>
              </a:rPr>
              <a:t>один з організаторів  товариства</a:t>
            </a:r>
            <a:endParaRPr b="0" lang="en-US" sz="25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7" name="Picture 2" descr="C:\Users\graf\Desktop\костомаров.jpg"/>
          <p:cNvPicPr/>
          <p:nvPr/>
        </p:nvPicPr>
        <p:blipFill>
          <a:blip r:embed="rId2"/>
          <a:stretch/>
        </p:blipFill>
        <p:spPr>
          <a:xfrm>
            <a:off x="539640" y="1268280"/>
            <a:ext cx="3011760" cy="3384720"/>
          </a:xfrm>
          <a:prstGeom prst="rect">
            <a:avLst/>
          </a:prstGeom>
          <a:ln w="0">
            <a:noFill/>
          </a:ln>
        </p:spPr>
      </p:pic>
      <p:sp>
        <p:nvSpPr>
          <p:cNvPr id="438" name="Объект 1"/>
          <p:cNvSpPr/>
          <p:nvPr/>
        </p:nvSpPr>
        <p:spPr>
          <a:xfrm>
            <a:off x="539640" y="4869000"/>
            <a:ext cx="7920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Автор книги </a:t>
            </a:r>
            <a:r>
              <a:rPr b="1" i="1" lang="ru-RU" sz="2600" spc="-1" strike="noStrike">
                <a:solidFill>
                  <a:srgbClr val="852f74"/>
                </a:solidFill>
                <a:latin typeface="Franklin Gothic Book"/>
              </a:rPr>
              <a:t>"Закон Божий (Книга Буття українського народу)"</a:t>
            </a:r>
            <a:r>
              <a:rPr b="1" i="1" lang="uk-UA" sz="2600" spc="-1" strike="noStrike">
                <a:solidFill>
                  <a:srgbClr val="852f74"/>
                </a:solidFill>
                <a:latin typeface="Franklin Gothic Book"/>
              </a:rPr>
              <a:t> , яка стала основоположним твором Статуту товариства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1547640" y="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Активні  член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7"/>
          <p:cNvSpPr/>
          <p:nvPr/>
        </p:nvSpPr>
        <p:spPr>
          <a:xfrm>
            <a:off x="4723560" y="0"/>
            <a:ext cx="28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Franklin Gothic Book"/>
              </a:rPr>
              <a:t>братства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0:26:00Z</dcterms:created>
  <dc:creator>graf</dc:creator>
  <dc:description/>
  <dc:language>en-US</dc:language>
  <cp:lastModifiedBy>Admin</cp:lastModifiedBy>
  <dcterms:modified xsi:type="dcterms:W3CDTF">2014-01-17T11:10:20Z</dcterms:modified>
  <cp:revision>112</cp:revision>
  <dc:subject/>
  <dc:title>Кирило-Мефодіївське товари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2000000000001024140</vt:lpwstr>
  </property>
</Properties>
</file>