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4A6-816A-494C-A8E8-79E983D5F3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B847-95D4-466D-A7E6-217238F3E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59C-E1EF-4522-9D8F-F32BB2D4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DE2-399F-48B1-A53C-34AEE042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3D5B-8551-4A6A-B867-C43AE507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8DFA6-BD46-47E5-B58E-5BED28F9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475C9-5D2B-4DF5-92B4-ACF10553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CD898-BFE6-4A32-A330-7110611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B21A9-5895-421A-9C93-2065BE19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0D67C-29BD-4757-95C2-5759712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1FD6-1D88-415C-AB47-A06C05C8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9A51-23D3-498D-B9B4-C43BD827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64F7B-9954-40E8-918C-0C26012D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AB6-5499-4630-AE0B-9D0E4ACA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EE8-FBE9-44AF-B179-A04C8F8D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D76-9871-4A11-96FA-EE107470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D8D8-C159-4A9E-82EC-EEF88A2E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5DB5-494D-4B1A-B213-D7C6C79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A62E-FE59-42CE-95A2-B0C40F20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1BD-26B5-42B8-B9A1-0FD4AEA0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E936-7E0F-42C7-8E03-7016F54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6634-3E04-40B0-B715-B6D49CC2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725-2458-4549-BD59-FE0D60F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ADBF-DD91-4241-A592-F02FE71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AA16-D28D-4912-8415-0C2A3F5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6954-E78B-4097-85F2-F3E8162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EE57-8DD9-401B-838B-274D9692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7BE-744A-4E0B-8E0E-922B423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EFED-CD8A-42F5-8A7C-2ED62C03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D3B2-6858-43AF-A947-99BC5A85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A6E1-B637-4DBF-B14C-1E15A16B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C0FB-4042-4AAE-AF5D-AA455A6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C516E-3E3A-4D44-8FDB-6B12B04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58D-0DAB-46C0-97F2-04A3FC25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5A06-5BC5-4642-8240-F1EE9B90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1FB6-571A-4DB0-82ED-FC568DD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EBB5D-8244-402B-BCE2-2002DA0D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39D1-84E5-4FE2-8EC5-6D7C6F8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52F6-4871-4F6B-A939-DB71BD2D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2315-B024-43B4-A239-D21BFD65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5452-C239-452C-A6BF-F1AF4B6E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E748-C44E-4C7F-A202-6845F424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DB03-AD40-41A6-96B1-18B648B5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F800-AEB9-4A8C-9A29-23B222C8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868-A7E2-469A-8FD2-48B98B3E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C766B-D0F8-405E-B398-C863D4B0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03A5-137F-49CA-AC24-9D9F1D57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583B-E792-4A5C-BA01-57428906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08743-7DDF-4648-A925-3795656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4945-E570-4A9B-AFAB-B14279F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FA91-5838-4EC0-8FE6-AD2B480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52E9-018B-478A-9049-8DF99B3B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BEE7-28BB-4471-89C9-25728A48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0D60D-7C91-4616-A327-720615F0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F846A-EB0F-46EB-9166-E3E057A1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8C4-4342-45CD-A4A0-63BDA1D2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770B9-12EF-41A0-ABF7-55224A42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219F-B4C8-4E2F-AC64-6C86E28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6C1B-47E2-4C6F-824C-F0AC5068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307A-8276-42CC-BB68-7D6B781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859F-82FE-4D31-A014-0B13FD5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89A6-78BB-4A7C-82BB-B39F2C1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1769-DBFB-414C-AED7-BE0C822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2DAF-6D66-4ECD-A112-38E45C6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B6E8-781F-40C4-835E-A8A97A34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DE21-9E03-4F46-9063-D4E8F781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BEF-B653-4C44-869B-2D92DA60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2FD0-5687-47F0-914B-CDBAC693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46C8A-0EF4-497C-A4BC-367074D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7BD1-9A9D-4E36-89EE-7290B4F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17730-A42A-4049-8F41-32ECE349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9D5F-2378-4800-B636-E93F6BE0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889A-77FE-4988-A6A9-F9ABCEA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3091-4C85-4CDC-9844-F343C9E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A42B-4ABD-46EF-911B-4069CAB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B248E-FF32-4155-BC26-9C759B6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34CC5-1A7B-4354-8161-976B38B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E58-4C81-4DF2-A836-AD46A736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3D03-F314-45DE-998F-EC57178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9617-3BD4-4702-BA50-7C48DA54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43096-620F-44A2-9670-8E9C1A42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D51F-D7C2-40B1-BC64-F95FCEAD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5368-8A54-4C68-BD24-08DCF8E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D04E4-D0B9-47E8-BA28-7F120962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9749-35E5-4138-AAF6-6DE476E8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6118F-C650-4951-99B7-05200605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7722-D1AF-4B89-A0A9-59683DE8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F8A0-CB83-416A-A0BA-17ABCBC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D6B-856E-4424-96F5-83080F87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9D2E-B844-4826-81E0-E5139F4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074E-79CD-4ED6-9EDA-A477207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E48FC-A411-4671-8AF0-A547D5F6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4EE4-128B-42C9-8045-9D6CF9D1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80380-00A7-4185-B787-E47815B4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0136C-07E9-45D0-A8AC-C35DC080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FB0EE-436D-4DE5-B6EA-3F901940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C2726-DC94-4AF7-9521-9CCEDBA5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A709-067C-48D2-AB37-6EE43F4E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31333-C235-4860-9B66-5E50597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457-B99C-4F5A-B8B9-A5DF782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3548-63C7-4017-910F-119F59F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4007-049B-4EE6-9CDC-8553DE0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59389-6E71-4E44-A406-C5B4A66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75FDF-3A0D-468A-8A37-9480408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FABD-A926-419A-B7B1-48FF296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CBE95-2BF4-4013-B482-2CA61951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19BA-5EA0-48F3-AB1E-1279C348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2B622-C09E-4E45-909B-01B0A925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AF16A-C0FC-49C0-88F9-5A9A3303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AC352-2517-4271-B413-7C529685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67C-AD76-445D-A2AC-195E0E28F46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8D5-3CDC-48F7-AB3F-C4182605FF1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F1A-8E4A-43B0-9B9C-89ADDC65D522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1B38-9E3E-4ED4-8233-DE0ACC119D6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0E4B-7782-4219-876B-E5C84E1847E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2F3D-DFD5-49B1-AF52-9AD768CEC6A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B701-719B-4F82-8E0A-789EF3AB9F2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FDC1-04E3-499F-A6D2-6F0211853EB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269-3CA7-483A-B8CD-140F2C61BE8E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122400" y="1176480"/>
            <a:ext cx="8515080" cy="1968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11640" y="4724280"/>
            <a:ext cx="39290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Franklin Gothic Book"/>
              </a:rPr>
              <a:t>                      </a:t>
            </a: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9  к л а с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428760" y="857160"/>
            <a:ext cx="49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УРОК 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з 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Franklin Gothic Book"/>
              </a:rPr>
              <a:t>і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торії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 України  на тем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Рисунок 4" descr="iкирил и мефодий.jpg"/>
          <p:cNvPicPr/>
          <p:nvPr/>
        </p:nvPicPr>
        <p:blipFill>
          <a:blip r:embed="rId3"/>
          <a:stretch/>
        </p:blipFill>
        <p:spPr>
          <a:xfrm>
            <a:off x="539640" y="4149720"/>
            <a:ext cx="3384720" cy="23036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5"/>
          <p:cNvSpPr/>
          <p:nvPr/>
        </p:nvSpPr>
        <p:spPr>
          <a:xfrm>
            <a:off x="4284720" y="4797360"/>
            <a:ext cx="34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СЛОВ</a:t>
            </a:r>
            <a:r>
              <a:rPr b="0" lang="en-US" sz="1600" spc="-1" strike="noStrike">
                <a:solidFill>
                  <a:srgbClr val="5a2c64"/>
                </a:solidFill>
                <a:latin typeface="Franklin Gothic Book"/>
              </a:rPr>
              <a:t>`</a:t>
            </a: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ЯНСЬКІ ПРОСВЕТИТЕЛІ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КИРИЛ ТА МЕФОДІ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3" descr="гулак.jpg"/>
          <p:cNvPicPr/>
          <p:nvPr/>
        </p:nvPicPr>
        <p:blipFill>
          <a:blip r:embed="rId2"/>
          <a:stretch/>
        </p:blipFill>
        <p:spPr>
          <a:xfrm>
            <a:off x="324000" y="549360"/>
            <a:ext cx="3816360" cy="5661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4284720" y="1125360"/>
            <a:ext cx="5170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Franklin Gothic Book"/>
              </a:rPr>
              <a:t>Микола  Гулак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Franklin Gothic Book"/>
              </a:rPr>
              <a:t>(1822-1899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Засновник, головний діяч Кирило-Мефодіївського братств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Громадсько - пол</a:t>
            </a: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ітичний дія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педагог, учений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3" name="Рисунок 5" descr="гулак.jpg"/>
          <p:cNvPicPr/>
          <p:nvPr/>
        </p:nvPicPr>
        <p:blipFill>
          <a:blip r:embed="rId3"/>
          <a:stretch/>
        </p:blipFill>
        <p:spPr>
          <a:xfrm>
            <a:off x="324000" y="549360"/>
            <a:ext cx="3816360" cy="566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" descr="C:\Users\graf\Desktop\Кулиш.jpg"/>
          <p:cNvPicPr/>
          <p:nvPr/>
        </p:nvPicPr>
        <p:blipFill>
          <a:blip r:embed="rId2"/>
          <a:stretch/>
        </p:blipFill>
        <p:spPr>
          <a:xfrm>
            <a:off x="324000" y="907920"/>
            <a:ext cx="3606480" cy="5173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140360" y="1052280"/>
            <a:ext cx="4147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Franklin Gothic Book"/>
              </a:rPr>
              <a:t>Пантелеймон Куліш </a:t>
            </a:r>
            <a:r>
              <a:rPr b="1" i="1" lang="ru-RU" sz="4000" spc="-1" strike="noStrike">
                <a:solidFill>
                  <a:srgbClr val="b13f9a"/>
                </a:solidFill>
                <a:latin typeface="Franklin Gothic Book"/>
              </a:rPr>
              <a:t>-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4106520" y="2349360"/>
            <a:ext cx="510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Видатний письменник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України, поет, етнограф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критик, громадськи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дія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4643280" y="2349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(1819 - 1897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3" descr="пан кулиш.jpg"/>
          <p:cNvPicPr/>
          <p:nvPr/>
        </p:nvPicPr>
        <p:blipFill>
          <a:blip r:embed="rId2"/>
          <a:stretch/>
        </p:blipFill>
        <p:spPr>
          <a:xfrm>
            <a:off x="61128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6300720" y="2133720"/>
            <a:ext cx="24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Портрет Пантелемон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Куліш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написаний Тарасом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игоровичем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Шевченк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2"/>
          <a:stretch/>
        </p:blipFill>
        <p:spPr>
          <a:xfrm>
            <a:off x="-201600" y="469800"/>
            <a:ext cx="889488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bilozerskij-vasil.jpg"/>
          <p:cNvPicPr/>
          <p:nvPr/>
        </p:nvPicPr>
        <p:blipFill>
          <a:blip r:embed="rId3"/>
          <a:stretch/>
        </p:blipFill>
        <p:spPr>
          <a:xfrm>
            <a:off x="1332000" y="1557360"/>
            <a:ext cx="2361960" cy="3645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3631680" y="1916280"/>
            <a:ext cx="456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2f74"/>
                </a:solidFill>
                <a:latin typeface="Franklin Gothic Book"/>
              </a:rPr>
              <a:t>Письменник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редактор першог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українського журналу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“</a:t>
            </a: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ОСНОВА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4207320" y="126828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25-1899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1" descr="савич.jpg"/>
          <p:cNvPicPr/>
          <p:nvPr/>
        </p:nvPicPr>
        <p:blipFill>
          <a:blip r:embed="rId2"/>
          <a:stretch/>
        </p:blipFill>
        <p:spPr>
          <a:xfrm>
            <a:off x="250920" y="404640"/>
            <a:ext cx="4681440" cy="5328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2"/>
          <p:cNvSpPr/>
          <p:nvPr/>
        </p:nvSpPr>
        <p:spPr>
          <a:xfrm>
            <a:off x="5003640" y="1197000"/>
            <a:ext cx="3745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Микола  Савич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08-1892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Громадсько-політичний діяч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публіцист, однодумец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Т.Г.Шевченк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2" descr=""/>
          <p:cNvPicPr/>
          <p:nvPr/>
        </p:nvPicPr>
        <p:blipFill>
          <a:blip r:embed="rId2"/>
          <a:stretch/>
        </p:blipFill>
        <p:spPr>
          <a:xfrm>
            <a:off x="49320" y="-6480"/>
            <a:ext cx="8362800" cy="1438560"/>
          </a:xfrm>
          <a:prstGeom prst="rect">
            <a:avLst/>
          </a:prstGeom>
          <a:ln w="0">
            <a:noFill/>
          </a:ln>
        </p:spPr>
      </p:pic>
      <p:pic>
        <p:nvPicPr>
          <p:cNvPr id="457" name="Объект 1" descr=""/>
          <p:cNvPicPr/>
          <p:nvPr/>
        </p:nvPicPr>
        <p:blipFill>
          <a:blip r:embed="rId3"/>
          <a:stretch/>
        </p:blipFill>
        <p:spPr>
          <a:xfrm>
            <a:off x="3919680" y="1620720"/>
            <a:ext cx="4267080" cy="307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graf\Desktop\этнограф-фольклорист Афанасий Маркович.jpg"/>
          <p:cNvPicPr/>
          <p:nvPr/>
        </p:nvPicPr>
        <p:blipFill>
          <a:blip r:embed="rId4"/>
          <a:stretch/>
        </p:blipFill>
        <p:spPr>
          <a:xfrm>
            <a:off x="539640" y="1265400"/>
            <a:ext cx="2986200" cy="43956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421164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22-1862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graf\Desktop\шева.jpg"/>
          <p:cNvPicPr/>
          <p:nvPr/>
        </p:nvPicPr>
        <p:blipFill>
          <a:blip r:embed="rId2"/>
          <a:stretch/>
        </p:blipFill>
        <p:spPr>
          <a:xfrm>
            <a:off x="395280" y="1052640"/>
            <a:ext cx="3178080" cy="48243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5"/>
          <p:cNvSpPr/>
          <p:nvPr/>
        </p:nvSpPr>
        <p:spPr>
          <a:xfrm>
            <a:off x="3851280" y="2637000"/>
            <a:ext cx="502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2f74"/>
                </a:solidFill>
                <a:latin typeface="Franklin Gothic Book"/>
              </a:rPr>
              <a:t>видатний  український  письменник ,  «Кобзар»  українського  народу</a:t>
            </a:r>
            <a:r>
              <a:rPr b="0" lang="ru-RU" sz="3200" spc="-1" strike="noStrike">
                <a:solidFill>
                  <a:srgbClr val="852f74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3635280" y="476280"/>
            <a:ext cx="50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Franklin Gothic Book"/>
              </a:rPr>
              <a:t>Тарас Григорович Шевченко -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57200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(1814 -1861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ИЗОБР ШЕВЧЕНКО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050560" y="-360"/>
            <a:ext cx="6573960" cy="71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52f74"/>
                </a:solidFill>
                <a:latin typeface="Franklin Gothic Book"/>
              </a:rPr>
              <a:t>               </a:t>
            </a:r>
            <a:r>
              <a:rPr b="1" i="1" lang="ru-RU" sz="2000" spc="-1" strike="noStrike">
                <a:solidFill>
                  <a:srgbClr val="852f74"/>
                </a:solidFill>
                <a:latin typeface="Franklin Gothic Book"/>
              </a:rPr>
              <a:t>У Шевченка Т. Г. вже в першій половині 40-х років XIX ст. сформувався  революційно - демократичний  світогляд. У ряді своїх творів, і перш за все в 'I мертвим, i живим, i ненародженім землякам моїм', в 'Заповітi', він закликав народ до боротьби за свою свободу, кінцевою метою якої повинна була стати демократична республіка, (на відміну від М. Костомарова, який вважав за необхідне зберегти монархічну форму правління). У своїх ідеалах великий поет спирався на демократичні засади організації Запорізької Січі, боротьби українського народу за свободу. Та Кобзар дивився не тільки в минуле: зразком демократії державно-політичного устрою в свій час він вважав політичний устрій США, асоціюючи послідовну боротьбу за демократію і незалежність із першим американським президентом. Звертаючись до своїх співвітчизників, він запитував: 'Коли ми дождемося Вашингтона з новим i праведним законом?' І оптимістично стверджував: ‘дождемось таки колись "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66" name="Рисунок 2" descr="шевч.jpg"/>
          <p:cNvPicPr/>
          <p:nvPr/>
        </p:nvPicPr>
        <p:blipFill>
          <a:blip r:embed="rId2"/>
          <a:stretch/>
        </p:blipFill>
        <p:spPr>
          <a:xfrm>
            <a:off x="179280" y="260280"/>
            <a:ext cx="2232000" cy="309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2"/>
          <a:stretch/>
        </p:blipFill>
        <p:spPr>
          <a:xfrm>
            <a:off x="103320" y="96840"/>
            <a:ext cx="889452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304920" y="1554120"/>
          <a:ext cx="8686800" cy="50292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426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                 </a:t>
                      </a: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П р о г р а м о в і   ц і л 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1. Знищення царизму,кріпосного праву, і поділу населення на ста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2.Об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єднання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 у єдину федераці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08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3. Кожний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й народ зберігає свою самостійність і незалежність й утворює власну державу з республіканською формою правління у складі федерації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4. Управління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ою федерацією повинен здійснювати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й собор із представників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5.Проголошення рівності,демократичних прав і свобод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6. Розвиток національної мови та культури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7.Українському народові відводилася місія визволителя та об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єднувача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8.Правове законодавство має грунтуватися на релігійних іде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1779480" y="25560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dec2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Мислі кирило-мефодіївських братчиків зоставили глибокий слід, вони жили далі і будили політичну і соціальну українську мисль…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Від Кирило-Мефодіївського братства веде свою історію весь новий український політичний рух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                           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М.С.Грушевський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2" descr=""/>
          <p:cNvPicPr/>
          <p:nvPr/>
        </p:nvPicPr>
        <p:blipFill>
          <a:blip r:embed="rId2"/>
          <a:stretch/>
        </p:blipFill>
        <p:spPr>
          <a:xfrm>
            <a:off x="-1407960" y="-6480"/>
            <a:ext cx="10186920" cy="13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304920" y="1554120"/>
          <a:ext cx="8686800" cy="39625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068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Помірно -лібераль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      </a:t>
                      </a: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Радикаль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51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Костомаров, Куліш, Бєлозерськ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Марк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Прагнуть досягти поставленої мети шляхом проведення реформ і здійснення поступових перетв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Шевченко ,Навроцький ,Гулак, Пос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Виступають за революційний переворот,встановлення республіки,соціальне й національне звільнення українського наро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2"/>
          <a:stretch/>
        </p:blipFill>
        <p:spPr>
          <a:xfrm>
            <a:off x="237960" y="-6480"/>
            <a:ext cx="8912520" cy="1397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50920" y="1341000"/>
            <a:ext cx="8740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1.Поклало початок переходу від культурницького до політичного етапу боротьби за національний розвиток України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2.Це була спроба передової частини української інтелігенції осмислити та визначити місце і роль українського  народу в тогочасному світі 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3.Спроектували передові західноєвропейські ідеї на український грунт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4. Сформулювали основні засади українського національного відродження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5. Визначили форми і методи досягнення поставленої мети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6. Діяльність товариства – то був початок довгої безупинної  боротьби української інтелігенції з російським царизмом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3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042920" y="148428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Ч</a:t>
            </a: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итати та переказувати параграф 14 підручник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відповісти на питання  стор. 117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2.Творчі завдання на вибір учні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extBox 5" descr=""/>
          <p:cNvPicPr/>
          <p:nvPr/>
        </p:nvPicPr>
        <p:blipFill>
          <a:blip r:embed="rId3"/>
          <a:stretch/>
        </p:blipFill>
        <p:spPr>
          <a:xfrm>
            <a:off x="328680" y="3108240"/>
            <a:ext cx="9291600" cy="320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2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210f17"/>
                </a:solidFill>
                <a:latin typeface="Franklin Gothic Book"/>
              </a:rPr>
              <a:t>        </a:t>
            </a:r>
            <a:r>
              <a:rPr b="0" i="1" lang="ru-RU" sz="1300" spc="-1" strike="noStrike">
                <a:solidFill>
                  <a:srgbClr val="210f17"/>
                </a:solidFill>
                <a:latin typeface="Franklin Gothic Book"/>
              </a:rPr>
              <a:t>1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. Грушевський М. Ілюстрована історія України. – К.:Наукова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думка, 1992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2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Ісаєвич Я. Братства та їхня роль в розвитку української культури XVI-XVIII ст. К., 1966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 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3.Кири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л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ло-Мефодиевское общество. Сборник документов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в 3 томах – Т.1. – К.,1990 – С.150-152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4.. К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ирило-Мефодіївське товариство. 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htt://books/com.ua/35418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5. Субтельний О. Україна: історія:- К.:Либідь, 1994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6.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Струкевич О.К. Історія України: Підручн. для  9 кл.загальноосвіт.навч.закл. – К.:Грамота,2009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 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7.Турченко Ф.Г. Мороко В.М. Історія України.кін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XVIII –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поч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XIX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ст.-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.: Генеза, 2000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r>
              <a:rPr b="0" i="1" lang="uk-UA" sz="8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8" name="TextBox 3"/>
          <p:cNvSpPr/>
          <p:nvPr/>
        </p:nvSpPr>
        <p:spPr>
          <a:xfrm>
            <a:off x="97164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285840" y="438120"/>
            <a:ext cx="8718480" cy="1171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1.Створенння Кирило-Мефодіївського брат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2.Програмні документи –Програма і Статут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3.Тарас Григорович Шевченко в українському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національному відродженні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4.Значення діяльності Кирило-Мефодіївського брат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328680" y="182520"/>
            <a:ext cx="8486640" cy="3110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306828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7" name="Рисунок 3" descr="заседание кириломефод.jpg"/>
          <p:cNvPicPr/>
          <p:nvPr/>
        </p:nvPicPr>
        <p:blipFill>
          <a:blip r:embed="rId3"/>
          <a:stretch/>
        </p:blipFill>
        <p:spPr>
          <a:xfrm>
            <a:off x="324000" y="3357720"/>
            <a:ext cx="4789440" cy="3500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5364000" y="5732640"/>
            <a:ext cx="28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В.І. Штинбер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ирило-Мефодіївськ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братств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-6480"/>
            <a:ext cx="8425080" cy="1438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00000" y="1052280"/>
            <a:ext cx="7570800" cy="63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У 1846 році "заговорщики" створили братство ім. Кирила та Мефодія, члени якого сповідували гуманістичну ідеологію, що базувалась на ідеях христианства - любові до ближнього, щирого прощення людських помилок. Соціальний склад братсва - різночинці, дворяни. Товариство було не лише малочисельним, а й обмеженим у своїй діяльності. Протягом приблизно 14 місяців його існування "браття" збиралися кілька разів на тривалі філософські й політичні дискусії (під час однієї з них і був присутній донощик Петров) та підготували ряд положень </a:t>
            </a:r>
            <a:r>
              <a:rPr b="0" lang="ru-RU" sz="1800" spc="-1" strike="noStrike">
                <a:solidFill>
                  <a:srgbClr val="852f74"/>
                </a:solidFill>
                <a:latin typeface="Franklin Gothic Book"/>
              </a:rPr>
              <a:t>своєї програми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1" name="Рисунок 4" descr="иллюстр кобзаря.jpg"/>
          <p:cNvPicPr/>
          <p:nvPr/>
        </p:nvPicPr>
        <p:blipFill>
          <a:blip r:embed="rId3"/>
          <a:stretch/>
        </p:blipFill>
        <p:spPr>
          <a:xfrm>
            <a:off x="1332000" y="4221000"/>
            <a:ext cx="3384360" cy="2637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859280" y="5661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Ілюстрація до “КОБЗАРЯ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В.Седляр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95280" y="620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       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Товариство складалося всього з десятка активних членів та кількох десятків співчуваючих. Це були молоді українські інтелегенти. 30-річний історик Микола Костомаров незадовго до свого арешту отримав кафедру у Київському університеті. 22-річний Василь Білозерський у дні створення товариства, за спогадами Костомарова, жив у Київі "по окончании курса в университете... в надежде найти себе служебное место", яке й знайшов у Полтаві, де до арешту викладав у кадетському корпусі. Микола Гулак перебував на службі в канцелярії київського генерал-губернатора на посаді перекладача археографічной комісії. Хоч два інших інтелігенти - викладач гімназії та письменник Пантелеймон Куліш і вже добре знаний поет Тарас Шевченко - підтримували з товариством не дуже стійкі зв'язки, їх також заарештувал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900000" y="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СОЦІАЛЬНИЙ СКЛАД БРАТЧИКІВ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Рисунок 3" descr="iКОБЗАР.jpg"/>
          <p:cNvPicPr/>
          <p:nvPr/>
        </p:nvPicPr>
        <p:blipFill>
          <a:blip r:embed="rId2"/>
          <a:stretch/>
        </p:blipFill>
        <p:spPr>
          <a:xfrm>
            <a:off x="900000" y="4724280"/>
            <a:ext cx="4248360" cy="2133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338080" y="602136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“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ОБЗАР”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Т.Г.ШЕВЧ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4000" y="260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Основна  мета </a:t>
            </a:r>
            <a:r>
              <a:rPr b="0" lang="ru-RU" sz="2000" spc="-1" strike="noStrike">
                <a:solidFill>
                  <a:srgbClr val="b13f9a"/>
                </a:solidFill>
                <a:latin typeface="Franklin Gothic Book"/>
              </a:rPr>
              <a:t>- 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об'єднаня  слов'ян  на  засадах федерації при рівності та дотриманні прав і свобод громадян, скасування кріпацтва, та самодержавства, соціальне і національне визволення українського народу. Члени братства ідеалізували козацьку минувщину і в її суспільній організації вбачали майбутній суспільний устріій Україн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148360" y="41497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74396"/>
                </a:solidFill>
                <a:latin typeface="Franklin Gothic Book"/>
              </a:rPr>
              <a:t>,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4788000" y="4797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0" name="Рисунок 5" descr="иллюстр к гайдамаки.jpg"/>
          <p:cNvPicPr/>
          <p:nvPr/>
        </p:nvPicPr>
        <p:blipFill>
          <a:blip r:embed="rId2"/>
          <a:stretch/>
        </p:blipFill>
        <p:spPr>
          <a:xfrm>
            <a:off x="395280" y="2997360"/>
            <a:ext cx="5040360" cy="35272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5594040" y="551664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Ілюстрація до поем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“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ГАЙДАМАКИ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Т.Г.Шевч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539640" y="1484280"/>
          <a:ext cx="4038840" cy="47530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ФОРМИ ТА МЕТ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</a:t>
                      </a: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НЕЛЕГАЛЬСТЬ І КОНСПЕРАЦІ Я     ТА      ПРИЙНЯТТЯ ПРИСЯГ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РОГОЛОШЕННЯ ВЗАЄМОДОПОМОГ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ОШИРЕННЯ ОСВІТИ І ГРАМОТ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СЕРЕД НАСЕЛЕНН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ОШИРЕННЯ СВОЇХ ІДЕЙ 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ВИХОВАННЯ МОЛОДІ ТА РОЗПОВСЮДЖЕННЯ ЛІТЕРА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3280" y="1484280"/>
          <a:ext cx="4038840" cy="475452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Р Е Л І Г І Й Н А СПРЯМОВАН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НАЗВАНА В ЧЕСТЬ СЛОВ</a:t>
                      </a:r>
                      <a:r>
                        <a:rPr b="0" i="1" lang="en-US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ЯНСЬКИХ ПРОСВЕТИТЕЛІВ,КИРИЛА Й МЕФОДІ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ФОРМА ОРГАНІЗАЦІЇ БУЛА ЗАПОЗИЧЕНА В ЦЕРКОВНИХ БРАТСТВА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У ПРОГРАМОВИХ ДОКУМЕНТАХ ДОМІНУЮТЬ СОЦІАЛЬНІ ІДЕЇ ПЕРВІСНОГО ХРИСТІАН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ЧІТКО ПРОСТЕЖУЄТЬСЯ ІДЕЯ СПРАВЕДЛИВОСТІ,СВОБОДИ,РІВНОСТІЙ БРА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35" name="TextBox 6"/>
          <p:cNvSpPr/>
          <p:nvPr/>
        </p:nvSpPr>
        <p:spPr>
          <a:xfrm>
            <a:off x="1116000" y="1773360"/>
            <a:ext cx="21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діяльност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708000" y="1844280"/>
            <a:ext cx="497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Book"/>
              </a:rPr>
              <a:t>Микола Костомаров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591f4d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591f4d"/>
                </a:solidFill>
                <a:latin typeface="Franklin Gothic Book"/>
              </a:rPr>
              <a:t>(1817-1885)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2500" spc="-1" strike="noStrike">
                <a:solidFill>
                  <a:srgbClr val="852f74"/>
                </a:solidFill>
                <a:latin typeface="Franklin Gothic Book"/>
              </a:rPr>
              <a:t>30-річний історик ,завідувач кафедри Київського університету, </a:t>
            </a:r>
            <a:r>
              <a:rPr b="0" lang="uk-UA" sz="2500" spc="-1" strike="noStrike">
                <a:solidFill>
                  <a:srgbClr val="852f74"/>
                </a:solidFill>
                <a:latin typeface="Franklin Gothic Book"/>
              </a:rPr>
              <a:t>один з організаторів  товариства</a:t>
            </a:r>
            <a:endParaRPr b="0" lang="en-US" sz="2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7" name="Picture 2" descr="C:\Users\graf\Desktop\костомаров.jpg"/>
          <p:cNvPicPr/>
          <p:nvPr/>
        </p:nvPicPr>
        <p:blipFill>
          <a:blip r:embed="rId2"/>
          <a:stretch/>
        </p:blipFill>
        <p:spPr>
          <a:xfrm>
            <a:off x="539640" y="1268280"/>
            <a:ext cx="3011760" cy="3384720"/>
          </a:xfrm>
          <a:prstGeom prst="rect">
            <a:avLst/>
          </a:prstGeom>
          <a:ln w="0">
            <a:noFill/>
          </a:ln>
        </p:spPr>
      </p:pic>
      <p:sp>
        <p:nvSpPr>
          <p:cNvPr id="438" name="Объект 1"/>
          <p:cNvSpPr/>
          <p:nvPr/>
        </p:nvSpPr>
        <p:spPr>
          <a:xfrm>
            <a:off x="539640" y="4869000"/>
            <a:ext cx="7920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852f74"/>
                </a:solidFill>
                <a:latin typeface="Franklin Gothic Book"/>
              </a:rPr>
              <a:t>Автор книги </a:t>
            </a:r>
            <a:r>
              <a:rPr b="1" i="1" lang="ru-RU" sz="2600" spc="-1" strike="noStrike">
                <a:solidFill>
                  <a:srgbClr val="852f74"/>
                </a:solidFill>
                <a:latin typeface="Franklin Gothic Book"/>
              </a:rPr>
              <a:t>"Закон Божий (Книга Буття українського народу)"</a:t>
            </a:r>
            <a:r>
              <a:rPr b="1" i="1" lang="uk-UA" sz="2600" spc="-1" strike="noStrike">
                <a:solidFill>
                  <a:srgbClr val="852f74"/>
                </a:solidFill>
                <a:latin typeface="Franklin Gothic Book"/>
              </a:rPr>
              <a:t> , яка стала основоположним твором Статуту товариства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1547640" y="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Активні  член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7"/>
          <p:cNvSpPr/>
          <p:nvPr/>
        </p:nvSpPr>
        <p:spPr>
          <a:xfrm>
            <a:off x="4723560" y="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братства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0:26:00Z</dcterms:created>
  <dc:creator>graf</dc:creator>
  <dc:description/>
  <dc:language>en-US</dc:language>
  <cp:lastModifiedBy>Admin</cp:lastModifiedBy>
  <dcterms:modified xsi:type="dcterms:W3CDTF">2014-01-17T11:10:20Z</dcterms:modified>
  <cp:revision>112</cp:revision>
  <dc:subject/>
  <dc:title>Кирило-Мефодіївське товари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22000000000001024140</vt:lpwstr>
  </property>
</Properties>
</file>