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C6E-ACDB-468D-A978-355904C5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F43-03D7-4CC4-9D58-CB4BAA44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5CC-D0DB-43D0-A664-E9919267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5A0-9EA8-4723-90C3-9DCE8E1D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C15C-21C4-410C-9276-F3F40E13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FB25-E75B-4F4D-93AA-6E02B16B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2C90-D0AE-4F6D-8485-2EF4B6F5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187-DC9A-4730-994E-40B04E8B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93D-A805-4258-848E-676BFF9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F59C-5B3E-4604-B9B7-6EEE3720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BA43-580A-44B5-89DA-23E7CAB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B6F-F0EB-4F7E-B804-4F5D2565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CFD0-9FD8-45F9-8811-03C6B9E5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3D44-4ADB-4520-BB3B-AE330B2F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050C-D079-41D0-9795-9D45EC6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D79-19BB-47D5-AD21-94B231B8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656E-60E0-4195-9AF3-91118FE4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C5A4-6347-4BB2-9B83-67D08CD9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C339-4DB0-4580-ABC1-73137888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233C-AAFA-4F04-873F-22801B7A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32AC-B292-4C59-9774-5C5B0A8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29F1-B0EA-43B1-8C64-0136BA0D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A98-B807-440C-A121-E89C743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E9B86-7555-49AE-92C2-D704C47D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0B7A-ABFB-4369-BA6B-0D92D04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CBFC-BFAF-4A52-B04A-8FF85FDF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A4AD-7E30-4F8D-AFB3-50283FE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0E6E-1628-4004-87CA-BEDCFAD1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5AD9-0418-4829-9F54-23240562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F1E2-5A73-481D-8DA5-7DCB8BBA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DBF7-FE9E-4958-B837-763CAB4E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8540-E10F-4DE3-8D72-0C125A19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0E6F-02FB-409A-A38C-03C2654C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C5C-F3A6-4E18-A5E3-09B3E0E1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A1C7-46D8-44F2-8C85-19B70C29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4C151-C7C3-4AD7-8314-48624FDF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D8B1-D1A7-44A4-B3B3-68F9C87A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9889-9BC9-4742-A68E-F843DF1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F261-3EC3-486A-B3AF-EAF84A5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C643-4EEA-4314-BEB0-2173CDB5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A53E-E48D-497D-A68B-24C8CA9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68F67-096D-4725-8C29-7CF20069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0E97-2273-4C96-A993-9A611689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B001-C0E9-40BB-81AC-B8B6223B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309-EB70-436B-9DC4-B0EA95C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40FFA-3F4E-4024-BCE3-CD6DEA1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2564-DF3B-4274-88F9-0645621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C8EC-BF38-4FA5-8030-F6360D6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BE1B-647F-4E14-92DA-5E5096FF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A1A3-0036-4DF1-9848-6E8DBAA1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0B8F-A723-40FB-8476-FF959D4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394F2-1FB6-4E01-A6C3-8E665D0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00AE-4CD1-4E6A-9F31-8B4A338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F8DB-0A98-4A5B-BB2F-280CC95E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3112-42AC-4F4B-A556-8CDFED75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388-1C5B-41B3-AADD-86A61D46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E077-A156-4CC6-A58D-C90998DC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4EDE-F05F-403B-84AE-F65CDFD4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C47B9-35EC-481F-96B7-6F092D5C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910A-55D9-4E88-BCB9-F2E3CA6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DAC2-2A01-4797-AD26-F3931451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3D55-1399-410B-BDE9-D8C351D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F1A5-4789-4BE9-B66B-6B3D062A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EBA14-B752-4B82-90B7-6D373EA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715C-6FFA-4DE8-85A6-F1AFB3E2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61E4E-3949-44F9-BB3A-D98F8A7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547-AFD9-4934-AC0F-37BC5147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9AF2-7550-49DD-A248-741531C5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4855-8345-4F6A-AB2C-FC40BD84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4E2D9-F6CE-4153-9F92-824DA5F4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836-A006-4793-AAEF-FAE18CA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65C-3CD1-454F-AC66-EF8BF7EE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A715-D724-4179-8B17-0480E6B6B9D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8850-BE8B-4D67-81CE-EEFE221F07F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F058-5CE1-4B5A-901C-106EC470776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2FA6-2D01-4A84-9F47-664063B8D86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51DD-26B6-4725-83A9-46A83AF399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6871-7C24-4C82-B5C6-C7F44D3CB24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chitel.info/uploads/posts/2012-12/1356209585_politichna-borotba-ukrayinskih-partiy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28680" y="1420920"/>
            <a:ext cx="9644040" cy="2803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08360" y="5013000"/>
            <a:ext cx="496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ідготува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історії та правознав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гальноосвітньої школи № 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.Краматорсь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тка О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5516280" y="18900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сторія України. 10 кла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ові  тенденції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національного  руху  на  початку  ХХ  ст. в Наддніпрянській Україні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700280"/>
            <a:ext cx="8569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сока концентрація робітників в промисловорозвинених регіо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ить строкатий склад робітничого кла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ізке погіршення становища насе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ізація робітничого і селянського ру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іни в національному складі населення Украї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клад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енн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оці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а національн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ідносини, що встановилися між селом і мі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звіть політичні партії, які утворилися 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ддніпрянській Україні на початку Х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им вони бачили майбутнє Україн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2340000" y="476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Завданн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5280" y="16002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М. Міхновського «Самостійна Україн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грудень 1902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журналу «Гасло» за квітень 1903 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ограми УСДР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i="1" lang="ru-RU" sz="4100" spc="-1" strike="noStrike">
                <a:solidFill>
                  <a:srgbClr val="ffff00"/>
                </a:solidFill>
                <a:latin typeface="Franklin Gothic Book"/>
              </a:rPr>
              <a:t>Завдання  для  всього  класу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08000" y="1628640"/>
            <a:ext cx="90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иї погляди вам більше до вподоби: самостійників чи автономістів?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би ви проживали в той час у  Наддніпрянській Україні, то до якої б партії  вступили і чому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Franklin Gothic Book"/>
              </a:rPr>
              <a:t>Український національний рух на західноукраїнських землях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вдяки конституцiйному ладові, що був встановлений в Австро-Угорській імперії, в західноукраїнських землях основнi права i свободи забезпечувалися набагато ширше, нiж у самодержавнiй Росiї. Тому український нацiональний рух, починаючи з середини ХIХ ст. i до початку ХХ ст., набрав тут вiдчутної сили та розмах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5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О</a:t>
            </a: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сновні напрями діяльності українських політичних партій  Західної  України.</a:t>
            </a:r>
            <a:br>
              <a:rPr sz="41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Объект 3" descr="Політизація українського національного руху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727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Робота з джерелами інформації в групах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-а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Із праці О. Субтельного «Україна. Історі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митро Дорошенко про успіхи національного руху в Буковин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-я г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Полонська-Василенко про життя українців у Закарпат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Узагальнення та систематизація знань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Franklin Gothic Book"/>
              </a:rPr>
              <a:t>Питання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7920" y="1268280"/>
            <a:ext cx="903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осійська партія соціалістів-революціонерів (есерів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і три течії існували в українському напрямку суспільно-політичного житт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Хто був автором брошури «Самостійна Україна»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РУ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Яким убачала майбутнє України УД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Коли утворилася УНП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озкрийте зміст висловлювання - «Галичина - український П’ємонт».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и згодні ви з таким порівнянням? Свою думку аргументуй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а рахунок чого забезпечувався на західноукраїнських землях поступ національного руху? Чому ці засоби не були результативними в Наддніпрянщині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Домашнє  завдання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ацювати відповідний матеріал підручни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ідготувати повідомлення: «Кривава неділя» та «Повстання на броненосці «Потьомкін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Franklin Gothic Book"/>
              </a:rPr>
              <a:t>Мета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0800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изначити проблеми становлення української нації на початку ХХ ст.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характеризувати процес створення перших політичних партій у Наддніпрянській Україні на початку ХХ ст. та діяльність політичних партій Західної України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довжувати розвивати в учнів уміння та навички роботи з історичними джерелами, аналізувати та систематизувати матеріал, робити висновки, узагальнення, порівняння, висловлювати та аргументувати свою позицію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а прикладах діяльності політичних партій виховувати в учнів патріотичні почутт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План урок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560" y="162864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блеми становлення української н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творення політичних партій Наддніпрянської Украї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ростання українського національного рух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а західноукраїнських земля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Основні поняття і дат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8000" y="1557000"/>
            <a:ext cx="885672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понятт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орма правління, національний рух,  інтелігенція, громадська організація, націоналізм,  опозиція, «політична партія», визвольний рух, політизація, «РУП», «Самостійна Україна» М. Міхновського, «УДП», «УРП», «УНП», «УСДРП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3500280"/>
            <a:ext cx="8785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сновні да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р.— видання брошури М. Міхновського «Самостійна Україна»,створення РУ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2 р.— заснування УН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4 р.— заснування УДП та УРП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5 р.— утворення УСДР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00"/>
                </a:solidFill>
                <a:latin typeface="Franklin Gothic Book"/>
              </a:rPr>
              <a:t>Персоналії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1590480" cy="21052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395280" y="308628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кола Міхновськ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33560" y="1003320"/>
            <a:ext cx="1667160" cy="20829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2809800" y="314784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Євген Чикален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932360" y="969840"/>
            <a:ext cx="1565280" cy="21258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5003640" y="310500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гій Єфре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4"/>
          <a:stretch/>
        </p:blipFill>
        <p:spPr>
          <a:xfrm>
            <a:off x="7020000" y="957240"/>
            <a:ext cx="1544400" cy="2138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7"/>
          <p:cNvSpPr/>
          <p:nvPr/>
        </p:nvSpPr>
        <p:spPr>
          <a:xfrm>
            <a:off x="7020000" y="308628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митро 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5"/>
          <a:stretch/>
        </p:blipFill>
        <p:spPr>
          <a:xfrm>
            <a:off x="576360" y="3884760"/>
            <a:ext cx="1608120" cy="2171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541800" y="62406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икола Пор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>
            <a:off x="2778120" y="3919680"/>
            <a:ext cx="1697040" cy="21016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0"/>
          <p:cNvSpPr/>
          <p:nvPr/>
        </p:nvSpPr>
        <p:spPr>
          <a:xfrm>
            <a:off x="2743200" y="61023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олодим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о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5025960" y="6080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лексан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отоц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7139520" y="610236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′ячес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ипинсь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7"/>
          <a:stretch/>
        </p:blipFill>
        <p:spPr>
          <a:xfrm>
            <a:off x="7132680" y="3919680"/>
            <a:ext cx="1319040" cy="210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8"/>
          <a:stretch/>
        </p:blipFill>
        <p:spPr>
          <a:xfrm>
            <a:off x="5003640" y="3932280"/>
            <a:ext cx="14274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ff00"/>
                </a:solidFill>
                <a:latin typeface="Franklin Gothic Book"/>
              </a:rPr>
              <a:t>Актуалізація опорних знан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о таке політична парті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гадайте, коли і як виникли перші політичні партії в Західній Україні. Кого із засновників цих партій ви можете назва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їхня діяльність вплинула на український національно-визвольний ру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3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партії пропонували вирішити українське національне питання? Яким вони бачили майбутнє Украї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Root\Downloads\Мой урок 10\img17-02.jpg"/>
          <p:cNvPicPr/>
          <p:nvPr/>
        </p:nvPicPr>
        <p:blipFill>
          <a:blip r:embed="rId1"/>
          <a:stretch/>
        </p:blipFill>
        <p:spPr>
          <a:xfrm>
            <a:off x="0" y="749160"/>
            <a:ext cx="9144000" cy="6108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1763640" y="1652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Україна на початку ХХ століт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00"/>
                </a:solidFill>
                <a:latin typeface="Franklin Gothic Book"/>
              </a:rPr>
              <a:t>Пит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гадайте, в якому стані перебував процес формування української нації у другій половині ХІХ ст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Які чинники на це впливал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Franklin Gothic Book"/>
              </a:rPr>
              <a:t>Основні  етапи  розвитку  національного  руху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2413440" y="2060640"/>
            <a:ext cx="8425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1413000"/>
          <a:ext cx="8569080" cy="4995720"/>
        </p:xfrm>
        <a:graphic>
          <a:graphicData uri="http://schemas.openxmlformats.org/drawingml/2006/table">
            <a:tbl>
              <a:tblPr/>
              <a:tblGrid>
                <a:gridCol w="1944360"/>
                <a:gridCol w="1872000"/>
                <a:gridCol w="4752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п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іч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мі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іяльност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тнографі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ец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бирання і вивчення стародавніх звичаїв, традицій, фольклор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формування українськ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ітературної м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ницьк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–8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ворення громадських організацій; просвітницька діяльність; початок формування ідеології національного рух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2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ітич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ті ро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ІХ ст. 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ХХ с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влення політичних партій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вання концепції національної історії; початок національно-визвольної боротьб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олодимир</dc:creator>
  <dc:description/>
  <dc:language>en-US</dc:language>
  <cp:lastModifiedBy>Admin</cp:lastModifiedBy>
  <dcterms:modified xsi:type="dcterms:W3CDTF">2013-12-30T18:54:43Z</dcterms:modified>
  <cp:revision>61</cp:revision>
  <dc:subject/>
  <dc:title>Початок революції у Франц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8000000000001024140</vt:lpwstr>
  </property>
</Properties>
</file>