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050-E5C1-4DF2-BC8B-CE532D8E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96E-E682-45FD-9590-13A8F4E3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45AD-B9B9-4D41-8C30-FCF97203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A26-FEA8-4638-806F-EE296DD7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9B5F-6483-4B87-89D7-EE2824D1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CD19-536C-4378-8DA0-34341260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831A-779A-44A3-8534-F1B53D6F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BFC5-F2F9-4DD0-8F5E-C8F05610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D0CD-BDFA-4A6F-8E24-BAD29912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9655-3F2D-43ED-A739-58ABE6EF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A7B7-E671-44B1-AAB0-FE54190B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9DA-184E-4711-A0A7-3FEE1FDA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7D02-C550-4371-BFCF-219A8F07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0CD4-2A34-40E3-A1E9-C624D472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1EF2-80B3-43AB-B030-5F5284E8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2B53-C82A-4A54-ADD0-F38785E2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7B6E-C518-4216-8AFA-07F72C0C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91429-B97A-4DA0-8831-D9DC74BA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4E06D-ABD0-49DA-B11C-6069BC6E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CF452-6B37-4896-A46B-BA59D8B6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4E5F3-1902-4617-9A15-DABB9AF6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1ED53-C665-4DE7-92EF-FF71743A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9CF-6438-4DFC-B5E4-E390B03F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9758D-BE71-4743-8805-9A8B2EF5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311E6-F830-493C-81DE-DDB07C90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1D2F2-292D-4E14-B97D-7D97EB40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3B1A4-D6AD-4580-9C6C-7B959C90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EC71D-32BC-4FD9-8EF2-1CDCDB4E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659E0-ECD7-453E-967E-F3A919FE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4C9D1-99B1-4E48-8884-B0EBAE99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728AB-5D04-42D4-8833-9B6B78CF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BECEA-74A2-4663-8D85-598DCD24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E33EE-E45F-4705-BD70-2308D965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1FA-5691-4B27-B9C8-52E12920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D2438-6831-45E3-B4BA-2B85C2D2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80B5E-92A9-481A-81F4-939257EE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AC950-AA8A-4D04-8478-862BDE80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63F3B-7A19-49E9-A886-3E9A03AC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11429-BE78-412D-9150-A55295EF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21C4B-17A9-41D2-B31B-F3BFACFF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FE679-C8D4-409B-93C9-51201543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74705-9A74-4D3A-A8F0-1D14B814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F2A46-481F-4413-B79A-5706D89F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1ADDF-CBB5-427C-82B1-F79EF13B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D8F7-266A-4003-88EA-13E8230C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3B807-EF02-43C0-96F1-70425622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88A0F-888A-4465-B8C6-1D4CF2B5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75EB3-5287-4518-A0F5-C92BE248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BBABF-F003-42EE-BF88-68052AAC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2BA87-FFB7-448B-8558-7EC5086E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4A2AC-82EC-4E48-9CF3-76112DA6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1BF7E-0DEE-48D0-8485-A8652245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B38D8-398C-42D6-A7BF-B6CE408E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91F9E-6323-4A03-8919-10F67DB1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BB0B6-4133-4EB1-AD09-D1FDC719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1F50-44D9-4481-A41B-80B4B0E1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53CCD-BB97-4AE7-8749-83FE68B1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C3B09-E522-4031-AFAC-B4594003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F990A-D036-44D6-BDF6-D4EBD30D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88A59-1D40-4CD7-ADEE-3E5BC8DC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7565D-DB40-4F5E-9C28-8ED5C5CD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BEDD8-A8A6-4726-96DB-F9601C50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97A81-ABF3-4D8C-81F8-3834CDAB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D7C71-8883-41F9-98D4-EF4AC15D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A65CE-B0D4-4763-A241-38DDB7B5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3EB32-E3AB-4C0B-8A4A-5AC4CEDE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F4B-8E6F-41E4-9D93-0C799E9F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45FD1-BB3E-40E3-8A5E-D152D28A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2DE08-F1EA-4C70-9C7F-B8E01D76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F28D0-81B1-4154-AD68-7BAE2EEC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272-1D5F-4C74-9E93-09DC5E64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C82-7B7A-4213-A9DE-2340F8D2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0A6F-4393-4E38-BFB5-30FFBF710CF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AC7D-EB28-48BC-B2B0-E6816516F0B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1121-2FEB-4567-9DB2-84C0E2FD31B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5DBD-D106-4445-A4B8-2B3D591C9B8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2108-B23D-4FA5-AE19-00D482E0975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0552-5774-4467-AF4F-0C5227A90EE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chitel.info/uploads/posts/2012-12/1356209585_politichna-borotba-ukrayinskih-partiy.pn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328680" y="1420920"/>
            <a:ext cx="9644040" cy="28033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708360" y="5013000"/>
            <a:ext cx="4967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ідготува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читель історії та правознав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гальноосвітньої школи № 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м.Краматорсь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олотка О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5516280" y="189000"/>
            <a:ext cx="27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Історія України. 10 кла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Нові  тенденції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національного  руху  на  початку  ХХ  ст. в Наддніпрянській Україні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79280" y="1700280"/>
            <a:ext cx="8569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сока концентрація робітників в промисловорозвинених регіон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сить строкатий склад робітничого клас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ізке погіршення становища населе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ивізація робітничого і селянського рух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іни в національному складі населення Украї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кладн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енн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оціальн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их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та національн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их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ідносини, що встановилися між селом і міс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звіть політичні партії, які утворилися 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ддніпрянській Україні на початку ХХ ст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ким вони бачили майбутнє України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5"/>
          <p:cNvSpPr/>
          <p:nvPr/>
        </p:nvSpPr>
        <p:spPr>
          <a:xfrm>
            <a:off x="2340000" y="476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Franklin Gothic Book"/>
              </a:rPr>
              <a:t>Завданн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Робота з джерелами інформації в групах</a:t>
            </a:r>
            <a:br>
              <a:rPr sz="41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5280" y="160020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-а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Із праці М. Міхновського «Самостійна Україн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2-а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Із журналу «Гасло» за грудень 1902 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Із журналу «Гасло» за квітень 1903 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3-я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Із програми УСДР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i="1" lang="ru-RU" sz="4100" spc="-1" strike="noStrike">
                <a:solidFill>
                  <a:srgbClr val="ffff00"/>
                </a:solidFill>
                <a:latin typeface="Franklin Gothic Book"/>
              </a:rPr>
              <a:t>Завдання  для  всього  класу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08000" y="1628640"/>
            <a:ext cx="903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иї погляди вам більше до вподоби: самостійників чи автономістів? Чому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кби ви проживали в той час у  Наддніпрянській Україні, то до якої б партії  вступили і чому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Franklin Gothic Book"/>
              </a:rPr>
              <a:t>Український національний рух на західноукраїнських землях</a:t>
            </a:r>
            <a:br>
              <a:rPr sz="41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вдяки конституцiйному ладові, що був встановлений в Австро-Угорській імперії, в західноукраїнських землях основнi права i свободи забезпечувалися набагато ширше, нiж у самодержавнiй Росiї. Тому український нацiональний рух, починаючи з середини ХIХ ст. i до початку ХХ ст., набрав тут вiдчутної сили та розмаху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5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ffff00"/>
                </a:solidFill>
                <a:latin typeface="Franklin Gothic Book"/>
              </a:rPr>
              <a:t>О</a:t>
            </a: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сновні напрями діяльності українських політичних партій  Західної  України.</a:t>
            </a:r>
            <a:br>
              <a:rPr sz="41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1" name="Объект 3" descr="Політизація українського національного рух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7272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Franklin Gothic Book"/>
              </a:rPr>
              <a:t>Робота з джерелами інформації в групах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-а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Із праці О. Субтельного «Україна. Історі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2-я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митро Дорошенко про успіхи національного руху в Буковин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3-я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. Полонська-Василенко про життя українців у Закарпатт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Узагальнення та систематизація знань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Franklin Gothic Book"/>
              </a:rPr>
              <a:t>Питання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7920" y="1268280"/>
            <a:ext cx="903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ли утворилася Російська партія соціалістів-революціонерів (есерів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Які три течії існували в українському напрямку суспільно-політичного життя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то був автором брошури «Самостійна Україна»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ли утворилася РУП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Яким убачала майбутнє України УДП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ли утворилася УНП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озкрийте зміст висловлювання - «Галичина - український П’ємонт».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 згодні ви з таким порівнянням? Свою думку аргументуйт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8)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а рахунок чого забезпечувався на західноукраїнських землях поступ національного руху? Чому ці засоби не були результативними в Наддніпрянщині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00"/>
                </a:solidFill>
                <a:latin typeface="Franklin Gothic Book"/>
              </a:rPr>
              <a:t>Домашнє  завдання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ацювати відповідний матеріал підручни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ідготувати повідомлення: «Кривава неділя» та «Повстання на броненосці «Потьомкін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Franklin Gothic Book"/>
              </a:rPr>
              <a:t>Мета урок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08000" y="134100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изначити проблеми становлення української нації на початку ХХ ст.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характеризувати процес створення перших політичних партій у Наддніпрянській Україні на початку ХХ ст. та діяльність політичних партій Західної України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продовжувати розвивати в учнів уміння та навички роботи з історичними джерелами, аналізувати та систематизувати матеріал, робити висновки, узагальнення, порівняння, висловлювати та аргументувати свою позицію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на прикладах діяльності політичних партій виховувати в учнів патріотичні почуття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ffff00"/>
                </a:solidFill>
                <a:latin typeface="Franklin Gothic Book"/>
              </a:rPr>
              <a:t>План урок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50560" y="162864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блеми становлення української нац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творення політичних партій Наддніпрянської Україн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ростання українського національного руху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а західноукраїнських земля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ffff00"/>
                </a:solidFill>
                <a:latin typeface="Franklin Gothic Book"/>
              </a:rPr>
              <a:t>Основні поняття і дат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8000" y="1557000"/>
            <a:ext cx="88567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93840" indent="-3596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Основні понятт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Форма правління, національний рух,  інтелігенція, громадська організація, націоналізм,  опозиція, «політична партія», визвольний рух, політизація, «РУП», «Самостійна Україна» М. Міхновського, «УДП», «УРП», «УНП», «УСДРП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79280" y="3500280"/>
            <a:ext cx="8785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Основні да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0 р.— видання брошури М. Міхновського «Самостійна Україна»,створення РУП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2 р.— заснування УНП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4 р.— заснування УДП та УРП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5 р.— утворення УСДР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00"/>
                </a:solidFill>
                <a:latin typeface="Franklin Gothic Book"/>
              </a:rPr>
              <a:t>Персоналії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1590480" cy="21052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395280" y="3086280"/>
            <a:ext cx="19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ола Міхновський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833560" y="1003320"/>
            <a:ext cx="1667160" cy="208296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"/>
          <p:cNvSpPr/>
          <p:nvPr/>
        </p:nvSpPr>
        <p:spPr>
          <a:xfrm>
            <a:off x="2809800" y="3147840"/>
            <a:ext cx="16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Євген Чикален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4932360" y="969840"/>
            <a:ext cx="1565280" cy="21258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6"/>
          <p:cNvSpPr/>
          <p:nvPr/>
        </p:nvSpPr>
        <p:spPr>
          <a:xfrm>
            <a:off x="5003640" y="3105000"/>
            <a:ext cx="14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гій Єфрем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4"/>
          <a:stretch/>
        </p:blipFill>
        <p:spPr>
          <a:xfrm>
            <a:off x="7020000" y="957240"/>
            <a:ext cx="1544400" cy="21384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7"/>
          <p:cNvSpPr/>
          <p:nvPr/>
        </p:nvSpPr>
        <p:spPr>
          <a:xfrm>
            <a:off x="7020000" y="3086280"/>
            <a:ext cx="15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митро Анто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5"/>
          <a:stretch/>
        </p:blipFill>
        <p:spPr>
          <a:xfrm>
            <a:off x="576360" y="3884760"/>
            <a:ext cx="1608120" cy="21715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9"/>
          <p:cNvSpPr/>
          <p:nvPr/>
        </p:nvSpPr>
        <p:spPr>
          <a:xfrm>
            <a:off x="541800" y="62406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Микола Пор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6"/>
          <a:stretch/>
        </p:blipFill>
        <p:spPr>
          <a:xfrm>
            <a:off x="2778120" y="3919680"/>
            <a:ext cx="1697040" cy="21016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0"/>
          <p:cNvSpPr/>
          <p:nvPr/>
        </p:nvSpPr>
        <p:spPr>
          <a:xfrm>
            <a:off x="2743200" y="61023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олодими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Анто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5025960" y="608004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лександ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Лотоць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7139520" y="610236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′ячес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Липинсь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7"/>
          <a:stretch/>
        </p:blipFill>
        <p:spPr>
          <a:xfrm>
            <a:off x="7132680" y="3919680"/>
            <a:ext cx="1319040" cy="2101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8"/>
          <a:stretch/>
        </p:blipFill>
        <p:spPr>
          <a:xfrm>
            <a:off x="5003640" y="3932280"/>
            <a:ext cx="14274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ffff00"/>
                </a:solidFill>
                <a:latin typeface="Franklin Gothic Book"/>
              </a:rPr>
              <a:t>Актуалізація опорних знань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3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Що таке політична парті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3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гадайте, коли і як виникли перші політичні партії в Західній Україні. Кого із засновників цих партій ви можете назва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3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к їхня діяльність вплинула на український національно-визвольний ру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3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к партії пропонували вирішити українське національне питання? Яким вони бачили майбутнє Україн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Root\Downloads\Мой урок 10\img17-02.jpg"/>
          <p:cNvPicPr/>
          <p:nvPr/>
        </p:nvPicPr>
        <p:blipFill>
          <a:blip r:embed="rId1"/>
          <a:stretch/>
        </p:blipFill>
        <p:spPr>
          <a:xfrm>
            <a:off x="0" y="749160"/>
            <a:ext cx="9144000" cy="6108840"/>
          </a:xfrm>
          <a:prstGeom prst="rect">
            <a:avLst/>
          </a:prstGeom>
          <a:ln w="0">
            <a:noFill/>
          </a:ln>
        </p:spPr>
      </p:pic>
      <p:sp>
        <p:nvSpPr>
          <p:cNvPr id="284" name="TextBox 4"/>
          <p:cNvSpPr/>
          <p:nvPr/>
        </p:nvSpPr>
        <p:spPr>
          <a:xfrm>
            <a:off x="1763640" y="165240"/>
            <a:ext cx="56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Franklin Gothic Book"/>
              </a:rPr>
              <a:t>Україна на початку ХХ столітт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00"/>
                </a:solidFill>
                <a:latin typeface="Franklin Gothic Book"/>
              </a:rPr>
              <a:t>Питанн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5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гадайте, в якому стані перебував процес формування української нації у другій половині ХІХ ст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кі чинники на це впливали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Основні  етапи  розвитку  національного  руху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2413440" y="2060640"/>
            <a:ext cx="8425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24000" y="1413000"/>
          <a:ext cx="8569080" cy="4995720"/>
        </p:xfrm>
        <a:graphic>
          <a:graphicData uri="http://schemas.openxmlformats.org/drawingml/2006/table">
            <a:tbl>
              <a:tblPr/>
              <a:tblGrid>
                <a:gridCol w="1944360"/>
                <a:gridCol w="1872000"/>
                <a:gridCol w="4752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тап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ронологічн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ж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мі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іяльност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14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тнографіч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нец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II 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аток ХІХ с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бирання і вивчення стародавніх звичаїв, традицій, фольклор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аток формування українсько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ітературної м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ницьк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–80-ті р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Х с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ворення громадських організацій; просвітницька діяльність; початок формування ідеології національного рух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12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ітич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ті р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Х ст. 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аток ХХ с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овлення політичних парті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вання концепції національної історії; початок національно-визвольної боротьб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олодимир</dc:creator>
  <dc:description/>
  <dc:language>en-US</dc:language>
  <cp:lastModifiedBy>Admin</cp:lastModifiedBy>
  <dcterms:modified xsi:type="dcterms:W3CDTF">2013-12-30T18:54:43Z</dcterms:modified>
  <cp:revision>61</cp:revision>
  <dc:subject/>
  <dc:title>Початок революції у Франці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8000000000001024140</vt:lpwstr>
  </property>
</Properties>
</file>