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B14-E14D-42A1-BF05-683160D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CD1-C5DD-4326-8E0C-0071DB6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B4F-9E1B-4611-893C-29B9F715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2E1-915C-4232-A600-5FD8155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4DE-D8AB-4A4A-9C3E-39C6CA27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CDA-7465-4DC0-BED1-DA0236C8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E671-ED54-4985-9434-99006D67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4632-577B-4CAD-8275-9AF727B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0D2-558B-42DF-958F-BDF6D30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731-DCC4-42CB-94CD-C23D9F17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3F2-5066-4FFA-97E3-65E20FF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C6E-79C3-4CA0-AF5A-7FD2CCB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F8D-74A5-46C2-960F-71468508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9414-D517-4D72-80FC-F644852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514-A69F-4082-A387-397C5F65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E65-D5FC-40A1-9211-69CC44BB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4C56-7E39-4629-AE60-193178E1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299D-DEDE-4AB9-ABA4-625D400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F051-EB2C-4E0C-9CEA-A20CFEB7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AD80-5207-469F-8B25-4FAC6A3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81C5-FE9F-42E8-B6E6-CDB6B4B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CA6B-0638-4AED-ABE6-AC850B6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1D3-920A-4E1E-9A16-1E667746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5149-EB97-48DF-811C-CF1A901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375F-0EB5-48B3-87FD-A951E7F3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2FDC-09FE-4B20-A037-D2921AD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5387-6882-46B8-BA7A-8E88637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D8A0-1B22-407D-9ECC-E7ECA07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F8AA-9EA3-4C6D-9B70-56D83AB3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5A23-81EF-457E-97D9-515869CE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2E63-1D01-4446-8FDF-BC34EA45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B37E-DDA8-4EEE-86CE-2FE3627A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53EA-D7EA-4AF4-92B4-857125B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56C-1D84-4BAD-B21D-087F0D30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3E8D-7717-40C9-8955-F99EAEA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7235-7F0C-4106-A1F3-16B368F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68D7-035D-4713-9E5D-1BCC73A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289D-D83F-4CFF-9A28-D982B89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4CCC-C8E2-415A-8923-1A6AE3B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9D97-8795-41C4-9C59-CB17ADF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870C-BC8C-4AB4-8CF1-66C3091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57FA-DCB2-4909-A5FE-039143B1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4E54-F3A3-47DB-A99C-E84E647B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2E65-08A1-4281-8C71-5B85B65B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771-A2F2-4FD1-9E4A-D5310B4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FD7E-81DE-43B1-9950-0477B044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A90A-8605-4B30-866D-04AA4399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2F64-35A5-45D0-B9F1-CB2FD85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6C69-E768-4C6F-BDE9-4C5F063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995A-11CA-4345-BC84-3F8AC01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09286-D38B-41C2-A830-2A775E7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441A7-72FF-4ADD-94DC-5EFD6A7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E424-ECAC-44E5-8777-2CFF411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F7FE-8DDA-46E8-BDF5-F249A569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A0FD-173C-4DF8-B3E5-BB015FAB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C52-5BF3-4772-9FEF-8E7DC3D2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238A-7709-4CEB-8DC6-5FE0F932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EFA1-0AF1-409F-BD26-B3F4925D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06C16-B28F-427E-8FE7-837D32E0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80F1-CA64-44DD-9378-C964E42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696C-A129-4003-AE76-265F8DA4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CF15-ACC3-4E31-AB88-3FCD525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563C-48A1-4E5A-AC4A-A0DCEDAB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A2D61-DAF9-4DD9-8816-56B6330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3F05-CEAF-4027-BD7E-DFBE9D4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E159-601F-4CC4-922C-921BE9F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E7D-4853-4547-9D35-11E84D6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0C8A-E79C-4F31-88EE-536DC57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28EA-D5B2-491D-B23A-1B776525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7061-0375-4EB6-83B4-CB8C1034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36A-8780-49FA-A8D9-104B5D8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56D-64DA-4067-A4F5-0366391A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2E4-3B8A-4A9C-AD35-6FD35149AC3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E3D-0499-49BD-BB52-88076B6F8AB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9DE2-DABC-498A-90E0-C1EFA1045DE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10A8-ECAA-4500-8315-94C2EDC6FE9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BC9-FE23-4241-BAA8-21D777A0F19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C51C-3233-491F-ABAD-DFD7C7F1E8C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hitel.info/uploads/posts/2012-12/1356209585_politichna-borotba-ukrayinskih-partiy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28680" y="1420920"/>
            <a:ext cx="9644040" cy="280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08360" y="5013000"/>
            <a:ext cx="496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ідготува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історії та правозна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гальноосвітньої школи № 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.Краматорсь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тка О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516280" y="18900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сторія України. 10 кл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ові  тенденції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аціонального  руху  на  початку  ХХ  ст. в Наддніпрянській Україні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700280"/>
            <a:ext cx="8569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сока концентрація робітників в промисловорозвинених регіо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ить строкатий склад робітничого кла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ізке погіршення становища насе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ізація робітничого і селянського ру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іни в національному складі населення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клад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енн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ці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а націон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ідносини, що встановилися між селом і мі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звіть політичні партії, які утворилися 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ддніпрянській Україні на початку Х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им вони бачили майбутнє Україн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2340000" y="47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Завда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М. Міхновського «Самостійна Украї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грудень 1902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квітень 1903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ограми УСДР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i="1" lang="ru-RU" sz="4100" spc="-1" strike="noStrike">
                <a:solidFill>
                  <a:srgbClr val="ffff00"/>
                </a:solidFill>
                <a:latin typeface="Franklin Gothic Book"/>
              </a:rPr>
              <a:t>Завдання  для  всього  класу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8000" y="1628640"/>
            <a:ext cx="90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ї погляди вам більше до вподоби: самостійників чи автономістів?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би ви проживали в той час у  Наддніпрянській Україні, то до якої б партії  вступили і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Український національний рух на західноукраїнських землях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вдяки конституцiйному ладові, що був встановлений в Австро-Угорській імперії, в західноукраїнських землях основнi права i свободи забезпечувалися набагато ширше, нiж у самодержавнiй Росiї. Тому український нацiональний рух, починаючи з середини ХIХ ст. i до початку ХХ ст., набрав тут вiдчутної сили та розмах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5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О</a:t>
            </a: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сновні напрями діяльності українських політичних партій  Західної  України.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Объект 3" descr="Політизація українського національного рух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727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О. Субтельного «Україна. Історі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митро Дорошенко про успіхи національного руху в Букови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Полонська-Василенко про життя українців у Закарпат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Узагальнення та систематизація знань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Питання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7920" y="1268280"/>
            <a:ext cx="903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осійська партія соціалістів-революціонерів (есерів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і три течії існували в українському напрямку суспільно-політичного житт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то був автором брошури «Самостійна Україна»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У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им убачала майбутнє України УД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УН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озкрийте зміст висловлювання - «Галичина - український П’ємонт».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 згодні ви з таким порівнянням? Свою думку аргументуй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 рахунок чого забезпечувався на західноукраїнських землях поступ національного руху? Чому ці засоби не були результативними в Наддніпрянщині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Домашнє  завдання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ацювати відповідний матеріал підручни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дготувати повідомлення: «Кривава неділя» та «Повстання на броненосці «Потьомкін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Franklin Gothic Book"/>
              </a:rPr>
              <a:t>Мета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800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изначити проблеми становлення української нації на початку ХХ ст.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характеризувати процес створення перших політичних партій у Наддніпрянській Україні на початку ХХ ст. та діяльність політичних партій Західної України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довжувати розвивати в учнів уміння та навички роботи з історичними джерелами, аналізувати та систематизувати матеріал, робити висновки, узагальнення, порівняння, висловлювати та аргументувати свою позицію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 прикладах діяльності політичних партій виховувати в учнів патріотичні почутт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План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560" y="1628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блеми становлення української н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творення політичних партій Наддніпрянської Украї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ростання українського національного рух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західноукраїнських земля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Основні поняття і дат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000" y="1557000"/>
            <a:ext cx="885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понятт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орма правління, національний рух,  інтелігенція, громадська організація, націоналізм,  опозиція, «політична партія», визвольний рух, політизація, «РУП», «Самостійна Україна» М. Міхновського, «УДП», «УРП», «УНП», «УСДРП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3500280"/>
            <a:ext cx="8785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да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р.— видання брошури М. Міхновського «Самостійна Україна»,створення РУ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2 р.— заснування УН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4 р.— заснування УДП та УР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5 р.— утворення УСДР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Персоналії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1590480" cy="21052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395280" y="308628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ола Міхновськ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33560" y="1003320"/>
            <a:ext cx="1667160" cy="20829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2809800" y="314784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Євген Чика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932360" y="969840"/>
            <a:ext cx="1565280" cy="21258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5003640" y="310500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гій Єфре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7020000" y="957240"/>
            <a:ext cx="1544400" cy="2138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7"/>
          <p:cNvSpPr/>
          <p:nvPr/>
        </p:nvSpPr>
        <p:spPr>
          <a:xfrm>
            <a:off x="7020000" y="308628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о 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5"/>
          <a:stretch/>
        </p:blipFill>
        <p:spPr>
          <a:xfrm>
            <a:off x="576360" y="3884760"/>
            <a:ext cx="1608120" cy="2171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541800" y="6240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икола Пор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>
            <a:off x="2778120" y="3919680"/>
            <a:ext cx="1697040" cy="2101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0"/>
          <p:cNvSpPr/>
          <p:nvPr/>
        </p:nvSpPr>
        <p:spPr>
          <a:xfrm>
            <a:off x="2743200" y="61023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дим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5025960" y="6080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отоц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7139520" y="610236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′ячес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ипинс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7"/>
          <a:stretch/>
        </p:blipFill>
        <p:spPr>
          <a:xfrm>
            <a:off x="7132680" y="3919680"/>
            <a:ext cx="1319040" cy="210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8"/>
          <a:stretch/>
        </p:blipFill>
        <p:spPr>
          <a:xfrm>
            <a:off x="5003640" y="3932280"/>
            <a:ext cx="1427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Актуалізація опорних знан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о таке політична парті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гадайте, коли і як виникли перші політичні партії в Західній Україні. Кого із засновників цих партій ви можете назва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їхня діяльність вплинула на український національно-визвольний ру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партії пропонували вирішити українське національне питання? Яким вони бачили майбутнє Украї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Root\Downloads\Мой урок 10\img17-02.jpg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1763640" y="1652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Україна на початку ХХ століт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00"/>
                </a:solidFill>
                <a:latin typeface="Franklin Gothic Book"/>
              </a:rPr>
              <a:t>Пит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гадайте, в якому стані перебував процес формування української нації у другій половині ХІ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і чинники на це впливал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Основні  етапи  розвитку  національного  руху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2413440" y="206064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1413000"/>
          <a:ext cx="8569080" cy="4995720"/>
        </p:xfrm>
        <a:graphic>
          <a:graphicData uri="http://schemas.openxmlformats.org/drawingml/2006/table">
            <a:tbl>
              <a:tblPr/>
              <a:tblGrid>
                <a:gridCol w="1944360"/>
                <a:gridCol w="1872000"/>
                <a:gridCol w="4752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п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іч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мі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іяльност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нографі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ец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ирання і вивчення стародавніх звичаїв, традицій, фольклор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формування українськ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ітературної м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иць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–8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рення громадських організацій; просвітницька діяльність; початок формування ідеології національного ру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іти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ня політичних парті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вання концепції національної історії; початок національно-визвольної боротьб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олодимир</dc:creator>
  <dc:description/>
  <dc:language>en-US</dc:language>
  <cp:lastModifiedBy>Admin</cp:lastModifiedBy>
  <dcterms:modified xsi:type="dcterms:W3CDTF">2013-12-30T18:54:43Z</dcterms:modified>
  <cp:revision>61</cp:revision>
  <dc:subject/>
  <dc:title>Початок революції у Франц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8000000000001024140</vt:lpwstr>
  </property>
</Properties>
</file>