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CAA5-552A-4BA3-8B29-2B22F96B83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1F98-D394-4C4D-ADC1-1FF1FA16DA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1AD3-0514-4D25-9B21-BC2D8A4413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53C-CAAF-4AB7-A6A2-87BCB93C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94F-2431-46FE-9B4F-B9652B0F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926-8F2A-4065-A154-B1029299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FE5-9CA4-4920-A3BA-7332252C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8791-E52D-46E9-9144-24EF8CE0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7685-820D-4690-AE1A-85FF2611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26A7-B42E-4625-9FDD-708BFA12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9C84-2A9A-445C-9AD8-5B07A8E0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2C3C-22C3-4CFC-8FB6-3CA707B9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884E-B790-4245-BDB5-74949E4A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E3D0-1112-46EB-9F58-EC1E9A6A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973-6718-431B-8D0F-EC10A548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DE67-C1CF-465D-84FE-6BEBDB0A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39CF-E8A5-4A61-A4DB-4439F821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3430-6556-4052-AB4E-9D5206F5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054B-D52D-4C29-97D0-99AC10DA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7DB5-24D0-41E9-B99B-E845D45C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E1EC-CAC3-4CEA-BC65-C157A13C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0B3D6-4B2F-44B5-BB6E-8C56F9F9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7204-C38B-4A1B-A951-6255E535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5D32-A23F-421C-98E6-E1632223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AE5EE-43B6-44FE-A2EA-707382F6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3CC-F628-4642-A4AF-E2BE1953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02B7A-0375-4648-B2F5-2652DA75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607A-E21A-47FC-9BBF-33E69D9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D2AD-FED7-487C-BAB5-942FF2BE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2FA2-DEE0-4F20-A72D-6BB9B89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5D57-5186-40FD-A769-7957CD6D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C077-D84F-446C-9285-BDBB613E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7D96-DD8D-4980-B292-BE38AB38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58318-4CC9-4649-95F9-11ED2461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D3B2-5EE4-4E39-8B74-F543299C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C68C-0B19-40EB-AE97-267DC3D2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A90-3BF7-4136-B7A3-15C88B17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096D-75A8-454E-9655-6AD3A94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71CC0-6198-4260-AC88-52B0255D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A3A84-FEC5-42DC-AB05-855A0186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5119B-D457-42C5-AAC2-E3BD8A80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8EDA-EE67-4338-AF5D-082A34A5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EDBF0-8E0D-43EB-B870-C5B6BD1D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B917D-3393-4B1A-A62E-C8658818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D2F6-ED53-4694-9826-25C5576A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C8111-2638-4772-BC7A-581434A7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A1B27-9FCF-4D2E-96C0-E1A2B6DD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604-4888-495A-832F-7B65BDDF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10032-32F6-4230-80EF-211C7231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67E6A-8DEE-4E4D-AD2A-EB680CB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FA692-F069-4CAA-9BC3-D3C9912B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3C067-0AAB-48EE-9852-F9B8A6ED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D1800-491B-4184-8E94-613C427F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62632-0235-4701-8804-85E4273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DA97B-5AF2-414E-91FE-7507B71D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2C35B-7706-4273-9BEE-83011A53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21493-0CFC-4BE3-98E8-76FD1FBE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1A65F-93E7-4236-83F0-889457E0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595-92D3-4E74-BD9F-080353C5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34C71-3AB4-4165-9269-A5FDC3A6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4F913-F4D4-47F9-A5D7-FA53F967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C0B0F-0FC9-4A6E-A5A2-1ABB6145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99F55-9433-47CB-9BAF-C8962BAE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61800-2474-40F9-91E2-43829F94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0B38B-11ED-47CB-90C1-989FDD17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62FC6-0ACC-480B-8773-4085DFD2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C099B-85FE-4C05-9F47-5854033A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B7EF9-5C03-4587-87F6-FAF84276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81909-98DA-456E-8CB6-35A2ACB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E39-D48A-4A22-BA8F-5DD6EAEC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C4B9A-0454-4812-BD55-1DA156BA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3F0FD-BB6B-4A51-85EC-6344723B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F68DC-98E0-4F27-A1E4-EC753B56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F75E2-7907-43EB-BD6B-73B6B5A4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E31C3-F315-4450-9636-60E1FEBE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FFBB2-016B-4A67-84AD-7AA7BC88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98E58-5DBD-4704-A753-DC06ADC9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BADDC-CAFC-4F23-91B9-A33226A2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ADBDC-D533-4B40-8AD8-6DD4037B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6A99D-08C9-481C-8136-28C98A5D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555-C6AB-4095-B06C-70DC5530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4314C-EC06-4B98-BE77-1E7F8A6B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94940-9F52-4502-BC94-A8F0176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A3759-B650-4651-B13E-69A15AE2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D01C0-E0C7-4063-A851-CE3BD505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AEA3F-4708-4F3E-BCFD-938B7CF8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18D-DA3D-4435-A728-79308C9C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C3DD-6369-45C3-AB9D-A34FF714ED00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8584-B371-4C5E-B938-35B9DDE2657E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ABB3-C0DF-41A9-B778-8A07CBF73172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25BB-13B6-437E-9A65-875D2C6455A1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021B-4351-4819-B853-00CA937F3EAD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A05B-179E-4187-8AF0-4FEB7C569050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DEB1-A113-4AAC-81DD-731A5D2050DC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357120"/>
            <a:ext cx="77868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1. Назвіть хронологічні рамки Національно-визвольної війни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2. Хто очолив національно-визвольну війну  і проти кого?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3. З якою державою Б. Хмельницький уклав договір ?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4. У якому місті проходило укладення договору 1654р?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7532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506600" y="3720960"/>
          <a:ext cx="6095880" cy="1843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843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ав перемир’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Прямоугольник 3"/>
          <p:cNvSpPr/>
          <p:nvPr/>
        </p:nvSpPr>
        <p:spPr>
          <a:xfrm>
            <a:off x="1071720" y="1928880"/>
            <a:ext cx="242856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рієнтувався на інтереси старшинської верхів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3643200" y="1928880"/>
            <a:ext cx="257184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вілеїв не мал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езаможні козаки  і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еляни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е призвело до зростання масового невдоволення й соціального вибуху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6357960" y="1928880"/>
            <a:ext cx="242892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Їх силу використали опозиціонери Пушкар і Барабаш. Цей заколо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Прямоугольник 6"/>
          <p:cNvSpPr/>
          <p:nvPr/>
        </p:nvSpPr>
        <p:spPr>
          <a:xfrm>
            <a:off x="2286000" y="357120"/>
            <a:ext cx="5286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rbel"/>
              </a:rPr>
              <a:t>Внутрішня політика І.Виговс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Прямая со стрелкой 8" descr=""/>
          <p:cNvPicPr/>
          <p:nvPr/>
        </p:nvPicPr>
        <p:blipFill>
          <a:blip r:embed="rId2"/>
          <a:stretch/>
        </p:blipFill>
        <p:spPr>
          <a:xfrm>
            <a:off x="2090880" y="1073160"/>
            <a:ext cx="2919240" cy="106668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730760" y="1090440"/>
            <a:ext cx="384120" cy="105588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ая со стрелкой 12" descr=""/>
          <p:cNvPicPr/>
          <p:nvPr/>
        </p:nvPicPr>
        <p:blipFill>
          <a:blip r:embed="rId4"/>
          <a:stretch/>
        </p:blipFill>
        <p:spPr>
          <a:xfrm>
            <a:off x="4846680" y="1073160"/>
            <a:ext cx="3133800" cy="9936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1440" y="-3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357800" y="3857760"/>
          <a:ext cx="571320" cy="500040"/>
        </p:xfrm>
        <a:graphic>
          <a:graphicData uri="http://schemas.openxmlformats.org/drawingml/2006/table">
            <a:tbl>
              <a:tblPr/>
              <a:tblGrid>
                <a:gridCol w="571320"/>
              </a:tblGrid>
              <a:tr h="5000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500040" y="0"/>
          <a:ext cx="1857240" cy="180648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18064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orbel"/>
              </a:rPr>
              <a:t>Як відбувалася та які мала наслідки московсько-українська війна?</a:t>
            </a:r>
            <a:endParaRPr b="0" lang="en-US" sz="32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357200" y="1428840"/>
          <a:ext cx="7520040" cy="4857840"/>
        </p:xfrm>
        <a:graphic>
          <a:graphicData uri="http://schemas.openxmlformats.org/drawingml/2006/table">
            <a:tbl>
              <a:tblPr/>
              <a:tblGrid>
                <a:gridCol w="2197080"/>
                <a:gridCol w="532296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ч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слі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orbel"/>
              </a:rPr>
              <a:t>Як відбувалася та які мала наслідки московсько-українська війна?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214280" y="1071720"/>
          <a:ext cx="7734600" cy="5516280"/>
        </p:xfrm>
        <a:graphic>
          <a:graphicData uri="http://schemas.openxmlformats.org/drawingml/2006/table">
            <a:tbl>
              <a:tblPr/>
              <a:tblGrid>
                <a:gridCol w="1857600"/>
                <a:gridCol w="5877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58-1659 р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ичи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сновною причиною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українсько-російської війни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658-165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р.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ула несумісність підходів гетьманського та царського урядів щодо подальшого розвитку двосторонніх відносин. Гадяцький договір прискорив військове московсько – українське протистоян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на битва відбулася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8 червня 1659 р. в районі с. Соснівки під Конотопом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на закінчилася нищівною поразкою московського війсь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слі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учна перемога під Конотопом не поклала край розбратові в Україні. Поміж українців не було єдності щодо подальшої долі Батьківщини. Незалежн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іст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країн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кожне угрупування розуміло по-своєму, обстоюючи передусім власні інтерес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9c85c0"/>
                      </a:solidFill>
                    </a:lnL>
                    <a:lnR w="5760">
                      <a:solidFill>
                        <a:srgbClr val="9c85c0"/>
                      </a:solidFill>
                    </a:lnR>
                    <a:lnT w="5760">
                      <a:solidFill>
                        <a:srgbClr val="9c85c0"/>
                      </a:solidFill>
                    </a:lnT>
                    <a:lnB w="5760">
                      <a:solidFill>
                        <a:srgbClr val="9c85c0"/>
                      </a:solidFill>
                    </a:lnB>
                    <a:solidFill>
                      <a:srgbClr val="ded9e8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"/>
          <p:cNvSpPr/>
          <p:nvPr/>
        </p:nvSpPr>
        <p:spPr>
          <a:xfrm>
            <a:off x="1000080" y="245880"/>
            <a:ext cx="78580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ст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Після смерті Б.Хмельницького гетьманом став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Юрій Хмельницький; 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Іван Виговськи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Початок правління І.Виговс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1657 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1658 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Іван Виговський орієнтувався на інтерес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народних мас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вищих верств населенн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Конотопська битва відбулася 28 червня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1657 р.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1659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Між якими державами було укладено Гадяцький трактат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між Москвою та Україною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) між Польщею таУкраїною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Гадяцький договір був підписаний 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6 вересня 1658р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б)6 вересня 1657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 За Гадяцьким договором українського гетьмана мав затверджуват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польський король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 московський ца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 Яку посаду обіймав І.Виговський за гетьманування Б.Хмельниц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Генеральний писа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 Генеральний суддя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Позначте період гетьманування І.Виговського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1663-1668рр; б) 1669-1672рр;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) 1657-1659р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.Позначте період московсько-української війни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1658-1659рр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1657-1659 рр. в)1659-1660р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1.У якому році у Переяславі відбулася рада, яка підтвердила обрання І.Виговського гетьманом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лютий 1658р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5 квітня 1657р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2.У 1664 році був страчений поляками наказом полковника 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) Тетері;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б)М.Пушкар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1000080" y="863640"/>
            <a:ext cx="77868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є  завданн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ацювати § 23, с. 169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175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асти кросворд по даній темі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ПОЛІТИЧНА ТА ЕКОНОМІЧНА СИТУАЦІЯ В УКРАЇНІ ПО СМЕРТІ Б. ХМЕЛЬНИЦЬКОГО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71360" y="121392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Book Antiqua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Царський уряд ігнорував інтереси Української держав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Зазнала невдач українсько-трансільванська воєнна кампанія 1657 р.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у Польщ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У ході війни не відбулося об’єднання всіх українських земел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Посилилося соціальне напруження в суспільств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Погіршилося матеріальне становище козацтв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На Запорозькій Січі назрівав соціальний вибух.Запорозці вимагали для себе платн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На новообраного гетьмана, який повинен був обійняти цю посаду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ісля смерті Хмельницького, покладалося важливе завдання —ліквідувати соціальне напруження в українському суспільстві й продовжити боротьбу за національне визволення українських земель та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б’єднання їх в одній державі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5000760" y="713880"/>
            <a:ext cx="371448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72f0c"/>
                </a:solidFill>
                <a:latin typeface="Book Antiqua"/>
              </a:rPr>
              <a:t>Рішення старшинської козацької ради (квітень 1657 р.) про встановлення спадковості гетьманства — передачі влади після смерті Б. Хмельницького його молодшому сину Юрію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774720" y="353880"/>
            <a:ext cx="44067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857840" y="642960"/>
            <a:ext cx="40003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72f0c"/>
                </a:solidFill>
                <a:latin typeface="Book Antiqua"/>
              </a:rPr>
              <a:t>Генеральний писар Іван Виговський зумів домогтися на старшинській раді 26 серпня 1657 року обрання себе гетьманом до часу повноліття Юрія Хмельницьког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72f0c"/>
                </a:solidFill>
                <a:latin typeface="Book Antiqua"/>
              </a:rPr>
              <a:t>У другій половині жовтня Виговський скликав козацьку старшинську раду в Корсуні, яка й обрала його повноправним гетьманом Украї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835200" y="291960"/>
            <a:ext cx="4254480" cy="577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116000" y="2481120"/>
            <a:ext cx="3552840" cy="4291200"/>
          </a:xfrm>
          <a:prstGeom prst="rect">
            <a:avLst/>
          </a:prstGeom>
          <a:ln w="0">
            <a:noFill/>
          </a:ln>
        </p:spPr>
      </p:pic>
      <p:pic>
        <p:nvPicPr>
          <p:cNvPr id="334" name="Заголовок 1" descr=""/>
          <p:cNvPicPr/>
          <p:nvPr/>
        </p:nvPicPr>
        <p:blipFill>
          <a:blip r:embed="rId3"/>
          <a:stretch/>
        </p:blipFill>
        <p:spPr>
          <a:xfrm>
            <a:off x="1268280" y="719280"/>
            <a:ext cx="746784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1357200" y="528120"/>
            <a:ext cx="742968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orbel"/>
                <a:ea typeface="Times New Roman"/>
              </a:rPr>
              <a:t>  </a:t>
            </a:r>
            <a:r>
              <a:rPr b="1" lang="uk-UA" sz="3600" spc="-1" strike="noStrike">
                <a:solidFill>
                  <a:srgbClr val="c00000"/>
                </a:solidFill>
                <a:latin typeface="Corbel"/>
                <a:ea typeface="Times New Roman"/>
              </a:rPr>
              <a:t>Мета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охарактеризувати політичне становище Гетьманщини після смерті  Б. Хмельницьког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  <a:ea typeface="Times New Roman"/>
              </a:rPr>
              <a:t>визначити основні засади внутрішньої і зовнішньої політики гетьмана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071360" y="642600"/>
            <a:ext cx="7786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orbel"/>
                <a:ea typeface="Times New Roman"/>
              </a:rPr>
              <a:t>План</a:t>
            </a:r>
            <a:r>
              <a:rPr b="1" lang="uk-UA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  <a:ea typeface="Calibri"/>
              </a:rPr>
              <a:t>1.Обрання гетьманом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2.Внутрішня і зовнішня політика І. Виговського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3.Україно – московська війна 1658 – 1659 р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 Antiqua"/>
              </a:rPr>
              <a:t>4. Кінець гетьманування Івана Виговсько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одержимое 2" descr=""/>
          <p:cNvPicPr/>
          <p:nvPr/>
        </p:nvPicPr>
        <p:blipFill>
          <a:blip r:embed="rId2"/>
          <a:stretch/>
        </p:blipFill>
        <p:spPr>
          <a:xfrm>
            <a:off x="1122480" y="530280"/>
            <a:ext cx="7454880" cy="504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1143000" y="2214720"/>
            <a:ext cx="235728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Не хотів розривати відносини з Москвою, але хотів бути рівноправни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3786120" y="2214720"/>
            <a:ext cx="2286000" cy="27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Уклав перемир’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з Польще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6286680" y="2286000"/>
            <a:ext cx="2428560" cy="271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9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Уклав договір зі Швецією пр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створення воєнно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літичного союзу, спрямованого на забезпечення територіальної цілісності України</a:t>
            </a:r>
            <a:r>
              <a:rPr b="0" lang="ru-RU" sz="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2286000" y="714240"/>
            <a:ext cx="5286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orbel"/>
              </a:rPr>
              <a:t>Зовнішня політика І.Виговс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Прямая со стрелкой 8" descr=""/>
          <p:cNvPicPr/>
          <p:nvPr/>
        </p:nvPicPr>
        <p:blipFill>
          <a:blip r:embed="rId2"/>
          <a:stretch/>
        </p:blipFill>
        <p:spPr>
          <a:xfrm>
            <a:off x="2127240" y="1432080"/>
            <a:ext cx="2736720" cy="99360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730760" y="1444680"/>
            <a:ext cx="384120" cy="98100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ая со стрелкой 12" descr=""/>
          <p:cNvPicPr/>
          <p:nvPr/>
        </p:nvPicPr>
        <p:blipFill>
          <a:blip r:embed="rId4"/>
          <a:stretch/>
        </p:blipFill>
        <p:spPr>
          <a:xfrm>
            <a:off x="4913280" y="1432080"/>
            <a:ext cx="2919600" cy="10666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"/>
          <p:cNvSpPr/>
          <p:nvPr/>
        </p:nvSpPr>
        <p:spPr>
          <a:xfrm>
            <a:off x="1440" y="-3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00040" y="0"/>
          <a:ext cx="1857240" cy="180648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18064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9:58:23Z</dcterms:created>
  <dc:creator>Admin</dc:creator>
  <dc:description/>
  <dc:language>en-US</dc:language>
  <cp:lastModifiedBy>Admin</cp:lastModifiedBy>
  <dcterms:modified xsi:type="dcterms:W3CDTF">2013-01-18T08:54:26Z</dcterms:modified>
  <cp:revision>55</cp:revision>
  <dc:subject/>
  <dc:title>1. Пригадайте основні військово-політичні події Національно-визвольної війни під проводом Б. Хмельницького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7000000000001024140</vt:lpwstr>
  </property>
</Properties>
</file>